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0.wmf" ContentType="image/x-wmf"/>
  <Override PartName="/ppt/media/image3.png" ContentType="image/png"/>
  <Override PartName="/ppt/media/image4.gif" ContentType="image/gif"/>
  <Override PartName="/ppt/media/image7.png" ContentType="image/png"/>
  <Override PartName="/ppt/media/image11.wmf" ContentType="image/x-wmf"/>
  <Override PartName="/ppt/media/image8.gif" ContentType="image/gif"/>
  <Override PartName="/ppt/media/image9.wmf" ContentType="image/x-wm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E197-201B-4516-8AC6-938A153EDE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C5B0-14B6-4C96-86FF-43FD69D03D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15C4-2AF2-43C1-807F-A55F0D889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3C07-7F5E-4E5E-A502-1BE799592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301A-AAB0-4E9D-9AF1-AF969FD0C9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C85-C5C2-4790-94E1-D949E217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8AEE-00E3-4BC7-BEA1-408D6FE6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B9E-F91E-46D1-8C2F-317327B3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A59-5149-4E21-A164-499C9A7FE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56AF-B861-46E4-88A4-A81EB02F8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AD5D-81A7-4EA8-B421-2718B1FCD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F6AA-C319-4671-A5D8-B3924432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716E-DD0C-4DE8-B401-E4FC9212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E222-D619-47B2-BF86-E968C691B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4E7B-708A-4BA6-A2EB-70B8D5D7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783C-E9E8-488C-B945-9B87B897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7A22-E49B-49F4-ACE7-393C2A6C3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C8F2-31A2-474F-AD8D-6159809C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0187-93D5-4679-A918-EA794D17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4DC7-656E-45E4-831B-417B8E75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0E2A-C643-4CF1-A6A6-2989D7293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C6C8-0E75-4C29-A378-9C3F034F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6B78-DCC4-4299-9BC4-AC21250D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713-8631-4378-92D7-BB9139E6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1EF3-E22B-4AB6-B5A6-880BEA2A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7C32-413E-4094-9282-114D7BF0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AEB8-F252-4A48-943E-037C86A6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3BF3-7E83-4585-9968-B1ED50E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0A4-30F8-4EC3-B84B-D1074FB4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5DBF-0BAD-4310-97A0-6C5458DA47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FE73-1E97-4617-AFD4-D4F95C7728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psyera.ru/sites/default/files/field/image/%09315/socializaciya-lichnosti-periody-ee-razvitiya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новое\живые картинки\насекомые-анимашки\насекомые1\butterfly13 - копия.gif"/>
          <p:cNvPicPr/>
          <p:nvPr/>
        </p:nvPicPr>
        <p:blipFill>
          <a:blip r:embed="rId1"/>
          <a:stretch/>
        </p:blipFill>
        <p:spPr>
          <a:xfrm>
            <a:off x="5716440" y="620640"/>
            <a:ext cx="800280" cy="4669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-227520" y="4797360"/>
            <a:ext cx="102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Социализация лично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Социализация личности, периоды ее развит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2600"/>
            <a:ext cx="5413320" cy="464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11280" y="2230200"/>
            <a:ext cx="7948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лигиозные СН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ормы поведения, принятые в религиозных организац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овые СН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ормы обязательного поведения, установленные государством посредством законом и иных нормативно-правовых ак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рпоративные СН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ормы, принятые в тех или иных общественных организац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ые нор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Мора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24"/>
          <p:cNvSpPr/>
          <p:nvPr/>
        </p:nvSpPr>
        <p:spPr>
          <a:xfrm>
            <a:off x="324000" y="213696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mores – нравы,  обычаи, поведение) – форма общественного сознания, отражающая взгляды, нормы и оценки обществом поведения отдельных индивидов, социальных групп и общества в цел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2388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Нарушение социализ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447920"/>
            <a:ext cx="8640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оциальное поведение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дение человека среди других людей, бескорыстно направленное на общее бла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социальное поведение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виантное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(влечет административную или уголовную ответственность), или аморальное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стематическое пьянство, наркомания, стяжательство, сексуальная распущенность, а иногда включается поведение суицидное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сочинение миниатюру на те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Цель обучения ребёнка состоит в том, чтобы сделать его способным развиваться дальше без помощи учител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Элберт Хаббар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clock110"/>
          <p:cNvPicPr/>
          <p:nvPr/>
        </p:nvPicPr>
        <p:blipFill>
          <a:blip r:embed="rId1"/>
          <a:stretch/>
        </p:blipFill>
        <p:spPr>
          <a:xfrm>
            <a:off x="468360" y="4797360"/>
            <a:ext cx="1871640" cy="1670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900000" y="1700280"/>
            <a:ext cx="79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5360" y="115560"/>
            <a:ext cx="881064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Segoe Script"/>
              </a:rPr>
              <a:t>               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Monotype Corsiva"/>
              </a:rPr>
              <a:t>Социализац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усвоения индивидом образцов поведения , психологических установок, социальных норм и ценностей, знаний, навыков, позволяющих ему успешно функционировать в обществ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E:\новое\живые картинки\насекомые\butterfly12.gif"/>
          <p:cNvPicPr/>
          <p:nvPr/>
        </p:nvPicPr>
        <p:blipFill>
          <a:blip r:embed="rId1"/>
          <a:stretch/>
        </p:blipFill>
        <p:spPr>
          <a:xfrm rot="1736400">
            <a:off x="4547880" y="5130720"/>
            <a:ext cx="658800" cy="665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2392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тадии социализац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92160" y="1255680"/>
            <a:ext cx="8959680" cy="5578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хема 3" descr=""/>
          <p:cNvPicPr/>
          <p:nvPr/>
        </p:nvPicPr>
        <p:blipFill>
          <a:blip r:embed="rId1"/>
          <a:stretch/>
        </p:blipFill>
        <p:spPr>
          <a:xfrm>
            <a:off x="165240" y="695160"/>
            <a:ext cx="8813520" cy="5467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1000" y="115920"/>
            <a:ext cx="6172200" cy="10094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Институты социализац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88640" y="1805040"/>
            <a:ext cx="6939000" cy="4719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 институт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е дошкольные учрежд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коллектив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ормальные групп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5"/>
          <p:cNvSpPr/>
          <p:nvPr/>
        </p:nvSpPr>
        <p:spPr>
          <a:xfrm>
            <a:off x="4203720" y="1165320"/>
            <a:ext cx="485640" cy="639720"/>
          </a:xfrm>
          <a:prstGeom prst="downArrow">
            <a:avLst>
              <a:gd name="adj1" fmla="val 50000"/>
              <a:gd name="adj2" fmla="val 499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07880" y="237960"/>
            <a:ext cx="8315280" cy="180360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низ 2"/>
          <p:cNvSpPr/>
          <p:nvPr/>
        </p:nvSpPr>
        <p:spPr>
          <a:xfrm>
            <a:off x="1573200" y="2133720"/>
            <a:ext cx="485640" cy="1150920"/>
          </a:xfrm>
          <a:prstGeom prst="downArrow">
            <a:avLst>
              <a:gd name="adj1" fmla="val 50000"/>
              <a:gd name="adj2" fmla="val 498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низ 3"/>
          <p:cNvSpPr/>
          <p:nvPr/>
        </p:nvSpPr>
        <p:spPr>
          <a:xfrm>
            <a:off x="6489720" y="2170080"/>
            <a:ext cx="484200" cy="10796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4"/>
          <p:cNvSpPr/>
          <p:nvPr/>
        </p:nvSpPr>
        <p:spPr>
          <a:xfrm>
            <a:off x="250920" y="3500280"/>
            <a:ext cx="3384360" cy="259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охватывает первые два жизненных цикла — детство и ю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"/>
          <p:cNvSpPr/>
          <p:nvPr/>
        </p:nvSpPr>
        <p:spPr>
          <a:xfrm>
            <a:off x="4859280" y="3500280"/>
            <a:ext cx="3889440" cy="295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— охватывает последние два жизненных цикла — зрелость и старо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4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тадии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социал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ag00029_"/>
          <p:cNvPicPr/>
          <p:nvPr/>
        </p:nvPicPr>
        <p:blipFill>
          <a:blip r:embed="rId2"/>
          <a:stretch/>
        </p:blipFill>
        <p:spPr>
          <a:xfrm>
            <a:off x="7380360" y="260280"/>
            <a:ext cx="1763640" cy="1389240"/>
          </a:xfrm>
          <a:prstGeom prst="rect">
            <a:avLst/>
          </a:prstGeom>
          <a:ln w="0">
            <a:noFill/>
          </a:ln>
        </p:spPr>
      </p:pic>
      <p:grpSp>
        <p:nvGrpSpPr>
          <p:cNvPr id="108" name="Organization Chart 9"/>
          <p:cNvGrpSpPr/>
          <p:nvPr/>
        </p:nvGrpSpPr>
        <p:grpSpPr>
          <a:xfrm>
            <a:off x="431640" y="1649520"/>
            <a:ext cx="8220600" cy="4490280"/>
            <a:chOff x="431640" y="1649520"/>
            <a:chExt cx="8220600" cy="4490280"/>
          </a:xfrm>
        </p:grpSpPr>
        <p:cxnSp>
          <p:nvCxnSpPr>
            <p:cNvPr id="109" name="_s1028"/>
            <p:cNvCxnSpPr>
              <a:stCxn id="110" idx="3"/>
              <a:endCxn id="111" idx="2"/>
            </p:cNvCxnSpPr>
            <p:nvPr/>
          </p:nvCxnSpPr>
          <p:spPr>
            <a:xfrm flipV="1">
              <a:off x="5375160" y="2787120"/>
              <a:ext cx="811080" cy="2791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2" name="_s1029"/>
            <p:cNvCxnSpPr>
              <a:stCxn id="113" idx="3"/>
              <a:endCxn id="111" idx="2"/>
            </p:cNvCxnSpPr>
            <p:nvPr/>
          </p:nvCxnSpPr>
          <p:spPr>
            <a:xfrm flipV="1">
              <a:off x="5375160" y="2787480"/>
              <a:ext cx="811080" cy="11073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11" name="_s1030"/>
            <p:cNvSpPr/>
            <p:nvPr/>
          </p:nvSpPr>
          <p:spPr>
            <a:xfrm>
              <a:off x="3719880" y="1649520"/>
              <a:ext cx="4932360" cy="11224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тадии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оциализаци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личност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1"/>
            <p:cNvSpPr/>
            <p:nvPr/>
          </p:nvSpPr>
          <p:spPr>
            <a:xfrm>
              <a:off x="431640" y="3333240"/>
              <a:ext cx="4932360" cy="11224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ервичная     социализац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семья и друзья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31640" y="5017320"/>
              <a:ext cx="4932360" cy="11224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2. Вторичная     социализац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учреждения и институты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2280" y="-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ституты социал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052280"/>
            <a:ext cx="9036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итуты социализац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ретные группы, в которых личность приобщается к системам норм и ценностей и которые выступают транслятором социального опыта (Белинская, Тихомандрицка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Объект 2"/>
          <p:cNvSpPr/>
          <p:nvPr/>
        </p:nvSpPr>
        <p:spPr>
          <a:xfrm>
            <a:off x="115920" y="3346560"/>
            <a:ext cx="705636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09560" indent="-3427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Дотрудовая стадия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семья, дошкольные детские учреждения, школа, группы сверстников,           учебные за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42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Трудовая стадия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трудовой коллектив, команда, орган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42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Послетрудовая стадия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общественные организации, членами которых являются пенсион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7" descr=""/>
          <p:cNvPicPr/>
          <p:nvPr/>
        </p:nvPicPr>
        <p:blipFill>
          <a:blip r:embed="rId1"/>
          <a:srcRect l="0" t="0" r="0" b="7754"/>
          <a:stretch/>
        </p:blipFill>
        <p:spPr>
          <a:xfrm>
            <a:off x="7248600" y="4068720"/>
            <a:ext cx="1368360" cy="11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"/>
          <p:cNvPicPr/>
          <p:nvPr/>
        </p:nvPicPr>
        <p:blipFill>
          <a:blip r:embed="rId2"/>
          <a:stretch/>
        </p:blipFill>
        <p:spPr>
          <a:xfrm>
            <a:off x="7121520" y="5589720"/>
            <a:ext cx="1622520" cy="1144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"/>
          <p:cNvPicPr/>
          <p:nvPr/>
        </p:nvPicPr>
        <p:blipFill>
          <a:blip r:embed="rId3"/>
          <a:stretch/>
        </p:blipFill>
        <p:spPr>
          <a:xfrm>
            <a:off x="6997680" y="2666880"/>
            <a:ext cx="1619280" cy="135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оциальные норм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71520" y="14842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ые нормы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деятельности и правила поведения, выполнение которых ожидается от члена группы или общества и поддерживается с помощью са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99680" y="343548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91160" y="4292640"/>
            <a:ext cx="13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619280" y="537372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ы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659640" y="4292640"/>
            <a:ext cx="203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ы обыч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278160" y="5445000"/>
            <a:ext cx="273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лигиозные  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012000" y="543564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поративные 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H="1">
            <a:off x="2411280" y="407664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H="1">
            <a:off x="2843280" y="4149720"/>
            <a:ext cx="1008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64328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364000" y="414972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6300720" y="407664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7:57:52Z</dcterms:created>
  <dc:creator>LightAngel</dc:creator>
  <dc:description/>
  <dc:language>en-US</dc:language>
  <cp:lastModifiedBy>Ирина</cp:lastModifiedBy>
  <dcterms:modified xsi:type="dcterms:W3CDTF">2017-08-05T11:18:20Z</dcterms:modified>
  <cp:revision>64</cp:revision>
  <dc:subject/>
  <dc:title>МБДОУ «ЦРР – детский сад «Россиянка»</dc:title>
</cp:coreProperties>
</file>