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6.png" ContentType="image/png"/>
  <Override PartName="/ppt/media/image10.wmf" ContentType="image/x-wmf"/>
  <Override PartName="/ppt/media/image3.png" ContentType="image/png"/>
  <Override PartName="/ppt/media/image4.gif" ContentType="image/gif"/>
  <Override PartName="/ppt/media/image7.png" ContentType="image/png"/>
  <Override PartName="/ppt/media/image11.wmf" ContentType="image/x-wmf"/>
  <Override PartName="/ppt/media/image8.gif" ContentType="image/gif"/>
  <Override PartName="/ppt/media/image9.wmf" ContentType="image/x-wmf"/>
  <Override PartName="/ppt/media/image1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4E79-C19F-4E8B-A79F-79F05BB969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F02-8FDE-49AB-9133-B30F34B1C16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E514E-181B-4953-8068-5AE8C86399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B0EA-8D6A-4B39-B775-CFF6A8B174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3CA7-94A4-42DA-A449-3744D9F2B2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6DF-F3E8-4269-B874-85F73D87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42F9-414A-431B-9726-45592462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7192-06A0-4C9D-A8B0-9EAA1F81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EADA-7021-493B-B49C-15D56ECB9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61F4-EDC5-4722-A60B-64D365153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DAD-0690-4A46-B991-4941CC57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176B-263D-40E3-90B7-DF92531E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8DE23-E2BA-4483-A900-93B2DC227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2E41-992D-4F4F-BB3A-742F9846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83B4-E6B4-4476-9D0A-1FC1755A3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DB185-2480-4A49-940C-EEBF9B2C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A781-9E63-464E-B20C-DDE266E9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81C8-DC4A-4848-9D6B-44565E81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D3911-1FE6-456C-BB38-76EC0405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492E-1FFD-43F3-9E33-6B89DD91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CD63-05B6-4185-97C5-2A0CC22C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A12D-DA6A-4F6B-8D95-84E67959B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8937-3073-4E86-A400-396B0125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F5D-22A8-499F-B179-7B132E25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1AB6-FEB3-446A-8B5D-AF7F3826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F2AA-B00B-46E3-B1EE-6B9A11C3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995C-70F4-406A-99F3-D0E6037B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585-E380-406C-A21A-452E696B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A41-C4A7-4FAF-B64B-1D8B088C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7E0C-9479-4389-8165-9E3236F04C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FCCDE-E7BB-4D21-BF1E-298447734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hyperlink" Target="http://psyera.ru/sites/default/files/field/image/%09315/socializaciya-lichnosti-periody-ee-razvitiya.jpg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E:\новое\живые картинки\насекомые-анимашки\насекомые1\butterfly13 - копия.gif"/>
          <p:cNvPicPr/>
          <p:nvPr/>
        </p:nvPicPr>
        <p:blipFill>
          <a:blip r:embed="rId1"/>
          <a:stretch/>
        </p:blipFill>
        <p:spPr>
          <a:xfrm>
            <a:off x="5716440" y="620640"/>
            <a:ext cx="800280" cy="466920"/>
          </a:xfrm>
          <a:prstGeom prst="rect">
            <a:avLst/>
          </a:prstGeom>
          <a:ln w="0">
            <a:noFill/>
          </a:ln>
        </p:spPr>
      </p:pic>
      <p:sp>
        <p:nvSpPr>
          <p:cNvPr id="90" name="Прямоугольник 3"/>
          <p:cNvSpPr/>
          <p:nvPr/>
        </p:nvSpPr>
        <p:spPr>
          <a:xfrm>
            <a:off x="-227520" y="4797360"/>
            <a:ext cx="1020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оциализация личност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8" descr="Социализация личности, периоды ее развит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600"/>
            <a:ext cx="5413320" cy="46450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611280" y="2230200"/>
            <a:ext cx="794844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лигиозн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 поведения, принятые в религиозных организ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ов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 обязательного поведения, установленные государством посредством законом и иных нормативно-правовых ак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рпоративные СН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ормы, принятые в тех или иных общественных организация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е норм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Морал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24"/>
          <p:cNvSpPr/>
          <p:nvPr/>
        </p:nvSpPr>
        <p:spPr>
          <a:xfrm>
            <a:off x="324000" y="2136960"/>
            <a:ext cx="849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лат. mores – нравы,  обычаи, поведение) – форма общественного сознания, отражающая взгляды, нормы и оценки обществом поведения отдельных индивидов, социальных групп и общества в цело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23888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Нарушение социализац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44792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оциальное поведение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едение человека среди других людей, бескорыстно направленное на общее благо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социальное поведение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1" i="1" lang="ru-RU" sz="3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виантное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)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тивоправное, (влечет административную или уголовную ответственность), или аморальное </a:t>
            </a:r>
            <a:r>
              <a:rPr b="1" i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истематическое пьянство, наркомания, стяжательство, сексуальная распущенность, а иногда включается поведение суицидное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исать сочинение миниатюру на тем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Monotype Corsiva"/>
              </a:rPr>
              <a:t>Цель обучения ребёнка состоит в том, чтобы сделать его способным развиваться дальше без помощи учител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Monotype Corsiva"/>
              </a:rPr>
              <a:t>Элберт Хаббард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4" descr="clock110"/>
          <p:cNvPicPr/>
          <p:nvPr/>
        </p:nvPicPr>
        <p:blipFill>
          <a:blip r:embed="rId1"/>
          <a:stretch/>
        </p:blipFill>
        <p:spPr>
          <a:xfrm>
            <a:off x="468360" y="4797360"/>
            <a:ext cx="1871640" cy="1670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3"/>
          <p:cNvSpPr/>
          <p:nvPr/>
        </p:nvSpPr>
        <p:spPr>
          <a:xfrm>
            <a:off x="900000" y="1700280"/>
            <a:ext cx="795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5360" y="115560"/>
            <a:ext cx="8810640" cy="59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Segoe Script"/>
              </a:rPr>
              <a:t>               </a:t>
            </a: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</a:rPr>
              <a:t>Социализация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усвоения индивидом образцов поведения , психологических установок, социальных норм и ценностей, знаний, навыков, позволяющих ему успешно функционировать в обществе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E:\новое\живые картинки\насекомые\butterfly12.gif"/>
          <p:cNvPicPr/>
          <p:nvPr/>
        </p:nvPicPr>
        <p:blipFill>
          <a:blip r:embed="rId1"/>
          <a:stretch/>
        </p:blipFill>
        <p:spPr>
          <a:xfrm rot="1736400">
            <a:off x="4547880" y="5130720"/>
            <a:ext cx="658800" cy="665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723924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тадии социализации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Содержимое 3" descr=""/>
          <p:cNvPicPr/>
          <p:nvPr/>
        </p:nvPicPr>
        <p:blipFill>
          <a:blip r:embed="rId1"/>
          <a:stretch/>
        </p:blipFill>
        <p:spPr>
          <a:xfrm>
            <a:off x="92160" y="1255680"/>
            <a:ext cx="8959680" cy="5578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Схема 3" descr=""/>
          <p:cNvPicPr/>
          <p:nvPr/>
        </p:nvPicPr>
        <p:blipFill>
          <a:blip r:embed="rId1"/>
          <a:stretch/>
        </p:blipFill>
        <p:spPr>
          <a:xfrm>
            <a:off x="165240" y="695160"/>
            <a:ext cx="8813520" cy="5467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41000" y="115920"/>
            <a:ext cx="6172200" cy="100944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  <a:ea typeface="Times New Roman"/>
              </a:rPr>
              <a:t>Институты социализации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88640" y="1805040"/>
            <a:ext cx="6939000" cy="47196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ные институ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е дошкольные учреждения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овой коллектив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ормальные групп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Стрелка вниз 5"/>
          <p:cNvSpPr/>
          <p:nvPr/>
        </p:nvSpPr>
        <p:spPr>
          <a:xfrm>
            <a:off x="4203720" y="1165320"/>
            <a:ext cx="485640" cy="639720"/>
          </a:xfrm>
          <a:prstGeom prst="downArrow">
            <a:avLst>
              <a:gd name="adj1" fmla="val 50000"/>
              <a:gd name="adj2" fmla="val 4994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07880" y="237960"/>
            <a:ext cx="8315280" cy="1803600"/>
          </a:xfrm>
          <a:prstGeom prst="rect">
            <a:avLst/>
          </a:prstGeom>
          <a:ln w="0">
            <a:noFill/>
          </a:ln>
        </p:spPr>
      </p:pic>
      <p:sp>
        <p:nvSpPr>
          <p:cNvPr id="102" name="Стрелка вниз 2"/>
          <p:cNvSpPr/>
          <p:nvPr/>
        </p:nvSpPr>
        <p:spPr>
          <a:xfrm>
            <a:off x="1573200" y="2133720"/>
            <a:ext cx="485640" cy="1150920"/>
          </a:xfrm>
          <a:prstGeom prst="downArrow">
            <a:avLst>
              <a:gd name="adj1" fmla="val 50000"/>
              <a:gd name="adj2" fmla="val 4984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трелка вниз 3"/>
          <p:cNvSpPr/>
          <p:nvPr/>
        </p:nvSpPr>
        <p:spPr>
          <a:xfrm>
            <a:off x="6489720" y="2170080"/>
            <a:ext cx="484200" cy="107964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4"/>
          <p:cNvSpPr/>
          <p:nvPr/>
        </p:nvSpPr>
        <p:spPr>
          <a:xfrm>
            <a:off x="250920" y="3500280"/>
            <a:ext cx="3384360" cy="2592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ичная охватывает первые два жизненных цикла — детство и ю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5"/>
          <p:cNvSpPr/>
          <p:nvPr/>
        </p:nvSpPr>
        <p:spPr>
          <a:xfrm>
            <a:off x="4859280" y="3500280"/>
            <a:ext cx="3889440" cy="29530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ичная — охватывает последние два жизненных цикла — зрелость и старос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4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Стадии </a:t>
            </a:r>
            <a:r>
              <a:rPr b="0" lang="ru-RU" sz="4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5" descr="ag00029_"/>
          <p:cNvPicPr/>
          <p:nvPr/>
        </p:nvPicPr>
        <p:blipFill>
          <a:blip r:embed="rId2"/>
          <a:stretch/>
        </p:blipFill>
        <p:spPr>
          <a:xfrm>
            <a:off x="7380360" y="260280"/>
            <a:ext cx="1763640" cy="1389240"/>
          </a:xfrm>
          <a:prstGeom prst="rect">
            <a:avLst/>
          </a:prstGeom>
          <a:ln w="0">
            <a:noFill/>
          </a:ln>
        </p:spPr>
      </p:pic>
      <p:grpSp>
        <p:nvGrpSpPr>
          <p:cNvPr id="108" name="Organization Chart 9"/>
          <p:cNvGrpSpPr/>
          <p:nvPr/>
        </p:nvGrpSpPr>
        <p:grpSpPr>
          <a:xfrm>
            <a:off x="431640" y="1649520"/>
            <a:ext cx="8220600" cy="4490280"/>
            <a:chOff x="431640" y="1649520"/>
            <a:chExt cx="8220600" cy="4490280"/>
          </a:xfrm>
        </p:grpSpPr>
        <p:cxnSp>
          <p:nvCxnSpPr>
            <p:cNvPr id="109" name="_s1028"/>
            <p:cNvCxnSpPr>
              <a:stCxn id="110" idx="3"/>
              <a:endCxn id="111" idx="2"/>
            </p:cNvCxnSpPr>
            <p:nvPr/>
          </p:nvCxnSpPr>
          <p:spPr>
            <a:xfrm flipV="1">
              <a:off x="5375160" y="2787120"/>
              <a:ext cx="811080" cy="279108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cxnSp>
          <p:nvCxnSpPr>
            <p:cNvPr id="112" name="_s1029"/>
            <p:cNvCxnSpPr>
              <a:stCxn id="113" idx="3"/>
              <a:endCxn id="111" idx="2"/>
            </p:cNvCxnSpPr>
            <p:nvPr/>
          </p:nvCxnSpPr>
          <p:spPr>
            <a:xfrm flipV="1">
              <a:off x="5375160" y="2787480"/>
              <a:ext cx="811080" cy="1107360"/>
            </a:xfrm>
            <a:prstGeom prst="bentConnector2">
              <a:avLst/>
            </a:prstGeom>
            <a:ln w="38160">
              <a:solidFill>
                <a:srgbClr val="000000"/>
              </a:solidFill>
              <a:miter/>
            </a:ln>
          </p:spPr>
        </p:cxnSp>
        <p:sp>
          <p:nvSpPr>
            <p:cNvPr id="111" name="_s1030"/>
            <p:cNvSpPr/>
            <p:nvPr/>
          </p:nvSpPr>
          <p:spPr>
            <a:xfrm>
              <a:off x="3719880" y="164952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00">
                <a:alpha val="50000"/>
              </a:srgbClr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тадии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социализаци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личности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031"/>
            <p:cNvSpPr/>
            <p:nvPr/>
          </p:nvSpPr>
          <p:spPr>
            <a:xfrm>
              <a:off x="431640" y="333324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Первичная     социализа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семья и друзья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2"/>
            <p:cNvSpPr/>
            <p:nvPr/>
          </p:nvSpPr>
          <p:spPr>
            <a:xfrm>
              <a:off x="431640" y="5017320"/>
              <a:ext cx="4932360" cy="112248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50000"/>
              </a:srgbClr>
            </a:solidFill>
            <a:ln w="28440">
              <a:solidFill>
                <a:srgbClr val="ff00a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2. Вторичная     социализа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(учреждения и институты)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52280" y="-3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ституты социализа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052280"/>
            <a:ext cx="9036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итуты социализации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ретные группы, в которых личность приобщается к системам норм и ценностей и которые выступают транслятором социального опыта (Белинская, Тихомандрицкая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Объект 2"/>
          <p:cNvSpPr/>
          <p:nvPr/>
        </p:nvSpPr>
        <p:spPr>
          <a:xfrm>
            <a:off x="115920" y="3346560"/>
            <a:ext cx="7056360" cy="38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09560" indent="-342720">
              <a:lnSpc>
                <a:spcPct val="8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entury Gothic"/>
                <a:ea typeface="Arial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До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семья, дошкольные детские учреждения, школа, группы сверстников,           учебные за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42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трудовой коллектив, команда, организ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9560" indent="-342720">
              <a:lnSpc>
                <a:spcPct val="90000"/>
              </a:lnSpc>
              <a:spcBef>
                <a:spcPts val="601"/>
              </a:spcBef>
              <a:buClr>
                <a:srgbClr val="4f81bd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10253f"/>
                </a:solidFill>
                <a:uFillTx/>
                <a:latin typeface="Times New Roman"/>
                <a:ea typeface="Times New Roman"/>
              </a:rPr>
              <a:t>Послетрудовая стадия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: общественные организации, членами которых являются пенсион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"/>
          <p:cNvPicPr/>
          <p:nvPr/>
        </p:nvPicPr>
        <p:blipFill>
          <a:blip r:embed="rId1"/>
          <a:srcRect l="0" t="0" r="0" b="7754"/>
          <a:stretch/>
        </p:blipFill>
        <p:spPr>
          <a:xfrm>
            <a:off x="7248600" y="4068720"/>
            <a:ext cx="1368360" cy="115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0" descr=""/>
          <p:cNvPicPr/>
          <p:nvPr/>
        </p:nvPicPr>
        <p:blipFill>
          <a:blip r:embed="rId2"/>
          <a:stretch/>
        </p:blipFill>
        <p:spPr>
          <a:xfrm>
            <a:off x="7121520" y="5589720"/>
            <a:ext cx="1622520" cy="1144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4" descr=""/>
          <p:cNvPicPr/>
          <p:nvPr/>
        </p:nvPicPr>
        <p:blipFill>
          <a:blip r:embed="rId3"/>
          <a:stretch/>
        </p:blipFill>
        <p:spPr>
          <a:xfrm>
            <a:off x="6997680" y="2666880"/>
            <a:ext cx="1619280" cy="1359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оциальные норм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71520" y="148428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нормы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ы деятельности и правила поведения, выполнение которых ожидается от члена группы или общества и поддерживается с помощью сан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2299680" y="3435480"/>
            <a:ext cx="478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Социальные нор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91160" y="4292640"/>
            <a:ext cx="138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ор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619280" y="537372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6659640" y="4292640"/>
            <a:ext cx="203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ормы обыча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3278160" y="5445000"/>
            <a:ext cx="2733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лигиозные 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012000" y="5435640"/>
            <a:ext cx="28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рпоративные нор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 flipH="1">
            <a:off x="2411280" y="4076640"/>
            <a:ext cx="865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1"/>
          <p:cNvSpPr/>
          <p:nvPr/>
        </p:nvSpPr>
        <p:spPr>
          <a:xfrm flipH="1">
            <a:off x="2843280" y="4149720"/>
            <a:ext cx="1008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2"/>
          <p:cNvSpPr/>
          <p:nvPr/>
        </p:nvSpPr>
        <p:spPr>
          <a:xfrm>
            <a:off x="4643280" y="4076640"/>
            <a:ext cx="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5364000" y="4149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6300720" y="4076640"/>
            <a:ext cx="792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7:57:52Z</dcterms:created>
  <dc:creator>LightAngel</dc:creator>
  <dc:description/>
  <dc:language>en-US</dc:language>
  <cp:lastModifiedBy>Ирина</cp:lastModifiedBy>
  <dcterms:modified xsi:type="dcterms:W3CDTF">2017-08-05T11:18:20Z</dcterms:modified>
  <cp:revision>64</cp:revision>
  <dc:subject/>
  <dc:title>МБДОУ «ЦРР – детский сад «Россиянка»</dc:title>
</cp:coreProperties>
</file>