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AB21-7A54-41E6-81C5-DB99BE325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C449-D76F-45E5-B379-E5C46538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B01-8E6B-419A-8080-48682AC3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581-A372-45B3-9DF6-3A38EC8C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FA4B-E6B9-42D9-9A0C-B8B6FFDF2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C1AD-CCD5-4559-84C8-22A9EBEA8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B492-796C-4F7B-943E-E79A14B1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8C4C-5372-4718-A8D2-0F20EACA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7B53-EC31-499E-809B-E828E157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CBAB-46EB-4AC7-8BC0-237D242A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89BC1-7659-45F9-A144-D5C6AFAE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9B62-2741-46E2-818A-EF7246BE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1F4E-BC6F-4C7E-B5C7-FE22248F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4B0E-4260-4D6F-BA1A-2F7BB314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8A23-037E-462D-BBDD-B7BEAD05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B4CB-0F82-4D46-B6E2-6B7B20723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9668-6204-4F06-BC54-73D7BE26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A2D3C-4ED6-459E-A404-4B674009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FEBD6-517E-442A-BB98-34BCD496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D550C-3089-494F-A87A-CE47E1A7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5CC5C-0413-4DF0-AE29-452C610B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93E25-1014-461F-A05C-783EC3CE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1CEF-0BDA-4905-A963-74654BA6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67284-8B7F-41D6-91D1-D0AB80FD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B0FB7-518B-4D60-9DF2-F6E093A5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44E26-4F41-4FBA-BA9A-CBFCD6FC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0E241-B28B-40F7-8446-0300E6E8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834FB-0A45-4407-862A-98EEF4B7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0DAA8-1440-4835-842D-90FEBE82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BB727-FAD6-4146-A7A1-7E669A495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50CE3-DB77-4812-99BD-C24CE2AA6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8101F-AD47-4781-B96E-45BBBB17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1CB25-2E5D-4300-9C4C-C0A73C74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BB2A-80E5-4D83-9660-52DF2803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1E505-0BF6-4FC0-AA45-31100326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E60CB-FDFE-451A-8E63-22E49A0D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425BFF-13B1-4C02-A9BA-E1BF4F50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88EEA-CD2F-49CE-B7B9-335BD852C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B3CDE-8E76-475C-A558-D1CDB5C3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7DB5B-BADF-4051-ACA0-C823EFF6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148EF-A39A-4DAD-B4A1-1768DC9E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661A7A-C46D-4160-B4E2-336A91CA2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57962-133D-4379-A58E-1CE2944F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73890-0681-43BD-B6B7-CF8A25FF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927-B6EC-4789-90C5-5D6132CE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23475-2242-4B1B-B2A4-4BB6AA84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D8658-8E02-41D6-8A27-D6572BA3A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A5AA2-4E9D-497A-8575-A899D4FA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079C5-6A68-49B4-83A4-C33EC9D5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298F1-8AD3-45E0-B39B-F684485DE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96B19-0196-45AD-B586-D736CFD9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F3DB5-33C4-48C5-B37C-9AF85EA4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8F49C-64D4-4D45-A4E3-8D2FE2BF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F1C8D-2B4A-4436-B33B-45E0E021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6DC93-2B75-416A-B680-27E9ECEC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CB10-5AD7-4140-84FB-CC067F0F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E6E32-3FE7-4533-9491-76568400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4475-5581-46A6-8B9F-95ABAF76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E25B-3C6C-4733-B869-DC7528C4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1EE7-0388-4F3A-851E-65D32205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6C61-874F-4DAF-8D46-10BADFD35661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01B7-2048-4B81-BCC2-C22EE7462392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0D56-61C5-43AF-BF32-6ECE568AFD2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D36B8-36C5-466F-8370-9563D34AAE97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6C66-4F4F-4C3A-81D6-B70822A39EE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2670120" y="1219320"/>
            <a:ext cx="6534360" cy="3346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0" y="281160"/>
            <a:ext cx="8156520" cy="1474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380520" y="182844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мер, направленных на обновление и дальнейшее эволюционное развитие национальной жизни всех народов России в рамках федеративного государства, а также на создание равноправных отношений между народами страны, формирование демократических механизмов разрешения национальных и межнациональных проблем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779400" y="5137200"/>
            <a:ext cx="6553440" cy="160020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ительное 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людям всех на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ера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6"/>
          <p:cNvSpPr/>
          <p:nvPr/>
        </p:nvSpPr>
        <p:spPr>
          <a:xfrm rot="10800000">
            <a:off x="1633680" y="1218960"/>
            <a:ext cx="4419360" cy="1295280"/>
          </a:xfrm>
          <a:custGeom>
            <a:avLst/>
            <a:gdLst>
              <a:gd name="textAreaLeft" fmla="*/ 0 w 4419360"/>
              <a:gd name="textAreaRight" fmla="*/ 4419720 w 441936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челов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рава и своб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 rot="10800000">
            <a:off x="1636200" y="4038120"/>
            <a:ext cx="4496040" cy="1219320"/>
          </a:xfrm>
          <a:custGeom>
            <a:avLst/>
            <a:gdLst>
              <a:gd name="textAreaLeft" fmla="*/ 0 w 4496040"/>
              <a:gd name="textAreaRight" fmla="*/ 4496400 w 449604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е интере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х на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 rot="10800000">
            <a:off x="1666440" y="5486040"/>
            <a:ext cx="4496040" cy="1143000"/>
          </a:xfrm>
          <a:custGeom>
            <a:avLst/>
            <a:gdLst>
              <a:gd name="textAreaLeft" fmla="*/ 0 w 4496040"/>
              <a:gd name="textAreaRight" fmla="*/ 4496400 w 4496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"/>
          <p:cNvSpPr/>
          <p:nvPr/>
        </p:nvSpPr>
        <p:spPr>
          <a:xfrm>
            <a:off x="2041560" y="152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"/>
          <p:cNvPicPr/>
          <p:nvPr/>
        </p:nvPicPr>
        <p:blipFill>
          <a:blip r:embed="rId1"/>
          <a:stretch/>
        </p:blipFill>
        <p:spPr>
          <a:xfrm>
            <a:off x="1636560" y="2666880"/>
            <a:ext cx="4438800" cy="1305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5"/>
          <p:cNvSpPr/>
          <p:nvPr/>
        </p:nvSpPr>
        <p:spPr>
          <a:xfrm>
            <a:off x="1447920" y="2209680"/>
            <a:ext cx="2666880" cy="1676520"/>
          </a:xfrm>
          <a:prstGeom prst="foldedCorner">
            <a:avLst>
              <a:gd name="adj" fmla="val 125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ститу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ссий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9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4343400" y="4005360"/>
            <a:ext cx="3352680" cy="1938240"/>
          </a:xfrm>
          <a:prstGeom prst="foldedCorner">
            <a:avLst>
              <a:gd name="adj" fmla="val 125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цеп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и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ссий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96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380880" y="515880"/>
            <a:ext cx="750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кументы, определяющие национальную полит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6480" y="365040"/>
            <a:ext cx="8076960" cy="13906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763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ство прав и свобод человека и гражданина независимо от расы, национальности, языка, отношения к религи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ие любых форм ограничения прав граждан по признакам социальной, расовой, национальной, религиозной принадлежност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исторически сложившейся целостности Российской Федераци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правие всех субъектов РФ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тия прав коренных малочисленных народов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304920" y="762120"/>
            <a:ext cx="777240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каждого гражданина определять и указывать свою национальную принадлежность без всякого прину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развитию национальных культур и язы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временное и мирное разрешение противоречий и конфли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ие деятельности, направленной на возбуждение национальной ро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ав и интересов граждан РФ за её пределами, поддержка соотечествен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17-08-21T12:15:3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