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78A-835D-4258-A4B3-AD11E0E0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248-F1E3-40FB-9FD9-BF27F6ED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E403-F1C6-43BE-B00E-8B56C8D5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B165-5C78-42EA-8CDF-218E8D46C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16939-59CD-4089-BD40-CCAB441CD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5AD11-EE35-4FB5-ABA6-E9032053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9855-D787-4AB9-A656-1BD53A5B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12A0-AC96-469C-8759-945FD376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429-523E-4BF8-B822-CE036DA6C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1B7B-5A42-4553-A49D-AAA21DB9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C6B8-CE6A-4751-8928-841EFE2F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371-FA03-4CB5-949F-831421A7D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A5F33-780C-4ED5-9419-EA312E4B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7D0A-3CC7-4B9E-94D0-7DE00968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A5EE7-8D01-43E9-B112-7D8D145B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F2C0-3727-4E6B-A75D-40CAAE12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0FA2-FF40-4D23-ACB0-0AF91C12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C1E16-2FC6-447A-ACC8-1D0D7227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BC291-53BC-4013-9537-CC4FD59FF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AC2E7-0736-457F-8290-1AC7C069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9A0C-4F74-4807-858D-DEBCEDD6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120C5-B574-4556-8BE6-83FBA8290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25D7-3487-42BE-833A-C123A5F19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2B927-1484-4B24-8775-FDE7D85F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94CDE-92A3-4FED-AC62-FCB7DAA6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DCA81-93AF-43FE-9BB4-7D8FA81E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0A3D2-C056-44BE-9F7D-CC5538F87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BAC93-4EE0-42D8-A555-5F887F2E8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3C89D-6B34-483E-967B-919589AD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92EC5-C864-4CD4-A9ED-FD21A312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98E141-AE19-42F8-A0D7-06CBCC8A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85DC7-8762-4CBA-8B83-8092C3D5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2987-0DCD-4C0C-BAFD-A7FF0FE2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299-C069-4CA6-BA52-CC6674D2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8ED9D8-2BAB-43C7-8959-8727161E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909B3-8721-402A-9B41-A69519AF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4551BD-9DD3-473C-8EF5-E5829405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0DD50-B216-446B-BE05-E2600A34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D112-455D-44D8-9E69-77B89E41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5756-617A-499F-989B-F405AB90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ED73A3-B5F0-4F91-B326-E43D61CD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C2C93-A254-4A97-81EF-45E3277D8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9B92C-5486-4075-8FBC-AEE340D3F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347AD-D4C5-48FD-A6FD-A8307029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7649-9E65-45AE-A65F-00CAAC45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A4E0D-4A48-4B23-BD85-B52D86E4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1B97A-E58E-4B5D-8FC9-D820DE2F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25C60-80DC-4C5B-BDB7-CBA8DBA5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3AF57-CF1E-47E6-A902-E45BB687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7F103-99B5-402B-85D5-6AEE5D16F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9FEBA-0D06-4395-96F2-AF0C7344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FECE1-593D-48D1-B3B7-2955AB6C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84903-20C3-4FEE-AAD4-25AB6481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3B34B-C119-495E-8A08-E6FF13BB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60678-CE4E-48C9-9411-E14F67BC7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75BC-EE1D-496D-ABFF-7CBBAF04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3237F-484E-4362-9C59-BEA2EFB6E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EB1-996A-4040-8BE8-8A59B6AC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D552-2597-41AC-99C0-46618488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E020-DAB7-48CC-8AD8-EA22FA68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86746-CE0E-4649-B2C6-7FB0225322F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83E6-81A9-48F9-BE7B-79A31FD6730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4FA8-BCD6-4866-B4F6-5D3F807778F6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0FF58-6F2C-4051-B9EF-AAA81A0C06C4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6AD4-40FF-4A69-9788-182C1D04BDB9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2670120" y="1219320"/>
            <a:ext cx="6534360" cy="33462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0" y="281160"/>
            <a:ext cx="8156520" cy="1474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 txBox="1"/>
          <p:nvPr/>
        </p:nvSpPr>
        <p:spPr>
          <a:xfrm>
            <a:off x="380520" y="1828440"/>
            <a:ext cx="723924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мер, направленных на обновление и дальнейшее эволюционное развитие национальной жизни всех народов России в рамках федеративного государства, а также на создание равноправных отношений между народами страны, формирование демократических механизмов разрешения национальных и межнациональных пробле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779400" y="5137200"/>
            <a:ext cx="6553440" cy="1600200"/>
          </a:xfrm>
          <a:prstGeom prst="roundRect">
            <a:avLst>
              <a:gd name="adj" fmla="val 16667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ажительное 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людям всех нац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ера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6"/>
          <p:cNvSpPr/>
          <p:nvPr/>
        </p:nvSpPr>
        <p:spPr>
          <a:xfrm rot="10800000">
            <a:off x="1633680" y="1218960"/>
            <a:ext cx="4419360" cy="1295280"/>
          </a:xfrm>
          <a:custGeom>
            <a:avLst/>
            <a:gdLst>
              <a:gd name="textAreaLeft" fmla="*/ 0 w 4419360"/>
              <a:gd name="textAreaRight" fmla="*/ 4419720 w 441936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знь челове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права и своб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 rot="10800000">
            <a:off x="1636200" y="4038120"/>
            <a:ext cx="4496040" cy="1219320"/>
          </a:xfrm>
          <a:custGeom>
            <a:avLst/>
            <a:gdLst>
              <a:gd name="textAreaLeft" fmla="*/ 0 w 4496040"/>
              <a:gd name="textAreaRight" fmla="*/ 4496400 w 44960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интерес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ых нар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8"/>
          <p:cNvSpPr/>
          <p:nvPr/>
        </p:nvSpPr>
        <p:spPr>
          <a:xfrm rot="10800000">
            <a:off x="1666440" y="5486040"/>
            <a:ext cx="4496040" cy="1143000"/>
          </a:xfrm>
          <a:custGeom>
            <a:avLst/>
            <a:gdLst>
              <a:gd name="textAreaLeft" fmla="*/ 0 w 4496040"/>
              <a:gd name="textAreaRight" fmla="*/ 4496400 w 4496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упре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ли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1"/>
          <p:cNvSpPr/>
          <p:nvPr/>
        </p:nvSpPr>
        <p:spPr>
          <a:xfrm>
            <a:off x="2041560" y="15228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Цель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11" descr=""/>
          <p:cNvPicPr/>
          <p:nvPr/>
        </p:nvPicPr>
        <p:blipFill>
          <a:blip r:embed="rId1"/>
          <a:stretch/>
        </p:blipFill>
        <p:spPr>
          <a:xfrm>
            <a:off x="1636560" y="2666880"/>
            <a:ext cx="443880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5"/>
          <p:cNvSpPr/>
          <p:nvPr/>
        </p:nvSpPr>
        <p:spPr>
          <a:xfrm>
            <a:off x="1447920" y="2209680"/>
            <a:ext cx="2666880" cy="1676520"/>
          </a:xfrm>
          <a:prstGeom prst="foldedCorner">
            <a:avLst>
              <a:gd name="adj" fmla="val 125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ститу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ссий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3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6"/>
          <p:cNvSpPr/>
          <p:nvPr/>
        </p:nvSpPr>
        <p:spPr>
          <a:xfrm>
            <a:off x="4343400" y="4005360"/>
            <a:ext cx="3352680" cy="1938240"/>
          </a:xfrm>
          <a:prstGeom prst="foldedCorner">
            <a:avLst>
              <a:gd name="adj" fmla="val 12500"/>
            </a:avLst>
          </a:prstGeom>
          <a:solidFill>
            <a:srgbClr val="b83d6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цеп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циональ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лит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ссий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6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380880" y="515880"/>
            <a:ext cx="750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Документы, определяющие национальную поли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6480" y="365040"/>
            <a:ext cx="8076960" cy="1390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7632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енство прав и свобод человека и гражданина независимо от расы, национальности, языка, отношения к религ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ие любых форм ограничения прав граждан по признакам социальной, расовой, национальной, религиозной принадлежност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исторически сложившейся целостности Российской Федерации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правие всех субъектов РФ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рантия прав коренных малочисленных народов;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304920" y="762120"/>
            <a:ext cx="7772400" cy="56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о каждого гражданина определять и указывать свою национальную принадлежность без всякого принужд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йствие развитию национальных культур и язы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евременное и мирное разрешение противоречий и конфлик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ие деятельности, направленной на возбуждение национальной розн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прав и интересов граждан РФ за её пределами, поддержка соотечествен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7-08-21T12:15:38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