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16B-12D8-42E7-89A8-E7CBA07A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AB6-C854-4391-BF07-3F93EA348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938A9A-6E53-4E08-BF6D-B3E05D681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9996B-7BCF-47D5-8CDE-9E5BB2EA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1CFD5-5136-40FE-BAD7-A5832D15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92177-3676-41F0-A8BD-25AD465D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0F63B-CF8F-44FA-B80C-9210C452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2E0ECD-ACA7-4F29-82C0-AD227800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ED208-6FE1-4562-A618-655993BB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F9FB1-7F5C-48C2-8F64-856BFF86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D408B-2B71-4ABA-9BDC-DADBED35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5B9E80-94F4-4827-BD77-39BDB672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96BE-DE14-41BB-A196-23DA5298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8950F-3132-4B55-9987-4D8B8416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2971AC-0270-40D8-9C5A-D53C39A3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BC0CDB-D926-44F6-90D4-1D2F3794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E0195D-2659-4EB2-9789-64060146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7247B4-58E5-467F-AB4F-DA5586CB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64E593-63CB-456A-87ED-98EFA62A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B7E462-960B-4DE7-B50E-CE8DE938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1DC964-502B-4576-83D9-5F21969B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41739-FE4D-4CAF-8EBB-FFF23ED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2DAEBD-3F4E-4EC9-8F0C-6F785FB77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FC9-6969-4392-AEEA-A3EA90965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139D55-54B2-4A02-8550-F75A67927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52C5F-9E84-4AB1-A0BB-21289230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DA6365-D51F-4158-B44C-04C89B72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D8CD3-9114-40B9-9424-D604F6F4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F557B-85FD-43BE-BF98-2974016F7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1B0F6-9DF4-4F1A-807B-C13A2BCA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6C4960-5038-4B91-8C82-63BCD829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84001-70D0-4F1F-B3BA-46601CFD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14E5C-26E1-4DB4-A1F7-8E456269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2E43C-3E75-4CED-9AF5-87432B48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4CDF-383C-4641-9AC2-5E656EF1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48796-454D-40E7-B228-BB3F63E40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D2E9E-6279-4321-AE04-CF611CA3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CB317-2D08-4BB7-8CA3-1C9D5500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C25B1-CA61-4829-A2DD-F72A50F9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5F5805-3196-49D8-9735-645D4676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3D6470-A2E5-4626-9AB0-BC3FCE33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2B58C-55EB-43D5-B7DD-940D108F1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F5493-5568-46E6-A5C6-CC7F31FE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CDD518-0B08-4F79-8315-2DF8FCA0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AC3DB-9A3C-42E6-950F-9E79B9F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AA3D-BD90-4B07-B220-589CD6A72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F4D387-B90F-41D5-B647-3CE422D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9C98A-E663-4E81-B868-66E01735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14D8D0-5A2F-483A-9A40-D2C2985C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15D3D9-90A1-49EB-A911-3BD9D98E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CCC358-D615-46C4-98A9-B8E483AE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4C15D-4D16-4D62-A93F-4F4951D8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4BD592-2577-4CBE-BAE2-6DF82EEE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26D04-4750-4615-8AAC-9F91C933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CE979-2AFD-408C-B5B6-E16A8970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E7AE2-EDEB-4401-98C1-012199ED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5E75-A080-4DB6-8ED4-EC19E161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FAB186-4719-4202-BADB-BCB7ACF8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EEFAD-7960-4820-9FB7-689BBD081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F46E2C-81B6-4DBF-8994-4BD737B5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079EF-55D2-48DC-B5ED-2251BDC3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F060C4-2551-4BF6-BD93-FB3B3626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66747D-26F9-480B-9494-6A7FEDEFB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807BF-A316-4E25-99EE-3623DCD74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31CAA8-8646-4652-9277-D83915DEF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5DB525-AC87-42D6-B553-935F781F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32B49E-3A5D-4012-90EB-2C79E453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4079-B209-4DFF-8DAF-8EB72943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110115-445E-471B-9F32-34296519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37E075-1631-4120-9CB0-A615F071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83EBA4-2447-4611-B566-A08D336C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5E7CD3-64C6-4BD2-A5BB-7E2F239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9E0C36-213E-4628-9D16-654E675F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8ECBC-83A1-4F9A-B185-524B66B0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1CCEC3-4694-49DB-B2CB-76B63758A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22524-0BC7-4833-B573-A7934928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B5960-906A-4A68-891D-4757708C2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7ECA-325B-430D-A8F6-9CA0646A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CD6C-727A-4101-B8CC-C8F12CA7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494F2-E75C-44A5-878A-84C0E2CDC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5BD-46B5-413A-A465-3CFCF3E0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AC04-B7E0-40A7-8765-C19B01DA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EFBF-6B51-45E5-95A2-4D83C7E9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8E65-289F-4B15-B8B8-A13751AF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22F7-96FF-4D08-BD90-304B1B513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582A-5D91-438E-8796-7E5B585FA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579B7-1E17-477E-B986-D65D9DFF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18294-061D-4BA8-AD77-026D6A0B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400D-2474-4733-8223-302883B4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7B976-669C-4096-9B8D-C11CF5E0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3E799-3538-4ECA-AB21-3B391295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1C8-2356-48EC-9EAF-D4926F02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50F1B-379A-4267-BE5E-FB1232DD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98B2-CC85-418F-AA96-7B588C5E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D123C-ABE3-4F2F-9182-2BD221E1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2E4F-D3A5-45FB-A4DB-6E371670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0EB5-5130-4381-89B6-29A92EC7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A7147-09B7-47F6-8BB3-DA2D06AD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AB53-36D8-4A89-B5F0-86BBCF94D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7DFF6-5674-4260-803F-10AB2520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A075D-EE10-4AD9-BC00-3F977DA8E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F465-9598-4AB6-8354-DF8EC816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0AA-71A5-4B4B-BD65-BB62719C8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152BC-0C52-48F1-ABEF-0F7A0137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38775-EC73-4737-8637-674C47372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C757D-4208-482D-88E9-6B718844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0AF4D-B19F-4E08-82FE-99FFB25C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147FF-3A5D-417C-A1DA-9E15C7B4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36790-53E1-4BA6-BA51-D5C9F09D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C8EC5-46E3-4FE2-9168-68D28E29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AA089-BC78-4C8E-A911-1CAE3C1F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7E711-31CE-46C1-9E4C-C1DF6EB2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9FC9D-A61F-4530-BC47-849D90BFF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60F-78B0-40FD-B956-A1D2E22B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BBD19-9C01-42BB-8210-81E808CA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37602-E472-4893-8ABA-7569DF3A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7E4CD-5BD1-4F6D-A7EA-8469C62E7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F7EC0-C090-43CE-8412-F0F271C43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C8DA6-7609-4E04-8CB3-E9953212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0E4A0-EC84-4157-A0B2-6846AA68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24C9D-73CC-4446-84B1-27CDA18A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E81DE-932A-4245-95AE-2C407F1D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491B-7E2C-4B1B-83EF-12F6762C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6CBB3-F7A4-459A-A7A9-0F0CC470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F7D7-7EE7-41C3-8100-6E06A239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B95E9-793C-4A2D-B275-D077A54B4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18A3E7-43B3-4742-87C1-CC491F82D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20D22-E827-4BB8-8BCD-5BDECBB8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772F1-1BEB-47F4-9FDC-7DEF6B41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87764-87F4-4858-BDB9-1A655CEB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FA8042-9714-4EB5-9318-DBD1CA54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42789-7547-4E44-A3EB-9E194F324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42B96-9639-4A1F-B47E-90E27B6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2446D-20BE-4A7F-9AB0-E6834959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2BEB6-0854-4AF7-B51C-19464B9D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13E2-F0A9-41E6-8E3F-A45C3913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7E7BD-4B6A-4428-BF1C-BEF4E8D4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E8197-E69A-476F-9E2E-F4DCDAE83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374D8-9FB9-41DF-B3DE-D06E1897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BA7F3D-06B3-4551-8AF2-C1DAC251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AC270-8FBC-4E6D-AA99-B45C79C6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76F98-9DE5-4252-8B3B-3E9C9341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D0217-7477-40E5-8510-938693DE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507FE-4522-456A-A73A-4551328C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CA61C-2032-467F-953A-FCFE034B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ADDDAA-1097-436E-B735-2383D32F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38EE-04E2-4A21-92AA-FC7DDC59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6E816-4FEB-45F4-9F11-2416CAE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4B9E0-43F6-49A0-8052-16644CE1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E5A21C-A50B-4860-AE26-19774121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9D3B2-8BB3-496E-9513-D373CAAB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47D4E-D709-4A53-8EEB-6ACEBE6F9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8866A-5C77-4FCE-97E9-FB47FE18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F2F0D-0ED6-4734-B368-96F26387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4A6A1-9CFD-44E3-AD82-9E4BE298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F309B-CA8E-4950-97AF-58579011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287A6-4456-4E5B-9073-263DD03C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CDF5-D593-492C-BD1D-FC8BB191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50EE57-FE71-4D51-BE46-19B2B780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58D6B7-541D-4CC4-BB18-04B97A58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62318-F96B-42BC-B2FE-FE2D4AB7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C3EF7-ED58-4C7A-80C1-B5255B01B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8525E2-FC91-48BC-A6C1-4A71F898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EF8C9-55D4-464F-B9EE-2A6A63F51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66F7B-EA35-40D4-8D54-6D27CB136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413CC-9001-4557-BC2E-16BD301AE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EE7A8-4A61-4FFC-BE3A-4A60CA7A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B2934-82E0-477A-84B1-C71ACCFF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6CC5-1E7B-48B8-84FB-74A49C7A23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9C46-7F7E-45C3-8466-BF16185EC5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8055A-9174-4CDA-8703-BA12997749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1B36-AC6B-4597-9A62-13E1A4B37B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AF74-F3B6-4F80-934F-B8EFDDB0B58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DF9F-6F3E-4730-A957-F61C454C87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D727-F585-415F-8AB7-21E36819C3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0D16-BB9A-4F17-AEE9-8CB0EBB9BA4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3B80C-33CC-47E9-A051-BDA17120D0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67A5-1116-442A-B7B1-6893E76ADF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EA1AC-6906-4752-A0C0-8B82DADC8D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091D-892A-4B95-A23A-98B9134B64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F9FD-0CB2-46BF-9488-4C066E6992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1FF3-5D3C-4937-9DD7-1E6025716C8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897084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амосознание и социальное повед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3" descr="C:\Users\НВ\Desktop\нгш.jpg"/>
          <p:cNvPicPr/>
          <p:nvPr/>
        </p:nvPicPr>
        <p:blipFill>
          <a:blip r:embed="rId1"/>
          <a:stretch/>
        </p:blipFill>
        <p:spPr>
          <a:xfrm>
            <a:off x="1116000" y="3068640"/>
            <a:ext cx="2808360" cy="2806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2" descr="C:\Users\НВ\Desktop\прол.jpg"/>
          <p:cNvPicPr/>
          <p:nvPr/>
        </p:nvPicPr>
        <p:blipFill>
          <a:blip r:embed="rId2"/>
          <a:stretch/>
        </p:blipFill>
        <p:spPr>
          <a:xfrm>
            <a:off x="5219640" y="4106880"/>
            <a:ext cx="34275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Функции самос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468360" y="2708280"/>
            <a:ext cx="813600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познание — получение информации о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моционально-ценностное отношение к с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регуляция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2" descr="C:\Users\НВ\Desktop\нрол.jpg"/>
          <p:cNvPicPr/>
          <p:nvPr/>
        </p:nvPicPr>
        <p:blipFill>
          <a:blip r:embed="rId1"/>
          <a:stretch/>
        </p:blipFill>
        <p:spPr>
          <a:xfrm>
            <a:off x="7380360" y="189000"/>
            <a:ext cx="1655640" cy="1849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начение самос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468000" y="1125000"/>
            <a:ext cx="84963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ознание способствует достижению внутренней согласованности личности, тождественности самому себе в прошлом, настоящем и будущ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ределяет характер и особенности интерпретации приобретённого опы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жит источником ожиданий относительно себя и своего по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303840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амоисповед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вляется полным внутренним отчетом перед самим собой о том, что происходит с нами и в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2" descr="C:\Users\НВ\Desktop\i.jpg"/>
          <p:cNvPicPr/>
          <p:nvPr/>
        </p:nvPicPr>
        <p:blipFill>
          <a:blip r:embed="rId1"/>
          <a:stretch/>
        </p:blipFill>
        <p:spPr>
          <a:xfrm>
            <a:off x="3635280" y="338040"/>
            <a:ext cx="2160720" cy="270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По мнению ученых личность составляют 5 полноценных элементов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42920" y="1856880"/>
            <a:ext cx="878688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знавательный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ждения о самом себе, называемые самознанием, представлением самого себя или концепцией-я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струментальный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держит совокупность умений и навыков, способности и сообразительность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тивационный</a:t>
            </a: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моциональный</a:t>
            </a:r>
            <a:r>
              <a:rPr b="1" i="1" lang="ru-RU" sz="2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ичный  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носится темперамент, являющийся продуктом генетической передачи и влияющий на характеристику поведения (энергия, сила, быстрота, изменчивость, подвижность, влияет на то, как выполняются каждодневные задания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2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арактер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индивидуальное сочетание устойчивых особенностей личности, проявляющихся в типичных способах поведения.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сихологи выделяют 4 типа темперамен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нгвиник</a:t>
            </a: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ильный, уравновешенный, подвижный тип нервной системы. Энергичен, активен, доброжелателен, спокоен, находчив. Легко сходится с новыми людьм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олерик</a:t>
            </a:r>
            <a:r>
              <a:rPr b="1" i="1" lang="ru-RU" sz="2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терпелив, вспыльчив, несдержан. Проявляет инициативу, активность, но часто не доводит дело до конц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легматик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 эмоционален,  невозмутим,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личается работоспособностью, терпением,  выдержкой, медлителен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еланхолик</a:t>
            </a: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бидчив, болезненно чувствителен, робок, мечтателен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716000" y="522900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нсуа Вий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476360" y="2708280"/>
            <a:ext cx="7308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, как на  мёд садятся м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смерть, что рыщет, все губ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книги, истины и слух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знаю все, но только не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2" descr="C:\Users\НВ\Desktop\i.jpg"/>
          <p:cNvPicPr/>
          <p:nvPr/>
        </p:nvPicPr>
        <p:blipFill>
          <a:blip r:embed="rId1"/>
          <a:stretch/>
        </p:blipFill>
        <p:spPr>
          <a:xfrm>
            <a:off x="395280" y="115920"/>
            <a:ext cx="2089080" cy="2521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сознание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ознание субъектом самого себя в отличие от иного — других субъектов и мира вообще; это осознание человеком своего общественного статуса и своих жизненно важных потребностей, мыслей, чувств, мотивов, инстинктов, переживаний, действ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C:\Users\НВ\Desktop\300_648152.jpg"/>
          <p:cNvPicPr/>
          <p:nvPr/>
        </p:nvPicPr>
        <p:blipFill>
          <a:blip r:embed="rId1"/>
          <a:stretch/>
        </p:blipFill>
        <p:spPr>
          <a:xfrm>
            <a:off x="6227640" y="4365720"/>
            <a:ext cx="2079720" cy="2382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Box 4"/>
          <p:cNvSpPr/>
          <p:nvPr/>
        </p:nvSpPr>
        <p:spPr>
          <a:xfrm>
            <a:off x="785880" y="357120"/>
            <a:ext cx="7500960" cy="26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созн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одна из форм сознания, проявляющаяся в единстве знания себя и отношения к с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познан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зучение личностью собственных психических и физических особеннос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785880" y="3500280"/>
            <a:ext cx="7643880" cy="2653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ознание начинается с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узна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 свойств собственной личности протекает в процессе деятельности и 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оценк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моциональное отношение к собственному обра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амооценка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дставляет собой эмоциональное отношение к собственному образ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2843280" y="2889360"/>
            <a:ext cx="6192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самооценка =   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    успех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итяз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Picture 3" descr="C:\Users\НВ\Desktop\social_media_marketing.jpg"/>
          <p:cNvPicPr/>
          <p:nvPr/>
        </p:nvPicPr>
        <p:blipFill>
          <a:blip r:embed="rId1"/>
          <a:stretch/>
        </p:blipFill>
        <p:spPr>
          <a:xfrm>
            <a:off x="611280" y="2349360"/>
            <a:ext cx="2340000" cy="2340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>
            <a:off x="571680" y="357120"/>
            <a:ext cx="81435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Мотивы обращения к самооце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2"/>
          <p:cNvSpPr/>
          <p:nvPr/>
        </p:nvSpPr>
        <p:spPr>
          <a:xfrm>
            <a:off x="274680" y="1341360"/>
            <a:ext cx="2643120" cy="1008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ние себя (поиск точных знаний о себ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3"/>
          <p:cNvSpPr/>
          <p:nvPr/>
        </p:nvSpPr>
        <p:spPr>
          <a:xfrm>
            <a:off x="3762360" y="1341360"/>
            <a:ext cx="2214720" cy="1923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собственной значимости (поиск благоприятных знаний о себ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4"/>
          <p:cNvSpPr/>
          <p:nvPr/>
        </p:nvSpPr>
        <p:spPr>
          <a:xfrm>
            <a:off x="6858000" y="1187280"/>
            <a:ext cx="2000160" cy="2228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роверка (соотнесение собственных знаний о себе с оценками своей личности окружающим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1" name="Прямая со стрелкой 6"/>
          <p:cNvCxnSpPr/>
          <p:nvPr/>
        </p:nvCxnSpPr>
        <p:spPr>
          <a:xfrm flipH="1">
            <a:off x="2266200" y="955440"/>
            <a:ext cx="592920" cy="322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2" name="Прямая со стрелкой 11"/>
          <p:cNvCxnSpPr>
            <a:endCxn id="589" idx="0"/>
          </p:cNvCxnSpPr>
          <p:nvPr/>
        </p:nvCxnSpPr>
        <p:spPr>
          <a:xfrm>
            <a:off x="4833720" y="955440"/>
            <a:ext cx="35640" cy="386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3" name="Прямая со стрелкой 15"/>
          <p:cNvCxnSpPr/>
          <p:nvPr/>
        </p:nvCxnSpPr>
        <p:spPr>
          <a:xfrm>
            <a:off x="7143480" y="880560"/>
            <a:ext cx="500760" cy="273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4" name="TextBox 16"/>
          <p:cNvSpPr/>
          <p:nvPr/>
        </p:nvSpPr>
        <p:spPr>
          <a:xfrm>
            <a:off x="274680" y="4365720"/>
            <a:ext cx="8583480" cy="1373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познание тесным образом связано с таким явлением, как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флекс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размышления индивида о происходящем в его созн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Схема 1" descr=""/>
          <p:cNvPicPr/>
          <p:nvPr/>
        </p:nvPicPr>
        <p:blipFill>
          <a:blip r:embed="rId1"/>
          <a:stretch/>
        </p:blipFill>
        <p:spPr>
          <a:xfrm>
            <a:off x="353880" y="633240"/>
            <a:ext cx="8631360" cy="5438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627280" y="333360"/>
            <a:ext cx="633744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тадии развития самосозн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тие «Я» происходит в возрасте 1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2-м 3-м годам человек начинает отделять результат своих действий от действий других и чётко осознаёт себя как дея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 7-и годам формируется способность оценивать себя (самооценк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ростковый и юношеский возраст — этап активного самопознания, поиска себя, своего стиля. Завершается период формирования социально-нравственных оцен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C:\Users\Public\Pictures\Sample Pictures\ФЕНТЕЗИ\дети\babyk1020.jpg"/>
          <p:cNvPicPr/>
          <p:nvPr/>
        </p:nvPicPr>
        <p:blipFill>
          <a:blip r:embed="rId1"/>
          <a:stretch/>
        </p:blipFill>
        <p:spPr>
          <a:xfrm>
            <a:off x="108000" y="36360"/>
            <a:ext cx="2448000" cy="15303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C:\Users\НВ\Desktop\ро.jpg"/>
          <p:cNvPicPr/>
          <p:nvPr/>
        </p:nvPicPr>
        <p:blipFill>
          <a:blip r:embed="rId1"/>
          <a:stretch/>
        </p:blipFill>
        <p:spPr>
          <a:xfrm>
            <a:off x="241200" y="260280"/>
            <a:ext cx="2625840" cy="196056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625480" y="374400"/>
            <a:ext cx="650052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На формирование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самосознания влияю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68360" y="306864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и окружающих и статус в группе сверст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тношение «Я-реальное» и «Я-идеально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ценка результатов свое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8T17:41:09Z</dcterms:created>
  <dc:creator>НВ</dc:creator>
  <dc:description/>
  <dc:language>en-US</dc:language>
  <cp:lastModifiedBy>Надежда</cp:lastModifiedBy>
  <dcterms:modified xsi:type="dcterms:W3CDTF">2018-01-17T09:18:28Z</dcterms:modified>
  <cp:revision>15</cp:revision>
  <dc:subject/>
  <dc:title>Самосознание и социальное поведение</dc:title>
</cp:coreProperties>
</file>