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1AA0-0D45-4C06-A839-358F2C43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5DAC-C994-4611-9291-D7864B70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02BD7-1244-49FC-8BAE-F86701FB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10389-963F-42C0-8731-73893E8F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CFDE0-A95E-42B0-88E1-C0559929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7326B-290C-4391-B0F2-7AE52876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9E743-C891-401B-BEA5-A55CE58F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E56D2B-D727-4F6A-9C44-595997F8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ECF62F-49BF-4DB8-9F97-4303440C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EFB57E-F7BE-4E24-A8FF-65296C6A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8111E-AE97-4A22-8B26-DF4C04D78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799E6-D0D6-4F18-BDD1-3D246EDB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DE75-9B25-425A-B13A-DC2A6228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016515-52F4-49F1-80A1-8033F1AF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DB826-389E-4F31-B0E9-145B3B88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0AE7EC-FD42-488D-AF9D-11806A77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1B1822-BDEF-461A-A4DD-100BA86F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01FEBE-BE1F-4214-A52F-11B3E037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AA5DD2-11AB-4C4E-AFF3-9A22B4B7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04C41-B575-46D5-A08D-AFE5969B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D8A79-F7DE-4BB8-AB46-C6EDF338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99F86-CBFF-48AA-A63C-43B10CCD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E24E0-F97D-4B05-9EFB-9192A792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701C-F6C7-4864-A464-A6252A65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A1426-6134-4472-92B7-9A574A92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5870E-A40A-4C5D-B901-A71DDD4A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2B44E-5C34-4FAA-A76C-DFBB4517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F7DDC-AC05-4CF7-8C19-BB6C2911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CCC79-912B-4BA2-B713-154B4D99F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1D0C4-C063-414F-8B55-DF01937C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6AF8CE-5EF8-4B10-8314-7284E2FA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18EEC-E96A-45DB-A090-B53AB35A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72B18-C958-4C59-9671-A0F7A7B5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BCA0B-57F3-4ADC-8738-CA2715A2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ADBE-9399-4EC2-9750-80A5036A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DB8CBD-0C37-4DE5-8FB2-4CD50D8A2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C25F4A-F220-4CD3-B043-9F2FE7B5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B4AA2-CA9A-4D07-BED5-58757BC8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B3104-74D3-4732-A06D-889197235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34E56-7787-4C0D-94A1-80B07C74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7FB5D-595E-4336-A40A-FE417A5B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D7692-6BA3-4D6C-BBFE-57828B266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69216-D73B-47CA-ACA6-7716928F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68218-491C-4905-81AE-18A7EAC4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50DF5E-1749-44D3-8DF6-9AEB309D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9538-80A7-422E-B1F4-4643A5DC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2488C8-31A5-4CCF-9D8D-7A3A2399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DF069-E9EE-464C-977A-6A8D0066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290D9-85BD-426A-B6C3-C738E3560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7E259E-70C7-493B-B8FE-0779B237E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8E627-0122-41ED-AA9F-8FBCF9E9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DA000E-B130-4F3D-BC3C-9E423A3D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8D64C0-764E-497F-8F92-9668D661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F71B89-646F-4F7C-9423-C5A17411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8D7630-A6CD-4005-A42D-70987DE9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01A108-3989-4777-B2B3-80B394F7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CC68-CC95-4EE4-88C8-A2F47333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202D83-A596-4984-9556-0FE45BC4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51402A-B3F5-420F-87BF-820C2C89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96F1FE-15A2-4C9D-A09C-F03239C2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BEAE72-1453-485B-9343-8FCB2485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B75FCB-DB52-405A-91B6-3B18A991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900F80-64E3-41AE-AAF0-B34EB1A5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4B0340-28D3-4142-8F34-71CFC4F4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729FAE-0895-4297-96A9-698D07F1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E946E9-91F7-4F6F-805B-E12CA692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659CC6-CAE9-4BFA-AE62-B7BA9AB3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A8B3-248B-4AFB-A0F1-8B6C0F66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C86B71-8334-4E35-B9A1-421EC396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505266-FA0C-4F12-B22D-4228775E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02598E-83F0-4E59-8C57-76A0D56B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DF95B8-F84C-4559-B77E-BBB61F5C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3A6A8E-5B6A-4EF1-90E1-52A265EE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984908-B4DB-4255-8FA3-3FEBEE65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1E7F9C-F6B0-4B21-B53A-CF4814EA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B6050F-59CD-4CCE-BCDF-C8BE8DDA7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2E907E-7306-4ADA-83F9-E37B16BD1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E8A4D-0D43-4CC1-BD07-8E40D798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96AA5-5D88-4E7C-BBEA-C8245ABF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A634-7B70-4FAD-A4CB-A29CF72B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D650-C9FE-4C8F-A467-C3EC27AB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9F17-81DE-403E-BAC8-34A16766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D14E-3A1A-4D3C-84AC-0FFB5363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C681-DB39-4C31-8952-4EE421DF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270C-A425-4DCA-B7B2-33F09864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5F9B-5DAB-4688-990C-491A3D77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178C0-ECD3-4267-90DE-0A752893A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4E269-A40C-4C92-A24D-372A3DEA4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9AA33-9588-4C6F-B0C2-EEBB011D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532F3-2314-4172-A9D2-5E086F5B8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95B29-EDB4-4226-8417-A19CF96E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2AB9-9A7D-4D13-8AE6-24E1630A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E0EB8-2A89-4830-A53F-40C3990F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006D0-34B9-44D2-AE52-DBD49FFDE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5615C-2E20-429D-B32E-508A0FA9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C43A2-F18A-4968-887F-8CE68CA2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2DFE8-C916-4EF2-BCFC-D0CA9BFE5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B7F9C-97A2-4778-9C32-80C8F3537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9B72C-C23F-41C3-887A-3F592C77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C14A1-02FE-4628-B386-ECFA8F4D2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A1EA7-DCDA-4519-9B58-38D5888F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C0515-25D3-4F1F-8ECC-2D318955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D326-44B3-4225-A50B-2C5AEA3D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03E2B-281D-44A5-A99E-BF347DF9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DF9D0-0284-4F39-B5A2-A8358CEB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29C95-FA5F-4ED0-A1BB-667793EE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A300C-B158-4B34-9650-1919D2A2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565ED-19A5-46C3-A456-969B03E8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8A496-BFAD-418B-939F-A60A5E75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051DA-0D7E-4182-876B-FD2A94629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11F76-8D5E-406F-9FBB-F2EF10235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E385B-5290-4C98-A343-17D775675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E1FC5-0983-4D4C-9EB4-E50F6E6A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BB5E-7EC9-4F5A-82AA-F34A49E4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3762D-8441-410B-9140-BF9FA40AA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EB2AC-4AE5-42CF-9FC7-08731FA0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9E6E2-FA54-42D9-9F4C-38ACA2EF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64782-80B4-4A30-BC2E-CA6785B9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EDB34-6BA1-4543-A0DE-F8062707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D20EF-882B-49BC-A7D0-A58B4428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5D556-4610-416D-9CB2-1A6DE5FF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440CF-1F3B-42F1-8CF5-1690D78C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360CF-437B-4218-B7E2-C593E661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C0C56-B023-43F6-9E24-F16AB253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F410-678C-4025-B19A-EDE7F89D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1ED04-1CF2-450F-A568-1F9E6432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2213A-5A23-48BF-9EA3-B1326F3D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CAF88-B8FA-4F76-A9E5-6F472F35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5AC7A-D3DE-45DF-8A61-9BD9AED6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C2F0F-E3E7-4C46-9960-D9473FB69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A31EF-1F8C-40E2-BBC5-67C17189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C6BC0-01F5-4D45-9B32-F7C4C7201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BECA6-748D-41DD-8577-56E5B8D4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66A2A2-F7B1-4FA1-B206-83CA170A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8E1FE-526C-485E-8D85-5FF4F66FB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5BB0-3B99-4DA8-AF06-C6DF11CB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8FD6E-843E-45CD-A145-53EBEBBD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94395-810F-4463-989F-4959DFC9F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C93E7D-4F6B-4EAA-AFC4-FD47DCF9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A99B4-5702-4EE9-827C-987DFD03F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ACB3A-A374-4CAE-A7F6-FBF1B09F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57F63-3EAE-487D-9522-97793B61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AAF9B-9E3C-4627-9278-5F17938B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814E1-04AD-45FB-919E-61FF19E13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BEF94D-811A-45F6-9796-710DB2E8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92A2F-7CC5-479C-BD21-A536E09A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7E28-E74E-4A7E-9E3B-67EB7124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A91CE-FF6E-4AA1-A704-6EA03799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AB0EA-98C9-412D-9A35-56118E31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9FD45-5DF5-41D8-A74F-9C2BA1CE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E95CC-B1B9-4CA8-8C14-393B56A8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784735-7A43-4FF2-BD85-793DA780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CAF1B-9F24-47CC-B1D7-415E11BDD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6A271-D63C-4AEA-84E0-66C3F390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CCC95-357F-4411-8D65-C982A045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F0EBF-079A-4981-A89B-4D61F7E7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CD349-D454-4973-849E-642AB5CA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374E-CE58-422B-B144-E45550AE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63C08-DDBC-4F73-9EAE-27E39781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5BB2B-1E94-4424-AE23-B3773225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87AA3-4F37-412A-B3F9-B965867F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67359-E76A-48A9-8F97-F758FD3C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65B7B-BCE3-474D-A952-420339C2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F5423-6307-4CFA-990B-83E33CAD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885E4-D6E2-4769-B949-293A71B4F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CFD106-4044-4811-8B47-0F5CE4AB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B1C180-9432-4761-937F-CADDE9BB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CA8A2-42AA-4220-91A0-743D45BA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A4F9-CD6B-4F0B-8E73-36D89850C2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10DD-53F9-412C-AC83-031D8C89D8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843E-6D35-4C71-BAC5-B1D183CA57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C87C-B08B-4D97-A81E-1D99BED0A7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0C72-423B-4B0B-AC9C-EE1DB58784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502D-DBBE-49F6-947E-B28CD87C91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18E8-02D6-4B91-B7F2-7E413E6816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D394-351A-4403-8236-46314D9140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B29B-8F48-4754-B41D-E515ECBB7D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DB06-F800-4D1D-B4FD-EC4914F474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4720-1018-4657-A18D-300ADF4D91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6E15-A4B1-42E8-88F8-801150EE4F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85C0-CDEE-44D1-BAC7-0A6B2838B45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6329-F11C-45AE-B334-0A3C9F1D90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970840" cy="22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Самосознание и социальное повед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3" descr="C:\Users\НВ\Desktop\нгш.jpg"/>
          <p:cNvPicPr/>
          <p:nvPr/>
        </p:nvPicPr>
        <p:blipFill>
          <a:blip r:embed="rId1"/>
          <a:stretch/>
        </p:blipFill>
        <p:spPr>
          <a:xfrm>
            <a:off x="1116000" y="3068640"/>
            <a:ext cx="2808360" cy="28065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2" descr="C:\Users\НВ\Desktop\прол.jpg"/>
          <p:cNvPicPr/>
          <p:nvPr/>
        </p:nvPicPr>
        <p:blipFill>
          <a:blip r:embed="rId2"/>
          <a:stretch/>
        </p:blipFill>
        <p:spPr>
          <a:xfrm>
            <a:off x="5219640" y="4106880"/>
            <a:ext cx="342756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Функции самосо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68360" y="2708280"/>
            <a:ext cx="813600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познание — получение информации о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моционально-ценностное отношение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регуляция по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2" descr="C:\Users\НВ\Desktop\нрол.jpg"/>
          <p:cNvPicPr/>
          <p:nvPr/>
        </p:nvPicPr>
        <p:blipFill>
          <a:blip r:embed="rId1"/>
          <a:stretch/>
        </p:blipFill>
        <p:spPr>
          <a:xfrm>
            <a:off x="7380360" y="189000"/>
            <a:ext cx="1655640" cy="1849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Значение самосозн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68000" y="1125000"/>
            <a:ext cx="8496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ознание способствует достижению внутренней согласованности личности, тождественности самому себе в прошлом, настоящем и будущ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деляет характер и особенности интерпретации приобретённого оп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жит источником ожиданий относительно себя и своего 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95280" y="303840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амоисповед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вляется полным внутренним отчетом перед самим собой о том, что происходит с нами 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2" descr="C:\Users\НВ\Desktop\i.jpg"/>
          <p:cNvPicPr/>
          <p:nvPr/>
        </p:nvPicPr>
        <p:blipFill>
          <a:blip r:embed="rId1"/>
          <a:stretch/>
        </p:blipFill>
        <p:spPr>
          <a:xfrm>
            <a:off x="3635280" y="338040"/>
            <a:ext cx="2160720" cy="2700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о мнению ученых личность составляют 5 полноценных элемент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42920" y="1856880"/>
            <a:ext cx="87868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знавательный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уждения о самом себе, называемые самознанием, представлением самого себя или концепцией-я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нструментальный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держит совокупность умений и навыков, способности и сообразительность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отивационный</a:t>
            </a: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эмоциональный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Личный 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носится темперамент, являющийся продуктом генетической передачи и влияющий на характеристику поведения (энергия, сила, быстрота, изменчивость, подвижность, влияет на то, как выполняются каждодневные задания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Характер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это индивидуальное сочетание устойчивых особенностей личности, проявляющихся в типичных способах поведения.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Психологи выделяют 4 типа темперамен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ангвиник</a:t>
            </a: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ильный, уравновешенный, подвижный тип нервной системы. Энергичен, активен, доброжелателен, спокоен, находчив. Легко сходится с новыми людьм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Холерик</a:t>
            </a: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терпелив, вспыльчив, несдержан. Проявляет инициативу, активность, но часто не доводит дело до конц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легматик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 эмоционален,  невозмутим,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ается работоспособностью, терпением,  выдержкой, медлителен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еланхолик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бидчив, болезненно чувствителен, робок, мечтателе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716000" y="5229000"/>
            <a:ext cx="410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суа Вий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476360" y="2708280"/>
            <a:ext cx="73087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знаю, как на  мёд садятся му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знаю смерть, что рыщет, все гу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знаю книги, истины и слу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знаю все, но только не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C:\Users\НВ\Desktop\i.jpg"/>
          <p:cNvPicPr/>
          <p:nvPr/>
        </p:nvPicPr>
        <p:blipFill>
          <a:blip r:embed="rId1"/>
          <a:stretch/>
        </p:blipFill>
        <p:spPr>
          <a:xfrm>
            <a:off x="395280" y="115920"/>
            <a:ext cx="2089080" cy="2521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86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амосознание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сознание субъектом самого себя в отличие от иного — других субъектов и мира вообще; это осознание человеком своего общественного статуса и своих жизненно важных потребностей, мыслей, чувств, мотивов, инстинктов, переживаний, действ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C:\Users\НВ\Desktop\300_648152.jpg"/>
          <p:cNvPicPr/>
          <p:nvPr/>
        </p:nvPicPr>
        <p:blipFill>
          <a:blip r:embed="rId1"/>
          <a:stretch/>
        </p:blipFill>
        <p:spPr>
          <a:xfrm>
            <a:off x="6227640" y="4365720"/>
            <a:ext cx="2079720" cy="2382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Box 4"/>
          <p:cNvSpPr/>
          <p:nvPr/>
        </p:nvSpPr>
        <p:spPr>
          <a:xfrm>
            <a:off x="785880" y="357120"/>
            <a:ext cx="7500960" cy="265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амосозн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одна из форм сознания, проявляющаяся в единстве знания себя и отношения к с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амопозн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зучение личностью собственных психических и физических особен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5"/>
          <p:cNvSpPr/>
          <p:nvPr/>
        </p:nvSpPr>
        <p:spPr>
          <a:xfrm>
            <a:off x="785880" y="3500280"/>
            <a:ext cx="7643880" cy="265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ознание начинается с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амоузна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ние свойств собственной личности протекает в процессе деятельности и об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амооценк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моциональное отношение к собственному обра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амооценк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дставляет собой эмоциональное отношение к собственному обра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843280" y="2889360"/>
            <a:ext cx="6192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ооценка =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     успех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тяз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3" descr="C:\Users\НВ\Desktop\social_media_marketing.jpg"/>
          <p:cNvPicPr/>
          <p:nvPr/>
        </p:nvPicPr>
        <p:blipFill>
          <a:blip r:embed="rId1"/>
          <a:stretch/>
        </p:blipFill>
        <p:spPr>
          <a:xfrm>
            <a:off x="611280" y="2349360"/>
            <a:ext cx="2340000" cy="234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1"/>
          <p:cNvSpPr/>
          <p:nvPr/>
        </p:nvSpPr>
        <p:spPr>
          <a:xfrm>
            <a:off x="571680" y="357120"/>
            <a:ext cx="814356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отивы обращения к самооцен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2"/>
          <p:cNvSpPr/>
          <p:nvPr/>
        </p:nvSpPr>
        <p:spPr>
          <a:xfrm>
            <a:off x="274680" y="1341360"/>
            <a:ext cx="2643120" cy="100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ние себя (поиск точных знаний о себ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3"/>
          <p:cNvSpPr/>
          <p:nvPr/>
        </p:nvSpPr>
        <p:spPr>
          <a:xfrm>
            <a:off x="3762360" y="1341360"/>
            <a:ext cx="2214720" cy="1923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собственной значимости (поиск благоприятных знаний о себ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4"/>
          <p:cNvSpPr/>
          <p:nvPr/>
        </p:nvSpPr>
        <p:spPr>
          <a:xfrm>
            <a:off x="6858000" y="1187280"/>
            <a:ext cx="2000160" cy="2228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верка (соотнесение собственных знаний о себе с оценками своей личности окружающим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1" name="Прямая со стрелкой 6"/>
          <p:cNvCxnSpPr/>
          <p:nvPr/>
        </p:nvCxnSpPr>
        <p:spPr>
          <a:xfrm flipH="1">
            <a:off x="2266200" y="955440"/>
            <a:ext cx="592920" cy="322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2" name="Прямая со стрелкой 11"/>
          <p:cNvCxnSpPr>
            <a:endCxn id="589" idx="0"/>
          </p:cNvCxnSpPr>
          <p:nvPr/>
        </p:nvCxnSpPr>
        <p:spPr>
          <a:xfrm>
            <a:off x="4833720" y="955440"/>
            <a:ext cx="35640" cy="386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3" name="Прямая со стрелкой 15"/>
          <p:cNvCxnSpPr/>
          <p:nvPr/>
        </p:nvCxnSpPr>
        <p:spPr>
          <a:xfrm>
            <a:off x="7143480" y="880560"/>
            <a:ext cx="500760" cy="27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4" name="TextBox 16"/>
          <p:cNvSpPr/>
          <p:nvPr/>
        </p:nvSpPr>
        <p:spPr>
          <a:xfrm>
            <a:off x="274680" y="4365720"/>
            <a:ext cx="8583480" cy="1373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ознание тесным образом связано с таким явлением, как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ефлекс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размышления индивида о происходящем в его созн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Схема 1" descr=""/>
          <p:cNvPicPr/>
          <p:nvPr/>
        </p:nvPicPr>
        <p:blipFill>
          <a:blip r:embed="rId1"/>
          <a:stretch/>
        </p:blipFill>
        <p:spPr>
          <a:xfrm>
            <a:off x="353880" y="633240"/>
            <a:ext cx="8631360" cy="5438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627280" y="333360"/>
            <a:ext cx="6337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Стадии развития самосозн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6836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рытие «Я» происходит в возрасте 1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2-м 3-м годам человек начинает отделять результат своих действий от действий других и чётко осознаёт себя как дея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7-и годам формируется способность оценивать себя (самооценк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ростковый и юношеский возраст — этап активного самопознания, поиска себя, своего стиля. Завершается период формирования социально-нравственных оц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C:\Users\Public\Pictures\Sample Pictures\ФЕНТЕЗИ\дети\babyk1020.jpg"/>
          <p:cNvPicPr/>
          <p:nvPr/>
        </p:nvPicPr>
        <p:blipFill>
          <a:blip r:embed="rId1"/>
          <a:stretch/>
        </p:blipFill>
        <p:spPr>
          <a:xfrm>
            <a:off x="108000" y="36360"/>
            <a:ext cx="2448000" cy="1530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C:\Users\НВ\Desktop\ро.jpg"/>
          <p:cNvPicPr/>
          <p:nvPr/>
        </p:nvPicPr>
        <p:blipFill>
          <a:blip r:embed="rId1"/>
          <a:stretch/>
        </p:blipFill>
        <p:spPr>
          <a:xfrm>
            <a:off x="241200" y="260280"/>
            <a:ext cx="2625840" cy="196056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625480" y="374400"/>
            <a:ext cx="6500520" cy="17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На формирование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самосознания влияю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68360" y="306864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ценки окружающих и статус в группе сверст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отношение «Я-реальное» и «Я-идеально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ценка результатов свое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7:41:09Z</dcterms:created>
  <dc:creator>НВ</dc:creator>
  <dc:description/>
  <dc:language>en-US</dc:language>
  <cp:lastModifiedBy>Надежда</cp:lastModifiedBy>
  <dcterms:modified xsi:type="dcterms:W3CDTF">2018-01-17T09:18:28Z</dcterms:modified>
  <cp:revision>15</cp:revision>
  <dc:subject/>
  <dc:title>Самосознание и социальное поведение</dc:title>
</cp:coreProperties>
</file>