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png" ContentType="image/png"/>
  <Override PartName="/ppt/media/image24.gif" ContentType="image/gif"/>
  <Override PartName="/ppt/media/image16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0B05-09B7-4E59-870E-D9825BB454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4D71-EF64-431E-ABE6-7748A74D727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664F-A4E0-47D9-B4FC-704D46E47F3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83F7-8111-4B6D-8837-E05001E283A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805A-5C1F-4973-B97E-60D6D1AEFD5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0A36-0116-48BA-8695-2B5C0B13E5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176-3580-49D4-9E25-D41C3B79249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D9A6-6B33-4A11-8442-2331BAFD767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86A0-B070-4E1D-98EC-44EAF24E226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8C5D-511A-44BA-896B-C44A0688A95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0C6C-6236-4BB1-81EF-C7CA27EEB2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5AC4A-E6E0-4719-B258-DAFCADF5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57CE5-ED7F-41C5-BEB1-A9327DFB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EBA8C-FA4D-4F21-A24F-0149F1A3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E3C14-2BB1-43A9-B269-DB7952E1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FCED4-4689-4EA3-912D-E49F5F612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FFFD-97A3-4FA8-AFED-25E59705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0ED8-EE27-475D-9538-148E35E0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38DE-75D2-43A3-9F34-C45D5152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05A8-88EB-4BB9-9859-0416345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9A0-ABA0-4773-92AE-D08A34F2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01C4-6CBF-4F0B-B060-1443030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20A7F-78DA-43A1-B4CD-BD7CE32C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A2BD-3DCB-473C-9AE9-2E246913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D883-D6FC-4C1E-B4F1-6756DE6A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1D273-D19A-42EF-805F-65C2475C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D3902-0D0A-4E77-A26E-D733455C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060E3-2C9B-4954-89E5-39534BCF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97AEA-2644-4CB0-B3B1-75AEE0EF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3856-D296-4AF9-8EC7-474C58A2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3B857-DC60-4730-AB9D-BAE5A7B3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76A5C-484F-4CEA-89A2-4C8D6823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328EE-EA7F-411D-8EA2-F003157D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D56A-DE9D-4AD5-BEED-D4E37DE2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51D4E-5C76-4634-8387-7AECD62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5711-7793-4CE5-B802-6C52D3872F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A57E-8044-4016-B582-4FB55D0B7F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f.feelgood.com.ua/files/photo_album/Psych/Articles/shutterstock_244181561258651049_xwidth3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-fotki.yandex.ru/get/7/vibpxhgglzd.9f3/0_24218_4537c696_X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Картинка 71 из 30409">
            <a:hlinkClick r:id="rId1"/>
          </p:cNvPr>
          <p:cNvPicPr/>
          <p:nvPr/>
        </p:nvPicPr>
        <p:blipFill>
          <a:blip r:embed="rId2"/>
          <a:stretch/>
        </p:blipFill>
        <p:spPr>
          <a:xfrm rot="20658000">
            <a:off x="658800" y="1062000"/>
            <a:ext cx="3760920" cy="538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артинка 87 из 30409">
            <a:hlinkClick r:id="rId3"/>
          </p:cNvPr>
          <p:cNvPicPr/>
          <p:nvPr/>
        </p:nvPicPr>
        <p:blipFill>
          <a:blip r:embed="rId4"/>
          <a:stretch/>
        </p:blipFill>
        <p:spPr>
          <a:xfrm rot="450000">
            <a:off x="3843360" y="2068200"/>
            <a:ext cx="5076720" cy="3770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1447920" y="1522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динство свободы и ответственности лич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68360" y="4876920"/>
            <a:ext cx="8129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SimSun"/>
              </a:rPr>
              <a:t>Дети несут ответствен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SimSun"/>
              </a:rPr>
              <a:t>за порученные им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762120" y="903240"/>
            <a:ext cx="3929040" cy="2946600"/>
            <a:chOff x="762120" y="903240"/>
            <a:chExt cx="3929040" cy="2946600"/>
          </a:xfrm>
        </p:grpSpPr>
        <p:pic>
          <p:nvPicPr>
            <p:cNvPr id="158" name="Picture 3" descr=""/>
            <p:cNvPicPr/>
            <p:nvPr/>
          </p:nvPicPr>
          <p:blipFill>
            <a:blip r:embed="rId1"/>
            <a:stretch/>
          </p:blipFill>
          <p:spPr>
            <a:xfrm>
              <a:off x="762120" y="903240"/>
              <a:ext cx="3929040" cy="29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4"/>
            <p:cNvSpPr/>
            <p:nvPr/>
          </p:nvSpPr>
          <p:spPr>
            <a:xfrm>
              <a:off x="762120" y="903240"/>
              <a:ext cx="392904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072040" y="15228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76320" y="5284800"/>
            <a:ext cx="8343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  <a:ea typeface="SimSun"/>
              </a:rPr>
              <a:t>Дети несут ответствен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  <a:ea typeface="SimSun"/>
              </a:rPr>
              <a:t>за то, как они уча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4702320" y="123840"/>
            <a:ext cx="3916080" cy="4387680"/>
            <a:chOff x="4702320" y="123840"/>
            <a:chExt cx="3916080" cy="43876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4702320" y="123840"/>
              <a:ext cx="3916080" cy="43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702320" y="123840"/>
              <a:ext cx="3916080" cy="43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700520" y="4641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Ф. Решет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«Опять двой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566640" y="9907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76320" y="5029200"/>
            <a:ext cx="8691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92d050"/>
                </a:solidFill>
                <a:latin typeface="Times New Roman"/>
                <a:ea typeface="SimSun"/>
              </a:rPr>
              <a:t>Люди несут ответственность за все, что его окружает, в том числе за природ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76320" y="1984320"/>
            <a:ext cx="3929040" cy="2946600"/>
            <a:chOff x="76320" y="1984320"/>
            <a:chExt cx="3929040" cy="2946600"/>
          </a:xfrm>
        </p:grpSpPr>
        <p:pic>
          <p:nvPicPr>
            <p:cNvPr id="169" name="Picture 3" descr=""/>
            <p:cNvPicPr/>
            <p:nvPr/>
          </p:nvPicPr>
          <p:blipFill>
            <a:blip r:embed="rId1"/>
            <a:stretch/>
          </p:blipFill>
          <p:spPr>
            <a:xfrm>
              <a:off x="76320" y="1984320"/>
              <a:ext cx="3929040" cy="29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4"/>
            <p:cNvSpPr/>
            <p:nvPr/>
          </p:nvSpPr>
          <p:spPr>
            <a:xfrm>
              <a:off x="76320" y="1984320"/>
              <a:ext cx="392904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2549520" y="19080"/>
            <a:ext cx="4000680" cy="300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081840" y="914400"/>
            <a:ext cx="269064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676520" y="6858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istral"/>
              </a:rPr>
              <a:t>СВОБОДА И ОТВЕТСТВЕН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" y="19051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лонения человека от установленных социальных норм всегда вызывает определённую реакцию со стороны общества. Негативное отклонение вызывает наказание, которое также называют ответственностью человека за свою деятельность и её последствия. (уголовной, административной, материальной и др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image077"/>
          <p:cNvPicPr/>
          <p:nvPr/>
        </p:nvPicPr>
        <p:blipFill>
          <a:blip r:embed="rId1"/>
          <a:stretch/>
        </p:blipFill>
        <p:spPr>
          <a:xfrm>
            <a:off x="6781680" y="516240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7439040" cy="2376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тдавать себе отчет в последствиях совершаемых действий – внутренняя обязанность человека,                       свидетельствующая о его ответственности перед собой и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447920" y="1690560"/>
            <a:ext cx="7467480" cy="1922760"/>
          </a:xfrm>
          <a:prstGeom prst="rect">
            <a:avLst/>
          </a:prstGeom>
          <a:solidFill>
            <a:srgbClr val="ffffcc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юди не способные отдавать себе отчёт в последствиях совершаемых ими действий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 могут нести ответственность за свои действия!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дети, психически нездоровые люд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1" descr="1262619024_1253478543_5"/>
          <p:cNvPicPr/>
          <p:nvPr/>
        </p:nvPicPr>
        <p:blipFill>
          <a:blip r:embed="rId1"/>
          <a:stretch/>
        </p:blipFill>
        <p:spPr>
          <a:xfrm>
            <a:off x="1752480" y="3543480"/>
            <a:ext cx="2286000" cy="3270240"/>
          </a:xfrm>
          <a:prstGeom prst="rect">
            <a:avLst/>
          </a:prstGeom>
          <a:ln w="22320">
            <a:solidFill>
              <a:srgbClr val="339966"/>
            </a:solidFill>
            <a:miter/>
          </a:ln>
        </p:spPr>
      </p:pic>
      <p:pic>
        <p:nvPicPr>
          <p:cNvPr id="179" name="Picture 13" descr="9344555"/>
          <p:cNvPicPr/>
          <p:nvPr/>
        </p:nvPicPr>
        <p:blipFill>
          <a:blip r:embed="rId2"/>
          <a:stretch/>
        </p:blipFill>
        <p:spPr>
          <a:xfrm>
            <a:off x="5562720" y="3543480"/>
            <a:ext cx="2286000" cy="3251160"/>
          </a:xfrm>
          <a:prstGeom prst="rect">
            <a:avLst/>
          </a:prstGeom>
          <a:ln w="22320">
            <a:solidFill>
              <a:srgbClr val="ff6600"/>
            </a:solidFill>
            <a:miter/>
          </a:ln>
        </p:spPr>
      </p:pic>
    </p:spTree>
  </p:cSld>
  <p:transition spd="slow"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а означает ответственность. Вот почему большинство людей боится свободы. (Д.Б. Шо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Содержимое 4" descr="velvet_2_304.jpg"/>
          <p:cNvPicPr/>
          <p:nvPr/>
        </p:nvPicPr>
        <p:blipFill>
          <a:blip r:embed="rId1"/>
          <a:stretch/>
        </p:blipFill>
        <p:spPr>
          <a:xfrm>
            <a:off x="4572000" y="1828800"/>
            <a:ext cx="4343400" cy="3949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4" descr="i.jpg"/>
          <p:cNvPicPr/>
          <p:nvPr/>
        </p:nvPicPr>
        <p:blipFill>
          <a:blip r:embed="rId1"/>
          <a:stretch/>
        </p:blipFill>
        <p:spPr>
          <a:xfrm>
            <a:off x="304920" y="23623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952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обода состоит в том, чтобы зависеть только от законов. (Вольте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бода — это право делать всё, что дозволено законом.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арль Монтескь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Содержимое 4" descr="d300cbadb7e2.jpg"/>
          <p:cNvPicPr/>
          <p:nvPr/>
        </p:nvPicPr>
        <p:blipFill>
          <a:blip r:embed="rId1"/>
          <a:stretch/>
        </p:blipFill>
        <p:spPr>
          <a:xfrm>
            <a:off x="4724280" y="12952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771560" y="42228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Mistral"/>
              </a:rPr>
              <a:t>ВЫВО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676520" y="15238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а и ответственность – неразделимые понятия. Свобода – это выбор, но выбор осознанный, за который человек всегда ответственен. А человек, перекладывающий свою ответственность на других, сам отказывается от своей своб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uzzle3"/>
          <p:cNvSpPr/>
          <p:nvPr/>
        </p:nvSpPr>
        <p:spPr>
          <a:xfrm>
            <a:off x="6324480" y="3821040"/>
            <a:ext cx="865440" cy="11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uzzle2"/>
          <p:cNvSpPr/>
          <p:nvPr/>
        </p:nvSpPr>
        <p:spPr>
          <a:xfrm>
            <a:off x="6856560" y="4138560"/>
            <a:ext cx="1368360" cy="851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ем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uzzle3"/>
          <p:cNvSpPr/>
          <p:nvPr/>
        </p:nvSpPr>
        <p:spPr>
          <a:xfrm>
            <a:off x="7945560" y="3795840"/>
            <a:ext cx="865080" cy="1193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uzzle5"/>
          <p:cNvSpPr/>
          <p:nvPr/>
        </p:nvSpPr>
        <p:spPr>
          <a:xfrm>
            <a:off x="307800" y="4813200"/>
            <a:ext cx="1368720" cy="1082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Narrow"/>
              </a:rPr>
              <a:t>сигарет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uzzle4"/>
          <p:cNvSpPr/>
          <p:nvPr/>
        </p:nvSpPr>
        <p:spPr>
          <a:xfrm>
            <a:off x="7134120" y="4668840"/>
            <a:ext cx="812880" cy="141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че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uzzle5"/>
          <p:cNvSpPr/>
          <p:nvPr/>
        </p:nvSpPr>
        <p:spPr>
          <a:xfrm>
            <a:off x="7694640" y="4668840"/>
            <a:ext cx="1368360" cy="1082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бо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uzzle2"/>
          <p:cNvSpPr/>
          <p:nvPr/>
        </p:nvSpPr>
        <p:spPr>
          <a:xfrm>
            <a:off x="1046160" y="5838840"/>
            <a:ext cx="1368360" cy="851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алког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uzzle3"/>
          <p:cNvSpPr/>
          <p:nvPr/>
        </p:nvSpPr>
        <p:spPr>
          <a:xfrm>
            <a:off x="533520" y="5497560"/>
            <a:ext cx="865080" cy="1192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2f2f2"/>
                </a:solidFill>
                <a:latin typeface="Arial Rounded MT Bold"/>
              </a:rPr>
              <a:t>нарко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uzzle3"/>
          <p:cNvSpPr/>
          <p:nvPr/>
        </p:nvSpPr>
        <p:spPr>
          <a:xfrm>
            <a:off x="7945560" y="5354640"/>
            <a:ext cx="865080" cy="1192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руз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4" descr="BIG_Cat21"/>
          <p:cNvPicPr/>
          <p:nvPr/>
        </p:nvPicPr>
        <p:blipFill>
          <a:blip r:embed="rId1"/>
          <a:stretch/>
        </p:blipFill>
        <p:spPr>
          <a:xfrm>
            <a:off x="5638680" y="5065560"/>
            <a:ext cx="1067040" cy="77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BIG_Cat22"/>
          <p:cNvPicPr/>
          <p:nvPr/>
        </p:nvPicPr>
        <p:blipFill>
          <a:blip r:embed="rId2"/>
          <a:stretch/>
        </p:blipFill>
        <p:spPr>
          <a:xfrm>
            <a:off x="1647720" y="4900680"/>
            <a:ext cx="13716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ерите пример из художественных произведений, в котором бы описывалось ответственное поведени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Свобод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вобода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ецифический способ бытия человека, связанный с его способностью выбирать решение и совершать поступок в соответствии со своими целями, интересами, идеалами и оценками, основанными на осознании объективных свойств и отношений вещей, закономерностей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4" descr="st9buhvBmL.jpg"/>
          <p:cNvPicPr/>
          <p:nvPr/>
        </p:nvPicPr>
        <p:blipFill>
          <a:blip r:embed="rId1"/>
          <a:stretch/>
        </p:blipFill>
        <p:spPr>
          <a:xfrm>
            <a:off x="5029200" y="2743200"/>
            <a:ext cx="39625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76320" y="4343400"/>
            <a:ext cx="8713800" cy="1557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маленькие дети не несут ответственности за свои поступки?              (продумайте отв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2" descr="http://teacherstuff.org.uk/boycatapult.gif"/>
          <p:cNvPicPr/>
          <p:nvPr/>
        </p:nvPicPr>
        <p:blipFill>
          <a:blip r:embed="rId1"/>
          <a:stretch/>
        </p:blipFill>
        <p:spPr>
          <a:xfrm>
            <a:off x="76320" y="152280"/>
            <a:ext cx="3160440" cy="3456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203" name="Picture 14" descr="http://cs406726.userapi.com/v406726344/618/2JgCIbv4AzM.jpg"/>
          <p:cNvPicPr/>
          <p:nvPr/>
        </p:nvPicPr>
        <p:blipFill>
          <a:blip r:embed="rId2"/>
          <a:stretch/>
        </p:blipFill>
        <p:spPr>
          <a:xfrm>
            <a:off x="3581280" y="152280"/>
            <a:ext cx="5400720" cy="33721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175248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у можно рассматривать применительно ко всем сферам жизни общества- экономическая свобода, религиозная, интеллектуальная и т.д. и на всех его уровнях – свобода личности, наций, государств, 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чсми"/>
          <p:cNvPicPr/>
          <p:nvPr/>
        </p:nvPicPr>
        <p:blipFill>
          <a:blip r:embed="rId1"/>
          <a:stretch/>
        </p:blipFill>
        <p:spPr>
          <a:xfrm>
            <a:off x="5791320" y="152280"/>
            <a:ext cx="274320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17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Свобода и ответствен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Содержимое 6" descr="0a2a40e41a8e4762df003ce7727fd59b.jpg"/>
          <p:cNvPicPr/>
          <p:nvPr/>
        </p:nvPicPr>
        <p:blipFill>
          <a:blip r:embed="rId1"/>
          <a:stretch/>
        </p:blipFill>
        <p:spPr>
          <a:xfrm>
            <a:off x="304920" y="2438280"/>
            <a:ext cx="3886200" cy="285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6479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вобода и  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ве стороны сознательно деятельности человека. Свобода порождает ответственность, ответственность направляет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828800" y="11430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istral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обязанность, обязательство кого - либо перед кем - либо. Умение держать ответ за свои посту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Q3"/>
          <p:cNvPicPr/>
          <p:nvPr/>
        </p:nvPicPr>
        <p:blipFill>
          <a:blip r:embed="rId1"/>
          <a:stretch/>
        </p:blipFill>
        <p:spPr>
          <a:xfrm>
            <a:off x="1981080" y="3276720"/>
            <a:ext cx="556272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Ответственн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ость, принимаемая человеком как основа его личной нравственной позиции, выступает в качестве фундамента внутренней мотивации его поведения и поступ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одержимое 5" descr="48357019-031311_1306_1.jpg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3880" y="457200"/>
            <a:ext cx="7516800" cy="1440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ОТВЕТСТВЕННОСТЬ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черта характера личности и её действий, говорящая о том, что человек отвечает за свой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ВОБОДНЫЙ ВЫБОР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7020000" y="4508640"/>
            <a:ext cx="1895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тязь на распу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217340"/>
          <p:cNvPicPr/>
          <p:nvPr/>
        </p:nvPicPr>
        <p:blipFill>
          <a:blip r:embed="rId1"/>
          <a:stretch/>
        </p:blipFill>
        <p:spPr>
          <a:xfrm>
            <a:off x="250920" y="2438280"/>
            <a:ext cx="6378480" cy="4311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395280" y="404640"/>
            <a:ext cx="81835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"/>
          <p:cNvSpPr/>
          <p:nvPr/>
        </p:nvSpPr>
        <p:spPr>
          <a:xfrm>
            <a:off x="2541600" y="692280"/>
            <a:ext cx="3859200" cy="2089080"/>
          </a:xfrm>
          <a:prstGeom prst="ellipse">
            <a:avLst/>
          </a:prstGeom>
          <a:gradFill rotWithShape="0">
            <a:gsLst>
              <a:gs pos="0">
                <a:srgbClr val="ffe8c7"/>
              </a:gs>
              <a:gs pos="100000">
                <a:srgbClr val="ffc786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84360" y="1125360"/>
            <a:ext cx="39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Отношение ответств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AutoShape 4"/>
          <p:cNvCxnSpPr/>
          <p:nvPr/>
        </p:nvCxnSpPr>
        <p:spPr>
          <a:xfrm>
            <a:off x="5857920" y="2571840"/>
            <a:ext cx="1715040" cy="12866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144" name="AutoShape 5"/>
          <p:cNvCxnSpPr/>
          <p:nvPr/>
        </p:nvCxnSpPr>
        <p:spPr>
          <a:xfrm flipH="1">
            <a:off x="1447560" y="2428560"/>
            <a:ext cx="1705680" cy="14295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145" name="AutoShape 6"/>
          <p:cNvCxnSpPr>
            <a:endCxn id="146" idx="0"/>
          </p:cNvCxnSpPr>
          <p:nvPr/>
        </p:nvCxnSpPr>
        <p:spPr>
          <a:xfrm>
            <a:off x="4714560" y="2857320"/>
            <a:ext cx="5400" cy="10767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147" name="Rectangle 7"/>
          <p:cNvSpPr/>
          <p:nvPr/>
        </p:nvSpPr>
        <p:spPr>
          <a:xfrm>
            <a:off x="304920" y="3881520"/>
            <a:ext cx="266544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25360" y="3965400"/>
            <a:ext cx="27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е, перед кем человек 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419640" y="3933720"/>
            <a:ext cx="260028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289320" y="4151160"/>
            <a:ext cx="28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algn="ctr">
              <a:lnSpc>
                <a:spcPct val="100000"/>
              </a:lnSpc>
              <a:tabLst>
                <a:tab algn="l" pos="0"/>
                <a:tab algn="l" pos="8748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о, за что человек 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300720" y="3933720"/>
            <a:ext cx="253836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189840" y="422100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от, к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09480" y="4800600"/>
            <a:ext cx="82155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Родители несут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за своих дете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1787400" y="152280"/>
            <a:ext cx="5639040" cy="4356360"/>
            <a:chOff x="1787400" y="152280"/>
            <a:chExt cx="5639040" cy="435636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tretch/>
          </p:blipFill>
          <p:spPr>
            <a:xfrm>
              <a:off x="1787400" y="152280"/>
              <a:ext cx="5639040" cy="43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4"/>
            <p:cNvSpPr/>
            <p:nvPr/>
          </p:nvSpPr>
          <p:spPr>
            <a:xfrm>
              <a:off x="1787400" y="152280"/>
              <a:ext cx="56390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06T10:35:24Z</dcterms:modified>
  <cp:revision>27</cp:revision>
  <dc:subject/>
  <dc:title>Свобода в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