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6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5.png" ContentType="image/png"/>
  <Override PartName="/ppt/media/image24.gif" ContentType="image/gif"/>
  <Override PartName="/ppt/media/image16.jpeg" ContentType="image/jpeg"/>
  <Override PartName="/ppt/media/image23.gif" ContentType="image/gif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1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FFE6D-CFBD-4F03-8323-1BFB07BD30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B8793-C252-42FB-9B42-10039526474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5FE9-007B-4E0D-89F1-9D19BE036A9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SimSu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1F16-F04D-465B-8028-A4E605FEEDA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3478-7D71-46E3-ABB2-AA67A64B00D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D4E3-4E5A-4C79-9806-C0CA2FA0180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B234-7246-494E-BDE5-56FBCE2C72B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8BBC-0E51-48AC-B2F9-2876932713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416E-FE61-421D-BDD1-69302CA8EC1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2325-8380-4889-9DE0-95575DECEB9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1EA0-73E7-41CB-9EC7-32B07DA79C3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7858A-D20A-4A8A-9AE4-493CEDF0F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45026-EB28-47D6-8E16-776C10B7D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2CEE5-10F9-4D84-AC9D-F493E6D36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F4D2-D08D-467D-921C-322516A55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2772-F2DB-4C6E-992C-67B1CF1C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7A0C7-1760-4DDB-9613-12E56367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59D9-8B36-42E6-80C1-F6CFCA257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EB7E-6F5A-4402-88C9-BE997AEC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46CE-A01F-44DF-94F1-331053CF0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EF81-6747-40B2-982A-4B881221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A958-BCBC-4373-AE57-4D6248F0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E7851-8EA5-4319-BBBA-E3BFB9A9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B7D9-D04B-427E-A9DC-93BD1A7A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3A1F-7A5F-4636-BDE0-99D5F55F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EA723-D704-4A04-8EF9-EC142A1F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D8F-06F4-4368-933D-8D431FDC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C6CE0-7208-4B06-BE6F-6A2FEDEC1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9AE37-6CAD-4ECC-A8B9-B1375D1BD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42C7-EE5F-453E-930B-F63D24D3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3EDAE-B2B9-425F-80A7-5F4984D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A5BAD-4BAB-467C-8608-D514C697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A195A-55B1-49D8-9775-FA08F351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6C77F-FBF5-4C66-A9F1-ADB8C574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3322D-E124-4136-A1BB-D3B77842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EECA-6B1E-4E5B-A612-B18E2FBE37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9912-8119-406E-AEFF-618844441A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f.feelgood.com.ua/files/photo_album/Psych/Articles/shutterstock_244181561258651049_xwidth300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-fotki.yandex.ru/get/7/vibpxhgglzd.9f3/0_24218_4537c696_X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Картинка 71 из 30409">
            <a:hlinkClick r:id="rId1"/>
          </p:cNvPr>
          <p:cNvPicPr/>
          <p:nvPr/>
        </p:nvPicPr>
        <p:blipFill>
          <a:blip r:embed="rId2"/>
          <a:stretch/>
        </p:blipFill>
        <p:spPr>
          <a:xfrm rot="20658000">
            <a:off x="658800" y="1062000"/>
            <a:ext cx="3760920" cy="5388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Картинка 87 из 30409">
            <a:hlinkClick r:id="rId3"/>
          </p:cNvPr>
          <p:cNvPicPr/>
          <p:nvPr/>
        </p:nvPicPr>
        <p:blipFill>
          <a:blip r:embed="rId4"/>
          <a:stretch/>
        </p:blipFill>
        <p:spPr>
          <a:xfrm rot="450000">
            <a:off x="3843360" y="2068200"/>
            <a:ext cx="5076720" cy="37702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1"/>
          <p:cNvSpPr/>
          <p:nvPr/>
        </p:nvSpPr>
        <p:spPr>
          <a:xfrm>
            <a:off x="1447920" y="152280"/>
            <a:ext cx="7619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Единство свободы и ответственности личност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68360" y="4876920"/>
            <a:ext cx="81295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SimSun"/>
              </a:rPr>
              <a:t>Дети несут ответствен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SimSun"/>
              </a:rPr>
              <a:t>за порученные им де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" name="Group 2"/>
          <p:cNvGrpSpPr/>
          <p:nvPr/>
        </p:nvGrpSpPr>
        <p:grpSpPr>
          <a:xfrm>
            <a:off x="762120" y="903240"/>
            <a:ext cx="3929040" cy="2946600"/>
            <a:chOff x="762120" y="903240"/>
            <a:chExt cx="3929040" cy="2946600"/>
          </a:xfrm>
        </p:grpSpPr>
        <p:pic>
          <p:nvPicPr>
            <p:cNvPr id="158" name="Picture 3" descr=""/>
            <p:cNvPicPr/>
            <p:nvPr/>
          </p:nvPicPr>
          <p:blipFill>
            <a:blip r:embed="rId1"/>
            <a:stretch/>
          </p:blipFill>
          <p:spPr>
            <a:xfrm>
              <a:off x="762120" y="903240"/>
              <a:ext cx="3929040" cy="29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Text Box 4"/>
            <p:cNvSpPr/>
            <p:nvPr/>
          </p:nvSpPr>
          <p:spPr>
            <a:xfrm>
              <a:off x="762120" y="903240"/>
              <a:ext cx="392904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60" name="Picture 5" descr=""/>
          <p:cNvPicPr/>
          <p:nvPr/>
        </p:nvPicPr>
        <p:blipFill>
          <a:blip r:embed="rId2"/>
          <a:stretch/>
        </p:blipFill>
        <p:spPr>
          <a:xfrm>
            <a:off x="5072040" y="152280"/>
            <a:ext cx="3333600" cy="4448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2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76320" y="5284800"/>
            <a:ext cx="834372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  <a:ea typeface="SimSun"/>
              </a:rPr>
              <a:t>Дети несут ответственность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c000"/>
                </a:solidFill>
                <a:latin typeface="Times New Roman"/>
                <a:ea typeface="SimSun"/>
              </a:rPr>
              <a:t>за то, как они учатс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4702320" y="123840"/>
            <a:ext cx="3916080" cy="4387680"/>
            <a:chOff x="4702320" y="123840"/>
            <a:chExt cx="3916080" cy="4387680"/>
          </a:xfrm>
        </p:grpSpPr>
        <p:pic>
          <p:nvPicPr>
            <p:cNvPr id="163" name="Picture 3" descr=""/>
            <p:cNvPicPr/>
            <p:nvPr/>
          </p:nvPicPr>
          <p:blipFill>
            <a:blip r:embed="rId1"/>
            <a:stretch/>
          </p:blipFill>
          <p:spPr>
            <a:xfrm>
              <a:off x="4702320" y="123840"/>
              <a:ext cx="3916080" cy="43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Text Box 4"/>
            <p:cNvSpPr/>
            <p:nvPr/>
          </p:nvSpPr>
          <p:spPr>
            <a:xfrm>
              <a:off x="4702320" y="123840"/>
              <a:ext cx="3916080" cy="43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 Box 5"/>
          <p:cNvSpPr/>
          <p:nvPr/>
        </p:nvSpPr>
        <p:spPr>
          <a:xfrm>
            <a:off x="4700520" y="46418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SimSun"/>
              </a:rPr>
              <a:t>Ф. Решетник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SimSun"/>
              </a:rPr>
              <a:t>«Опять двой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2"/>
          <a:stretch/>
        </p:blipFill>
        <p:spPr>
          <a:xfrm>
            <a:off x="566640" y="990720"/>
            <a:ext cx="4000680" cy="3000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76320" y="5029200"/>
            <a:ext cx="869148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92d050"/>
                </a:solidFill>
                <a:latin typeface="Times New Roman"/>
                <a:ea typeface="SimSun"/>
              </a:rPr>
              <a:t>Люди несут ответственность за все, что его окружает, в том числе за природу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2"/>
          <p:cNvGrpSpPr/>
          <p:nvPr/>
        </p:nvGrpSpPr>
        <p:grpSpPr>
          <a:xfrm>
            <a:off x="76320" y="1984320"/>
            <a:ext cx="3929040" cy="2946600"/>
            <a:chOff x="76320" y="1984320"/>
            <a:chExt cx="3929040" cy="2946600"/>
          </a:xfrm>
        </p:grpSpPr>
        <p:pic>
          <p:nvPicPr>
            <p:cNvPr id="169" name="Picture 3" descr=""/>
            <p:cNvPicPr/>
            <p:nvPr/>
          </p:nvPicPr>
          <p:blipFill>
            <a:blip r:embed="rId1"/>
            <a:stretch/>
          </p:blipFill>
          <p:spPr>
            <a:xfrm>
              <a:off x="76320" y="1984320"/>
              <a:ext cx="3929040" cy="294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Text Box 4"/>
            <p:cNvSpPr/>
            <p:nvPr/>
          </p:nvSpPr>
          <p:spPr>
            <a:xfrm>
              <a:off x="76320" y="1984320"/>
              <a:ext cx="3929040" cy="294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1" name="Picture 5" descr=""/>
          <p:cNvPicPr/>
          <p:nvPr/>
        </p:nvPicPr>
        <p:blipFill>
          <a:blip r:embed="rId2"/>
          <a:stretch/>
        </p:blipFill>
        <p:spPr>
          <a:xfrm>
            <a:off x="2549520" y="19080"/>
            <a:ext cx="4000680" cy="3005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"/>
          <p:cNvPicPr/>
          <p:nvPr/>
        </p:nvPicPr>
        <p:blipFill>
          <a:blip r:embed="rId3"/>
          <a:stretch/>
        </p:blipFill>
        <p:spPr>
          <a:xfrm>
            <a:off x="6081840" y="914400"/>
            <a:ext cx="2690640" cy="40165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1676520" y="685800"/>
            <a:ext cx="716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Mistral"/>
              </a:rPr>
              <a:t>СВОБОДА И ОТВЕТСТВЕННОСТ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457200" y="190512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лонения человека от установленных социальных норм всегда вызывает определённую реакцию со стороны общества. Негативное отклонение вызывает наказание, которое также называют ответственностью человека за свою деятельность и её последствия. (уголовной, административной, материальной и др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6" descr="image077"/>
          <p:cNvPicPr/>
          <p:nvPr/>
        </p:nvPicPr>
        <p:blipFill>
          <a:blip r:embed="rId1"/>
          <a:stretch/>
        </p:blipFill>
        <p:spPr>
          <a:xfrm>
            <a:off x="6781680" y="5162400"/>
            <a:ext cx="190512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447920" y="228240"/>
            <a:ext cx="7439040" cy="237636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тдавать себе отчет в последствиях совершаемых действий – внутренняя обязанность человека,                       свидетельствующая о его ответственности перед собой и другими людь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"/>
          <p:cNvSpPr/>
          <p:nvPr/>
        </p:nvSpPr>
        <p:spPr>
          <a:xfrm>
            <a:off x="1447920" y="1690560"/>
            <a:ext cx="7467480" cy="1922760"/>
          </a:xfrm>
          <a:prstGeom prst="rect">
            <a:avLst/>
          </a:prstGeom>
          <a:solidFill>
            <a:srgbClr val="ffffcc"/>
          </a:solidFill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Люди не способные отдавать себе отчёт в последствиях совершаемых ими действий </a:t>
            </a:r>
            <a:r>
              <a:rPr b="1" i="1" lang="ru-RU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не могут нести ответственность за свои действия!</a:t>
            </a: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                                                                      </a:t>
            </a:r>
            <a:r>
              <a:rPr b="1" lang="ru-RU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(дети, психически нездоровые люд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11" descr="1262619024_1253478543_5"/>
          <p:cNvPicPr/>
          <p:nvPr/>
        </p:nvPicPr>
        <p:blipFill>
          <a:blip r:embed="rId1"/>
          <a:stretch/>
        </p:blipFill>
        <p:spPr>
          <a:xfrm>
            <a:off x="1752480" y="3543480"/>
            <a:ext cx="2286000" cy="3270240"/>
          </a:xfrm>
          <a:prstGeom prst="rect">
            <a:avLst/>
          </a:prstGeom>
          <a:ln w="22320">
            <a:solidFill>
              <a:srgbClr val="339966"/>
            </a:solidFill>
            <a:miter/>
          </a:ln>
        </p:spPr>
      </p:pic>
      <p:pic>
        <p:nvPicPr>
          <p:cNvPr id="179" name="Picture 13" descr="9344555"/>
          <p:cNvPicPr/>
          <p:nvPr/>
        </p:nvPicPr>
        <p:blipFill>
          <a:blip r:embed="rId2"/>
          <a:stretch/>
        </p:blipFill>
        <p:spPr>
          <a:xfrm>
            <a:off x="5562720" y="3543480"/>
            <a:ext cx="2286000" cy="3251160"/>
          </a:xfrm>
          <a:prstGeom prst="rect">
            <a:avLst/>
          </a:prstGeom>
          <a:ln w="22320">
            <a:solidFill>
              <a:srgbClr val="ff6600"/>
            </a:solidFill>
            <a:miter/>
          </a:ln>
        </p:spPr>
      </p:pic>
    </p:spTree>
  </p:cSld>
  <p:transition spd="slow">
    <p:wheel spokes="1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-36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обода означает ответственность. Вот почему большинство людей боится свободы. (Д.Б. Шо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Содержимое 4" descr="velvet_2_304.jpg"/>
          <p:cNvPicPr/>
          <p:nvPr/>
        </p:nvPicPr>
        <p:blipFill>
          <a:blip r:embed="rId1"/>
          <a:stretch/>
        </p:blipFill>
        <p:spPr>
          <a:xfrm>
            <a:off x="4572000" y="1828800"/>
            <a:ext cx="4343400" cy="39495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одержимое 4" descr="i.jpg"/>
          <p:cNvPicPr/>
          <p:nvPr/>
        </p:nvPicPr>
        <p:blipFill>
          <a:blip r:embed="rId1"/>
          <a:stretch/>
        </p:blipFill>
        <p:spPr>
          <a:xfrm>
            <a:off x="304920" y="2362320"/>
            <a:ext cx="4267080" cy="335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 txBox="1"/>
          <p:nvPr/>
        </p:nvSpPr>
        <p:spPr>
          <a:xfrm>
            <a:off x="4952520" y="198108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вобода состоит в том, чтобы зависеть только от законов. (Вольтер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5192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обода — это право делать всё, что дозволено законом.</a:t>
            </a:r>
            <a:r>
              <a:rPr b="1" i="1" lang="ru-RU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Шарль Монтескь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Содержимое 4" descr="d300cbadb7e2.jpg"/>
          <p:cNvPicPr/>
          <p:nvPr/>
        </p:nvPicPr>
        <p:blipFill>
          <a:blip r:embed="rId1"/>
          <a:stretch/>
        </p:blipFill>
        <p:spPr>
          <a:xfrm>
            <a:off x="4724280" y="1295280"/>
            <a:ext cx="4191120" cy="53341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4"/>
          <p:cNvSpPr/>
          <p:nvPr/>
        </p:nvSpPr>
        <p:spPr>
          <a:xfrm>
            <a:off x="1771560" y="422280"/>
            <a:ext cx="58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ff0000"/>
                </a:solidFill>
                <a:uFillTx/>
                <a:latin typeface="Mistral"/>
              </a:rPr>
              <a:t>ВЫВОД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676520" y="152388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обода и ответственность – неразделимые понятия. Свобода – это выбор, но выбор осознанный, за который человек всегда ответственен. А человек, перекладывающий свою ответственность на других, сам отказывается от своей свобо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uzzle3"/>
          <p:cNvSpPr/>
          <p:nvPr/>
        </p:nvSpPr>
        <p:spPr>
          <a:xfrm>
            <a:off x="6324480" y="3821040"/>
            <a:ext cx="865440" cy="11905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спор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uzzle2"/>
          <p:cNvSpPr/>
          <p:nvPr/>
        </p:nvSpPr>
        <p:spPr>
          <a:xfrm>
            <a:off x="6856560" y="4138560"/>
            <a:ext cx="1368360" cy="85104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 Narrow"/>
              </a:rPr>
              <a:t>семь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uzzle3"/>
          <p:cNvSpPr/>
          <p:nvPr/>
        </p:nvSpPr>
        <p:spPr>
          <a:xfrm>
            <a:off x="7945560" y="3795840"/>
            <a:ext cx="865080" cy="119376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де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uzzle5"/>
          <p:cNvSpPr/>
          <p:nvPr/>
        </p:nvSpPr>
        <p:spPr>
          <a:xfrm>
            <a:off x="307800" y="4813200"/>
            <a:ext cx="1368720" cy="10828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 Narrow"/>
              </a:rPr>
              <a:t>сигареты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uzzle4"/>
          <p:cNvSpPr/>
          <p:nvPr/>
        </p:nvSpPr>
        <p:spPr>
          <a:xfrm>
            <a:off x="7134120" y="4668840"/>
            <a:ext cx="812880" cy="141444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учеб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uzzle5"/>
          <p:cNvSpPr/>
          <p:nvPr/>
        </p:nvSpPr>
        <p:spPr>
          <a:xfrm>
            <a:off x="7694640" y="4668840"/>
            <a:ext cx="1368360" cy="108252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рабо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uzzle2"/>
          <p:cNvSpPr/>
          <p:nvPr/>
        </p:nvSpPr>
        <p:spPr>
          <a:xfrm>
            <a:off x="1046160" y="5838840"/>
            <a:ext cx="1368360" cy="8510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 Narrow"/>
              </a:rPr>
              <a:t>алкого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uzzle3"/>
          <p:cNvSpPr/>
          <p:nvPr/>
        </p:nvSpPr>
        <p:spPr>
          <a:xfrm>
            <a:off x="533520" y="5497560"/>
            <a:ext cx="865080" cy="119232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2f2f2"/>
                </a:solidFill>
                <a:latin typeface="Arial Rounded MT Bold"/>
              </a:rPr>
              <a:t>наркот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uzzle3"/>
          <p:cNvSpPr/>
          <p:nvPr/>
        </p:nvSpPr>
        <p:spPr>
          <a:xfrm>
            <a:off x="7945560" y="5354640"/>
            <a:ext cx="865080" cy="11923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 Narrow"/>
              </a:rPr>
              <a:t>друзь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14" descr="BIG_Cat21"/>
          <p:cNvPicPr/>
          <p:nvPr/>
        </p:nvPicPr>
        <p:blipFill>
          <a:blip r:embed="rId1"/>
          <a:stretch/>
        </p:blipFill>
        <p:spPr>
          <a:xfrm>
            <a:off x="5638680" y="5065560"/>
            <a:ext cx="1067040" cy="773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BIG_Cat22"/>
          <p:cNvPicPr/>
          <p:nvPr/>
        </p:nvPicPr>
        <p:blipFill>
          <a:blip r:embed="rId2"/>
          <a:stretch/>
        </p:blipFill>
        <p:spPr>
          <a:xfrm>
            <a:off x="1647720" y="4900680"/>
            <a:ext cx="1371600" cy="838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берите пример из художественных произведений, в котором бы описывалось ответственное поведение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машнее задание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7632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Свобода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вобода-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специфический способ бытия человека, связанный с его способностью выбирать решение и совершать поступок в соответствии со своими целями, интересами, идеалами и оценками, основанными на осознании объективных свойств и отношений вещей, закономерностей окружающего ми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одержимое 4" descr="st9buhvBmL.jpg"/>
          <p:cNvPicPr/>
          <p:nvPr/>
        </p:nvPicPr>
        <p:blipFill>
          <a:blip r:embed="rId1"/>
          <a:stretch/>
        </p:blipFill>
        <p:spPr>
          <a:xfrm>
            <a:off x="5029200" y="2743200"/>
            <a:ext cx="3962520" cy="30448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4"/>
          <p:cNvSpPr/>
          <p:nvPr/>
        </p:nvSpPr>
        <p:spPr>
          <a:xfrm>
            <a:off x="76320" y="4343400"/>
            <a:ext cx="8713800" cy="155736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му маленькие дети не несут ответственности за свои поступки?              (продумайте ответ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12" descr="http://teacherstuff.org.uk/boycatapult.gif"/>
          <p:cNvPicPr/>
          <p:nvPr/>
        </p:nvPicPr>
        <p:blipFill>
          <a:blip r:embed="rId1"/>
          <a:stretch/>
        </p:blipFill>
        <p:spPr>
          <a:xfrm>
            <a:off x="76320" y="152280"/>
            <a:ext cx="3160440" cy="34560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pic>
        <p:nvPicPr>
          <p:cNvPr id="203" name="Picture 14" descr="http://cs406726.userapi.com/v406726344/618/2JgCIbv4AzM.jpg"/>
          <p:cNvPicPr/>
          <p:nvPr/>
        </p:nvPicPr>
        <p:blipFill>
          <a:blip r:embed="rId2"/>
          <a:stretch/>
        </p:blipFill>
        <p:spPr>
          <a:xfrm>
            <a:off x="3581280" y="152280"/>
            <a:ext cx="5400720" cy="33721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47920" y="1752480"/>
            <a:ext cx="73152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вободу можно рассматривать применительно ко всем сферам жизни общества- экономическая свобода, религиозная, интеллектуальная и т.д. и на всех его уровнях – свобода личности, наций, государств, обществ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5" descr="чсми"/>
          <p:cNvPicPr/>
          <p:nvPr/>
        </p:nvPicPr>
        <p:blipFill>
          <a:blip r:embed="rId1"/>
          <a:stretch/>
        </p:blipFill>
        <p:spPr>
          <a:xfrm>
            <a:off x="5791320" y="152280"/>
            <a:ext cx="2743200" cy="1768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76160" y="1764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Свобода и ответственность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Содержимое 6" descr="0a2a40e41a8e4762df003ce7727fd59b.jpg"/>
          <p:cNvPicPr/>
          <p:nvPr/>
        </p:nvPicPr>
        <p:blipFill>
          <a:blip r:embed="rId1"/>
          <a:stretch/>
        </p:blipFill>
        <p:spPr>
          <a:xfrm>
            <a:off x="304920" y="2438280"/>
            <a:ext cx="3886200" cy="2851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64796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вобода и   ответственнос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ве стороны сознательно деятельности человека. Свобода порождает ответственность, ответственность направляет свобод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828800" y="1143000"/>
            <a:ext cx="6781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Mistral"/>
              </a:rPr>
              <a:t>ОТВЕТСТВЕННОС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это обязанность, обязательство кого - либо перед кем - либо. Умение держать ответ за свои поступ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5" descr="Q3"/>
          <p:cNvPicPr/>
          <p:nvPr/>
        </p:nvPicPr>
        <p:blipFill>
          <a:blip r:embed="rId1"/>
          <a:stretch/>
        </p:blipFill>
        <p:spPr>
          <a:xfrm>
            <a:off x="1981080" y="3276720"/>
            <a:ext cx="5562720" cy="335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76160" y="151920"/>
            <a:ext cx="70102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ff0000"/>
                </a:solidFill>
                <a:uFillTx/>
                <a:latin typeface="Monotype Corsiva"/>
                <a:ea typeface="Times New Roman"/>
              </a:rPr>
              <a:t>Ответственност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52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ость, принимаемая человеком как основа его личной нравственной позиции, выступает в качестве фундамента внутренней мотивации его поведения и поступк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Содержимое 5" descr="48357019-031311_1306_1.jpg"/>
          <p:cNvPicPr/>
          <p:nvPr/>
        </p:nvPicPr>
        <p:blipFill>
          <a:blip r:embed="rId1"/>
          <a:stretch/>
        </p:blipFill>
        <p:spPr>
          <a:xfrm>
            <a:off x="4952880" y="2133720"/>
            <a:ext cx="3962520" cy="33829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3880" y="457200"/>
            <a:ext cx="7516800" cy="144000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ОТВЕТСТВЕННОСТЬ</a:t>
            </a:r>
            <a:r>
              <a:rPr b="1" i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– это черта характера личности и её действий, говорящая о том, что человек отвечает за свой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СВОБОДНЫЙ ВЫБОР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7020000" y="4508640"/>
            <a:ext cx="1895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тязь на распуть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15" descr="217340"/>
          <p:cNvPicPr/>
          <p:nvPr/>
        </p:nvPicPr>
        <p:blipFill>
          <a:blip r:embed="rId1"/>
          <a:stretch/>
        </p:blipFill>
        <p:spPr>
          <a:xfrm>
            <a:off x="250920" y="2438280"/>
            <a:ext cx="6378480" cy="4311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395280" y="404640"/>
            <a:ext cx="818352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2"/>
          <p:cNvSpPr/>
          <p:nvPr/>
        </p:nvSpPr>
        <p:spPr>
          <a:xfrm>
            <a:off x="2541600" y="692280"/>
            <a:ext cx="3859200" cy="2089080"/>
          </a:xfrm>
          <a:prstGeom prst="ellipse">
            <a:avLst/>
          </a:prstGeom>
          <a:gradFill rotWithShape="0">
            <a:gsLst>
              <a:gs pos="0">
                <a:srgbClr val="ffe8c7"/>
              </a:gs>
              <a:gs pos="100000">
                <a:srgbClr val="ffc786"/>
              </a:gs>
            </a:gsLst>
            <a:lin ang="16200000"/>
          </a:gradFill>
          <a:ln w="9360">
            <a:solidFill>
              <a:srgbClr val="db9d3f"/>
            </a:solidFill>
            <a:miter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84360" y="1125360"/>
            <a:ext cx="39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SimSun"/>
              </a:rPr>
              <a:t>Отношение ответствен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43" name="AutoShape 4"/>
          <p:cNvCxnSpPr/>
          <p:nvPr/>
        </p:nvCxnSpPr>
        <p:spPr>
          <a:xfrm>
            <a:off x="5857920" y="2571840"/>
            <a:ext cx="1715040" cy="128664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144" name="AutoShape 5"/>
          <p:cNvCxnSpPr/>
          <p:nvPr/>
        </p:nvCxnSpPr>
        <p:spPr>
          <a:xfrm flipH="1">
            <a:off x="1447560" y="2428560"/>
            <a:ext cx="1705680" cy="14295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cxnSp>
        <p:nvCxnSpPr>
          <p:cNvPr id="145" name="AutoShape 6"/>
          <p:cNvCxnSpPr>
            <a:endCxn id="146" idx="0"/>
          </p:cNvCxnSpPr>
          <p:nvPr/>
        </p:nvCxnSpPr>
        <p:spPr>
          <a:xfrm>
            <a:off x="4714560" y="2857320"/>
            <a:ext cx="5400" cy="1076760"/>
          </a:xfrm>
          <a:prstGeom prst="straightConnector1">
            <a:avLst/>
          </a:prstGeom>
          <a:ln w="38160">
            <a:solidFill>
              <a:srgbClr val="ff8000"/>
            </a:solidFill>
            <a:miter/>
            <a:tailEnd len="med" type="triangle" w="med"/>
          </a:ln>
        </p:spPr>
      </p:cxnSp>
      <p:sp>
        <p:nvSpPr>
          <p:cNvPr id="147" name="Rectangle 7"/>
          <p:cNvSpPr/>
          <p:nvPr/>
        </p:nvSpPr>
        <p:spPr>
          <a:xfrm>
            <a:off x="304920" y="3881520"/>
            <a:ext cx="2665440" cy="1727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25360" y="3965400"/>
            <a:ext cx="274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е, перед кем человек несёт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419640" y="3933720"/>
            <a:ext cx="2600280" cy="1727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289320" y="4151160"/>
            <a:ext cx="286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algn="ctr">
              <a:lnSpc>
                <a:spcPct val="100000"/>
              </a:lnSpc>
              <a:tabLst>
                <a:tab algn="l" pos="0"/>
                <a:tab algn="l" pos="87480"/>
                <a:tab algn="l" pos="1001880"/>
                <a:tab algn="l" pos="1916280"/>
                <a:tab algn="l" pos="2830680"/>
                <a:tab algn="l" pos="3745080"/>
                <a:tab algn="l" pos="4659480"/>
                <a:tab algn="l" pos="5573880"/>
                <a:tab algn="l" pos="6488280"/>
                <a:tab algn="l" pos="7402680"/>
                <a:tab algn="l" pos="8317080"/>
                <a:tab algn="l" pos="9231480"/>
                <a:tab algn="l" pos="1014588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о, за что человек несёт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6300720" y="3933720"/>
            <a:ext cx="2538360" cy="1727280"/>
          </a:xfrm>
          <a:prstGeom prst="rect">
            <a:avLst/>
          </a:prstGeom>
          <a:solidFill>
            <a:srgbClr val="ffffff"/>
          </a:solidFill>
          <a:ln w="42480">
            <a:solidFill>
              <a:srgbClr val="c198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6189840" y="4221000"/>
            <a:ext cx="275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Тот, кт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несёт ответственно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09480" y="4800600"/>
            <a:ext cx="821556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2880" rIns="90000" tIns="91440" bIns="46800" anchor="t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Родители несут ответствен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647640"/>
                <a:tab algn="l" pos="1562040"/>
                <a:tab algn="l" pos="2476440"/>
                <a:tab algn="l" pos="3390840"/>
                <a:tab algn="l" pos="4305240"/>
                <a:tab algn="l" pos="5219640"/>
                <a:tab algn="l" pos="6134040"/>
                <a:tab algn="l" pos="7048440"/>
                <a:tab algn="l" pos="7962840"/>
                <a:tab algn="l" pos="8877240"/>
                <a:tab algn="l" pos="979164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SimSun"/>
              </a:rPr>
              <a:t>за своих дете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2"/>
          <p:cNvGrpSpPr/>
          <p:nvPr/>
        </p:nvGrpSpPr>
        <p:grpSpPr>
          <a:xfrm>
            <a:off x="1787400" y="152280"/>
            <a:ext cx="5639040" cy="4356360"/>
            <a:chOff x="1787400" y="152280"/>
            <a:chExt cx="5639040" cy="4356360"/>
          </a:xfrm>
        </p:grpSpPr>
        <p:pic>
          <p:nvPicPr>
            <p:cNvPr id="154" name="Picture 3" descr=""/>
            <p:cNvPicPr/>
            <p:nvPr/>
          </p:nvPicPr>
          <p:blipFill>
            <a:blip r:embed="rId1"/>
            <a:stretch/>
          </p:blipFill>
          <p:spPr>
            <a:xfrm>
              <a:off x="1787400" y="152280"/>
              <a:ext cx="5639040" cy="43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 Box 4"/>
            <p:cNvSpPr/>
            <p:nvPr/>
          </p:nvSpPr>
          <p:spPr>
            <a:xfrm>
              <a:off x="1787400" y="152280"/>
              <a:ext cx="5639040" cy="43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7-08-06T10:35:24Z</dcterms:modified>
  <cp:revision>27</cp:revision>
  <dc:subject/>
  <dc:title>Свобода в деятель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