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CE76-B069-4F7E-9B49-0FAAFAD9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D76-F04E-48A4-B341-D4A5900A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9277-59BB-417C-B637-26AA36E0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6D09-B5A3-4329-B680-5014087D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82C-0C8D-436F-A0C5-607B2306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2121-3BD1-4472-8CE5-1E9228F3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4743-C2DF-44DD-93D8-909D773C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DC50-87C1-4F27-A31D-B443018D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4BD-92AD-4872-9CE3-5DE8934D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1D7-D1D9-4B05-AD8B-69580DD9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95C7-CB40-4369-9EFE-0F0EAD65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81C4-0E68-489E-AF2C-87A71ED5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56F3-CCD3-4490-AE7F-8F93EB1C5B5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-92160" y="1085760"/>
            <a:ext cx="9674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76320" y="763560"/>
            <a:ext cx="52578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ерховный суд РФ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является высшим судебным органом по гражданским, уголовным и административным делам, подсудным судам общей юрисди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идиум Верховного Суда Российской Федерации состоит из 13 су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ндидатура на должность судьи: возраст не менее 25 лет, высшее юридическое образование, стаж работы в юридической сфере не менее 5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v-sud"/>
          <p:cNvPicPr/>
          <p:nvPr/>
        </p:nvPicPr>
        <p:blipFill>
          <a:blip r:embed="rId1"/>
          <a:stretch/>
        </p:blipFill>
        <p:spPr>
          <a:xfrm>
            <a:off x="5943600" y="1752480"/>
            <a:ext cx="305748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731704"/>
          <p:cNvPicPr/>
          <p:nvPr/>
        </p:nvPicPr>
        <p:blipFill>
          <a:blip r:embed="rId2"/>
          <a:stretch/>
        </p:blipFill>
        <p:spPr>
          <a:xfrm>
            <a:off x="5334120" y="152280"/>
            <a:ext cx="2466720" cy="2181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05_05_2008_00_05_08_court1"/>
          <p:cNvPicPr/>
          <p:nvPr/>
        </p:nvPicPr>
        <p:blipFill>
          <a:blip r:embed="rId3"/>
          <a:stretch/>
        </p:blipFill>
        <p:spPr>
          <a:xfrm>
            <a:off x="5410080" y="4114800"/>
            <a:ext cx="32004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98280" y="1628640"/>
            <a:ext cx="54104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нституционный Суд РФ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это судебный орган конституционного контроля, самостоятельно осуществляющий судебную власть посредством конституционного судо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ституционный Суд РФ состоит из 19 суд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600"/>
          <p:cNvPicPr/>
          <p:nvPr/>
        </p:nvPicPr>
        <p:blipFill>
          <a:blip r:embed="rId1"/>
          <a:stretch/>
        </p:blipFill>
        <p:spPr>
          <a:xfrm>
            <a:off x="6019920" y="1752480"/>
            <a:ext cx="294300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bc383738a079897828ba5ca612927b34_big"/>
          <p:cNvPicPr/>
          <p:nvPr/>
        </p:nvPicPr>
        <p:blipFill>
          <a:blip r:embed="rId2"/>
          <a:stretch/>
        </p:blipFill>
        <p:spPr>
          <a:xfrm>
            <a:off x="5562720" y="152280"/>
            <a:ext cx="1952640" cy="2438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1636"/>
          <p:cNvPicPr/>
          <p:nvPr/>
        </p:nvPicPr>
        <p:blipFill>
          <a:blip r:embed="rId3"/>
          <a:stretch/>
        </p:blipFill>
        <p:spPr>
          <a:xfrm>
            <a:off x="5486400" y="4038480"/>
            <a:ext cx="3352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-12600" y="2011320"/>
            <a:ext cx="49528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сший Арбитражный Суд РФ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ВАС РФ) — высший судебный орган по разрешению экономических сп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и ВАС РФ: защита нарушенных или оспариваемых прав и законных интересов предприятий, учреждений, организаций и граждан в сфере предпринимательской и иной эконом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arbitrag"/>
          <p:cNvPicPr/>
          <p:nvPr/>
        </p:nvPicPr>
        <p:blipFill>
          <a:blip r:embed="rId1"/>
          <a:stretch/>
        </p:blipFill>
        <p:spPr>
          <a:xfrm>
            <a:off x="5029200" y="685800"/>
            <a:ext cx="3895560" cy="3200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20090303042539-7703"/>
          <p:cNvPicPr/>
          <p:nvPr/>
        </p:nvPicPr>
        <p:blipFill>
          <a:blip r:embed="rId2"/>
          <a:stretch/>
        </p:blipFill>
        <p:spPr>
          <a:xfrm>
            <a:off x="5029200" y="685800"/>
            <a:ext cx="144792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87A23EFBCE1D5209267670356BD842F9_1_1200"/>
          <p:cNvPicPr/>
          <p:nvPr/>
        </p:nvPicPr>
        <p:blipFill>
          <a:blip r:embed="rId3"/>
          <a:stretch/>
        </p:blipFill>
        <p:spPr>
          <a:xfrm>
            <a:off x="5029200" y="3962520"/>
            <a:ext cx="3886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152280" y="457200"/>
            <a:ext cx="57913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куратура РФ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это единая централизованная система с подчинением нижестоящих прокуроров вышестоящим и Генеральному прокуро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 u="sng">
                <a:solidFill>
                  <a:srgbClr val="ff5757"/>
                </a:solidFill>
                <a:uFillTx/>
                <a:latin typeface="Times New Roman"/>
                <a:ea typeface="Times New Roman"/>
              </a:rPr>
              <a:t>Функции проку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дзор за исполнением зако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дзор за соблюдением прав и свобод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дзор за соблюдением законов органами след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Дознание и предварительное следств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дзор за соблюдением законов органами исполнения наказ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529fe42727d3e82536a059b37856a42d_x1024"/>
          <p:cNvPicPr/>
          <p:nvPr/>
        </p:nvPicPr>
        <p:blipFill>
          <a:blip r:embed="rId1"/>
          <a:stretch/>
        </p:blipFill>
        <p:spPr>
          <a:xfrm>
            <a:off x="5867280" y="3713040"/>
            <a:ext cx="3276720" cy="2743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1290"/>
          <p:cNvPicPr/>
          <p:nvPr/>
        </p:nvPicPr>
        <p:blipFill>
          <a:blip r:embed="rId2"/>
          <a:stretch/>
        </p:blipFill>
        <p:spPr>
          <a:xfrm>
            <a:off x="5965920" y="457200"/>
            <a:ext cx="3119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Эссе на тему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 можете не заниматься политикой, всё равно политика занимается вам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. Монталамб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214200" y="142920"/>
            <a:ext cx="871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олитическая система обществ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рганизованная на единой нормативно-ценностной основе совокупность взаимодействий политических субъектов, связанных с осуществлением власти и социальным управлением, и отношений между ними, посредством которых реализуется политическая вл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214200" y="2571840"/>
            <a:ext cx="87156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214200" y="271476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литическая система обществ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это совокупность организаций и учреждений, осуществляющих государственную власть и управляющих делам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285840" y="4357800"/>
            <a:ext cx="871524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expo-oil.ru/image/561bfc1b74a68.jpeg"/>
          <p:cNvPicPr/>
          <p:nvPr/>
        </p:nvPicPr>
        <p:blipFill>
          <a:blip r:embed="rId1"/>
          <a:stretch/>
        </p:blipFill>
        <p:spPr>
          <a:xfrm>
            <a:off x="5908680" y="4643280"/>
            <a:ext cx="3117960" cy="20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TextBox 6"/>
          <p:cNvSpPr/>
          <p:nvPr/>
        </p:nvSpPr>
        <p:spPr>
          <a:xfrm>
            <a:off x="115920" y="4449600"/>
            <a:ext cx="564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итическая система общества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ая, многогранная система отношений государственных и негосударственных социальных институтов, выполняющих определённые политические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85840" y="836640"/>
            <a:ext cx="88581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Функции политическ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, формулирование и обоснование интересов больших социальных гру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целей и направлений развития общества и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борьбе за власть и деятельности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, активизация и мобилизация больших социальных групп, политическая социализация граж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вижение политических идей, создание иде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бщественного м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вижение политических лидеров, подготовка кадров для государственного аппарата и политических организ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правил поведения и законов, контроль за их соблюд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хема 3" descr=""/>
          <p:cNvPicPr/>
          <p:nvPr/>
        </p:nvPicPr>
        <p:blipFill>
          <a:blip r:embed="rId1"/>
          <a:stretch/>
        </p:blipFill>
        <p:spPr>
          <a:xfrm>
            <a:off x="128520" y="749160"/>
            <a:ext cx="8875800" cy="5834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42920" y="14292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одсистемы политическ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ttp://poradumo.com.ua/wp-content/uploads/2015/05/9707b021ce8d9daf857905bff5e9cfb7.jpg"/>
          <p:cNvPicPr/>
          <p:nvPr/>
        </p:nvPicPr>
        <p:blipFill>
          <a:blip r:embed="rId2"/>
          <a:srcRect l="0" t="0" r="0" b="8339"/>
          <a:stretch/>
        </p:blipFill>
        <p:spPr>
          <a:xfrm>
            <a:off x="4857840" y="5143680"/>
            <a:ext cx="41241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хема 3" descr=""/>
          <p:cNvPicPr/>
          <p:nvPr/>
        </p:nvPicPr>
        <p:blipFill>
          <a:blip r:embed="rId1"/>
          <a:stretch/>
        </p:blipFill>
        <p:spPr>
          <a:xfrm>
            <a:off x="128520" y="774720"/>
            <a:ext cx="8985240" cy="57974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142920" y="14292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одсистемы политическ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Users\Михаил\Desktop\740929 (1).jpg"/>
          <p:cNvPicPr/>
          <p:nvPr/>
        </p:nvPicPr>
        <p:blipFill>
          <a:blip r:embed="rId2"/>
          <a:srcRect l="0" t="13633" r="0" b="13633"/>
          <a:stretch/>
        </p:blipFill>
        <p:spPr>
          <a:xfrm>
            <a:off x="785880" y="542916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233280" y="765000"/>
            <a:ext cx="510552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езидент РФ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высшая государственная должность РФ. Президент России является главой государства, гарантом Конституции России, прав и свобод человека и гражданина в России; верховный главнокомандую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должность президента РФ: гражданин РФ, не моложе 35 лет, постоянно проживающий на территории РФ не менее 10 лет. Одно и то же лицо не может занимать должность Президента РФ более двух сроков подряд, срок полномочий 6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0_1a039_da959ba5_XL"/>
          <p:cNvPicPr/>
          <p:nvPr/>
        </p:nvPicPr>
        <p:blipFill>
          <a:blip r:embed="rId1"/>
          <a:stretch/>
        </p:blipFill>
        <p:spPr>
          <a:xfrm>
            <a:off x="5411880" y="7920"/>
            <a:ext cx="3705120" cy="3171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original"/>
          <p:cNvPicPr/>
          <p:nvPr/>
        </p:nvPicPr>
        <p:blipFill>
          <a:blip r:embed="rId2"/>
          <a:stretch/>
        </p:blipFill>
        <p:spPr>
          <a:xfrm>
            <a:off x="7205760" y="3068640"/>
            <a:ext cx="1904760" cy="24382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C:\Users\Ирина\Downloads\Vladimir_Putin_-_2006.jpg"/>
          <p:cNvPicPr/>
          <p:nvPr/>
        </p:nvPicPr>
        <p:blipFill>
          <a:blip r:embed="rId3"/>
          <a:stretch/>
        </p:blipFill>
        <p:spPr>
          <a:xfrm>
            <a:off x="5580000" y="4297320"/>
            <a:ext cx="18763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152280" y="533520"/>
            <a:ext cx="495324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ос. Дума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жняя палата Федерального собрания РФ (парламен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. Дума состоит из 450 депутат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утатом Гос. Думы может быть избран гражданин РФ, достигший 21 года и имеющий право участвовать в выборах с сроком на 5 лет (причём, одно и то же лицо не может быть одновременно депутатом Государственной Думы и членом Совета Федер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d4ca12ff51eaa078c2854c2e9f3aee54_big"/>
          <p:cNvPicPr/>
          <p:nvPr/>
        </p:nvPicPr>
        <p:blipFill>
          <a:blip r:embed="rId1"/>
          <a:stretch/>
        </p:blipFill>
        <p:spPr>
          <a:xfrm>
            <a:off x="5029200" y="1295280"/>
            <a:ext cx="3276720" cy="266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Gosduma1-250"/>
          <p:cNvPicPr/>
          <p:nvPr/>
        </p:nvPicPr>
        <p:blipFill>
          <a:blip r:embed="rId2"/>
          <a:stretch/>
        </p:blipFill>
        <p:spPr>
          <a:xfrm>
            <a:off x="6553080" y="304920"/>
            <a:ext cx="238140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ddc3a08983a9900f506b7692ef75f63e_big"/>
          <p:cNvPicPr/>
          <p:nvPr/>
        </p:nvPicPr>
        <p:blipFill>
          <a:blip r:embed="rId3"/>
          <a:stretch/>
        </p:blipFill>
        <p:spPr>
          <a:xfrm>
            <a:off x="5486400" y="388620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228600" y="533520"/>
            <a:ext cx="487692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вет Федер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верхняя палата Федерального собрания РФ (парламен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ет Федерации РФ входят: по 2 представителя от каждого  субъекта РФ — по одному от представительного и исполнительного органов государственной вл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1221657908_sovet_federacii"/>
          <p:cNvPicPr/>
          <p:nvPr/>
        </p:nvPicPr>
        <p:blipFill>
          <a:blip r:embed="rId1"/>
          <a:stretch/>
        </p:blipFill>
        <p:spPr>
          <a:xfrm>
            <a:off x="5486400" y="1752480"/>
            <a:ext cx="350532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p00046"/>
          <p:cNvPicPr/>
          <p:nvPr/>
        </p:nvPicPr>
        <p:blipFill>
          <a:blip r:embed="rId2"/>
          <a:stretch/>
        </p:blipFill>
        <p:spPr>
          <a:xfrm>
            <a:off x="5105520" y="228600"/>
            <a:ext cx="2228760" cy="1905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index"/>
          <p:cNvPicPr/>
          <p:nvPr/>
        </p:nvPicPr>
        <p:blipFill>
          <a:blip r:embed="rId3"/>
          <a:stretch/>
        </p:blipFill>
        <p:spPr>
          <a:xfrm>
            <a:off x="5181480" y="4114800"/>
            <a:ext cx="3353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152280" y="1268280"/>
            <a:ext cx="5181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вительство РФ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это высший коллегиальный исполнительный орган, осуществляющий руководство государственным управлением. Основная задача правительства — проводить в жизнь законы, принятые Федеральным собранием РФ (парламент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тельство состоит из министров и возглавляется премьер-минист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сший орган исполнительной властью правительство осуществляет деятельность, направленную на исполнение законов и оперативное управление государственными делам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government"/>
          <p:cNvPicPr/>
          <p:nvPr/>
        </p:nvPicPr>
        <p:blipFill>
          <a:blip r:embed="rId1"/>
          <a:stretch/>
        </p:blipFill>
        <p:spPr>
          <a:xfrm>
            <a:off x="5181480" y="1600200"/>
            <a:ext cx="373392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get_img"/>
          <p:cNvPicPr/>
          <p:nvPr/>
        </p:nvPicPr>
        <p:blipFill>
          <a:blip r:embed="rId2"/>
          <a:stretch/>
        </p:blipFill>
        <p:spPr>
          <a:xfrm>
            <a:off x="5867280" y="152280"/>
            <a:ext cx="2114640" cy="1676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photolenta_big_photo"/>
          <p:cNvPicPr/>
          <p:nvPr/>
        </p:nvPicPr>
        <p:blipFill>
          <a:blip r:embed="rId3"/>
          <a:stretch/>
        </p:blipFill>
        <p:spPr>
          <a:xfrm>
            <a:off x="5334120" y="4114800"/>
            <a:ext cx="35049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6:46:35Z</dcterms:created>
  <dc:creator>Сондра</dc:creator>
  <dc:description/>
  <dc:language>en-US</dc:language>
  <cp:lastModifiedBy>Надежда</cp:lastModifiedBy>
  <dcterms:modified xsi:type="dcterms:W3CDTF">2018-02-16T07:44:59Z</dcterms:modified>
  <cp:revision>14</cp:revision>
  <dc:subject/>
  <dc:title>Политическая система, её структура и функции.</dc:title>
</cp:coreProperties>
</file>