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E4D-9B92-4450-A381-EEB85B62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2E2-41F8-475A-B43F-AAA7BC3C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4B3-108F-47BF-B3FA-51E7C00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0D6-0391-401D-96B9-3826382E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F38-94C8-45A5-A245-832E64F6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195-CF03-4D3D-8E05-B03E3A1D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0EE-C1D6-4567-BFDD-09E3B95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2B2-00B1-4346-9E33-729FAFD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104-B1EE-4A62-BFE2-5B7373CA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265-9680-4D60-A16B-44C0C89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F1A-44E1-41E4-B0AE-1243287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151-B6C8-4700-BB93-EBF07F0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E48A-FCA5-4FC7-B470-51EA22C18D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92160" y="1085760"/>
            <a:ext cx="9674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76320" y="763560"/>
            <a:ext cx="52578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ерховный суд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вляется высшим судебным органом по гражданским, уголовным и административным делам, подсудным судам общей юрисди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идиум Верховного Суда Российской Федерации состоит из 13 су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ура на должность судьи: возраст не менее 25 лет, высшее юридическое образование, стаж работы в юридической сфере не менее 5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v-sud"/>
          <p:cNvPicPr/>
          <p:nvPr/>
        </p:nvPicPr>
        <p:blipFill>
          <a:blip r:embed="rId1"/>
          <a:stretch/>
        </p:blipFill>
        <p:spPr>
          <a:xfrm>
            <a:off x="5943600" y="1752480"/>
            <a:ext cx="305748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31704"/>
          <p:cNvPicPr/>
          <p:nvPr/>
        </p:nvPicPr>
        <p:blipFill>
          <a:blip r:embed="rId2"/>
          <a:stretch/>
        </p:blipFill>
        <p:spPr>
          <a:xfrm>
            <a:off x="5334120" y="152280"/>
            <a:ext cx="2466720" cy="2181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5_05_2008_00_05_08_court1"/>
          <p:cNvPicPr/>
          <p:nvPr/>
        </p:nvPicPr>
        <p:blipFill>
          <a:blip r:embed="rId3"/>
          <a:stretch/>
        </p:blipFill>
        <p:spPr>
          <a:xfrm>
            <a:off x="5410080" y="411480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98280" y="1628640"/>
            <a:ext cx="5410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ституционный Суд РФ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удебный орган конституционного контроля, самостоятельно осуществляющий судебную власть посредством конституционного судо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итуционный Суд РФ состоит из 19 су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600"/>
          <p:cNvPicPr/>
          <p:nvPr/>
        </p:nvPicPr>
        <p:blipFill>
          <a:blip r:embed="rId1"/>
          <a:stretch/>
        </p:blipFill>
        <p:spPr>
          <a:xfrm>
            <a:off x="6019920" y="1752480"/>
            <a:ext cx="294300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c383738a079897828ba5ca612927b34_big"/>
          <p:cNvPicPr/>
          <p:nvPr/>
        </p:nvPicPr>
        <p:blipFill>
          <a:blip r:embed="rId2"/>
          <a:stretch/>
        </p:blipFill>
        <p:spPr>
          <a:xfrm>
            <a:off x="5562720" y="152280"/>
            <a:ext cx="1952640" cy="243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636"/>
          <p:cNvPicPr/>
          <p:nvPr/>
        </p:nvPicPr>
        <p:blipFill>
          <a:blip r:embed="rId3"/>
          <a:stretch/>
        </p:blipFill>
        <p:spPr>
          <a:xfrm>
            <a:off x="5486400" y="40384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-12600" y="2011320"/>
            <a:ext cx="49528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сший Арбитражный Суд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АС РФ) — высший судебный орган по разрешению экономических сп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 ВАС РФ: защита нарушенных или оспариваемых прав и законных интересов предприятий, учреждений, организаций и граждан в сфере предпринимательской и иной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rbitrag"/>
          <p:cNvPicPr/>
          <p:nvPr/>
        </p:nvPicPr>
        <p:blipFill>
          <a:blip r:embed="rId1"/>
          <a:stretch/>
        </p:blipFill>
        <p:spPr>
          <a:xfrm>
            <a:off x="5029200" y="685800"/>
            <a:ext cx="3895560" cy="320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20090303042539-7703"/>
          <p:cNvPicPr/>
          <p:nvPr/>
        </p:nvPicPr>
        <p:blipFill>
          <a:blip r:embed="rId2"/>
          <a:stretch/>
        </p:blipFill>
        <p:spPr>
          <a:xfrm>
            <a:off x="5029200" y="68580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87A23EFBCE1D5209267670356BD842F9_1_1200"/>
          <p:cNvPicPr/>
          <p:nvPr/>
        </p:nvPicPr>
        <p:blipFill>
          <a:blip r:embed="rId3"/>
          <a:stretch/>
        </p:blipFill>
        <p:spPr>
          <a:xfrm>
            <a:off x="5029200" y="396252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52280" y="45720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куратура РФ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единая централизованная система с подчинением нижестоящих прокуроров вышестоящим и Генеральному прокур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5757"/>
                </a:solidFill>
                <a:uFillTx/>
                <a:latin typeface="Times New Roman"/>
                <a:ea typeface="Times New Roman"/>
              </a:rPr>
              <a:t>Функци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исполнением зак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прав и свобод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законов органами след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знание и предварительное след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дзор за соблюдением законов органами исполнения наказ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529fe42727d3e82536a059b37856a42d_x1024"/>
          <p:cNvPicPr/>
          <p:nvPr/>
        </p:nvPicPr>
        <p:blipFill>
          <a:blip r:embed="rId1"/>
          <a:stretch/>
        </p:blipFill>
        <p:spPr>
          <a:xfrm>
            <a:off x="5867280" y="371304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1290"/>
          <p:cNvPicPr/>
          <p:nvPr/>
        </p:nvPicPr>
        <p:blipFill>
          <a:blip r:embed="rId2"/>
          <a:stretch/>
        </p:blipFill>
        <p:spPr>
          <a:xfrm>
            <a:off x="5965920" y="457200"/>
            <a:ext cx="3119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ссе на тем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 можете не заниматься политикой, всё равно политика занимается вам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 Монталамб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14200" y="14292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литическая система общест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ганизованная на единой нормативно-ценностной основе совокупность взаимодействий политических субъектов, связанных с осуществлением власти и социальным управлением, и отношений между ними, посредством которых реализуется политическая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14200" y="2571840"/>
            <a:ext cx="87156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14200" y="2714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литическая система обществ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это совокупность организаций и учреждений, осуществляющих государственную власть и управляющих делам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357800"/>
            <a:ext cx="871524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expo-oil.ru/image/561bfc1b74a68.jpeg"/>
          <p:cNvPicPr/>
          <p:nvPr/>
        </p:nvPicPr>
        <p:blipFill>
          <a:blip r:embed="rId1"/>
          <a:stretch/>
        </p:blipFill>
        <p:spPr>
          <a:xfrm>
            <a:off x="5908680" y="4643280"/>
            <a:ext cx="311796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TextBox 6"/>
          <p:cNvSpPr/>
          <p:nvPr/>
        </p:nvSpPr>
        <p:spPr>
          <a:xfrm>
            <a:off x="115920" y="4449600"/>
            <a:ext cx="564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тическая система общества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ая, многогранная система отношений государственных и негосударственных социальных институтов, выполняющих определённые политически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836640"/>
            <a:ext cx="8858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Функции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, формулирование и обоснование интересов больших социаль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ей и направлений развития общества 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борьбе за власть и деятельност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, активизация и мобилизация больших социальных групп, политическая социализация граж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политических идей, создание иде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ственного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политических лидеров, подготовка кадров для государственного аппарата и политических орган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авил поведения и законов, контроль за их соблю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3" descr=""/>
          <p:cNvPicPr/>
          <p:nvPr/>
        </p:nvPicPr>
        <p:blipFill>
          <a:blip r:embed="rId1"/>
          <a:stretch/>
        </p:blipFill>
        <p:spPr>
          <a:xfrm>
            <a:off x="128520" y="749160"/>
            <a:ext cx="88758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42920" y="1429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системы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poradumo.com.ua/wp-content/uploads/2015/05/9707b021ce8d9daf857905bff5e9cfb7.jpg"/>
          <p:cNvPicPr/>
          <p:nvPr/>
        </p:nvPicPr>
        <p:blipFill>
          <a:blip r:embed="rId2"/>
          <a:srcRect l="0" t="0" r="0" b="8339"/>
          <a:stretch/>
        </p:blipFill>
        <p:spPr>
          <a:xfrm>
            <a:off x="4857840" y="5143680"/>
            <a:ext cx="4124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128520" y="774720"/>
            <a:ext cx="8985240" cy="5797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42920" y="1429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одсистемы политической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Михаил\Desktop\740929 (1).jpg"/>
          <p:cNvPicPr/>
          <p:nvPr/>
        </p:nvPicPr>
        <p:blipFill>
          <a:blip r:embed="rId2"/>
          <a:srcRect l="0" t="13633" r="0" b="13633"/>
          <a:stretch/>
        </p:blipFill>
        <p:spPr>
          <a:xfrm>
            <a:off x="785880" y="542916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33280" y="765000"/>
            <a:ext cx="5105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идент РФ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ысшая государственная должность РФ. Президент России является главой государства, гарантом Конституции России, прав и свобод человека и гражданина в России; верховный главнокомандую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должность президента РФ: гражданин РФ, не моложе 35 лет, постоянно проживающий на территории РФ не менее 10 лет. Одно и то же лицо не может занимать должность Президента РФ более двух сроков подряд, срок полномочий 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0_1a039_da959ba5_XL"/>
          <p:cNvPicPr/>
          <p:nvPr/>
        </p:nvPicPr>
        <p:blipFill>
          <a:blip r:embed="rId1"/>
          <a:stretch/>
        </p:blipFill>
        <p:spPr>
          <a:xfrm>
            <a:off x="5411880" y="7920"/>
            <a:ext cx="3705120" cy="317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original"/>
          <p:cNvPicPr/>
          <p:nvPr/>
        </p:nvPicPr>
        <p:blipFill>
          <a:blip r:embed="rId2"/>
          <a:stretch/>
        </p:blipFill>
        <p:spPr>
          <a:xfrm>
            <a:off x="7205760" y="3068640"/>
            <a:ext cx="190476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Users\Ирина\Downloads\Vladimir_Putin_-_2006.jpg"/>
          <p:cNvPicPr/>
          <p:nvPr/>
        </p:nvPicPr>
        <p:blipFill>
          <a:blip r:embed="rId3"/>
          <a:stretch/>
        </p:blipFill>
        <p:spPr>
          <a:xfrm>
            <a:off x="5580000" y="4297320"/>
            <a:ext cx="18763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52280" y="533520"/>
            <a:ext cx="49532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ос. Дума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жняя палата Федерального собрания РФ (парлам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Дума состоит из 450 депута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утатом Гос. Думы может быть избран гражданин РФ, достигший 21 года и имеющий право участвовать в выборах с сроком на 5 лет (причём, одно и то же лицо не может быть одновременно депутатом Государственной Думы и членом Совета Федер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d4ca12ff51eaa078c2854c2e9f3aee54_big"/>
          <p:cNvPicPr/>
          <p:nvPr/>
        </p:nvPicPr>
        <p:blipFill>
          <a:blip r:embed="rId1"/>
          <a:stretch/>
        </p:blipFill>
        <p:spPr>
          <a:xfrm>
            <a:off x="5029200" y="1295280"/>
            <a:ext cx="32767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Gosduma1-250"/>
          <p:cNvPicPr/>
          <p:nvPr/>
        </p:nvPicPr>
        <p:blipFill>
          <a:blip r:embed="rId2"/>
          <a:stretch/>
        </p:blipFill>
        <p:spPr>
          <a:xfrm>
            <a:off x="6553080" y="304920"/>
            <a:ext cx="238140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dc3a08983a9900f506b7692ef75f63e_big"/>
          <p:cNvPicPr/>
          <p:nvPr/>
        </p:nvPicPr>
        <p:blipFill>
          <a:blip r:embed="rId3"/>
          <a:stretch/>
        </p:blipFill>
        <p:spPr>
          <a:xfrm>
            <a:off x="548640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228600" y="533520"/>
            <a:ext cx="4876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вет Федер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ерхняя палата Федерального собрания РФ (парлам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ет Федерации РФ входят: по 2 представителя от каждого  субъекта РФ — по одному от представительного и исполнительного органов государственной вла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221657908_sovet_federacii"/>
          <p:cNvPicPr/>
          <p:nvPr/>
        </p:nvPicPr>
        <p:blipFill>
          <a:blip r:embed="rId1"/>
          <a:stretch/>
        </p:blipFill>
        <p:spPr>
          <a:xfrm>
            <a:off x="5486400" y="175248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p00046"/>
          <p:cNvPicPr/>
          <p:nvPr/>
        </p:nvPicPr>
        <p:blipFill>
          <a:blip r:embed="rId2"/>
          <a:stretch/>
        </p:blipFill>
        <p:spPr>
          <a:xfrm>
            <a:off x="5105520" y="228600"/>
            <a:ext cx="2228760" cy="190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ndex"/>
          <p:cNvPicPr/>
          <p:nvPr/>
        </p:nvPicPr>
        <p:blipFill>
          <a:blip r:embed="rId3"/>
          <a:stretch/>
        </p:blipFill>
        <p:spPr>
          <a:xfrm>
            <a:off x="5181480" y="4114800"/>
            <a:ext cx="3353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52280" y="1268280"/>
            <a:ext cx="5181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ительство РФ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высший коллегиальный исполнительный орган, осуществляющий руководство государственным управлением. Основная задача правительства — проводить в жизнь законы, принятые Федеральным собранием РФ (парламент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состоит из министров и возглавляется премьер-минист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сший орган исполнительной властью правительство осуществляет деятельность, направленную на исполнение законов и оперативное управление государственными дел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government"/>
          <p:cNvPicPr/>
          <p:nvPr/>
        </p:nvPicPr>
        <p:blipFill>
          <a:blip r:embed="rId1"/>
          <a:stretch/>
        </p:blipFill>
        <p:spPr>
          <a:xfrm>
            <a:off x="5181480" y="160020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get_img"/>
          <p:cNvPicPr/>
          <p:nvPr/>
        </p:nvPicPr>
        <p:blipFill>
          <a:blip r:embed="rId2"/>
          <a:stretch/>
        </p:blipFill>
        <p:spPr>
          <a:xfrm>
            <a:off x="5867280" y="152280"/>
            <a:ext cx="211464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hotolenta_big_photo"/>
          <p:cNvPicPr/>
          <p:nvPr/>
        </p:nvPicPr>
        <p:blipFill>
          <a:blip r:embed="rId3"/>
          <a:stretch/>
        </p:blipFill>
        <p:spPr>
          <a:xfrm>
            <a:off x="5334120" y="4114800"/>
            <a:ext cx="3504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6:46:35Z</dcterms:created>
  <dc:creator>Сондра</dc:creator>
  <dc:description/>
  <dc:language>en-US</dc:language>
  <cp:lastModifiedBy>Надежда</cp:lastModifiedBy>
  <dcterms:modified xsi:type="dcterms:W3CDTF">2018-02-16T07:44:59Z</dcterms:modified>
  <cp:revision>14</cp:revision>
  <dc:subject/>
  <dc:title>Политическая система, её структура и функции.</dc:title>
</cp:coreProperties>
</file>