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5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8.wmf" ContentType="image/x-wmf"/>
  <Override PartName="/ppt/media/image9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FD5-9C72-45F0-B22F-476C5CE3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6AA-374D-40CD-B2F5-050C15DA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DF7-AD54-4746-A4DC-422A2EC1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BBF-466C-4C2A-BF71-D9EC8A61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EEA-E361-4D7D-8124-BB895CFC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CEF-83E4-405A-AC51-FF10A91E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423-C9CA-46D4-A9E2-88997D81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112-107D-4327-B9D9-FFF5E84F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44A-D66A-4F67-96E3-C6532960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CE4-299C-4A5D-AE8D-22740515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FCE-9EA5-4B44-8E5E-BC35E8CC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2FD-E92A-42B2-908F-D10B8C4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F68-EA01-403F-8440-A2E65648D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J0153514"/>
          <p:cNvPicPr/>
          <p:nvPr/>
        </p:nvPicPr>
        <p:blipFill>
          <a:blip r:embed="rId1"/>
          <a:stretch/>
        </p:blipFill>
        <p:spPr>
          <a:xfrm rot="16200000">
            <a:off x="98280" y="107640"/>
            <a:ext cx="2736720" cy="2752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18"/>
          <p:cNvSpPr txBox="1"/>
          <p:nvPr/>
        </p:nvSpPr>
        <p:spPr>
          <a:xfrm rot="20419200">
            <a:off x="321840" y="1974600"/>
            <a:ext cx="8704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Духовная культур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Picture 7" descr="J0153514"/>
          <p:cNvPicPr/>
          <p:nvPr/>
        </p:nvPicPr>
        <p:blipFill>
          <a:blip r:embed="rId2"/>
          <a:stretch/>
        </p:blipFill>
        <p:spPr>
          <a:xfrm rot="5400000">
            <a:off x="6516720" y="3932280"/>
            <a:ext cx="24480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J0153514"/>
          <p:cNvPicPr/>
          <p:nvPr/>
        </p:nvPicPr>
        <p:blipFill>
          <a:blip r:embed="rId1"/>
          <a:stretch/>
        </p:blipFill>
        <p:spPr>
          <a:xfrm rot="16200000">
            <a:off x="98280" y="107640"/>
            <a:ext cx="2736720" cy="2752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J0153514"/>
          <p:cNvPicPr/>
          <p:nvPr/>
        </p:nvPicPr>
        <p:blipFill>
          <a:blip r:embed="rId2"/>
          <a:stretch/>
        </p:blipFill>
        <p:spPr>
          <a:xfrm rot="5400000">
            <a:off x="6516720" y="393228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684360" y="220500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Истинный показатель цивилизации – не уровень богатства и не величина городов, не обилие урожая, а облик человека, воспитываемого страной.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Р.У. Эмерсо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92000" y="620280"/>
            <a:ext cx="730548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ховная культура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сс духовного творчества и его результаты: научные открытия, произведения искусства, нравственные ценности и т. 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244476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880360" y="2637000"/>
            <a:ext cx="45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Духовная жизн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50920" y="33447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ера деятельности человека и общества, которая включает как усвоение накопленных духовных ценностей, так и творческое созидание новы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4097160" cy="768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4097520" cy="768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95280" y="55897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сли, идеи, теории, образ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788000" y="558972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хранение, воспроизведение, распределение и др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126720"/>
            <a:ext cx="620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Функции духовной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626436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ознав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разовательно-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Интегр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гул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Социализ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2571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J0153514"/>
          <p:cNvPicPr/>
          <p:nvPr/>
        </p:nvPicPr>
        <p:blipFill>
          <a:blip r:embed="rId2"/>
          <a:stretch/>
        </p:blipFill>
        <p:spPr>
          <a:xfrm rot="5400000">
            <a:off x="6300000" y="4149000"/>
            <a:ext cx="24494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81ffd"/>
                </a:solidFill>
                <a:latin typeface="Monotype Corsiva"/>
              </a:rPr>
              <a:t>ДУХОВНАЯ СФ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826920" y="2565360"/>
            <a:ext cx="7561440" cy="3600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ка, нравственность, религия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илософия, искусство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ные учреждения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реждения культуры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лигиозные организации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ответствующая деятельность люде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244476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6"/>
          <p:cNvSpPr/>
          <p:nvPr/>
        </p:nvSpPr>
        <p:spPr>
          <a:xfrm>
            <a:off x="0" y="1159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уховная культура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– это система знаний и мировоззренческих идей, часть общей системы культуры, включающая духовную деятельность и её продукты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0" y="54291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уховная культура формирует личность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её мировоззрение, взгляды, установки, ценностные ориентации. Благодаря ей могут транслироваться знания, умения, навыки, художественные модели мира, идеи и т. д. от индивида у индивиду, от поколения к поколению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81"/>
          <p:cNvGrpSpPr/>
          <p:nvPr/>
        </p:nvGrpSpPr>
        <p:grpSpPr>
          <a:xfrm>
            <a:off x="928800" y="1285920"/>
            <a:ext cx="2232000" cy="1511280"/>
            <a:chOff x="928800" y="1285920"/>
            <a:chExt cx="2232000" cy="1511280"/>
          </a:xfrm>
        </p:grpSpPr>
        <p:graphicFrame>
          <p:nvGraphicFramePr>
            <p:cNvPr id="65" name="Object 76"/>
            <p:cNvGraphicFramePr/>
            <p:nvPr/>
          </p:nvGraphicFramePr>
          <p:xfrm>
            <a:off x="1000080" y="1285920"/>
            <a:ext cx="1656000" cy="10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Object 7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285920"/>
                      <a:ext cx="165600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Text Box 80"/>
            <p:cNvSpPr/>
            <p:nvPr/>
          </p:nvSpPr>
          <p:spPr>
            <a:xfrm>
              <a:off x="928800" y="242892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Образован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83"/>
          <p:cNvGrpSpPr/>
          <p:nvPr/>
        </p:nvGrpSpPr>
        <p:grpSpPr>
          <a:xfrm>
            <a:off x="714240" y="3214800"/>
            <a:ext cx="1552680" cy="1541880"/>
            <a:chOff x="714240" y="3214800"/>
            <a:chExt cx="1552680" cy="1541880"/>
          </a:xfrm>
        </p:grpSpPr>
        <p:graphicFrame>
          <p:nvGraphicFramePr>
            <p:cNvPr id="69" name="Object 77"/>
            <p:cNvGraphicFramePr/>
            <p:nvPr/>
          </p:nvGraphicFramePr>
          <p:xfrm>
            <a:off x="714240" y="3214800"/>
            <a:ext cx="1440000" cy="11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" name="Object 7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4240" y="3214800"/>
                      <a:ext cx="1440000" cy="11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Text Box 82"/>
            <p:cNvSpPr/>
            <p:nvPr/>
          </p:nvSpPr>
          <p:spPr>
            <a:xfrm>
              <a:off x="755640" y="43578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Этик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85"/>
          <p:cNvGrpSpPr/>
          <p:nvPr/>
        </p:nvGrpSpPr>
        <p:grpSpPr>
          <a:xfrm>
            <a:off x="3795840" y="4000680"/>
            <a:ext cx="2087280" cy="1403640"/>
            <a:chOff x="3795840" y="4000680"/>
            <a:chExt cx="2087280" cy="1403640"/>
          </a:xfrm>
        </p:grpSpPr>
        <p:grpSp>
          <p:nvGrpSpPr>
            <p:cNvPr id="73" name="Group 61"/>
            <p:cNvGrpSpPr/>
            <p:nvPr/>
          </p:nvGrpSpPr>
          <p:grpSpPr>
            <a:xfrm>
              <a:off x="3857760" y="4000680"/>
              <a:ext cx="1764360" cy="1089000"/>
              <a:chOff x="3857760" y="4000680"/>
              <a:chExt cx="1764360" cy="1089000"/>
            </a:xfrm>
          </p:grpSpPr>
          <p:pic>
            <p:nvPicPr>
              <p:cNvPr id="74" name="Picture 41" descr="404px-Christian_cross"/>
              <p:cNvPicPr/>
              <p:nvPr/>
            </p:nvPicPr>
            <p:blipFill>
              <a:blip r:embed="rId5"/>
              <a:stretch/>
            </p:blipFill>
            <p:spPr>
              <a:xfrm>
                <a:off x="3857760" y="4000680"/>
                <a:ext cx="915840" cy="1030320"/>
              </a:xfrm>
              <a:prstGeom prst="rect">
                <a:avLst/>
              </a:prstGeom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75" name="Group 60"/>
              <p:cNvGrpSpPr/>
              <p:nvPr/>
            </p:nvGrpSpPr>
            <p:grpSpPr>
              <a:xfrm>
                <a:off x="4505040" y="4577040"/>
                <a:ext cx="1117080" cy="512640"/>
                <a:chOff x="4505040" y="4577040"/>
                <a:chExt cx="1117080" cy="512640"/>
              </a:xfrm>
            </p:grpSpPr>
            <p:sp>
              <p:nvSpPr>
                <p:cNvPr id="76" name="Freeform 54"/>
                <p:cNvSpPr/>
                <p:nvPr/>
              </p:nvSpPr>
              <p:spPr>
                <a:xfrm>
                  <a:off x="4798440" y="4577040"/>
                  <a:ext cx="487080" cy="282600"/>
                </a:xfrm>
                <a:custGeom>
                  <a:avLst/>
                  <a:gdLst>
                    <a:gd name="textAreaLeft" fmla="*/ 0 w 487080"/>
                    <a:gd name="textAreaRight" fmla="*/ 487440 w 48708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921" h="535">
                      <a:moveTo>
                        <a:pt x="0" y="382"/>
                      </a:moveTo>
                      <a:lnTo>
                        <a:pt x="10" y="257"/>
                      </a:lnTo>
                      <a:lnTo>
                        <a:pt x="87" y="174"/>
                      </a:lnTo>
                      <a:lnTo>
                        <a:pt x="237" y="78"/>
                      </a:lnTo>
                      <a:lnTo>
                        <a:pt x="426" y="21"/>
                      </a:lnTo>
                      <a:lnTo>
                        <a:pt x="587" y="0"/>
                      </a:lnTo>
                      <a:lnTo>
                        <a:pt x="705" y="45"/>
                      </a:lnTo>
                      <a:lnTo>
                        <a:pt x="806" y="129"/>
                      </a:lnTo>
                      <a:lnTo>
                        <a:pt x="862" y="203"/>
                      </a:lnTo>
                      <a:lnTo>
                        <a:pt x="905" y="320"/>
                      </a:lnTo>
                      <a:lnTo>
                        <a:pt x="921" y="419"/>
                      </a:lnTo>
                      <a:lnTo>
                        <a:pt x="884" y="486"/>
                      </a:lnTo>
                      <a:lnTo>
                        <a:pt x="843" y="519"/>
                      </a:lnTo>
                      <a:lnTo>
                        <a:pt x="744" y="535"/>
                      </a:lnTo>
                      <a:lnTo>
                        <a:pt x="654" y="519"/>
                      </a:lnTo>
                      <a:lnTo>
                        <a:pt x="595" y="469"/>
                      </a:lnTo>
                      <a:lnTo>
                        <a:pt x="533" y="415"/>
                      </a:lnTo>
                      <a:lnTo>
                        <a:pt x="477" y="382"/>
                      </a:lnTo>
                      <a:lnTo>
                        <a:pt x="390" y="382"/>
                      </a:lnTo>
                      <a:lnTo>
                        <a:pt x="295" y="398"/>
                      </a:lnTo>
                      <a:lnTo>
                        <a:pt x="181" y="427"/>
                      </a:lnTo>
                      <a:lnTo>
                        <a:pt x="94" y="448"/>
                      </a:lnTo>
                      <a:lnTo>
                        <a:pt x="14" y="448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55"/>
                <p:cNvSpPr/>
                <p:nvPr/>
              </p:nvSpPr>
              <p:spPr>
                <a:xfrm>
                  <a:off x="5187600" y="4710240"/>
                  <a:ext cx="434520" cy="366840"/>
                </a:xfrm>
                <a:custGeom>
                  <a:avLst/>
                  <a:gdLst>
                    <a:gd name="textAreaLeft" fmla="*/ 0 w 434520"/>
                    <a:gd name="textAreaRight" fmla="*/ 434880 w 434520"/>
                    <a:gd name="textAreaTop" fmla="*/ 0 h 366840"/>
                    <a:gd name="textAreaBottom" fmla="*/ 367200 h 366840"/>
                  </a:gdLst>
                  <a:ahLst/>
                  <a:rect l="textAreaLeft" t="textAreaTop" r="textAreaRight" b="textAreaBottom"/>
                  <a:pathLst>
                    <a:path w="820" h="692">
                      <a:moveTo>
                        <a:pt x="58" y="0"/>
                      </a:moveTo>
                      <a:lnTo>
                        <a:pt x="132" y="40"/>
                      </a:lnTo>
                      <a:lnTo>
                        <a:pt x="146" y="100"/>
                      </a:lnTo>
                      <a:lnTo>
                        <a:pt x="190" y="191"/>
                      </a:lnTo>
                      <a:lnTo>
                        <a:pt x="190" y="258"/>
                      </a:lnTo>
                      <a:lnTo>
                        <a:pt x="154" y="391"/>
                      </a:lnTo>
                      <a:lnTo>
                        <a:pt x="109" y="483"/>
                      </a:lnTo>
                      <a:lnTo>
                        <a:pt x="73" y="541"/>
                      </a:lnTo>
                      <a:lnTo>
                        <a:pt x="58" y="616"/>
                      </a:lnTo>
                      <a:lnTo>
                        <a:pt x="81" y="650"/>
                      </a:lnTo>
                      <a:lnTo>
                        <a:pt x="190" y="625"/>
                      </a:lnTo>
                      <a:lnTo>
                        <a:pt x="278" y="574"/>
                      </a:lnTo>
                      <a:lnTo>
                        <a:pt x="388" y="474"/>
                      </a:lnTo>
                      <a:lnTo>
                        <a:pt x="475" y="358"/>
                      </a:lnTo>
                      <a:lnTo>
                        <a:pt x="520" y="258"/>
                      </a:lnTo>
                      <a:lnTo>
                        <a:pt x="542" y="200"/>
                      </a:lnTo>
                      <a:lnTo>
                        <a:pt x="578" y="200"/>
                      </a:lnTo>
                      <a:lnTo>
                        <a:pt x="600" y="207"/>
                      </a:lnTo>
                      <a:lnTo>
                        <a:pt x="629" y="300"/>
                      </a:lnTo>
                      <a:lnTo>
                        <a:pt x="659" y="383"/>
                      </a:lnTo>
                      <a:lnTo>
                        <a:pt x="739" y="441"/>
                      </a:lnTo>
                      <a:lnTo>
                        <a:pt x="820" y="474"/>
                      </a:lnTo>
                      <a:lnTo>
                        <a:pt x="798" y="500"/>
                      </a:lnTo>
                      <a:lnTo>
                        <a:pt x="754" y="525"/>
                      </a:lnTo>
                      <a:lnTo>
                        <a:pt x="680" y="500"/>
                      </a:lnTo>
                      <a:lnTo>
                        <a:pt x="637" y="433"/>
                      </a:lnTo>
                      <a:lnTo>
                        <a:pt x="607" y="374"/>
                      </a:lnTo>
                      <a:lnTo>
                        <a:pt x="586" y="316"/>
                      </a:lnTo>
                      <a:lnTo>
                        <a:pt x="564" y="300"/>
                      </a:lnTo>
                      <a:lnTo>
                        <a:pt x="542" y="325"/>
                      </a:lnTo>
                      <a:lnTo>
                        <a:pt x="497" y="416"/>
                      </a:lnTo>
                      <a:lnTo>
                        <a:pt x="402" y="541"/>
                      </a:lnTo>
                      <a:lnTo>
                        <a:pt x="314" y="600"/>
                      </a:lnTo>
                      <a:lnTo>
                        <a:pt x="219" y="658"/>
                      </a:lnTo>
                      <a:lnTo>
                        <a:pt x="87" y="692"/>
                      </a:lnTo>
                      <a:lnTo>
                        <a:pt x="22" y="683"/>
                      </a:lnTo>
                      <a:lnTo>
                        <a:pt x="0" y="650"/>
                      </a:lnTo>
                      <a:lnTo>
                        <a:pt x="0" y="616"/>
                      </a:lnTo>
                      <a:lnTo>
                        <a:pt x="0" y="567"/>
                      </a:lnTo>
                      <a:lnTo>
                        <a:pt x="28" y="483"/>
                      </a:lnTo>
                      <a:lnTo>
                        <a:pt x="81" y="407"/>
                      </a:lnTo>
                      <a:lnTo>
                        <a:pt x="109" y="291"/>
                      </a:lnTo>
                      <a:lnTo>
                        <a:pt x="117" y="233"/>
                      </a:lnTo>
                      <a:lnTo>
                        <a:pt x="95" y="174"/>
                      </a:lnTo>
                      <a:lnTo>
                        <a:pt x="36" y="116"/>
                      </a:lnTo>
                      <a:lnTo>
                        <a:pt x="44" y="58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56"/>
                <p:cNvSpPr/>
                <p:nvPr/>
              </p:nvSpPr>
              <p:spPr>
                <a:xfrm>
                  <a:off x="5119200" y="4668840"/>
                  <a:ext cx="433080" cy="368280"/>
                </a:xfrm>
                <a:custGeom>
                  <a:avLst/>
                  <a:gdLst>
                    <a:gd name="textAreaLeft" fmla="*/ 0 w 433080"/>
                    <a:gd name="textAreaRight" fmla="*/ 433440 w 433080"/>
                    <a:gd name="textAreaTop" fmla="*/ 0 h 368280"/>
                    <a:gd name="textAreaBottom" fmla="*/ 368640 h 368280"/>
                  </a:gdLst>
                  <a:ahLst/>
                  <a:rect l="textAreaLeft" t="textAreaTop" r="textAreaRight" b="textAreaBottom"/>
                  <a:pathLst>
                    <a:path w="820" h="696">
                      <a:moveTo>
                        <a:pt x="59" y="0"/>
                      </a:moveTo>
                      <a:lnTo>
                        <a:pt x="132" y="42"/>
                      </a:lnTo>
                      <a:lnTo>
                        <a:pt x="146" y="102"/>
                      </a:lnTo>
                      <a:lnTo>
                        <a:pt x="191" y="193"/>
                      </a:lnTo>
                      <a:lnTo>
                        <a:pt x="191" y="260"/>
                      </a:lnTo>
                      <a:lnTo>
                        <a:pt x="154" y="394"/>
                      </a:lnTo>
                      <a:lnTo>
                        <a:pt x="110" y="486"/>
                      </a:lnTo>
                      <a:lnTo>
                        <a:pt x="73" y="546"/>
                      </a:lnTo>
                      <a:lnTo>
                        <a:pt x="59" y="620"/>
                      </a:lnTo>
                      <a:lnTo>
                        <a:pt x="81" y="655"/>
                      </a:lnTo>
                      <a:lnTo>
                        <a:pt x="191" y="629"/>
                      </a:lnTo>
                      <a:lnTo>
                        <a:pt x="278" y="579"/>
                      </a:lnTo>
                      <a:lnTo>
                        <a:pt x="388" y="479"/>
                      </a:lnTo>
                      <a:lnTo>
                        <a:pt x="475" y="361"/>
                      </a:lnTo>
                      <a:lnTo>
                        <a:pt x="520" y="260"/>
                      </a:lnTo>
                      <a:lnTo>
                        <a:pt x="542" y="202"/>
                      </a:lnTo>
                      <a:lnTo>
                        <a:pt x="578" y="202"/>
                      </a:lnTo>
                      <a:lnTo>
                        <a:pt x="601" y="210"/>
                      </a:lnTo>
                      <a:lnTo>
                        <a:pt x="629" y="303"/>
                      </a:lnTo>
                      <a:lnTo>
                        <a:pt x="659" y="386"/>
                      </a:lnTo>
                      <a:lnTo>
                        <a:pt x="739" y="444"/>
                      </a:lnTo>
                      <a:lnTo>
                        <a:pt x="820" y="479"/>
                      </a:lnTo>
                      <a:lnTo>
                        <a:pt x="798" y="504"/>
                      </a:lnTo>
                      <a:lnTo>
                        <a:pt x="755" y="528"/>
                      </a:lnTo>
                      <a:lnTo>
                        <a:pt x="680" y="504"/>
                      </a:lnTo>
                      <a:lnTo>
                        <a:pt x="637" y="437"/>
                      </a:lnTo>
                      <a:lnTo>
                        <a:pt x="607" y="377"/>
                      </a:lnTo>
                      <a:lnTo>
                        <a:pt x="586" y="319"/>
                      </a:lnTo>
                      <a:lnTo>
                        <a:pt x="564" y="303"/>
                      </a:lnTo>
                      <a:lnTo>
                        <a:pt x="542" y="327"/>
                      </a:lnTo>
                      <a:lnTo>
                        <a:pt x="498" y="419"/>
                      </a:lnTo>
                      <a:lnTo>
                        <a:pt x="402" y="546"/>
                      </a:lnTo>
                      <a:lnTo>
                        <a:pt x="315" y="604"/>
                      </a:lnTo>
                      <a:lnTo>
                        <a:pt x="219" y="662"/>
                      </a:lnTo>
                      <a:lnTo>
                        <a:pt x="87" y="696"/>
                      </a:lnTo>
                      <a:lnTo>
                        <a:pt x="22" y="687"/>
                      </a:lnTo>
                      <a:lnTo>
                        <a:pt x="0" y="655"/>
                      </a:lnTo>
                      <a:lnTo>
                        <a:pt x="0" y="620"/>
                      </a:lnTo>
                      <a:lnTo>
                        <a:pt x="0" y="571"/>
                      </a:lnTo>
                      <a:lnTo>
                        <a:pt x="29" y="486"/>
                      </a:lnTo>
                      <a:lnTo>
                        <a:pt x="81" y="412"/>
                      </a:lnTo>
                      <a:lnTo>
                        <a:pt x="110" y="294"/>
                      </a:lnTo>
                      <a:lnTo>
                        <a:pt x="117" y="236"/>
                      </a:lnTo>
                      <a:lnTo>
                        <a:pt x="95" y="176"/>
                      </a:lnTo>
                      <a:lnTo>
                        <a:pt x="36" y="118"/>
                      </a:lnTo>
                      <a:lnTo>
                        <a:pt x="44" y="5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57"/>
                <p:cNvSpPr/>
                <p:nvPr/>
              </p:nvSpPr>
              <p:spPr>
                <a:xfrm>
                  <a:off x="4505040" y="4762800"/>
                  <a:ext cx="420480" cy="326880"/>
                </a:xfrm>
                <a:custGeom>
                  <a:avLst/>
                  <a:gdLst>
                    <a:gd name="textAreaLeft" fmla="*/ 0 w 420480"/>
                    <a:gd name="textAreaRight" fmla="*/ 420840 w 420480"/>
                    <a:gd name="textAreaTop" fmla="*/ 0 h 326880"/>
                    <a:gd name="textAreaBottom" fmla="*/ 327240 h 326880"/>
                  </a:gdLst>
                  <a:ahLst/>
                  <a:rect l="textAreaLeft" t="textAreaTop" r="textAreaRight" b="textAreaBottom"/>
                  <a:pathLst>
                    <a:path w="797" h="618">
                      <a:moveTo>
                        <a:pt x="688" y="42"/>
                      </a:moveTo>
                      <a:lnTo>
                        <a:pt x="643" y="0"/>
                      </a:lnTo>
                      <a:lnTo>
                        <a:pt x="599" y="0"/>
                      </a:lnTo>
                      <a:lnTo>
                        <a:pt x="578" y="42"/>
                      </a:lnTo>
                      <a:lnTo>
                        <a:pt x="584" y="93"/>
                      </a:lnTo>
                      <a:lnTo>
                        <a:pt x="665" y="251"/>
                      </a:lnTo>
                      <a:lnTo>
                        <a:pt x="739" y="418"/>
                      </a:lnTo>
                      <a:lnTo>
                        <a:pt x="745" y="509"/>
                      </a:lnTo>
                      <a:lnTo>
                        <a:pt x="724" y="560"/>
                      </a:lnTo>
                      <a:lnTo>
                        <a:pt x="665" y="560"/>
                      </a:lnTo>
                      <a:lnTo>
                        <a:pt x="497" y="567"/>
                      </a:lnTo>
                      <a:lnTo>
                        <a:pt x="344" y="551"/>
                      </a:lnTo>
                      <a:lnTo>
                        <a:pt x="263" y="509"/>
                      </a:lnTo>
                      <a:lnTo>
                        <a:pt x="198" y="476"/>
                      </a:lnTo>
                      <a:lnTo>
                        <a:pt x="161" y="476"/>
                      </a:lnTo>
                      <a:lnTo>
                        <a:pt x="117" y="525"/>
                      </a:lnTo>
                      <a:lnTo>
                        <a:pt x="15" y="543"/>
                      </a:lnTo>
                      <a:lnTo>
                        <a:pt x="0" y="576"/>
                      </a:lnTo>
                      <a:lnTo>
                        <a:pt x="66" y="585"/>
                      </a:lnTo>
                      <a:lnTo>
                        <a:pt x="161" y="576"/>
                      </a:lnTo>
                      <a:lnTo>
                        <a:pt x="190" y="560"/>
                      </a:lnTo>
                      <a:lnTo>
                        <a:pt x="271" y="592"/>
                      </a:lnTo>
                      <a:lnTo>
                        <a:pt x="336" y="592"/>
                      </a:lnTo>
                      <a:lnTo>
                        <a:pt x="432" y="609"/>
                      </a:lnTo>
                      <a:lnTo>
                        <a:pt x="570" y="618"/>
                      </a:lnTo>
                      <a:lnTo>
                        <a:pt x="694" y="609"/>
                      </a:lnTo>
                      <a:lnTo>
                        <a:pt x="767" y="585"/>
                      </a:lnTo>
                      <a:lnTo>
                        <a:pt x="797" y="543"/>
                      </a:lnTo>
                      <a:lnTo>
                        <a:pt x="797" y="484"/>
                      </a:lnTo>
                      <a:lnTo>
                        <a:pt x="797" y="376"/>
                      </a:lnTo>
                      <a:lnTo>
                        <a:pt x="761" y="267"/>
                      </a:lnTo>
                      <a:lnTo>
                        <a:pt x="724" y="151"/>
                      </a:lnTo>
                      <a:lnTo>
                        <a:pt x="688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58"/>
                <p:cNvSpPr/>
                <p:nvPr/>
              </p:nvSpPr>
              <p:spPr>
                <a:xfrm>
                  <a:off x="4507920" y="4722840"/>
                  <a:ext cx="371160" cy="304920"/>
                </a:xfrm>
                <a:custGeom>
                  <a:avLst/>
                  <a:gdLst>
                    <a:gd name="textAreaLeft" fmla="*/ 0 w 371160"/>
                    <a:gd name="textAreaRight" fmla="*/ 371520 w 37116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702" h="575">
                      <a:moveTo>
                        <a:pt x="606" y="0"/>
                      </a:moveTo>
                      <a:lnTo>
                        <a:pt x="570" y="40"/>
                      </a:lnTo>
                      <a:lnTo>
                        <a:pt x="562" y="107"/>
                      </a:lnTo>
                      <a:lnTo>
                        <a:pt x="570" y="200"/>
                      </a:lnTo>
                      <a:lnTo>
                        <a:pt x="592" y="307"/>
                      </a:lnTo>
                      <a:lnTo>
                        <a:pt x="606" y="432"/>
                      </a:lnTo>
                      <a:lnTo>
                        <a:pt x="621" y="492"/>
                      </a:lnTo>
                      <a:lnTo>
                        <a:pt x="613" y="516"/>
                      </a:lnTo>
                      <a:lnTo>
                        <a:pt x="540" y="525"/>
                      </a:lnTo>
                      <a:lnTo>
                        <a:pt x="401" y="534"/>
                      </a:lnTo>
                      <a:lnTo>
                        <a:pt x="285" y="508"/>
                      </a:lnTo>
                      <a:lnTo>
                        <a:pt x="197" y="458"/>
                      </a:lnTo>
                      <a:lnTo>
                        <a:pt x="153" y="450"/>
                      </a:lnTo>
                      <a:lnTo>
                        <a:pt x="94" y="492"/>
                      </a:lnTo>
                      <a:lnTo>
                        <a:pt x="43" y="499"/>
                      </a:lnTo>
                      <a:lnTo>
                        <a:pt x="0" y="516"/>
                      </a:lnTo>
                      <a:lnTo>
                        <a:pt x="7" y="541"/>
                      </a:lnTo>
                      <a:lnTo>
                        <a:pt x="65" y="541"/>
                      </a:lnTo>
                      <a:lnTo>
                        <a:pt x="124" y="541"/>
                      </a:lnTo>
                      <a:lnTo>
                        <a:pt x="167" y="516"/>
                      </a:lnTo>
                      <a:lnTo>
                        <a:pt x="212" y="525"/>
                      </a:lnTo>
                      <a:lnTo>
                        <a:pt x="263" y="558"/>
                      </a:lnTo>
                      <a:lnTo>
                        <a:pt x="342" y="558"/>
                      </a:lnTo>
                      <a:lnTo>
                        <a:pt x="474" y="575"/>
                      </a:lnTo>
                      <a:lnTo>
                        <a:pt x="599" y="566"/>
                      </a:lnTo>
                      <a:lnTo>
                        <a:pt x="679" y="541"/>
                      </a:lnTo>
                      <a:lnTo>
                        <a:pt x="702" y="499"/>
                      </a:lnTo>
                      <a:lnTo>
                        <a:pt x="657" y="432"/>
                      </a:lnTo>
                      <a:lnTo>
                        <a:pt x="643" y="341"/>
                      </a:lnTo>
                      <a:lnTo>
                        <a:pt x="643" y="249"/>
                      </a:lnTo>
                      <a:lnTo>
                        <a:pt x="650" y="165"/>
                      </a:lnTo>
                      <a:lnTo>
                        <a:pt x="665" y="74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59"/>
                <p:cNvSpPr/>
                <p:nvPr/>
              </p:nvSpPr>
              <p:spPr>
                <a:xfrm>
                  <a:off x="4509720" y="4680000"/>
                  <a:ext cx="273960" cy="28908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289080"/>
                    <a:gd name="textAreaBottom" fmla="*/ 289440 h 289080"/>
                  </a:gdLst>
                  <a:ahLst/>
                  <a:rect l="textAreaLeft" t="textAreaTop" r="textAreaRight" b="textAreaBottom"/>
                  <a:pathLst>
                    <a:path w="521" h="546">
                      <a:moveTo>
                        <a:pt x="510" y="216"/>
                      </a:moveTo>
                      <a:lnTo>
                        <a:pt x="521" y="149"/>
                      </a:lnTo>
                      <a:lnTo>
                        <a:pt x="496" y="75"/>
                      </a:lnTo>
                      <a:lnTo>
                        <a:pt x="423" y="20"/>
                      </a:lnTo>
                      <a:lnTo>
                        <a:pt x="284" y="0"/>
                      </a:lnTo>
                      <a:lnTo>
                        <a:pt x="131" y="37"/>
                      </a:lnTo>
                      <a:lnTo>
                        <a:pt x="15" y="112"/>
                      </a:lnTo>
                      <a:lnTo>
                        <a:pt x="0" y="191"/>
                      </a:lnTo>
                      <a:lnTo>
                        <a:pt x="0" y="291"/>
                      </a:lnTo>
                      <a:lnTo>
                        <a:pt x="62" y="350"/>
                      </a:lnTo>
                      <a:lnTo>
                        <a:pt x="123" y="374"/>
                      </a:lnTo>
                      <a:lnTo>
                        <a:pt x="211" y="374"/>
                      </a:lnTo>
                      <a:lnTo>
                        <a:pt x="295" y="371"/>
                      </a:lnTo>
                      <a:lnTo>
                        <a:pt x="353" y="483"/>
                      </a:lnTo>
                      <a:lnTo>
                        <a:pt x="389" y="538"/>
                      </a:lnTo>
                      <a:lnTo>
                        <a:pt x="419" y="546"/>
                      </a:lnTo>
                      <a:lnTo>
                        <a:pt x="419" y="521"/>
                      </a:lnTo>
                      <a:lnTo>
                        <a:pt x="343" y="363"/>
                      </a:lnTo>
                      <a:lnTo>
                        <a:pt x="415" y="325"/>
                      </a:lnTo>
                      <a:lnTo>
                        <a:pt x="485" y="254"/>
                      </a:lnTo>
                      <a:lnTo>
                        <a:pt x="510" y="2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" name="Text Box 84"/>
            <p:cNvSpPr/>
            <p:nvPr/>
          </p:nvSpPr>
          <p:spPr>
            <a:xfrm>
              <a:off x="3795840" y="500544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Религия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87"/>
          <p:cNvGrpSpPr/>
          <p:nvPr/>
        </p:nvGrpSpPr>
        <p:grpSpPr>
          <a:xfrm>
            <a:off x="3571920" y="1285920"/>
            <a:ext cx="1944360" cy="1551600"/>
            <a:chOff x="3571920" y="1285920"/>
            <a:chExt cx="1944360" cy="1551600"/>
          </a:xfrm>
        </p:grpSpPr>
        <p:pic>
          <p:nvPicPr>
            <p:cNvPr id="84" name="Picture 75" descr="j0078761"/>
            <p:cNvPicPr/>
            <p:nvPr/>
          </p:nvPicPr>
          <p:blipFill>
            <a:blip r:embed="rId6"/>
            <a:stretch/>
          </p:blipFill>
          <p:spPr>
            <a:xfrm>
              <a:off x="3571920" y="1285920"/>
              <a:ext cx="194436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6"/>
            <p:cNvSpPr/>
            <p:nvPr/>
          </p:nvSpPr>
          <p:spPr>
            <a:xfrm>
              <a:off x="3752640" y="243864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Эстетик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88"/>
          <p:cNvSpPr/>
          <p:nvPr/>
        </p:nvSpPr>
        <p:spPr>
          <a:xfrm>
            <a:off x="3143160" y="3071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Духовная культур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Группа 89"/>
          <p:cNvGrpSpPr/>
          <p:nvPr/>
        </p:nvGrpSpPr>
        <p:grpSpPr>
          <a:xfrm>
            <a:off x="6500880" y="1285920"/>
            <a:ext cx="1233360" cy="1613520"/>
            <a:chOff x="6500880" y="1285920"/>
            <a:chExt cx="1233360" cy="1613520"/>
          </a:xfrm>
        </p:grpSpPr>
        <p:sp>
          <p:nvSpPr>
            <p:cNvPr id="88" name="Text Box 78"/>
            <p:cNvSpPr/>
            <p:nvPr/>
          </p:nvSpPr>
          <p:spPr>
            <a:xfrm>
              <a:off x="6581520" y="250056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рав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" name="Object 69"/>
            <p:cNvGraphicFramePr/>
            <p:nvPr/>
          </p:nvGraphicFramePr>
          <p:xfrm>
            <a:off x="7396200" y="1414440"/>
            <a:ext cx="318960" cy="276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" name="Object 6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96200" y="1414440"/>
                      <a:ext cx="318960" cy="2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1" name="Group 62"/>
            <p:cNvGrpSpPr/>
            <p:nvPr/>
          </p:nvGrpSpPr>
          <p:grpSpPr>
            <a:xfrm>
              <a:off x="6918120" y="1285920"/>
              <a:ext cx="610920" cy="1117440"/>
              <a:chOff x="6918120" y="1285920"/>
              <a:chExt cx="610920" cy="1117440"/>
            </a:xfrm>
          </p:grpSpPr>
          <p:sp>
            <p:nvSpPr>
              <p:cNvPr id="92" name="Freeform 56"/>
              <p:cNvSpPr/>
              <p:nvPr/>
            </p:nvSpPr>
            <p:spPr>
              <a:xfrm>
                <a:off x="6918120" y="1285920"/>
                <a:ext cx="291960" cy="25128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441" h="525">
                    <a:moveTo>
                      <a:pt x="280" y="119"/>
                    </a:moveTo>
                    <a:lnTo>
                      <a:pt x="236" y="53"/>
                    </a:lnTo>
                    <a:lnTo>
                      <a:pt x="193" y="14"/>
                    </a:lnTo>
                    <a:lnTo>
                      <a:pt x="140" y="0"/>
                    </a:lnTo>
                    <a:lnTo>
                      <a:pt x="91" y="14"/>
                    </a:lnTo>
                    <a:lnTo>
                      <a:pt x="43" y="47"/>
                    </a:lnTo>
                    <a:lnTo>
                      <a:pt x="16" y="113"/>
                    </a:lnTo>
                    <a:lnTo>
                      <a:pt x="0" y="220"/>
                    </a:lnTo>
                    <a:lnTo>
                      <a:pt x="16" y="312"/>
                    </a:lnTo>
                    <a:lnTo>
                      <a:pt x="49" y="385"/>
                    </a:lnTo>
                    <a:lnTo>
                      <a:pt x="91" y="452"/>
                    </a:lnTo>
                    <a:lnTo>
                      <a:pt x="151" y="505"/>
                    </a:lnTo>
                    <a:lnTo>
                      <a:pt x="204" y="525"/>
                    </a:lnTo>
                    <a:lnTo>
                      <a:pt x="253" y="518"/>
                    </a:lnTo>
                    <a:lnTo>
                      <a:pt x="306" y="485"/>
                    </a:lnTo>
                    <a:lnTo>
                      <a:pt x="318" y="439"/>
                    </a:lnTo>
                    <a:lnTo>
                      <a:pt x="318" y="352"/>
                    </a:lnTo>
                    <a:lnTo>
                      <a:pt x="318" y="265"/>
                    </a:lnTo>
                    <a:lnTo>
                      <a:pt x="301" y="173"/>
                    </a:lnTo>
                    <a:lnTo>
                      <a:pt x="360" y="146"/>
                    </a:lnTo>
                    <a:lnTo>
                      <a:pt x="420" y="93"/>
                    </a:lnTo>
                    <a:lnTo>
                      <a:pt x="441" y="66"/>
                    </a:lnTo>
                    <a:lnTo>
                      <a:pt x="435" y="53"/>
                    </a:lnTo>
                    <a:lnTo>
                      <a:pt x="403" y="53"/>
                    </a:lnTo>
                    <a:lnTo>
                      <a:pt x="344" y="100"/>
                    </a:lnTo>
                    <a:lnTo>
                      <a:pt x="28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57"/>
              <p:cNvSpPr/>
              <p:nvPr/>
            </p:nvSpPr>
            <p:spPr>
              <a:xfrm>
                <a:off x="7037640" y="1563120"/>
                <a:ext cx="240120" cy="40104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362" h="837">
                    <a:moveTo>
                      <a:pt x="70" y="14"/>
                    </a:moveTo>
                    <a:lnTo>
                      <a:pt x="119" y="0"/>
                    </a:lnTo>
                    <a:lnTo>
                      <a:pt x="179" y="7"/>
                    </a:lnTo>
                    <a:lnTo>
                      <a:pt x="232" y="47"/>
                    </a:lnTo>
                    <a:lnTo>
                      <a:pt x="281" y="125"/>
                    </a:lnTo>
                    <a:lnTo>
                      <a:pt x="324" y="243"/>
                    </a:lnTo>
                    <a:lnTo>
                      <a:pt x="345" y="349"/>
                    </a:lnTo>
                    <a:lnTo>
                      <a:pt x="362" y="448"/>
                    </a:lnTo>
                    <a:lnTo>
                      <a:pt x="362" y="561"/>
                    </a:lnTo>
                    <a:lnTo>
                      <a:pt x="335" y="665"/>
                    </a:lnTo>
                    <a:lnTo>
                      <a:pt x="308" y="725"/>
                    </a:lnTo>
                    <a:lnTo>
                      <a:pt x="264" y="785"/>
                    </a:lnTo>
                    <a:lnTo>
                      <a:pt x="216" y="824"/>
                    </a:lnTo>
                    <a:lnTo>
                      <a:pt x="145" y="837"/>
                    </a:lnTo>
                    <a:lnTo>
                      <a:pt x="102" y="804"/>
                    </a:lnTo>
                    <a:lnTo>
                      <a:pt x="70" y="745"/>
                    </a:lnTo>
                    <a:lnTo>
                      <a:pt x="64" y="665"/>
                    </a:lnTo>
                    <a:lnTo>
                      <a:pt x="86" y="599"/>
                    </a:lnTo>
                    <a:lnTo>
                      <a:pt x="108" y="547"/>
                    </a:lnTo>
                    <a:lnTo>
                      <a:pt x="124" y="474"/>
                    </a:lnTo>
                    <a:lnTo>
                      <a:pt x="113" y="415"/>
                    </a:lnTo>
                    <a:lnTo>
                      <a:pt x="92" y="356"/>
                    </a:lnTo>
                    <a:lnTo>
                      <a:pt x="38" y="283"/>
                    </a:lnTo>
                    <a:lnTo>
                      <a:pt x="11" y="210"/>
                    </a:lnTo>
                    <a:lnTo>
                      <a:pt x="0" y="118"/>
                    </a:lnTo>
                    <a:lnTo>
                      <a:pt x="21" y="59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58"/>
              <p:cNvSpPr/>
              <p:nvPr/>
            </p:nvSpPr>
            <p:spPr>
              <a:xfrm>
                <a:off x="6922080" y="1597680"/>
                <a:ext cx="180360" cy="37620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74" h="787">
                    <a:moveTo>
                      <a:pt x="137" y="99"/>
                    </a:moveTo>
                    <a:lnTo>
                      <a:pt x="180" y="20"/>
                    </a:lnTo>
                    <a:lnTo>
                      <a:pt x="236" y="0"/>
                    </a:lnTo>
                    <a:lnTo>
                      <a:pt x="251" y="47"/>
                    </a:lnTo>
                    <a:lnTo>
                      <a:pt x="246" y="158"/>
                    </a:lnTo>
                    <a:lnTo>
                      <a:pt x="203" y="172"/>
                    </a:lnTo>
                    <a:lnTo>
                      <a:pt x="154" y="219"/>
                    </a:lnTo>
                    <a:lnTo>
                      <a:pt x="99" y="311"/>
                    </a:lnTo>
                    <a:lnTo>
                      <a:pt x="71" y="377"/>
                    </a:lnTo>
                    <a:lnTo>
                      <a:pt x="115" y="403"/>
                    </a:lnTo>
                    <a:lnTo>
                      <a:pt x="191" y="450"/>
                    </a:lnTo>
                    <a:lnTo>
                      <a:pt x="230" y="483"/>
                    </a:lnTo>
                    <a:lnTo>
                      <a:pt x="274" y="549"/>
                    </a:lnTo>
                    <a:lnTo>
                      <a:pt x="257" y="596"/>
                    </a:lnTo>
                    <a:lnTo>
                      <a:pt x="225" y="608"/>
                    </a:lnTo>
                    <a:lnTo>
                      <a:pt x="197" y="634"/>
                    </a:lnTo>
                    <a:lnTo>
                      <a:pt x="165" y="681"/>
                    </a:lnTo>
                    <a:lnTo>
                      <a:pt x="159" y="754"/>
                    </a:lnTo>
                    <a:lnTo>
                      <a:pt x="131" y="787"/>
                    </a:lnTo>
                    <a:lnTo>
                      <a:pt x="115" y="761"/>
                    </a:lnTo>
                    <a:lnTo>
                      <a:pt x="120" y="695"/>
                    </a:lnTo>
                    <a:lnTo>
                      <a:pt x="148" y="622"/>
                    </a:lnTo>
                    <a:lnTo>
                      <a:pt x="191" y="589"/>
                    </a:lnTo>
                    <a:lnTo>
                      <a:pt x="225" y="556"/>
                    </a:lnTo>
                    <a:lnTo>
                      <a:pt x="208" y="523"/>
                    </a:lnTo>
                    <a:lnTo>
                      <a:pt x="175" y="490"/>
                    </a:lnTo>
                    <a:lnTo>
                      <a:pt x="126" y="457"/>
                    </a:lnTo>
                    <a:lnTo>
                      <a:pt x="60" y="436"/>
                    </a:lnTo>
                    <a:lnTo>
                      <a:pt x="11" y="424"/>
                    </a:lnTo>
                    <a:lnTo>
                      <a:pt x="0" y="396"/>
                    </a:lnTo>
                    <a:lnTo>
                      <a:pt x="11" y="351"/>
                    </a:lnTo>
                    <a:lnTo>
                      <a:pt x="44" y="311"/>
                    </a:lnTo>
                    <a:lnTo>
                      <a:pt x="77" y="258"/>
                    </a:lnTo>
                    <a:lnTo>
                      <a:pt x="109" y="179"/>
                    </a:lnTo>
                    <a:lnTo>
                      <a:pt x="13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59"/>
              <p:cNvSpPr/>
              <p:nvPr/>
            </p:nvSpPr>
            <p:spPr>
              <a:xfrm>
                <a:off x="7124040" y="1397880"/>
                <a:ext cx="405000" cy="254160"/>
              </a:xfrm>
              <a:custGeom>
                <a:avLst/>
                <a:gdLst>
                  <a:gd name="textAreaLeft" fmla="*/ 0 w 405000"/>
                  <a:gd name="textAreaRight" fmla="*/ 405360 w 40500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610" h="532">
                    <a:moveTo>
                      <a:pt x="0" y="392"/>
                    </a:moveTo>
                    <a:lnTo>
                      <a:pt x="5" y="359"/>
                    </a:lnTo>
                    <a:lnTo>
                      <a:pt x="70" y="346"/>
                    </a:lnTo>
                    <a:lnTo>
                      <a:pt x="139" y="365"/>
                    </a:lnTo>
                    <a:lnTo>
                      <a:pt x="209" y="398"/>
                    </a:lnTo>
                    <a:lnTo>
                      <a:pt x="294" y="426"/>
                    </a:lnTo>
                    <a:lnTo>
                      <a:pt x="332" y="431"/>
                    </a:lnTo>
                    <a:lnTo>
                      <a:pt x="369" y="386"/>
                    </a:lnTo>
                    <a:lnTo>
                      <a:pt x="412" y="299"/>
                    </a:lnTo>
                    <a:lnTo>
                      <a:pt x="471" y="180"/>
                    </a:lnTo>
                    <a:lnTo>
                      <a:pt x="498" y="105"/>
                    </a:lnTo>
                    <a:lnTo>
                      <a:pt x="492" y="66"/>
                    </a:lnTo>
                    <a:lnTo>
                      <a:pt x="460" y="6"/>
                    </a:lnTo>
                    <a:lnTo>
                      <a:pt x="492" y="0"/>
                    </a:lnTo>
                    <a:lnTo>
                      <a:pt x="519" y="60"/>
                    </a:lnTo>
                    <a:lnTo>
                      <a:pt x="562" y="79"/>
                    </a:lnTo>
                    <a:lnTo>
                      <a:pt x="610" y="100"/>
                    </a:lnTo>
                    <a:lnTo>
                      <a:pt x="572" y="140"/>
                    </a:lnTo>
                    <a:lnTo>
                      <a:pt x="535" y="159"/>
                    </a:lnTo>
                    <a:lnTo>
                      <a:pt x="492" y="239"/>
                    </a:lnTo>
                    <a:lnTo>
                      <a:pt x="454" y="306"/>
                    </a:lnTo>
                    <a:lnTo>
                      <a:pt x="418" y="405"/>
                    </a:lnTo>
                    <a:lnTo>
                      <a:pt x="380" y="478"/>
                    </a:lnTo>
                    <a:lnTo>
                      <a:pt x="342" y="532"/>
                    </a:lnTo>
                    <a:lnTo>
                      <a:pt x="310" y="532"/>
                    </a:lnTo>
                    <a:lnTo>
                      <a:pt x="273" y="492"/>
                    </a:lnTo>
                    <a:lnTo>
                      <a:pt x="219" y="466"/>
                    </a:lnTo>
                    <a:lnTo>
                      <a:pt x="160" y="452"/>
                    </a:lnTo>
                    <a:lnTo>
                      <a:pt x="74" y="438"/>
                    </a:lnTo>
                    <a:lnTo>
                      <a:pt x="0" y="3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60"/>
              <p:cNvSpPr/>
              <p:nvPr/>
            </p:nvSpPr>
            <p:spPr>
              <a:xfrm>
                <a:off x="7153200" y="1902240"/>
                <a:ext cx="199080" cy="4982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300" h="1040">
                    <a:moveTo>
                      <a:pt x="28" y="0"/>
                    </a:moveTo>
                    <a:lnTo>
                      <a:pt x="82" y="20"/>
                    </a:lnTo>
                    <a:lnTo>
                      <a:pt x="126" y="86"/>
                    </a:lnTo>
                    <a:lnTo>
                      <a:pt x="158" y="225"/>
                    </a:lnTo>
                    <a:lnTo>
                      <a:pt x="180" y="395"/>
                    </a:lnTo>
                    <a:lnTo>
                      <a:pt x="175" y="553"/>
                    </a:lnTo>
                    <a:lnTo>
                      <a:pt x="152" y="685"/>
                    </a:lnTo>
                    <a:lnTo>
                      <a:pt x="126" y="823"/>
                    </a:lnTo>
                    <a:lnTo>
                      <a:pt x="120" y="870"/>
                    </a:lnTo>
                    <a:lnTo>
                      <a:pt x="142" y="896"/>
                    </a:lnTo>
                    <a:lnTo>
                      <a:pt x="223" y="922"/>
                    </a:lnTo>
                    <a:lnTo>
                      <a:pt x="300" y="962"/>
                    </a:lnTo>
                    <a:lnTo>
                      <a:pt x="300" y="988"/>
                    </a:lnTo>
                    <a:lnTo>
                      <a:pt x="240" y="1040"/>
                    </a:lnTo>
                    <a:lnTo>
                      <a:pt x="202" y="1021"/>
                    </a:lnTo>
                    <a:lnTo>
                      <a:pt x="175" y="981"/>
                    </a:lnTo>
                    <a:lnTo>
                      <a:pt x="120" y="941"/>
                    </a:lnTo>
                    <a:lnTo>
                      <a:pt x="66" y="934"/>
                    </a:lnTo>
                    <a:lnTo>
                      <a:pt x="43" y="908"/>
                    </a:lnTo>
                    <a:lnTo>
                      <a:pt x="55" y="863"/>
                    </a:lnTo>
                    <a:lnTo>
                      <a:pt x="71" y="830"/>
                    </a:lnTo>
                    <a:lnTo>
                      <a:pt x="98" y="757"/>
                    </a:lnTo>
                    <a:lnTo>
                      <a:pt x="126" y="619"/>
                    </a:lnTo>
                    <a:lnTo>
                      <a:pt x="126" y="475"/>
                    </a:lnTo>
                    <a:lnTo>
                      <a:pt x="115" y="343"/>
                    </a:lnTo>
                    <a:lnTo>
                      <a:pt x="82" y="211"/>
                    </a:lnTo>
                    <a:lnTo>
                      <a:pt x="38" y="126"/>
                    </a:lnTo>
                    <a:lnTo>
                      <a:pt x="0" y="7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61"/>
              <p:cNvSpPr/>
              <p:nvPr/>
            </p:nvSpPr>
            <p:spPr>
              <a:xfrm>
                <a:off x="7005600" y="1909440"/>
                <a:ext cx="152640" cy="49392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230" h="1033">
                    <a:moveTo>
                      <a:pt x="93" y="138"/>
                    </a:moveTo>
                    <a:lnTo>
                      <a:pt x="137" y="26"/>
                    </a:lnTo>
                    <a:lnTo>
                      <a:pt x="202" y="0"/>
                    </a:lnTo>
                    <a:lnTo>
                      <a:pt x="230" y="40"/>
                    </a:lnTo>
                    <a:lnTo>
                      <a:pt x="208" y="106"/>
                    </a:lnTo>
                    <a:lnTo>
                      <a:pt x="181" y="158"/>
                    </a:lnTo>
                    <a:lnTo>
                      <a:pt x="159" y="251"/>
                    </a:lnTo>
                    <a:lnTo>
                      <a:pt x="142" y="388"/>
                    </a:lnTo>
                    <a:lnTo>
                      <a:pt x="142" y="532"/>
                    </a:lnTo>
                    <a:lnTo>
                      <a:pt x="159" y="691"/>
                    </a:lnTo>
                    <a:lnTo>
                      <a:pt x="159" y="842"/>
                    </a:lnTo>
                    <a:lnTo>
                      <a:pt x="170" y="901"/>
                    </a:lnTo>
                    <a:lnTo>
                      <a:pt x="148" y="941"/>
                    </a:lnTo>
                    <a:lnTo>
                      <a:pt x="116" y="974"/>
                    </a:lnTo>
                    <a:lnTo>
                      <a:pt x="82" y="1019"/>
                    </a:lnTo>
                    <a:lnTo>
                      <a:pt x="39" y="1033"/>
                    </a:lnTo>
                    <a:lnTo>
                      <a:pt x="6" y="988"/>
                    </a:lnTo>
                    <a:lnTo>
                      <a:pt x="0" y="948"/>
                    </a:lnTo>
                    <a:lnTo>
                      <a:pt x="39" y="922"/>
                    </a:lnTo>
                    <a:lnTo>
                      <a:pt x="93" y="896"/>
                    </a:lnTo>
                    <a:lnTo>
                      <a:pt x="116" y="856"/>
                    </a:lnTo>
                    <a:lnTo>
                      <a:pt x="120" y="790"/>
                    </a:lnTo>
                    <a:lnTo>
                      <a:pt x="110" y="678"/>
                    </a:lnTo>
                    <a:lnTo>
                      <a:pt x="93" y="566"/>
                    </a:lnTo>
                    <a:lnTo>
                      <a:pt x="93" y="468"/>
                    </a:lnTo>
                    <a:lnTo>
                      <a:pt x="88" y="336"/>
                    </a:lnTo>
                    <a:lnTo>
                      <a:pt x="88" y="237"/>
                    </a:lnTo>
                    <a:lnTo>
                      <a:pt x="93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Полилиния 67"/>
            <p:cNvSpPr/>
            <p:nvPr/>
          </p:nvSpPr>
          <p:spPr>
            <a:xfrm>
              <a:off x="6924600" y="1314360"/>
              <a:ext cx="168120" cy="147600"/>
            </a:xfrm>
            <a:custGeom>
              <a:avLst/>
              <a:gdLst/>
              <a:ahLst/>
              <a:rect l="l" t="t" r="r" b="b"/>
              <a:pathLst>
                <a:path w="169137" h="147996">
                  <a:moveTo>
                    <a:pt x="169137" y="26428"/>
                  </a:moveTo>
                  <a:cubicBezTo>
                    <a:pt x="141579" y="35615"/>
                    <a:pt x="162843" y="24921"/>
                    <a:pt x="142710" y="47570"/>
                  </a:cubicBezTo>
                  <a:cubicBezTo>
                    <a:pt x="132778" y="58744"/>
                    <a:pt x="121567" y="68712"/>
                    <a:pt x="110996" y="79283"/>
                  </a:cubicBezTo>
                  <a:cubicBezTo>
                    <a:pt x="107472" y="82807"/>
                    <a:pt x="103189" y="85709"/>
                    <a:pt x="100425" y="89855"/>
                  </a:cubicBezTo>
                  <a:cubicBezTo>
                    <a:pt x="96901" y="95140"/>
                    <a:pt x="94037" y="100930"/>
                    <a:pt x="89854" y="105711"/>
                  </a:cubicBezTo>
                  <a:cubicBezTo>
                    <a:pt x="79139" y="117957"/>
                    <a:pt x="63490" y="134750"/>
                    <a:pt x="47570" y="142710"/>
                  </a:cubicBezTo>
                  <a:cubicBezTo>
                    <a:pt x="42587" y="145202"/>
                    <a:pt x="36999" y="146234"/>
                    <a:pt x="31713" y="147996"/>
                  </a:cubicBezTo>
                  <a:cubicBezTo>
                    <a:pt x="19242" y="143839"/>
                    <a:pt x="12540" y="144230"/>
                    <a:pt x="5285" y="132139"/>
                  </a:cubicBezTo>
                  <a:cubicBezTo>
                    <a:pt x="2418" y="127361"/>
                    <a:pt x="1762" y="121568"/>
                    <a:pt x="0" y="116282"/>
                  </a:cubicBezTo>
                  <a:cubicBezTo>
                    <a:pt x="1762" y="109235"/>
                    <a:pt x="2036" y="101637"/>
                    <a:pt x="5285" y="95140"/>
                  </a:cubicBezTo>
                  <a:cubicBezTo>
                    <a:pt x="9050" y="87610"/>
                    <a:pt x="26113" y="77731"/>
                    <a:pt x="31713" y="73998"/>
                  </a:cubicBezTo>
                  <a:cubicBezTo>
                    <a:pt x="49332" y="47569"/>
                    <a:pt x="36998" y="61666"/>
                    <a:pt x="73998" y="36999"/>
                  </a:cubicBezTo>
                  <a:lnTo>
                    <a:pt x="105711" y="15857"/>
                  </a:lnTo>
                  <a:cubicBezTo>
                    <a:pt x="110997" y="12333"/>
                    <a:pt x="115542" y="7295"/>
                    <a:pt x="121568" y="5286"/>
                  </a:cubicBezTo>
                  <a:lnTo>
                    <a:pt x="137424" y="0"/>
                  </a:lnTo>
                  <a:cubicBezTo>
                    <a:pt x="150321" y="4299"/>
                    <a:pt x="158891" y="5611"/>
                    <a:pt x="169137" y="15857"/>
                  </a:cubicBezTo>
                  <a:lnTo>
                    <a:pt x="169137" y="2642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Полилиния 68"/>
            <p:cNvSpPr/>
            <p:nvPr/>
          </p:nvSpPr>
          <p:spPr>
            <a:xfrm>
              <a:off x="6869160" y="1441440"/>
              <a:ext cx="75960" cy="131760"/>
            </a:xfrm>
            <a:custGeom>
              <a:avLst/>
              <a:gdLst/>
              <a:ahLst/>
              <a:rect l="l" t="t" r="r" b="b"/>
              <a:pathLst>
                <a:path w="77124" h="131898">
                  <a:moveTo>
                    <a:pt x="61267" y="4405"/>
                  </a:moveTo>
                  <a:cubicBezTo>
                    <a:pt x="57743" y="8810"/>
                    <a:pt x="61810" y="47433"/>
                    <a:pt x="55982" y="67832"/>
                  </a:cubicBezTo>
                  <a:cubicBezTo>
                    <a:pt x="54237" y="73940"/>
                    <a:pt x="45294" y="74711"/>
                    <a:pt x="40125" y="78403"/>
                  </a:cubicBezTo>
                  <a:cubicBezTo>
                    <a:pt x="32957" y="83523"/>
                    <a:pt x="26030" y="88974"/>
                    <a:pt x="18983" y="94259"/>
                  </a:cubicBezTo>
                  <a:cubicBezTo>
                    <a:pt x="17203" y="96929"/>
                    <a:pt x="0" y="119721"/>
                    <a:pt x="3126" y="125973"/>
                  </a:cubicBezTo>
                  <a:cubicBezTo>
                    <a:pt x="5618" y="130956"/>
                    <a:pt x="13697" y="129496"/>
                    <a:pt x="18983" y="131258"/>
                  </a:cubicBezTo>
                  <a:cubicBezTo>
                    <a:pt x="34840" y="129496"/>
                    <a:pt x="51740" y="131898"/>
                    <a:pt x="66553" y="125973"/>
                  </a:cubicBezTo>
                  <a:cubicBezTo>
                    <a:pt x="71726" y="123904"/>
                    <a:pt x="71148" y="115645"/>
                    <a:pt x="71839" y="110116"/>
                  </a:cubicBezTo>
                  <a:cubicBezTo>
                    <a:pt x="74688" y="87322"/>
                    <a:pt x="75362" y="64308"/>
                    <a:pt x="77124" y="41404"/>
                  </a:cubicBezTo>
                  <a:cubicBezTo>
                    <a:pt x="64977" y="17110"/>
                    <a:pt x="64791" y="0"/>
                    <a:pt x="61267" y="4405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Полилиния 69"/>
            <p:cNvSpPr/>
            <p:nvPr/>
          </p:nvSpPr>
          <p:spPr>
            <a:xfrm>
              <a:off x="6929280" y="1428480"/>
              <a:ext cx="28440" cy="183960"/>
            </a:xfrm>
            <a:custGeom>
              <a:avLst/>
              <a:gdLst/>
              <a:ahLst/>
              <a:rect l="l" t="t" r="r" b="b"/>
              <a:pathLst>
                <a:path w="28931" h="184018">
                  <a:moveTo>
                    <a:pt x="5285" y="8809"/>
                  </a:moveTo>
                  <a:cubicBezTo>
                    <a:pt x="5285" y="0"/>
                    <a:pt x="14428" y="18475"/>
                    <a:pt x="15856" y="24665"/>
                  </a:cubicBezTo>
                  <a:cubicBezTo>
                    <a:pt x="19838" y="41918"/>
                    <a:pt x="18638" y="59992"/>
                    <a:pt x="21142" y="77521"/>
                  </a:cubicBezTo>
                  <a:cubicBezTo>
                    <a:pt x="22169" y="84712"/>
                    <a:pt x="24665" y="91616"/>
                    <a:pt x="26427" y="98663"/>
                  </a:cubicBezTo>
                  <a:cubicBezTo>
                    <a:pt x="24665" y="125091"/>
                    <a:pt x="28931" y="152631"/>
                    <a:pt x="21142" y="177946"/>
                  </a:cubicBezTo>
                  <a:cubicBezTo>
                    <a:pt x="19274" y="184018"/>
                    <a:pt x="9253" y="172336"/>
                    <a:pt x="5285" y="167375"/>
                  </a:cubicBezTo>
                  <a:cubicBezTo>
                    <a:pt x="1805" y="163024"/>
                    <a:pt x="1762" y="156804"/>
                    <a:pt x="0" y="151518"/>
                  </a:cubicBezTo>
                  <a:cubicBezTo>
                    <a:pt x="1762" y="132138"/>
                    <a:pt x="1208" y="112405"/>
                    <a:pt x="5285" y="93377"/>
                  </a:cubicBezTo>
                  <a:cubicBezTo>
                    <a:pt x="6616" y="87166"/>
                    <a:pt x="15016" y="83818"/>
                    <a:pt x="15856" y="77521"/>
                  </a:cubicBezTo>
                  <a:cubicBezTo>
                    <a:pt x="18650" y="56564"/>
                    <a:pt x="5285" y="17618"/>
                    <a:pt x="5285" y="8809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Picture 49" descr="C:\Documents and Settings\1\Мои документы\Загрузки\Power_habloni\п\goods_sword.png"/>
            <p:cNvPicPr/>
            <p:nvPr/>
          </p:nvPicPr>
          <p:blipFill>
            <a:blip r:embed="rId9"/>
            <a:stretch/>
          </p:blipFill>
          <p:spPr>
            <a:xfrm>
              <a:off x="6500880" y="1643040"/>
              <a:ext cx="81288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88"/>
          <p:cNvGrpSpPr/>
          <p:nvPr/>
        </p:nvGrpSpPr>
        <p:grpSpPr>
          <a:xfrm>
            <a:off x="6500880" y="3143160"/>
            <a:ext cx="1675440" cy="1629360"/>
            <a:chOff x="6500880" y="3143160"/>
            <a:chExt cx="1675440" cy="1629360"/>
          </a:xfrm>
        </p:grpSpPr>
        <p:sp>
          <p:nvSpPr>
            <p:cNvPr id="103" name="Text Box 90"/>
            <p:cNvSpPr/>
            <p:nvPr/>
          </p:nvSpPr>
          <p:spPr>
            <a:xfrm>
              <a:off x="6509520" y="437364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Наук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Group 135"/>
            <p:cNvGrpSpPr/>
            <p:nvPr/>
          </p:nvGrpSpPr>
          <p:grpSpPr>
            <a:xfrm>
              <a:off x="6500880" y="3143160"/>
              <a:ext cx="1675440" cy="1295280"/>
              <a:chOff x="6500880" y="3143160"/>
              <a:chExt cx="1675440" cy="1295280"/>
            </a:xfrm>
          </p:grpSpPr>
          <p:sp>
            <p:nvSpPr>
              <p:cNvPr id="105" name="AutoShape 134"/>
              <p:cNvSpPr/>
              <p:nvPr/>
            </p:nvSpPr>
            <p:spPr>
              <a:xfrm>
                <a:off x="6500880" y="3143160"/>
                <a:ext cx="1674720" cy="12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Group 144"/>
              <p:cNvGrpSpPr/>
              <p:nvPr/>
            </p:nvGrpSpPr>
            <p:grpSpPr>
              <a:xfrm>
                <a:off x="6509880" y="3143160"/>
                <a:ext cx="1657080" cy="738720"/>
                <a:chOff x="6509880" y="3143160"/>
                <a:chExt cx="1657080" cy="738720"/>
              </a:xfrm>
            </p:grpSpPr>
            <p:sp>
              <p:nvSpPr>
                <p:cNvPr id="107" name="Freeform 136"/>
                <p:cNvSpPr/>
                <p:nvPr/>
              </p:nvSpPr>
              <p:spPr>
                <a:xfrm>
                  <a:off x="6509880" y="3179160"/>
                  <a:ext cx="41040" cy="69948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699480"/>
                    <a:gd name="textAreaBottom" fmla="*/ 699840 h 699480"/>
                  </a:gdLst>
                  <a:ahLst/>
                  <a:rect l="textAreaLeft" t="textAreaTop" r="textAreaRight" b="textAreaBottom"/>
                  <a:pathLst>
                    <a:path w="53" h="1325">
                      <a:moveTo>
                        <a:pt x="17" y="1292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2" y="25"/>
                      </a:lnTo>
                      <a:lnTo>
                        <a:pt x="21" y="205"/>
                      </a:lnTo>
                      <a:lnTo>
                        <a:pt x="24" y="393"/>
                      </a:lnTo>
                      <a:lnTo>
                        <a:pt x="36" y="624"/>
                      </a:lnTo>
                      <a:lnTo>
                        <a:pt x="43" y="906"/>
                      </a:lnTo>
                      <a:lnTo>
                        <a:pt x="43" y="1171"/>
                      </a:lnTo>
                      <a:lnTo>
                        <a:pt x="53" y="1299"/>
                      </a:lnTo>
                      <a:lnTo>
                        <a:pt x="32" y="1325"/>
                      </a:lnTo>
                      <a:lnTo>
                        <a:pt x="17" y="1292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37"/>
                <p:cNvSpPr/>
                <p:nvPr/>
              </p:nvSpPr>
              <p:spPr>
                <a:xfrm>
                  <a:off x="6752520" y="3171240"/>
                  <a:ext cx="41040" cy="700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2" h="1326">
                      <a:moveTo>
                        <a:pt x="17" y="1294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32" y="25"/>
                      </a:lnTo>
                      <a:lnTo>
                        <a:pt x="20" y="206"/>
                      </a:lnTo>
                      <a:lnTo>
                        <a:pt x="24" y="393"/>
                      </a:lnTo>
                      <a:lnTo>
                        <a:pt x="35" y="624"/>
                      </a:lnTo>
                      <a:lnTo>
                        <a:pt x="42" y="908"/>
                      </a:lnTo>
                      <a:lnTo>
                        <a:pt x="42" y="1172"/>
                      </a:lnTo>
                      <a:lnTo>
                        <a:pt x="52" y="1301"/>
                      </a:lnTo>
                      <a:lnTo>
                        <a:pt x="32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138"/>
                <p:cNvSpPr/>
                <p:nvPr/>
              </p:nvSpPr>
              <p:spPr>
                <a:xfrm>
                  <a:off x="6993360" y="3150720"/>
                  <a:ext cx="41040" cy="700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1" h="1326">
                      <a:moveTo>
                        <a:pt x="17" y="1294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31" y="25"/>
                      </a:lnTo>
                      <a:lnTo>
                        <a:pt x="20" y="206"/>
                      </a:lnTo>
                      <a:lnTo>
                        <a:pt x="24" y="393"/>
                      </a:lnTo>
                      <a:lnTo>
                        <a:pt x="34" y="624"/>
                      </a:lnTo>
                      <a:lnTo>
                        <a:pt x="41" y="908"/>
                      </a:lnTo>
                      <a:lnTo>
                        <a:pt x="41" y="1173"/>
                      </a:lnTo>
                      <a:lnTo>
                        <a:pt x="51" y="1301"/>
                      </a:lnTo>
                      <a:lnTo>
                        <a:pt x="31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139"/>
                <p:cNvSpPr/>
                <p:nvPr/>
              </p:nvSpPr>
              <p:spPr>
                <a:xfrm>
                  <a:off x="7231320" y="3143160"/>
                  <a:ext cx="41040" cy="700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1" h="1326">
                      <a:moveTo>
                        <a:pt x="17" y="1294"/>
                      </a:moveTo>
                      <a:lnTo>
                        <a:pt x="0" y="496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30" y="26"/>
                      </a:lnTo>
                      <a:lnTo>
                        <a:pt x="20" y="206"/>
                      </a:lnTo>
                      <a:lnTo>
                        <a:pt x="24" y="394"/>
                      </a:lnTo>
                      <a:lnTo>
                        <a:pt x="34" y="624"/>
                      </a:lnTo>
                      <a:lnTo>
                        <a:pt x="41" y="908"/>
                      </a:lnTo>
                      <a:lnTo>
                        <a:pt x="41" y="1173"/>
                      </a:lnTo>
                      <a:lnTo>
                        <a:pt x="51" y="1301"/>
                      </a:lnTo>
                      <a:lnTo>
                        <a:pt x="30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140"/>
                <p:cNvSpPr/>
                <p:nvPr/>
              </p:nvSpPr>
              <p:spPr>
                <a:xfrm>
                  <a:off x="7455240" y="3160080"/>
                  <a:ext cx="40680" cy="70092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1" h="1326">
                      <a:moveTo>
                        <a:pt x="17" y="1293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1" y="25"/>
                      </a:lnTo>
                      <a:lnTo>
                        <a:pt x="21" y="205"/>
                      </a:lnTo>
                      <a:lnTo>
                        <a:pt x="24" y="393"/>
                      </a:lnTo>
                      <a:lnTo>
                        <a:pt x="34" y="624"/>
                      </a:lnTo>
                      <a:lnTo>
                        <a:pt x="41" y="908"/>
                      </a:lnTo>
                      <a:lnTo>
                        <a:pt x="41" y="1172"/>
                      </a:lnTo>
                      <a:lnTo>
                        <a:pt x="51" y="1301"/>
                      </a:lnTo>
                      <a:lnTo>
                        <a:pt x="31" y="1326"/>
                      </a:lnTo>
                      <a:lnTo>
                        <a:pt x="17" y="1293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141"/>
                <p:cNvSpPr/>
                <p:nvPr/>
              </p:nvSpPr>
              <p:spPr>
                <a:xfrm>
                  <a:off x="7657920" y="3164760"/>
                  <a:ext cx="41040" cy="70128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52" h="1326">
                      <a:moveTo>
                        <a:pt x="17" y="1294"/>
                      </a:moveTo>
                      <a:lnTo>
                        <a:pt x="0" y="496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1" y="26"/>
                      </a:lnTo>
                      <a:lnTo>
                        <a:pt x="21" y="206"/>
                      </a:lnTo>
                      <a:lnTo>
                        <a:pt x="24" y="394"/>
                      </a:lnTo>
                      <a:lnTo>
                        <a:pt x="35" y="624"/>
                      </a:lnTo>
                      <a:lnTo>
                        <a:pt x="41" y="908"/>
                      </a:lnTo>
                      <a:lnTo>
                        <a:pt x="41" y="1173"/>
                      </a:lnTo>
                      <a:lnTo>
                        <a:pt x="52" y="1301"/>
                      </a:lnTo>
                      <a:lnTo>
                        <a:pt x="31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142"/>
                <p:cNvSpPr/>
                <p:nvPr/>
              </p:nvSpPr>
              <p:spPr>
                <a:xfrm>
                  <a:off x="7871760" y="3164760"/>
                  <a:ext cx="39600" cy="7012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52" h="1326">
                      <a:moveTo>
                        <a:pt x="17" y="1294"/>
                      </a:moveTo>
                      <a:lnTo>
                        <a:pt x="0" y="496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1" y="26"/>
                      </a:lnTo>
                      <a:lnTo>
                        <a:pt x="21" y="206"/>
                      </a:lnTo>
                      <a:lnTo>
                        <a:pt x="24" y="394"/>
                      </a:lnTo>
                      <a:lnTo>
                        <a:pt x="34" y="624"/>
                      </a:lnTo>
                      <a:lnTo>
                        <a:pt x="41" y="908"/>
                      </a:lnTo>
                      <a:lnTo>
                        <a:pt x="41" y="1173"/>
                      </a:lnTo>
                      <a:lnTo>
                        <a:pt x="52" y="1301"/>
                      </a:lnTo>
                      <a:lnTo>
                        <a:pt x="31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143"/>
                <p:cNvSpPr/>
                <p:nvPr/>
              </p:nvSpPr>
              <p:spPr>
                <a:xfrm>
                  <a:off x="8125920" y="3180960"/>
                  <a:ext cx="41040" cy="700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2" h="1326">
                      <a:moveTo>
                        <a:pt x="18" y="1293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1" y="25"/>
                      </a:lnTo>
                      <a:lnTo>
                        <a:pt x="21" y="205"/>
                      </a:lnTo>
                      <a:lnTo>
                        <a:pt x="24" y="393"/>
                      </a:lnTo>
                      <a:lnTo>
                        <a:pt x="35" y="624"/>
                      </a:lnTo>
                      <a:lnTo>
                        <a:pt x="41" y="908"/>
                      </a:lnTo>
                      <a:lnTo>
                        <a:pt x="41" y="1172"/>
                      </a:lnTo>
                      <a:lnTo>
                        <a:pt x="52" y="1301"/>
                      </a:lnTo>
                      <a:lnTo>
                        <a:pt x="31" y="1326"/>
                      </a:lnTo>
                      <a:lnTo>
                        <a:pt x="18" y="1293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Freeform 145"/>
              <p:cNvSpPr/>
              <p:nvPr/>
            </p:nvSpPr>
            <p:spPr>
              <a:xfrm>
                <a:off x="6516360" y="3314160"/>
                <a:ext cx="428040" cy="120240"/>
              </a:xfrm>
              <a:custGeom>
                <a:avLst/>
                <a:gdLst>
                  <a:gd name="textAreaLeft" fmla="*/ 0 w 428040"/>
                  <a:gd name="textAreaRight" fmla="*/ 428400 w 4280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540" h="226">
                    <a:moveTo>
                      <a:pt x="0" y="40"/>
                    </a:moveTo>
                    <a:lnTo>
                      <a:pt x="305" y="12"/>
                    </a:lnTo>
                    <a:lnTo>
                      <a:pt x="520" y="0"/>
                    </a:lnTo>
                    <a:lnTo>
                      <a:pt x="537" y="52"/>
                    </a:lnTo>
                    <a:lnTo>
                      <a:pt x="540" y="169"/>
                    </a:lnTo>
                    <a:lnTo>
                      <a:pt x="533" y="197"/>
                    </a:lnTo>
                    <a:lnTo>
                      <a:pt x="336" y="209"/>
                    </a:lnTo>
                    <a:lnTo>
                      <a:pt x="101" y="226"/>
                    </a:lnTo>
                    <a:lnTo>
                      <a:pt x="2" y="22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7e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46"/>
              <p:cNvSpPr/>
              <p:nvPr/>
            </p:nvSpPr>
            <p:spPr>
              <a:xfrm>
                <a:off x="6503760" y="3306240"/>
                <a:ext cx="450000" cy="136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569" h="257">
                    <a:moveTo>
                      <a:pt x="24" y="40"/>
                    </a:moveTo>
                    <a:lnTo>
                      <a:pt x="367" y="9"/>
                    </a:lnTo>
                    <a:lnTo>
                      <a:pt x="548" y="0"/>
                    </a:lnTo>
                    <a:lnTo>
                      <a:pt x="548" y="32"/>
                    </a:lnTo>
                    <a:lnTo>
                      <a:pt x="231" y="50"/>
                    </a:lnTo>
                    <a:lnTo>
                      <a:pt x="33" y="74"/>
                    </a:lnTo>
                    <a:lnTo>
                      <a:pt x="30" y="216"/>
                    </a:lnTo>
                    <a:lnTo>
                      <a:pt x="51" y="223"/>
                    </a:lnTo>
                    <a:lnTo>
                      <a:pt x="215" y="222"/>
                    </a:lnTo>
                    <a:lnTo>
                      <a:pt x="407" y="200"/>
                    </a:lnTo>
                    <a:lnTo>
                      <a:pt x="543" y="192"/>
                    </a:lnTo>
                    <a:lnTo>
                      <a:pt x="540" y="137"/>
                    </a:lnTo>
                    <a:lnTo>
                      <a:pt x="531" y="40"/>
                    </a:lnTo>
                    <a:lnTo>
                      <a:pt x="536" y="32"/>
                    </a:lnTo>
                    <a:lnTo>
                      <a:pt x="552" y="38"/>
                    </a:lnTo>
                    <a:lnTo>
                      <a:pt x="562" y="58"/>
                    </a:lnTo>
                    <a:lnTo>
                      <a:pt x="569" y="140"/>
                    </a:lnTo>
                    <a:lnTo>
                      <a:pt x="564" y="210"/>
                    </a:lnTo>
                    <a:lnTo>
                      <a:pt x="556" y="223"/>
                    </a:lnTo>
                    <a:lnTo>
                      <a:pt x="519" y="229"/>
                    </a:lnTo>
                    <a:lnTo>
                      <a:pt x="390" y="229"/>
                    </a:lnTo>
                    <a:lnTo>
                      <a:pt x="253" y="238"/>
                    </a:lnTo>
                    <a:lnTo>
                      <a:pt x="85" y="256"/>
                    </a:lnTo>
                    <a:lnTo>
                      <a:pt x="12" y="257"/>
                    </a:lnTo>
                    <a:lnTo>
                      <a:pt x="0" y="245"/>
                    </a:lnTo>
                    <a:lnTo>
                      <a:pt x="4" y="189"/>
                    </a:lnTo>
                    <a:lnTo>
                      <a:pt x="0" y="90"/>
                    </a:lnTo>
                    <a:lnTo>
                      <a:pt x="5" y="52"/>
                    </a:lnTo>
                    <a:lnTo>
                      <a:pt x="2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47"/>
              <p:cNvSpPr/>
              <p:nvPr/>
            </p:nvSpPr>
            <p:spPr>
              <a:xfrm>
                <a:off x="6724440" y="3490200"/>
                <a:ext cx="505440" cy="114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636" h="214">
                    <a:moveTo>
                      <a:pt x="11" y="19"/>
                    </a:moveTo>
                    <a:lnTo>
                      <a:pt x="71" y="12"/>
                    </a:lnTo>
                    <a:lnTo>
                      <a:pt x="234" y="0"/>
                    </a:lnTo>
                    <a:lnTo>
                      <a:pt x="477" y="1"/>
                    </a:lnTo>
                    <a:lnTo>
                      <a:pt x="627" y="12"/>
                    </a:lnTo>
                    <a:lnTo>
                      <a:pt x="636" y="83"/>
                    </a:lnTo>
                    <a:lnTo>
                      <a:pt x="632" y="186"/>
                    </a:lnTo>
                    <a:lnTo>
                      <a:pt x="331" y="196"/>
                    </a:lnTo>
                    <a:lnTo>
                      <a:pt x="177" y="207"/>
                    </a:lnTo>
                    <a:lnTo>
                      <a:pt x="17" y="214"/>
                    </a:lnTo>
                    <a:lnTo>
                      <a:pt x="0" y="196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a7e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8"/>
              <p:cNvSpPr/>
              <p:nvPr/>
            </p:nvSpPr>
            <p:spPr>
              <a:xfrm>
                <a:off x="6713280" y="3484080"/>
                <a:ext cx="523080" cy="1249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659" h="235">
                    <a:moveTo>
                      <a:pt x="26" y="13"/>
                    </a:moveTo>
                    <a:lnTo>
                      <a:pt x="205" y="6"/>
                    </a:lnTo>
                    <a:lnTo>
                      <a:pt x="399" y="1"/>
                    </a:lnTo>
                    <a:lnTo>
                      <a:pt x="647" y="0"/>
                    </a:lnTo>
                    <a:lnTo>
                      <a:pt x="659" y="12"/>
                    </a:lnTo>
                    <a:lnTo>
                      <a:pt x="650" y="46"/>
                    </a:lnTo>
                    <a:lnTo>
                      <a:pt x="559" y="34"/>
                    </a:lnTo>
                    <a:lnTo>
                      <a:pt x="436" y="24"/>
                    </a:lnTo>
                    <a:lnTo>
                      <a:pt x="277" y="25"/>
                    </a:lnTo>
                    <a:lnTo>
                      <a:pt x="64" y="40"/>
                    </a:lnTo>
                    <a:lnTo>
                      <a:pt x="34" y="53"/>
                    </a:lnTo>
                    <a:lnTo>
                      <a:pt x="34" y="120"/>
                    </a:lnTo>
                    <a:lnTo>
                      <a:pt x="37" y="195"/>
                    </a:lnTo>
                    <a:lnTo>
                      <a:pt x="47" y="203"/>
                    </a:lnTo>
                    <a:lnTo>
                      <a:pt x="129" y="211"/>
                    </a:lnTo>
                    <a:lnTo>
                      <a:pt x="295" y="191"/>
                    </a:lnTo>
                    <a:lnTo>
                      <a:pt x="540" y="185"/>
                    </a:lnTo>
                    <a:lnTo>
                      <a:pt x="630" y="174"/>
                    </a:lnTo>
                    <a:lnTo>
                      <a:pt x="641" y="166"/>
                    </a:lnTo>
                    <a:lnTo>
                      <a:pt x="641" y="93"/>
                    </a:lnTo>
                    <a:lnTo>
                      <a:pt x="637" y="46"/>
                    </a:lnTo>
                    <a:lnTo>
                      <a:pt x="649" y="41"/>
                    </a:lnTo>
                    <a:lnTo>
                      <a:pt x="659" y="65"/>
                    </a:lnTo>
                    <a:lnTo>
                      <a:pt x="658" y="177"/>
                    </a:lnTo>
                    <a:lnTo>
                      <a:pt x="650" y="208"/>
                    </a:lnTo>
                    <a:lnTo>
                      <a:pt x="556" y="214"/>
                    </a:lnTo>
                    <a:lnTo>
                      <a:pt x="377" y="220"/>
                    </a:lnTo>
                    <a:lnTo>
                      <a:pt x="244" y="223"/>
                    </a:lnTo>
                    <a:lnTo>
                      <a:pt x="80" y="235"/>
                    </a:lnTo>
                    <a:lnTo>
                      <a:pt x="9" y="235"/>
                    </a:lnTo>
                    <a:lnTo>
                      <a:pt x="0" y="208"/>
                    </a:lnTo>
                    <a:lnTo>
                      <a:pt x="4" y="145"/>
                    </a:lnTo>
                    <a:lnTo>
                      <a:pt x="7" y="69"/>
                    </a:lnTo>
                    <a:lnTo>
                      <a:pt x="7" y="25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49"/>
              <p:cNvSpPr/>
              <p:nvPr/>
            </p:nvSpPr>
            <p:spPr>
              <a:xfrm>
                <a:off x="6890760" y="3632760"/>
                <a:ext cx="1278000" cy="166320"/>
              </a:xfrm>
              <a:custGeom>
                <a:avLst/>
                <a:gdLst>
                  <a:gd name="textAreaLeft" fmla="*/ 0 w 1278000"/>
                  <a:gd name="textAreaRight" fmla="*/ 1278360 w 12780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2" h="316">
                    <a:moveTo>
                      <a:pt x="2" y="68"/>
                    </a:moveTo>
                    <a:lnTo>
                      <a:pt x="82" y="60"/>
                    </a:lnTo>
                    <a:lnTo>
                      <a:pt x="353" y="56"/>
                    </a:lnTo>
                    <a:lnTo>
                      <a:pt x="603" y="46"/>
                    </a:lnTo>
                    <a:lnTo>
                      <a:pt x="807" y="41"/>
                    </a:lnTo>
                    <a:lnTo>
                      <a:pt x="956" y="26"/>
                    </a:lnTo>
                    <a:lnTo>
                      <a:pt x="1183" y="15"/>
                    </a:lnTo>
                    <a:lnTo>
                      <a:pt x="1352" y="4"/>
                    </a:lnTo>
                    <a:lnTo>
                      <a:pt x="1598" y="0"/>
                    </a:lnTo>
                    <a:lnTo>
                      <a:pt x="1612" y="131"/>
                    </a:lnTo>
                    <a:lnTo>
                      <a:pt x="1604" y="267"/>
                    </a:lnTo>
                    <a:lnTo>
                      <a:pt x="1425" y="267"/>
                    </a:lnTo>
                    <a:lnTo>
                      <a:pt x="1315" y="270"/>
                    </a:lnTo>
                    <a:lnTo>
                      <a:pt x="1129" y="287"/>
                    </a:lnTo>
                    <a:lnTo>
                      <a:pt x="942" y="290"/>
                    </a:lnTo>
                    <a:lnTo>
                      <a:pt x="716" y="287"/>
                    </a:lnTo>
                    <a:lnTo>
                      <a:pt x="543" y="301"/>
                    </a:lnTo>
                    <a:lnTo>
                      <a:pt x="385" y="301"/>
                    </a:lnTo>
                    <a:lnTo>
                      <a:pt x="204" y="309"/>
                    </a:lnTo>
                    <a:lnTo>
                      <a:pt x="0" y="316"/>
                    </a:lnTo>
                    <a:lnTo>
                      <a:pt x="2" y="68"/>
                    </a:lnTo>
                    <a:close/>
                  </a:path>
                </a:pathLst>
              </a:custGeom>
              <a:solidFill>
                <a:srgbClr val="a7e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Group 153"/>
              <p:cNvGrpSpPr/>
              <p:nvPr/>
            </p:nvGrpSpPr>
            <p:grpSpPr>
              <a:xfrm>
                <a:off x="6879600" y="3623400"/>
                <a:ext cx="1296720" cy="183240"/>
                <a:chOff x="6879600" y="3623400"/>
                <a:chExt cx="1296720" cy="183240"/>
              </a:xfrm>
            </p:grpSpPr>
            <p:sp>
              <p:nvSpPr>
                <p:cNvPr id="121" name="Freeform 150"/>
                <p:cNvSpPr/>
                <p:nvPr/>
              </p:nvSpPr>
              <p:spPr>
                <a:xfrm>
                  <a:off x="6879600" y="3654720"/>
                  <a:ext cx="1166760" cy="151920"/>
                </a:xfrm>
                <a:custGeom>
                  <a:avLst/>
                  <a:gdLst>
                    <a:gd name="textAreaLeft" fmla="*/ 0 w 1166760"/>
                    <a:gd name="textAreaRight" fmla="*/ 1167120 w 116676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1472" h="289">
                      <a:moveTo>
                        <a:pt x="0" y="284"/>
                      </a:moveTo>
                      <a:lnTo>
                        <a:pt x="2" y="40"/>
                      </a:lnTo>
                      <a:lnTo>
                        <a:pt x="2" y="18"/>
                      </a:lnTo>
                      <a:lnTo>
                        <a:pt x="19" y="0"/>
                      </a:lnTo>
                      <a:lnTo>
                        <a:pt x="28" y="36"/>
                      </a:lnTo>
                      <a:lnTo>
                        <a:pt x="28" y="166"/>
                      </a:lnTo>
                      <a:lnTo>
                        <a:pt x="28" y="256"/>
                      </a:lnTo>
                      <a:lnTo>
                        <a:pt x="133" y="250"/>
                      </a:lnTo>
                      <a:lnTo>
                        <a:pt x="346" y="249"/>
                      </a:lnTo>
                      <a:lnTo>
                        <a:pt x="553" y="240"/>
                      </a:lnTo>
                      <a:lnTo>
                        <a:pt x="837" y="228"/>
                      </a:lnTo>
                      <a:lnTo>
                        <a:pt x="1112" y="221"/>
                      </a:lnTo>
                      <a:lnTo>
                        <a:pt x="1359" y="210"/>
                      </a:lnTo>
                      <a:lnTo>
                        <a:pt x="1472" y="232"/>
                      </a:lnTo>
                      <a:lnTo>
                        <a:pt x="1094" y="255"/>
                      </a:lnTo>
                      <a:lnTo>
                        <a:pt x="818" y="256"/>
                      </a:lnTo>
                      <a:lnTo>
                        <a:pt x="567" y="268"/>
                      </a:lnTo>
                      <a:lnTo>
                        <a:pt x="344" y="280"/>
                      </a:lnTo>
                      <a:lnTo>
                        <a:pt x="138" y="280"/>
                      </a:lnTo>
                      <a:lnTo>
                        <a:pt x="23" y="289"/>
                      </a:lnTo>
                      <a:lnTo>
                        <a:pt x="0" y="2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151"/>
                <p:cNvSpPr/>
                <p:nvPr/>
              </p:nvSpPr>
              <p:spPr>
                <a:xfrm>
                  <a:off x="6883920" y="3627720"/>
                  <a:ext cx="1141560" cy="56880"/>
                </a:xfrm>
                <a:custGeom>
                  <a:avLst/>
                  <a:gdLst>
                    <a:gd name="textAreaLeft" fmla="*/ 0 w 1141560"/>
                    <a:gd name="textAreaRight" fmla="*/ 1141920 w 114156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40" h="107">
                      <a:moveTo>
                        <a:pt x="0" y="70"/>
                      </a:moveTo>
                      <a:lnTo>
                        <a:pt x="25" y="55"/>
                      </a:lnTo>
                      <a:lnTo>
                        <a:pt x="293" y="55"/>
                      </a:lnTo>
                      <a:lnTo>
                        <a:pt x="533" y="49"/>
                      </a:lnTo>
                      <a:lnTo>
                        <a:pt x="816" y="37"/>
                      </a:lnTo>
                      <a:lnTo>
                        <a:pt x="1029" y="18"/>
                      </a:lnTo>
                      <a:lnTo>
                        <a:pt x="1199" y="6"/>
                      </a:lnTo>
                      <a:lnTo>
                        <a:pt x="1377" y="0"/>
                      </a:lnTo>
                      <a:lnTo>
                        <a:pt x="1440" y="15"/>
                      </a:lnTo>
                      <a:lnTo>
                        <a:pt x="1357" y="33"/>
                      </a:lnTo>
                      <a:lnTo>
                        <a:pt x="1195" y="37"/>
                      </a:lnTo>
                      <a:lnTo>
                        <a:pt x="1000" y="49"/>
                      </a:lnTo>
                      <a:lnTo>
                        <a:pt x="792" y="70"/>
                      </a:lnTo>
                      <a:lnTo>
                        <a:pt x="569" y="76"/>
                      </a:lnTo>
                      <a:lnTo>
                        <a:pt x="323" y="80"/>
                      </a:lnTo>
                      <a:lnTo>
                        <a:pt x="136" y="86"/>
                      </a:lnTo>
                      <a:lnTo>
                        <a:pt x="24" y="95"/>
                      </a:lnTo>
                      <a:lnTo>
                        <a:pt x="2" y="107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152"/>
                <p:cNvSpPr/>
                <p:nvPr/>
              </p:nvSpPr>
              <p:spPr>
                <a:xfrm>
                  <a:off x="7889400" y="3623400"/>
                  <a:ext cx="286920" cy="164520"/>
                </a:xfrm>
                <a:custGeom>
                  <a:avLst/>
                  <a:gdLst>
                    <a:gd name="textAreaLeft" fmla="*/ 0 w 286920"/>
                    <a:gd name="textAreaRight" fmla="*/ 286920 w 2869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62" h="311">
                      <a:moveTo>
                        <a:pt x="43" y="27"/>
                      </a:moveTo>
                      <a:lnTo>
                        <a:pt x="81" y="9"/>
                      </a:lnTo>
                      <a:lnTo>
                        <a:pt x="228" y="6"/>
                      </a:lnTo>
                      <a:lnTo>
                        <a:pt x="342" y="0"/>
                      </a:lnTo>
                      <a:lnTo>
                        <a:pt x="355" y="18"/>
                      </a:lnTo>
                      <a:lnTo>
                        <a:pt x="359" y="142"/>
                      </a:lnTo>
                      <a:lnTo>
                        <a:pt x="362" y="299"/>
                      </a:lnTo>
                      <a:lnTo>
                        <a:pt x="345" y="311"/>
                      </a:lnTo>
                      <a:lnTo>
                        <a:pt x="255" y="305"/>
                      </a:lnTo>
                      <a:lnTo>
                        <a:pt x="108" y="297"/>
                      </a:lnTo>
                      <a:lnTo>
                        <a:pt x="0" y="288"/>
                      </a:lnTo>
                      <a:lnTo>
                        <a:pt x="64" y="271"/>
                      </a:lnTo>
                      <a:lnTo>
                        <a:pt x="152" y="268"/>
                      </a:lnTo>
                      <a:lnTo>
                        <a:pt x="294" y="265"/>
                      </a:lnTo>
                      <a:lnTo>
                        <a:pt x="334" y="268"/>
                      </a:lnTo>
                      <a:lnTo>
                        <a:pt x="332" y="244"/>
                      </a:lnTo>
                      <a:lnTo>
                        <a:pt x="337" y="129"/>
                      </a:lnTo>
                      <a:lnTo>
                        <a:pt x="325" y="39"/>
                      </a:lnTo>
                      <a:lnTo>
                        <a:pt x="293" y="28"/>
                      </a:lnTo>
                      <a:lnTo>
                        <a:pt x="65" y="40"/>
                      </a:lnTo>
                      <a:lnTo>
                        <a:pt x="4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Freeform 154"/>
              <p:cNvSpPr/>
              <p:nvPr/>
            </p:nvSpPr>
            <p:spPr>
              <a:xfrm>
                <a:off x="6651360" y="3883680"/>
                <a:ext cx="1122480" cy="38556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1417" h="730">
                    <a:moveTo>
                      <a:pt x="8" y="133"/>
                    </a:moveTo>
                    <a:lnTo>
                      <a:pt x="0" y="15"/>
                    </a:lnTo>
                    <a:lnTo>
                      <a:pt x="179" y="16"/>
                    </a:lnTo>
                    <a:lnTo>
                      <a:pt x="415" y="12"/>
                    </a:lnTo>
                    <a:lnTo>
                      <a:pt x="620" y="4"/>
                    </a:lnTo>
                    <a:lnTo>
                      <a:pt x="874" y="0"/>
                    </a:lnTo>
                    <a:lnTo>
                      <a:pt x="1078" y="4"/>
                    </a:lnTo>
                    <a:lnTo>
                      <a:pt x="1259" y="4"/>
                    </a:lnTo>
                    <a:lnTo>
                      <a:pt x="1293" y="22"/>
                    </a:lnTo>
                    <a:lnTo>
                      <a:pt x="1314" y="81"/>
                    </a:lnTo>
                    <a:lnTo>
                      <a:pt x="1328" y="126"/>
                    </a:lnTo>
                    <a:lnTo>
                      <a:pt x="1369" y="149"/>
                    </a:lnTo>
                    <a:lnTo>
                      <a:pt x="1366" y="211"/>
                    </a:lnTo>
                    <a:lnTo>
                      <a:pt x="1357" y="265"/>
                    </a:lnTo>
                    <a:lnTo>
                      <a:pt x="1353" y="353"/>
                    </a:lnTo>
                    <a:lnTo>
                      <a:pt x="1352" y="398"/>
                    </a:lnTo>
                    <a:lnTo>
                      <a:pt x="1345" y="443"/>
                    </a:lnTo>
                    <a:lnTo>
                      <a:pt x="1357" y="500"/>
                    </a:lnTo>
                    <a:lnTo>
                      <a:pt x="1396" y="566"/>
                    </a:lnTo>
                    <a:lnTo>
                      <a:pt x="1417" y="621"/>
                    </a:lnTo>
                    <a:lnTo>
                      <a:pt x="1412" y="730"/>
                    </a:lnTo>
                    <a:lnTo>
                      <a:pt x="1323" y="687"/>
                    </a:lnTo>
                    <a:lnTo>
                      <a:pt x="1310" y="670"/>
                    </a:lnTo>
                    <a:lnTo>
                      <a:pt x="1301" y="641"/>
                    </a:lnTo>
                    <a:lnTo>
                      <a:pt x="1307" y="560"/>
                    </a:lnTo>
                    <a:lnTo>
                      <a:pt x="1299" y="519"/>
                    </a:lnTo>
                    <a:lnTo>
                      <a:pt x="1269" y="448"/>
                    </a:lnTo>
                    <a:lnTo>
                      <a:pt x="1255" y="383"/>
                    </a:lnTo>
                    <a:lnTo>
                      <a:pt x="1254" y="338"/>
                    </a:lnTo>
                    <a:lnTo>
                      <a:pt x="1259" y="309"/>
                    </a:lnTo>
                    <a:lnTo>
                      <a:pt x="1273" y="244"/>
                    </a:lnTo>
                    <a:lnTo>
                      <a:pt x="1279" y="189"/>
                    </a:lnTo>
                    <a:lnTo>
                      <a:pt x="1269" y="149"/>
                    </a:lnTo>
                    <a:lnTo>
                      <a:pt x="1250" y="115"/>
                    </a:lnTo>
                    <a:lnTo>
                      <a:pt x="1080" y="123"/>
                    </a:lnTo>
                    <a:lnTo>
                      <a:pt x="930" y="127"/>
                    </a:lnTo>
                    <a:lnTo>
                      <a:pt x="751" y="126"/>
                    </a:lnTo>
                    <a:lnTo>
                      <a:pt x="606" y="117"/>
                    </a:lnTo>
                    <a:lnTo>
                      <a:pt x="521" y="123"/>
                    </a:lnTo>
                    <a:lnTo>
                      <a:pt x="410" y="139"/>
                    </a:lnTo>
                    <a:lnTo>
                      <a:pt x="170" y="133"/>
                    </a:lnTo>
                    <a:lnTo>
                      <a:pt x="22" y="131"/>
                    </a:lnTo>
                    <a:lnTo>
                      <a:pt x="8" y="133"/>
                    </a:lnTo>
                    <a:close/>
                  </a:path>
                </a:pathLst>
              </a:custGeom>
              <a:solidFill>
                <a:srgbClr val="fdee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155"/>
              <p:cNvSpPr/>
              <p:nvPr/>
            </p:nvSpPr>
            <p:spPr>
              <a:xfrm>
                <a:off x="6741720" y="3890160"/>
                <a:ext cx="20520" cy="457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6" h="87">
                    <a:moveTo>
                      <a:pt x="0" y="6"/>
                    </a:moveTo>
                    <a:lnTo>
                      <a:pt x="5" y="87"/>
                    </a:lnTo>
                    <a:lnTo>
                      <a:pt x="26" y="87"/>
                    </a:lnTo>
                    <a:lnTo>
                      <a:pt x="2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156"/>
              <p:cNvSpPr/>
              <p:nvPr/>
            </p:nvSpPr>
            <p:spPr>
              <a:xfrm>
                <a:off x="6814800" y="3891600"/>
                <a:ext cx="21960" cy="471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8" h="89">
                    <a:moveTo>
                      <a:pt x="0" y="6"/>
                    </a:moveTo>
                    <a:lnTo>
                      <a:pt x="5" y="89"/>
                    </a:lnTo>
                    <a:lnTo>
                      <a:pt x="28" y="89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157"/>
              <p:cNvSpPr/>
              <p:nvPr/>
            </p:nvSpPr>
            <p:spPr>
              <a:xfrm>
                <a:off x="6887520" y="3891600"/>
                <a:ext cx="18720" cy="47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5" h="89">
                    <a:moveTo>
                      <a:pt x="0" y="6"/>
                    </a:moveTo>
                    <a:lnTo>
                      <a:pt x="4" y="89"/>
                    </a:lnTo>
                    <a:lnTo>
                      <a:pt x="25" y="89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158"/>
              <p:cNvSpPr/>
              <p:nvPr/>
            </p:nvSpPr>
            <p:spPr>
              <a:xfrm>
                <a:off x="6957360" y="3888360"/>
                <a:ext cx="21960" cy="45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8">
                    <a:moveTo>
                      <a:pt x="0" y="6"/>
                    </a:moveTo>
                    <a:lnTo>
                      <a:pt x="5" y="88"/>
                    </a:lnTo>
                    <a:lnTo>
                      <a:pt x="28" y="88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159"/>
              <p:cNvSpPr/>
              <p:nvPr/>
            </p:nvSpPr>
            <p:spPr>
              <a:xfrm>
                <a:off x="7030440" y="388836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5" h="88">
                    <a:moveTo>
                      <a:pt x="0" y="6"/>
                    </a:moveTo>
                    <a:lnTo>
                      <a:pt x="4" y="88"/>
                    </a:lnTo>
                    <a:lnTo>
                      <a:pt x="25" y="88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160"/>
              <p:cNvSpPr/>
              <p:nvPr/>
            </p:nvSpPr>
            <p:spPr>
              <a:xfrm>
                <a:off x="7100280" y="3888360"/>
                <a:ext cx="21960" cy="45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8">
                    <a:moveTo>
                      <a:pt x="0" y="6"/>
                    </a:moveTo>
                    <a:lnTo>
                      <a:pt x="5" y="88"/>
                    </a:lnTo>
                    <a:lnTo>
                      <a:pt x="28" y="88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161"/>
              <p:cNvSpPr/>
              <p:nvPr/>
            </p:nvSpPr>
            <p:spPr>
              <a:xfrm>
                <a:off x="7173000" y="388836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5" h="88">
                    <a:moveTo>
                      <a:pt x="0" y="6"/>
                    </a:moveTo>
                    <a:lnTo>
                      <a:pt x="4" y="88"/>
                    </a:lnTo>
                    <a:lnTo>
                      <a:pt x="25" y="88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162"/>
              <p:cNvSpPr/>
              <p:nvPr/>
            </p:nvSpPr>
            <p:spPr>
              <a:xfrm>
                <a:off x="7207920" y="3888360"/>
                <a:ext cx="20160" cy="45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6" h="88">
                    <a:moveTo>
                      <a:pt x="0" y="6"/>
                    </a:moveTo>
                    <a:lnTo>
                      <a:pt x="5" y="88"/>
                    </a:lnTo>
                    <a:lnTo>
                      <a:pt x="26" y="88"/>
                    </a:lnTo>
                    <a:lnTo>
                      <a:pt x="2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163"/>
              <p:cNvSpPr/>
              <p:nvPr/>
            </p:nvSpPr>
            <p:spPr>
              <a:xfrm>
                <a:off x="7242840" y="3886920"/>
                <a:ext cx="21600" cy="4572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7">
                    <a:moveTo>
                      <a:pt x="0" y="6"/>
                    </a:moveTo>
                    <a:lnTo>
                      <a:pt x="5" y="87"/>
                    </a:lnTo>
                    <a:lnTo>
                      <a:pt x="28" y="87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164"/>
              <p:cNvSpPr/>
              <p:nvPr/>
            </p:nvSpPr>
            <p:spPr>
              <a:xfrm>
                <a:off x="7315920" y="388692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5" h="87">
                    <a:moveTo>
                      <a:pt x="0" y="6"/>
                    </a:moveTo>
                    <a:lnTo>
                      <a:pt x="4" y="87"/>
                    </a:lnTo>
                    <a:lnTo>
                      <a:pt x="25" y="87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65"/>
              <p:cNvSpPr/>
              <p:nvPr/>
            </p:nvSpPr>
            <p:spPr>
              <a:xfrm>
                <a:off x="7385760" y="3883680"/>
                <a:ext cx="21600" cy="4572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8">
                    <a:moveTo>
                      <a:pt x="0" y="6"/>
                    </a:moveTo>
                    <a:lnTo>
                      <a:pt x="5" y="88"/>
                    </a:lnTo>
                    <a:lnTo>
                      <a:pt x="28" y="88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66"/>
              <p:cNvSpPr/>
              <p:nvPr/>
            </p:nvSpPr>
            <p:spPr>
              <a:xfrm>
                <a:off x="7458480" y="388368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5" h="88">
                    <a:moveTo>
                      <a:pt x="0" y="6"/>
                    </a:moveTo>
                    <a:lnTo>
                      <a:pt x="4" y="88"/>
                    </a:lnTo>
                    <a:lnTo>
                      <a:pt x="25" y="88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7"/>
              <p:cNvSpPr/>
              <p:nvPr/>
            </p:nvSpPr>
            <p:spPr>
              <a:xfrm>
                <a:off x="7528320" y="3883680"/>
                <a:ext cx="21600" cy="4572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8">
                    <a:moveTo>
                      <a:pt x="0" y="6"/>
                    </a:moveTo>
                    <a:lnTo>
                      <a:pt x="5" y="88"/>
                    </a:lnTo>
                    <a:lnTo>
                      <a:pt x="28" y="88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68"/>
              <p:cNvSpPr/>
              <p:nvPr/>
            </p:nvSpPr>
            <p:spPr>
              <a:xfrm>
                <a:off x="7601040" y="388368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6" h="88">
                    <a:moveTo>
                      <a:pt x="0" y="6"/>
                    </a:moveTo>
                    <a:lnTo>
                      <a:pt x="5" y="88"/>
                    </a:lnTo>
                    <a:lnTo>
                      <a:pt x="26" y="88"/>
                    </a:lnTo>
                    <a:lnTo>
                      <a:pt x="2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69"/>
              <p:cNvSpPr/>
              <p:nvPr/>
            </p:nvSpPr>
            <p:spPr>
              <a:xfrm>
                <a:off x="6636960" y="3875760"/>
                <a:ext cx="1141560" cy="399600"/>
              </a:xfrm>
              <a:custGeom>
                <a:avLst/>
                <a:gdLst>
                  <a:gd name="textAreaLeft" fmla="*/ 0 w 1141560"/>
                  <a:gd name="textAreaRight" fmla="*/ 1141920 w 114156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1440" h="754">
                    <a:moveTo>
                      <a:pt x="33" y="85"/>
                    </a:moveTo>
                    <a:lnTo>
                      <a:pt x="33" y="41"/>
                    </a:lnTo>
                    <a:lnTo>
                      <a:pt x="257" y="41"/>
                    </a:lnTo>
                    <a:lnTo>
                      <a:pt x="521" y="34"/>
                    </a:lnTo>
                    <a:lnTo>
                      <a:pt x="686" y="23"/>
                    </a:lnTo>
                    <a:lnTo>
                      <a:pt x="885" y="22"/>
                    </a:lnTo>
                    <a:lnTo>
                      <a:pt x="1100" y="23"/>
                    </a:lnTo>
                    <a:lnTo>
                      <a:pt x="1275" y="28"/>
                    </a:lnTo>
                    <a:lnTo>
                      <a:pt x="1298" y="41"/>
                    </a:lnTo>
                    <a:lnTo>
                      <a:pt x="1312" y="79"/>
                    </a:lnTo>
                    <a:lnTo>
                      <a:pt x="1325" y="118"/>
                    </a:lnTo>
                    <a:lnTo>
                      <a:pt x="1344" y="152"/>
                    </a:lnTo>
                    <a:lnTo>
                      <a:pt x="1376" y="174"/>
                    </a:lnTo>
                    <a:lnTo>
                      <a:pt x="1374" y="223"/>
                    </a:lnTo>
                    <a:lnTo>
                      <a:pt x="1359" y="288"/>
                    </a:lnTo>
                    <a:lnTo>
                      <a:pt x="1359" y="354"/>
                    </a:lnTo>
                    <a:lnTo>
                      <a:pt x="1359" y="411"/>
                    </a:lnTo>
                    <a:lnTo>
                      <a:pt x="1352" y="473"/>
                    </a:lnTo>
                    <a:lnTo>
                      <a:pt x="1369" y="532"/>
                    </a:lnTo>
                    <a:lnTo>
                      <a:pt x="1393" y="566"/>
                    </a:lnTo>
                    <a:lnTo>
                      <a:pt x="1418" y="610"/>
                    </a:lnTo>
                    <a:lnTo>
                      <a:pt x="1423" y="662"/>
                    </a:lnTo>
                    <a:lnTo>
                      <a:pt x="1418" y="728"/>
                    </a:lnTo>
                    <a:lnTo>
                      <a:pt x="1335" y="687"/>
                    </a:lnTo>
                    <a:lnTo>
                      <a:pt x="1323" y="650"/>
                    </a:lnTo>
                    <a:lnTo>
                      <a:pt x="1327" y="578"/>
                    </a:lnTo>
                    <a:lnTo>
                      <a:pt x="1323" y="532"/>
                    </a:lnTo>
                    <a:lnTo>
                      <a:pt x="1298" y="471"/>
                    </a:lnTo>
                    <a:lnTo>
                      <a:pt x="1280" y="405"/>
                    </a:lnTo>
                    <a:lnTo>
                      <a:pt x="1276" y="354"/>
                    </a:lnTo>
                    <a:lnTo>
                      <a:pt x="1287" y="294"/>
                    </a:lnTo>
                    <a:lnTo>
                      <a:pt x="1301" y="241"/>
                    </a:lnTo>
                    <a:lnTo>
                      <a:pt x="1301" y="190"/>
                    </a:lnTo>
                    <a:lnTo>
                      <a:pt x="1288" y="149"/>
                    </a:lnTo>
                    <a:lnTo>
                      <a:pt x="1270" y="118"/>
                    </a:lnTo>
                    <a:lnTo>
                      <a:pt x="1241" y="118"/>
                    </a:lnTo>
                    <a:lnTo>
                      <a:pt x="1126" y="127"/>
                    </a:lnTo>
                    <a:lnTo>
                      <a:pt x="997" y="133"/>
                    </a:lnTo>
                    <a:lnTo>
                      <a:pt x="849" y="133"/>
                    </a:lnTo>
                    <a:lnTo>
                      <a:pt x="703" y="127"/>
                    </a:lnTo>
                    <a:lnTo>
                      <a:pt x="594" y="118"/>
                    </a:lnTo>
                    <a:lnTo>
                      <a:pt x="463" y="134"/>
                    </a:lnTo>
                    <a:lnTo>
                      <a:pt x="254" y="139"/>
                    </a:lnTo>
                    <a:lnTo>
                      <a:pt x="117" y="139"/>
                    </a:lnTo>
                    <a:lnTo>
                      <a:pt x="34" y="127"/>
                    </a:lnTo>
                    <a:lnTo>
                      <a:pt x="19" y="152"/>
                    </a:lnTo>
                    <a:lnTo>
                      <a:pt x="89" y="155"/>
                    </a:lnTo>
                    <a:lnTo>
                      <a:pt x="169" y="161"/>
                    </a:lnTo>
                    <a:lnTo>
                      <a:pt x="285" y="161"/>
                    </a:lnTo>
                    <a:lnTo>
                      <a:pt x="378" y="161"/>
                    </a:lnTo>
                    <a:lnTo>
                      <a:pt x="478" y="155"/>
                    </a:lnTo>
                    <a:lnTo>
                      <a:pt x="581" y="140"/>
                    </a:lnTo>
                    <a:lnTo>
                      <a:pt x="615" y="140"/>
                    </a:lnTo>
                    <a:lnTo>
                      <a:pt x="701" y="140"/>
                    </a:lnTo>
                    <a:lnTo>
                      <a:pt x="784" y="152"/>
                    </a:lnTo>
                    <a:lnTo>
                      <a:pt x="900" y="149"/>
                    </a:lnTo>
                    <a:lnTo>
                      <a:pt x="1025" y="155"/>
                    </a:lnTo>
                    <a:lnTo>
                      <a:pt x="1102" y="146"/>
                    </a:lnTo>
                    <a:lnTo>
                      <a:pt x="1182" y="140"/>
                    </a:lnTo>
                    <a:lnTo>
                      <a:pt x="1228" y="140"/>
                    </a:lnTo>
                    <a:lnTo>
                      <a:pt x="1262" y="139"/>
                    </a:lnTo>
                    <a:lnTo>
                      <a:pt x="1280" y="167"/>
                    </a:lnTo>
                    <a:lnTo>
                      <a:pt x="1287" y="207"/>
                    </a:lnTo>
                    <a:lnTo>
                      <a:pt x="1280" y="263"/>
                    </a:lnTo>
                    <a:lnTo>
                      <a:pt x="1263" y="326"/>
                    </a:lnTo>
                    <a:lnTo>
                      <a:pt x="1259" y="388"/>
                    </a:lnTo>
                    <a:lnTo>
                      <a:pt x="1275" y="445"/>
                    </a:lnTo>
                    <a:lnTo>
                      <a:pt x="1300" y="517"/>
                    </a:lnTo>
                    <a:lnTo>
                      <a:pt x="1312" y="576"/>
                    </a:lnTo>
                    <a:lnTo>
                      <a:pt x="1309" y="659"/>
                    </a:lnTo>
                    <a:lnTo>
                      <a:pt x="1318" y="699"/>
                    </a:lnTo>
                    <a:lnTo>
                      <a:pt x="1329" y="706"/>
                    </a:lnTo>
                    <a:lnTo>
                      <a:pt x="1429" y="754"/>
                    </a:lnTo>
                    <a:lnTo>
                      <a:pt x="1433" y="722"/>
                    </a:lnTo>
                    <a:lnTo>
                      <a:pt x="1440" y="643"/>
                    </a:lnTo>
                    <a:lnTo>
                      <a:pt x="1435" y="604"/>
                    </a:lnTo>
                    <a:lnTo>
                      <a:pt x="1416" y="567"/>
                    </a:lnTo>
                    <a:lnTo>
                      <a:pt x="1381" y="507"/>
                    </a:lnTo>
                    <a:lnTo>
                      <a:pt x="1369" y="479"/>
                    </a:lnTo>
                    <a:lnTo>
                      <a:pt x="1365" y="443"/>
                    </a:lnTo>
                    <a:lnTo>
                      <a:pt x="1374" y="378"/>
                    </a:lnTo>
                    <a:lnTo>
                      <a:pt x="1374" y="332"/>
                    </a:lnTo>
                    <a:lnTo>
                      <a:pt x="1376" y="282"/>
                    </a:lnTo>
                    <a:lnTo>
                      <a:pt x="1389" y="223"/>
                    </a:lnTo>
                    <a:lnTo>
                      <a:pt x="1389" y="190"/>
                    </a:lnTo>
                    <a:lnTo>
                      <a:pt x="1389" y="156"/>
                    </a:lnTo>
                    <a:lnTo>
                      <a:pt x="1374" y="140"/>
                    </a:lnTo>
                    <a:lnTo>
                      <a:pt x="1352" y="133"/>
                    </a:lnTo>
                    <a:lnTo>
                      <a:pt x="1340" y="108"/>
                    </a:lnTo>
                    <a:lnTo>
                      <a:pt x="1325" y="56"/>
                    </a:lnTo>
                    <a:lnTo>
                      <a:pt x="1304" y="22"/>
                    </a:lnTo>
                    <a:lnTo>
                      <a:pt x="1276" y="0"/>
                    </a:lnTo>
                    <a:lnTo>
                      <a:pt x="1148" y="1"/>
                    </a:lnTo>
                    <a:lnTo>
                      <a:pt x="1000" y="6"/>
                    </a:lnTo>
                    <a:lnTo>
                      <a:pt x="870" y="0"/>
                    </a:lnTo>
                    <a:lnTo>
                      <a:pt x="718" y="6"/>
                    </a:lnTo>
                    <a:lnTo>
                      <a:pt x="573" y="7"/>
                    </a:lnTo>
                    <a:lnTo>
                      <a:pt x="394" y="19"/>
                    </a:lnTo>
                    <a:lnTo>
                      <a:pt x="199" y="19"/>
                    </a:lnTo>
                    <a:lnTo>
                      <a:pt x="75" y="22"/>
                    </a:lnTo>
                    <a:lnTo>
                      <a:pt x="0" y="23"/>
                    </a:lnTo>
                    <a:lnTo>
                      <a:pt x="19" y="118"/>
                    </a:lnTo>
                    <a:lnTo>
                      <a:pt x="3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70"/>
              <p:cNvSpPr/>
              <p:nvPr/>
            </p:nvSpPr>
            <p:spPr>
              <a:xfrm>
                <a:off x="7678800" y="3958200"/>
                <a:ext cx="47520" cy="31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0" h="59">
                    <a:moveTo>
                      <a:pt x="39" y="0"/>
                    </a:moveTo>
                    <a:lnTo>
                      <a:pt x="0" y="41"/>
                    </a:lnTo>
                    <a:lnTo>
                      <a:pt x="8" y="59"/>
                    </a:lnTo>
                    <a:lnTo>
                      <a:pt x="60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71"/>
              <p:cNvSpPr/>
              <p:nvPr/>
            </p:nvSpPr>
            <p:spPr>
              <a:xfrm>
                <a:off x="7674120" y="4006080"/>
                <a:ext cx="50400" cy="24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4" h="46">
                    <a:moveTo>
                      <a:pt x="64" y="15"/>
                    </a:moveTo>
                    <a:lnTo>
                      <a:pt x="10" y="0"/>
                    </a:lnTo>
                    <a:lnTo>
                      <a:pt x="0" y="29"/>
                    </a:lnTo>
                    <a:lnTo>
                      <a:pt x="56" y="46"/>
                    </a:lnTo>
                    <a:lnTo>
                      <a:pt x="6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72"/>
              <p:cNvSpPr/>
              <p:nvPr/>
            </p:nvSpPr>
            <p:spPr>
              <a:xfrm>
                <a:off x="7661520" y="4065840"/>
                <a:ext cx="61560" cy="187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76" h="36">
                    <a:moveTo>
                      <a:pt x="72" y="3"/>
                    </a:moveTo>
                    <a:lnTo>
                      <a:pt x="0" y="0"/>
                    </a:lnTo>
                    <a:lnTo>
                      <a:pt x="3" y="25"/>
                    </a:lnTo>
                    <a:lnTo>
                      <a:pt x="76" y="36"/>
                    </a:lnTo>
                    <a:lnTo>
                      <a:pt x="7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73"/>
              <p:cNvSpPr/>
              <p:nvPr/>
            </p:nvSpPr>
            <p:spPr>
              <a:xfrm>
                <a:off x="7678800" y="4129560"/>
                <a:ext cx="39600" cy="183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46" y="0"/>
                    </a:moveTo>
                    <a:lnTo>
                      <a:pt x="0" y="9"/>
                    </a:lnTo>
                    <a:lnTo>
                      <a:pt x="9" y="36"/>
                    </a:lnTo>
                    <a:lnTo>
                      <a:pt x="50" y="2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4"/>
              <p:cNvSpPr/>
              <p:nvPr/>
            </p:nvSpPr>
            <p:spPr>
              <a:xfrm>
                <a:off x="7702920" y="4178520"/>
                <a:ext cx="59760" cy="15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5" h="30">
                    <a:moveTo>
                      <a:pt x="66" y="0"/>
                    </a:moveTo>
                    <a:lnTo>
                      <a:pt x="0" y="12"/>
                    </a:lnTo>
                    <a:lnTo>
                      <a:pt x="0" y="30"/>
                    </a:lnTo>
                    <a:lnTo>
                      <a:pt x="75" y="3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75"/>
              <p:cNvSpPr/>
              <p:nvPr/>
            </p:nvSpPr>
            <p:spPr>
              <a:xfrm>
                <a:off x="7720200" y="4219920"/>
                <a:ext cx="48960" cy="21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3" h="42">
                    <a:moveTo>
                      <a:pt x="6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61" y="42"/>
                    </a:lnTo>
                    <a:lnTo>
                      <a:pt x="6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76"/>
              <p:cNvSpPr/>
              <p:nvPr/>
            </p:nvSpPr>
            <p:spPr>
              <a:xfrm>
                <a:off x="7141680" y="3799440"/>
                <a:ext cx="213840" cy="1584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269" h="301">
                    <a:moveTo>
                      <a:pt x="165" y="148"/>
                    </a:moveTo>
                    <a:lnTo>
                      <a:pt x="165" y="102"/>
                    </a:lnTo>
                    <a:lnTo>
                      <a:pt x="159" y="68"/>
                    </a:lnTo>
                    <a:lnTo>
                      <a:pt x="143" y="32"/>
                    </a:lnTo>
                    <a:lnTo>
                      <a:pt x="126" y="12"/>
                    </a:lnTo>
                    <a:lnTo>
                      <a:pt x="105" y="4"/>
                    </a:lnTo>
                    <a:lnTo>
                      <a:pt x="69" y="0"/>
                    </a:lnTo>
                    <a:lnTo>
                      <a:pt x="43" y="17"/>
                    </a:lnTo>
                    <a:lnTo>
                      <a:pt x="21" y="51"/>
                    </a:lnTo>
                    <a:lnTo>
                      <a:pt x="9" y="102"/>
                    </a:lnTo>
                    <a:lnTo>
                      <a:pt x="0" y="156"/>
                    </a:lnTo>
                    <a:lnTo>
                      <a:pt x="0" y="210"/>
                    </a:lnTo>
                    <a:lnTo>
                      <a:pt x="11" y="254"/>
                    </a:lnTo>
                    <a:lnTo>
                      <a:pt x="31" y="282"/>
                    </a:lnTo>
                    <a:lnTo>
                      <a:pt x="59" y="300"/>
                    </a:lnTo>
                    <a:lnTo>
                      <a:pt x="88" y="301"/>
                    </a:lnTo>
                    <a:lnTo>
                      <a:pt x="114" y="295"/>
                    </a:lnTo>
                    <a:lnTo>
                      <a:pt x="131" y="282"/>
                    </a:lnTo>
                    <a:lnTo>
                      <a:pt x="143" y="254"/>
                    </a:lnTo>
                    <a:lnTo>
                      <a:pt x="155" y="214"/>
                    </a:lnTo>
                    <a:lnTo>
                      <a:pt x="165" y="205"/>
                    </a:lnTo>
                    <a:lnTo>
                      <a:pt x="199" y="202"/>
                    </a:lnTo>
                    <a:lnTo>
                      <a:pt x="247" y="216"/>
                    </a:lnTo>
                    <a:lnTo>
                      <a:pt x="260" y="220"/>
                    </a:lnTo>
                    <a:lnTo>
                      <a:pt x="269" y="205"/>
                    </a:lnTo>
                    <a:lnTo>
                      <a:pt x="265" y="192"/>
                    </a:lnTo>
                    <a:lnTo>
                      <a:pt x="260" y="176"/>
                    </a:lnTo>
                    <a:lnTo>
                      <a:pt x="230" y="168"/>
                    </a:lnTo>
                    <a:lnTo>
                      <a:pt x="195" y="165"/>
                    </a:lnTo>
                    <a:lnTo>
                      <a:pt x="165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177"/>
              <p:cNvSpPr/>
              <p:nvPr/>
            </p:nvSpPr>
            <p:spPr>
              <a:xfrm>
                <a:off x="7070040" y="3962880"/>
                <a:ext cx="168120" cy="284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212" h="538">
                    <a:moveTo>
                      <a:pt x="15" y="108"/>
                    </a:moveTo>
                    <a:lnTo>
                      <a:pt x="53" y="35"/>
                    </a:lnTo>
                    <a:lnTo>
                      <a:pt x="80" y="7"/>
                    </a:lnTo>
                    <a:lnTo>
                      <a:pt x="111" y="0"/>
                    </a:lnTo>
                    <a:lnTo>
                      <a:pt x="138" y="1"/>
                    </a:lnTo>
                    <a:lnTo>
                      <a:pt x="176" y="12"/>
                    </a:lnTo>
                    <a:lnTo>
                      <a:pt x="198" y="34"/>
                    </a:lnTo>
                    <a:lnTo>
                      <a:pt x="212" y="57"/>
                    </a:lnTo>
                    <a:lnTo>
                      <a:pt x="212" y="94"/>
                    </a:lnTo>
                    <a:lnTo>
                      <a:pt x="200" y="124"/>
                    </a:lnTo>
                    <a:lnTo>
                      <a:pt x="182" y="164"/>
                    </a:lnTo>
                    <a:lnTo>
                      <a:pt x="170" y="201"/>
                    </a:lnTo>
                    <a:lnTo>
                      <a:pt x="165" y="242"/>
                    </a:lnTo>
                    <a:lnTo>
                      <a:pt x="163" y="273"/>
                    </a:lnTo>
                    <a:lnTo>
                      <a:pt x="173" y="315"/>
                    </a:lnTo>
                    <a:lnTo>
                      <a:pt x="190" y="357"/>
                    </a:lnTo>
                    <a:lnTo>
                      <a:pt x="205" y="402"/>
                    </a:lnTo>
                    <a:lnTo>
                      <a:pt x="208" y="436"/>
                    </a:lnTo>
                    <a:lnTo>
                      <a:pt x="207" y="476"/>
                    </a:lnTo>
                    <a:lnTo>
                      <a:pt x="190" y="504"/>
                    </a:lnTo>
                    <a:lnTo>
                      <a:pt x="163" y="524"/>
                    </a:lnTo>
                    <a:lnTo>
                      <a:pt x="141" y="538"/>
                    </a:lnTo>
                    <a:lnTo>
                      <a:pt x="107" y="538"/>
                    </a:lnTo>
                    <a:lnTo>
                      <a:pt x="75" y="524"/>
                    </a:lnTo>
                    <a:lnTo>
                      <a:pt x="32" y="502"/>
                    </a:lnTo>
                    <a:lnTo>
                      <a:pt x="15" y="446"/>
                    </a:lnTo>
                    <a:lnTo>
                      <a:pt x="9" y="408"/>
                    </a:lnTo>
                    <a:lnTo>
                      <a:pt x="9" y="359"/>
                    </a:lnTo>
                    <a:lnTo>
                      <a:pt x="4" y="315"/>
                    </a:lnTo>
                    <a:lnTo>
                      <a:pt x="0" y="242"/>
                    </a:lnTo>
                    <a:lnTo>
                      <a:pt x="1" y="184"/>
                    </a:lnTo>
                    <a:lnTo>
                      <a:pt x="9" y="136"/>
                    </a:lnTo>
                    <a:lnTo>
                      <a:pt x="1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178"/>
              <p:cNvSpPr/>
              <p:nvPr/>
            </p:nvSpPr>
            <p:spPr>
              <a:xfrm>
                <a:off x="6640200" y="3888360"/>
                <a:ext cx="509040" cy="168120"/>
              </a:xfrm>
              <a:custGeom>
                <a:avLst/>
                <a:gdLst>
                  <a:gd name="textAreaLeft" fmla="*/ 0 w 509040"/>
                  <a:gd name="textAreaRight" fmla="*/ 509400 w 5090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41" h="319">
                    <a:moveTo>
                      <a:pt x="560" y="188"/>
                    </a:moveTo>
                    <a:lnTo>
                      <a:pt x="596" y="165"/>
                    </a:lnTo>
                    <a:lnTo>
                      <a:pt x="628" y="155"/>
                    </a:lnTo>
                    <a:lnTo>
                      <a:pt x="641" y="170"/>
                    </a:lnTo>
                    <a:lnTo>
                      <a:pt x="641" y="205"/>
                    </a:lnTo>
                    <a:lnTo>
                      <a:pt x="611" y="250"/>
                    </a:lnTo>
                    <a:lnTo>
                      <a:pt x="579" y="257"/>
                    </a:lnTo>
                    <a:lnTo>
                      <a:pt x="499" y="290"/>
                    </a:lnTo>
                    <a:lnTo>
                      <a:pt x="418" y="307"/>
                    </a:lnTo>
                    <a:lnTo>
                      <a:pt x="346" y="319"/>
                    </a:lnTo>
                    <a:lnTo>
                      <a:pt x="293" y="312"/>
                    </a:lnTo>
                    <a:lnTo>
                      <a:pt x="222" y="290"/>
                    </a:lnTo>
                    <a:lnTo>
                      <a:pt x="141" y="222"/>
                    </a:lnTo>
                    <a:lnTo>
                      <a:pt x="92" y="165"/>
                    </a:lnTo>
                    <a:lnTo>
                      <a:pt x="63" y="143"/>
                    </a:lnTo>
                    <a:lnTo>
                      <a:pt x="38" y="136"/>
                    </a:lnTo>
                    <a:lnTo>
                      <a:pt x="17" y="130"/>
                    </a:lnTo>
                    <a:lnTo>
                      <a:pt x="4" y="102"/>
                    </a:lnTo>
                    <a:lnTo>
                      <a:pt x="0" y="53"/>
                    </a:lnTo>
                    <a:lnTo>
                      <a:pt x="9" y="22"/>
                    </a:lnTo>
                    <a:lnTo>
                      <a:pt x="21" y="0"/>
                    </a:lnTo>
                    <a:lnTo>
                      <a:pt x="41" y="7"/>
                    </a:lnTo>
                    <a:lnTo>
                      <a:pt x="50" y="46"/>
                    </a:lnTo>
                    <a:lnTo>
                      <a:pt x="46" y="87"/>
                    </a:lnTo>
                    <a:lnTo>
                      <a:pt x="72" y="114"/>
                    </a:lnTo>
                    <a:lnTo>
                      <a:pt x="88" y="115"/>
                    </a:lnTo>
                    <a:lnTo>
                      <a:pt x="102" y="97"/>
                    </a:lnTo>
                    <a:lnTo>
                      <a:pt x="107" y="69"/>
                    </a:lnTo>
                    <a:lnTo>
                      <a:pt x="136" y="75"/>
                    </a:lnTo>
                    <a:lnTo>
                      <a:pt x="136" y="120"/>
                    </a:lnTo>
                    <a:lnTo>
                      <a:pt x="119" y="148"/>
                    </a:lnTo>
                    <a:lnTo>
                      <a:pt x="157" y="188"/>
                    </a:lnTo>
                    <a:lnTo>
                      <a:pt x="216" y="222"/>
                    </a:lnTo>
                    <a:lnTo>
                      <a:pt x="268" y="239"/>
                    </a:lnTo>
                    <a:lnTo>
                      <a:pt x="321" y="256"/>
                    </a:lnTo>
                    <a:lnTo>
                      <a:pt x="357" y="256"/>
                    </a:lnTo>
                    <a:lnTo>
                      <a:pt x="404" y="244"/>
                    </a:lnTo>
                    <a:lnTo>
                      <a:pt x="455" y="226"/>
                    </a:lnTo>
                    <a:lnTo>
                      <a:pt x="506" y="205"/>
                    </a:lnTo>
                    <a:lnTo>
                      <a:pt x="56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179"/>
              <p:cNvSpPr/>
              <p:nvPr/>
            </p:nvSpPr>
            <p:spPr>
              <a:xfrm>
                <a:off x="7174440" y="3893040"/>
                <a:ext cx="510480" cy="16812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42" h="319">
                    <a:moveTo>
                      <a:pt x="81" y="187"/>
                    </a:moveTo>
                    <a:lnTo>
                      <a:pt x="44" y="165"/>
                    </a:lnTo>
                    <a:lnTo>
                      <a:pt x="12" y="155"/>
                    </a:lnTo>
                    <a:lnTo>
                      <a:pt x="0" y="170"/>
                    </a:lnTo>
                    <a:lnTo>
                      <a:pt x="0" y="205"/>
                    </a:lnTo>
                    <a:lnTo>
                      <a:pt x="30" y="249"/>
                    </a:lnTo>
                    <a:lnTo>
                      <a:pt x="61" y="257"/>
                    </a:lnTo>
                    <a:lnTo>
                      <a:pt x="142" y="289"/>
                    </a:lnTo>
                    <a:lnTo>
                      <a:pt x="224" y="307"/>
                    </a:lnTo>
                    <a:lnTo>
                      <a:pt x="295" y="319"/>
                    </a:lnTo>
                    <a:lnTo>
                      <a:pt x="349" y="312"/>
                    </a:lnTo>
                    <a:lnTo>
                      <a:pt x="419" y="289"/>
                    </a:lnTo>
                    <a:lnTo>
                      <a:pt x="501" y="221"/>
                    </a:lnTo>
                    <a:lnTo>
                      <a:pt x="550" y="165"/>
                    </a:lnTo>
                    <a:lnTo>
                      <a:pt x="579" y="143"/>
                    </a:lnTo>
                    <a:lnTo>
                      <a:pt x="604" y="136"/>
                    </a:lnTo>
                    <a:lnTo>
                      <a:pt x="625" y="130"/>
                    </a:lnTo>
                    <a:lnTo>
                      <a:pt x="638" y="102"/>
                    </a:lnTo>
                    <a:lnTo>
                      <a:pt x="642" y="53"/>
                    </a:lnTo>
                    <a:lnTo>
                      <a:pt x="633" y="22"/>
                    </a:lnTo>
                    <a:lnTo>
                      <a:pt x="621" y="0"/>
                    </a:lnTo>
                    <a:lnTo>
                      <a:pt x="601" y="7"/>
                    </a:lnTo>
                    <a:lnTo>
                      <a:pt x="592" y="45"/>
                    </a:lnTo>
                    <a:lnTo>
                      <a:pt x="596" y="87"/>
                    </a:lnTo>
                    <a:lnTo>
                      <a:pt x="570" y="113"/>
                    </a:lnTo>
                    <a:lnTo>
                      <a:pt x="554" y="115"/>
                    </a:lnTo>
                    <a:lnTo>
                      <a:pt x="540" y="97"/>
                    </a:lnTo>
                    <a:lnTo>
                      <a:pt x="535" y="69"/>
                    </a:lnTo>
                    <a:lnTo>
                      <a:pt x="506" y="75"/>
                    </a:lnTo>
                    <a:lnTo>
                      <a:pt x="506" y="119"/>
                    </a:lnTo>
                    <a:lnTo>
                      <a:pt x="523" y="147"/>
                    </a:lnTo>
                    <a:lnTo>
                      <a:pt x="485" y="187"/>
                    </a:lnTo>
                    <a:lnTo>
                      <a:pt x="425" y="221"/>
                    </a:lnTo>
                    <a:lnTo>
                      <a:pt x="372" y="239"/>
                    </a:lnTo>
                    <a:lnTo>
                      <a:pt x="321" y="255"/>
                    </a:lnTo>
                    <a:lnTo>
                      <a:pt x="284" y="255"/>
                    </a:lnTo>
                    <a:lnTo>
                      <a:pt x="237" y="244"/>
                    </a:lnTo>
                    <a:lnTo>
                      <a:pt x="186" y="226"/>
                    </a:lnTo>
                    <a:lnTo>
                      <a:pt x="134" y="205"/>
                    </a:lnTo>
                    <a:lnTo>
                      <a:pt x="81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80"/>
              <p:cNvSpPr/>
              <p:nvPr/>
            </p:nvSpPr>
            <p:spPr>
              <a:xfrm>
                <a:off x="6917760" y="4108680"/>
                <a:ext cx="259920" cy="26316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328" h="498">
                    <a:moveTo>
                      <a:pt x="281" y="112"/>
                    </a:moveTo>
                    <a:lnTo>
                      <a:pt x="307" y="128"/>
                    </a:lnTo>
                    <a:lnTo>
                      <a:pt x="322" y="168"/>
                    </a:lnTo>
                    <a:lnTo>
                      <a:pt x="328" y="207"/>
                    </a:lnTo>
                    <a:lnTo>
                      <a:pt x="316" y="247"/>
                    </a:lnTo>
                    <a:lnTo>
                      <a:pt x="302" y="251"/>
                    </a:lnTo>
                    <a:lnTo>
                      <a:pt x="274" y="261"/>
                    </a:lnTo>
                    <a:lnTo>
                      <a:pt x="238" y="257"/>
                    </a:lnTo>
                    <a:lnTo>
                      <a:pt x="204" y="241"/>
                    </a:lnTo>
                    <a:lnTo>
                      <a:pt x="163" y="205"/>
                    </a:lnTo>
                    <a:lnTo>
                      <a:pt x="135" y="165"/>
                    </a:lnTo>
                    <a:lnTo>
                      <a:pt x="104" y="121"/>
                    </a:lnTo>
                    <a:lnTo>
                      <a:pt x="90" y="99"/>
                    </a:lnTo>
                    <a:lnTo>
                      <a:pt x="103" y="145"/>
                    </a:lnTo>
                    <a:lnTo>
                      <a:pt x="112" y="213"/>
                    </a:lnTo>
                    <a:lnTo>
                      <a:pt x="109" y="297"/>
                    </a:lnTo>
                    <a:lnTo>
                      <a:pt x="101" y="363"/>
                    </a:lnTo>
                    <a:lnTo>
                      <a:pt x="94" y="412"/>
                    </a:lnTo>
                    <a:lnTo>
                      <a:pt x="98" y="451"/>
                    </a:lnTo>
                    <a:lnTo>
                      <a:pt x="104" y="476"/>
                    </a:lnTo>
                    <a:lnTo>
                      <a:pt x="103" y="492"/>
                    </a:lnTo>
                    <a:lnTo>
                      <a:pt x="91" y="498"/>
                    </a:lnTo>
                    <a:lnTo>
                      <a:pt x="70" y="498"/>
                    </a:lnTo>
                    <a:lnTo>
                      <a:pt x="55" y="486"/>
                    </a:lnTo>
                    <a:lnTo>
                      <a:pt x="38" y="456"/>
                    </a:lnTo>
                    <a:lnTo>
                      <a:pt x="26" y="419"/>
                    </a:lnTo>
                    <a:lnTo>
                      <a:pt x="4" y="372"/>
                    </a:lnTo>
                    <a:lnTo>
                      <a:pt x="0" y="357"/>
                    </a:lnTo>
                    <a:lnTo>
                      <a:pt x="9" y="347"/>
                    </a:lnTo>
                    <a:lnTo>
                      <a:pt x="42" y="335"/>
                    </a:lnTo>
                    <a:lnTo>
                      <a:pt x="65" y="341"/>
                    </a:lnTo>
                    <a:lnTo>
                      <a:pt x="65" y="334"/>
                    </a:lnTo>
                    <a:lnTo>
                      <a:pt x="65" y="261"/>
                    </a:lnTo>
                    <a:lnTo>
                      <a:pt x="53" y="168"/>
                    </a:lnTo>
                    <a:lnTo>
                      <a:pt x="44" y="106"/>
                    </a:lnTo>
                    <a:lnTo>
                      <a:pt x="42" y="56"/>
                    </a:lnTo>
                    <a:lnTo>
                      <a:pt x="53" y="34"/>
                    </a:lnTo>
                    <a:lnTo>
                      <a:pt x="70" y="4"/>
                    </a:lnTo>
                    <a:lnTo>
                      <a:pt x="98" y="0"/>
                    </a:lnTo>
                    <a:lnTo>
                      <a:pt x="120" y="16"/>
                    </a:lnTo>
                    <a:lnTo>
                      <a:pt x="152" y="50"/>
                    </a:lnTo>
                    <a:lnTo>
                      <a:pt x="195" y="87"/>
                    </a:lnTo>
                    <a:lnTo>
                      <a:pt x="237" y="106"/>
                    </a:lnTo>
                    <a:lnTo>
                      <a:pt x="281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181"/>
              <p:cNvSpPr/>
              <p:nvPr/>
            </p:nvSpPr>
            <p:spPr>
              <a:xfrm>
                <a:off x="7089120" y="4185000"/>
                <a:ext cx="272520" cy="2534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345" h="480">
                    <a:moveTo>
                      <a:pt x="95" y="28"/>
                    </a:moveTo>
                    <a:lnTo>
                      <a:pt x="134" y="0"/>
                    </a:lnTo>
                    <a:lnTo>
                      <a:pt x="162" y="19"/>
                    </a:lnTo>
                    <a:lnTo>
                      <a:pt x="176" y="50"/>
                    </a:lnTo>
                    <a:lnTo>
                      <a:pt x="160" y="112"/>
                    </a:lnTo>
                    <a:lnTo>
                      <a:pt x="133" y="179"/>
                    </a:lnTo>
                    <a:lnTo>
                      <a:pt x="95" y="235"/>
                    </a:lnTo>
                    <a:lnTo>
                      <a:pt x="68" y="259"/>
                    </a:lnTo>
                    <a:lnTo>
                      <a:pt x="69" y="273"/>
                    </a:lnTo>
                    <a:lnTo>
                      <a:pt x="111" y="281"/>
                    </a:lnTo>
                    <a:lnTo>
                      <a:pt x="151" y="287"/>
                    </a:lnTo>
                    <a:lnTo>
                      <a:pt x="219" y="275"/>
                    </a:lnTo>
                    <a:lnTo>
                      <a:pt x="268" y="251"/>
                    </a:lnTo>
                    <a:lnTo>
                      <a:pt x="286" y="235"/>
                    </a:lnTo>
                    <a:lnTo>
                      <a:pt x="307" y="223"/>
                    </a:lnTo>
                    <a:lnTo>
                      <a:pt x="319" y="225"/>
                    </a:lnTo>
                    <a:lnTo>
                      <a:pt x="329" y="242"/>
                    </a:lnTo>
                    <a:lnTo>
                      <a:pt x="329" y="273"/>
                    </a:lnTo>
                    <a:lnTo>
                      <a:pt x="306" y="315"/>
                    </a:lnTo>
                    <a:lnTo>
                      <a:pt x="298" y="364"/>
                    </a:lnTo>
                    <a:lnTo>
                      <a:pt x="311" y="392"/>
                    </a:lnTo>
                    <a:lnTo>
                      <a:pt x="340" y="418"/>
                    </a:lnTo>
                    <a:lnTo>
                      <a:pt x="345" y="438"/>
                    </a:lnTo>
                    <a:lnTo>
                      <a:pt x="332" y="460"/>
                    </a:lnTo>
                    <a:lnTo>
                      <a:pt x="295" y="480"/>
                    </a:lnTo>
                    <a:lnTo>
                      <a:pt x="276" y="472"/>
                    </a:lnTo>
                    <a:lnTo>
                      <a:pt x="267" y="426"/>
                    </a:lnTo>
                    <a:lnTo>
                      <a:pt x="258" y="365"/>
                    </a:lnTo>
                    <a:lnTo>
                      <a:pt x="263" y="307"/>
                    </a:lnTo>
                    <a:lnTo>
                      <a:pt x="247" y="303"/>
                    </a:lnTo>
                    <a:lnTo>
                      <a:pt x="208" y="321"/>
                    </a:lnTo>
                    <a:lnTo>
                      <a:pt x="147" y="336"/>
                    </a:lnTo>
                    <a:lnTo>
                      <a:pt x="103" y="343"/>
                    </a:lnTo>
                    <a:lnTo>
                      <a:pt x="46" y="330"/>
                    </a:lnTo>
                    <a:lnTo>
                      <a:pt x="6" y="318"/>
                    </a:lnTo>
                    <a:lnTo>
                      <a:pt x="0" y="268"/>
                    </a:lnTo>
                    <a:lnTo>
                      <a:pt x="11" y="220"/>
                    </a:lnTo>
                    <a:lnTo>
                      <a:pt x="43" y="135"/>
                    </a:lnTo>
                    <a:lnTo>
                      <a:pt x="60" y="92"/>
                    </a:lnTo>
                    <a:lnTo>
                      <a:pt x="77" y="56"/>
                    </a:lnTo>
                    <a:lnTo>
                      <a:pt x="9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Стрелка вправо 90"/>
          <p:cNvSpPr/>
          <p:nvPr/>
        </p:nvSpPr>
        <p:spPr>
          <a:xfrm rot="5400000">
            <a:off x="4392720" y="35359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Стрелка вправо 91"/>
          <p:cNvSpPr/>
          <p:nvPr/>
        </p:nvSpPr>
        <p:spPr>
          <a:xfrm rot="16200000">
            <a:off x="4393080" y="2821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Стрелка вправо 92"/>
          <p:cNvSpPr/>
          <p:nvPr/>
        </p:nvSpPr>
        <p:spPr>
          <a:xfrm rot="7918800">
            <a:off x="2889720" y="34279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Стрелка вправо 93"/>
          <p:cNvSpPr/>
          <p:nvPr/>
        </p:nvSpPr>
        <p:spPr>
          <a:xfrm rot="1837800">
            <a:off x="5892480" y="3414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Стрелка вправо 94"/>
          <p:cNvSpPr/>
          <p:nvPr/>
        </p:nvSpPr>
        <p:spPr>
          <a:xfrm rot="18644400">
            <a:off x="5817600" y="2784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Стрелка вправо 95"/>
          <p:cNvSpPr/>
          <p:nvPr/>
        </p:nvSpPr>
        <p:spPr>
          <a:xfrm rot="13108200">
            <a:off x="2892240" y="277956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324000" y="260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РОБЛЕМЫ ДУХОВНОЙ КУЛЬТУР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235080" y="1317600"/>
            <a:ext cx="496872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но отражать искусство: правду жизни или высокие идеалы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но пробуждать искусство: чувства или мысли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объективные показатели того, что считать великим искусством, великой литературой, великой культурой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художественном произведении заложена ошибочная идея, т.е. «плохое» содержание, само произведение по форме хорошее или плохое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http://n1s1.hsmedia.ru/23/0a/cd/230acd400bbaada805faf2b8885db944/276x367_0xc0a83945_17979599221374581287.jpg"/>
          <p:cNvPicPr/>
          <p:nvPr/>
        </p:nvPicPr>
        <p:blipFill>
          <a:blip r:embed="rId1"/>
          <a:stretch/>
        </p:blipFill>
        <p:spPr>
          <a:xfrm>
            <a:off x="5219640" y="1268280"/>
            <a:ext cx="3845160" cy="51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Monotype Corsiva"/>
              </a:rPr>
              <a:t>Отличия духовных ценностей от материальных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граничность про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ии в них индивидуальности созд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64000" y="3316320"/>
            <a:ext cx="2571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34920" y="115920"/>
            <a:ext cx="2444760" cy="230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J0153514"/>
          <p:cNvPicPr/>
          <p:nvPr/>
        </p:nvPicPr>
        <p:blipFill>
          <a:blip r:embed="rId3"/>
          <a:stretch/>
        </p:blipFill>
        <p:spPr>
          <a:xfrm rot="5400000">
            <a:off x="6480000" y="4260600"/>
            <a:ext cx="230508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7:45:58Z</dcterms:created>
  <dc:creator>User</dc:creator>
  <dc:description/>
  <dc:language>en-US</dc:language>
  <cp:lastModifiedBy>Ирина</cp:lastModifiedBy>
  <dcterms:modified xsi:type="dcterms:W3CDTF">2017-08-08T18:03:05Z</dcterms:modified>
  <cp:revision>20</cp:revision>
  <dc:subject/>
  <dc:title>Духовная культура</dc:title>
</cp:coreProperties>
</file>