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11.gif" ContentType="image/gif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C366-A1EF-4A85-B4AB-9DD54F5BF9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E2FF-ED10-4476-AC38-3C2581579E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611-88AF-4A58-AF90-5671FAD3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19C-CC55-4C64-A6D8-ED85C51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381-6ADC-4C13-AC59-B6172CC5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339-BD57-48FB-9893-37A9DC53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2CB33-1502-4491-89B3-EA427316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FDBAC-7A8B-4B71-AFEA-28E863E6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C59B7-1C88-42C4-A8A4-7D5B169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36B2-A247-44C4-89D0-C4E1F08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77B18-0C52-4813-A950-DCC5CBA6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81D0D-E7B1-4901-9C30-F467C00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22AA-7E20-47AD-BA06-7101069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8D4-00A7-4B95-87C4-6D839EF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CF38C-D233-4071-9502-CF1FADF4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325E7-E3A8-40D2-ADF9-B9BEACE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E0972-2DC0-4A74-9651-AE94E6D1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74C90-B8A7-4C31-9BC0-953243D8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40D9-9A71-4B72-B09D-BF9FB0A9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F441E-0D95-4952-984F-F6EF0189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4020C-C8BB-46A6-90B4-B664955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F18D8-F9E3-4697-B4A7-4F0EF0B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3C0A8-09C9-4FB7-BD9C-90A4DDB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70AE9-3D68-4B5D-AA50-9BF1C3A2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89E-7B3B-4C24-82C0-A2AB40FA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0E96A-3C0A-4D4C-A070-29D5A95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8E1B9-9937-421C-90FC-427F525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D4A86-8BE7-4841-8CF8-E552F845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959B1-4E6A-4CF6-B59A-2B6B502E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4131B-2DF5-4E68-9C5D-EA3A46C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7B16D-6A93-4761-8CB4-71C0FC39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5D5B6-C019-400A-A8F9-EB603E70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93A24-5397-40E5-9F41-BCE2C20A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39CB5-C72B-46AF-B431-85AA8D2F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8C23E-46FC-41B1-BC6A-507307E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E3C-DC01-4D28-BB9B-E5FD1367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05F61-A7EA-4FD3-876C-849930EA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26E61-7461-4EA9-85FB-CE1DE31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3FB97-EC09-4A43-B149-19D67B7A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A2DA6-6946-4574-B685-2D92584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6715F-C3AE-4FC7-8DB5-88B677C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99E28-239C-4A2F-B0EA-C659105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C0939-8C2C-49C0-9BE3-02A2121E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9CB4B-2F37-47DF-BADF-FB49A365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6C017-DDB5-4A87-A25F-F9F65AF4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F312F-9D19-41C9-B962-D3926BC2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840-F52F-47EB-B0C5-D18A464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64DA2-458F-4BD0-93FF-5463C6D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3D885-4F23-4189-98E1-3E1B02FF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BB006-BBB9-4B1B-814B-18CCC4B7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27E54-FADE-4D7D-8621-F3CD6102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4BF63-5C9F-4935-AD4E-86CDC79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68566-DEEF-46E6-B292-139CAA2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78809-7312-4F86-8555-7AD8508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2A4A6-7D29-4868-9C88-F27ADC2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D391D-114D-4E3E-8213-7C68222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E5985-D2B2-4208-BAF3-46362BA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BB1-3E62-4BFF-B5B4-180209D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C1AB0-B795-429E-AABC-9C82FA71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FB263-85E5-49E6-A7F1-9CEAF8D5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127F8-30D1-432D-8E6F-42FB368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5170D-B8D2-459F-B207-F2819F2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85B43-689F-4347-A915-A4050CF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AA290-9B2C-4462-82D2-B05BC92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01781-5D5C-4707-81CF-ECF0162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AB5CD-9BB3-4D6C-A376-7219AEB0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BC2EC-C716-461E-8E2E-F081C63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B877F-880A-42F0-8547-2B648E1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592-356F-42B4-800D-DAD0FB09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A9421-4239-4E3D-A4BA-88F906B1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5EF05F-168F-42FE-B0E2-6C4CD605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AB9F7-9061-4C7B-8B22-AD0357FB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AA4-039D-4B5E-A1C0-DD1F922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CE8-7458-47AF-90F8-E19350D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32D-B4B2-4430-9BB4-80C3AB21DE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1C5-BE37-4C7B-BEE8-63A8FB540E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1D73-E87F-44CD-8BBA-D6B4CE5004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423-B43C-45CD-97E5-0AB6042892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276-F911-4E48-819B-8BD29C8BB8E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3339-652A-4012-B72D-1331928A6C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324000" y="220500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изнаки государств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Внутренние и внешние функции государств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511280" y="371520"/>
            <a:ext cx="6121440" cy="2085840"/>
            <a:chOff x="1511280" y="371520"/>
            <a:chExt cx="6121440" cy="208584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511280" y="371520"/>
              <a:ext cx="612144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433600" y="700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государственного правлен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Овал 2"/>
          <p:cNvGrpSpPr/>
          <p:nvPr/>
        </p:nvGrpSpPr>
        <p:grpSpPr>
          <a:xfrm>
            <a:off x="146160" y="3035160"/>
            <a:ext cx="4170240" cy="1440000"/>
            <a:chOff x="146160" y="3035160"/>
            <a:chExt cx="4170240" cy="1440000"/>
          </a:xfrm>
        </p:grpSpPr>
        <p:pic>
          <p:nvPicPr>
            <p:cNvPr id="399" name="Овал 2" descr=""/>
            <p:cNvPicPr/>
            <p:nvPr/>
          </p:nvPicPr>
          <p:blipFill>
            <a:blip r:embed="rId2"/>
            <a:stretch/>
          </p:blipFill>
          <p:spPr>
            <a:xfrm>
              <a:off x="146160" y="3035160"/>
              <a:ext cx="4170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81200" y="3268800"/>
              <a:ext cx="2901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нарх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Овал 3"/>
          <p:cNvGrpSpPr/>
          <p:nvPr/>
        </p:nvGrpSpPr>
        <p:grpSpPr>
          <a:xfrm>
            <a:off x="4035600" y="4041720"/>
            <a:ext cx="4528800" cy="1438200"/>
            <a:chOff x="4035600" y="4041720"/>
            <a:chExt cx="4528800" cy="1438200"/>
          </a:xfrm>
        </p:grpSpPr>
        <p:pic>
          <p:nvPicPr>
            <p:cNvPr id="402" name="Овал 3" descr=""/>
            <p:cNvPicPr/>
            <p:nvPr/>
          </p:nvPicPr>
          <p:blipFill>
            <a:blip r:embed="rId3"/>
            <a:stretch/>
          </p:blipFill>
          <p:spPr>
            <a:xfrm>
              <a:off x="4035600" y="4041720"/>
              <a:ext cx="45288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721400" y="4276800"/>
              <a:ext cx="31572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спубли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Выгнутая влево стрелка 4"/>
          <p:cNvSpPr/>
          <p:nvPr/>
        </p:nvSpPr>
        <p:spPr>
          <a:xfrm>
            <a:off x="684360" y="1773360"/>
            <a:ext cx="1079280" cy="158436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94840 h 1584360"/>
              <a:gd name="textAreaBottom" fmla="*/ 11545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39" stAng="-5400000" swAng="-5400000"/>
                <a:lnTo>
                  <a:pt x="0" y="11721"/>
                </a:lnTo>
                <a:arcTo wR="21600" hR="8039" stAng="10800000" swAng="-3314830"/>
                <a:lnTo>
                  <a:pt x="16200" y="21345"/>
                </a:lnTo>
                <a:lnTo>
                  <a:pt x="21600" y="17918"/>
                </a:lnTo>
                <a:lnTo>
                  <a:pt x="16200" y="13981"/>
                </a:lnTo>
                <a:lnTo>
                  <a:pt x="16200" y="15822"/>
                </a:lnTo>
                <a:arcTo wR="21600" hR="8039" stAng="7485170" swAng="3014591"/>
                <a:lnTo>
                  <a:pt x="574" y="9879"/>
                </a:lnTo>
                <a:arcTo wR="21600" hR="8039" stAng="-10499761" swAng="5099761"/>
                <a:close/>
              </a:path>
              <a:path fill="darkenLess" w="21600" h="21600">
                <a:moveTo>
                  <a:pt x="21600" y="0"/>
                </a:moveTo>
                <a:arcTo wR="21600" hR="8039" stAng="-5400000" swAng="-5400000"/>
                <a:lnTo>
                  <a:pt x="0" y="8039"/>
                </a:lnTo>
                <a:arcTo wR="21600" hR="8039" stAng="10800000" swAng="-300239"/>
                <a:lnTo>
                  <a:pt x="574" y="9879"/>
                </a:lnTo>
                <a:arcTo wR="21600" hR="8039" stAng="-10499761" swAng="5099761"/>
                <a:close/>
              </a:path>
            </a:pathLst>
          </a:custGeom>
          <a:solidFill>
            <a:srgbClr val="724314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Выгнутая вправо стрелка 5"/>
          <p:cNvSpPr/>
          <p:nvPr/>
        </p:nvSpPr>
        <p:spPr>
          <a:xfrm rot="21361200">
            <a:off x="7351200" y="1679400"/>
            <a:ext cx="1567080" cy="2851200"/>
          </a:xfrm>
          <a:custGeom>
            <a:avLst/>
            <a:gdLst>
              <a:gd name="textAreaLeft" fmla="*/ 209880 w 1567080"/>
              <a:gd name="textAreaRight" fmla="*/ 1357200 w 1567080"/>
              <a:gd name="textAreaTop" fmla="*/ 565920 h 2851200"/>
              <a:gd name="textAreaBottom" fmla="*/ 2089440 h 285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4" stAng="-5400000" swAng="5400000"/>
                <a:lnTo>
                  <a:pt x="21600" y="11543"/>
                </a:lnTo>
                <a:arcTo wR="21600" hR="8574" stAng="0" swAng="3417350"/>
                <a:lnTo>
                  <a:pt x="5400" y="21328"/>
                </a:lnTo>
                <a:lnTo>
                  <a:pt x="0" y="18632"/>
                </a:lnTo>
                <a:lnTo>
                  <a:pt x="5400" y="15391"/>
                </a:lnTo>
                <a:lnTo>
                  <a:pt x="5400" y="16875"/>
                </a:lnTo>
                <a:arcTo wR="21600" hR="8574" stAng="3417350" swAng="-3177850"/>
                <a:lnTo>
                  <a:pt x="21274" y="10058"/>
                </a:lnTo>
                <a:arcTo wR="21600" hR="8574" stAng="-239501" swAng="-5160499"/>
                <a:close/>
              </a:path>
              <a:path fill="darkenLess" w="21600" h="21600">
                <a:moveTo>
                  <a:pt x="0" y="0"/>
                </a:moveTo>
                <a:arcTo wR="21600" hR="8574" stAng="-5400000" swAng="5400000"/>
                <a:lnTo>
                  <a:pt x="21600" y="11543"/>
                </a:lnTo>
                <a:arcTo wR="21600" hR="8574" stAng="0" swAng="-239501"/>
                <a:lnTo>
                  <a:pt x="21274" y="10058"/>
                </a:lnTo>
                <a:arcTo wR="21600" hR="8574" stAng="-239501" swAng="-5160499"/>
                <a:close/>
              </a:path>
            </a:pathLst>
          </a:custGeom>
          <a:solidFill>
            <a:srgbClr val="5a5a1a"/>
          </a:solidFill>
          <a:ln w="38520">
            <a:solidFill>
              <a:srgbClr val="596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Рисунок 7" descr="2050.gif"/>
          <p:cNvPicPr/>
          <p:nvPr/>
        </p:nvPicPr>
        <p:blipFill>
          <a:blip r:embed="rId4"/>
          <a:stretch/>
        </p:blipFill>
        <p:spPr>
          <a:xfrm flipH="1" rot="19698000">
            <a:off x="539280" y="4723920"/>
            <a:ext cx="96048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9" descr="2050.gif"/>
          <p:cNvPicPr/>
          <p:nvPr/>
        </p:nvPicPr>
        <p:blipFill>
          <a:blip r:embed="rId5"/>
          <a:stretch/>
        </p:blipFill>
        <p:spPr>
          <a:xfrm rot="1856400">
            <a:off x="7403760" y="5520960"/>
            <a:ext cx="952560" cy="357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-316440"/>
            <a:ext cx="899172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ndara"/>
              </a:rPr>
              <a:t> 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нархи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форма правления, при которой вся полнота государственной власти сосредоточена в руках одного человека – монарха (царя, короля, шаха, императора, султана и т. п.), который выполняет функции и главы государства, и законодательной, и во многом исполнительной власти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арх наследует власть как представитель правящей династии и осуществляет её пожизненно и бессрочно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ществует монархия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граниченная. высшая государственная власть рассредоточена между монархом и другими органами (Земским собором в Российской империи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тносится современная конституционная монархия, в которой власть   монарха ограничена конституцией, парламентом, правительством и независимым судом (Великобритания,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идерланды, Бельгия, Швеция, Испания)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еограниченная (абсолютная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арх является единственным высшим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м государства. Он осуществляет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конодательную функцию, руководит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ами исполнительной власти,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ирует правосудие (Саудовская Аравия, Аман, Катар)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09880" indent="-209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Picture 1" descr="C:\Users\Артём\Desktop\3 семестр\право\Формы гос-ва\2.jpg"/>
          <p:cNvPicPr/>
          <p:nvPr/>
        </p:nvPicPr>
        <p:blipFill>
          <a:blip r:embed="rId1"/>
          <a:stretch/>
        </p:blipFill>
        <p:spPr>
          <a:xfrm>
            <a:off x="5292720" y="4143240"/>
            <a:ext cx="3718080" cy="229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08000" y="260280"/>
            <a:ext cx="8748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спублика может бы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рламентская 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парламент наделён не только законодательными полномочиями, но и правом давать отставку правительству, выразив ему недоверие, правительство несёт перед парламентом ответственность за свою деятельность (Россия, Германия, Италия, Чехия, Венгрия, Польш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идентская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 это форма правления, при которой президент непосредственно при определённом парламентском контроле формирует правительство, которое несёт перед ним ответственность за свою деятельность (США, Аргентина, Грузия, Бразилия, Венесуэла, Египет). В президентских республиках обычно нет должности премьер-министра, так как чаще всего функции главы государства и главы и правительства выполняет презид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Овал 3"/>
          <p:cNvGrpSpPr/>
          <p:nvPr/>
        </p:nvGrpSpPr>
        <p:grpSpPr>
          <a:xfrm>
            <a:off x="1511280" y="152280"/>
            <a:ext cx="6121440" cy="2084400"/>
            <a:chOff x="1511280" y="152280"/>
            <a:chExt cx="6121440" cy="2084400"/>
          </a:xfrm>
        </p:grpSpPr>
        <p:pic>
          <p:nvPicPr>
            <p:cNvPr id="413" name="Овал 3" descr=""/>
            <p:cNvPicPr/>
            <p:nvPr/>
          </p:nvPicPr>
          <p:blipFill>
            <a:blip r:embed="rId1"/>
            <a:stretch/>
          </p:blipFill>
          <p:spPr>
            <a:xfrm>
              <a:off x="1511280" y="152280"/>
              <a:ext cx="61214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433600" y="484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государственного устройств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"/>
          <p:cNvGrpSpPr/>
          <p:nvPr/>
        </p:nvGrpSpPr>
        <p:grpSpPr>
          <a:xfrm>
            <a:off x="1798560" y="2676600"/>
            <a:ext cx="6699240" cy="1004760"/>
            <a:chOff x="1798560" y="2676600"/>
            <a:chExt cx="6699240" cy="1004760"/>
          </a:xfrm>
        </p:grpSpPr>
        <p:pic>
          <p:nvPicPr>
            <p:cNvPr id="416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98560" y="2676600"/>
              <a:ext cx="66992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881360" y="275436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Унитарна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Скругленный прямоугольник 5"/>
          <p:cNvGrpSpPr/>
          <p:nvPr/>
        </p:nvGrpSpPr>
        <p:grpSpPr>
          <a:xfrm>
            <a:off x="1798560" y="3828960"/>
            <a:ext cx="6699240" cy="1005120"/>
            <a:chOff x="1798560" y="3828960"/>
            <a:chExt cx="6699240" cy="1005120"/>
          </a:xfrm>
        </p:grpSpPr>
        <p:pic>
          <p:nvPicPr>
            <p:cNvPr id="419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798560" y="3828960"/>
              <a:ext cx="66992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881360" y="390672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Федера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6"/>
          <p:cNvGrpSpPr/>
          <p:nvPr/>
        </p:nvGrpSpPr>
        <p:grpSpPr>
          <a:xfrm>
            <a:off x="1798560" y="5052960"/>
            <a:ext cx="6699240" cy="1000080"/>
            <a:chOff x="1798560" y="5052960"/>
            <a:chExt cx="6699240" cy="1000080"/>
          </a:xfrm>
        </p:grpSpPr>
        <p:pic>
          <p:nvPicPr>
            <p:cNvPr id="422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798560" y="5052960"/>
              <a:ext cx="6699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881360" y="5130720"/>
              <a:ext cx="6534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Конфедерац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Рисунок 8" descr="2049.gif"/>
          <p:cNvPicPr/>
          <p:nvPr/>
        </p:nvPicPr>
        <p:blipFill>
          <a:blip r:embed="rId5"/>
          <a:stretch/>
        </p:blipFill>
        <p:spPr>
          <a:xfrm>
            <a:off x="520560" y="269064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9" descr="2049.gif"/>
          <p:cNvPicPr/>
          <p:nvPr/>
        </p:nvPicPr>
        <p:blipFill>
          <a:blip r:embed="rId6"/>
          <a:stretch/>
        </p:blipFill>
        <p:spPr>
          <a:xfrm>
            <a:off x="520560" y="3843360"/>
            <a:ext cx="1314720" cy="1314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10" descr="2049.gif"/>
          <p:cNvPicPr/>
          <p:nvPr/>
        </p:nvPicPr>
        <p:blipFill>
          <a:blip r:embed="rId7"/>
          <a:stretch/>
        </p:blipFill>
        <p:spPr>
          <a:xfrm>
            <a:off x="520560" y="4941720"/>
            <a:ext cx="1314720" cy="131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нитарное государство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целостное централизованное государство, административно-территориальные единицы которого (области, провинции, округа и т. д.) не имеют статуса государственных образований, не обладают суверенными правами (Франция, Турция, Япония, Испания, Великобритания). В унитарном государстве единственный высший орган государства, единое гражданство, единая конституция, высокая степень влияния центральной государственной власти на всей территории страны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9" name="Picture 1" descr="C:\Users\Артём\Desktop\3 семестр\право\Формы гос-ва\5.jpg"/>
          <p:cNvPicPr/>
          <p:nvPr/>
        </p:nvPicPr>
        <p:blipFill>
          <a:blip r:embed="rId1"/>
          <a:stretch/>
        </p:blipFill>
        <p:spPr>
          <a:xfrm rot="20792400">
            <a:off x="2782440" y="2906280"/>
            <a:ext cx="3140280" cy="170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Users\Артём\Desktop\3 семестр\право\Формы гос-ва\6.png"/>
          <p:cNvPicPr/>
          <p:nvPr/>
        </p:nvPicPr>
        <p:blipFill>
          <a:blip r:embed="rId2"/>
          <a:stretch/>
        </p:blipFill>
        <p:spPr>
          <a:xfrm rot="1512000">
            <a:off x="1171080" y="450540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Users\Артём\Desktop\3 семестр\право\Формы гос-ва\7.jpg"/>
          <p:cNvPicPr/>
          <p:nvPr/>
        </p:nvPicPr>
        <p:blipFill>
          <a:blip r:embed="rId3"/>
          <a:stretch/>
        </p:blipFill>
        <p:spPr>
          <a:xfrm rot="20684400">
            <a:off x="3871440" y="4681080"/>
            <a:ext cx="295272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деративное государство (федерация)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сть сложное государство, состоящее из нескольких субъектов, объединившихся для решении общих задач. При этом субъекты образуются по национальному или территориальному принципу либо использует и первое, и второе (Россия, США, Канада, Германия Австрия, Бельгия, Швейцария, Австралия Индия, Бразилия, Аргентина). Входящие в состав федерации государственные образования и государства называются её субъектами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ни могут иметь свои конституции, своё гражданство, собственные высшие государственные органы – законодательный, исполнительные, судебные. 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 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71A9-3FA8-45D2-A680-613D9C7FF9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2" descr="C:\Users\Артём\Desktop\3 семестр\право\Формы гос-ва\9.png"/>
          <p:cNvPicPr/>
          <p:nvPr/>
        </p:nvPicPr>
        <p:blipFill>
          <a:blip r:embed="rId1"/>
          <a:stretch/>
        </p:blipFill>
        <p:spPr>
          <a:xfrm>
            <a:off x="0" y="4827600"/>
            <a:ext cx="3384720" cy="2030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" descr="C:\Users\Артём\Desktop\3 семестр\право\Формы гос-ва\8.png"/>
          <p:cNvPicPr/>
          <p:nvPr/>
        </p:nvPicPr>
        <p:blipFill>
          <a:blip r:embed="rId2"/>
          <a:stretch/>
        </p:blipFill>
        <p:spPr>
          <a:xfrm>
            <a:off x="2843280" y="3933720"/>
            <a:ext cx="3338280" cy="223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C:\Users\Артём\Desktop\3 семестр\право\Формы гос-ва\скачанные файлы.jpg"/>
          <p:cNvPicPr/>
          <p:nvPr/>
        </p:nvPicPr>
        <p:blipFill>
          <a:blip r:embed="rId3"/>
          <a:stretch/>
        </p:blipFill>
        <p:spPr>
          <a:xfrm>
            <a:off x="5398920" y="4889520"/>
            <a:ext cx="3745080" cy="196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33300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федера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– это союз суверенных государств, образуемый для достижения определённых целей (военных, экономических и др.). Здесь союзные органы лишь координируют деятельность государств – членов конфедерации и только по тем вопросам, для решения которых они объединились. Конфедерация не обладает суверенитетом. Конфедерация является переходной формой государственного устройства. Например, штаты Северной Америки с 1776 по 1787 гг. были объединены в конфедерацию, что диктовалось интересами борьбы против британского владычества. Конфедерация стала ступенькой на пути создания федеративного государства – США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39D5-5730-49EB-9884-56D57F3A1A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3" descr="C:\Users\Артём\Desktop\3 семестр\право\Формы гос-ва\7977.jpg"/>
          <p:cNvPicPr/>
          <p:nvPr/>
        </p:nvPicPr>
        <p:blipFill>
          <a:blip r:embed="rId1"/>
          <a:stretch/>
        </p:blipFill>
        <p:spPr>
          <a:xfrm>
            <a:off x="468360" y="4038480"/>
            <a:ext cx="3456000" cy="241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" descr="C:\Users\Артём\Desktop\3 семестр\право\Формы гос-ва\11.jpg"/>
          <p:cNvPicPr/>
          <p:nvPr/>
        </p:nvPicPr>
        <p:blipFill>
          <a:blip r:embed="rId2"/>
          <a:stretch/>
        </p:blipFill>
        <p:spPr>
          <a:xfrm>
            <a:off x="4572000" y="4038480"/>
            <a:ext cx="397188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Овал 3"/>
          <p:cNvGrpSpPr/>
          <p:nvPr/>
        </p:nvGrpSpPr>
        <p:grpSpPr>
          <a:xfrm>
            <a:off x="1511280" y="152280"/>
            <a:ext cx="6121440" cy="2084400"/>
            <a:chOff x="1511280" y="152280"/>
            <a:chExt cx="6121440" cy="2084400"/>
          </a:xfrm>
        </p:grpSpPr>
        <p:pic>
          <p:nvPicPr>
            <p:cNvPr id="444" name="Овал 3" descr=""/>
            <p:cNvPicPr/>
            <p:nvPr/>
          </p:nvPicPr>
          <p:blipFill>
            <a:blip r:embed="rId1"/>
            <a:stretch/>
          </p:blipFill>
          <p:spPr>
            <a:xfrm>
              <a:off x="1511280" y="152280"/>
              <a:ext cx="61214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2433600" y="484200"/>
              <a:ext cx="42768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ормы политического режим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Скругленный прямоугольник 5"/>
          <p:cNvGrpSpPr/>
          <p:nvPr/>
        </p:nvGrpSpPr>
        <p:grpSpPr>
          <a:xfrm>
            <a:off x="1852560" y="2676600"/>
            <a:ext cx="6701040" cy="1004760"/>
            <a:chOff x="1852560" y="2676600"/>
            <a:chExt cx="6701040" cy="1004760"/>
          </a:xfrm>
        </p:grpSpPr>
        <p:pic>
          <p:nvPicPr>
            <p:cNvPr id="44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852560" y="2676600"/>
              <a:ext cx="6701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936800" y="275436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Демократи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Скругленный прямоугольник 6"/>
          <p:cNvGrpSpPr/>
          <p:nvPr/>
        </p:nvGrpSpPr>
        <p:grpSpPr>
          <a:xfrm>
            <a:off x="1852560" y="3828960"/>
            <a:ext cx="6701040" cy="1005120"/>
            <a:chOff x="1852560" y="3828960"/>
            <a:chExt cx="6701040" cy="1005120"/>
          </a:xfrm>
        </p:grpSpPr>
        <p:pic>
          <p:nvPicPr>
            <p:cNvPr id="45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852560" y="3828960"/>
              <a:ext cx="670104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936800" y="390672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Авторитариз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Скругленный прямоугольник 7"/>
          <p:cNvGrpSpPr/>
          <p:nvPr/>
        </p:nvGrpSpPr>
        <p:grpSpPr>
          <a:xfrm>
            <a:off x="1944720" y="5052960"/>
            <a:ext cx="6692760" cy="1000080"/>
            <a:chOff x="1944720" y="5052960"/>
            <a:chExt cx="6692760" cy="1000080"/>
          </a:xfrm>
        </p:grpSpPr>
        <p:pic>
          <p:nvPicPr>
            <p:cNvPr id="453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944720" y="5052960"/>
              <a:ext cx="66927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025720" y="5130720"/>
              <a:ext cx="6532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Тоталитариз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Рисунок 9" descr="2049.gif"/>
          <p:cNvPicPr/>
          <p:nvPr/>
        </p:nvPicPr>
        <p:blipFill>
          <a:blip r:embed="rId5"/>
          <a:stretch/>
        </p:blipFill>
        <p:spPr>
          <a:xfrm>
            <a:off x="576360" y="2637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0" descr="2049.gif"/>
          <p:cNvPicPr/>
          <p:nvPr/>
        </p:nvPicPr>
        <p:blipFill>
          <a:blip r:embed="rId6"/>
          <a:stretch/>
        </p:blipFill>
        <p:spPr>
          <a:xfrm>
            <a:off x="539640" y="3860640"/>
            <a:ext cx="1314720" cy="131472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1" descr="2049.gif"/>
          <p:cNvPicPr/>
          <p:nvPr/>
        </p:nvPicPr>
        <p:blipFill>
          <a:blip r:embed="rId7"/>
          <a:stretch/>
        </p:blipFill>
        <p:spPr>
          <a:xfrm>
            <a:off x="611280" y="501336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900000" y="177336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ческий режим —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это режим, в котором власть отправляется свободно выражающим себя большинством. Демократия в переводе с греческого означает буквально «власть народа» или «народовласти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ческий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(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2720" y="115560"/>
            <a:ext cx="8999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личительной чертой демократического режима является.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325440" y="4437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арантии свободы средст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ассов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325440" y="3213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ерховенство судебной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д законодательной и исполни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325440" y="1989000"/>
            <a:ext cx="8352000" cy="1079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уществование средст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ассов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345960" y="1197000"/>
            <a:ext cx="8352000" cy="647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личие разветвлённой системы зак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325440" y="5732640"/>
            <a:ext cx="8317080" cy="647640"/>
          </a:xfrm>
          <a:prstGeom prst="bevel">
            <a:avLst>
              <a:gd name="adj" fmla="val 12500"/>
            </a:avLst>
          </a:prstGeom>
          <a:solidFill>
            <a:srgbClr val="7c95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щитой прав и свобод гражд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9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0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1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Скругленный прямоугольник 6"/>
          <p:cNvGrpSpPr/>
          <p:nvPr/>
        </p:nvGrpSpPr>
        <p:grpSpPr>
          <a:xfrm>
            <a:off x="152280" y="871560"/>
            <a:ext cx="8852040" cy="4896000"/>
            <a:chOff x="152280" y="871560"/>
            <a:chExt cx="8852040" cy="4896000"/>
          </a:xfrm>
        </p:grpSpPr>
        <p:pic>
          <p:nvPicPr>
            <p:cNvPr id="255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52280" y="871560"/>
              <a:ext cx="885204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22280" y="1144440"/>
              <a:ext cx="8313840" cy="43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 u="sng">
                  <a:solidFill>
                    <a:srgbClr val="990000"/>
                  </a:solidFill>
                  <a:uFillTx/>
                  <a:latin typeface="Times New Roman"/>
                  <a:ea typeface="Times New Roman"/>
                </a:rPr>
                <a:t>Государство</a:t>
              </a:r>
              <a:r>
                <a:rPr b="1" i="1" lang="ru-RU" sz="3200" spc="-1" strike="noStrike" u="sng">
                  <a:solidFill>
                    <a:srgbClr val="db8631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организация политической власти общества, охватывающая определённую территорию, выступающая одновременно как средство обеспечения интересов всего общества и особый механизм управления и подавлени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Скругленный прямоугольник 1"/>
          <p:cNvGrpSpPr/>
          <p:nvPr/>
        </p:nvGrpSpPr>
        <p:grpSpPr>
          <a:xfrm>
            <a:off x="146160" y="1378080"/>
            <a:ext cx="8851680" cy="4894200"/>
            <a:chOff x="146160" y="1378080"/>
            <a:chExt cx="8851680" cy="4894200"/>
          </a:xfrm>
        </p:grpSpPr>
        <p:pic>
          <p:nvPicPr>
            <p:cNvPr id="46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46160" y="1378080"/>
              <a:ext cx="885168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414360" y="1647720"/>
              <a:ext cx="8315280" cy="43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Авторитарный режим </a:t>
              </a:r>
              <a:r>
                <a:rPr b="1" i="1" lang="ru-RU" sz="3200" spc="-1" strike="noStrike">
                  <a:solidFill>
                    <a:srgbClr val="3f3f3f"/>
                  </a:solidFill>
                  <a:latin typeface="Times New Roman"/>
                  <a:ea typeface="Times New Roman"/>
                </a:rPr>
                <a:t>– это  политический режим, сохраняющий монополию на власть и контроль над политической жизнью государства, но не претендующий  на тотальный контроль над обществом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24000" y="620280"/>
            <a:ext cx="86868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вторитарный режим отличается тем, что: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1) народ при таких режимах фактически отстраняется от формирования государственной власти и контроля над её деятельностью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2) вся полнота власти концентрируется в руках правящей элиты, не учитывающей коренных интересов населени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3) устраняется оппозиция (иногда формально разрешается деятельность близких по духу, родственных политических партий и профсоюзов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4)  личность лишена гарантий безопасности, человек не может и реально пользоваться общедемократическими свободами, даже если они формально провозглашены. 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116000" y="3749760"/>
            <a:ext cx="676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талитарный политический режим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это режим «всепоглощающего властвования», который беспредельно вмешивается в жизнь граждан, включая всю их деятельность в объёме своего управления и принудительного регул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C:\Users\Артём\Desktop\3 семестр\право\Формы гос-ва\19.jpg"/>
          <p:cNvPicPr/>
          <p:nvPr/>
        </p:nvPicPr>
        <p:blipFill>
          <a:blip r:embed="rId1"/>
          <a:stretch/>
        </p:blipFill>
        <p:spPr>
          <a:xfrm>
            <a:off x="2050920" y="333360"/>
            <a:ext cx="5529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 rot="10800000">
            <a:off x="304920" y="404280"/>
            <a:ext cx="8686800" cy="52560"/>
          </a:xfrm>
          <a:prstGeom prst="rect">
            <a:avLst/>
          </a:prstGeom>
          <a:noFill/>
          <a:ln w="0">
            <a:noFill/>
          </a:ln>
        </p:spPr>
        <p:txBody>
          <a:bodyPr tIns="6840" bIns="6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907920"/>
            <a:ext cx="868680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оталитарном режиме 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ласть переходит в руки диктатора, осуществляющего правление насильственными методами, происходит абсолютная концентрация власти законодательной и исполнительной в одном органе. Права и свободы человека никем не защищены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иобрести Конституцию РФ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исьменно в тетрад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f3f3f"/>
                </a:solidFill>
                <a:latin typeface="Candara"/>
              </a:rPr>
              <a:t>     </a:t>
            </a:r>
            <a:r>
              <a:rPr b="1" i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«Сумеет ли человечество когда-нибудь в будущем обходиться без государства и как? Существует ли «идеальное государство» и какое оно?»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государства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территория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система управления территорией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Единая система законов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Монополия на легальное применение силы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аво на взимание налогов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бязательность членства в государстве – гражданство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Представительство от имени общества в международных организация, переговорах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уверенитет - независимость. Суверенность – право представлять общество в целом, издавать обязательные для всех законы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0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1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2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3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4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265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266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67" name="Группа 19"/>
          <p:cNvGrpSpPr/>
          <p:nvPr/>
        </p:nvGrpSpPr>
        <p:grpSpPr>
          <a:xfrm>
            <a:off x="8169120" y="6357960"/>
            <a:ext cx="474840" cy="285840"/>
            <a:chOff x="8169120" y="6357960"/>
            <a:chExt cx="474840" cy="285840"/>
          </a:xfrm>
        </p:grpSpPr>
        <p:sp>
          <p:nvSpPr>
            <p:cNvPr id="268" name="Нашивка 20">
              <a:hlinkClick r:id="" action="ppaction://hlinkshowjump?jump=nextslide"/>
            </p:cNvPr>
            <p:cNvSpPr/>
            <p:nvPr/>
          </p:nvSpPr>
          <p:spPr>
            <a:xfrm>
              <a:off x="81691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583d"/>
                </a:gs>
                <a:gs pos="100000">
                  <a:srgbClr val="9a7c57"/>
                </a:gs>
              </a:gsLst>
              <a:lin ang="16200000"/>
            </a:gradFill>
            <a:ln cap="rnd" w="9360">
              <a:solidFill>
                <a:srgbClr val="927c6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Нашивка 21">
              <a:hlinkClick r:id="" action="ppaction://hlinkshowjump?jump=nextslide"/>
            </p:cNvPr>
            <p:cNvSpPr/>
            <p:nvPr/>
          </p:nvSpPr>
          <p:spPr>
            <a:xfrm>
              <a:off x="836928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583d"/>
                </a:gs>
                <a:gs pos="100000">
                  <a:srgbClr val="9a7c57"/>
                </a:gs>
              </a:gsLst>
              <a:lin ang="16200000"/>
            </a:gradFill>
            <a:ln cap="rnd" w="9360">
              <a:solidFill>
                <a:srgbClr val="927c6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Группа 22"/>
          <p:cNvGrpSpPr/>
          <p:nvPr/>
        </p:nvGrpSpPr>
        <p:grpSpPr>
          <a:xfrm>
            <a:off x="7643520" y="6357960"/>
            <a:ext cx="474480" cy="285840"/>
            <a:chOff x="7643520" y="6357960"/>
            <a:chExt cx="474480" cy="285840"/>
          </a:xfrm>
        </p:grpSpPr>
        <p:sp>
          <p:nvSpPr>
            <p:cNvPr id="271" name="Нашивка 23">
              <a:hlinkClick r:id="" action="ppaction://hlinkshowjump?jump=previousslide"/>
            </p:cNvPr>
            <p:cNvSpPr/>
            <p:nvPr/>
          </p:nvSpPr>
          <p:spPr>
            <a:xfrm rot="10800000">
              <a:off x="78433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36c71"/>
                </a:gs>
                <a:gs pos="100000">
                  <a:srgbClr val="75979e"/>
                </a:gs>
              </a:gsLst>
              <a:lin ang="5400000"/>
            </a:gradFill>
            <a:ln cap="rnd" w="9360">
              <a:solidFill>
                <a:srgbClr val="7c959a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Нашивка 24">
              <a:hlinkClick r:id="" action="ppaction://hlinkshowjump?jump=previousslide"/>
            </p:cNvPr>
            <p:cNvSpPr/>
            <p:nvPr/>
          </p:nvSpPr>
          <p:spPr>
            <a:xfrm rot="10800000">
              <a:off x="7643520" y="6357960"/>
              <a:ext cx="274680" cy="2858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36c71"/>
                </a:gs>
                <a:gs pos="100000">
                  <a:srgbClr val="75979e"/>
                </a:gs>
              </a:gsLst>
              <a:lin ang="5400000"/>
            </a:gradFill>
            <a:ln cap="rnd" w="9360">
              <a:solidFill>
                <a:srgbClr val="7c959a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Группа 25"/>
          <p:cNvGrpSpPr/>
          <p:nvPr/>
        </p:nvGrpSpPr>
        <p:grpSpPr>
          <a:xfrm>
            <a:off x="214200" y="6357960"/>
            <a:ext cx="428760" cy="285840"/>
            <a:chOff x="214200" y="6357960"/>
            <a:chExt cx="428760" cy="285840"/>
          </a:xfrm>
        </p:grpSpPr>
        <p:sp>
          <p:nvSpPr>
            <p:cNvPr id="274" name="Нашивка 26">
              <a:hlinkClick r:id="" action="ppaction://hlinkshowjump?jump=endshow"/>
            </p:cNvPr>
            <p:cNvSpPr/>
            <p:nvPr/>
          </p:nvSpPr>
          <p:spPr>
            <a:xfrm>
              <a:off x="214200" y="6357960"/>
              <a:ext cx="285840" cy="2858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45f09"/>
                </a:gs>
                <a:gs pos="100000">
                  <a:srgbClr val="f88511"/>
                </a:gs>
              </a:gsLst>
              <a:lin ang="16200000"/>
            </a:gradFill>
            <a:ln cap="rnd" w="9360">
              <a:solidFill>
                <a:srgbClr val="db863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Нашивка 27">
              <a:hlinkClick r:id="" action="ppaction://hlinkshowjump?jump=endshow"/>
            </p:cNvPr>
            <p:cNvSpPr/>
            <p:nvPr/>
          </p:nvSpPr>
          <p:spPr>
            <a:xfrm rot="10800000">
              <a:off x="357120" y="6357960"/>
              <a:ext cx="285840" cy="2858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45f09"/>
                </a:gs>
                <a:gs pos="100000">
                  <a:srgbClr val="f88511"/>
                </a:gs>
              </a:gsLst>
              <a:lin ang="5400000"/>
            </a:gradFill>
            <a:ln cap="rnd" w="9360">
              <a:solidFill>
                <a:srgbClr val="db8631"/>
              </a:solidFill>
              <a:miter/>
            </a:ln>
            <a:effectLst>
              <a:outerShdw dist="1260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179280" y="803160"/>
            <a:ext cx="8786520" cy="1191240"/>
            <a:chOff x="179280" y="803160"/>
            <a:chExt cx="8786520" cy="1191240"/>
          </a:xfrm>
        </p:grpSpPr>
        <p:grpSp>
          <p:nvGrpSpPr>
            <p:cNvPr id="277" name="Group 25"/>
            <p:cNvGrpSpPr/>
            <p:nvPr/>
          </p:nvGrpSpPr>
          <p:grpSpPr>
            <a:xfrm>
              <a:off x="213480" y="805680"/>
              <a:ext cx="8714160" cy="1079280"/>
              <a:chOff x="213480" y="805680"/>
              <a:chExt cx="8714160" cy="1079280"/>
            </a:xfrm>
          </p:grpSpPr>
          <p:sp>
            <p:nvSpPr>
              <p:cNvPr id="278" name="AutoShape 26"/>
              <p:cNvSpPr/>
              <p:nvPr/>
            </p:nvSpPr>
            <p:spPr>
              <a:xfrm>
                <a:off x="213480" y="805680"/>
                <a:ext cx="8714160" cy="1079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bf5cd"/>
                  </a:gs>
                  <a:gs pos="50000">
                    <a:srgbClr val="ffffff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7dafc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640" y="865080"/>
                <a:ext cx="1150200" cy="538200"/>
              </a:xfrm>
              <a:custGeom>
                <a:avLst/>
                <a:gdLst>
                  <a:gd name="textAreaLeft" fmla="*/ 0 w 1150200"/>
                  <a:gd name="textAreaRight" fmla="*/ 1150560 w 115020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Text Box 28"/>
            <p:cNvSpPr/>
            <p:nvPr/>
          </p:nvSpPr>
          <p:spPr>
            <a:xfrm>
              <a:off x="179280" y="803160"/>
              <a:ext cx="878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Это основные направления деятельности государства, в которых выражается и конкретизируется его сущность и социальное знач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49"/>
          <p:cNvSpPr/>
          <p:nvPr/>
        </p:nvSpPr>
        <p:spPr>
          <a:xfrm>
            <a:off x="1332000" y="2349360"/>
            <a:ext cx="6624720" cy="4597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енние функции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34920" y="2997360"/>
            <a:ext cx="900108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8160" y="3068640"/>
            <a:ext cx="1098000" cy="1001520"/>
            <a:chOff x="38160" y="3068640"/>
            <a:chExt cx="1098000" cy="1001520"/>
          </a:xfrm>
        </p:grpSpPr>
        <p:grpSp>
          <p:nvGrpSpPr>
            <p:cNvPr id="284" name="Group 5"/>
            <p:cNvGrpSpPr/>
            <p:nvPr/>
          </p:nvGrpSpPr>
          <p:grpSpPr>
            <a:xfrm>
              <a:off x="38160" y="3068640"/>
              <a:ext cx="1098000" cy="1001520"/>
              <a:chOff x="38160" y="3068640"/>
              <a:chExt cx="1098000" cy="1001520"/>
            </a:xfrm>
          </p:grpSpPr>
          <p:sp>
            <p:nvSpPr>
              <p:cNvPr id="285" name="Oval 6"/>
              <p:cNvSpPr/>
              <p:nvPr/>
            </p:nvSpPr>
            <p:spPr>
              <a:xfrm>
                <a:off x="38160" y="306864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7"/>
              <p:cNvSpPr/>
              <p:nvPr/>
            </p:nvSpPr>
            <p:spPr>
              <a:xfrm>
                <a:off x="163440" y="308520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Text Box 8"/>
            <p:cNvSpPr/>
            <p:nvPr/>
          </p:nvSpPr>
          <p:spPr>
            <a:xfrm>
              <a:off x="435960" y="317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Text Box 9"/>
          <p:cNvSpPr/>
          <p:nvPr/>
        </p:nvSpPr>
        <p:spPr>
          <a:xfrm>
            <a:off x="1136520" y="3068640"/>
            <a:ext cx="789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вая функция</a:t>
            </a:r>
            <a:r>
              <a:rPr b="1" i="1" lang="ru-RU" sz="20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правопорядка, установление правовых норм, регулирующих общественные отношения и поведение граждан, охрана прав и свобод человека и граждан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8160" y="4365720"/>
            <a:ext cx="8997840" cy="1079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65160" y="4365720"/>
            <a:ext cx="1098000" cy="1012320"/>
            <a:chOff x="65160" y="4365720"/>
            <a:chExt cx="1098000" cy="1012320"/>
          </a:xfrm>
        </p:grpSpPr>
        <p:grpSp>
          <p:nvGrpSpPr>
            <p:cNvPr id="291" name="Group 19"/>
            <p:cNvGrpSpPr/>
            <p:nvPr/>
          </p:nvGrpSpPr>
          <p:grpSpPr>
            <a:xfrm>
              <a:off x="65160" y="4365720"/>
              <a:ext cx="1098000" cy="1012320"/>
              <a:chOff x="65160" y="4365720"/>
              <a:chExt cx="1098000" cy="1012320"/>
            </a:xfrm>
          </p:grpSpPr>
          <p:sp>
            <p:nvSpPr>
              <p:cNvPr id="292" name="Oval 20"/>
              <p:cNvSpPr/>
              <p:nvPr/>
            </p:nvSpPr>
            <p:spPr>
              <a:xfrm>
                <a:off x="65160" y="4365720"/>
                <a:ext cx="109800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21"/>
              <p:cNvSpPr/>
              <p:nvPr/>
            </p:nvSpPr>
            <p:spPr>
              <a:xfrm>
                <a:off x="190440" y="438228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22"/>
            <p:cNvSpPr/>
            <p:nvPr/>
          </p:nvSpPr>
          <p:spPr>
            <a:xfrm>
              <a:off x="496800" y="4420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Text Box 23"/>
          <p:cNvSpPr/>
          <p:nvPr/>
        </p:nvSpPr>
        <p:spPr>
          <a:xfrm>
            <a:off x="1228680" y="4437000"/>
            <a:ext cx="773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политической стабильности, выработка программно-стратегических целей и задач развития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3080" y="5630760"/>
            <a:ext cx="8997840" cy="10843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25"/>
          <p:cNvGrpSpPr/>
          <p:nvPr/>
        </p:nvGrpSpPr>
        <p:grpSpPr>
          <a:xfrm>
            <a:off x="58680" y="5661000"/>
            <a:ext cx="1104840" cy="1019160"/>
            <a:chOff x="58680" y="5661000"/>
            <a:chExt cx="1104840" cy="1019160"/>
          </a:xfrm>
        </p:grpSpPr>
        <p:sp>
          <p:nvSpPr>
            <p:cNvPr id="298" name="Oval 26"/>
            <p:cNvSpPr/>
            <p:nvPr/>
          </p:nvSpPr>
          <p:spPr>
            <a:xfrm>
              <a:off x="58680" y="5661000"/>
              <a:ext cx="110484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7"/>
            <p:cNvSpPr/>
            <p:nvPr/>
          </p:nvSpPr>
          <p:spPr>
            <a:xfrm>
              <a:off x="184680" y="5677920"/>
              <a:ext cx="852480" cy="38448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Text Box 28"/>
          <p:cNvSpPr/>
          <p:nvPr/>
        </p:nvSpPr>
        <p:spPr>
          <a:xfrm>
            <a:off x="634680" y="58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1228680" y="5667480"/>
            <a:ext cx="780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рганизатор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упорядочивание всей властной деятельности, осуществление контроля за исполнением законов, координация деятельности всех субъектов политической сист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2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3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4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5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6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7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08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09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95400" y="758880"/>
            <a:ext cx="8942400" cy="147636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111240" y="1066680"/>
            <a:ext cx="1098000" cy="1001520"/>
            <a:chOff x="111240" y="1066680"/>
            <a:chExt cx="1098000" cy="1001520"/>
          </a:xfrm>
        </p:grpSpPr>
        <p:grpSp>
          <p:nvGrpSpPr>
            <p:cNvPr id="312" name="Group 5"/>
            <p:cNvGrpSpPr/>
            <p:nvPr/>
          </p:nvGrpSpPr>
          <p:grpSpPr>
            <a:xfrm>
              <a:off x="111240" y="1066680"/>
              <a:ext cx="1098000" cy="1001520"/>
              <a:chOff x="111240" y="1066680"/>
              <a:chExt cx="1098000" cy="1001520"/>
            </a:xfrm>
          </p:grpSpPr>
          <p:sp>
            <p:nvSpPr>
              <p:cNvPr id="313" name="Oval 6"/>
              <p:cNvSpPr/>
              <p:nvPr/>
            </p:nvSpPr>
            <p:spPr>
              <a:xfrm>
                <a:off x="111240" y="106668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7"/>
              <p:cNvSpPr/>
              <p:nvPr/>
            </p:nvSpPr>
            <p:spPr>
              <a:xfrm>
                <a:off x="236520" y="108324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8"/>
            <p:cNvSpPr/>
            <p:nvPr/>
          </p:nvSpPr>
          <p:spPr>
            <a:xfrm>
              <a:off x="509040" y="1177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 Box 9"/>
          <p:cNvSpPr/>
          <p:nvPr/>
        </p:nvSpPr>
        <p:spPr>
          <a:xfrm>
            <a:off x="1170000" y="835200"/>
            <a:ext cx="782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 функция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рганизация, координация и регулирование экономических процессов с помощью налоговой и кредитной политики, планирования, создания стимулов экономической активности, осуществления санкц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111240" y="2489040"/>
            <a:ext cx="8961480" cy="107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логическ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гарантирование человеку здор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реды  обитания, установление режима природополь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18"/>
          <p:cNvGrpSpPr/>
          <p:nvPr/>
        </p:nvGrpSpPr>
        <p:grpSpPr>
          <a:xfrm>
            <a:off x="149400" y="2489040"/>
            <a:ext cx="1098000" cy="1012680"/>
            <a:chOff x="149400" y="2489040"/>
            <a:chExt cx="1098000" cy="1012680"/>
          </a:xfrm>
        </p:grpSpPr>
        <p:grpSp>
          <p:nvGrpSpPr>
            <p:cNvPr id="319" name="Group 19"/>
            <p:cNvGrpSpPr/>
            <p:nvPr/>
          </p:nvGrpSpPr>
          <p:grpSpPr>
            <a:xfrm>
              <a:off x="149400" y="2489040"/>
              <a:ext cx="1098000" cy="1012680"/>
              <a:chOff x="149400" y="2489040"/>
              <a:chExt cx="1098000" cy="1012680"/>
            </a:xfrm>
          </p:grpSpPr>
          <p:sp>
            <p:nvSpPr>
              <p:cNvPr id="320" name="Oval 20"/>
              <p:cNvSpPr/>
              <p:nvPr/>
            </p:nvSpPr>
            <p:spPr>
              <a:xfrm>
                <a:off x="149400" y="248904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21"/>
              <p:cNvSpPr/>
              <p:nvPr/>
            </p:nvSpPr>
            <p:spPr>
              <a:xfrm>
                <a:off x="274680" y="250452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Text Box 22"/>
            <p:cNvSpPr/>
            <p:nvPr/>
          </p:nvSpPr>
          <p:spPr>
            <a:xfrm>
              <a:off x="581040" y="254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Rectangle 24"/>
          <p:cNvSpPr/>
          <p:nvPr/>
        </p:nvSpPr>
        <p:spPr>
          <a:xfrm>
            <a:off x="95400" y="3789360"/>
            <a:ext cx="8977320" cy="25542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25"/>
          <p:cNvGrpSpPr/>
          <p:nvPr/>
        </p:nvGrpSpPr>
        <p:grpSpPr>
          <a:xfrm>
            <a:off x="149400" y="4168800"/>
            <a:ext cx="1103040" cy="1019160"/>
            <a:chOff x="149400" y="4168800"/>
            <a:chExt cx="1103040" cy="1019160"/>
          </a:xfrm>
        </p:grpSpPr>
        <p:sp>
          <p:nvSpPr>
            <p:cNvPr id="325" name="Oval 26"/>
            <p:cNvSpPr/>
            <p:nvPr/>
          </p:nvSpPr>
          <p:spPr>
            <a:xfrm>
              <a:off x="149400" y="416880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7"/>
            <p:cNvSpPr/>
            <p:nvPr/>
          </p:nvSpPr>
          <p:spPr>
            <a:xfrm>
              <a:off x="275400" y="418572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Text Box 28"/>
          <p:cNvSpPr/>
          <p:nvPr/>
        </p:nvSpPr>
        <p:spPr>
          <a:xfrm>
            <a:off x="528120" y="4246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1332000" y="3789360"/>
            <a:ext cx="781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обеспечение солидарных отношений в обществе, сотрудничества различных слоёв общества, реализации принципа социальной справедливости, защита интересов тех категорий граждан, которые в силу объективных причин не могут самостоятельно обеспечить достойный уровень жизни (инвалиды, пенсионеры, матери, дети), поддержка жилищного строительства, здравоохранения, системы общественного транспор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9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0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1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2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3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4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35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36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01520" y="852480"/>
            <a:ext cx="8934480" cy="170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09440" y="1092240"/>
            <a:ext cx="1098360" cy="1001160"/>
            <a:chOff x="109440" y="1092240"/>
            <a:chExt cx="1098360" cy="1001160"/>
          </a:xfrm>
        </p:grpSpPr>
        <p:grpSp>
          <p:nvGrpSpPr>
            <p:cNvPr id="339" name="Group 5"/>
            <p:cNvGrpSpPr/>
            <p:nvPr/>
          </p:nvGrpSpPr>
          <p:grpSpPr>
            <a:xfrm>
              <a:off x="109440" y="1092240"/>
              <a:ext cx="1098360" cy="1001160"/>
              <a:chOff x="109440" y="1092240"/>
              <a:chExt cx="1098360" cy="1001160"/>
            </a:xfrm>
          </p:grpSpPr>
          <p:sp>
            <p:nvSpPr>
              <p:cNvPr id="340" name="Oval 6"/>
              <p:cNvSpPr/>
              <p:nvPr/>
            </p:nvSpPr>
            <p:spPr>
              <a:xfrm>
                <a:off x="109440" y="109224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>
                <a:off x="234720" y="1108800"/>
                <a:ext cx="847440" cy="3776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2" name="Text Box 8"/>
            <p:cNvSpPr/>
            <p:nvPr/>
          </p:nvSpPr>
          <p:spPr>
            <a:xfrm>
              <a:off x="507240" y="120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Text Box 9"/>
          <p:cNvSpPr/>
          <p:nvPr/>
        </p:nvSpPr>
        <p:spPr>
          <a:xfrm>
            <a:off x="1224000" y="932040"/>
            <a:ext cx="78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ультур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создание условий для удовлетворения культурных запросов людей, формирования высокой духовности, гражданственности, гарантирование открытого информационного пространства, формирование государственной культурной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101520" y="2781360"/>
            <a:ext cx="8934480" cy="13698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18"/>
          <p:cNvGrpSpPr/>
          <p:nvPr/>
        </p:nvGrpSpPr>
        <p:grpSpPr>
          <a:xfrm>
            <a:off x="125280" y="2781360"/>
            <a:ext cx="1098360" cy="1012320"/>
            <a:chOff x="125280" y="2781360"/>
            <a:chExt cx="1098360" cy="1012320"/>
          </a:xfrm>
        </p:grpSpPr>
        <p:grpSp>
          <p:nvGrpSpPr>
            <p:cNvPr id="346" name="Group 19"/>
            <p:cNvGrpSpPr/>
            <p:nvPr/>
          </p:nvGrpSpPr>
          <p:grpSpPr>
            <a:xfrm>
              <a:off x="125280" y="2781360"/>
              <a:ext cx="1098360" cy="1012320"/>
              <a:chOff x="125280" y="2781360"/>
              <a:chExt cx="1098360" cy="1012320"/>
            </a:xfrm>
          </p:grpSpPr>
          <p:sp>
            <p:nvSpPr>
              <p:cNvPr id="347" name="Oval 20"/>
              <p:cNvSpPr/>
              <p:nvPr/>
            </p:nvSpPr>
            <p:spPr>
              <a:xfrm>
                <a:off x="125280" y="2781360"/>
                <a:ext cx="1098360" cy="10123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21"/>
              <p:cNvSpPr/>
              <p:nvPr/>
            </p:nvSpPr>
            <p:spPr>
              <a:xfrm>
                <a:off x="250560" y="279792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Text Box 22"/>
            <p:cNvSpPr/>
            <p:nvPr/>
          </p:nvSpPr>
          <p:spPr>
            <a:xfrm>
              <a:off x="556920" y="283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23"/>
          <p:cNvSpPr/>
          <p:nvPr/>
        </p:nvSpPr>
        <p:spPr>
          <a:xfrm>
            <a:off x="1224000" y="2827440"/>
            <a:ext cx="78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разовательная функц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деятельность по обеспечению демократизации образования, его непрерывности и качественности, предоставлению людям равных возможностей получения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>
            <a:off x="101520" y="4684680"/>
            <a:ext cx="8934480" cy="115272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25"/>
          <p:cNvGrpSpPr/>
          <p:nvPr/>
        </p:nvGrpSpPr>
        <p:grpSpPr>
          <a:xfrm>
            <a:off x="182520" y="4751280"/>
            <a:ext cx="1103400" cy="1019160"/>
            <a:chOff x="182520" y="4751280"/>
            <a:chExt cx="1103400" cy="1019160"/>
          </a:xfrm>
        </p:grpSpPr>
        <p:sp>
          <p:nvSpPr>
            <p:cNvPr id="353" name="Oval 26"/>
            <p:cNvSpPr/>
            <p:nvPr/>
          </p:nvSpPr>
          <p:spPr>
            <a:xfrm>
              <a:off x="182520" y="475128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"/>
            <p:cNvSpPr/>
            <p:nvPr/>
          </p:nvSpPr>
          <p:spPr>
            <a:xfrm>
              <a:off x="308520" y="476820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Text Box 28"/>
          <p:cNvSpPr/>
          <p:nvPr/>
        </p:nvSpPr>
        <p:spPr>
          <a:xfrm>
            <a:off x="523440" y="4684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9"/>
          <p:cNvSpPr/>
          <p:nvPr/>
        </p:nvSpPr>
        <p:spPr>
          <a:xfrm>
            <a:off x="1285920" y="4991040"/>
            <a:ext cx="775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деологическая функция</a:t>
            </a:r>
            <a:r>
              <a:rPr b="1" i="1" lang="ru-RU" sz="20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воспитание членов общества, формирование гражданских и патриотических ценно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57" name="Скругленная соединительная линия 9"/>
          <p:cNvCxnSpPr/>
          <p:nvPr/>
        </p:nvCxnSpPr>
        <p:spPr>
          <a:xfrm>
            <a:off x="-858240" y="5007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58" name="Скругленная соединительная линия 13"/>
          <p:cNvCxnSpPr/>
          <p:nvPr/>
        </p:nvCxnSpPr>
        <p:spPr>
          <a:xfrm>
            <a:off x="-723240" y="80712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59" name="Скругленная соединительная линия 14"/>
          <p:cNvCxnSpPr/>
          <p:nvPr/>
        </p:nvCxnSpPr>
        <p:spPr>
          <a:xfrm>
            <a:off x="-588240" y="1092960"/>
            <a:ext cx="998640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0" name="Скругленная соединительная линия 15"/>
          <p:cNvCxnSpPr/>
          <p:nvPr/>
        </p:nvCxnSpPr>
        <p:spPr>
          <a:xfrm>
            <a:off x="-451800" y="137844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1" name="Скругленная соединительная линия 16"/>
          <p:cNvCxnSpPr/>
          <p:nvPr/>
        </p:nvCxnSpPr>
        <p:spPr>
          <a:xfrm>
            <a:off x="-316800" y="166428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2" name="Скругленная соединительная линия 17"/>
          <p:cNvCxnSpPr/>
          <p:nvPr/>
        </p:nvCxnSpPr>
        <p:spPr>
          <a:xfrm>
            <a:off x="-181800" y="1950480"/>
            <a:ext cx="9984600" cy="4478760"/>
          </a:xfrm>
          <a:prstGeom prst="curvedConnector4">
            <a:avLst>
              <a:gd name="adj1" fmla="val 51200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cxnSp>
        <p:nvCxnSpPr>
          <p:cNvPr id="363" name="Скругленная соединительная линия 18"/>
          <p:cNvCxnSpPr/>
          <p:nvPr/>
        </p:nvCxnSpPr>
        <p:spPr>
          <a:xfrm>
            <a:off x="-47160" y="2235960"/>
            <a:ext cx="9984960" cy="4478760"/>
          </a:xfrm>
          <a:prstGeom prst="curvedConnector4">
            <a:avLst>
              <a:gd name="adj1" fmla="val 51198"/>
              <a:gd name="adj2" fmla="val 50000"/>
            </a:avLst>
          </a:prstGeom>
          <a:ln cap="rnd" w="3240">
            <a:solidFill>
              <a:srgbClr val="3f3f3f">
                <a:alpha val="59000"/>
              </a:srgbClr>
            </a:solidFill>
            <a:miter/>
          </a:ln>
        </p:spPr>
      </p:cxnSp>
      <p:sp>
        <p:nvSpPr>
          <p:cNvPr id="364" name=""/>
          <p:cNvSpPr txBox="1"/>
          <p:nvPr/>
        </p:nvSpPr>
        <p:spPr>
          <a:xfrm>
            <a:off x="468360" y="0"/>
            <a:ext cx="8229960" cy="922680"/>
          </a:xfrm>
          <a:prstGeom prst="rect">
            <a:avLst/>
          </a:prstGeom>
          <a:gradFill rotWithShape="0">
            <a:gsLst>
              <a:gs pos="0">
                <a:srgbClr val="3f3f3f">
                  <a:alpha val="36078"/>
                </a:srgbClr>
              </a:gs>
              <a:gs pos="100000">
                <a:srgbClr val="b2afa1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1403280" y="1125360"/>
            <a:ext cx="6624720" cy="45972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шние функции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08000" y="1773360"/>
            <a:ext cx="896472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27080" y="1874880"/>
            <a:ext cx="1098000" cy="1001160"/>
            <a:chOff x="127080" y="1874880"/>
            <a:chExt cx="1098000" cy="1001160"/>
          </a:xfrm>
        </p:grpSpPr>
        <p:grpSp>
          <p:nvGrpSpPr>
            <p:cNvPr id="368" name="Group 5"/>
            <p:cNvGrpSpPr/>
            <p:nvPr/>
          </p:nvGrpSpPr>
          <p:grpSpPr>
            <a:xfrm>
              <a:off x="127080" y="1874880"/>
              <a:ext cx="1098000" cy="1001160"/>
              <a:chOff x="127080" y="1874880"/>
              <a:chExt cx="1098000" cy="1001160"/>
            </a:xfrm>
          </p:grpSpPr>
          <p:sp>
            <p:nvSpPr>
              <p:cNvPr id="369" name="Oval 6"/>
              <p:cNvSpPr/>
              <p:nvPr/>
            </p:nvSpPr>
            <p:spPr>
              <a:xfrm>
                <a:off x="127080" y="187488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643c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7"/>
              <p:cNvSpPr/>
              <p:nvPr/>
            </p:nvSpPr>
            <p:spPr>
              <a:xfrm>
                <a:off x="252360" y="1891440"/>
                <a:ext cx="847080" cy="37764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Text Box 8"/>
            <p:cNvSpPr/>
            <p:nvPr/>
          </p:nvSpPr>
          <p:spPr>
            <a:xfrm>
              <a:off x="524880" y="1986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99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Text Box 9"/>
          <p:cNvSpPr/>
          <p:nvPr/>
        </p:nvSpPr>
        <p:spPr>
          <a:xfrm>
            <a:off x="1230480" y="1874880"/>
            <a:ext cx="784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еспечение национальной безопасности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поддержание достаточного уровня обороноспособности общества, защита территориальной целостности, суверенитета государ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108000" y="3141720"/>
            <a:ext cx="8964720" cy="1439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93600" y="3294000"/>
            <a:ext cx="1098360" cy="1012680"/>
            <a:chOff x="93600" y="3294000"/>
            <a:chExt cx="1098360" cy="1012680"/>
          </a:xfrm>
        </p:grpSpPr>
        <p:grpSp>
          <p:nvGrpSpPr>
            <p:cNvPr id="375" name="Group 19"/>
            <p:cNvGrpSpPr/>
            <p:nvPr/>
          </p:nvGrpSpPr>
          <p:grpSpPr>
            <a:xfrm>
              <a:off x="93600" y="3294000"/>
              <a:ext cx="1098360" cy="1012680"/>
              <a:chOff x="93600" y="3294000"/>
              <a:chExt cx="1098360" cy="1012680"/>
            </a:xfrm>
          </p:grpSpPr>
          <p:sp>
            <p:nvSpPr>
              <p:cNvPr id="376" name="Oval 20"/>
              <p:cNvSpPr/>
              <p:nvPr/>
            </p:nvSpPr>
            <p:spPr>
              <a:xfrm>
                <a:off x="93600" y="3294000"/>
                <a:ext cx="10983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5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1"/>
              <p:cNvSpPr/>
              <p:nvPr/>
            </p:nvSpPr>
            <p:spPr>
              <a:xfrm>
                <a:off x="218880" y="331056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8" name="Text Box 22"/>
            <p:cNvSpPr/>
            <p:nvPr/>
          </p:nvSpPr>
          <p:spPr>
            <a:xfrm>
              <a:off x="525240" y="3348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Text Box 23"/>
          <p:cNvSpPr/>
          <p:nvPr/>
        </p:nvSpPr>
        <p:spPr>
          <a:xfrm>
            <a:off x="1225440" y="3213000"/>
            <a:ext cx="784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держание мирового поряд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— участие в развитии системы международных отношений, деятельность по предотвращению войн, сокращению вооружений, участие в решении глобальных проблем человече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108000" y="4646520"/>
            <a:ext cx="8928000" cy="12686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25"/>
          <p:cNvGrpSpPr/>
          <p:nvPr/>
        </p:nvGrpSpPr>
        <p:grpSpPr>
          <a:xfrm>
            <a:off x="127080" y="4770360"/>
            <a:ext cx="1103400" cy="1019160"/>
            <a:chOff x="127080" y="4770360"/>
            <a:chExt cx="1103400" cy="1019160"/>
          </a:xfrm>
        </p:grpSpPr>
        <p:sp>
          <p:nvSpPr>
            <p:cNvPr id="382" name="Oval 26"/>
            <p:cNvSpPr/>
            <p:nvPr/>
          </p:nvSpPr>
          <p:spPr>
            <a:xfrm>
              <a:off x="127080" y="4770360"/>
              <a:ext cx="1103400" cy="10191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e2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253080" y="478728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 Box 28"/>
          <p:cNvSpPr/>
          <p:nvPr/>
        </p:nvSpPr>
        <p:spPr>
          <a:xfrm>
            <a:off x="466200" y="5018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1230480" y="4724280"/>
            <a:ext cx="78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заимовыгодное сотрудничество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 экономической, политической, культурной и других сферах с другими государст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324000" y="220500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Формы государства.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71760" y="1989000"/>
            <a:ext cx="6192720" cy="719280"/>
          </a:xfrm>
          <a:prstGeom prst="rect">
            <a:avLst/>
          </a:prstGeom>
          <a:solidFill>
            <a:srgbClr val="db8631"/>
          </a:solidFill>
          <a:ln w="38520">
            <a:solidFill>
              <a:srgbClr val="a16121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ормы государств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7640" y="259920"/>
            <a:ext cx="87152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Форма государства 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это устройство политической организации общества, призванное обеспечить её стабильность и нормальное функционирование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cxnSp>
        <p:nvCxnSpPr>
          <p:cNvPr id="389" name="Прямая со стрелкой 4"/>
          <p:cNvCxnSpPr/>
          <p:nvPr/>
        </p:nvCxnSpPr>
        <p:spPr>
          <a:xfrm flipH="1">
            <a:off x="1618560" y="2781000"/>
            <a:ext cx="578520" cy="86436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0" name="Загнутый угол 5"/>
          <p:cNvSpPr/>
          <p:nvPr/>
        </p:nvSpPr>
        <p:spPr>
          <a:xfrm>
            <a:off x="108000" y="3716280"/>
            <a:ext cx="266364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724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соб организации верховной государственной в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, кому принадлежит в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Загнутый угол 6"/>
          <p:cNvSpPr/>
          <p:nvPr/>
        </p:nvSpPr>
        <p:spPr>
          <a:xfrm>
            <a:off x="2987640" y="3716280"/>
            <a:ext cx="302436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19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а государственно-территориального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особ взаимосвязи территориальных образований государства, закреплённый конституц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Загнутый угол 7"/>
          <p:cNvSpPr/>
          <p:nvPr/>
        </p:nvSpPr>
        <p:spPr>
          <a:xfrm>
            <a:off x="6227640" y="3716280"/>
            <a:ext cx="2808360" cy="3025800"/>
          </a:xfrm>
          <a:prstGeom prst="foldedCorner">
            <a:avLst>
              <a:gd name="adj" fmla="val 16666"/>
            </a:avLst>
          </a:prstGeom>
          <a:solidFill>
            <a:srgbClr val="4c8ba4"/>
          </a:solidFill>
          <a:ln w="38520">
            <a:solidFill>
              <a:srgbClr val="192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овокупность методов и способов осуществления в стране государственной власти и управ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Прямая со стрелкой 9"/>
          <p:cNvCxnSpPr/>
          <p:nvPr/>
        </p:nvCxnSpPr>
        <p:spPr>
          <a:xfrm>
            <a:off x="4427280" y="2760480"/>
            <a:ext cx="1080" cy="81324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7021440" y="2760840"/>
            <a:ext cx="288000" cy="5976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1:14:42Z</dcterms:created>
  <dc:creator>XP GAME 2009</dc:creator>
  <dc:description/>
  <dc:language>en-US</dc:language>
  <cp:lastModifiedBy>Ирина</cp:lastModifiedBy>
  <dcterms:modified xsi:type="dcterms:W3CDTF">2017-08-22T17:15:08Z</dcterms:modified>
  <cp:revision>30</cp:revision>
  <dc:subject/>
  <dc:title>Слайд 1</dc:title>
</cp:coreProperties>
</file>