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6.gif" ContentType="image/gif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20.png" ContentType="image/png"/>
  <Override PartName="/ppt/media/image11.gif" ContentType="image/gif"/>
  <Override PartName="/ppt/media/image21.png" ContentType="image/png"/>
  <Override PartName="/ppt/media/image4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1.jpeg" ContentType="image/jpeg"/>
  <Override PartName="/ppt/media/image22.jpeg" ContentType="image/jpeg"/>
  <Override PartName="/ppt/media/image2.png" ContentType="image/png"/>
  <Override PartName="/ppt/media/image17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E0219-352B-4743-819F-49D985600CB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CC7D1-AB05-42CA-9EC2-5E3B4AC1ED4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0A21-0E89-44F3-A22D-45645ACB0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3192-AD1C-40DA-A318-860A2571D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6C77-6DC8-49CD-9F71-609AFBE69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C3AD-4CEC-43F7-92D5-B8360E95C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0D6882-CCD3-476B-8A8B-B6DD3D33A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821E4E-A8F5-4A5C-A471-369FD9801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5FB3C1-4FE3-41A6-98A3-E459C7C37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623F50-902B-4DC3-933F-422B228BC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6B366D-DC06-4DCD-BFC3-8BEBBB376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EE2109-5A9C-4B3F-A64A-05964899B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78041C-22DB-4D27-8B83-9F4532A4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8DAD-064C-4616-9E32-678D365BE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443D97-14DF-4B77-A018-F2D9057A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37D00E-9CED-4EB6-8388-96604383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FFAD03-6226-4C3C-8361-8EE3F151C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6D63EA-2E38-4E00-B064-87385614D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8FDF1B-CF3C-40EE-82FC-9EC548A73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2813AF-8111-45D0-BDC5-4546B5E39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004A6C-DA6B-46C1-9CF3-DD27DFB8F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EDEC94-3318-4CD7-88E1-92AF6CD79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810695-4EFE-4285-8172-A1313AF7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A033BA-AEE9-47FB-9E5A-1F2316AAC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BE6D-4B28-41CB-B711-9060B2646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61E389-4C4C-4FCF-8541-AAF6F459C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9E2D3B-61C1-40BB-9FFF-8032DB70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62D57B-E663-49B7-90AB-7A596AC2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BF28D8-F179-4E6C-89F7-70B46C45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611E19-8A6B-4D92-ABE0-2ED26B576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0664F7-5C4D-4028-8B61-AFD1A2FAD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E5227F-D82D-4975-B8D5-D0FBE3E0A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C39DD4-0297-4C99-BCF6-8E773AB42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0EFD07-4EA8-4A2D-B310-944594381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B10410-41CE-41F0-92A2-5BE55DCE8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96DE-067A-4E08-884C-64F1DEF16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817259-2517-4531-8C89-744F90C05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4BFAE3-AB3F-4FC2-8277-836A6540F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9E512D-B2F4-4224-A1F0-C49BF83D0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DCB12C-16E5-4FC4-816A-3CA033C5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57E9ED-C4FD-4CCF-A957-357FFF24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CED6BC-2892-4A40-A99C-0B437B5A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308687-E394-460B-927D-79747E53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9AC4C3-ED1B-42B6-B069-5010B7725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582D44-68A9-42C4-AFDF-F2334C54F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321B4A-9A82-4B02-9B1F-81CBDD561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480C-AC81-425B-A783-8D26D2D71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6362FA-C208-4B47-BBE7-806D6FBF6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0F2E35-F6DB-47EE-8339-F5811790A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B899F4-8543-4140-A102-6C1255713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8DA230-F6E5-4A73-B596-C44FE4798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924655-4929-46D8-A5FA-DE31C8EED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02DB3D-F76E-4475-8D16-36D08E0F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0C319C-675A-4E9B-BEC9-ED2A51AF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8E142C-9BBA-4819-A114-9203CE20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04F722-7314-4558-8BF5-7599383C2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722A7E-F363-4C12-BE9E-6388E138C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CCA5-61B4-466E-972A-2C5BC53CD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F37DC6-E57C-4A6F-BBA5-A7C708535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ED9DCD-3606-446F-AA6D-AB218AB5A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D7CCE3-4524-4D12-8726-9545BE6BC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8A4B0A-935E-41D0-8418-4064AD30D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6775C1-60B7-4E76-97FF-7C1BA1BC6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3F49C0-77AF-44EE-A0AE-6DA453F5B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6A8767-0C31-46F2-926F-A9D4BC72F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97BECE-0CD9-44D1-A8E7-3BD68430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99EDF3-1740-4C36-BBD0-00F4C3C9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B68608-8B66-404D-BC06-A69BC48A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FB96-08A8-4CE0-8407-0C671BE1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42C966-4B10-4829-9DF5-A98290AFD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262ED1-7A96-49A7-9FF6-DE145BBF2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016095-13C6-420A-8532-2F27299CB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A87D-D37D-4C03-BCB4-5062CC25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6315-9AA9-4788-B26A-19AE634A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6956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F608A-20F5-48A5-97FA-FF7E3DEA144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5D5C5-8649-4605-8901-2111ECB1CF2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72AB7-7AF7-47F6-9C8D-E616C7635CA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9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7162920" y="1550520"/>
            <a:ext cx="1828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1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1455F-16CD-422A-9B99-23E1D82015C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2"/>
          </p:nvPr>
        </p:nvSpPr>
        <p:spPr>
          <a:xfrm>
            <a:off x="106956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4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7C2E1-938F-4B39-9FD3-9D2DEBB00A3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5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sldNum" idx="17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AB854-1623-4350-9404-6C24B4C2C24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8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20.png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оугольник 1"/>
          <p:cNvSpPr/>
          <p:nvPr/>
        </p:nvSpPr>
        <p:spPr>
          <a:xfrm>
            <a:off x="324000" y="2205000"/>
            <a:ext cx="856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Признаки государства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Внутренние и внешние функции государства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Овал 1"/>
          <p:cNvGrpSpPr/>
          <p:nvPr/>
        </p:nvGrpSpPr>
        <p:grpSpPr>
          <a:xfrm>
            <a:off x="1511280" y="371520"/>
            <a:ext cx="6121440" cy="2085840"/>
            <a:chOff x="1511280" y="371520"/>
            <a:chExt cx="6121440" cy="2085840"/>
          </a:xfrm>
        </p:grpSpPr>
        <p:pic>
          <p:nvPicPr>
            <p:cNvPr id="396" name="Овал 1" descr=""/>
            <p:cNvPicPr/>
            <p:nvPr/>
          </p:nvPicPr>
          <p:blipFill>
            <a:blip r:embed="rId1"/>
            <a:stretch/>
          </p:blipFill>
          <p:spPr>
            <a:xfrm>
              <a:off x="1511280" y="371520"/>
              <a:ext cx="6121440" cy="20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2433600" y="700200"/>
              <a:ext cx="427680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Формы государственного правления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8" name="Овал 2"/>
          <p:cNvGrpSpPr/>
          <p:nvPr/>
        </p:nvGrpSpPr>
        <p:grpSpPr>
          <a:xfrm>
            <a:off x="146160" y="3035160"/>
            <a:ext cx="4170240" cy="1440000"/>
            <a:chOff x="146160" y="3035160"/>
            <a:chExt cx="4170240" cy="1440000"/>
          </a:xfrm>
        </p:grpSpPr>
        <p:pic>
          <p:nvPicPr>
            <p:cNvPr id="399" name="Овал 2" descr=""/>
            <p:cNvPicPr/>
            <p:nvPr/>
          </p:nvPicPr>
          <p:blipFill>
            <a:blip r:embed="rId2"/>
            <a:stretch/>
          </p:blipFill>
          <p:spPr>
            <a:xfrm>
              <a:off x="146160" y="3035160"/>
              <a:ext cx="417024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781200" y="3268800"/>
              <a:ext cx="290196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Монархия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1" name="Овал 3"/>
          <p:cNvGrpSpPr/>
          <p:nvPr/>
        </p:nvGrpSpPr>
        <p:grpSpPr>
          <a:xfrm>
            <a:off x="4035600" y="4041720"/>
            <a:ext cx="4528800" cy="1438200"/>
            <a:chOff x="4035600" y="4041720"/>
            <a:chExt cx="4528800" cy="1438200"/>
          </a:xfrm>
        </p:grpSpPr>
        <p:pic>
          <p:nvPicPr>
            <p:cNvPr id="402" name="Овал 3" descr=""/>
            <p:cNvPicPr/>
            <p:nvPr/>
          </p:nvPicPr>
          <p:blipFill>
            <a:blip r:embed="rId3"/>
            <a:stretch/>
          </p:blipFill>
          <p:spPr>
            <a:xfrm>
              <a:off x="4035600" y="4041720"/>
              <a:ext cx="452880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4721400" y="4276800"/>
              <a:ext cx="315720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еспублика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Выгнутая влево стрелка 4"/>
          <p:cNvSpPr/>
          <p:nvPr/>
        </p:nvSpPr>
        <p:spPr>
          <a:xfrm>
            <a:off x="684360" y="1773360"/>
            <a:ext cx="1079280" cy="1584360"/>
          </a:xfrm>
          <a:custGeom>
            <a:avLst/>
            <a:gdLst>
              <a:gd name="textAreaLeft" fmla="*/ 144360 w 1079280"/>
              <a:gd name="textAreaRight" fmla="*/ 934920 w 1079280"/>
              <a:gd name="textAreaTop" fmla="*/ 294840 h 1584360"/>
              <a:gd name="textAreaBottom" fmla="*/ 11545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039" stAng="-5400000" swAng="-5400000"/>
                <a:lnTo>
                  <a:pt x="0" y="11721"/>
                </a:lnTo>
                <a:arcTo wR="21600" hR="8039" stAng="10800000" swAng="-3314830"/>
                <a:lnTo>
                  <a:pt x="16200" y="21345"/>
                </a:lnTo>
                <a:lnTo>
                  <a:pt x="21600" y="17918"/>
                </a:lnTo>
                <a:lnTo>
                  <a:pt x="16200" y="13981"/>
                </a:lnTo>
                <a:lnTo>
                  <a:pt x="16200" y="15822"/>
                </a:lnTo>
                <a:arcTo wR="21600" hR="8039" stAng="7485170" swAng="3014591"/>
                <a:lnTo>
                  <a:pt x="574" y="9879"/>
                </a:lnTo>
                <a:arcTo wR="21600" hR="8039" stAng="-10499761" swAng="5099761"/>
                <a:close/>
              </a:path>
              <a:path fill="darkenLess" w="21600" h="21600">
                <a:moveTo>
                  <a:pt x="21600" y="0"/>
                </a:moveTo>
                <a:arcTo wR="21600" hR="8039" stAng="-5400000" swAng="-5400000"/>
                <a:lnTo>
                  <a:pt x="0" y="8039"/>
                </a:lnTo>
                <a:arcTo wR="21600" hR="8039" stAng="10800000" swAng="-300239"/>
                <a:lnTo>
                  <a:pt x="574" y="9879"/>
                </a:lnTo>
                <a:arcTo wR="21600" hR="8039" stAng="-10499761" swAng="5099761"/>
                <a:close/>
              </a:path>
            </a:pathLst>
          </a:custGeom>
          <a:solidFill>
            <a:srgbClr val="724314"/>
          </a:solidFill>
          <a:ln w="38520">
            <a:solidFill>
              <a:srgbClr val="596c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Выгнутая вправо стрелка 5"/>
          <p:cNvSpPr/>
          <p:nvPr/>
        </p:nvSpPr>
        <p:spPr>
          <a:xfrm rot="21361200">
            <a:off x="7351200" y="1679400"/>
            <a:ext cx="1567080" cy="2851200"/>
          </a:xfrm>
          <a:custGeom>
            <a:avLst/>
            <a:gdLst>
              <a:gd name="textAreaLeft" fmla="*/ 209880 w 1567080"/>
              <a:gd name="textAreaRight" fmla="*/ 1357200 w 1567080"/>
              <a:gd name="textAreaTop" fmla="*/ 565920 h 2851200"/>
              <a:gd name="textAreaBottom" fmla="*/ 2089440 h 2851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574" stAng="-5400000" swAng="5400000"/>
                <a:lnTo>
                  <a:pt x="21600" y="11543"/>
                </a:lnTo>
                <a:arcTo wR="21600" hR="8574" stAng="0" swAng="3417350"/>
                <a:lnTo>
                  <a:pt x="5400" y="21328"/>
                </a:lnTo>
                <a:lnTo>
                  <a:pt x="0" y="18632"/>
                </a:lnTo>
                <a:lnTo>
                  <a:pt x="5400" y="15391"/>
                </a:lnTo>
                <a:lnTo>
                  <a:pt x="5400" y="16875"/>
                </a:lnTo>
                <a:arcTo wR="21600" hR="8574" stAng="3417350" swAng="-3177850"/>
                <a:lnTo>
                  <a:pt x="21274" y="10058"/>
                </a:lnTo>
                <a:arcTo wR="21600" hR="8574" stAng="-239501" swAng="-5160499"/>
                <a:close/>
              </a:path>
              <a:path fill="darkenLess" w="21600" h="21600">
                <a:moveTo>
                  <a:pt x="0" y="0"/>
                </a:moveTo>
                <a:arcTo wR="21600" hR="8574" stAng="-5400000" swAng="5400000"/>
                <a:lnTo>
                  <a:pt x="21600" y="11543"/>
                </a:lnTo>
                <a:arcTo wR="21600" hR="8574" stAng="0" swAng="-239501"/>
                <a:lnTo>
                  <a:pt x="21274" y="10058"/>
                </a:lnTo>
                <a:arcTo wR="21600" hR="8574" stAng="-239501" swAng="-5160499"/>
                <a:close/>
              </a:path>
            </a:pathLst>
          </a:custGeom>
          <a:solidFill>
            <a:srgbClr val="5a5a1a"/>
          </a:solidFill>
          <a:ln w="38520">
            <a:solidFill>
              <a:srgbClr val="596c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6" name="Рисунок 7" descr="2050.gif"/>
          <p:cNvPicPr/>
          <p:nvPr/>
        </p:nvPicPr>
        <p:blipFill>
          <a:blip r:embed="rId4"/>
          <a:stretch/>
        </p:blipFill>
        <p:spPr>
          <a:xfrm flipH="1" rot="19698000">
            <a:off x="539280" y="4723920"/>
            <a:ext cx="960480" cy="360360"/>
          </a:xfrm>
          <a:prstGeom prst="rect">
            <a:avLst/>
          </a:prstGeom>
          <a:ln w="0">
            <a:noFill/>
          </a:ln>
        </p:spPr>
      </p:pic>
      <p:pic>
        <p:nvPicPr>
          <p:cNvPr id="407" name="Рисунок 9" descr="2050.gif"/>
          <p:cNvPicPr/>
          <p:nvPr/>
        </p:nvPicPr>
        <p:blipFill>
          <a:blip r:embed="rId5"/>
          <a:stretch/>
        </p:blipFill>
        <p:spPr>
          <a:xfrm rot="1856400">
            <a:off x="7403760" y="5520960"/>
            <a:ext cx="952560" cy="3571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 rot="10800000">
            <a:off x="304920" y="404280"/>
            <a:ext cx="8686800" cy="52560"/>
          </a:xfrm>
          <a:prstGeom prst="rect">
            <a:avLst/>
          </a:prstGeom>
          <a:noFill/>
          <a:ln w="0">
            <a:noFill/>
          </a:ln>
        </p:spPr>
        <p:txBody>
          <a:bodyPr tIns="6840" bIns="68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-360" y="-316440"/>
            <a:ext cx="8991720" cy="51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09880" indent="-209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andara"/>
              </a:rPr>
              <a:t> 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209880" indent="-209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Монархия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– это форма правления, при которой вся полнота государственной власти сосредоточена в руках одного человека – монарха (царя, короля, шаха, императора, султана и т. п.), который выполняет функции и главы государства, и законодательной, и во многом исполнительной власти. </a:t>
            </a: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209880" indent="-209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Монарх наследует власть как представитель правящей династии и осуществляет её пожизненно и бессрочно. </a:t>
            </a: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209880" indent="-209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уществует монархия:</a:t>
            </a: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209880" indent="-209880">
              <a:lnSpc>
                <a:spcPct val="100000"/>
              </a:lnSpc>
              <a:spcBef>
                <a:spcPts val="499"/>
              </a:spcBef>
              <a:buClr>
                <a:srgbClr val="3f3f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Ограниченная. высшая государственная власть рассредоточена между монархом и другими органами (Земским собором в Российской империи). </a:t>
            </a: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209880" indent="-209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Относится современная конституционная монархия, в которой власть   монарха ограничена конституцией, парламентом, правительством и независимым судом (Великобритания, </a:t>
            </a: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209880" indent="-209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Нидерланды, Бельгия, Швеция, Испания).</a:t>
            </a: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209880" indent="-209880">
              <a:lnSpc>
                <a:spcPct val="100000"/>
              </a:lnSpc>
              <a:spcBef>
                <a:spcPts val="499"/>
              </a:spcBef>
              <a:buClr>
                <a:srgbClr val="3f3f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Неограниченная (абсолютная). </a:t>
            </a: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209880" indent="-209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Монарх является единственным высшим </a:t>
            </a: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209880" indent="-209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органом государства. Он осуществляет </a:t>
            </a: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209880" indent="-209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законодательную функцию, руководит </a:t>
            </a: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209880" indent="-209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органами исполнительной власти, </a:t>
            </a: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209880" indent="-209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контролирует правосудие (Саудовская Аравия, Аман, Катар). </a:t>
            </a: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209880" indent="-209880">
              <a:lnSpc>
                <a:spcPct val="100000"/>
              </a:lnSpc>
              <a:spcBef>
                <a:spcPts val="499"/>
              </a:spcBef>
              <a:buClr>
                <a:srgbClr val="3f3f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209880" indent="-209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209880" indent="-2098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209880" indent="-209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209880" indent="-209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10" name="Picture 1" descr="C:\Users\Артём\Desktop\3 семестр\право\Формы гос-ва\2.jpg"/>
          <p:cNvPicPr/>
          <p:nvPr/>
        </p:nvPicPr>
        <p:blipFill>
          <a:blip r:embed="rId1"/>
          <a:stretch/>
        </p:blipFill>
        <p:spPr>
          <a:xfrm>
            <a:off x="5292720" y="4143240"/>
            <a:ext cx="3718080" cy="22989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Box 2"/>
          <p:cNvSpPr/>
          <p:nvPr/>
        </p:nvSpPr>
        <p:spPr>
          <a:xfrm>
            <a:off x="108000" y="260280"/>
            <a:ext cx="874872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Республика может быть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арламентская 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r>
              <a:rPr b="1" lang="ru-RU" sz="24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 парламент наделён не только законодательными полномочиями, но и правом давать отставку правительству, выразив ему недоверие, правительство несёт перед парламентом ответственность за свою деятельность (Россия, Германия, Италия, Чехия, Венгрия, Польша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езидентская</a:t>
            </a:r>
            <a:r>
              <a:rPr b="1" lang="ru-RU" sz="24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 это форма правления, при которой президент непосредственно при определённом парламентском контроле формирует правительство, которое несёт перед ним ответственность за свою деятельность (США, Аргентина, Грузия, Бразилия, Венесуэла, Египет). В президентских республиках обычно нет должности премьер-министра, так как чаще всего функции главы государства и главы и правительства выполняет президен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f3f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f3f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Овал 3"/>
          <p:cNvGrpSpPr/>
          <p:nvPr/>
        </p:nvGrpSpPr>
        <p:grpSpPr>
          <a:xfrm>
            <a:off x="1511280" y="152280"/>
            <a:ext cx="6121440" cy="2084400"/>
            <a:chOff x="1511280" y="152280"/>
            <a:chExt cx="6121440" cy="2084400"/>
          </a:xfrm>
        </p:grpSpPr>
        <p:pic>
          <p:nvPicPr>
            <p:cNvPr id="413" name="Овал 3" descr=""/>
            <p:cNvPicPr/>
            <p:nvPr/>
          </p:nvPicPr>
          <p:blipFill>
            <a:blip r:embed="rId1"/>
            <a:stretch/>
          </p:blipFill>
          <p:spPr>
            <a:xfrm>
              <a:off x="1511280" y="152280"/>
              <a:ext cx="612144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2433600" y="484200"/>
              <a:ext cx="427680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Формы государственного устройства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5" name="Скругленный прямоугольник 4"/>
          <p:cNvGrpSpPr/>
          <p:nvPr/>
        </p:nvGrpSpPr>
        <p:grpSpPr>
          <a:xfrm>
            <a:off x="1798560" y="2676600"/>
            <a:ext cx="6699240" cy="1004760"/>
            <a:chOff x="1798560" y="2676600"/>
            <a:chExt cx="6699240" cy="1004760"/>
          </a:xfrm>
        </p:grpSpPr>
        <p:pic>
          <p:nvPicPr>
            <p:cNvPr id="416" name="Скругленный 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1798560" y="2676600"/>
              <a:ext cx="669924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1881360" y="2754360"/>
              <a:ext cx="653400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3f3f3f"/>
                  </a:solidFill>
                  <a:latin typeface="Times New Roman"/>
                  <a:ea typeface="Times New Roman"/>
                </a:rPr>
                <a:t>Унитарная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8" name="Скругленный прямоугольник 5"/>
          <p:cNvGrpSpPr/>
          <p:nvPr/>
        </p:nvGrpSpPr>
        <p:grpSpPr>
          <a:xfrm>
            <a:off x="1798560" y="3828960"/>
            <a:ext cx="6699240" cy="1005120"/>
            <a:chOff x="1798560" y="3828960"/>
            <a:chExt cx="6699240" cy="1005120"/>
          </a:xfrm>
        </p:grpSpPr>
        <p:pic>
          <p:nvPicPr>
            <p:cNvPr id="419" name="Скругленный 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1798560" y="3828960"/>
              <a:ext cx="669924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"/>
            <p:cNvSpPr/>
            <p:nvPr/>
          </p:nvSpPr>
          <p:spPr>
            <a:xfrm>
              <a:off x="1881360" y="3906720"/>
              <a:ext cx="653400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3f3f3f"/>
                  </a:solidFill>
                  <a:latin typeface="Times New Roman"/>
                  <a:ea typeface="Times New Roman"/>
                </a:rPr>
                <a:t>Федерация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1" name="Скругленный прямоугольник 6"/>
          <p:cNvGrpSpPr/>
          <p:nvPr/>
        </p:nvGrpSpPr>
        <p:grpSpPr>
          <a:xfrm>
            <a:off x="1798560" y="5052960"/>
            <a:ext cx="6699240" cy="1000080"/>
            <a:chOff x="1798560" y="5052960"/>
            <a:chExt cx="6699240" cy="1000080"/>
          </a:xfrm>
        </p:grpSpPr>
        <p:pic>
          <p:nvPicPr>
            <p:cNvPr id="422" name="Скругленный 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1798560" y="5052960"/>
              <a:ext cx="66992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1881360" y="5130720"/>
              <a:ext cx="653400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3f3f3f"/>
                  </a:solidFill>
                  <a:latin typeface="Times New Roman"/>
                  <a:ea typeface="Times New Roman"/>
                </a:rPr>
                <a:t>Конфедерация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24" name="Рисунок 8" descr="2049.gif"/>
          <p:cNvPicPr/>
          <p:nvPr/>
        </p:nvPicPr>
        <p:blipFill>
          <a:blip r:embed="rId5"/>
          <a:stretch/>
        </p:blipFill>
        <p:spPr>
          <a:xfrm>
            <a:off x="520560" y="2690640"/>
            <a:ext cx="1314720" cy="1314720"/>
          </a:xfrm>
          <a:prstGeom prst="rect">
            <a:avLst/>
          </a:prstGeom>
          <a:ln w="0">
            <a:noFill/>
          </a:ln>
        </p:spPr>
      </p:pic>
      <p:pic>
        <p:nvPicPr>
          <p:cNvPr id="425" name="Рисунок 9" descr="2049.gif"/>
          <p:cNvPicPr/>
          <p:nvPr/>
        </p:nvPicPr>
        <p:blipFill>
          <a:blip r:embed="rId6"/>
          <a:stretch/>
        </p:blipFill>
        <p:spPr>
          <a:xfrm>
            <a:off x="520560" y="3843360"/>
            <a:ext cx="1314720" cy="1314360"/>
          </a:xfrm>
          <a:prstGeom prst="rect">
            <a:avLst/>
          </a:prstGeom>
          <a:ln w="0">
            <a:noFill/>
          </a:ln>
        </p:spPr>
      </p:pic>
      <p:pic>
        <p:nvPicPr>
          <p:cNvPr id="426" name="Рисунок 10" descr="2049.gif"/>
          <p:cNvPicPr/>
          <p:nvPr/>
        </p:nvPicPr>
        <p:blipFill>
          <a:blip r:embed="rId7"/>
          <a:stretch/>
        </p:blipFill>
        <p:spPr>
          <a:xfrm>
            <a:off x="520560" y="4941720"/>
            <a:ext cx="1314720" cy="1314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 rot="10800000">
            <a:off x="304920" y="404280"/>
            <a:ext cx="8686800" cy="52560"/>
          </a:xfrm>
          <a:prstGeom prst="rect">
            <a:avLst/>
          </a:prstGeom>
          <a:noFill/>
          <a:ln w="0">
            <a:noFill/>
          </a:ln>
        </p:spPr>
        <p:txBody>
          <a:bodyPr tIns="6840" bIns="68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304920" y="333000"/>
            <a:ext cx="8686800" cy="57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Унитарное государство </a:t>
            </a:r>
            <a:r>
              <a:rPr b="1" lang="ru-RU" sz="20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– это целостное централизованное государство, административно-территориальные единицы которого (области, провинции, округа и т. д.) не имеют статуса государственных образований, не обладают суверенными правами (Франция, Турция, Япония, Испания, Великобритания). В унитарном государстве единственный высший орган государства, единое гражданство, единая конституция, высокая степень влияния центральной государственной власти на всей территории страны. </a:t>
            </a: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29" name="Picture 1" descr="C:\Users\Артём\Desktop\3 семестр\право\Формы гос-ва\5.jpg"/>
          <p:cNvPicPr/>
          <p:nvPr/>
        </p:nvPicPr>
        <p:blipFill>
          <a:blip r:embed="rId1"/>
          <a:stretch/>
        </p:blipFill>
        <p:spPr>
          <a:xfrm rot="20792400">
            <a:off x="2782440" y="2906280"/>
            <a:ext cx="3140280" cy="170352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2" descr="C:\Users\Артём\Desktop\3 семестр\право\Формы гос-ва\6.png"/>
          <p:cNvPicPr/>
          <p:nvPr/>
        </p:nvPicPr>
        <p:blipFill>
          <a:blip r:embed="rId2"/>
          <a:stretch/>
        </p:blipFill>
        <p:spPr>
          <a:xfrm rot="1512000">
            <a:off x="1171080" y="4505400"/>
            <a:ext cx="3029040" cy="15145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3" descr="C:\Users\Артём\Desktop\3 семестр\право\Формы гос-ва\7.jpg"/>
          <p:cNvPicPr/>
          <p:nvPr/>
        </p:nvPicPr>
        <p:blipFill>
          <a:blip r:embed="rId3"/>
          <a:stretch/>
        </p:blipFill>
        <p:spPr>
          <a:xfrm rot="20684400">
            <a:off x="3871440" y="4681080"/>
            <a:ext cx="2952720" cy="1817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 rot="10800000">
            <a:off x="304920" y="404280"/>
            <a:ext cx="8686800" cy="52560"/>
          </a:xfrm>
          <a:prstGeom prst="rect">
            <a:avLst/>
          </a:prstGeom>
          <a:noFill/>
          <a:ln w="0">
            <a:noFill/>
          </a:ln>
        </p:spPr>
        <p:txBody>
          <a:bodyPr tIns="6840" bIns="68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304920" y="333000"/>
            <a:ext cx="8686800" cy="57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Федеративное государство (федерация) </a:t>
            </a:r>
            <a:r>
              <a:rPr b="1" lang="ru-RU" sz="20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есть сложное государство, состоящее из нескольких субъектов, объединившихся для решении общих задач. При этом субъекты образуются по национальному или территориальному принципу либо использует и первое, и второе (Россия, США, Канада, Германия Австрия, Бельгия, Швейцария, Австралия Индия, Бразилия, Аргентина). Входящие в состав федерации государственные образования и государства называются её субъектами. </a:t>
            </a: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Они могут иметь свои конституции, своё гражданство, собственные высшие государственные органы – законодательный, исполнительные, судебные. </a:t>
            </a: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 </a:t>
            </a: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4" name="Номер слайда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1D6F2-D838-4D1C-B590-5EECD29C459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5" name="Picture 2" descr="C:\Users\Артём\Desktop\3 семестр\право\Формы гос-ва\9.png"/>
          <p:cNvPicPr/>
          <p:nvPr/>
        </p:nvPicPr>
        <p:blipFill>
          <a:blip r:embed="rId1"/>
          <a:stretch/>
        </p:blipFill>
        <p:spPr>
          <a:xfrm>
            <a:off x="0" y="4827600"/>
            <a:ext cx="3384720" cy="203040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" descr="C:\Users\Артём\Desktop\3 семестр\право\Формы гос-ва\8.png"/>
          <p:cNvPicPr/>
          <p:nvPr/>
        </p:nvPicPr>
        <p:blipFill>
          <a:blip r:embed="rId2"/>
          <a:stretch/>
        </p:blipFill>
        <p:spPr>
          <a:xfrm>
            <a:off x="2843280" y="3933720"/>
            <a:ext cx="3338280" cy="22320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3" descr="C:\Users\Артём\Desktop\3 семестр\право\Формы гос-ва\скачанные файлы.jpg"/>
          <p:cNvPicPr/>
          <p:nvPr/>
        </p:nvPicPr>
        <p:blipFill>
          <a:blip r:embed="rId3"/>
          <a:stretch/>
        </p:blipFill>
        <p:spPr>
          <a:xfrm>
            <a:off x="5398920" y="4889520"/>
            <a:ext cx="3745080" cy="19684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 rot="10800000">
            <a:off x="304920" y="404280"/>
            <a:ext cx="8686800" cy="52560"/>
          </a:xfrm>
          <a:prstGeom prst="rect">
            <a:avLst/>
          </a:prstGeom>
          <a:noFill/>
          <a:ln w="0">
            <a:noFill/>
          </a:ln>
        </p:spPr>
        <p:txBody>
          <a:bodyPr tIns="6840" bIns="68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304920" y="333000"/>
            <a:ext cx="8686800" cy="57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Конфедерация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– это союз суверенных государств, образуемый для достижения определённых целей (военных, экономических и др.). Здесь союзные органы лишь координируют деятельность государств – членов конфедерации и только по тем вопросам, для решения которых они объединились. Конфедерация не обладает суверенитетом. Конфедерация является переходной формой государственного устройства. Например, штаты Северной Америки с 1776 по 1787 гг. были объединены в конфедерацию, что диктовалось интересами борьбы против британского владычества. Конфедерация стала ступенькой на пути создания федеративного государства – США.</a:t>
            </a: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0" name="Номер слайда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DD0AB-BA40-423B-91FA-FBEFD529DF2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1" name="Picture 3" descr="C:\Users\Артём\Desktop\3 семестр\право\Формы гос-ва\7977.jpg"/>
          <p:cNvPicPr/>
          <p:nvPr/>
        </p:nvPicPr>
        <p:blipFill>
          <a:blip r:embed="rId1"/>
          <a:stretch/>
        </p:blipFill>
        <p:spPr>
          <a:xfrm>
            <a:off x="468360" y="4038480"/>
            <a:ext cx="3456000" cy="241488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1" descr="C:\Users\Артём\Desktop\3 семестр\право\Формы гос-ва\11.jpg"/>
          <p:cNvPicPr/>
          <p:nvPr/>
        </p:nvPicPr>
        <p:blipFill>
          <a:blip r:embed="rId2"/>
          <a:stretch/>
        </p:blipFill>
        <p:spPr>
          <a:xfrm>
            <a:off x="4572000" y="4038480"/>
            <a:ext cx="3971880" cy="2382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Овал 3"/>
          <p:cNvGrpSpPr/>
          <p:nvPr/>
        </p:nvGrpSpPr>
        <p:grpSpPr>
          <a:xfrm>
            <a:off x="1511280" y="152280"/>
            <a:ext cx="6121440" cy="2084400"/>
            <a:chOff x="1511280" y="152280"/>
            <a:chExt cx="6121440" cy="2084400"/>
          </a:xfrm>
        </p:grpSpPr>
        <p:pic>
          <p:nvPicPr>
            <p:cNvPr id="444" name="Овал 3" descr=""/>
            <p:cNvPicPr/>
            <p:nvPr/>
          </p:nvPicPr>
          <p:blipFill>
            <a:blip r:embed="rId1"/>
            <a:stretch/>
          </p:blipFill>
          <p:spPr>
            <a:xfrm>
              <a:off x="1511280" y="152280"/>
              <a:ext cx="612144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"/>
            <p:cNvSpPr/>
            <p:nvPr/>
          </p:nvSpPr>
          <p:spPr>
            <a:xfrm>
              <a:off x="2433600" y="484200"/>
              <a:ext cx="427680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Формы политического режима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6" name="Скругленный прямоугольник 5"/>
          <p:cNvGrpSpPr/>
          <p:nvPr/>
        </p:nvGrpSpPr>
        <p:grpSpPr>
          <a:xfrm>
            <a:off x="1852560" y="2676600"/>
            <a:ext cx="6701040" cy="1004760"/>
            <a:chOff x="1852560" y="2676600"/>
            <a:chExt cx="6701040" cy="1004760"/>
          </a:xfrm>
        </p:grpSpPr>
        <p:pic>
          <p:nvPicPr>
            <p:cNvPr id="447" name="Скругленный 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1852560" y="2676600"/>
              <a:ext cx="670104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1936800" y="2754360"/>
              <a:ext cx="653256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3f3f3f"/>
                  </a:solidFill>
                  <a:latin typeface="Times New Roman"/>
                  <a:ea typeface="Times New Roman"/>
                </a:rPr>
                <a:t>Демократия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9" name="Скругленный прямоугольник 6"/>
          <p:cNvGrpSpPr/>
          <p:nvPr/>
        </p:nvGrpSpPr>
        <p:grpSpPr>
          <a:xfrm>
            <a:off x="1852560" y="3828960"/>
            <a:ext cx="6701040" cy="1005120"/>
            <a:chOff x="1852560" y="3828960"/>
            <a:chExt cx="6701040" cy="1005120"/>
          </a:xfrm>
        </p:grpSpPr>
        <p:pic>
          <p:nvPicPr>
            <p:cNvPr id="450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1852560" y="3828960"/>
              <a:ext cx="670104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>
              <a:off x="1936800" y="3906720"/>
              <a:ext cx="653256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3f3f3f"/>
                  </a:solidFill>
                  <a:latin typeface="Times New Roman"/>
                  <a:ea typeface="Times New Roman"/>
                </a:rPr>
                <a:t>Авторитаризм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2" name="Скругленный прямоугольник 7"/>
          <p:cNvGrpSpPr/>
          <p:nvPr/>
        </p:nvGrpSpPr>
        <p:grpSpPr>
          <a:xfrm>
            <a:off x="1944720" y="5052960"/>
            <a:ext cx="6692760" cy="1000080"/>
            <a:chOff x="1944720" y="5052960"/>
            <a:chExt cx="6692760" cy="1000080"/>
          </a:xfrm>
        </p:grpSpPr>
        <p:pic>
          <p:nvPicPr>
            <p:cNvPr id="453" name="Скругленный прямоугольник 7" descr=""/>
            <p:cNvPicPr/>
            <p:nvPr/>
          </p:nvPicPr>
          <p:blipFill>
            <a:blip r:embed="rId4"/>
            <a:stretch/>
          </p:blipFill>
          <p:spPr>
            <a:xfrm>
              <a:off x="1944720" y="5052960"/>
              <a:ext cx="669276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2025720" y="5130720"/>
              <a:ext cx="653256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3f3f3f"/>
                  </a:solidFill>
                  <a:latin typeface="Times New Roman"/>
                  <a:ea typeface="Times New Roman"/>
                </a:rPr>
                <a:t>Тоталитаризм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55" name="Рисунок 9" descr="2049.gif"/>
          <p:cNvPicPr/>
          <p:nvPr/>
        </p:nvPicPr>
        <p:blipFill>
          <a:blip r:embed="rId5"/>
          <a:stretch/>
        </p:blipFill>
        <p:spPr>
          <a:xfrm>
            <a:off x="576360" y="2637000"/>
            <a:ext cx="1314360" cy="1314360"/>
          </a:xfrm>
          <a:prstGeom prst="rect">
            <a:avLst/>
          </a:prstGeom>
          <a:ln w="0">
            <a:noFill/>
          </a:ln>
        </p:spPr>
      </p:pic>
      <p:pic>
        <p:nvPicPr>
          <p:cNvPr id="456" name="Рисунок 10" descr="2049.gif"/>
          <p:cNvPicPr/>
          <p:nvPr/>
        </p:nvPicPr>
        <p:blipFill>
          <a:blip r:embed="rId6"/>
          <a:stretch/>
        </p:blipFill>
        <p:spPr>
          <a:xfrm>
            <a:off x="539640" y="3860640"/>
            <a:ext cx="1314720" cy="1314720"/>
          </a:xfrm>
          <a:prstGeom prst="rect">
            <a:avLst/>
          </a:prstGeom>
          <a:ln w="0">
            <a:noFill/>
          </a:ln>
        </p:spPr>
      </p:pic>
      <p:pic>
        <p:nvPicPr>
          <p:cNvPr id="457" name="Рисунок 11" descr="2049.gif"/>
          <p:cNvPicPr/>
          <p:nvPr/>
        </p:nvPicPr>
        <p:blipFill>
          <a:blip r:embed="rId7"/>
          <a:stretch/>
        </p:blipFill>
        <p:spPr>
          <a:xfrm>
            <a:off x="611280" y="5013360"/>
            <a:ext cx="1314360" cy="1314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Box 1"/>
          <p:cNvSpPr/>
          <p:nvPr/>
        </p:nvSpPr>
        <p:spPr>
          <a:xfrm>
            <a:off x="900000" y="1773360"/>
            <a:ext cx="7632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Демократический режим —</a:t>
            </a:r>
            <a:r>
              <a:rPr b="1" lang="ru-RU" sz="24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 это режим, в котором власть отправляется свободно выражающим себя большинством. Демократия в переводе с греческого означает буквально «власть народа» или «народовластие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Демократический</a:t>
            </a:r>
            <a:r>
              <a:rPr b="1" lang="ru-RU" sz="24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 (правило большинства, права человека, свободные и честные выборы, равенство перед законом, конституционные ограничения правительств, независимое судопроизводство и др.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72720" y="115560"/>
            <a:ext cx="8999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личительной чертой демократического режима является. 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0" name="AutoShape 5"/>
          <p:cNvSpPr/>
          <p:nvPr/>
        </p:nvSpPr>
        <p:spPr>
          <a:xfrm>
            <a:off x="325440" y="4437000"/>
            <a:ext cx="8352000" cy="1079640"/>
          </a:xfrm>
          <a:prstGeom prst="bevel">
            <a:avLst>
              <a:gd name="adj" fmla="val 12500"/>
            </a:avLst>
          </a:prstGeom>
          <a:solidFill>
            <a:srgbClr val="7c95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Гарантии свободы средст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массовой информ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AutoShape 6"/>
          <p:cNvSpPr/>
          <p:nvPr/>
        </p:nvSpPr>
        <p:spPr>
          <a:xfrm>
            <a:off x="325440" y="3213000"/>
            <a:ext cx="8352000" cy="1079640"/>
          </a:xfrm>
          <a:prstGeom prst="bevel">
            <a:avLst>
              <a:gd name="adj" fmla="val 12500"/>
            </a:avLst>
          </a:prstGeom>
          <a:solidFill>
            <a:srgbClr val="7c95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Верховенство судебной власт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над законодательной и исполнительн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AutoShape 7"/>
          <p:cNvSpPr/>
          <p:nvPr/>
        </p:nvSpPr>
        <p:spPr>
          <a:xfrm>
            <a:off x="325440" y="1989000"/>
            <a:ext cx="8352000" cy="1079640"/>
          </a:xfrm>
          <a:prstGeom prst="bevel">
            <a:avLst>
              <a:gd name="adj" fmla="val 12500"/>
            </a:avLst>
          </a:prstGeom>
          <a:solidFill>
            <a:srgbClr val="7c95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Существование средст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массовой информ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AutoShape 8"/>
          <p:cNvSpPr/>
          <p:nvPr/>
        </p:nvSpPr>
        <p:spPr>
          <a:xfrm>
            <a:off x="345960" y="1197000"/>
            <a:ext cx="8352000" cy="647640"/>
          </a:xfrm>
          <a:prstGeom prst="bevel">
            <a:avLst>
              <a:gd name="adj" fmla="val 12500"/>
            </a:avLst>
          </a:prstGeom>
          <a:solidFill>
            <a:srgbClr val="7c95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Наличие разветвлённой системы закон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AutoShape 7"/>
          <p:cNvSpPr/>
          <p:nvPr/>
        </p:nvSpPr>
        <p:spPr>
          <a:xfrm>
            <a:off x="325440" y="5732640"/>
            <a:ext cx="8317080" cy="647640"/>
          </a:xfrm>
          <a:prstGeom prst="bevel">
            <a:avLst>
              <a:gd name="adj" fmla="val 12500"/>
            </a:avLst>
          </a:prstGeom>
          <a:solidFill>
            <a:srgbClr val="7c95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Защитой прав и свобод гражда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92" dur="indefinite" restart="never" nodeType="tmRoot">
          <p:childTnLst>
            <p:seq>
              <p:cTn id="193" restart="whenNotActive" nodeType="interactiveSeq" fill="hold">
                <p:stCondLst>
                  <p:cond evt="onClick">
                    <p:tgtEl>
                      <p:spTgt spid="463"/>
                    </p:tgtEl>
                  </p:cond>
                </p:stCondLst>
                <p:childTnLst>
                  <p:par>
                    <p:cTn id="194" nodeType="clickEffect" fill="hold">
                      <p:stCondLst>
                        <p:cond evt="onClick">
                          <p:tgtEl>
                            <p:spTgt spid="463"/>
                          </p:tgtEl>
                        </p:cond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199" nodeType="clickEffect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" restart="whenNotActive" nodeType="interactiveSeq" fill="hold">
                <p:stCondLst>
                  <p:cond evt="onClick">
                    <p:tgtEl>
                      <p:spTgt spid="460"/>
                    </p:tgtEl>
                  </p:cond>
                </p:stCondLst>
                <p:childTnLst>
                  <p:par>
                    <p:cTn id="204" nodeType="clickEffect" fill="hold">
                      <p:stCondLst>
                        <p:cond evt="onClick">
                          <p:tgtEl>
                            <p:spTgt spid="460"/>
                          </p:tgtEl>
                        </p:cond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8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9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462"/>
                    </p:tgtEl>
                  </p:cond>
                </p:stCondLst>
                <p:childTnLst>
                  <p:par>
                    <p:cTn id="211" nodeType="clickEffect" fill="hold">
                      <p:stCondLst>
                        <p:cond evt="onClick">
                          <p:tgtEl>
                            <p:spTgt spid="462"/>
                          </p:tgtEl>
                        </p:cond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" restart="whenNotActive" nodeType="interactiveSeq" fill="hold">
                <p:stCondLst>
                  <p:cond evt="onClick">
                    <p:tgtEl>
                      <p:spTgt spid="464"/>
                    </p:tgtEl>
                  </p:cond>
                </p:stCondLst>
                <p:childTnLst>
                  <p:par>
                    <p:cTn id="216" fill="hold">
                      <p:stCondLst>
                        <p:cond evt="onClick">
                          <p:tgtEl>
                            <p:spTgt spid="464"/>
                          </p:tgtEl>
                        </p:cond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0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1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Скругленный прямоугольник 6"/>
          <p:cNvGrpSpPr/>
          <p:nvPr/>
        </p:nvGrpSpPr>
        <p:grpSpPr>
          <a:xfrm>
            <a:off x="152280" y="871560"/>
            <a:ext cx="8852040" cy="4896000"/>
            <a:chOff x="152280" y="871560"/>
            <a:chExt cx="8852040" cy="4896000"/>
          </a:xfrm>
        </p:grpSpPr>
        <p:pic>
          <p:nvPicPr>
            <p:cNvPr id="255" name="Скругленный прямоугольник 6" descr=""/>
            <p:cNvPicPr/>
            <p:nvPr/>
          </p:nvPicPr>
          <p:blipFill>
            <a:blip r:embed="rId1"/>
            <a:stretch/>
          </p:blipFill>
          <p:spPr>
            <a:xfrm>
              <a:off x="152280" y="871560"/>
              <a:ext cx="8852040" cy="489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422280" y="1144440"/>
              <a:ext cx="8313840" cy="435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 u="sng">
                  <a:solidFill>
                    <a:srgbClr val="990000"/>
                  </a:solidFill>
                  <a:uFillTx/>
                  <a:latin typeface="Times New Roman"/>
                  <a:ea typeface="Times New Roman"/>
                </a:rPr>
                <a:t>Государство</a:t>
              </a:r>
              <a:r>
                <a:rPr b="1" i="1" lang="ru-RU" sz="3200" spc="-1" strike="noStrike" u="sng">
                  <a:solidFill>
                    <a:srgbClr val="db8631"/>
                  </a:solidFill>
                  <a:uFillTx/>
                  <a:latin typeface="Times New Roman"/>
                  <a:ea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 организация политической власти общества, охватывающая определённую территорию, выступающая одновременно как средство обеспечения интересов всего общества и особый механизм управления и подавления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5" name="Скругленный прямоугольник 1"/>
          <p:cNvGrpSpPr/>
          <p:nvPr/>
        </p:nvGrpSpPr>
        <p:grpSpPr>
          <a:xfrm>
            <a:off x="146160" y="1378080"/>
            <a:ext cx="8851680" cy="4894200"/>
            <a:chOff x="146160" y="1378080"/>
            <a:chExt cx="8851680" cy="4894200"/>
          </a:xfrm>
        </p:grpSpPr>
        <p:pic>
          <p:nvPicPr>
            <p:cNvPr id="466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146160" y="1378080"/>
              <a:ext cx="8851680" cy="489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"/>
            <p:cNvSpPr/>
            <p:nvPr/>
          </p:nvSpPr>
          <p:spPr>
            <a:xfrm>
              <a:off x="414360" y="1647720"/>
              <a:ext cx="8315280" cy="43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Авторитарный режим </a:t>
              </a:r>
              <a:r>
                <a:rPr b="1" i="1" lang="ru-RU" sz="3200" spc="-1" strike="noStrike">
                  <a:solidFill>
                    <a:srgbClr val="3f3f3f"/>
                  </a:solidFill>
                  <a:latin typeface="Times New Roman"/>
                  <a:ea typeface="Times New Roman"/>
                </a:rPr>
                <a:t>– это  политический режим, сохраняющий монополию на власть и контроль над политической жизнью государства, но не претендующий  на тотальный контроль над обществом.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 rot="10800000">
            <a:off x="304920" y="404280"/>
            <a:ext cx="8686800" cy="52560"/>
          </a:xfrm>
          <a:prstGeom prst="rect">
            <a:avLst/>
          </a:prstGeom>
          <a:noFill/>
          <a:ln w="0">
            <a:noFill/>
          </a:ln>
        </p:spPr>
        <p:txBody>
          <a:bodyPr tIns="6840" bIns="68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324000" y="620280"/>
            <a:ext cx="8686800" cy="57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Авторитарный режим отличается тем, что: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1) народ при таких режимах фактически отстраняется от формирования государственной власти и контроля над её деятельностью;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2) вся полнота власти концентрируется в руках правящей элиты, не учитывающей коренных интересов населения;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3) устраняется оппозиция (иногда формально разрешается деятельность близких по духу, родственных политических партий и профсоюзов);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4)  личность лишена гарантий безопасности, человек не может и реально пользоваться общедемократическими свободами, даже если они формально провозглашены.  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TextBox 1"/>
          <p:cNvSpPr/>
          <p:nvPr/>
        </p:nvSpPr>
        <p:spPr>
          <a:xfrm>
            <a:off x="1116000" y="3749760"/>
            <a:ext cx="676908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Тоталитарный политический режим</a:t>
            </a:r>
            <a:r>
              <a:rPr b="0" lang="ru-RU" sz="2800" spc="-1" strike="noStrike">
                <a:solidFill>
                  <a:srgbClr val="ffffff"/>
                </a:solidFill>
                <a:latin typeface="Franklin Gothic Book"/>
              </a:rPr>
              <a:t> </a:t>
            </a:r>
            <a:r>
              <a:rPr b="1" lang="ru-RU" sz="24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— это режим «всепоглощающего властвования», который беспредельно вмешивается в жизнь граждан, включая всю их деятельность в объёме своего управления и принудительного регулиров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1" name="Picture 2" descr="C:\Users\Артём\Desktop\3 семестр\право\Формы гос-ва\19.jpg"/>
          <p:cNvPicPr/>
          <p:nvPr/>
        </p:nvPicPr>
        <p:blipFill>
          <a:blip r:embed="rId1"/>
          <a:stretch/>
        </p:blipFill>
        <p:spPr>
          <a:xfrm>
            <a:off x="2050920" y="333360"/>
            <a:ext cx="5529240" cy="3095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 rot="10800000">
            <a:off x="304920" y="404280"/>
            <a:ext cx="8686800" cy="52560"/>
          </a:xfrm>
          <a:prstGeom prst="rect">
            <a:avLst/>
          </a:prstGeom>
          <a:noFill/>
          <a:ln w="0">
            <a:noFill/>
          </a:ln>
        </p:spPr>
        <p:txBody>
          <a:bodyPr tIns="6840" bIns="68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324000" y="907920"/>
            <a:ext cx="8686800" cy="574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При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тоталитарном режиме </a:t>
            </a:r>
            <a:r>
              <a:rPr b="1" lang="ru-RU" sz="28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власть переходит в руки диктатора, осуществляющего правление насильственными методами, происходит абсолютная концентрация власти законодательной и исполнительной в одном органе. Права и свободы человека никем не защищены.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71380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Домашнее задание: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f3f3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Приобрести Конституцию РФ;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f3f3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Письменно в тетради: 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f3f3f"/>
                </a:solidFill>
                <a:latin typeface="Candara"/>
              </a:rPr>
              <a:t>     </a:t>
            </a:r>
            <a:r>
              <a:rPr b="1" i="1" lang="ru-RU" sz="28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«Сумеет ли человечество когда-нибудь в будущем обходиться без государства и как? Существует ли «идеальное государство» и какое оно?»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изнаки государства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Единая территория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Единая система управления территорией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Единая система законов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Монополия на легальное применение силы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Право на взимание налогов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Обязательность членства в государстве – гражданство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Представительство от имени общества в международных организация, переговорах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Суверенитет - независимость. Суверенность – право представлять общество в целом, издавать обязательные для всех законы.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 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59" name="Скругленная соединительная линия 9"/>
          <p:cNvCxnSpPr/>
          <p:nvPr/>
        </p:nvCxnSpPr>
        <p:spPr>
          <a:xfrm>
            <a:off x="-858240" y="500760"/>
            <a:ext cx="9986400" cy="4478760"/>
          </a:xfrm>
          <a:prstGeom prst="curvedConnector4">
            <a:avLst>
              <a:gd name="adj1" fmla="val 51198"/>
              <a:gd name="adj2" fmla="val 50000"/>
            </a:avLst>
          </a:prstGeom>
          <a:ln cap="rnd" w="3240">
            <a:solidFill>
              <a:srgbClr val="3f3f3f">
                <a:alpha val="59000"/>
              </a:srgbClr>
            </a:solidFill>
            <a:miter/>
          </a:ln>
        </p:spPr>
      </p:cxnSp>
      <p:cxnSp>
        <p:nvCxnSpPr>
          <p:cNvPr id="260" name="Скругленная соединительная линия 13"/>
          <p:cNvCxnSpPr/>
          <p:nvPr/>
        </p:nvCxnSpPr>
        <p:spPr>
          <a:xfrm>
            <a:off x="-723240" y="807120"/>
            <a:ext cx="9986400" cy="4478760"/>
          </a:xfrm>
          <a:prstGeom prst="curvedConnector4">
            <a:avLst>
              <a:gd name="adj1" fmla="val 51198"/>
              <a:gd name="adj2" fmla="val 50000"/>
            </a:avLst>
          </a:prstGeom>
          <a:ln cap="rnd" w="3240">
            <a:solidFill>
              <a:srgbClr val="3f3f3f">
                <a:alpha val="59000"/>
              </a:srgbClr>
            </a:solidFill>
            <a:miter/>
          </a:ln>
        </p:spPr>
      </p:cxnSp>
      <p:cxnSp>
        <p:nvCxnSpPr>
          <p:cNvPr id="261" name="Скругленная соединительная линия 14"/>
          <p:cNvCxnSpPr/>
          <p:nvPr/>
        </p:nvCxnSpPr>
        <p:spPr>
          <a:xfrm>
            <a:off x="-588240" y="1092960"/>
            <a:ext cx="9986400" cy="4478760"/>
          </a:xfrm>
          <a:prstGeom prst="curvedConnector4">
            <a:avLst>
              <a:gd name="adj1" fmla="val 51198"/>
              <a:gd name="adj2" fmla="val 50000"/>
            </a:avLst>
          </a:prstGeom>
          <a:ln cap="rnd" w="3240">
            <a:solidFill>
              <a:srgbClr val="3f3f3f">
                <a:alpha val="59000"/>
              </a:srgbClr>
            </a:solidFill>
            <a:miter/>
          </a:ln>
        </p:spPr>
      </p:cxnSp>
      <p:cxnSp>
        <p:nvCxnSpPr>
          <p:cNvPr id="262" name="Скругленная соединительная линия 15"/>
          <p:cNvCxnSpPr/>
          <p:nvPr/>
        </p:nvCxnSpPr>
        <p:spPr>
          <a:xfrm>
            <a:off x="-451800" y="1378440"/>
            <a:ext cx="9984960" cy="4478760"/>
          </a:xfrm>
          <a:prstGeom prst="curvedConnector4">
            <a:avLst>
              <a:gd name="adj1" fmla="val 51198"/>
              <a:gd name="adj2" fmla="val 50000"/>
            </a:avLst>
          </a:prstGeom>
          <a:ln cap="rnd" w="3240">
            <a:solidFill>
              <a:srgbClr val="3f3f3f">
                <a:alpha val="59000"/>
              </a:srgbClr>
            </a:solidFill>
            <a:miter/>
          </a:ln>
        </p:spPr>
      </p:cxnSp>
      <p:cxnSp>
        <p:nvCxnSpPr>
          <p:cNvPr id="263" name="Скругленная соединительная линия 16"/>
          <p:cNvCxnSpPr/>
          <p:nvPr/>
        </p:nvCxnSpPr>
        <p:spPr>
          <a:xfrm>
            <a:off x="-316800" y="1664280"/>
            <a:ext cx="9984960" cy="4478760"/>
          </a:xfrm>
          <a:prstGeom prst="curvedConnector4">
            <a:avLst>
              <a:gd name="adj1" fmla="val 51198"/>
              <a:gd name="adj2" fmla="val 50000"/>
            </a:avLst>
          </a:prstGeom>
          <a:ln cap="rnd" w="3240">
            <a:solidFill>
              <a:srgbClr val="3f3f3f">
                <a:alpha val="59000"/>
              </a:srgbClr>
            </a:solidFill>
            <a:miter/>
          </a:ln>
        </p:spPr>
      </p:cxnSp>
      <p:cxnSp>
        <p:nvCxnSpPr>
          <p:cNvPr id="264" name="Скругленная соединительная линия 17"/>
          <p:cNvCxnSpPr/>
          <p:nvPr/>
        </p:nvCxnSpPr>
        <p:spPr>
          <a:xfrm>
            <a:off x="-181800" y="1950480"/>
            <a:ext cx="9984600" cy="4478760"/>
          </a:xfrm>
          <a:prstGeom prst="curvedConnector4">
            <a:avLst>
              <a:gd name="adj1" fmla="val 51200"/>
              <a:gd name="adj2" fmla="val 50000"/>
            </a:avLst>
          </a:prstGeom>
          <a:ln cap="rnd" w="3240">
            <a:solidFill>
              <a:srgbClr val="3f3f3f">
                <a:alpha val="59000"/>
              </a:srgbClr>
            </a:solidFill>
            <a:miter/>
          </a:ln>
        </p:spPr>
      </p:cxnSp>
      <p:cxnSp>
        <p:nvCxnSpPr>
          <p:cNvPr id="265" name="Скругленная соединительная линия 18"/>
          <p:cNvCxnSpPr/>
          <p:nvPr/>
        </p:nvCxnSpPr>
        <p:spPr>
          <a:xfrm>
            <a:off x="-47160" y="2235960"/>
            <a:ext cx="9984960" cy="4478760"/>
          </a:xfrm>
          <a:prstGeom prst="curvedConnector4">
            <a:avLst>
              <a:gd name="adj1" fmla="val 51198"/>
              <a:gd name="adj2" fmla="val 50000"/>
            </a:avLst>
          </a:prstGeom>
          <a:ln cap="rnd" w="3240">
            <a:solidFill>
              <a:srgbClr val="3f3f3f">
                <a:alpha val="59000"/>
              </a:srgbClr>
            </a:solidFill>
            <a:miter/>
          </a:ln>
        </p:spPr>
      </p:cxnSp>
      <p:sp>
        <p:nvSpPr>
          <p:cNvPr id="266" name=""/>
          <p:cNvSpPr txBox="1"/>
          <p:nvPr/>
        </p:nvSpPr>
        <p:spPr>
          <a:xfrm>
            <a:off x="468360" y="0"/>
            <a:ext cx="8229960" cy="922680"/>
          </a:xfrm>
          <a:prstGeom prst="rect">
            <a:avLst/>
          </a:prstGeom>
          <a:gradFill rotWithShape="0">
            <a:gsLst>
              <a:gs pos="0">
                <a:srgbClr val="3f3f3f">
                  <a:alpha val="36078"/>
                </a:srgbClr>
              </a:gs>
              <a:gs pos="100000">
                <a:srgbClr val="b2afa1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Функции государства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267" name="Группа 19"/>
          <p:cNvGrpSpPr/>
          <p:nvPr/>
        </p:nvGrpSpPr>
        <p:grpSpPr>
          <a:xfrm>
            <a:off x="8169120" y="6357960"/>
            <a:ext cx="474840" cy="285840"/>
            <a:chOff x="8169120" y="6357960"/>
            <a:chExt cx="474840" cy="285840"/>
          </a:xfrm>
        </p:grpSpPr>
        <p:sp>
          <p:nvSpPr>
            <p:cNvPr id="268" name="Нашивка 20">
              <a:hlinkClick r:id="" action="ppaction://hlinkshowjump?jump=nextslide"/>
            </p:cNvPr>
            <p:cNvSpPr/>
            <p:nvPr/>
          </p:nvSpPr>
          <p:spPr>
            <a:xfrm>
              <a:off x="8169120" y="6357960"/>
              <a:ext cx="274680" cy="285840"/>
            </a:xfrm>
            <a:custGeom>
              <a:avLst/>
              <a:gdLst>
                <a:gd name="textAreaLeft" fmla="*/ 0 w 274680"/>
                <a:gd name="textAreaRight" fmla="*/ 275040 w 27468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e583d"/>
                </a:gs>
                <a:gs pos="100000">
                  <a:srgbClr val="9a7c57"/>
                </a:gs>
              </a:gsLst>
              <a:lin ang="16200000"/>
            </a:gradFill>
            <a:ln cap="rnd" w="9360">
              <a:solidFill>
                <a:srgbClr val="927c61"/>
              </a:solidFill>
              <a:miter/>
            </a:ln>
            <a:effectLst>
              <a:outerShdw dist="12600" dir="5400000" blurRad="0" rotWithShape="0">
                <a:srgbClr val="00000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Нашивка 21">
              <a:hlinkClick r:id="" action="ppaction://hlinkshowjump?jump=nextslide"/>
            </p:cNvPr>
            <p:cNvSpPr/>
            <p:nvPr/>
          </p:nvSpPr>
          <p:spPr>
            <a:xfrm>
              <a:off x="8369280" y="6357960"/>
              <a:ext cx="274680" cy="285840"/>
            </a:xfrm>
            <a:custGeom>
              <a:avLst/>
              <a:gdLst>
                <a:gd name="textAreaLeft" fmla="*/ 0 w 274680"/>
                <a:gd name="textAreaRight" fmla="*/ 275040 w 27468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e583d"/>
                </a:gs>
                <a:gs pos="100000">
                  <a:srgbClr val="9a7c57"/>
                </a:gs>
              </a:gsLst>
              <a:lin ang="16200000"/>
            </a:gradFill>
            <a:ln cap="rnd" w="9360">
              <a:solidFill>
                <a:srgbClr val="927c61"/>
              </a:solidFill>
              <a:miter/>
            </a:ln>
            <a:effectLst>
              <a:outerShdw dist="12600" dir="5400000" blurRad="0" rotWithShape="0">
                <a:srgbClr val="00000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0" name="Группа 22"/>
          <p:cNvGrpSpPr/>
          <p:nvPr/>
        </p:nvGrpSpPr>
        <p:grpSpPr>
          <a:xfrm>
            <a:off x="7643520" y="6357960"/>
            <a:ext cx="474480" cy="285840"/>
            <a:chOff x="7643520" y="6357960"/>
            <a:chExt cx="474480" cy="285840"/>
          </a:xfrm>
        </p:grpSpPr>
        <p:sp>
          <p:nvSpPr>
            <p:cNvPr id="271" name="Нашивка 23">
              <a:hlinkClick r:id="" action="ppaction://hlinkshowjump?jump=previousslide"/>
            </p:cNvPr>
            <p:cNvSpPr/>
            <p:nvPr/>
          </p:nvSpPr>
          <p:spPr>
            <a:xfrm rot="10800000">
              <a:off x="7843320" y="6357960"/>
              <a:ext cx="274680" cy="285840"/>
            </a:xfrm>
            <a:custGeom>
              <a:avLst/>
              <a:gdLst>
                <a:gd name="textAreaLeft" fmla="*/ 0 w 274680"/>
                <a:gd name="textAreaRight" fmla="*/ 275040 w 27468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536c71"/>
                </a:gs>
                <a:gs pos="100000">
                  <a:srgbClr val="75979e"/>
                </a:gs>
              </a:gsLst>
              <a:lin ang="5400000"/>
            </a:gradFill>
            <a:ln cap="rnd" w="9360">
              <a:solidFill>
                <a:srgbClr val="7c959a"/>
              </a:solidFill>
              <a:miter/>
            </a:ln>
            <a:effectLst>
              <a:outerShdw dist="12600" dir="5400000" blurRad="0" rotWithShape="0">
                <a:srgbClr val="00000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Нашивка 24">
              <a:hlinkClick r:id="" action="ppaction://hlinkshowjump?jump=previousslide"/>
            </p:cNvPr>
            <p:cNvSpPr/>
            <p:nvPr/>
          </p:nvSpPr>
          <p:spPr>
            <a:xfrm rot="10800000">
              <a:off x="7643520" y="6357960"/>
              <a:ext cx="274680" cy="285840"/>
            </a:xfrm>
            <a:custGeom>
              <a:avLst/>
              <a:gdLst>
                <a:gd name="textAreaLeft" fmla="*/ 0 w 274680"/>
                <a:gd name="textAreaRight" fmla="*/ 275040 w 27468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536c71"/>
                </a:gs>
                <a:gs pos="100000">
                  <a:srgbClr val="75979e"/>
                </a:gs>
              </a:gsLst>
              <a:lin ang="5400000"/>
            </a:gradFill>
            <a:ln cap="rnd" w="9360">
              <a:solidFill>
                <a:srgbClr val="7c959a"/>
              </a:solidFill>
              <a:miter/>
            </a:ln>
            <a:effectLst>
              <a:outerShdw dist="12600" dir="5400000" blurRad="0" rotWithShape="0">
                <a:srgbClr val="00000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3" name="Группа 25"/>
          <p:cNvGrpSpPr/>
          <p:nvPr/>
        </p:nvGrpSpPr>
        <p:grpSpPr>
          <a:xfrm>
            <a:off x="214200" y="6357960"/>
            <a:ext cx="428760" cy="285840"/>
            <a:chOff x="214200" y="6357960"/>
            <a:chExt cx="428760" cy="285840"/>
          </a:xfrm>
        </p:grpSpPr>
        <p:sp>
          <p:nvSpPr>
            <p:cNvPr id="274" name="Нашивка 26">
              <a:hlinkClick r:id="" action="ppaction://hlinkshowjump?jump=endshow"/>
            </p:cNvPr>
            <p:cNvSpPr/>
            <p:nvPr/>
          </p:nvSpPr>
          <p:spPr>
            <a:xfrm>
              <a:off x="214200" y="6357960"/>
              <a:ext cx="285840" cy="285840"/>
            </a:xfrm>
            <a:custGeom>
              <a:avLst/>
              <a:gdLst>
                <a:gd name="textAreaLeft" fmla="*/ 0 w 285840"/>
                <a:gd name="textAreaRight" fmla="*/ 286200 w 28584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b45f09"/>
                </a:gs>
                <a:gs pos="100000">
                  <a:srgbClr val="f88511"/>
                </a:gs>
              </a:gsLst>
              <a:lin ang="16200000"/>
            </a:gradFill>
            <a:ln cap="rnd" w="9360">
              <a:solidFill>
                <a:srgbClr val="db8631"/>
              </a:solidFill>
              <a:miter/>
            </a:ln>
            <a:effectLst>
              <a:outerShdw dist="12600" dir="5400000" blurRad="0" rotWithShape="0">
                <a:srgbClr val="00000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Нашивка 27">
              <a:hlinkClick r:id="" action="ppaction://hlinkshowjump?jump=endshow"/>
            </p:cNvPr>
            <p:cNvSpPr/>
            <p:nvPr/>
          </p:nvSpPr>
          <p:spPr>
            <a:xfrm rot="10800000">
              <a:off x="357120" y="6357960"/>
              <a:ext cx="285840" cy="285840"/>
            </a:xfrm>
            <a:custGeom>
              <a:avLst/>
              <a:gdLst>
                <a:gd name="textAreaLeft" fmla="*/ 0 w 285840"/>
                <a:gd name="textAreaRight" fmla="*/ 286200 w 28584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b45f09"/>
                </a:gs>
                <a:gs pos="100000">
                  <a:srgbClr val="f88511"/>
                </a:gs>
              </a:gsLst>
              <a:lin ang="5400000"/>
            </a:gradFill>
            <a:ln cap="rnd" w="9360">
              <a:solidFill>
                <a:srgbClr val="db8631"/>
              </a:solidFill>
              <a:miter/>
            </a:ln>
            <a:effectLst>
              <a:outerShdw dist="12600" dir="5400000" blurRad="0" rotWithShape="0">
                <a:srgbClr val="00000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Group 24"/>
          <p:cNvGrpSpPr/>
          <p:nvPr/>
        </p:nvGrpSpPr>
        <p:grpSpPr>
          <a:xfrm>
            <a:off x="179280" y="803160"/>
            <a:ext cx="8786520" cy="1191240"/>
            <a:chOff x="179280" y="803160"/>
            <a:chExt cx="8786520" cy="1191240"/>
          </a:xfrm>
        </p:grpSpPr>
        <p:grpSp>
          <p:nvGrpSpPr>
            <p:cNvPr id="277" name="Group 25"/>
            <p:cNvGrpSpPr/>
            <p:nvPr/>
          </p:nvGrpSpPr>
          <p:grpSpPr>
            <a:xfrm>
              <a:off x="213480" y="805680"/>
              <a:ext cx="8714160" cy="1079280"/>
              <a:chOff x="213480" y="805680"/>
              <a:chExt cx="8714160" cy="1079280"/>
            </a:xfrm>
          </p:grpSpPr>
          <p:sp>
            <p:nvSpPr>
              <p:cNvPr id="278" name="AutoShape 26"/>
              <p:cNvSpPr/>
              <p:nvPr/>
            </p:nvSpPr>
            <p:spPr>
              <a:xfrm>
                <a:off x="213480" y="805680"/>
                <a:ext cx="8714160" cy="107928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bf5cd"/>
                  </a:gs>
                  <a:gs pos="50000">
                    <a:srgbClr val="ffffff"/>
                  </a:gs>
                  <a:gs pos="100000">
                    <a:srgbClr val="dbf5cd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7dafc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Freeform 27"/>
              <p:cNvSpPr/>
              <p:nvPr/>
            </p:nvSpPr>
            <p:spPr>
              <a:xfrm>
                <a:off x="341640" y="865080"/>
                <a:ext cx="1150200" cy="538200"/>
              </a:xfrm>
              <a:custGeom>
                <a:avLst/>
                <a:gdLst>
                  <a:gd name="textAreaLeft" fmla="*/ 0 w 1150200"/>
                  <a:gd name="textAreaRight" fmla="*/ 1150560 w 1150200"/>
                  <a:gd name="textAreaTop" fmla="*/ 0 h 538200"/>
                  <a:gd name="textAreaBottom" fmla="*/ 538560 h 538200"/>
                </a:gdLst>
                <a:ahLst/>
                <a:rect l="textAreaLeft" t="textAreaTop" r="textAreaRight" b="textAreaBottom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0" name="Text Box 28"/>
            <p:cNvSpPr/>
            <p:nvPr/>
          </p:nvSpPr>
          <p:spPr>
            <a:xfrm>
              <a:off x="179280" y="803160"/>
              <a:ext cx="8786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Это основные направления деятельности государства, в которых выражается и конкретизируется его сущность и социальное значени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1" name="Rectangle 49"/>
          <p:cNvSpPr/>
          <p:nvPr/>
        </p:nvSpPr>
        <p:spPr>
          <a:xfrm>
            <a:off x="1332000" y="2349360"/>
            <a:ext cx="6624720" cy="459720"/>
          </a:xfrm>
          <a:prstGeom prst="rect">
            <a:avLst/>
          </a:prstGeom>
          <a:gradFill rotWithShape="0">
            <a:gsLst>
              <a:gs pos="0">
                <a:srgbClr val="5e765e"/>
              </a:gs>
              <a:gs pos="50000">
                <a:srgbClr val="ccffcc"/>
              </a:gs>
              <a:gs pos="100000">
                <a:srgbClr val="5e76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нутренние функции государ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34920" y="2997360"/>
            <a:ext cx="9001080" cy="1295280"/>
          </a:xfrm>
          <a:prstGeom prst="rect">
            <a:avLst/>
          </a:pr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ff66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3" name="Group 4"/>
          <p:cNvGrpSpPr/>
          <p:nvPr/>
        </p:nvGrpSpPr>
        <p:grpSpPr>
          <a:xfrm>
            <a:off x="38160" y="3068640"/>
            <a:ext cx="1098000" cy="1001520"/>
            <a:chOff x="38160" y="3068640"/>
            <a:chExt cx="1098000" cy="1001520"/>
          </a:xfrm>
        </p:grpSpPr>
        <p:grpSp>
          <p:nvGrpSpPr>
            <p:cNvPr id="284" name="Group 5"/>
            <p:cNvGrpSpPr/>
            <p:nvPr/>
          </p:nvGrpSpPr>
          <p:grpSpPr>
            <a:xfrm>
              <a:off x="38160" y="3068640"/>
              <a:ext cx="1098000" cy="1001520"/>
              <a:chOff x="38160" y="3068640"/>
              <a:chExt cx="1098000" cy="1001520"/>
            </a:xfrm>
          </p:grpSpPr>
          <p:sp>
            <p:nvSpPr>
              <p:cNvPr id="285" name="Oval 6"/>
              <p:cNvSpPr/>
              <p:nvPr/>
            </p:nvSpPr>
            <p:spPr>
              <a:xfrm>
                <a:off x="38160" y="3068640"/>
                <a:ext cx="1098000" cy="1001520"/>
              </a:xfrm>
              <a:prstGeom prst="ellipse">
                <a:avLst/>
              </a:prstGeom>
              <a:gradFill rotWithShape="0">
                <a:gsLst>
                  <a:gs pos="0">
                    <a:srgbClr val="ff9999"/>
                  </a:gs>
                  <a:gs pos="100000">
                    <a:srgbClr val="643c3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Freeform 7"/>
              <p:cNvSpPr/>
              <p:nvPr/>
            </p:nvSpPr>
            <p:spPr>
              <a:xfrm>
                <a:off x="163440" y="3085200"/>
                <a:ext cx="847080" cy="378000"/>
              </a:xfrm>
              <a:custGeom>
                <a:avLst/>
                <a:gdLst>
                  <a:gd name="textAreaLeft" fmla="*/ 0 w 847080"/>
                  <a:gd name="textAreaRight" fmla="*/ 847440 w 847080"/>
                  <a:gd name="textAreaTop" fmla="*/ 0 h 378000"/>
                  <a:gd name="textAreaBottom" fmla="*/ 378360 h 37800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7" name="Text Box 8"/>
            <p:cNvSpPr/>
            <p:nvPr/>
          </p:nvSpPr>
          <p:spPr>
            <a:xfrm>
              <a:off x="435960" y="31798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99"/>
                  </a:solidFill>
                  <a:latin typeface="Verdana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8" name="Text Box 9"/>
          <p:cNvSpPr/>
          <p:nvPr/>
        </p:nvSpPr>
        <p:spPr>
          <a:xfrm>
            <a:off x="1136520" y="3068640"/>
            <a:ext cx="7899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авовая функция</a:t>
            </a:r>
            <a:r>
              <a:rPr b="1" i="1" lang="ru-RU" sz="2000" spc="-1" strike="noStrike" u="sng">
                <a:solidFill>
                  <a:srgbClr val="3f3f3f"/>
                </a:solidFill>
                <a:uFillTx/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— обеспечение правопорядка, установление правовых норм, регулирующих общественные отношения и поведение граждан, охрана прав и свобод человека и граждани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17"/>
          <p:cNvSpPr/>
          <p:nvPr/>
        </p:nvSpPr>
        <p:spPr>
          <a:xfrm>
            <a:off x="38160" y="4365720"/>
            <a:ext cx="8997840" cy="1079280"/>
          </a:xfrm>
          <a:prstGeom prst="rect">
            <a:avLst/>
          </a:pr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99cc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0" name="Group 18"/>
          <p:cNvGrpSpPr/>
          <p:nvPr/>
        </p:nvGrpSpPr>
        <p:grpSpPr>
          <a:xfrm>
            <a:off x="65160" y="4365720"/>
            <a:ext cx="1098000" cy="1012320"/>
            <a:chOff x="65160" y="4365720"/>
            <a:chExt cx="1098000" cy="1012320"/>
          </a:xfrm>
        </p:grpSpPr>
        <p:grpSp>
          <p:nvGrpSpPr>
            <p:cNvPr id="291" name="Group 19"/>
            <p:cNvGrpSpPr/>
            <p:nvPr/>
          </p:nvGrpSpPr>
          <p:grpSpPr>
            <a:xfrm>
              <a:off x="65160" y="4365720"/>
              <a:ext cx="1098000" cy="1012320"/>
              <a:chOff x="65160" y="4365720"/>
              <a:chExt cx="1098000" cy="1012320"/>
            </a:xfrm>
          </p:grpSpPr>
          <p:sp>
            <p:nvSpPr>
              <p:cNvPr id="292" name="Oval 20"/>
              <p:cNvSpPr/>
              <p:nvPr/>
            </p:nvSpPr>
            <p:spPr>
              <a:xfrm>
                <a:off x="65160" y="4365720"/>
                <a:ext cx="1098000" cy="1012320"/>
              </a:xfrm>
              <a:prstGeom prst="ellips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2532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Freeform 21"/>
              <p:cNvSpPr/>
              <p:nvPr/>
            </p:nvSpPr>
            <p:spPr>
              <a:xfrm>
                <a:off x="190440" y="4382280"/>
                <a:ext cx="847080" cy="381960"/>
              </a:xfrm>
              <a:custGeom>
                <a:avLst/>
                <a:gdLst>
                  <a:gd name="textAreaLeft" fmla="*/ 0 w 847080"/>
                  <a:gd name="textAreaRight" fmla="*/ 847440 w 847080"/>
                  <a:gd name="textAreaTop" fmla="*/ 0 h 381960"/>
                  <a:gd name="textAreaBottom" fmla="*/ 382320 h 38196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4" name="Text Box 22"/>
            <p:cNvSpPr/>
            <p:nvPr/>
          </p:nvSpPr>
          <p:spPr>
            <a:xfrm>
              <a:off x="496800" y="44200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99"/>
                  </a:solidFill>
                  <a:latin typeface="Verdana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5" name="Text Box 23"/>
          <p:cNvSpPr/>
          <p:nvPr/>
        </p:nvSpPr>
        <p:spPr>
          <a:xfrm>
            <a:off x="1228680" y="4437000"/>
            <a:ext cx="7737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литическая функция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— обеспечение политической стабильности, выработка программно-стратегических целей и задач развития обще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24"/>
          <p:cNvSpPr/>
          <p:nvPr/>
        </p:nvSpPr>
        <p:spPr>
          <a:xfrm>
            <a:off x="73080" y="5630760"/>
            <a:ext cx="8997840" cy="1084320"/>
          </a:xfrm>
          <a:prstGeom prst="rect">
            <a:avLst/>
          </a:pr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7" name="Group 25"/>
          <p:cNvGrpSpPr/>
          <p:nvPr/>
        </p:nvGrpSpPr>
        <p:grpSpPr>
          <a:xfrm>
            <a:off x="58680" y="5661000"/>
            <a:ext cx="1104840" cy="1019160"/>
            <a:chOff x="58680" y="5661000"/>
            <a:chExt cx="1104840" cy="1019160"/>
          </a:xfrm>
        </p:grpSpPr>
        <p:sp>
          <p:nvSpPr>
            <p:cNvPr id="298" name="Oval 26"/>
            <p:cNvSpPr/>
            <p:nvPr/>
          </p:nvSpPr>
          <p:spPr>
            <a:xfrm>
              <a:off x="58680" y="5661000"/>
              <a:ext cx="1104840" cy="101916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3e2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Freeform 27"/>
            <p:cNvSpPr/>
            <p:nvPr/>
          </p:nvSpPr>
          <p:spPr>
            <a:xfrm>
              <a:off x="184680" y="5677920"/>
              <a:ext cx="852480" cy="38448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384480"/>
                <a:gd name="textAreaBottom" fmla="*/ 384840 h 3844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0" name="Text Box 28"/>
          <p:cNvSpPr/>
          <p:nvPr/>
        </p:nvSpPr>
        <p:spPr>
          <a:xfrm>
            <a:off x="634680" y="5805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29"/>
          <p:cNvSpPr/>
          <p:nvPr/>
        </p:nvSpPr>
        <p:spPr>
          <a:xfrm>
            <a:off x="1228680" y="5667480"/>
            <a:ext cx="7807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рганизаторская функция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— упорядочивание всей властной деятельности, осуществление контроля за исполнением законов, координация деятельности всех субъектов политической систем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02" name="Скругленная соединительная линия 9"/>
          <p:cNvCxnSpPr/>
          <p:nvPr/>
        </p:nvCxnSpPr>
        <p:spPr>
          <a:xfrm>
            <a:off x="-858240" y="500760"/>
            <a:ext cx="9986400" cy="4478760"/>
          </a:xfrm>
          <a:prstGeom prst="curvedConnector4">
            <a:avLst>
              <a:gd name="adj1" fmla="val 51198"/>
              <a:gd name="adj2" fmla="val 50000"/>
            </a:avLst>
          </a:prstGeom>
          <a:ln cap="rnd" w="3240">
            <a:solidFill>
              <a:srgbClr val="3f3f3f">
                <a:alpha val="59000"/>
              </a:srgbClr>
            </a:solidFill>
            <a:miter/>
          </a:ln>
        </p:spPr>
      </p:cxnSp>
      <p:cxnSp>
        <p:nvCxnSpPr>
          <p:cNvPr id="303" name="Скругленная соединительная линия 13"/>
          <p:cNvCxnSpPr/>
          <p:nvPr/>
        </p:nvCxnSpPr>
        <p:spPr>
          <a:xfrm>
            <a:off x="-723240" y="807120"/>
            <a:ext cx="9986400" cy="4478760"/>
          </a:xfrm>
          <a:prstGeom prst="curvedConnector4">
            <a:avLst>
              <a:gd name="adj1" fmla="val 51198"/>
              <a:gd name="adj2" fmla="val 50000"/>
            </a:avLst>
          </a:prstGeom>
          <a:ln cap="rnd" w="3240">
            <a:solidFill>
              <a:srgbClr val="3f3f3f">
                <a:alpha val="59000"/>
              </a:srgbClr>
            </a:solidFill>
            <a:miter/>
          </a:ln>
        </p:spPr>
      </p:cxnSp>
      <p:cxnSp>
        <p:nvCxnSpPr>
          <p:cNvPr id="304" name="Скругленная соединительная линия 14"/>
          <p:cNvCxnSpPr/>
          <p:nvPr/>
        </p:nvCxnSpPr>
        <p:spPr>
          <a:xfrm>
            <a:off x="-588240" y="1092960"/>
            <a:ext cx="9986400" cy="4478760"/>
          </a:xfrm>
          <a:prstGeom prst="curvedConnector4">
            <a:avLst>
              <a:gd name="adj1" fmla="val 51198"/>
              <a:gd name="adj2" fmla="val 50000"/>
            </a:avLst>
          </a:prstGeom>
          <a:ln cap="rnd" w="3240">
            <a:solidFill>
              <a:srgbClr val="3f3f3f">
                <a:alpha val="59000"/>
              </a:srgbClr>
            </a:solidFill>
            <a:miter/>
          </a:ln>
        </p:spPr>
      </p:cxnSp>
      <p:cxnSp>
        <p:nvCxnSpPr>
          <p:cNvPr id="305" name="Скругленная соединительная линия 15"/>
          <p:cNvCxnSpPr/>
          <p:nvPr/>
        </p:nvCxnSpPr>
        <p:spPr>
          <a:xfrm>
            <a:off x="-451800" y="1378440"/>
            <a:ext cx="9984960" cy="4478760"/>
          </a:xfrm>
          <a:prstGeom prst="curvedConnector4">
            <a:avLst>
              <a:gd name="adj1" fmla="val 51198"/>
              <a:gd name="adj2" fmla="val 50000"/>
            </a:avLst>
          </a:prstGeom>
          <a:ln cap="rnd" w="3240">
            <a:solidFill>
              <a:srgbClr val="3f3f3f">
                <a:alpha val="59000"/>
              </a:srgbClr>
            </a:solidFill>
            <a:miter/>
          </a:ln>
        </p:spPr>
      </p:cxnSp>
      <p:cxnSp>
        <p:nvCxnSpPr>
          <p:cNvPr id="306" name="Скругленная соединительная линия 16"/>
          <p:cNvCxnSpPr/>
          <p:nvPr/>
        </p:nvCxnSpPr>
        <p:spPr>
          <a:xfrm>
            <a:off x="-316800" y="1664280"/>
            <a:ext cx="9984960" cy="4478760"/>
          </a:xfrm>
          <a:prstGeom prst="curvedConnector4">
            <a:avLst>
              <a:gd name="adj1" fmla="val 51198"/>
              <a:gd name="adj2" fmla="val 50000"/>
            </a:avLst>
          </a:prstGeom>
          <a:ln cap="rnd" w="3240">
            <a:solidFill>
              <a:srgbClr val="3f3f3f">
                <a:alpha val="59000"/>
              </a:srgbClr>
            </a:solidFill>
            <a:miter/>
          </a:ln>
        </p:spPr>
      </p:cxnSp>
      <p:cxnSp>
        <p:nvCxnSpPr>
          <p:cNvPr id="307" name="Скругленная соединительная линия 17"/>
          <p:cNvCxnSpPr/>
          <p:nvPr/>
        </p:nvCxnSpPr>
        <p:spPr>
          <a:xfrm>
            <a:off x="-181800" y="1950480"/>
            <a:ext cx="9984600" cy="4478760"/>
          </a:xfrm>
          <a:prstGeom prst="curvedConnector4">
            <a:avLst>
              <a:gd name="adj1" fmla="val 51200"/>
              <a:gd name="adj2" fmla="val 50000"/>
            </a:avLst>
          </a:prstGeom>
          <a:ln cap="rnd" w="3240">
            <a:solidFill>
              <a:srgbClr val="3f3f3f">
                <a:alpha val="59000"/>
              </a:srgbClr>
            </a:solidFill>
            <a:miter/>
          </a:ln>
        </p:spPr>
      </p:cxnSp>
      <p:cxnSp>
        <p:nvCxnSpPr>
          <p:cNvPr id="308" name="Скругленная соединительная линия 18"/>
          <p:cNvCxnSpPr/>
          <p:nvPr/>
        </p:nvCxnSpPr>
        <p:spPr>
          <a:xfrm>
            <a:off x="-47160" y="2235960"/>
            <a:ext cx="9984960" cy="4478760"/>
          </a:xfrm>
          <a:prstGeom prst="curvedConnector4">
            <a:avLst>
              <a:gd name="adj1" fmla="val 51198"/>
              <a:gd name="adj2" fmla="val 50000"/>
            </a:avLst>
          </a:prstGeom>
          <a:ln cap="rnd" w="3240">
            <a:solidFill>
              <a:srgbClr val="3f3f3f">
                <a:alpha val="59000"/>
              </a:srgbClr>
            </a:solidFill>
            <a:miter/>
          </a:ln>
        </p:spPr>
      </p:cxnSp>
      <p:sp>
        <p:nvSpPr>
          <p:cNvPr id="309" name=""/>
          <p:cNvSpPr txBox="1"/>
          <p:nvPr/>
        </p:nvSpPr>
        <p:spPr>
          <a:xfrm>
            <a:off x="468360" y="0"/>
            <a:ext cx="8229960" cy="922680"/>
          </a:xfrm>
          <a:prstGeom prst="rect">
            <a:avLst/>
          </a:prstGeom>
          <a:gradFill rotWithShape="0">
            <a:gsLst>
              <a:gs pos="0">
                <a:srgbClr val="3f3f3f">
                  <a:alpha val="36078"/>
                </a:srgbClr>
              </a:gs>
              <a:gs pos="100000">
                <a:srgbClr val="b2afa1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990000"/>
                </a:solidFill>
                <a:uFillTx/>
                <a:latin typeface="Times New Roman"/>
                <a:ea typeface="Times New Roman"/>
              </a:rPr>
              <a:t>Функции государства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Rectangle 3"/>
          <p:cNvSpPr/>
          <p:nvPr/>
        </p:nvSpPr>
        <p:spPr>
          <a:xfrm>
            <a:off x="95400" y="758880"/>
            <a:ext cx="8942400" cy="1476360"/>
          </a:xfrm>
          <a:prstGeom prst="rect">
            <a:avLst/>
          </a:pr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ff66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1" name="Group 4"/>
          <p:cNvGrpSpPr/>
          <p:nvPr/>
        </p:nvGrpSpPr>
        <p:grpSpPr>
          <a:xfrm>
            <a:off x="111240" y="1066680"/>
            <a:ext cx="1098000" cy="1001520"/>
            <a:chOff x="111240" y="1066680"/>
            <a:chExt cx="1098000" cy="1001520"/>
          </a:xfrm>
        </p:grpSpPr>
        <p:grpSp>
          <p:nvGrpSpPr>
            <p:cNvPr id="312" name="Group 5"/>
            <p:cNvGrpSpPr/>
            <p:nvPr/>
          </p:nvGrpSpPr>
          <p:grpSpPr>
            <a:xfrm>
              <a:off x="111240" y="1066680"/>
              <a:ext cx="1098000" cy="1001520"/>
              <a:chOff x="111240" y="1066680"/>
              <a:chExt cx="1098000" cy="1001520"/>
            </a:xfrm>
          </p:grpSpPr>
          <p:sp>
            <p:nvSpPr>
              <p:cNvPr id="313" name="Oval 6"/>
              <p:cNvSpPr/>
              <p:nvPr/>
            </p:nvSpPr>
            <p:spPr>
              <a:xfrm>
                <a:off x="111240" y="1066680"/>
                <a:ext cx="1098000" cy="1001520"/>
              </a:xfrm>
              <a:prstGeom prst="ellipse">
                <a:avLst/>
              </a:prstGeom>
              <a:gradFill rotWithShape="0">
                <a:gsLst>
                  <a:gs pos="0">
                    <a:srgbClr val="ff9999"/>
                  </a:gs>
                  <a:gs pos="100000">
                    <a:srgbClr val="643c3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Freeform 7"/>
              <p:cNvSpPr/>
              <p:nvPr/>
            </p:nvSpPr>
            <p:spPr>
              <a:xfrm>
                <a:off x="236520" y="1083240"/>
                <a:ext cx="847080" cy="378000"/>
              </a:xfrm>
              <a:custGeom>
                <a:avLst/>
                <a:gdLst>
                  <a:gd name="textAreaLeft" fmla="*/ 0 w 847080"/>
                  <a:gd name="textAreaRight" fmla="*/ 847440 w 847080"/>
                  <a:gd name="textAreaTop" fmla="*/ 0 h 378000"/>
                  <a:gd name="textAreaBottom" fmla="*/ 378360 h 37800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5" name="Text Box 8"/>
            <p:cNvSpPr/>
            <p:nvPr/>
          </p:nvSpPr>
          <p:spPr>
            <a:xfrm>
              <a:off x="509040" y="11779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99"/>
                  </a:solidFill>
                  <a:latin typeface="Verdana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6" name="Text Box 9"/>
          <p:cNvSpPr/>
          <p:nvPr/>
        </p:nvSpPr>
        <p:spPr>
          <a:xfrm>
            <a:off x="1170000" y="835200"/>
            <a:ext cx="7827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Экономическая функция</a:t>
            </a: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— организация, координация и регулирование экономических процессов с помощью налоговой и кредитной политики, планирования, создания стимулов экономической активности, осуществления санкци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17"/>
          <p:cNvSpPr/>
          <p:nvPr/>
        </p:nvSpPr>
        <p:spPr>
          <a:xfrm>
            <a:off x="111240" y="2489040"/>
            <a:ext cx="8961480" cy="1079640"/>
          </a:xfrm>
          <a:prstGeom prst="rect">
            <a:avLst/>
          </a:pr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99cc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Экологическая функция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— гарантирование человеку здоров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                   </a:t>
            </a:r>
            <a:r>
              <a:rPr b="1" lang="ru-RU" sz="20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среды  обитания, установление режима природопользова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8" name="Group 18"/>
          <p:cNvGrpSpPr/>
          <p:nvPr/>
        </p:nvGrpSpPr>
        <p:grpSpPr>
          <a:xfrm>
            <a:off x="149400" y="2489040"/>
            <a:ext cx="1098000" cy="1012680"/>
            <a:chOff x="149400" y="2489040"/>
            <a:chExt cx="1098000" cy="1012680"/>
          </a:xfrm>
        </p:grpSpPr>
        <p:grpSp>
          <p:nvGrpSpPr>
            <p:cNvPr id="319" name="Group 19"/>
            <p:cNvGrpSpPr/>
            <p:nvPr/>
          </p:nvGrpSpPr>
          <p:grpSpPr>
            <a:xfrm>
              <a:off x="149400" y="2489040"/>
              <a:ext cx="1098000" cy="1012680"/>
              <a:chOff x="149400" y="2489040"/>
              <a:chExt cx="1098000" cy="1012680"/>
            </a:xfrm>
          </p:grpSpPr>
          <p:sp>
            <p:nvSpPr>
              <p:cNvPr id="320" name="Oval 20"/>
              <p:cNvSpPr/>
              <p:nvPr/>
            </p:nvSpPr>
            <p:spPr>
              <a:xfrm>
                <a:off x="149400" y="2489040"/>
                <a:ext cx="1098000" cy="1012680"/>
              </a:xfrm>
              <a:prstGeom prst="ellips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2532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Freeform 21"/>
              <p:cNvSpPr/>
              <p:nvPr/>
            </p:nvSpPr>
            <p:spPr>
              <a:xfrm>
                <a:off x="274680" y="2504520"/>
                <a:ext cx="847440" cy="381960"/>
              </a:xfrm>
              <a:custGeom>
                <a:avLst/>
                <a:gdLst>
                  <a:gd name="textAreaLeft" fmla="*/ 0 w 847440"/>
                  <a:gd name="textAreaRight" fmla="*/ 847800 w 847440"/>
                  <a:gd name="textAreaTop" fmla="*/ 0 h 381960"/>
                  <a:gd name="textAreaBottom" fmla="*/ 382320 h 38196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2" name="Text Box 22"/>
            <p:cNvSpPr/>
            <p:nvPr/>
          </p:nvSpPr>
          <p:spPr>
            <a:xfrm>
              <a:off x="581040" y="25434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99"/>
                  </a:solidFill>
                  <a:latin typeface="Verdana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3" name="Rectangle 24"/>
          <p:cNvSpPr/>
          <p:nvPr/>
        </p:nvSpPr>
        <p:spPr>
          <a:xfrm>
            <a:off x="95400" y="3789360"/>
            <a:ext cx="8977320" cy="2554200"/>
          </a:xfrm>
          <a:prstGeom prst="rect">
            <a:avLst/>
          </a:pr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4" name="Group 25"/>
          <p:cNvGrpSpPr/>
          <p:nvPr/>
        </p:nvGrpSpPr>
        <p:grpSpPr>
          <a:xfrm>
            <a:off x="149400" y="4168800"/>
            <a:ext cx="1103040" cy="1019160"/>
            <a:chOff x="149400" y="4168800"/>
            <a:chExt cx="1103040" cy="1019160"/>
          </a:xfrm>
        </p:grpSpPr>
        <p:sp>
          <p:nvSpPr>
            <p:cNvPr id="325" name="Oval 26"/>
            <p:cNvSpPr/>
            <p:nvPr/>
          </p:nvSpPr>
          <p:spPr>
            <a:xfrm>
              <a:off x="149400" y="4168800"/>
              <a:ext cx="1103040" cy="101916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3e2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Freeform 27"/>
            <p:cNvSpPr/>
            <p:nvPr/>
          </p:nvSpPr>
          <p:spPr>
            <a:xfrm>
              <a:off x="275400" y="4185720"/>
              <a:ext cx="851040" cy="384480"/>
            </a:xfrm>
            <a:custGeom>
              <a:avLst/>
              <a:gdLst>
                <a:gd name="textAreaLeft" fmla="*/ 0 w 851040"/>
                <a:gd name="textAreaRight" fmla="*/ 851400 w 851040"/>
                <a:gd name="textAreaTop" fmla="*/ 0 h 384480"/>
                <a:gd name="textAreaBottom" fmla="*/ 384840 h 3844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Text Box 28"/>
          <p:cNvSpPr/>
          <p:nvPr/>
        </p:nvSpPr>
        <p:spPr>
          <a:xfrm>
            <a:off x="528120" y="42465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29"/>
          <p:cNvSpPr/>
          <p:nvPr/>
        </p:nvSpPr>
        <p:spPr>
          <a:xfrm>
            <a:off x="1332000" y="3789360"/>
            <a:ext cx="7812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оциальная функция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— обеспечение солидарных отношений в обществе, сотрудничества различных слоёв общества, реализации принципа социальной справедливости, защита интересов тех категорий граждан, которые в силу объективных причин не могут самостоятельно обеспечить достойный уровень жизни (инвалиды, пенсионеры, матери, дети), поддержка жилищного строительства, здравоохранения, системы общественного транспорт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29" name="Скругленная соединительная линия 9"/>
          <p:cNvCxnSpPr/>
          <p:nvPr/>
        </p:nvCxnSpPr>
        <p:spPr>
          <a:xfrm>
            <a:off x="-858240" y="500760"/>
            <a:ext cx="9986400" cy="4478760"/>
          </a:xfrm>
          <a:prstGeom prst="curvedConnector4">
            <a:avLst>
              <a:gd name="adj1" fmla="val 51198"/>
              <a:gd name="adj2" fmla="val 50000"/>
            </a:avLst>
          </a:prstGeom>
          <a:ln cap="rnd" w="3240">
            <a:solidFill>
              <a:srgbClr val="3f3f3f">
                <a:alpha val="59000"/>
              </a:srgbClr>
            </a:solidFill>
            <a:miter/>
          </a:ln>
        </p:spPr>
      </p:cxnSp>
      <p:cxnSp>
        <p:nvCxnSpPr>
          <p:cNvPr id="330" name="Скругленная соединительная линия 13"/>
          <p:cNvCxnSpPr/>
          <p:nvPr/>
        </p:nvCxnSpPr>
        <p:spPr>
          <a:xfrm>
            <a:off x="-723240" y="807120"/>
            <a:ext cx="9986400" cy="4478760"/>
          </a:xfrm>
          <a:prstGeom prst="curvedConnector4">
            <a:avLst>
              <a:gd name="adj1" fmla="val 51198"/>
              <a:gd name="adj2" fmla="val 50000"/>
            </a:avLst>
          </a:prstGeom>
          <a:ln cap="rnd" w="3240">
            <a:solidFill>
              <a:srgbClr val="3f3f3f">
                <a:alpha val="59000"/>
              </a:srgbClr>
            </a:solidFill>
            <a:miter/>
          </a:ln>
        </p:spPr>
      </p:cxnSp>
      <p:cxnSp>
        <p:nvCxnSpPr>
          <p:cNvPr id="331" name="Скругленная соединительная линия 14"/>
          <p:cNvCxnSpPr/>
          <p:nvPr/>
        </p:nvCxnSpPr>
        <p:spPr>
          <a:xfrm>
            <a:off x="-588240" y="1092960"/>
            <a:ext cx="9986400" cy="4478760"/>
          </a:xfrm>
          <a:prstGeom prst="curvedConnector4">
            <a:avLst>
              <a:gd name="adj1" fmla="val 51198"/>
              <a:gd name="adj2" fmla="val 50000"/>
            </a:avLst>
          </a:prstGeom>
          <a:ln cap="rnd" w="3240">
            <a:solidFill>
              <a:srgbClr val="3f3f3f">
                <a:alpha val="59000"/>
              </a:srgbClr>
            </a:solidFill>
            <a:miter/>
          </a:ln>
        </p:spPr>
      </p:cxnSp>
      <p:cxnSp>
        <p:nvCxnSpPr>
          <p:cNvPr id="332" name="Скругленная соединительная линия 15"/>
          <p:cNvCxnSpPr/>
          <p:nvPr/>
        </p:nvCxnSpPr>
        <p:spPr>
          <a:xfrm>
            <a:off x="-451800" y="1378440"/>
            <a:ext cx="9984960" cy="4478760"/>
          </a:xfrm>
          <a:prstGeom prst="curvedConnector4">
            <a:avLst>
              <a:gd name="adj1" fmla="val 51198"/>
              <a:gd name="adj2" fmla="val 50000"/>
            </a:avLst>
          </a:prstGeom>
          <a:ln cap="rnd" w="3240">
            <a:solidFill>
              <a:srgbClr val="3f3f3f">
                <a:alpha val="59000"/>
              </a:srgbClr>
            </a:solidFill>
            <a:miter/>
          </a:ln>
        </p:spPr>
      </p:cxnSp>
      <p:cxnSp>
        <p:nvCxnSpPr>
          <p:cNvPr id="333" name="Скругленная соединительная линия 16"/>
          <p:cNvCxnSpPr/>
          <p:nvPr/>
        </p:nvCxnSpPr>
        <p:spPr>
          <a:xfrm>
            <a:off x="-316800" y="1664280"/>
            <a:ext cx="9984960" cy="4478760"/>
          </a:xfrm>
          <a:prstGeom prst="curvedConnector4">
            <a:avLst>
              <a:gd name="adj1" fmla="val 51198"/>
              <a:gd name="adj2" fmla="val 50000"/>
            </a:avLst>
          </a:prstGeom>
          <a:ln cap="rnd" w="3240">
            <a:solidFill>
              <a:srgbClr val="3f3f3f">
                <a:alpha val="59000"/>
              </a:srgbClr>
            </a:solidFill>
            <a:miter/>
          </a:ln>
        </p:spPr>
      </p:cxnSp>
      <p:cxnSp>
        <p:nvCxnSpPr>
          <p:cNvPr id="334" name="Скругленная соединительная линия 17"/>
          <p:cNvCxnSpPr/>
          <p:nvPr/>
        </p:nvCxnSpPr>
        <p:spPr>
          <a:xfrm>
            <a:off x="-181800" y="1950480"/>
            <a:ext cx="9984600" cy="4478760"/>
          </a:xfrm>
          <a:prstGeom prst="curvedConnector4">
            <a:avLst>
              <a:gd name="adj1" fmla="val 51200"/>
              <a:gd name="adj2" fmla="val 50000"/>
            </a:avLst>
          </a:prstGeom>
          <a:ln cap="rnd" w="3240">
            <a:solidFill>
              <a:srgbClr val="3f3f3f">
                <a:alpha val="59000"/>
              </a:srgbClr>
            </a:solidFill>
            <a:miter/>
          </a:ln>
        </p:spPr>
      </p:cxnSp>
      <p:cxnSp>
        <p:nvCxnSpPr>
          <p:cNvPr id="335" name="Скругленная соединительная линия 18"/>
          <p:cNvCxnSpPr/>
          <p:nvPr/>
        </p:nvCxnSpPr>
        <p:spPr>
          <a:xfrm>
            <a:off x="-47160" y="2235960"/>
            <a:ext cx="9984960" cy="4478760"/>
          </a:xfrm>
          <a:prstGeom prst="curvedConnector4">
            <a:avLst>
              <a:gd name="adj1" fmla="val 51198"/>
              <a:gd name="adj2" fmla="val 50000"/>
            </a:avLst>
          </a:prstGeom>
          <a:ln cap="rnd" w="3240">
            <a:solidFill>
              <a:srgbClr val="3f3f3f">
                <a:alpha val="59000"/>
              </a:srgbClr>
            </a:solidFill>
            <a:miter/>
          </a:ln>
        </p:spPr>
      </p:cxnSp>
      <p:sp>
        <p:nvSpPr>
          <p:cNvPr id="336" name=""/>
          <p:cNvSpPr txBox="1"/>
          <p:nvPr/>
        </p:nvSpPr>
        <p:spPr>
          <a:xfrm>
            <a:off x="468360" y="0"/>
            <a:ext cx="8229960" cy="922680"/>
          </a:xfrm>
          <a:prstGeom prst="rect">
            <a:avLst/>
          </a:prstGeom>
          <a:gradFill rotWithShape="0">
            <a:gsLst>
              <a:gs pos="0">
                <a:srgbClr val="3f3f3f">
                  <a:alpha val="36078"/>
                </a:srgbClr>
              </a:gs>
              <a:gs pos="100000">
                <a:srgbClr val="b2afa1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Функции государства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7" name="Rectangle 3"/>
          <p:cNvSpPr/>
          <p:nvPr/>
        </p:nvSpPr>
        <p:spPr>
          <a:xfrm>
            <a:off x="101520" y="852480"/>
            <a:ext cx="8934480" cy="1709640"/>
          </a:xfrm>
          <a:prstGeom prst="rect">
            <a:avLst/>
          </a:pr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ff66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" name="Group 4"/>
          <p:cNvGrpSpPr/>
          <p:nvPr/>
        </p:nvGrpSpPr>
        <p:grpSpPr>
          <a:xfrm>
            <a:off x="109440" y="1092240"/>
            <a:ext cx="1098360" cy="1001160"/>
            <a:chOff x="109440" y="1092240"/>
            <a:chExt cx="1098360" cy="1001160"/>
          </a:xfrm>
        </p:grpSpPr>
        <p:grpSp>
          <p:nvGrpSpPr>
            <p:cNvPr id="339" name="Group 5"/>
            <p:cNvGrpSpPr/>
            <p:nvPr/>
          </p:nvGrpSpPr>
          <p:grpSpPr>
            <a:xfrm>
              <a:off x="109440" y="1092240"/>
              <a:ext cx="1098360" cy="1001160"/>
              <a:chOff x="109440" y="1092240"/>
              <a:chExt cx="1098360" cy="1001160"/>
            </a:xfrm>
          </p:grpSpPr>
          <p:sp>
            <p:nvSpPr>
              <p:cNvPr id="340" name="Oval 6"/>
              <p:cNvSpPr/>
              <p:nvPr/>
            </p:nvSpPr>
            <p:spPr>
              <a:xfrm>
                <a:off x="109440" y="1092240"/>
                <a:ext cx="1098360" cy="1001160"/>
              </a:xfrm>
              <a:prstGeom prst="ellipse">
                <a:avLst/>
              </a:prstGeom>
              <a:gradFill rotWithShape="0">
                <a:gsLst>
                  <a:gs pos="0">
                    <a:srgbClr val="ff9999"/>
                  </a:gs>
                  <a:gs pos="100000">
                    <a:srgbClr val="643c3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Freeform 7"/>
              <p:cNvSpPr/>
              <p:nvPr/>
            </p:nvSpPr>
            <p:spPr>
              <a:xfrm>
                <a:off x="234720" y="1108800"/>
                <a:ext cx="847440" cy="377640"/>
              </a:xfrm>
              <a:custGeom>
                <a:avLst/>
                <a:gdLst>
                  <a:gd name="textAreaLeft" fmla="*/ 0 w 847440"/>
                  <a:gd name="textAreaRight" fmla="*/ 847800 w 84744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2" name="Text Box 8"/>
            <p:cNvSpPr/>
            <p:nvPr/>
          </p:nvSpPr>
          <p:spPr>
            <a:xfrm>
              <a:off x="507240" y="1203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99"/>
                  </a:solidFill>
                  <a:latin typeface="Verdana"/>
                </a:rPr>
                <a:t>7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3" name="Text Box 9"/>
          <p:cNvSpPr/>
          <p:nvPr/>
        </p:nvSpPr>
        <p:spPr>
          <a:xfrm>
            <a:off x="1224000" y="932040"/>
            <a:ext cx="781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Культурная функция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— создание условий для удовлетворения культурных запросов людей, формирования высокой духовности, гражданственности, гарантирование открытого информационного пространства, формирование государственной культурной полит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17"/>
          <p:cNvSpPr/>
          <p:nvPr/>
        </p:nvSpPr>
        <p:spPr>
          <a:xfrm>
            <a:off x="101520" y="2781360"/>
            <a:ext cx="8934480" cy="1369800"/>
          </a:xfrm>
          <a:prstGeom prst="rect">
            <a:avLst/>
          </a:pr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99cc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Group 18"/>
          <p:cNvGrpSpPr/>
          <p:nvPr/>
        </p:nvGrpSpPr>
        <p:grpSpPr>
          <a:xfrm>
            <a:off x="125280" y="2781360"/>
            <a:ext cx="1098360" cy="1012320"/>
            <a:chOff x="125280" y="2781360"/>
            <a:chExt cx="1098360" cy="1012320"/>
          </a:xfrm>
        </p:grpSpPr>
        <p:grpSp>
          <p:nvGrpSpPr>
            <p:cNvPr id="346" name="Group 19"/>
            <p:cNvGrpSpPr/>
            <p:nvPr/>
          </p:nvGrpSpPr>
          <p:grpSpPr>
            <a:xfrm>
              <a:off x="125280" y="2781360"/>
              <a:ext cx="1098360" cy="1012320"/>
              <a:chOff x="125280" y="2781360"/>
              <a:chExt cx="1098360" cy="1012320"/>
            </a:xfrm>
          </p:grpSpPr>
          <p:sp>
            <p:nvSpPr>
              <p:cNvPr id="347" name="Oval 20"/>
              <p:cNvSpPr/>
              <p:nvPr/>
            </p:nvSpPr>
            <p:spPr>
              <a:xfrm>
                <a:off x="125280" y="2781360"/>
                <a:ext cx="1098360" cy="1012320"/>
              </a:xfrm>
              <a:prstGeom prst="ellips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2532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Freeform 21"/>
              <p:cNvSpPr/>
              <p:nvPr/>
            </p:nvSpPr>
            <p:spPr>
              <a:xfrm>
                <a:off x="250560" y="2797920"/>
                <a:ext cx="847440" cy="381960"/>
              </a:xfrm>
              <a:custGeom>
                <a:avLst/>
                <a:gdLst>
                  <a:gd name="textAreaLeft" fmla="*/ 0 w 847440"/>
                  <a:gd name="textAreaRight" fmla="*/ 847800 w 847440"/>
                  <a:gd name="textAreaTop" fmla="*/ 0 h 381960"/>
                  <a:gd name="textAreaBottom" fmla="*/ 382320 h 38196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9" name="Text Box 22"/>
            <p:cNvSpPr/>
            <p:nvPr/>
          </p:nvSpPr>
          <p:spPr>
            <a:xfrm>
              <a:off x="556920" y="2835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99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0" name="Text Box 23"/>
          <p:cNvSpPr/>
          <p:nvPr/>
        </p:nvSpPr>
        <p:spPr>
          <a:xfrm>
            <a:off x="1224000" y="2827440"/>
            <a:ext cx="781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бразовательная функция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— деятельность по обеспечению демократизации образования, его непрерывности и качественности, предоставлению людям равных возможностей получения образова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24"/>
          <p:cNvSpPr/>
          <p:nvPr/>
        </p:nvSpPr>
        <p:spPr>
          <a:xfrm>
            <a:off x="101520" y="4684680"/>
            <a:ext cx="8934480" cy="1152720"/>
          </a:xfrm>
          <a:prstGeom prst="rect">
            <a:avLst/>
          </a:pr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2" name="Group 25"/>
          <p:cNvGrpSpPr/>
          <p:nvPr/>
        </p:nvGrpSpPr>
        <p:grpSpPr>
          <a:xfrm>
            <a:off x="182520" y="4751280"/>
            <a:ext cx="1103400" cy="1019160"/>
            <a:chOff x="182520" y="4751280"/>
            <a:chExt cx="1103400" cy="1019160"/>
          </a:xfrm>
        </p:grpSpPr>
        <p:sp>
          <p:nvSpPr>
            <p:cNvPr id="353" name="Oval 26"/>
            <p:cNvSpPr/>
            <p:nvPr/>
          </p:nvSpPr>
          <p:spPr>
            <a:xfrm>
              <a:off x="182520" y="4751280"/>
              <a:ext cx="1103400" cy="101916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3e2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Freeform 27"/>
            <p:cNvSpPr/>
            <p:nvPr/>
          </p:nvSpPr>
          <p:spPr>
            <a:xfrm>
              <a:off x="308520" y="4768200"/>
              <a:ext cx="851040" cy="384480"/>
            </a:xfrm>
            <a:custGeom>
              <a:avLst/>
              <a:gdLst>
                <a:gd name="textAreaLeft" fmla="*/ 0 w 851040"/>
                <a:gd name="textAreaRight" fmla="*/ 851400 w 851040"/>
                <a:gd name="textAreaTop" fmla="*/ 0 h 384480"/>
                <a:gd name="textAreaBottom" fmla="*/ 384840 h 3844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5" name="Text Box 28"/>
          <p:cNvSpPr/>
          <p:nvPr/>
        </p:nvSpPr>
        <p:spPr>
          <a:xfrm>
            <a:off x="523440" y="4684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 Box 29"/>
          <p:cNvSpPr/>
          <p:nvPr/>
        </p:nvSpPr>
        <p:spPr>
          <a:xfrm>
            <a:off x="1285920" y="4991040"/>
            <a:ext cx="775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Идеологическая функция</a:t>
            </a:r>
            <a:r>
              <a:rPr b="1" i="1" lang="ru-RU" sz="2000" spc="-1" strike="noStrike" u="sng">
                <a:solidFill>
                  <a:srgbClr val="3f3f3f"/>
                </a:solidFill>
                <a:uFillTx/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— воспитание членов общества, формирование гражданских и патриотических ценносте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57" name="Скругленная соединительная линия 9"/>
          <p:cNvCxnSpPr/>
          <p:nvPr/>
        </p:nvCxnSpPr>
        <p:spPr>
          <a:xfrm>
            <a:off x="-858240" y="500760"/>
            <a:ext cx="9986400" cy="4478760"/>
          </a:xfrm>
          <a:prstGeom prst="curvedConnector4">
            <a:avLst>
              <a:gd name="adj1" fmla="val 51198"/>
              <a:gd name="adj2" fmla="val 50000"/>
            </a:avLst>
          </a:prstGeom>
          <a:ln cap="rnd" w="3240">
            <a:solidFill>
              <a:srgbClr val="3f3f3f">
                <a:alpha val="59000"/>
              </a:srgbClr>
            </a:solidFill>
            <a:miter/>
          </a:ln>
        </p:spPr>
      </p:cxnSp>
      <p:cxnSp>
        <p:nvCxnSpPr>
          <p:cNvPr id="358" name="Скругленная соединительная линия 13"/>
          <p:cNvCxnSpPr/>
          <p:nvPr/>
        </p:nvCxnSpPr>
        <p:spPr>
          <a:xfrm>
            <a:off x="-723240" y="807120"/>
            <a:ext cx="9986400" cy="4478760"/>
          </a:xfrm>
          <a:prstGeom prst="curvedConnector4">
            <a:avLst>
              <a:gd name="adj1" fmla="val 51198"/>
              <a:gd name="adj2" fmla="val 50000"/>
            </a:avLst>
          </a:prstGeom>
          <a:ln cap="rnd" w="3240">
            <a:solidFill>
              <a:srgbClr val="3f3f3f">
                <a:alpha val="59000"/>
              </a:srgbClr>
            </a:solidFill>
            <a:miter/>
          </a:ln>
        </p:spPr>
      </p:cxnSp>
      <p:cxnSp>
        <p:nvCxnSpPr>
          <p:cNvPr id="359" name="Скругленная соединительная линия 14"/>
          <p:cNvCxnSpPr/>
          <p:nvPr/>
        </p:nvCxnSpPr>
        <p:spPr>
          <a:xfrm>
            <a:off x="-588240" y="1092960"/>
            <a:ext cx="9986400" cy="4478760"/>
          </a:xfrm>
          <a:prstGeom prst="curvedConnector4">
            <a:avLst>
              <a:gd name="adj1" fmla="val 51198"/>
              <a:gd name="adj2" fmla="val 50000"/>
            </a:avLst>
          </a:prstGeom>
          <a:ln cap="rnd" w="3240">
            <a:solidFill>
              <a:srgbClr val="3f3f3f">
                <a:alpha val="59000"/>
              </a:srgbClr>
            </a:solidFill>
            <a:miter/>
          </a:ln>
        </p:spPr>
      </p:cxnSp>
      <p:cxnSp>
        <p:nvCxnSpPr>
          <p:cNvPr id="360" name="Скругленная соединительная линия 15"/>
          <p:cNvCxnSpPr/>
          <p:nvPr/>
        </p:nvCxnSpPr>
        <p:spPr>
          <a:xfrm>
            <a:off x="-451800" y="1378440"/>
            <a:ext cx="9984960" cy="4478760"/>
          </a:xfrm>
          <a:prstGeom prst="curvedConnector4">
            <a:avLst>
              <a:gd name="adj1" fmla="val 51198"/>
              <a:gd name="adj2" fmla="val 50000"/>
            </a:avLst>
          </a:prstGeom>
          <a:ln cap="rnd" w="3240">
            <a:solidFill>
              <a:srgbClr val="3f3f3f">
                <a:alpha val="59000"/>
              </a:srgbClr>
            </a:solidFill>
            <a:miter/>
          </a:ln>
        </p:spPr>
      </p:cxnSp>
      <p:cxnSp>
        <p:nvCxnSpPr>
          <p:cNvPr id="361" name="Скругленная соединительная линия 16"/>
          <p:cNvCxnSpPr/>
          <p:nvPr/>
        </p:nvCxnSpPr>
        <p:spPr>
          <a:xfrm>
            <a:off x="-316800" y="1664280"/>
            <a:ext cx="9984960" cy="4478760"/>
          </a:xfrm>
          <a:prstGeom prst="curvedConnector4">
            <a:avLst>
              <a:gd name="adj1" fmla="val 51198"/>
              <a:gd name="adj2" fmla="val 50000"/>
            </a:avLst>
          </a:prstGeom>
          <a:ln cap="rnd" w="3240">
            <a:solidFill>
              <a:srgbClr val="3f3f3f">
                <a:alpha val="59000"/>
              </a:srgbClr>
            </a:solidFill>
            <a:miter/>
          </a:ln>
        </p:spPr>
      </p:cxnSp>
      <p:cxnSp>
        <p:nvCxnSpPr>
          <p:cNvPr id="362" name="Скругленная соединительная линия 17"/>
          <p:cNvCxnSpPr/>
          <p:nvPr/>
        </p:nvCxnSpPr>
        <p:spPr>
          <a:xfrm>
            <a:off x="-181800" y="1950480"/>
            <a:ext cx="9984600" cy="4478760"/>
          </a:xfrm>
          <a:prstGeom prst="curvedConnector4">
            <a:avLst>
              <a:gd name="adj1" fmla="val 51200"/>
              <a:gd name="adj2" fmla="val 50000"/>
            </a:avLst>
          </a:prstGeom>
          <a:ln cap="rnd" w="3240">
            <a:solidFill>
              <a:srgbClr val="3f3f3f">
                <a:alpha val="59000"/>
              </a:srgbClr>
            </a:solidFill>
            <a:miter/>
          </a:ln>
        </p:spPr>
      </p:cxnSp>
      <p:cxnSp>
        <p:nvCxnSpPr>
          <p:cNvPr id="363" name="Скругленная соединительная линия 18"/>
          <p:cNvCxnSpPr/>
          <p:nvPr/>
        </p:nvCxnSpPr>
        <p:spPr>
          <a:xfrm>
            <a:off x="-47160" y="2235960"/>
            <a:ext cx="9984960" cy="4478760"/>
          </a:xfrm>
          <a:prstGeom prst="curvedConnector4">
            <a:avLst>
              <a:gd name="adj1" fmla="val 51198"/>
              <a:gd name="adj2" fmla="val 50000"/>
            </a:avLst>
          </a:prstGeom>
          <a:ln cap="rnd" w="3240">
            <a:solidFill>
              <a:srgbClr val="3f3f3f">
                <a:alpha val="59000"/>
              </a:srgbClr>
            </a:solidFill>
            <a:miter/>
          </a:ln>
        </p:spPr>
      </p:cxnSp>
      <p:sp>
        <p:nvSpPr>
          <p:cNvPr id="364" name=""/>
          <p:cNvSpPr txBox="1"/>
          <p:nvPr/>
        </p:nvSpPr>
        <p:spPr>
          <a:xfrm>
            <a:off x="468360" y="0"/>
            <a:ext cx="8229960" cy="922680"/>
          </a:xfrm>
          <a:prstGeom prst="rect">
            <a:avLst/>
          </a:prstGeom>
          <a:gradFill rotWithShape="0">
            <a:gsLst>
              <a:gs pos="0">
                <a:srgbClr val="3f3f3f">
                  <a:alpha val="36078"/>
                </a:srgbClr>
              </a:gs>
              <a:gs pos="100000">
                <a:srgbClr val="b2afa1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Функции государства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Rectangle 24"/>
          <p:cNvSpPr/>
          <p:nvPr/>
        </p:nvSpPr>
        <p:spPr>
          <a:xfrm>
            <a:off x="1403280" y="1125360"/>
            <a:ext cx="6624720" cy="459720"/>
          </a:xfrm>
          <a:prstGeom prst="rect">
            <a:avLst/>
          </a:prstGeom>
          <a:gradFill rotWithShape="0">
            <a:gsLst>
              <a:gs pos="0">
                <a:srgbClr val="5e765e"/>
              </a:gs>
              <a:gs pos="50000">
                <a:srgbClr val="ccffcc"/>
              </a:gs>
              <a:gs pos="100000">
                <a:srgbClr val="5e76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нешние функции государ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108000" y="1773360"/>
            <a:ext cx="8964720" cy="1295280"/>
          </a:xfrm>
          <a:prstGeom prst="rect">
            <a:avLst/>
          </a:pr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ff66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7" name="Group 4"/>
          <p:cNvGrpSpPr/>
          <p:nvPr/>
        </p:nvGrpSpPr>
        <p:grpSpPr>
          <a:xfrm>
            <a:off x="127080" y="1874880"/>
            <a:ext cx="1098000" cy="1001160"/>
            <a:chOff x="127080" y="1874880"/>
            <a:chExt cx="1098000" cy="1001160"/>
          </a:xfrm>
        </p:grpSpPr>
        <p:grpSp>
          <p:nvGrpSpPr>
            <p:cNvPr id="368" name="Group 5"/>
            <p:cNvGrpSpPr/>
            <p:nvPr/>
          </p:nvGrpSpPr>
          <p:grpSpPr>
            <a:xfrm>
              <a:off x="127080" y="1874880"/>
              <a:ext cx="1098000" cy="1001160"/>
              <a:chOff x="127080" y="1874880"/>
              <a:chExt cx="1098000" cy="1001160"/>
            </a:xfrm>
          </p:grpSpPr>
          <p:sp>
            <p:nvSpPr>
              <p:cNvPr id="369" name="Oval 6"/>
              <p:cNvSpPr/>
              <p:nvPr/>
            </p:nvSpPr>
            <p:spPr>
              <a:xfrm>
                <a:off x="127080" y="1874880"/>
                <a:ext cx="1098000" cy="1001160"/>
              </a:xfrm>
              <a:prstGeom prst="ellipse">
                <a:avLst/>
              </a:prstGeom>
              <a:gradFill rotWithShape="0">
                <a:gsLst>
                  <a:gs pos="0">
                    <a:srgbClr val="ff9999"/>
                  </a:gs>
                  <a:gs pos="100000">
                    <a:srgbClr val="643c3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Freeform 7"/>
              <p:cNvSpPr/>
              <p:nvPr/>
            </p:nvSpPr>
            <p:spPr>
              <a:xfrm>
                <a:off x="252360" y="1891440"/>
                <a:ext cx="847080" cy="377640"/>
              </a:xfrm>
              <a:custGeom>
                <a:avLst/>
                <a:gdLst>
                  <a:gd name="textAreaLeft" fmla="*/ 0 w 847080"/>
                  <a:gd name="textAreaRight" fmla="*/ 847440 w 8470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1" name="Text Box 8"/>
            <p:cNvSpPr/>
            <p:nvPr/>
          </p:nvSpPr>
          <p:spPr>
            <a:xfrm>
              <a:off x="524880" y="19861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99"/>
                  </a:solidFill>
                  <a:latin typeface="Verdana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2" name="Text Box 9"/>
          <p:cNvSpPr/>
          <p:nvPr/>
        </p:nvSpPr>
        <p:spPr>
          <a:xfrm>
            <a:off x="1230480" y="1874880"/>
            <a:ext cx="7842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беспечение национальной безопасности</a:t>
            </a: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— поддержание достаточного уровня обороноспособности общества, защита территориальной целостности, суверенитета государств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17"/>
          <p:cNvSpPr/>
          <p:nvPr/>
        </p:nvSpPr>
        <p:spPr>
          <a:xfrm>
            <a:off x="108000" y="3141720"/>
            <a:ext cx="8964720" cy="1439640"/>
          </a:xfrm>
          <a:prstGeom prst="rect">
            <a:avLst/>
          </a:pr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99cc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Group 18"/>
          <p:cNvGrpSpPr/>
          <p:nvPr/>
        </p:nvGrpSpPr>
        <p:grpSpPr>
          <a:xfrm>
            <a:off x="93600" y="3294000"/>
            <a:ext cx="1098360" cy="1012680"/>
            <a:chOff x="93600" y="3294000"/>
            <a:chExt cx="1098360" cy="1012680"/>
          </a:xfrm>
        </p:grpSpPr>
        <p:grpSp>
          <p:nvGrpSpPr>
            <p:cNvPr id="375" name="Group 19"/>
            <p:cNvGrpSpPr/>
            <p:nvPr/>
          </p:nvGrpSpPr>
          <p:grpSpPr>
            <a:xfrm>
              <a:off x="93600" y="3294000"/>
              <a:ext cx="1098360" cy="1012680"/>
              <a:chOff x="93600" y="3294000"/>
              <a:chExt cx="1098360" cy="1012680"/>
            </a:xfrm>
          </p:grpSpPr>
          <p:sp>
            <p:nvSpPr>
              <p:cNvPr id="376" name="Oval 20"/>
              <p:cNvSpPr/>
              <p:nvPr/>
            </p:nvSpPr>
            <p:spPr>
              <a:xfrm>
                <a:off x="93600" y="3294000"/>
                <a:ext cx="1098360" cy="1012680"/>
              </a:xfrm>
              <a:prstGeom prst="ellips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2532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Freeform 21"/>
              <p:cNvSpPr/>
              <p:nvPr/>
            </p:nvSpPr>
            <p:spPr>
              <a:xfrm>
                <a:off x="218880" y="3310560"/>
                <a:ext cx="847440" cy="381960"/>
              </a:xfrm>
              <a:custGeom>
                <a:avLst/>
                <a:gdLst>
                  <a:gd name="textAreaLeft" fmla="*/ 0 w 847440"/>
                  <a:gd name="textAreaRight" fmla="*/ 847800 w 847440"/>
                  <a:gd name="textAreaTop" fmla="*/ 0 h 381960"/>
                  <a:gd name="textAreaBottom" fmla="*/ 382320 h 38196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8" name="Text Box 22"/>
            <p:cNvSpPr/>
            <p:nvPr/>
          </p:nvSpPr>
          <p:spPr>
            <a:xfrm>
              <a:off x="525240" y="33483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99"/>
                  </a:solidFill>
                  <a:latin typeface="Verdana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Text Box 23"/>
          <p:cNvSpPr/>
          <p:nvPr/>
        </p:nvSpPr>
        <p:spPr>
          <a:xfrm>
            <a:off x="1225440" y="3213000"/>
            <a:ext cx="784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ддержание мирового порядка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— участие в развитии системы международных отношений, деятельность по предотвращению войн, сокращению вооружений, участие в решении глобальных проблем человечеств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Rectangle 24"/>
          <p:cNvSpPr/>
          <p:nvPr/>
        </p:nvSpPr>
        <p:spPr>
          <a:xfrm>
            <a:off x="108000" y="4646520"/>
            <a:ext cx="8928000" cy="1268640"/>
          </a:xfrm>
          <a:prstGeom prst="rect">
            <a:avLst/>
          </a:pr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1" name="Group 25"/>
          <p:cNvGrpSpPr/>
          <p:nvPr/>
        </p:nvGrpSpPr>
        <p:grpSpPr>
          <a:xfrm>
            <a:off x="127080" y="4770360"/>
            <a:ext cx="1103400" cy="1019160"/>
            <a:chOff x="127080" y="4770360"/>
            <a:chExt cx="1103400" cy="1019160"/>
          </a:xfrm>
        </p:grpSpPr>
        <p:sp>
          <p:nvSpPr>
            <p:cNvPr id="382" name="Oval 26"/>
            <p:cNvSpPr/>
            <p:nvPr/>
          </p:nvSpPr>
          <p:spPr>
            <a:xfrm>
              <a:off x="127080" y="4770360"/>
              <a:ext cx="1103400" cy="101916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3e2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Freeform 27"/>
            <p:cNvSpPr/>
            <p:nvPr/>
          </p:nvSpPr>
          <p:spPr>
            <a:xfrm>
              <a:off x="253080" y="4787280"/>
              <a:ext cx="851040" cy="384480"/>
            </a:xfrm>
            <a:custGeom>
              <a:avLst/>
              <a:gdLst>
                <a:gd name="textAreaLeft" fmla="*/ 0 w 851040"/>
                <a:gd name="textAreaRight" fmla="*/ 851400 w 851040"/>
                <a:gd name="textAreaTop" fmla="*/ 0 h 384480"/>
                <a:gd name="textAreaBottom" fmla="*/ 384840 h 3844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4" name="Text Box 28"/>
          <p:cNvSpPr/>
          <p:nvPr/>
        </p:nvSpPr>
        <p:spPr>
          <a:xfrm>
            <a:off x="466200" y="5018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29"/>
          <p:cNvSpPr/>
          <p:nvPr/>
        </p:nvSpPr>
        <p:spPr>
          <a:xfrm>
            <a:off x="1230480" y="4724280"/>
            <a:ext cx="7805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Взаимовыгодное сотрудничество</a:t>
            </a: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в экономической, политической, культурной и других сферах с другими государствам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Прямоугольник 1"/>
          <p:cNvSpPr/>
          <p:nvPr/>
        </p:nvSpPr>
        <p:spPr>
          <a:xfrm>
            <a:off x="324000" y="2205000"/>
            <a:ext cx="856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1" lang="ru-RU" sz="6600" spc="-1" strike="noStrike">
                <a:solidFill>
                  <a:srgbClr val="ff0000"/>
                </a:solidFill>
                <a:latin typeface="Monotype Corsiva"/>
              </a:rPr>
              <a:t>Формы государства. 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71760" y="1989000"/>
            <a:ext cx="6192720" cy="719280"/>
          </a:xfrm>
          <a:prstGeom prst="rect">
            <a:avLst/>
          </a:prstGeom>
          <a:solidFill>
            <a:srgbClr val="db8631"/>
          </a:solidFill>
          <a:ln w="38520">
            <a:solidFill>
              <a:srgbClr val="a16121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Формы государства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107640" y="259920"/>
            <a:ext cx="871524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Форма государства </a:t>
            </a:r>
            <a:r>
              <a:rPr b="1" lang="ru-RU" sz="24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- это устройство политической организации общества, призванное обеспечить её стабильность и нормальное функционирование.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cxnSp>
        <p:nvCxnSpPr>
          <p:cNvPr id="389" name="Прямая со стрелкой 4"/>
          <p:cNvCxnSpPr/>
          <p:nvPr/>
        </p:nvCxnSpPr>
        <p:spPr>
          <a:xfrm flipH="1">
            <a:off x="1618560" y="2781000"/>
            <a:ext cx="578520" cy="864360"/>
          </a:xfrm>
          <a:prstGeom prst="straightConnector1">
            <a:avLst/>
          </a:prstGeom>
          <a:ln cap="rnd"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90" name="Загнутый угол 5"/>
          <p:cNvSpPr/>
          <p:nvPr/>
        </p:nvSpPr>
        <p:spPr>
          <a:xfrm>
            <a:off x="108000" y="3716280"/>
            <a:ext cx="2663640" cy="3025800"/>
          </a:xfrm>
          <a:prstGeom prst="foldedCorner">
            <a:avLst>
              <a:gd name="adj" fmla="val 16666"/>
            </a:avLst>
          </a:prstGeom>
          <a:solidFill>
            <a:srgbClr val="4c8ba4"/>
          </a:solidFill>
          <a:ln w="38520">
            <a:solidFill>
              <a:srgbClr val="7243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Форма правл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о способ организации верховной государственной вла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ределяет , кому принадлежит вла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Загнутый угол 6"/>
          <p:cNvSpPr/>
          <p:nvPr/>
        </p:nvSpPr>
        <p:spPr>
          <a:xfrm>
            <a:off x="2987640" y="3716280"/>
            <a:ext cx="3024360" cy="3025800"/>
          </a:xfrm>
          <a:prstGeom prst="foldedCorner">
            <a:avLst>
              <a:gd name="adj" fmla="val 16666"/>
            </a:avLst>
          </a:prstGeom>
          <a:solidFill>
            <a:srgbClr val="4c8ba4"/>
          </a:solidFill>
          <a:ln w="38520">
            <a:solidFill>
              <a:srgbClr val="192e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Форма государственно-территориального устрой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о способ взаимосвязи территориальных образований государства, закреплённый конституци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Загнутый угол 7"/>
          <p:cNvSpPr/>
          <p:nvPr/>
        </p:nvSpPr>
        <p:spPr>
          <a:xfrm>
            <a:off x="6227640" y="3716280"/>
            <a:ext cx="2808360" cy="3025800"/>
          </a:xfrm>
          <a:prstGeom prst="foldedCorner">
            <a:avLst>
              <a:gd name="adj" fmla="val 16666"/>
            </a:avLst>
          </a:prstGeom>
          <a:solidFill>
            <a:srgbClr val="4c8ba4"/>
          </a:solidFill>
          <a:ln w="38520">
            <a:solidFill>
              <a:srgbClr val="192e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литический режи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о совокупность методов и способов осуществления в стране государственной власти и управл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93" name="Прямая со стрелкой 9"/>
          <p:cNvCxnSpPr/>
          <p:nvPr/>
        </p:nvCxnSpPr>
        <p:spPr>
          <a:xfrm>
            <a:off x="4427280" y="2760480"/>
            <a:ext cx="1080" cy="813240"/>
          </a:xfrm>
          <a:prstGeom prst="straightConnector1">
            <a:avLst/>
          </a:prstGeom>
          <a:ln cap="rnd"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94" name="Прямая со стрелкой 12"/>
          <p:cNvCxnSpPr/>
          <p:nvPr/>
        </p:nvCxnSpPr>
        <p:spPr>
          <a:xfrm>
            <a:off x="7021440" y="2760840"/>
            <a:ext cx="288000" cy="597600"/>
          </a:xfrm>
          <a:prstGeom prst="straightConnector1">
            <a:avLst/>
          </a:prstGeom>
          <a:ln cap="rnd" w="28440">
            <a:solidFill>
              <a:srgbClr val="ff0000"/>
            </a:solidFill>
            <a:miter/>
            <a:tailEnd len="med" type="arrow" w="med"/>
          </a:ln>
        </p:spPr>
      </p:cxn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11:14:42Z</dcterms:created>
  <dc:creator>XP GAME 2009</dc:creator>
  <dc:description/>
  <dc:language>en-US</dc:language>
  <cp:lastModifiedBy>Ирина</cp:lastModifiedBy>
  <dcterms:modified xsi:type="dcterms:W3CDTF">2017-08-22T17:15:08Z</dcterms:modified>
  <cp:revision>30</cp:revision>
  <dc:subject/>
  <dc:title>Слайд 1</dc:title>
</cp:coreProperties>
</file>