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6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BA7D-B033-4B3B-9326-1F11955E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CB99-BB9C-48D1-B215-D13CCE4D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DD26-38A8-4651-89EE-5CA5149CC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1CC-32EE-4AC7-9ED4-534F11E6B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88665-8048-44EA-B616-ADDAFE359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D2878-DFFF-433D-975F-09AB352C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0885-3E87-48B7-8DBA-3AC57D3C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3255-3443-41D1-A247-7BB0767F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D8F6E-ECE6-402D-89B2-7F30CF43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7EEB-8569-4486-AD71-9070D12F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4E01-FD38-4401-852C-B87BAB8DA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CDF8-666C-401A-B365-CA5ACDD42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94FBB-7427-49AF-9183-34A294D2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75F1-B84A-45BA-8335-4B9E6CBA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88FD-48D2-499A-ADBF-C6457716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54F77-7970-483E-97F5-8D9A1562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D6F7-0A8C-4BAA-B95E-493BE98E5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CAA904-7B94-4FF2-876E-3D017022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02722-1D33-4425-905B-0CDEB330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5AE02E-98E3-4065-B32E-C9C0556C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C12AFB-2054-452D-8175-C35C8A06E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51558A-AC2D-464D-B609-23F8915F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B27-C219-4E27-B8B7-0D8062862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7CF55-0AB3-48E0-9988-B6118609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8AFD87-3E1C-4E22-A937-09530C42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DB5A8D-63B3-4126-A15C-A708D75DA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ED0A16-3F54-4353-B3BE-BB58E4DD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F0584-46B6-4220-A19F-BCC38AEAF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13D64A-6C8C-454B-AEE0-DC36C7AC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A2EA0-3628-4C1B-9932-64298E1F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640FE-CE39-42CB-B789-2FDF1BF0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4A91D-63D1-40A9-A855-1A60B738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1FB60-5E2B-48BB-96EF-16D6F298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8FB-BBB1-4AB4-A2FA-9CE268C8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604C8-F404-4ABF-994B-3DD49A1B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0D4D3-4663-4B16-9951-65505851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124AE-F67A-4A10-866A-EA93F5E7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3896A-5DF3-4DE8-B255-7F19B023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EB21-858F-48D6-A386-3131332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2CD81-90D2-4D75-BC70-ADA0FFEA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E4AE6-F232-4215-8C5B-68583FDD6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7D28E-E032-4ABA-BB5C-3BFA698DB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9E539-2C81-4E8B-8959-9812CF478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61D7-B2C8-47CD-A102-8027AD8E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9F33-8B52-40C0-8BEB-412FF6EC1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11B7-FE84-4A31-BB8B-FBA399EDE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C61-A575-4E90-81C8-F7032600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5145-8748-4398-AC69-6741C2B1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906BB-F058-4540-B8E7-361A82FDC19F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A0EE-6985-46DF-A18A-71116095922A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433D-E228-43AB-A0BD-4270423129C0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bd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7E91-772D-45CD-A11D-009F8C9BF3E5}" type="slidenum">
              <a:rPr b="0" lang="ru-RU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Users\Администратор\Desktop\MONIKU~1.JPG"/>
          <p:cNvPicPr/>
          <p:nvPr/>
        </p:nvPicPr>
        <p:blipFill>
          <a:blip r:embed="rId1"/>
          <a:stretch/>
        </p:blipFill>
        <p:spPr>
          <a:xfrm>
            <a:off x="0" y="936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3"/>
          <p:cNvSpPr/>
          <p:nvPr/>
        </p:nvSpPr>
        <p:spPr>
          <a:xfrm>
            <a:off x="108000" y="1844640"/>
            <a:ext cx="896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b0f0"/>
                </a:solidFill>
                <a:latin typeface="Monotype Corsiva"/>
              </a:rPr>
              <a:t>Социальные взаимоотношения и взаимодействия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18720" y="620280"/>
            <a:ext cx="67690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вседневной жизни мы то и дело совершаем множество элементарных актов социального взаимодействия, даже не подозревая о том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ечаясь, мы здороваемся за руку и говорим приветствие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я в автобус, пропускаем вперёд женщин, детей и пожилых люде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8" descr="i?id=41391995&amp;tov=0"/>
          <p:cNvPicPr/>
          <p:nvPr/>
        </p:nvPicPr>
        <p:blipFill>
          <a:blip r:embed="rId1"/>
          <a:stretch/>
        </p:blipFill>
        <p:spPr>
          <a:xfrm>
            <a:off x="6516720" y="620640"/>
            <a:ext cx="2519280" cy="17067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0" descr="i?id=36695070&amp;tov=3"/>
          <p:cNvPicPr/>
          <p:nvPr/>
        </p:nvPicPr>
        <p:blipFill>
          <a:blip r:embed="rId2"/>
          <a:stretch/>
        </p:blipFill>
        <p:spPr>
          <a:xfrm>
            <a:off x="4500720" y="3789360"/>
            <a:ext cx="3395520" cy="2035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"/>
          <p:cNvPicPr/>
          <p:nvPr/>
        </p:nvPicPr>
        <p:blipFill>
          <a:blip r:embed="rId3"/>
          <a:stretch/>
        </p:blipFill>
        <p:spPr>
          <a:xfrm>
            <a:off x="539640" y="3213000"/>
            <a:ext cx="2448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179280" y="1773360"/>
            <a:ext cx="8286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ое взаимодействие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систематические , достаточно регулярные, взаимообусловленные социальные действия субъектов, направленные друг на друг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i?id=40995456&amp;tov=7"/>
          <p:cNvPicPr/>
          <p:nvPr/>
        </p:nvPicPr>
        <p:blipFill>
          <a:blip r:embed="rId1"/>
          <a:stretch/>
        </p:blipFill>
        <p:spPr>
          <a:xfrm>
            <a:off x="244440" y="115920"/>
            <a:ext cx="2382840" cy="1608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656000" cy="23050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i?id=23136525&amp;tov=2"/>
          <p:cNvPicPr/>
          <p:nvPr/>
        </p:nvPicPr>
        <p:blipFill>
          <a:blip r:embed="rId3"/>
          <a:stretch/>
        </p:blipFill>
        <p:spPr>
          <a:xfrm>
            <a:off x="5148360" y="4869000"/>
            <a:ext cx="2879640" cy="18367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Прямоугольник с двумя вырезанными противолежащими углами 4"/>
          <p:cNvGrpSpPr/>
          <p:nvPr/>
        </p:nvGrpSpPr>
        <p:grpSpPr>
          <a:xfrm>
            <a:off x="128520" y="2762280"/>
            <a:ext cx="2766960" cy="1461960"/>
            <a:chOff x="128520" y="2762280"/>
            <a:chExt cx="2766960" cy="1461960"/>
          </a:xfrm>
        </p:grpSpPr>
        <p:pic>
          <p:nvPicPr>
            <p:cNvPr id="238" name="Прямоугольник с двумя вырезанными противолежащими углами 4" descr=""/>
            <p:cNvPicPr/>
            <p:nvPr/>
          </p:nvPicPr>
          <p:blipFill>
            <a:blip r:embed="rId1"/>
            <a:stretch/>
          </p:blipFill>
          <p:spPr>
            <a:xfrm>
              <a:off x="128520" y="2762280"/>
              <a:ext cx="276696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334800" y="2994120"/>
              <a:ext cx="22622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 u="sng">
                  <a:solidFill>
                    <a:srgbClr val="0000ff"/>
                  </a:solidFill>
                  <a:uFillTx/>
                  <a:latin typeface="Times New Roman"/>
                  <a:ea typeface="Times New Roman"/>
                </a:rPr>
                <a:t>Социальные отнош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Прямоугольник с двумя скругленными соседними углами 5"/>
          <p:cNvGrpSpPr/>
          <p:nvPr/>
        </p:nvGrpSpPr>
        <p:grpSpPr>
          <a:xfrm>
            <a:off x="4309920" y="1547640"/>
            <a:ext cx="4492800" cy="1079640"/>
            <a:chOff x="4309920" y="1547640"/>
            <a:chExt cx="4492800" cy="1079640"/>
          </a:xfrm>
        </p:grpSpPr>
        <p:pic>
          <p:nvPicPr>
            <p:cNvPr id="241" name="Прямоугольник с двумя скругленными соседними углами 5" descr=""/>
            <p:cNvPicPr/>
            <p:nvPr/>
          </p:nvPicPr>
          <p:blipFill>
            <a:blip r:embed="rId2"/>
            <a:stretch/>
          </p:blipFill>
          <p:spPr>
            <a:xfrm>
              <a:off x="4309920" y="1547640"/>
              <a:ext cx="449280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"/>
            <p:cNvSpPr/>
            <p:nvPr/>
          </p:nvSpPr>
          <p:spPr>
            <a:xfrm>
              <a:off x="4510080" y="1690560"/>
              <a:ext cx="4059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Личностно - групп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Прямоугольник с двумя скругленными соседними углами 6"/>
          <p:cNvGrpSpPr/>
          <p:nvPr/>
        </p:nvGrpSpPr>
        <p:grpSpPr>
          <a:xfrm>
            <a:off x="4425840" y="2852640"/>
            <a:ext cx="4157640" cy="1086120"/>
            <a:chOff x="4425840" y="2852640"/>
            <a:chExt cx="4157640" cy="1086120"/>
          </a:xfrm>
        </p:grpSpPr>
        <p:pic>
          <p:nvPicPr>
            <p:cNvPr id="244" name="Прямоугольник с двумя скругленными соседними углами 6" descr=""/>
            <p:cNvPicPr/>
            <p:nvPr/>
          </p:nvPicPr>
          <p:blipFill>
            <a:blip r:embed="rId3"/>
            <a:stretch/>
          </p:blipFill>
          <p:spPr>
            <a:xfrm>
              <a:off x="4425840" y="2852640"/>
              <a:ext cx="4157640" cy="108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581360" y="2998800"/>
              <a:ext cx="384336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жличностн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Прямоугольник с двумя скругленными соседними углами 7"/>
          <p:cNvGrpSpPr/>
          <p:nvPr/>
        </p:nvGrpSpPr>
        <p:grpSpPr>
          <a:xfrm>
            <a:off x="4413240" y="4187880"/>
            <a:ext cx="4170240" cy="1079280"/>
            <a:chOff x="4413240" y="4187880"/>
            <a:chExt cx="4170240" cy="1079280"/>
          </a:xfrm>
        </p:grpSpPr>
        <p:pic>
          <p:nvPicPr>
            <p:cNvPr id="247" name="Прямоугольник с двумя скругленными соседними углами 7" descr=""/>
            <p:cNvPicPr/>
            <p:nvPr/>
          </p:nvPicPr>
          <p:blipFill>
            <a:blip r:embed="rId4"/>
            <a:stretch/>
          </p:blipFill>
          <p:spPr>
            <a:xfrm>
              <a:off x="4413240" y="4187880"/>
              <a:ext cx="417024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4568760" y="4330800"/>
              <a:ext cx="3855960" cy="68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Межгрупповы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9" name="Прямая со стрелкой 9"/>
          <p:cNvCxnSpPr/>
          <p:nvPr/>
        </p:nvCxnSpPr>
        <p:spPr>
          <a:xfrm flipV="1">
            <a:off x="2679840" y="2361960"/>
            <a:ext cx="1643760" cy="10720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50" name="Прямая со стрелкой 11"/>
          <p:cNvCxnSpPr/>
          <p:nvPr/>
        </p:nvCxnSpPr>
        <p:spPr>
          <a:xfrm>
            <a:off x="2692440" y="3573000"/>
            <a:ext cx="1715040" cy="2520"/>
          </a:xfrm>
          <a:prstGeom prst="straightConnector1">
            <a:avLst/>
          </a:prstGeom>
          <a:ln w="38160">
            <a:solidFill>
              <a:srgbClr val="6600cc"/>
            </a:solidFill>
            <a:miter/>
            <a:tailEnd len="med" type="arrow" w="med"/>
          </a:ln>
        </p:spPr>
      </p:cxnSp>
      <p:cxnSp>
        <p:nvCxnSpPr>
          <p:cNvPr id="251" name="Прямая со стрелкой 12"/>
          <p:cNvCxnSpPr/>
          <p:nvPr/>
        </p:nvCxnSpPr>
        <p:spPr>
          <a:xfrm>
            <a:off x="2717280" y="3654360"/>
            <a:ext cx="1715400" cy="128664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arrow" w="med"/>
          </a:ln>
        </p:spPr>
      </p:cxnSp>
    </p:spTree>
  </p:cSld>
  <p:transition spd="slow">
    <p:wheel spokes="1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Прямоугольник 3"/>
          <p:cNvGrpSpPr/>
          <p:nvPr/>
        </p:nvGrpSpPr>
        <p:grpSpPr>
          <a:xfrm>
            <a:off x="665280" y="4535640"/>
            <a:ext cx="7673760" cy="1719000"/>
            <a:chOff x="665280" y="4535640"/>
            <a:chExt cx="7673760" cy="1719000"/>
          </a:xfrm>
        </p:grpSpPr>
        <p:pic>
          <p:nvPicPr>
            <p:cNvPr id="253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65280" y="4535640"/>
              <a:ext cx="7673760" cy="171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785880" y="4643280"/>
              <a:ext cx="74293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Социальное взаимодействие </a:t>
              </a:r>
              <a:r>
                <a:rPr b="1" lang="ru-RU" sz="24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– систематические, регулярные, взаимообусловленные социальные действия субъектов, направленные друг на друг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Табличка 12"/>
          <p:cNvGrpSpPr/>
          <p:nvPr/>
        </p:nvGrpSpPr>
        <p:grpSpPr>
          <a:xfrm>
            <a:off x="950760" y="2457360"/>
            <a:ext cx="6888240" cy="1657440"/>
            <a:chOff x="950760" y="2457360"/>
            <a:chExt cx="6888240" cy="1657440"/>
          </a:xfrm>
        </p:grpSpPr>
        <p:pic>
          <p:nvPicPr>
            <p:cNvPr id="256" name="Табличка 12" descr=""/>
            <p:cNvPicPr/>
            <p:nvPr/>
          </p:nvPicPr>
          <p:blipFill>
            <a:blip r:embed="rId2"/>
            <a:stretch/>
          </p:blipFill>
          <p:spPr>
            <a:xfrm>
              <a:off x="950760" y="2457360"/>
              <a:ext cx="688824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1206360" y="2778120"/>
              <a:ext cx="63738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Социальный контакт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первый шаг к установлению социальных отношений, скорее, соучастие, но еще не взаимодейств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Скругленный прямоугольник 13"/>
          <p:cNvGrpSpPr/>
          <p:nvPr/>
        </p:nvGrpSpPr>
        <p:grpSpPr>
          <a:xfrm>
            <a:off x="450720" y="23760"/>
            <a:ext cx="8321760" cy="2024280"/>
            <a:chOff x="450720" y="23760"/>
            <a:chExt cx="8321760" cy="2024280"/>
          </a:xfrm>
        </p:grpSpPr>
        <p:pic>
          <p:nvPicPr>
            <p:cNvPr id="259" name="Скругленный прямоугольник 13" descr=""/>
            <p:cNvPicPr/>
            <p:nvPr/>
          </p:nvPicPr>
          <p:blipFill>
            <a:blip r:embed="rId3"/>
            <a:stretch/>
          </p:blipFill>
          <p:spPr>
            <a:xfrm>
              <a:off x="450720" y="23760"/>
              <a:ext cx="8321760" cy="20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644400" y="287280"/>
              <a:ext cx="7931160" cy="135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u="sng">
                  <a:solidFill>
                    <a:srgbClr val="c00000"/>
                  </a:solidFill>
                  <a:uFillTx/>
                  <a:latin typeface="Times New Roman"/>
                  <a:ea typeface="Times New Roman"/>
                </a:rPr>
                <a:t>Социальная связь - 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овокупность зависимостей между людьми, реализованных через социальные взаимодействия, их взаимные отношения, которые объединяют людей в социальные общности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Стрелка вверх 17"/>
          <p:cNvGrpSpPr/>
          <p:nvPr/>
        </p:nvGrpSpPr>
        <p:grpSpPr>
          <a:xfrm>
            <a:off x="4011480" y="1755720"/>
            <a:ext cx="547920" cy="974880"/>
            <a:chOff x="4011480" y="1755720"/>
            <a:chExt cx="547920" cy="974880"/>
          </a:xfrm>
        </p:grpSpPr>
        <p:pic>
          <p:nvPicPr>
            <p:cNvPr id="262" name="Стрелка вверх 17" descr=""/>
            <p:cNvPicPr/>
            <p:nvPr/>
          </p:nvPicPr>
          <p:blipFill>
            <a:blip r:embed="rId4"/>
            <a:stretch/>
          </p:blipFill>
          <p:spPr>
            <a:xfrm>
              <a:off x="4011480" y="1755720"/>
              <a:ext cx="5479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4178160" y="1892160"/>
              <a:ext cx="2145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Стрелка вниз 18"/>
          <p:cNvGrpSpPr/>
          <p:nvPr/>
        </p:nvGrpSpPr>
        <p:grpSpPr>
          <a:xfrm>
            <a:off x="4011480" y="3828960"/>
            <a:ext cx="547920" cy="968400"/>
            <a:chOff x="4011480" y="3828960"/>
            <a:chExt cx="547920" cy="968400"/>
          </a:xfrm>
        </p:grpSpPr>
        <p:pic>
          <p:nvPicPr>
            <p:cNvPr id="265" name="Стрелка вниз 18" descr=""/>
            <p:cNvPicPr/>
            <p:nvPr/>
          </p:nvPicPr>
          <p:blipFill>
            <a:blip r:embed="rId5"/>
            <a:stretch/>
          </p:blipFill>
          <p:spPr>
            <a:xfrm>
              <a:off x="4011480" y="3828960"/>
              <a:ext cx="5479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178160" y="3857760"/>
              <a:ext cx="2145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heel spokes="1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Схема 3" descr=""/>
          <p:cNvPicPr/>
          <p:nvPr/>
        </p:nvPicPr>
        <p:blipFill>
          <a:blip r:embed="rId1"/>
          <a:stretch/>
        </p:blipFill>
        <p:spPr>
          <a:xfrm>
            <a:off x="0" y="85680"/>
            <a:ext cx="9144000" cy="680868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5"/>
          <p:cNvSpPr/>
          <p:nvPr/>
        </p:nvSpPr>
        <p:spPr>
          <a:xfrm>
            <a:off x="2489040" y="2571840"/>
            <a:ext cx="4294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Форм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социальны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990000"/>
                </a:solidFill>
                <a:uFillTx/>
                <a:latin typeface="Times New Roman"/>
                <a:ea typeface="Times New Roman"/>
              </a:rPr>
              <a:t>взаимодейств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7320" y="213840"/>
            <a:ext cx="61434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трудничество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полагает участие в общем деле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мпромисс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разрешение конфликтной ситуации путём взаимных уступок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перничество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овано на собственную  победу при проигрыше партнера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куренция</a:t>
            </a:r>
            <a:r>
              <a:rPr b="1" i="1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— это соревнование между людьми в достижении сходных целей и результатов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</a:t>
            </a:r>
            <a:r>
              <a:rPr b="1" i="1" lang="ru-RU" sz="26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нфликт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лкновение взглядов, позиций за одинаково значимую ценность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108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0" name="Picture 6" descr="C:\Users\Katya\Desktop\загруженное (1).jpg"/>
          <p:cNvPicPr/>
          <p:nvPr/>
        </p:nvPicPr>
        <p:blipFill>
          <a:blip r:embed="rId1"/>
          <a:stretch/>
        </p:blipFill>
        <p:spPr>
          <a:xfrm>
            <a:off x="0" y="5283360"/>
            <a:ext cx="2857680" cy="1574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C:\Users\Katya\Desktop\Competition.jpg"/>
          <p:cNvPicPr/>
          <p:nvPr/>
        </p:nvPicPr>
        <p:blipFill>
          <a:blip r:embed="rId2"/>
          <a:stretch/>
        </p:blipFill>
        <p:spPr>
          <a:xfrm>
            <a:off x="0" y="3571920"/>
            <a:ext cx="2835360" cy="17143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C:\Users\Katya\Desktop\загруженное.jpg"/>
          <p:cNvPicPr/>
          <p:nvPr/>
        </p:nvPicPr>
        <p:blipFill>
          <a:blip r:embed="rId3"/>
          <a:stretch/>
        </p:blipFill>
        <p:spPr>
          <a:xfrm>
            <a:off x="0" y="0"/>
            <a:ext cx="2857680" cy="180324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C:\Users\Katya\Desktop\Konkuren.jpg"/>
          <p:cNvPicPr/>
          <p:nvPr/>
        </p:nvPicPr>
        <p:blipFill>
          <a:blip r:embed="rId4"/>
          <a:stretch/>
        </p:blipFill>
        <p:spPr>
          <a:xfrm>
            <a:off x="0" y="1714680"/>
            <a:ext cx="2857680" cy="19126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66760" y="115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Типология социального взаимодействия</a:t>
            </a:r>
            <a:br>
              <a:rPr sz="4000"/>
            </a:b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8000" y="1003320"/>
            <a:ext cx="6408720" cy="55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70c0"/>
                </a:solidFill>
                <a:latin typeface="Georgia"/>
              </a:rPr>
              <a:t>Действие можно подразделить на четыре вида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изическое 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пример пощёчина, передача книги, запись на бумаг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ербально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словесное действие, например оскорбление, выражение приветствия — «здравствуйте»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ест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разновидность действия: улыбка, поднятый палец, рукопожатие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-2044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ысленное 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ое выражается только во внутренней речи.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919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38086"/>
                </a:solidFill>
                <a:latin typeface="Georgia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четырёх видов действия три первых относятся к внешним, а четвёртое - к внутреннему.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Picture 5" descr="i?id=12917576&amp;tov=5"/>
          <p:cNvPicPr/>
          <p:nvPr/>
        </p:nvPicPr>
        <p:blipFill>
          <a:blip r:embed="rId1"/>
          <a:stretch/>
        </p:blipFill>
        <p:spPr>
          <a:xfrm>
            <a:off x="6012000" y="1413000"/>
            <a:ext cx="1944720" cy="1295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7" descr="i?id=19745826&amp;tov=0"/>
          <p:cNvPicPr/>
          <p:nvPr/>
        </p:nvPicPr>
        <p:blipFill>
          <a:blip r:embed="rId2"/>
          <a:stretch/>
        </p:blipFill>
        <p:spPr>
          <a:xfrm>
            <a:off x="6372360" y="3789360"/>
            <a:ext cx="1800000" cy="15112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3"/>
          <a:stretch/>
        </p:blipFill>
        <p:spPr>
          <a:xfrm>
            <a:off x="7667640" y="2565360"/>
            <a:ext cx="1368360" cy="1413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Monotype Corsiva"/>
              </a:rPr>
              <a:t>Типология социального взаимодействия по сферам: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0" y="1267920"/>
            <a:ext cx="907272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номическ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ы выступают как собственники и наемные работники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индивиды противоборствуют или сотрудничают в качестве представителей политических партий, общественных движений, а также в качестве субъектов государственной власти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ональн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ндивиды участвуют как представители разных профессий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емографическа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ключая контакты между представителями различных полов, возрастов, национальностей и рас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емейно-родственная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ерриториально-поселенческ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исходят столкновение, сотрудничество, конкуренция между местными и пришлыми, постоянно и временно проживающими и т. п.)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елигиозная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одразумевает контакты между представителями разных религий, а также верующими и атеистами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43960" indent="-4388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3:22:44Z</dcterms:created>
  <dc:creator>Администратор</dc:creator>
  <dc:description/>
  <dc:language>en-US</dc:language>
  <cp:lastModifiedBy>Надежда</cp:lastModifiedBy>
  <dcterms:modified xsi:type="dcterms:W3CDTF">2017-09-07T10:00:26Z</dcterms:modified>
  <cp:revision>21</cp:revision>
  <dc:subject/>
  <dc:title>Слайд 1</dc:title>
</cp:coreProperties>
</file>