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5BCB-E03B-45C9-9ABE-983BFE05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FEE-4A76-455F-9C05-46608E88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25A-62A8-46CF-B51F-AEC706D96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A76F-CA0E-4AD1-8CAF-C1EAF0D30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6A81-DF07-4BA1-AE18-B9FCC02B0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A0BA-EFAB-482A-BC9C-E767F6C4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CD79-581D-44D7-97A8-52023329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213E4-7931-423A-BD44-976C1AE2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E820-8B09-47AD-B9B6-07ACA4216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AB69-85B8-4CAF-89CE-ED67D569A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2F5E-22CF-4E04-BE37-E89B9588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5F7-800C-4057-AFB2-26B8EEA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4670-0C72-4B86-A184-6FF19CB9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98ED-39B7-4AE4-8A57-AB46117A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6C4B-D223-4690-9652-9EFB558D9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40B13-0C93-4032-B6EE-25E28352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E308F-55C3-4C7C-9640-EAEAC1AD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DC5C01-FBB3-4E4F-9FE9-6DBF3BDA9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4F6D74-4504-40DA-9571-5DD6FDAF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396EC9-367C-47A7-8E01-0D1BDA5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27704-C386-4FD7-8E87-C926BC13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BFDAEF-D81B-410A-826D-1446F945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4CD3-B474-4072-9E10-54118A2C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919C7-566D-4554-8749-7175255A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8DABC3-2F9D-4EF5-BF5A-79D1EB7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257E7-D274-4F0A-80A9-C96E940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EE4E21-2C14-46B9-8048-AD29AA69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CE41D-DDB0-4964-A27E-AE1CAC97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3663D-57F9-4408-983B-B6E64F40F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A0C9B-0F3E-4E65-A5DE-A030B456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79496-BAF7-4203-BE55-DAF12BFD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D66ED-9FAB-45C7-B0AC-260FE734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D8AED-59FB-408B-BFD7-BF00997C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E218-C124-476F-909C-BC0C2E3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1DC14-3DBF-4EC8-8CD4-77C95DF3E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4827F-192A-401F-A3C9-776E1A77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9B19F-F333-4A15-BDEC-D0A73E2B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15836-DFDB-4E54-8492-BDAF44205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F9E0-B715-4B2A-BB9B-83DBA5F9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1B1A1-47F4-463A-8E17-A29A34B5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DBE21-DBCA-4D83-B22E-DE77B00F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72B63-712E-4C72-90FF-40C7A8225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567E2-CCA5-43F6-8792-DCB2ACEE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CF9C-6304-4AB3-ACA9-4A0DA746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8CBD-D42F-449C-9463-5B886B4F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308F-B9C0-4C63-AC1D-39E29FB23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93A-5E26-459A-973E-F715F221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F378-E58F-4341-AF73-ACACCA0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C5FD1-E975-4719-ABFB-BA1CF36B0AB8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101E-B039-4AEE-8B02-4C09184830B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FAE8-AEF7-4A21-AB65-69429AD2AC24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D4E8-F02F-4E7E-86C5-9C167058B26E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Администратор\Desktop\MONIKU~1.JPG"/>
          <p:cNvPicPr/>
          <p:nvPr/>
        </p:nvPicPr>
        <p:blipFill>
          <a:blip r:embed="rId1"/>
          <a:stretch/>
        </p:blipFill>
        <p:spPr>
          <a:xfrm>
            <a:off x="0" y="936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8000" y="184464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Monotype Corsiva"/>
              </a:rPr>
              <a:t>Социальные взаимоотношения и взаимодейств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8720" y="620280"/>
            <a:ext cx="67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мы то и дело совершаем множество элементарных актов социального взаимодействия, даже не подозревая о то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ясь, мы здороваемся за руку и говорим приветствие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 в автобус, пропускаем вперёд женщин, детей и пожилых люд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8" descr="i?id=41391995&amp;tov=0"/>
          <p:cNvPicPr/>
          <p:nvPr/>
        </p:nvPicPr>
        <p:blipFill>
          <a:blip r:embed="rId1"/>
          <a:stretch/>
        </p:blipFill>
        <p:spPr>
          <a:xfrm>
            <a:off x="6516720" y="620640"/>
            <a:ext cx="2519280" cy="170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?id=36695070&amp;tov=3"/>
          <p:cNvPicPr/>
          <p:nvPr/>
        </p:nvPicPr>
        <p:blipFill>
          <a:blip r:embed="rId2"/>
          <a:stretch/>
        </p:blipFill>
        <p:spPr>
          <a:xfrm>
            <a:off x="4500720" y="3789360"/>
            <a:ext cx="3395520" cy="2035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2448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79280" y="177336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е взаимодейств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атические , достаточно регулярные, взаимообусловленные социальные действия субъектов, направленные друг на друг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i?id=40995456&amp;tov=7"/>
          <p:cNvPicPr/>
          <p:nvPr/>
        </p:nvPicPr>
        <p:blipFill>
          <a:blip r:embed="rId1"/>
          <a:stretch/>
        </p:blipFill>
        <p:spPr>
          <a:xfrm>
            <a:off x="244440" y="115920"/>
            <a:ext cx="2382840" cy="160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656000" cy="230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?id=23136525&amp;tov=2"/>
          <p:cNvPicPr/>
          <p:nvPr/>
        </p:nvPicPr>
        <p:blipFill>
          <a:blip r:embed="rId3"/>
          <a:stretch/>
        </p:blipFill>
        <p:spPr>
          <a:xfrm>
            <a:off x="5148360" y="4869000"/>
            <a:ext cx="28796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Прямоугольник с двумя вырезанными противолежащими углами 4"/>
          <p:cNvGrpSpPr/>
          <p:nvPr/>
        </p:nvGrpSpPr>
        <p:grpSpPr>
          <a:xfrm>
            <a:off x="128520" y="2762280"/>
            <a:ext cx="2766960" cy="1461960"/>
            <a:chOff x="128520" y="2762280"/>
            <a:chExt cx="2766960" cy="1461960"/>
          </a:xfrm>
        </p:grpSpPr>
        <p:pic>
          <p:nvPicPr>
            <p:cNvPr id="238" name="Прямоугольник с двумя выреза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128520" y="2762280"/>
              <a:ext cx="27669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4800" y="2994120"/>
              <a:ext cx="2262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Социальные отнош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Прямоугольник с двумя скругленными соседними углами 5"/>
          <p:cNvGrpSpPr/>
          <p:nvPr/>
        </p:nvGrpSpPr>
        <p:grpSpPr>
          <a:xfrm>
            <a:off x="4309920" y="1547640"/>
            <a:ext cx="4492800" cy="1079640"/>
            <a:chOff x="4309920" y="1547640"/>
            <a:chExt cx="4492800" cy="1079640"/>
          </a:xfrm>
        </p:grpSpPr>
        <p:pic>
          <p:nvPicPr>
            <p:cNvPr id="241" name="Прямоугольник с двумя скругленными соседними углами 5" descr=""/>
            <p:cNvPicPr/>
            <p:nvPr/>
          </p:nvPicPr>
          <p:blipFill>
            <a:blip r:embed="rId2"/>
            <a:stretch/>
          </p:blipFill>
          <p:spPr>
            <a:xfrm>
              <a:off x="4309920" y="1547640"/>
              <a:ext cx="44928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510080" y="1690560"/>
              <a:ext cx="4059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ичностно - групп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Прямоугольник с двумя скругленными соседними углами 6"/>
          <p:cNvGrpSpPr/>
          <p:nvPr/>
        </p:nvGrpSpPr>
        <p:grpSpPr>
          <a:xfrm>
            <a:off x="4425840" y="2852640"/>
            <a:ext cx="4157640" cy="1086120"/>
            <a:chOff x="4425840" y="2852640"/>
            <a:chExt cx="4157640" cy="1086120"/>
          </a:xfrm>
        </p:grpSpPr>
        <p:pic>
          <p:nvPicPr>
            <p:cNvPr id="244" name="Прямоугольник с двумя скругленными соседними углами 6" descr=""/>
            <p:cNvPicPr/>
            <p:nvPr/>
          </p:nvPicPr>
          <p:blipFill>
            <a:blip r:embed="rId3"/>
            <a:stretch/>
          </p:blipFill>
          <p:spPr>
            <a:xfrm>
              <a:off x="4425840" y="2852640"/>
              <a:ext cx="415764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581360" y="2998800"/>
              <a:ext cx="38433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жличнос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оугольник с двумя скругленными соседними углами 7"/>
          <p:cNvGrpSpPr/>
          <p:nvPr/>
        </p:nvGrpSpPr>
        <p:grpSpPr>
          <a:xfrm>
            <a:off x="4413240" y="4187880"/>
            <a:ext cx="4170240" cy="1079280"/>
            <a:chOff x="4413240" y="4187880"/>
            <a:chExt cx="4170240" cy="1079280"/>
          </a:xfrm>
        </p:grpSpPr>
        <p:pic>
          <p:nvPicPr>
            <p:cNvPr id="247" name="Прямоугольник с двумя скругленными соседними углами 7" descr=""/>
            <p:cNvPicPr/>
            <p:nvPr/>
          </p:nvPicPr>
          <p:blipFill>
            <a:blip r:embed="rId4"/>
            <a:stretch/>
          </p:blipFill>
          <p:spPr>
            <a:xfrm>
              <a:off x="4413240" y="4187880"/>
              <a:ext cx="41702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68760" y="4330800"/>
              <a:ext cx="38559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жгрупп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9" name="Прямая со стрелкой 9"/>
          <p:cNvCxnSpPr/>
          <p:nvPr/>
        </p:nvCxnSpPr>
        <p:spPr>
          <a:xfrm flipV="1">
            <a:off x="2679840" y="2361960"/>
            <a:ext cx="1643760" cy="1072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0" name="Прямая со стрелкой 11"/>
          <p:cNvCxnSpPr/>
          <p:nvPr/>
        </p:nvCxnSpPr>
        <p:spPr>
          <a:xfrm>
            <a:off x="2692440" y="3573000"/>
            <a:ext cx="1715040" cy="2520"/>
          </a:xfrm>
          <a:prstGeom prst="straightConnector1">
            <a:avLst/>
          </a:prstGeom>
          <a:ln w="381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251" name="Прямая со стрелкой 12"/>
          <p:cNvCxnSpPr/>
          <p:nvPr/>
        </p:nvCxnSpPr>
        <p:spPr>
          <a:xfrm>
            <a:off x="2717280" y="3654360"/>
            <a:ext cx="1715400" cy="12866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Прямоугольник 3"/>
          <p:cNvGrpSpPr/>
          <p:nvPr/>
        </p:nvGrpSpPr>
        <p:grpSpPr>
          <a:xfrm>
            <a:off x="665280" y="4535640"/>
            <a:ext cx="7673760" cy="1719000"/>
            <a:chOff x="665280" y="4535640"/>
            <a:chExt cx="7673760" cy="1719000"/>
          </a:xfrm>
        </p:grpSpPr>
        <p:pic>
          <p:nvPicPr>
            <p:cNvPr id="25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65280" y="4535640"/>
              <a:ext cx="767376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85880" y="4643280"/>
              <a:ext cx="74293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ое взаимодействие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– систематические, регулярные, взаимообусловленные социальные действия субъектов, направленные друг на дру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Табличка 12"/>
          <p:cNvGrpSpPr/>
          <p:nvPr/>
        </p:nvGrpSpPr>
        <p:grpSpPr>
          <a:xfrm>
            <a:off x="950760" y="2457360"/>
            <a:ext cx="6888240" cy="1657440"/>
            <a:chOff x="950760" y="2457360"/>
            <a:chExt cx="6888240" cy="1657440"/>
          </a:xfrm>
        </p:grpSpPr>
        <p:pic>
          <p:nvPicPr>
            <p:cNvPr id="256" name="Табличка 12" descr=""/>
            <p:cNvPicPr/>
            <p:nvPr/>
          </p:nvPicPr>
          <p:blipFill>
            <a:blip r:embed="rId2"/>
            <a:stretch/>
          </p:blipFill>
          <p:spPr>
            <a:xfrm>
              <a:off x="950760" y="2457360"/>
              <a:ext cx="68882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206360" y="2778120"/>
              <a:ext cx="63738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ый контакт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первый шаг к установлению социальных отношений, скорее, соучастие, но еще не взаим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кругленный прямоугольник 13"/>
          <p:cNvGrpSpPr/>
          <p:nvPr/>
        </p:nvGrpSpPr>
        <p:grpSpPr>
          <a:xfrm>
            <a:off x="450720" y="23760"/>
            <a:ext cx="8321760" cy="2024280"/>
            <a:chOff x="450720" y="23760"/>
            <a:chExt cx="8321760" cy="2024280"/>
          </a:xfrm>
        </p:grpSpPr>
        <p:pic>
          <p:nvPicPr>
            <p:cNvPr id="259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50720" y="23760"/>
              <a:ext cx="832176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400" y="287280"/>
              <a:ext cx="79311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ая связь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окупность зависимостей между людьми, реализованных через социальные взаимодействия, их взаимные отношения, которые объединяют людей в социальные общ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верх 17"/>
          <p:cNvGrpSpPr/>
          <p:nvPr/>
        </p:nvGrpSpPr>
        <p:grpSpPr>
          <a:xfrm>
            <a:off x="4011480" y="1755720"/>
            <a:ext cx="547920" cy="974880"/>
            <a:chOff x="4011480" y="1755720"/>
            <a:chExt cx="547920" cy="974880"/>
          </a:xfrm>
        </p:grpSpPr>
        <p:pic>
          <p:nvPicPr>
            <p:cNvPr id="262" name="Стрелка вверх 17" descr=""/>
            <p:cNvPicPr/>
            <p:nvPr/>
          </p:nvPicPr>
          <p:blipFill>
            <a:blip r:embed="rId4"/>
            <a:stretch/>
          </p:blipFill>
          <p:spPr>
            <a:xfrm>
              <a:off x="4011480" y="1755720"/>
              <a:ext cx="5479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178160" y="1892160"/>
              <a:ext cx="2145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8"/>
          <p:cNvGrpSpPr/>
          <p:nvPr/>
        </p:nvGrpSpPr>
        <p:grpSpPr>
          <a:xfrm>
            <a:off x="4011480" y="3828960"/>
            <a:ext cx="547920" cy="968400"/>
            <a:chOff x="4011480" y="3828960"/>
            <a:chExt cx="547920" cy="968400"/>
          </a:xfrm>
        </p:grpSpPr>
        <p:pic>
          <p:nvPicPr>
            <p:cNvPr id="265" name="Стрелка вниз 18" descr=""/>
            <p:cNvPicPr/>
            <p:nvPr/>
          </p:nvPicPr>
          <p:blipFill>
            <a:blip r:embed="rId5"/>
            <a:stretch/>
          </p:blipFill>
          <p:spPr>
            <a:xfrm>
              <a:off x="4011480" y="3828960"/>
              <a:ext cx="547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178160" y="3857760"/>
              <a:ext cx="21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хема 3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2489040" y="2571840"/>
            <a:ext cx="429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социа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взаимо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7320" y="213840"/>
            <a:ext cx="61434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трудничеств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 участие в общем деле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промисс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разрешение конфликтной ситуации путём взаимных уступо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перничество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о на собственную  победу при проигрыше партнер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куренция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соревнование между людьми в достижении сходных целей и результато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флик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лкновение взглядов, позиций за одинаково значимую ценнос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6" descr="C:\Users\Katya\Desktop\загруженное (1).jpg"/>
          <p:cNvPicPr/>
          <p:nvPr/>
        </p:nvPicPr>
        <p:blipFill>
          <a:blip r:embed="rId1"/>
          <a:stretch/>
        </p:blipFill>
        <p:spPr>
          <a:xfrm>
            <a:off x="0" y="5283360"/>
            <a:ext cx="2857680" cy="1574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Katya\Desktop\Competition.jpg"/>
          <p:cNvPicPr/>
          <p:nvPr/>
        </p:nvPicPr>
        <p:blipFill>
          <a:blip r:embed="rId2"/>
          <a:stretch/>
        </p:blipFill>
        <p:spPr>
          <a:xfrm>
            <a:off x="0" y="3571920"/>
            <a:ext cx="2835360" cy="1714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Katya\Desktop\загруженное.jpg"/>
          <p:cNvPicPr/>
          <p:nvPr/>
        </p:nvPicPr>
        <p:blipFill>
          <a:blip r:embed="rId3"/>
          <a:stretch/>
        </p:blipFill>
        <p:spPr>
          <a:xfrm>
            <a:off x="0" y="0"/>
            <a:ext cx="2857680" cy="1803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Katya\Desktop\Konkuren.jpg"/>
          <p:cNvPicPr/>
          <p:nvPr/>
        </p:nvPicPr>
        <p:blipFill>
          <a:blip r:embed="rId4"/>
          <a:stretch/>
        </p:blipFill>
        <p:spPr>
          <a:xfrm>
            <a:off x="0" y="1714680"/>
            <a:ext cx="2857680" cy="191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676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ипология социального взаимодействия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003320"/>
            <a:ext cx="640872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ействие можно подразделить на четыре вид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 пощёчина, передача книги, запись на бумаг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баль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словесное действие, например оскорбление, выражение приветствия — «здравствуйте»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с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зновидность действия: улыбка, поднятый палец, рукопожат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сленн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ыражается только во внутренней реч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четырёх видов действия три первых относятся к внешним, а четвёртое - к внутреннем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5" descr="i?id=12917576&amp;tov=5"/>
          <p:cNvPicPr/>
          <p:nvPr/>
        </p:nvPicPr>
        <p:blipFill>
          <a:blip r:embed="rId1"/>
          <a:stretch/>
        </p:blipFill>
        <p:spPr>
          <a:xfrm>
            <a:off x="6012000" y="141300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?id=19745826&amp;tov=0"/>
          <p:cNvPicPr/>
          <p:nvPr/>
        </p:nvPicPr>
        <p:blipFill>
          <a:blip r:embed="rId2"/>
          <a:stretch/>
        </p:blipFill>
        <p:spPr>
          <a:xfrm>
            <a:off x="6372360" y="3789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3"/>
          <a:stretch/>
        </p:blipFill>
        <p:spPr>
          <a:xfrm>
            <a:off x="7667640" y="2565360"/>
            <a:ext cx="136836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ипология социального взаимодействия по сферам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267920"/>
            <a:ext cx="90727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ы выступают как собственники и наемные работники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виды противоборствуют или сотрудничают в качестве представителей политических партий, общественных движений, а также в качестве субъектов государственной власти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ональн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ы участвуют как представители разных профессий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графиче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ключая контакты между представителями различных полов, возрастов, национальностей и рас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емейно-родственна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рриториально-поселенческ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сходят столкновение, сотрудничество, конкуренция между местными и пришлыми, постоянно и временно проживающими и т. п.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лигиоз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разумевает контакты между представителями разных религий, а также верующими и атеистам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3:22:44Z</dcterms:created>
  <dc:creator>Администратор</dc:creator>
  <dc:description/>
  <dc:language>en-US</dc:language>
  <cp:lastModifiedBy>Надежда</cp:lastModifiedBy>
  <dcterms:modified xsi:type="dcterms:W3CDTF">2017-09-07T10:00:26Z</dcterms:modified>
  <cp:revision>21</cp:revision>
  <dc:subject/>
  <dc:title>Слайд 1</dc:title>
</cp:coreProperties>
</file>