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409-3E56-4084-8C07-E82D249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ADE-3D3A-4701-9BD3-6C5B2508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0C2-F5A3-47A2-9C6B-67CA699A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457-39F5-48D1-93D4-9C62F58E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A99-7F12-487D-8514-B322CF9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C6A-45AF-4BDF-9FD9-952A1D9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BC3-A21B-4E84-BF5E-75DE706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146-CECD-4280-9FFE-37582AD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68B-D938-4F24-8D81-7DED323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897-524C-4EED-BFE5-340146E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B72-C478-4653-9D43-8E83421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6F5-60CE-4DD7-BA84-D8706B7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5DC-25F6-469E-94A2-420360E329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0" y="1731960"/>
            <a:ext cx="935676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2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нятия, связанные с демократи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16000" y="1836720"/>
            <a:ext cx="763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плюрализм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автономных социально-политических партий, движений, групп, находящихся в состоянии свободной конкуренц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16000" y="4087800"/>
            <a:ext cx="770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хлократия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los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толпа» и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tos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власть») политическая ситуация, при котором принцип гражданской свободы подменяется принципом произвола тол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816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плюрализ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1628280"/>
            <a:ext cx="7999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и равноправие разнообразных элементов   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диктатуры и наси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к оп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нфликтов в рамках закона мирными сред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овешивание интересов с помощью компромисса, поиск   консенс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816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628280"/>
            <a:ext cx="7999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в РФ существует политический плюрал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0"/>
          <p:cNvSpPr/>
          <p:nvPr/>
        </p:nvSpPr>
        <p:spPr>
          <a:xfrm>
            <a:off x="1293840" y="974880"/>
            <a:ext cx="669600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293840" y="1197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я (от греч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1116000" y="2637000"/>
            <a:ext cx="302436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214960" y="2660760"/>
            <a:ext cx="280836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332000" y="2819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435640" y="28558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2700360" y="4437000"/>
            <a:ext cx="3384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2806560" y="46339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ть на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9"/>
          <p:cNvSpPr/>
          <p:nvPr/>
        </p:nvSpPr>
        <p:spPr>
          <a:xfrm>
            <a:off x="3132000" y="3740040"/>
            <a:ext cx="5032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"/>
          <p:cNvSpPr/>
          <p:nvPr/>
        </p:nvSpPr>
        <p:spPr>
          <a:xfrm flipH="1">
            <a:off x="5389200" y="3760920"/>
            <a:ext cx="64764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4427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354560" y="278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лако 3"/>
          <p:cNvSpPr/>
          <p:nvPr/>
        </p:nvSpPr>
        <p:spPr>
          <a:xfrm>
            <a:off x="4211640" y="0"/>
            <a:ext cx="4537080" cy="580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643280" y="981000"/>
            <a:ext cx="381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мократия – это власть народа, исходящая от народа и для нар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5232600" y="41497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. Линколь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storyimage-image-2944_t_w600_h1200.jpg"/>
          <p:cNvPicPr/>
          <p:nvPr/>
        </p:nvPicPr>
        <p:blipFill>
          <a:blip r:embed="rId1"/>
          <a:stretch/>
        </p:blipFill>
        <p:spPr>
          <a:xfrm>
            <a:off x="0" y="0"/>
            <a:ext cx="4160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блако 3"/>
          <p:cNvSpPr/>
          <p:nvPr/>
        </p:nvSpPr>
        <p:spPr>
          <a:xfrm>
            <a:off x="3924360" y="0"/>
            <a:ext cx="4824360" cy="580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284720" y="1341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мократия – это когда народ сам определяет свою судьб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92720" y="3860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. Солженицы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8634-1.jpg"/>
          <p:cNvPicPr/>
          <p:nvPr/>
        </p:nvPicPr>
        <p:blipFill>
          <a:blip r:embed="rId1"/>
          <a:srcRect l="5566" t="0" r="11513" b="0"/>
          <a:stretch/>
        </p:blipFill>
        <p:spPr>
          <a:xfrm>
            <a:off x="0" y="0"/>
            <a:ext cx="374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1144440"/>
            <a:ext cx="8785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народа как источника государственной власти, носителя суверенит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гарантии и соблюдение прав и свобод граждан, их равноправие, реальная возможность принимать участие в политическ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ность основных органов государственной власти на основе всеобщего, равного и прямого избирательного права при тайном голос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разделена на независимые друг от друга законодательную, исполнительную и судебную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система органов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ует многопартийная система, при которой одна партия может сменить у власти другую в результате выб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 полностью свободны от ценз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14320" y="57456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демокра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4743360" y="1746000"/>
            <a:ext cx="4049640" cy="217188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843280" y="3357720"/>
            <a:ext cx="2643120" cy="180000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549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нности демокра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39640" y="4941720"/>
            <a:ext cx="2737080" cy="151164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620280"/>
            <a:ext cx="7157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ханизмы демокра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литической стабильности об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мпромисс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аждой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ое разрешение конфли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ривилегий у должностны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ая  конкурентная  борьба  в  процессе   избирательной комп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 пр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404280"/>
            <a:ext cx="7157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ы демокра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1160" y="1773360"/>
            <a:ext cx="40197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(пря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512680" y="1773360"/>
            <a:ext cx="28353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79280" y="2553840"/>
            <a:ext cx="4043520" cy="4290120"/>
          </a:xfrm>
          <a:prstGeom prst="flowChart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участ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 в принятии важнейши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х реш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­ствлении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волеизъявление народа через выборы, референдум, всенародное и ме­стное обсуждение вопрос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и обществен­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932360" y="2552040"/>
            <a:ext cx="3979800" cy="3910680"/>
          </a:xfrm>
          <a:prstGeom prst="flowChart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наро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­сти через выборных полномоч­ных представ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ели представительн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,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­тельные органы в центре и на местах, выборные представите­ли исполнительной и судеб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2771640" y="1125360"/>
            <a:ext cx="43200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867280" y="1125360"/>
            <a:ext cx="64944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670400" y="1890720"/>
            <a:ext cx="19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855040" y="1844640"/>
            <a:ext cx="23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H="1">
            <a:off x="2916360" y="1268280"/>
            <a:ext cx="50328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6372360" y="1268280"/>
            <a:ext cx="360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39320" y="37893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81360" y="3789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012000" y="450864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ист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8427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426080" y="3200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547640" y="4508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и и мит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140080" y="400536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1763640" y="3068640"/>
            <a:ext cx="432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3132000" y="306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627280" y="306864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5866920" y="2781360"/>
            <a:ext cx="289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7812000" y="278136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6372360" y="2924280"/>
            <a:ext cx="50472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7236000" y="2997360"/>
            <a:ext cx="360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леизъявление нар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831960" y="5516640"/>
            <a:ext cx="78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еренду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сенародное голосование по какому-либо вопросу (ответы «да» или «н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07:26:34Z</dcterms:created>
  <dc:creator>Сондра</dc:creator>
  <dc:description/>
  <dc:language>en-US</dc:language>
  <cp:lastModifiedBy>Надежда</cp:lastModifiedBy>
  <dcterms:modified xsi:type="dcterms:W3CDTF">2018-03-26T09:29:32Z</dcterms:modified>
  <cp:revision>19</cp:revision>
  <dc:subject/>
  <dc:title>Демократия.</dc:title>
</cp:coreProperties>
</file>