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452-9052-422D-86CE-294A882F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5EB-440F-40F4-B40E-C7CA6AEC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7FF-EC50-499E-9400-A0CFF852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123-1469-4C68-B064-C87B5745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A09-516E-4B9E-A8F4-6FC8618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6F0-29D0-4878-BB53-A7C55986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563-17B3-4C28-BFDE-27EF1913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270-BE7E-47BA-9A32-52393923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7D5-8FB5-46B6-B9C8-15CC044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767-37BF-4A1C-8D9C-0395CE6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B65-C577-412F-A199-ABB00BA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7ED-86B1-411F-BE5F-851EDC4D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9F8-8905-4CFE-8D1A-B30496BBCC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0" y="1731960"/>
            <a:ext cx="935676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42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нятия, связанные с демократи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116000" y="1836720"/>
            <a:ext cx="763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плюрализм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автономных социально-политических партий, движений, групп, находящихся в состоянии свободной конкуренц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16000" y="4087800"/>
            <a:ext cx="770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хлократия</a:t>
            </a: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los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толпа» и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tos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власть») политическая ситуация, при котором принцип гражданской свободы подменяется принципом произвола тол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816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ий плюрализ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1628280"/>
            <a:ext cx="7999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и равноправие разнообразных элементов   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диктатуры и насил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ь к оппози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онфликтов в рамках закона мирными сред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овешивание интересов с помощью компромисса, поиск   консенс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816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1280" y="1628280"/>
            <a:ext cx="7999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в РФ существует политический плюрал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0"/>
          <p:cNvSpPr/>
          <p:nvPr/>
        </p:nvSpPr>
        <p:spPr>
          <a:xfrm>
            <a:off x="1293840" y="974880"/>
            <a:ext cx="6696000" cy="115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293840" y="1197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кратия (от греч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>
            <a:off x="1116000" y="2637000"/>
            <a:ext cx="302436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5214960" y="2660760"/>
            <a:ext cx="280836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332000" y="28195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435640" y="28558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>
            <a:off x="2700360" y="4437000"/>
            <a:ext cx="3384360" cy="158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2806560" y="463392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сть на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9"/>
          <p:cNvSpPr/>
          <p:nvPr/>
        </p:nvSpPr>
        <p:spPr>
          <a:xfrm>
            <a:off x="3132000" y="3740040"/>
            <a:ext cx="50328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0"/>
          <p:cNvSpPr/>
          <p:nvPr/>
        </p:nvSpPr>
        <p:spPr>
          <a:xfrm flipH="1">
            <a:off x="5389200" y="3760920"/>
            <a:ext cx="647640" cy="57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4427640" y="2708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4354560" y="27874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лако 3"/>
          <p:cNvSpPr/>
          <p:nvPr/>
        </p:nvSpPr>
        <p:spPr>
          <a:xfrm>
            <a:off x="4211640" y="0"/>
            <a:ext cx="4537080" cy="5805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643280" y="981000"/>
            <a:ext cx="381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мократия – это власть народа, исходящая от народа и для нар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5232600" y="41497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. Линколь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storyimage-image-2944_t_w600_h1200.jpg"/>
          <p:cNvPicPr/>
          <p:nvPr/>
        </p:nvPicPr>
        <p:blipFill>
          <a:blip r:embed="rId1"/>
          <a:stretch/>
        </p:blipFill>
        <p:spPr>
          <a:xfrm>
            <a:off x="0" y="0"/>
            <a:ext cx="4160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Облако 3"/>
          <p:cNvSpPr/>
          <p:nvPr/>
        </p:nvSpPr>
        <p:spPr>
          <a:xfrm>
            <a:off x="3924360" y="0"/>
            <a:ext cx="4824360" cy="58053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4284720" y="134136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Демократия – это когда народ сам определяет свою судьб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92720" y="3860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А. Солженицы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8634-1.jpg"/>
          <p:cNvPicPr/>
          <p:nvPr/>
        </p:nvPicPr>
        <p:blipFill>
          <a:blip r:embed="rId1"/>
          <a:srcRect l="5566" t="0" r="11513" b="0"/>
          <a:stretch/>
        </p:blipFill>
        <p:spPr>
          <a:xfrm>
            <a:off x="0" y="0"/>
            <a:ext cx="374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7640" y="1144440"/>
            <a:ext cx="87850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народа как источника государственной власти, носителя суверенит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гарантии и соблюдение прав и свобод граждан, их равноправие, реальная возможность принимать участие в политическ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ность основных органов государственной власти на основе всеобщего, равного и прямого избирательного права при тайном голос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 разделена на независимые друг от друга законодательную, исполнительную и судебную в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ая система органов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ует многопартийная система, при которой одна партия может сменить у власти другую в результате выб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 полностью свободны от ценз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14320" y="57456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демокра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8"/>
          <p:cNvSpPr/>
          <p:nvPr/>
        </p:nvSpPr>
        <p:spPr>
          <a:xfrm>
            <a:off x="4743360" y="1746000"/>
            <a:ext cx="4049640" cy="2171880"/>
          </a:xfrm>
          <a:prstGeom prst="flowChartPunchedCar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843280" y="3357720"/>
            <a:ext cx="2643120" cy="1800000"/>
          </a:xfrm>
          <a:prstGeom prst="flowChartPunchedCar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Раве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549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нности демократ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39640" y="4941720"/>
            <a:ext cx="2737080" cy="1511640"/>
          </a:xfrm>
          <a:prstGeom prst="flowChartPunchedCard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620280"/>
            <a:ext cx="7157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ханизмы демократ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литической стабильности об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компромисс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ение каждой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ное разрешение конфли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ривилегий у должностны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ая  конкурентная  борьба  в  процессе   избирательной комп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 пр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1680" y="404280"/>
            <a:ext cx="7157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ы демократ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1160" y="1773360"/>
            <a:ext cx="40197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(прям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512680" y="1773360"/>
            <a:ext cx="28353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79280" y="2553840"/>
            <a:ext cx="4043520" cy="4290120"/>
          </a:xfrm>
          <a:prstGeom prst="flowChart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участ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а в принятии важнейших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х реш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­ствлении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е волеизъявление народа через выборы, референдум, всенародное и ме­стное обсуждение вопрос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и обществен­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932360" y="2552040"/>
            <a:ext cx="3979800" cy="3910680"/>
          </a:xfrm>
          <a:prstGeom prst="flowChart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народ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­сти через выборных полномоч­ных представ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ели представительн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ациональны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,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­тельные органы в центре и на местах, выборные представите­ли исполнительной и судеб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H="1">
            <a:off x="2771640" y="1125360"/>
            <a:ext cx="43200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867280" y="1125360"/>
            <a:ext cx="64944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670400" y="1890720"/>
            <a:ext cx="19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855040" y="1844640"/>
            <a:ext cx="23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H="1">
            <a:off x="2916360" y="1268280"/>
            <a:ext cx="50328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6372360" y="1268280"/>
            <a:ext cx="360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039320" y="37893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781360" y="37893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012000" y="450864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мист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842720" y="32004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426080" y="32004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т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1547640" y="4508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и и мит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140080" y="4005360"/>
            <a:ext cx="16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1763640" y="3068640"/>
            <a:ext cx="43200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3132000" y="306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2627280" y="306864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H="1">
            <a:off x="5866920" y="2781360"/>
            <a:ext cx="2890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7812000" y="2781360"/>
            <a:ext cx="21600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6372360" y="2924280"/>
            <a:ext cx="50472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7236000" y="2997360"/>
            <a:ext cx="360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леизъявление нар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831960" y="5516640"/>
            <a:ext cx="78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ференду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сенародное голосование по какому-либо вопросу (ответы «да» или «н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07:26:34Z</dcterms:created>
  <dc:creator>Сондра</dc:creator>
  <dc:description/>
  <dc:language>en-US</dc:language>
  <cp:lastModifiedBy>Надежда</cp:lastModifiedBy>
  <dcterms:modified xsi:type="dcterms:W3CDTF">2018-03-26T09:29:32Z</dcterms:modified>
  <cp:revision>19</cp:revision>
  <dc:subject/>
  <dc:title>Демократия.</dc:title>
</cp:coreProperties>
</file>