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B9DE-22A6-4FC2-BE7F-89A2A9E235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4DED0-2B26-40B8-9880-44C0E65389FA}" type="slidenum">
              <a:rPr b="1" lang="ru-RU" sz="1200" spc="-1" strike="noStrike">
                <a:solidFill>
                  <a:srgbClr val="ff00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8831-DB30-48E2-A352-BDDFE6CF3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C34D-D947-4614-AE0F-CB237C9B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44CC1-D392-4B1D-8447-7CC3116A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866C4-3F74-4F41-96E4-86E1643E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97688-D4EA-4DD8-B78E-6BC79B673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83609-C2EE-4835-842C-7191A663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26B34E-1022-4812-BD9E-F5F1FF1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BDE4C7-46D9-40AA-B7C7-1169587A6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D5234-68DD-41E5-9C4A-AE52BE5B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5B6E7-A350-4E59-97A0-094F276E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60851-AE58-4E0A-8219-F8641ABF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424D2-A59F-444D-8BD1-FDB5658FE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9F6D-0C95-46C8-A663-FDFF9234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704FF-EBD6-4ACE-841F-FCDF71E5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95AD61-CC6B-4494-BC95-F2AEEE0C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5A471-E246-4B04-A544-29B56FFE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4DABD-1742-49C8-8ED6-13B8FFB3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A2007-1E60-4B8E-BEC7-ECEEFFF1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4CA26-4396-4840-9DF8-944EB0AE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B35F3-EEFC-40EE-8F1C-87C86AA3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1E6C0-011A-48B6-A7A7-D04549A3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AECA33-A3E7-4577-81E1-DF69707A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FC648-B83B-4D8C-BEE2-FE5926FE0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418-A696-4A30-98A8-575D829B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316C8-1169-4D9A-A442-76CACD82A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3347D0-244C-4B9F-9A33-8D411647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A3FC7-FEE3-47CA-9BEF-52CFA0EB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D913A-B4B3-4B79-92EF-887F4F8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38642-B47F-4F4B-9DE6-77D10F3F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6D5800-9525-4D7D-BA94-49BBD9137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82381-0D65-43DF-8D96-F63035BCD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E18ED-D8C4-4FD1-8653-951E10219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D6B7B-596A-4B6D-B65A-8025815E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D14B0-EE87-4563-8452-E00435E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6FACD-1CC7-482C-A17F-C2DFA7F7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2F46A8-3F9C-431F-940E-421376CD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113D2-0396-4C01-87BA-59916B2E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140778-C5D0-4791-BD73-8E9D7CED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E1980-B919-440F-8502-38BA469F5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77C2C6-4B61-4DE5-87A7-2A014F73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59AF2E-7514-4250-9EAD-C210724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39DDD-B078-4981-96A5-ABA9AC58B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318AC-6935-4603-81BB-9F8AED3E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2D9B6-FF0C-4DD3-B273-586AED3F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BE218-BB4D-4284-8765-8649BD6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8CB5-51BA-4C9A-AC9B-09965B90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3B483-3C11-4A97-A1D4-D0E5E49B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0F9CF-F40B-4A45-BE64-C93EF281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9DEF3-1FA4-42CA-BBCD-A20B1F6C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359C5C-E473-489E-87AF-BC59396B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D6049-A1EB-4DCE-BEE2-103EE1CE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B45C11-6A83-4E96-8F63-3EC00442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B1730F-DF95-421E-95C7-2CB6AB8BD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98C7CD-C27F-40C7-BD98-1D0997C3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77F873-C772-487C-85B3-A35D16F4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32BE5D-025E-4459-A6AA-2DDAC082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E8BB-272C-448E-ACD9-9C6ABF1A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41D77F-F744-4BCC-8CED-28BDF11C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0C2098-B9A9-4013-BE0E-5766FADE9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852C9-70DC-45DE-999A-7B7D400F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D9A352-611C-44E0-AF1C-A8177AC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6E64DA-BC10-496D-98D6-83CD874C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E93CD-998B-4566-A55B-B3B398C4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38FA7-203B-4B06-BAFC-EE1D66B4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7AAD-5555-43B4-9A59-CF291C50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82DE-4CA8-4DE1-B293-861470DE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3DE34-AB26-4FB7-9022-C96826EF8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E21C-7035-400E-80A0-8FFEBED4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E5B-CEE7-48FB-8031-C00DC5EE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912D-762E-4218-BCBB-54823CEF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392DF-0776-4438-B917-3A2651B2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FB880-B7DF-4B82-8A7C-0856C43D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B564-9E21-4AA1-B37A-24D78CEF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26F9-6D30-47BF-AEFF-F9ACEBEC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83BB4-975F-4409-907B-37F14237A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DD259-EAB3-4BFA-BE9C-C4AD2AC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ABCAA-FE90-4E30-9F6C-FB06205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AE332-9797-43E0-8FD0-632A69E42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B0496-88A6-4386-A146-AC47E7DB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C33D-9876-4D35-8A07-36758990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75B131-6FE8-40F6-8F57-E3039115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C642-1870-4B8B-8D1A-653BD14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CBEF6-44A3-4414-BBBD-AAF42B21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04602-8D98-47D4-A5E1-6107F3228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8D05F-1988-4256-8304-24F1AC7E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8C74B-EBF3-4951-AC4A-864FBB032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9D0DF-BD7B-4DF1-9878-E5A5E9C3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86F10-0CA5-4277-AC7B-B3BDFABF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C2724-4C6D-4191-991F-14575CBAA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73721-9209-4279-97F9-C3C9F475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1D7C-93A7-42F6-8A09-9CB5BB31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1A2E2-FB6E-47A3-B2C8-57D09526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29658-171B-49E7-8E2E-C91D0864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1D4387-68C0-49BE-8AC5-5B628883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4490E-4781-4195-9157-EF25A9FA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E3015-A0E3-467C-83ED-8B04AF8B2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347F3-CC70-4867-AE8C-41A7F2F8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E8BA4-5D78-49C1-A7E8-E6A02DCA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5AD44-523C-43B8-A6E4-9AC1A4FC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6348E-B71D-49A2-8B16-281888739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3CA90-B43D-409C-ACBA-F323A16F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5C38-EAE9-4558-942D-074079DB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911B1-68A3-489C-9130-90B5E0D3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0881DC-8377-478A-9571-44531E30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F668A-C35D-428E-B41A-72B308367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B1F53E-FDCA-44A7-9E0F-A01EACB7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BEBFE-11FB-4D06-957A-13F69452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77F7E-F737-422B-BBD7-80E27D822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1B17-7502-4B57-8AC6-185A8FB1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BB9B-253F-4BBE-B5A5-0A0A977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F92DB-E867-41B6-8D28-E8D0679B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3A882-E45F-4A22-B3F1-0D68F6E2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A6B6-3F0C-4845-A64B-4F0F6B81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DABAE-ADF3-4E38-9073-2FD39EE6E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EB248-889F-473F-9417-138DDB1A0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DB80B-11A8-42C0-80E3-1A092FEE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50D38-AE6F-45BB-ADB3-59FED7CCE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AF6E4-8870-41DE-9FE7-DBB9AE67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11F1B-096A-40CF-9B3B-9BF6EAAD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B75210-0B05-483E-AD7E-59C1834C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13005-12E4-43C6-93E3-AC2C20503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14F87-C35E-4576-99E4-293EC74D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EDDE0-38CF-483C-83F3-5E6A36F4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364D-4662-4517-9BFB-1E418C48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249F6-CA44-4B59-ABB5-C121540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8F86C-D832-4B96-9F16-0E7F16E0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76210-4CB0-4198-AF7F-55D74736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9032B-AF39-4E19-A6DF-1BC9AF91A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342F-6EFF-48C1-ACDD-6E4B217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C04E4-D750-402E-BCE0-E9266B6D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EEA20-EE8C-4793-8F0C-49570A51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F11E9-0C39-4739-BE61-8E13F21E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A22EA-2FD7-4709-B8B6-6041F178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1D21BA-55CA-4B8D-9D8F-20D633EF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9DED-4E9F-45AC-8196-633E3189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94FE7-A4D7-4CE1-92C2-0F59B1DF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19B9E-6A1E-4FAA-9F76-C8EE9854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FBE3B-4E06-4FC0-97B2-432AA97E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999A72-794C-49E4-9788-242D6A7B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B7B8C-32FB-4EAA-92A5-C334B6AA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019E61-6471-403B-9958-90E09264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25610-1AF7-4CE5-A775-FF419737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B5605-DF57-4286-860D-18318109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B6B3F-7F78-417D-9288-6C9E6E38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AE18D5-2F16-4293-9868-BC285004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54B6-3234-44C4-BB86-10327B43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EDE2B4-1C40-4FB0-A691-FBADBD09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9145B-D9B0-4815-ACF4-2AD8FD0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C7F60-5591-4324-8161-ACDA32A4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A5307-861A-4F6E-85CF-22F96A2F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7F0E-57F6-4618-BD12-B67B1F04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8C0D5-40DA-4702-8392-D0E41E28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B130-158B-4D52-A5BF-C968B76F0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FBD6A-DEBA-4364-BEC4-7A5CE2200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F06F3-502C-464A-9EF0-77941A97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B5C83B-1C04-4770-8DE4-C98438FE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9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0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1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3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5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6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7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804B7-CEAB-499F-B160-0D4DF722FC7B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5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5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4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4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5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5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5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5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6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B882-5316-47B0-BD7A-E9BA7977080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6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6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0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0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6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6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1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2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A9EE-6492-49A2-BBBB-4CCF593F814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6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6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6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6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6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6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6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7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8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6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F9814-C0A4-4D11-A713-0BF59674DF0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7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7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2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2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7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7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7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3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4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7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E70D-509E-4267-9B3C-73CA8CB396A4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9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2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3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4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5"/>
                <p:cNvSpPr/>
                <p:nvPr/>
              </p:nvSpPr>
              <p:spPr>
                <a:xfrm>
                  <a:off x="418320" y="420120"/>
                  <a:ext cx="426312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5" name="Oval 6"/>
                <p:cNvSpPr/>
                <p:nvPr/>
              </p:nvSpPr>
              <p:spPr>
                <a:xfrm>
                  <a:off x="837000" y="840600"/>
                  <a:ext cx="3431160" cy="3191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6" name="Oval 7"/>
                <p:cNvSpPr/>
                <p:nvPr/>
              </p:nvSpPr>
              <p:spPr>
                <a:xfrm>
                  <a:off x="1255320" y="1261080"/>
                  <a:ext cx="2594520" cy="2360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67" name="Oval 8"/>
                <p:cNvSpPr/>
                <p:nvPr/>
              </p:nvSpPr>
              <p:spPr>
                <a:xfrm>
                  <a:off x="1590120" y="1597680"/>
                  <a:ext cx="1923120" cy="168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Group 9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0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0" name="Oval 11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1" name="Oval 12"/>
                <p:cNvSpPr/>
                <p:nvPr/>
              </p:nvSpPr>
              <p:spPr>
                <a:xfrm>
                  <a:off x="3837240" y="3830760"/>
                  <a:ext cx="2614320" cy="2398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2" name="Oval 13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3" name="Oval 14"/>
                <p:cNvSpPr/>
                <p:nvPr/>
              </p:nvSpPr>
              <p:spPr>
                <a:xfrm>
                  <a:off x="4409280" y="4398480"/>
                  <a:ext cx="1466640" cy="1258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Group 15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6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6" name="Oval 17"/>
                <p:cNvSpPr/>
                <p:nvPr/>
              </p:nvSpPr>
              <p:spPr>
                <a:xfrm>
                  <a:off x="4851360" y="506880"/>
                  <a:ext cx="3637080" cy="3406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7" name="Oval 18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8" name="Oval 19"/>
                <p:cNvSpPr/>
                <p:nvPr/>
              </p:nvSpPr>
              <p:spPr>
                <a:xfrm>
                  <a:off x="5563440" y="1216080"/>
                  <a:ext cx="2207160" cy="1990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  <p:sp>
              <p:nvSpPr>
                <p:cNvPr id="79" name="Oval 20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ff00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0" name="Line 26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81" name="Line 27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00ff"/>
                </a:solidFill>
                <a:latin typeface="Arial"/>
              </a:endParaRPr>
            </a:p>
          </p:txBody>
        </p:sp>
        <p:sp>
          <p:nvSpPr>
            <p:cNvPr id="82" name="Line 28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ff00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E29E-0540-4F65-A7B7-D5D1FFB4D00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2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3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4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E2DE-E259-4AB5-84E6-EC6E0A2B1FA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1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8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1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19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0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9D10-85BB-4825-9612-53DEA39D1B92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24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4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4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4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4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25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25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25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25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5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6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6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26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A74D-C4A0-4E8C-A7B9-22588E8AD4E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30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30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0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0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0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31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1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31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1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2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2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2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E6E5-170A-4F5E-9E3B-6F8BA286B2A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36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36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6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6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6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7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37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37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7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8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8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38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DC1DE-014C-4E73-8E01-B1FA5409E84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2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2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2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2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2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3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3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3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4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4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4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C1F5-6034-49B8-BC86-AEFAFFE1B040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5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485" name="Group 12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486" name="Oval 7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87" name="Oval 8"/>
              <p:cNvSpPr/>
              <p:nvPr/>
            </p:nvSpPr>
            <p:spPr>
              <a:xfrm>
                <a:off x="418320" y="420120"/>
                <a:ext cx="426312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88" name="Oval 9"/>
              <p:cNvSpPr/>
              <p:nvPr/>
            </p:nvSpPr>
            <p:spPr>
              <a:xfrm>
                <a:off x="837000" y="840600"/>
                <a:ext cx="3431160" cy="3191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89" name="Oval 10"/>
              <p:cNvSpPr/>
              <p:nvPr/>
            </p:nvSpPr>
            <p:spPr>
              <a:xfrm>
                <a:off x="1255320" y="1261080"/>
                <a:ext cx="2594520" cy="2360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0" name="Oval 11"/>
              <p:cNvSpPr/>
              <p:nvPr/>
            </p:nvSpPr>
            <p:spPr>
              <a:xfrm>
                <a:off x="1590120" y="1597680"/>
                <a:ext cx="1923120" cy="168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13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492" name="Oval 14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3" name="Oval 15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4" name="Oval 16"/>
              <p:cNvSpPr/>
              <p:nvPr/>
            </p:nvSpPr>
            <p:spPr>
              <a:xfrm>
                <a:off x="3837240" y="3830760"/>
                <a:ext cx="2614320" cy="2398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5" name="Oval 17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4409280" y="4398480"/>
                <a:ext cx="1466640" cy="1258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9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498" name="Oval 20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499" name="Oval 21"/>
              <p:cNvSpPr/>
              <p:nvPr/>
            </p:nvSpPr>
            <p:spPr>
              <a:xfrm>
                <a:off x="4851360" y="506880"/>
                <a:ext cx="3637080" cy="3406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00" name="Oval 22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01" name="Oval 23"/>
              <p:cNvSpPr/>
              <p:nvPr/>
            </p:nvSpPr>
            <p:spPr>
              <a:xfrm>
                <a:off x="5563440" y="1216080"/>
                <a:ext cx="2207160" cy="1990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ff00ff"/>
                  </a:solidFill>
                  <a:latin typeface="Arial"/>
                </a:endParaRPr>
              </a:p>
            </p:txBody>
          </p:sp>
        </p:grp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49E9-9E0A-4CF1-9CC9-CF5B50D8B5A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 rot="348600">
            <a:off x="651960" y="258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2d050"/>
                </a:solidFill>
                <a:latin typeface="Monotype Corsiva"/>
              </a:rPr>
              <a:t>Общество как сложная динамическая система.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AutoShape 4"/>
          <p:cNvSpPr/>
          <p:nvPr/>
        </p:nvSpPr>
        <p:spPr>
          <a:xfrm>
            <a:off x="1403280" y="333360"/>
            <a:ext cx="6624720" cy="2016000"/>
          </a:xfrm>
          <a:prstGeom prst="flowChartDecision">
            <a:avLst/>
          </a:prstGeom>
          <a:solidFill>
            <a:srgbClr val="003399"/>
          </a:solidFill>
          <a:ln w="5724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3" name="Text Box 5"/>
          <p:cNvSpPr/>
          <p:nvPr/>
        </p:nvSpPr>
        <p:spPr>
          <a:xfrm>
            <a:off x="2627280" y="1038240"/>
            <a:ext cx="424980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бщество 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широком смысле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4" name="AutoShape 6"/>
          <p:cNvSpPr/>
          <p:nvPr/>
        </p:nvSpPr>
        <p:spPr>
          <a:xfrm>
            <a:off x="1741320" y="3100320"/>
            <a:ext cx="6048720" cy="2737080"/>
          </a:xfrm>
          <a:prstGeom prst="flowChartPreparation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2417760" y="3860640"/>
            <a:ext cx="489744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Совокупность исторически сложившихся форм совместной деятельности людей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6" name="AutoShape 8"/>
          <p:cNvSpPr/>
          <p:nvPr/>
        </p:nvSpPr>
        <p:spPr>
          <a:xfrm>
            <a:off x="4356000" y="2349360"/>
            <a:ext cx="720720" cy="719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AutoShape 4"/>
          <p:cNvSpPr/>
          <p:nvPr/>
        </p:nvSpPr>
        <p:spPr>
          <a:xfrm>
            <a:off x="1116000" y="260280"/>
            <a:ext cx="6985080" cy="1008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8" name="Text Box 5"/>
          <p:cNvSpPr/>
          <p:nvPr/>
        </p:nvSpPr>
        <p:spPr>
          <a:xfrm>
            <a:off x="1224000" y="987480"/>
            <a:ext cx="662616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дсистемы общества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799" name="AutoShape 6"/>
          <p:cNvSpPr/>
          <p:nvPr/>
        </p:nvSpPr>
        <p:spPr>
          <a:xfrm>
            <a:off x="1187280" y="1628640"/>
            <a:ext cx="6913800" cy="13687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1366920" y="2463840"/>
            <a:ext cx="641016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Объединения, состоящие из элементов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1" name="AutoShape 8"/>
          <p:cNvSpPr/>
          <p:nvPr/>
        </p:nvSpPr>
        <p:spPr>
          <a:xfrm>
            <a:off x="4211640" y="1268280"/>
            <a:ext cx="93672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2" name="Oval 9"/>
          <p:cNvSpPr/>
          <p:nvPr/>
        </p:nvSpPr>
        <p:spPr>
          <a:xfrm>
            <a:off x="324000" y="3933720"/>
            <a:ext cx="2232000" cy="16560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3" name="Text Box 10"/>
          <p:cNvSpPr/>
          <p:nvPr/>
        </p:nvSpPr>
        <p:spPr>
          <a:xfrm>
            <a:off x="546120" y="4878360"/>
            <a:ext cx="1800360" cy="9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Люди</a:t>
            </a:r>
            <a:r>
              <a:rPr b="1" lang="ru-RU" sz="40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4" name="AutoShape 12"/>
          <p:cNvSpPr/>
          <p:nvPr/>
        </p:nvSpPr>
        <p:spPr>
          <a:xfrm>
            <a:off x="2987640" y="3716280"/>
            <a:ext cx="2448000" cy="107964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2843280" y="4307040"/>
            <a:ext cx="2665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объединяются в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6" name="AutoShape 14"/>
          <p:cNvSpPr/>
          <p:nvPr/>
        </p:nvSpPr>
        <p:spPr>
          <a:xfrm>
            <a:off x="5651640" y="3357720"/>
            <a:ext cx="2950920" cy="7207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7" name="AutoShape 15"/>
          <p:cNvSpPr/>
          <p:nvPr/>
        </p:nvSpPr>
        <p:spPr>
          <a:xfrm>
            <a:off x="5651640" y="4365720"/>
            <a:ext cx="2952720" cy="71892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8" name="Text Box 16"/>
          <p:cNvSpPr/>
          <p:nvPr/>
        </p:nvSpPr>
        <p:spPr>
          <a:xfrm>
            <a:off x="5832360" y="3795840"/>
            <a:ext cx="266400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группы (семья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5724360" y="4795920"/>
            <a:ext cx="273528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тносы (нация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0" name="AutoShape 18"/>
          <p:cNvSpPr/>
          <p:nvPr/>
        </p:nvSpPr>
        <p:spPr>
          <a:xfrm>
            <a:off x="2987640" y="5229360"/>
            <a:ext cx="2448000" cy="100800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3059280" y="5892840"/>
            <a:ext cx="23047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бразуют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2" name="AutoShape 20"/>
          <p:cNvSpPr/>
          <p:nvPr/>
        </p:nvSpPr>
        <p:spPr>
          <a:xfrm>
            <a:off x="5724360" y="5229360"/>
            <a:ext cx="2808360" cy="1152360"/>
          </a:xfrm>
          <a:prstGeom prst="roundRect">
            <a:avLst>
              <a:gd name="adj" fmla="val 16667"/>
            </a:avLst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3" name="Text Box 21"/>
          <p:cNvSpPr/>
          <p:nvPr/>
        </p:nvSpPr>
        <p:spPr>
          <a:xfrm>
            <a:off x="5796000" y="5618160"/>
            <a:ext cx="273672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социальные институты (государство)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4" name="Line 22"/>
          <p:cNvSpPr/>
          <p:nvPr/>
        </p:nvSpPr>
        <p:spPr>
          <a:xfrm>
            <a:off x="2556000" y="4724280"/>
            <a:ext cx="21564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5" name="Line 23"/>
          <p:cNvSpPr/>
          <p:nvPr/>
        </p:nvSpPr>
        <p:spPr>
          <a:xfrm>
            <a:off x="2771640" y="3933720"/>
            <a:ext cx="0" cy="18003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6" name="Line 24"/>
          <p:cNvSpPr/>
          <p:nvPr/>
        </p:nvSpPr>
        <p:spPr>
          <a:xfrm>
            <a:off x="2771640" y="573408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7" name="Line 25"/>
          <p:cNvSpPr/>
          <p:nvPr/>
        </p:nvSpPr>
        <p:spPr>
          <a:xfrm>
            <a:off x="2771640" y="3933720"/>
            <a:ext cx="21600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8" name="Line 26"/>
          <p:cNvSpPr/>
          <p:nvPr/>
        </p:nvSpPr>
        <p:spPr>
          <a:xfrm flipV="1">
            <a:off x="5435640" y="3789000"/>
            <a:ext cx="216000" cy="43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19" name="Line 27"/>
          <p:cNvSpPr/>
          <p:nvPr/>
        </p:nvSpPr>
        <p:spPr>
          <a:xfrm>
            <a:off x="5435640" y="4221000"/>
            <a:ext cx="216000" cy="43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0" name="Line 28"/>
          <p:cNvSpPr/>
          <p:nvPr/>
        </p:nvSpPr>
        <p:spPr>
          <a:xfrm>
            <a:off x="5435640" y="5734080"/>
            <a:ext cx="2887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55640" y="10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Monotype Corsiva"/>
              </a:rPr>
              <a:t>Компоненты общества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08000" y="907920"/>
            <a:ext cx="892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Народ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 это историческая форма общности людей, связанных с условиями производства материальных и духовных благ, языком, культурой и происхождение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Наци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 историческая форма организации жизни какого-либо одного народа(или нескольких близких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Государство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- это основанная на праве и законе форма организации жизни народа или наци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3" name="Rectangle 3"/>
          <p:cNvSpPr/>
          <p:nvPr/>
        </p:nvSpPr>
        <p:spPr>
          <a:xfrm>
            <a:off x="108000" y="3789360"/>
            <a:ext cx="8856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Природа-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это совокупность естественных условий существования человеческого общества(находятся в тесной взаимосвязи).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</a:rPr>
              <a:t>Человек-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это живое существо, которое оказывает максимальное воздействие на природу.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AutoShape 4"/>
          <p:cNvSpPr/>
          <p:nvPr/>
        </p:nvSpPr>
        <p:spPr>
          <a:xfrm>
            <a:off x="684360" y="260280"/>
            <a:ext cx="4174920" cy="865080"/>
          </a:xfrm>
          <a:prstGeom prst="roundRect">
            <a:avLst>
              <a:gd name="adj" fmla="val 16667"/>
            </a:avLst>
          </a:prstGeom>
          <a:solidFill>
            <a:srgbClr val="1b3cc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755640" y="816120"/>
            <a:ext cx="403236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ущность общества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6" name="AutoShape 6"/>
          <p:cNvSpPr/>
          <p:nvPr/>
        </p:nvSpPr>
        <p:spPr>
          <a:xfrm>
            <a:off x="3273480" y="141300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3489480" y="1836720"/>
            <a:ext cx="446400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b3cc9"/>
                </a:solidFill>
                <a:uFillTx/>
                <a:latin typeface="Arial"/>
              </a:rPr>
              <a:t>Отношения</a:t>
            </a:r>
            <a:r>
              <a:rPr b="1" lang="ru-RU" sz="2400" spc="-1" strike="noStrike">
                <a:solidFill>
                  <a:srgbClr val="1b3cc9"/>
                </a:solidFill>
                <a:latin typeface="Arial"/>
              </a:rPr>
              <a:t>, в которые вступают люди друг с другом в процессе своей жизнедеятельности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8" name="AutoShape 9"/>
          <p:cNvSpPr/>
          <p:nvPr/>
        </p:nvSpPr>
        <p:spPr>
          <a:xfrm>
            <a:off x="4859280" y="692280"/>
            <a:ext cx="1152720" cy="865080"/>
          </a:xfrm>
          <a:custGeom>
            <a:avLst/>
            <a:gdLst>
              <a:gd name="textAreaLeft" fmla="*/ 154440 w 1152720"/>
              <a:gd name="textAreaRight" fmla="*/ 998280 w 115272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29" name="AutoShape 10"/>
          <p:cNvSpPr/>
          <p:nvPr/>
        </p:nvSpPr>
        <p:spPr>
          <a:xfrm>
            <a:off x="2484360" y="3357720"/>
            <a:ext cx="4103640" cy="1008000"/>
          </a:xfrm>
          <a:prstGeom prst="flowChartProcess">
            <a:avLst/>
          </a:prstGeom>
          <a:solidFill>
            <a:srgbClr val="ff33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0" name="Text Box 11"/>
          <p:cNvSpPr/>
          <p:nvPr/>
        </p:nvSpPr>
        <p:spPr>
          <a:xfrm>
            <a:off x="2627280" y="3954600"/>
            <a:ext cx="381636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щество 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1" name="Rectangle 12"/>
          <p:cNvSpPr/>
          <p:nvPr/>
        </p:nvSpPr>
        <p:spPr>
          <a:xfrm>
            <a:off x="1258920" y="4581360"/>
            <a:ext cx="6265800" cy="151164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2" name="Text Box 13"/>
          <p:cNvSpPr/>
          <p:nvPr/>
        </p:nvSpPr>
        <p:spPr>
          <a:xfrm>
            <a:off x="1492200" y="5445000"/>
            <a:ext cx="5759640" cy="8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Arial"/>
              </a:rPr>
              <a:t>Совокупность </a:t>
            </a:r>
            <a:r>
              <a:rPr b="1" lang="ru-RU" sz="3200" spc="-1" strike="noStrike" u="sng">
                <a:solidFill>
                  <a:srgbClr val="ff00ff"/>
                </a:solidFill>
                <a:uFillTx/>
                <a:latin typeface="Arial"/>
              </a:rPr>
              <a:t>общественных отношений</a:t>
            </a:r>
            <a:endParaRPr b="1" lang="en-US" sz="32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3" name="Line 14"/>
          <p:cNvSpPr/>
          <p:nvPr/>
        </p:nvSpPr>
        <p:spPr>
          <a:xfrm>
            <a:off x="4427640" y="436572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4"/>
          <p:cNvSpPr/>
          <p:nvPr/>
        </p:nvSpPr>
        <p:spPr>
          <a:xfrm>
            <a:off x="1116000" y="260280"/>
            <a:ext cx="7128000" cy="936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5" name="Text Box 5"/>
          <p:cNvSpPr/>
          <p:nvPr/>
        </p:nvSpPr>
        <p:spPr>
          <a:xfrm>
            <a:off x="1152360" y="808200"/>
            <a:ext cx="7129800" cy="9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щественные отношения - это</a:t>
            </a: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6" name="Rectangle 6"/>
          <p:cNvSpPr/>
          <p:nvPr/>
        </p:nvSpPr>
        <p:spPr>
          <a:xfrm>
            <a:off x="539640" y="1700280"/>
            <a:ext cx="3600720" cy="1944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7" name="Text Box 7"/>
          <p:cNvSpPr/>
          <p:nvPr/>
        </p:nvSpPr>
        <p:spPr>
          <a:xfrm>
            <a:off x="468360" y="2276640"/>
            <a:ext cx="3240000" cy="13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Многообразные формы взаимодействия людей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8" name="Rectangle 8"/>
          <p:cNvSpPr/>
          <p:nvPr/>
        </p:nvSpPr>
        <p:spPr>
          <a:xfrm>
            <a:off x="4859280" y="1700280"/>
            <a:ext cx="3529080" cy="1944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39" name="Text Box 9"/>
          <p:cNvSpPr/>
          <p:nvPr/>
        </p:nvSpPr>
        <p:spPr>
          <a:xfrm>
            <a:off x="5003640" y="2340000"/>
            <a:ext cx="3240360" cy="17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язи, возникающие между различными социальными группами (или внутри них)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0" name="Line 10"/>
          <p:cNvSpPr/>
          <p:nvPr/>
        </p:nvSpPr>
        <p:spPr>
          <a:xfrm>
            <a:off x="2411280" y="1197000"/>
            <a:ext cx="0" cy="503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1" name="Line 11"/>
          <p:cNvSpPr/>
          <p:nvPr/>
        </p:nvSpPr>
        <p:spPr>
          <a:xfrm>
            <a:off x="6732720" y="1197000"/>
            <a:ext cx="0" cy="503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pic>
        <p:nvPicPr>
          <p:cNvPr id="842" name="Picture 13" descr="http://activerain.com/image_store/uploads/6/3/3/2/4/ar125678175642336.jpg"/>
          <p:cNvPicPr/>
          <p:nvPr/>
        </p:nvPicPr>
        <p:blipFill>
          <a:blip r:embed="rId1"/>
          <a:stretch/>
        </p:blipFill>
        <p:spPr>
          <a:xfrm>
            <a:off x="2700360" y="378936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4"/>
          <p:cNvSpPr/>
          <p:nvPr/>
        </p:nvSpPr>
        <p:spPr>
          <a:xfrm>
            <a:off x="1403280" y="189000"/>
            <a:ext cx="6408720" cy="79200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1512720" y="757080"/>
            <a:ext cx="597564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щественные отношения</a:t>
            </a:r>
            <a:endParaRPr b="1" lang="en-US" sz="28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5" name="Rectangle 6"/>
          <p:cNvSpPr/>
          <p:nvPr/>
        </p:nvSpPr>
        <p:spPr>
          <a:xfrm>
            <a:off x="250920" y="1268280"/>
            <a:ext cx="3816360" cy="936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6" name="Rectangle 7"/>
          <p:cNvSpPr/>
          <p:nvPr/>
        </p:nvSpPr>
        <p:spPr>
          <a:xfrm>
            <a:off x="4932360" y="1268280"/>
            <a:ext cx="3816360" cy="93672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272880" y="1752480"/>
            <a:ext cx="35276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Материаль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5075280" y="1731960"/>
            <a:ext cx="34574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Духовные (идеальные)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49" name="Rectangle 10"/>
          <p:cNvSpPr/>
          <p:nvPr/>
        </p:nvSpPr>
        <p:spPr>
          <a:xfrm>
            <a:off x="250920" y="2205000"/>
            <a:ext cx="3816360" cy="4248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295200" y="2924280"/>
            <a:ext cx="3527640" cy="19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Возникают и складываются непосредственно в ходе практической деятельности человека вне его сознания и независимо от него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1" name="Line 12"/>
          <p:cNvSpPr/>
          <p:nvPr/>
        </p:nvSpPr>
        <p:spPr>
          <a:xfrm>
            <a:off x="250920" y="3933720"/>
            <a:ext cx="381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366840" y="4925880"/>
            <a:ext cx="345600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изводственные отношения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кологические отношения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3" name="Rectangle 14"/>
          <p:cNvSpPr/>
          <p:nvPr/>
        </p:nvSpPr>
        <p:spPr>
          <a:xfrm>
            <a:off x="4932360" y="2205000"/>
            <a:ext cx="3816360" cy="4248360"/>
          </a:xfrm>
          <a:prstGeom prst="rect">
            <a:avLst/>
          </a:prstGeom>
          <a:solidFill>
            <a:srgbClr val="0033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4" name="Text Box 15"/>
          <p:cNvSpPr/>
          <p:nvPr/>
        </p:nvSpPr>
        <p:spPr>
          <a:xfrm>
            <a:off x="4978440" y="2924280"/>
            <a:ext cx="3600360" cy="14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Формируются, предварительно «проходя через сознание» людей, определяются их духовными ценностями</a:t>
            </a:r>
            <a:endParaRPr b="1" lang="en-US" sz="20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5" name="Line 16"/>
          <p:cNvSpPr/>
          <p:nvPr/>
        </p:nvSpPr>
        <p:spPr>
          <a:xfrm>
            <a:off x="4932360" y="3933720"/>
            <a:ext cx="381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6" name="Text Box 17"/>
          <p:cNvSpPr/>
          <p:nvPr/>
        </p:nvSpPr>
        <p:spPr>
          <a:xfrm>
            <a:off x="5113440" y="4459320"/>
            <a:ext cx="345600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раль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олитические отношения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авовые отношения 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Художествен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Философски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елигиозные отношения</a:t>
            </a:r>
            <a:endParaRPr b="1" lang="en-US" sz="24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7" name="Line 18"/>
          <p:cNvSpPr/>
          <p:nvPr/>
        </p:nvSpPr>
        <p:spPr>
          <a:xfrm>
            <a:off x="4500720" y="981000"/>
            <a:ext cx="0" cy="71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8" name="Line 19"/>
          <p:cNvSpPr/>
          <p:nvPr/>
        </p:nvSpPr>
        <p:spPr>
          <a:xfrm>
            <a:off x="2556000" y="1052640"/>
            <a:ext cx="3816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59" name="Line 20"/>
          <p:cNvSpPr/>
          <p:nvPr/>
        </p:nvSpPr>
        <p:spPr>
          <a:xfrm>
            <a:off x="2556000" y="1052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  <p:sp>
        <p:nvSpPr>
          <p:cNvPr id="860" name="Line 21"/>
          <p:cNvSpPr/>
          <p:nvPr/>
        </p:nvSpPr>
        <p:spPr>
          <a:xfrm>
            <a:off x="6372360" y="1052640"/>
            <a:ext cx="0" cy="215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ff00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бщество является динамической  саморазвивающейся системой, т.к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500040" y="14284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мировоззрение,  социальные ценности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трудовые процессы,  экономические и политические задачи, религиозные и нравственные установки и т.п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создаются самими людьм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развиваются в ходе истори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Times New Roman"/>
              </a:rPr>
              <a:t>могут различаться между собой в разные исторические эпох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8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Monotype Corsiva"/>
              </a:rPr>
              <a:t>Особенности динамики развития обществ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619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Каждый новый этап характеризуется тем, что использует все предыдущие достижен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0066"/>
              </a:buClr>
              <a:buSzPct val="11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Это связано с передачей материально-технического, управленческого, технологического и духовно-культурного наследия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65" name="Picture 11" descr="http://polandwatch.typepad.com/.a/6a0105360932be970b014e88a8016c970d-500wi"/>
          <p:cNvPicPr/>
          <p:nvPr/>
        </p:nvPicPr>
        <p:blipFill>
          <a:blip r:embed="rId1"/>
          <a:stretch/>
        </p:blipFill>
        <p:spPr>
          <a:xfrm>
            <a:off x="5759280" y="3114720"/>
            <a:ext cx="3384720" cy="3743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1T01:31:57Z</dcterms:created>
  <dc:creator>site306</dc:creator>
  <dc:description/>
  <dc:language>en-US</dc:language>
  <cp:lastModifiedBy>Надежда</cp:lastModifiedBy>
  <dcterms:modified xsi:type="dcterms:W3CDTF">2017-09-11T05:59:58Z</dcterms:modified>
  <cp:revision>106</cp:revision>
  <dc:subject/>
  <dc:title>ОБЩЕСТВО КАК СЛОЖНАЯ ДИНАМИЧЕСКАЯ СИСТЕМА.</dc:title>
</cp:coreProperties>
</file>