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y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94A-B196-4086-BA3D-07BC6C38C65B}" type="slidenum"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E5B-BBA1-4D8B-956E-511648E3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7F4-62F6-4CF0-A3C4-5F93D918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0A13-BCBB-4447-AC59-610D0E7D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5920A-27D0-44DC-BD08-D2A3716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52FD-E6E8-4059-86C6-D08A364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723BD-9523-46BF-AB66-6617145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C4834-BB88-44D3-AA05-E5CA5FE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4B354-8608-4AD0-93CC-FEBF6DF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BD62-9D38-4886-9F0D-3E3CFC03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B7C5E-E3A9-41EE-A729-FCB9C39F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391D7-E60B-4BA9-8B82-A6E59350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61CFD-2D1C-45B4-867A-470D1962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A8D-DCDB-4E4A-A00C-69DBAB11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B873A-730D-4FAA-B99F-E716D8E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EB34A-C810-4223-A6C1-B2DD769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F24F-2678-4322-AC27-37E3E12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7F169-0E36-49D7-8FDE-405A3E91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1391-BEF6-403E-BA6A-914E1C2A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9FD59-4CD3-40A7-8560-35257E0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080E3-4C66-455E-AC55-A8729E4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A7890-FE39-412E-8DF1-F8F62D1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2922-93A2-4A61-8F1A-F4DD363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04797-EDFB-4C7F-A2D4-B1D689A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7A6-0EDE-4512-BB46-B9408F8E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76FC2-55BF-409F-8315-9202A492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D8D98-D262-4598-90CA-0038448B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DFA4C-EB32-44AB-8C80-71D1FEA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CFDE4-60B3-4908-9A7E-D3A354F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38CA-5D5A-4C3C-AD53-3661F1C1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4687-333D-438E-AB1B-C32040E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54C4F-0049-444A-A255-3F6C78B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5724-B976-4B70-820C-F7218729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59352-3E9A-4F7A-9833-BF844E7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A78E7-2BA6-4E0E-AF07-88C0E1C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D02A-AF77-4687-94F2-8115182F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62AC-F6B3-4B99-BD38-EAF4319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3C3D-6BEB-41C5-B6C4-4D6818D2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6299C-A0D7-4107-8F3F-1CFFC999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F55B6-7256-4DAE-8709-15C0DF8F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8F6D9-E91A-4572-AB45-07ECF77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BA6A3-4239-4F80-9FE6-37A9A5B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5DC37-3700-471D-8E73-0E8ADAE9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6D0DF-B0D0-42D5-969B-BAE069F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36DE5-7D54-46A9-B0D6-C844DB44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62250-2FD2-44DC-B121-BA02295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2E0-6BBB-498E-AAE9-98BBB88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00157-9783-45BA-B5F3-587EA88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909BA-A1EA-417C-BF70-22199A1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2149-A5C2-4553-8640-AF7B8B4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F1851-9DD5-4B4C-8415-C2059797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F1535-C8F6-41C9-B908-399D4C0E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DEA68-5404-4EE6-9755-3080B3DD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48840-856C-4E2B-84A8-AFAEF90E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961AF-464D-4FC4-8536-D2E8719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59025-89F9-4326-85FD-9B0DA31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2BFCD-165F-4A13-8290-5B63672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E6B5-0D4A-4152-A7E1-22FBFC8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742E7-1EE0-4EEA-8FB0-76D28D4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9ED49-0A25-410A-83C4-6451F67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334CA-2057-42F1-896E-EFBC1FB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7328E-7A73-4537-8AC1-8360850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5132C-1632-472B-BED6-12511811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F2CDB-74A4-442B-B4DD-48859FD4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2063A-CD7A-4059-8B86-84487760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9E589-9E7F-484E-B007-0307A5B6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7932E-22D9-4429-8C12-5CEA814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34272-D0C9-48C1-82A7-1A0A7500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151-6A47-41A5-BF94-6A06BC69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A35FE-5063-4AC7-B8BC-4897B3E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03C51-14F4-42E5-8C8C-9EE8F189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F2957-34EC-4172-A6E2-4F14A82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9D1DB-CF8E-4E93-9171-D03F1E3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B332D-D25C-457F-9597-59469BF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3199A-0922-4701-BD29-1234EC7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63656-B833-4120-B1C1-6378F65E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7C5B6-EBA7-41A0-9D00-AD28B7B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018A1-4925-47F6-974D-F9EFA98D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D6034-6A8D-452E-A87D-868467E2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B7E-4217-4171-A370-36C0AE4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F2FE4-06A1-4A25-B30F-76BE745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63322-411E-4BCB-8DA3-E1D323E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C7886-6DF4-4469-8BFE-E48407FC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18E01-1D84-4ED1-89B5-0017485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6A54C-300A-4355-A46F-95F65470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B4041-56A1-4E90-9752-BCEEB65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CF898-BFB9-4BA1-8C0E-EAA0FA3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03899-C5FB-40D0-8EE5-5CB1454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213FD-AA10-472F-8D99-B0DC113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D8B31-92BA-45DF-AE46-36A148EA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B280-98DD-4475-B0DB-0AC7624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4B7C7-8534-40CB-98BD-B6BD98C0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D08-8F81-4ED0-AC84-8EBC5B9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739-C0B1-4F8F-8E08-4748F27A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1EF1-1438-4F4A-AAEF-FFB30D2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27DE-D3B8-416C-AD17-7502C0D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533-964A-40A1-9353-456909B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408-63C0-488C-BD67-BC47B904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588-915E-4300-B5B7-3E80022B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AD50-B3B9-4D94-A985-501B897D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34C6-B1A0-4FD8-B08E-A8F54F63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2236-F2E1-438D-9B6B-A6AE9C4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A3BB-B1F8-47CC-BC51-8730EC09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2EB7-28DC-4B56-841D-08C5E3F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3F9-96DF-484F-AB50-0EFC444E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7F36-52FD-4F1C-98B2-9C3B062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BD4F-3AA2-4C05-9F68-05F2428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B6B7-BCE0-484F-8B4F-F017048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C8EF-6A00-493F-89C2-0C287B1A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92EE-A974-4A1C-8D18-A20AACC0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386D-F195-40B0-8D35-BBDBEF0E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76E5-D763-4944-B6EB-E0D799EE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6C88-83BE-4CEC-A9B2-13B7DE5C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2FF0F-AF69-40EA-B3AA-7E3247F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6368-A5E1-4AE1-BF6E-32888B03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F68-D9C0-43ED-98BF-D56D831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1337-6BEA-4392-A870-DDACED56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4B2C-FECE-4F19-94C2-8AD002F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64BF-F545-45D9-9E80-4B1BE24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DF95-A426-4F3D-828C-429FF7F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3337-58FF-4433-8636-0BC1E65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D33A-FDDA-4490-81B3-D596CD8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56B0-2870-4F95-A503-0A14A74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6AAF-1F48-4FF2-9247-F61A8F1A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F381-CDD9-41F2-A4F0-9AC0CFAC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ADA1-EDA5-4218-8E11-7A85F392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0ED-3226-44F8-819E-5E42B88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AFD8-39CC-4A08-A492-403D2F2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7F7E-F71F-417C-AF64-92B7A0C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452C-CA1A-45CA-A8A9-3F69320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068D-A2B8-4B0C-BB4B-B1CF733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7588E-428F-4FD2-A619-B8FBC77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2676-F009-4CF9-82C0-F503A72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9005-ED02-4D10-94DF-7C0F297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852E-69F5-479B-AA5B-5862686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7156-CD33-476F-AB17-CB8EF472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F921-FAF8-4C01-8DDD-131482C1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199-0E80-4C79-AE30-F5C887F3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E3C6-764A-48EC-A1F2-BAA3ECDE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024B-728A-49F4-952E-0142B6E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95BDB-0908-44F0-9578-7442C09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BE29-AA9B-4A69-A3A7-0D06204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E4CA-307D-44BB-A892-CF54B71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9CE1-14C7-401A-ACC5-A8075DC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2B46-87A3-4E5F-80A6-16DA21A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5CA9-E031-44A5-9A38-6437F8E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82ECB-1AE4-4366-9A12-E373B68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9318-F18E-4683-AA88-F017B802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17D-5669-4D04-90F5-D9A642E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D5BB-DBF6-4C03-B554-17F91F5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42E7-71AD-4571-8EE8-8CE6D5CC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CAF7-10EA-45ED-AC5B-CC6CD23C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7BEE4-8D28-4D94-9DC7-E5C02962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8229-DF9D-479B-8F84-514419FD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72DB-9B7D-4302-977D-0D5411C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1810-4F6F-4987-9DC2-0BEDC492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16D1-77F2-4656-BCE6-E65B9D0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7963-D65F-4755-B210-F14519FE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1C92-74A9-4C4F-8B00-890E890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1EC-222D-4757-9D04-CE218E1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C1A2-8875-4801-848A-0165635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7E0CA-6E4E-4C44-A58E-DCF723F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DA2F-142A-4ABF-A4DF-DDD56DE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02AE-ADB5-4E9D-AAD5-0BFC9461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9E41-CC1E-4FE6-A020-07C39B03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D61E5-B2CC-44DC-81E5-15059F8F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62B1-C417-404B-ACF7-ED4CEA08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6859-4AC2-4C51-84EB-A42EF81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5C1E-71B5-4D3E-A904-C0C4798D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91461-3BC2-4548-932B-0E52062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7DA-D5CE-4836-A432-307C2B4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BED97-CFB1-4DD0-A77D-8AD5E460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11841-39ED-4AFA-B9AE-393420B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4D57-F58F-4E20-ABC0-BB14F60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AFE4B-FE38-4D29-9E07-6C499B2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630B-105D-4D62-B538-14BAA64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5D13-E7C3-4E57-BE4B-68AB808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48133-D599-4CDB-9B7D-8FCFC62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43F8-1CB1-40D0-97EF-F51B7A97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8BB37-5B46-4079-A292-08D5731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1840-8526-47D2-B14E-377FDF9C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703A-637B-490C-ADCE-4A0F8F4D6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624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25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626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7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8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9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0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2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633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4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5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6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7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8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9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0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1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2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3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4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5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6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7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8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9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50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8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A6C-451D-4D96-9215-BFE4A6934A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693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4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695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6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7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8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9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0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01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702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3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4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5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6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7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8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9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0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1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2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3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4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5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6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7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8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9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69F-46B6-4457-A747-901B4E74D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762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3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764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5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6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7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8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9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70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771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2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3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4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5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6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F62-726F-4920-9DF4-7F4B9B3EAB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83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83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83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84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B01-ECD0-4672-B192-44231B21D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900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01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902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3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4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5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6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7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08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909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0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1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2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3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4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5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6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7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8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9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0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1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2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3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4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5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6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4404-319F-4D31-AA66-8AC60394A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969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70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971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2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3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5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6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77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978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79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0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1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2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3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4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5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6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7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8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9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0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1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2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3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4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5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4B1-17CB-4E96-A8EA-51C00C00F5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a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5474-305C-4BB1-8B10-8A8614F657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4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14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14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5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45D-215F-4B7F-B90E-4E4EA2D86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210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11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212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3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4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5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6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218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219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0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1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2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3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4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5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6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7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8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9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0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1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2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3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4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5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6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8949-94CB-44C7-BA51-09FBA50EA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279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80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281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2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3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4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5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287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288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89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0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1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2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3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4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5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6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7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8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9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0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1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2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3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4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5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2BB-9601-4364-92A7-ED1AF7BA8C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348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49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50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1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2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3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4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5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56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357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58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59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0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1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2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3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6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7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8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9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0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1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2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3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4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339A-AFCC-42D0-A51A-8B7F94FA46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417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8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419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0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1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2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3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25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426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7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8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9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0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1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2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3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4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5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6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7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8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9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0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1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2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3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D09-1399-4972-90C2-ADF1E9ACE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486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87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488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9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0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2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94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495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6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7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8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9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0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1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2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3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4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5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6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7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8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9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0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1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2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8FFB-1EE3-4D04-848D-29DD5213EB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555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56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557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58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59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0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1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2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3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564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5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6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7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8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9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0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1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2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3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4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5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6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7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8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9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80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81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5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576D-798A-4256-8A15-538BAD2F25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4" descr="009"/>
          <p:cNvPicPr/>
          <p:nvPr/>
        </p:nvPicPr>
        <p:blipFill>
          <a:blip r:embed="rId1"/>
          <a:stretch/>
        </p:blipFill>
        <p:spPr>
          <a:xfrm>
            <a:off x="7885080" y="45086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2" name="Rectangle 2"/>
          <p:cNvSpPr/>
          <p:nvPr/>
        </p:nvSpPr>
        <p:spPr>
          <a:xfrm>
            <a:off x="250920" y="2536920"/>
            <a:ext cx="871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Наука в современном обществе</a:t>
            </a:r>
            <a:endParaRPr b="0" lang="en-US" sz="6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43" name="Прямоугольник 3"/>
          <p:cNvSpPr/>
          <p:nvPr/>
        </p:nvSpPr>
        <p:spPr>
          <a:xfrm>
            <a:off x="108000" y="189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«Наука  - самое важное,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амое прекрасное и нужное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жизни человека.»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                                   А.П.Чехов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собенности современной науки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08000" y="21448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постоянно увеличивается объем научной информации (удваивается через каждые 5 – 10 лет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охватывается все больше областей знаний (15 тысяч дисциплин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растёт количество учёных (в начале ХХ века – 100 тысяч, сейчас – более 5 миллионов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наука превратилась в особую профессию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11" descr="BarisSimsekistock"/>
          <p:cNvPicPr/>
          <p:nvPr/>
        </p:nvPicPr>
        <p:blipFill>
          <a:blip r:embed="rId1"/>
          <a:stretch/>
        </p:blipFill>
        <p:spPr>
          <a:xfrm>
            <a:off x="0" y="9360"/>
            <a:ext cx="3059280" cy="2132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ласть науки</a:t>
            </a:r>
            <a:endParaRPr b="0" lang="en-US" sz="6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3352680" y="1905120"/>
            <a:ext cx="287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Cyr"/>
              </a:rPr>
              <a:t>1500</a:t>
            </a:r>
            <a:r>
              <a:rPr b="1" lang="en-US" sz="6600" spc="-1" strike="noStrike">
                <a:solidFill>
                  <a:srgbClr val="000000"/>
                </a:solidFill>
                <a:latin typeface="Times New Roman Cyr"/>
              </a:rPr>
              <a:t>0</a:t>
            </a:r>
            <a:r>
              <a:rPr b="0" lang="ru-RU" sz="5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124080" y="281952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 Cyr"/>
              </a:rPr>
              <a:t>дисциплин</a:t>
            </a:r>
            <a:endParaRPr b="0" lang="en-US" sz="4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95" name="Object 5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1627200" cy="228600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6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287440" cy="1630440"/>
          </a:xfrm>
          <a:prstGeom prst="rect">
            <a:avLst/>
          </a:prstGeom>
          <a:ln w="0">
            <a:noFill/>
          </a:ln>
        </p:spPr>
      </p:pic>
      <p:pic>
        <p:nvPicPr>
          <p:cNvPr id="1097" name="Object 7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1947960" cy="2287800"/>
          </a:xfrm>
          <a:prstGeom prst="rect">
            <a:avLst/>
          </a:prstGeom>
          <a:ln w="0">
            <a:noFill/>
          </a:ln>
        </p:spPr>
      </p:pic>
      <p:pic>
        <p:nvPicPr>
          <p:cNvPr id="1098" name="Object 8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2286000" cy="12844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9" descr="009"/>
          <p:cNvPicPr/>
          <p:nvPr/>
        </p:nvPicPr>
        <p:blipFill>
          <a:blip r:embed="rId5"/>
          <a:stretch/>
        </p:blipFill>
        <p:spPr>
          <a:xfrm>
            <a:off x="7812000" y="458136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24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Отличие науки от других сфер духовной культуры: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язательное экспериментальное подтверждение теоретических результатов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ъективность, независимость научных знаний от конкретного человека, народа или обществ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обый  язык описания действительности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Успешное функционирование современной науки зависит от: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ециального оборудова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держки со стороны государств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стояния системы образова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пециальных научных организаций</a:t>
            </a:r>
            <a:br>
              <a:rPr sz="2400"/>
            </a:b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омашнее задание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Text Box 7"/>
          <p:cNvSpPr/>
          <p:nvPr/>
        </p:nvSpPr>
        <p:spPr>
          <a:xfrm>
            <a:off x="567000" y="16286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Считаете ли Вы, что современный учёный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3" name="Text Box 8"/>
          <p:cNvSpPr/>
          <p:nvPr/>
        </p:nvSpPr>
        <p:spPr>
          <a:xfrm>
            <a:off x="899280" y="206388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Cyr"/>
              </a:rPr>
              <a:t>должен нести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4" name="Text Box 9"/>
          <p:cNvSpPr/>
          <p:nvPr/>
        </p:nvSpPr>
        <p:spPr>
          <a:xfrm>
            <a:off x="978840" y="25066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Cyr"/>
              </a:rPr>
              <a:t>своей деятельност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105" name="Picture 12" descr="009"/>
          <p:cNvPicPr/>
          <p:nvPr/>
        </p:nvPicPr>
        <p:blipFill>
          <a:blip r:embed="rId1"/>
          <a:stretch/>
        </p:blipFill>
        <p:spPr>
          <a:xfrm>
            <a:off x="7812000" y="4653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106" name="Содержимое 4" descr="1191269172_c4124.jpg"/>
          <p:cNvPicPr/>
          <p:nvPr/>
        </p:nvPicPr>
        <p:blipFill>
          <a:blip r:embed="rId2"/>
          <a:stretch/>
        </p:blipFill>
        <p:spPr>
          <a:xfrm>
            <a:off x="538200" y="3257640"/>
            <a:ext cx="2378160" cy="3392280"/>
          </a:xfrm>
          <a:prstGeom prst="rect">
            <a:avLst/>
          </a:prstGeom>
          <a:ln w="0">
            <a:noFill/>
          </a:ln>
        </p:spPr>
      </p:pic>
      <p:pic>
        <p:nvPicPr>
          <p:cNvPr id="1107" name="Содержимое 6" descr="26233229.jpg"/>
          <p:cNvPicPr/>
          <p:nvPr/>
        </p:nvPicPr>
        <p:blipFill>
          <a:blip r:embed="rId3"/>
          <a:stretch/>
        </p:blipFill>
        <p:spPr>
          <a:xfrm>
            <a:off x="6300720" y="3257640"/>
            <a:ext cx="2592360" cy="3392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Times New Roman"/>
              </a:rPr>
              <a:t>                     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Знание – сила»                                                                                               Ф.Бэк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у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сфера человеческой деятельности, имеющая своей целью сбор, накопление, классификацию, анализ, передачу и использование достоверных сведений, построение новых или улучшение существующих теорий, позволяющих адекватно описывать природные или общественные процес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WordArt 6"/>
          <p:cNvSpPr txBox="1"/>
          <p:nvPr/>
        </p:nvSpPr>
        <p:spPr>
          <a:xfrm>
            <a:off x="1763640" y="654120"/>
            <a:ext cx="5689800" cy="98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Понятие науки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47" name="Содержимое 3" descr="th_38924.jpg"/>
          <p:cNvPicPr/>
          <p:nvPr/>
        </p:nvPicPr>
        <p:blipFill>
          <a:blip r:embed="rId1"/>
          <a:stretch/>
        </p:blipFill>
        <p:spPr>
          <a:xfrm>
            <a:off x="179280" y="1628640"/>
            <a:ext cx="374508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Содержимое 3" descr=""/>
          <p:cNvPicPr/>
          <p:nvPr/>
        </p:nvPicPr>
        <p:blipFill>
          <a:blip r:embed="rId1"/>
          <a:stretch/>
        </p:blipFill>
        <p:spPr>
          <a:xfrm>
            <a:off x="249120" y="85680"/>
            <a:ext cx="8371080" cy="4681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0" y="3645000"/>
            <a:ext cx="245736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51" name="Содержимое 3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710560" cy="687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 знаний об объективном и субъектив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ирание, описание, анализ, обобщение, объясн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наружение закономерностей и особен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науч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ение сущности явлений и процес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нозирование событий, явл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направлений и форм практического использования полученны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Picture 5" descr="information_items_1413"/>
          <p:cNvPicPr/>
          <p:nvPr/>
        </p:nvPicPr>
        <p:blipFill>
          <a:blip r:embed="rId1"/>
          <a:stretch/>
        </p:blipFill>
        <p:spPr>
          <a:xfrm>
            <a:off x="6048360" y="2706840"/>
            <a:ext cx="3095640" cy="4124160"/>
          </a:xfrm>
          <a:prstGeom prst="rect">
            <a:avLst/>
          </a:prstGeom>
          <a:ln w="0">
            <a:noFill/>
          </a:ln>
        </p:spPr>
      </p:pic>
      <p:sp>
        <p:nvSpPr>
          <p:cNvPr id="1054" name="WordArt 6"/>
          <p:cNvSpPr txBox="1"/>
          <p:nvPr/>
        </p:nvSpPr>
        <p:spPr>
          <a:xfrm>
            <a:off x="1332000" y="549360"/>
            <a:ext cx="28652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Цели наук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5" name="WordArt 7"/>
          <p:cNvSpPr txBox="1"/>
          <p:nvPr/>
        </p:nvSpPr>
        <p:spPr>
          <a:xfrm>
            <a:off x="1365120" y="2060640"/>
            <a:ext cx="28544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Задачи наук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6" name=""/>
          <p:cNvGraphicFramePr/>
          <p:nvPr/>
        </p:nvGraphicFramePr>
        <p:xfrm>
          <a:off x="106200" y="692280"/>
          <a:ext cx="8929800" cy="6108480"/>
        </p:xfrm>
        <a:graphic>
          <a:graphicData uri="http://schemas.openxmlformats.org/drawingml/2006/table">
            <a:tbl>
              <a:tblPr/>
              <a:tblGrid>
                <a:gridCol w="2603520"/>
                <a:gridCol w="6326280"/>
              </a:tblGrid>
              <a:tr h="64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мировоззренче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ет человеку не только объяснить известные ему знания о мире, но и выстроить их в целостную систему, рассмотреть явления окружающего мира в их единстве и многообразии, выработать свое мировоззрение, научные представления – часть общего образования,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2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-разъясн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ознание и объяснение устройства мира и законов его разви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ст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рогнозирование последствий изменения окружающего мира, раскрывает возможные опасные тенденции развития общества. Формулирует рекомендации по их преодол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7" name="Прямоугольник 1"/>
          <p:cNvSpPr/>
          <p:nvPr/>
        </p:nvSpPr>
        <p:spPr>
          <a:xfrm>
            <a:off x="2169000" y="-100080"/>
            <a:ext cx="480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Функции науки</a:t>
            </a:r>
            <a:endParaRPr b="0" lang="en-US" sz="4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33"/>
          <p:cNvSpPr/>
          <p:nvPr/>
        </p:nvSpPr>
        <p:spPr>
          <a:xfrm>
            <a:off x="-30240" y="4941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Научно-техническая революция (НТР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коренное качественное преобразование производительных сил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го.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59" name="Text Box 34"/>
          <p:cNvSpPr/>
          <p:nvPr/>
        </p:nvSpPr>
        <p:spPr>
          <a:xfrm>
            <a:off x="22320" y="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чё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— представитель науки, осуществляющий осмысленную деятельность по формированию научной картины мира, чья научная деятельность и квалификация в той или иной форме получили признание со стороны научного сообщества.</a:t>
            </a:r>
            <a:r>
              <a:rPr b="1" i="1" lang="ru-RU" sz="24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0" name="Picture 3" descr="C:\Users\SUPER\Desktop\0146fot7i.bmp"/>
          <p:cNvPicPr/>
          <p:nvPr/>
        </p:nvPicPr>
        <p:blipFill>
          <a:blip r:embed="rId1"/>
          <a:stretch/>
        </p:blipFill>
        <p:spPr>
          <a:xfrm>
            <a:off x="108000" y="2308320"/>
            <a:ext cx="177156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1" name="Picture 2" descr="C:\Users\SUPER\Desktop\pr_017.bmp"/>
          <p:cNvPicPr/>
          <p:nvPr/>
        </p:nvPicPr>
        <p:blipFill>
          <a:blip r:embed="rId2"/>
          <a:stretch/>
        </p:blipFill>
        <p:spPr>
          <a:xfrm>
            <a:off x="7243920" y="44280"/>
            <a:ext cx="177156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2" name="Прямоугольник 1"/>
          <p:cNvSpPr/>
          <p:nvPr/>
        </p:nvSpPr>
        <p:spPr>
          <a:xfrm>
            <a:off x="9360" y="428472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 Cyr"/>
              </a:rPr>
              <a:t>Альберт Эйнштейн 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3" name="Прямоугольник 2"/>
          <p:cNvSpPr/>
          <p:nvPr/>
        </p:nvSpPr>
        <p:spPr>
          <a:xfrm>
            <a:off x="7345440" y="20160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Рассел Бертран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4" name="Picture 2" descr="C:\Users\SUPER\Desktop\Pn01084.bmp"/>
          <p:cNvPicPr/>
          <p:nvPr/>
        </p:nvPicPr>
        <p:blipFill>
          <a:blip r:embed="rId3"/>
          <a:stretch/>
        </p:blipFill>
        <p:spPr>
          <a:xfrm>
            <a:off x="2281320" y="232884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1065" name="Прямоугольник 3"/>
          <p:cNvSpPr/>
          <p:nvPr/>
        </p:nvSpPr>
        <p:spPr>
          <a:xfrm>
            <a:off x="2107080" y="3871800"/>
            <a:ext cx="24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Павлов Иван Петрович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6" name="Picture 3" descr="C:\Users\SUPER\Desktop\pm_050.bmp"/>
          <p:cNvPicPr/>
          <p:nvPr/>
        </p:nvPicPr>
        <p:blipFill>
          <a:blip r:embed="rId4"/>
          <a:stretch/>
        </p:blipFill>
        <p:spPr>
          <a:xfrm>
            <a:off x="5003640" y="2313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067" name="Прямоугольник 4"/>
          <p:cNvSpPr/>
          <p:nvPr/>
        </p:nvSpPr>
        <p:spPr>
          <a:xfrm>
            <a:off x="4643280" y="4092480"/>
            <a:ext cx="3117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Мечников Илья Ильич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Номер слайда 1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577-F435-4F64-AC44-7ABD418D8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9" name="TextBox 14"/>
          <p:cNvSpPr/>
          <p:nvPr/>
        </p:nvSpPr>
        <p:spPr>
          <a:xfrm>
            <a:off x="3267000" y="26082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0" name="Скругленный прямоугольник 13"/>
          <p:cNvSpPr/>
          <p:nvPr/>
        </p:nvSpPr>
        <p:spPr>
          <a:xfrm>
            <a:off x="374760" y="189000"/>
            <a:ext cx="8304120" cy="5987880"/>
          </a:xfrm>
          <a:prstGeom prst="roundRect">
            <a:avLst>
              <a:gd name="adj" fmla="val 16667"/>
            </a:avLst>
          </a:prstGeom>
          <a:solidFill>
            <a:srgbClr val="f5d0f5"/>
          </a:solidFill>
          <a:ln w="9360">
            <a:solidFill>
              <a:srgbClr val="e485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ет дело с научными фактам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ует категории и законы логик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ет систематизированные знания . 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ует особый язык -формулы, символы, знак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пирается на особые методы- наблюдение эксперимент доказательство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6289560" y="5035680"/>
            <a:ext cx="1819440" cy="1822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7780320" y="2828880"/>
            <a:ext cx="1397160" cy="1650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3"/>
          <a:stretch/>
        </p:blipFill>
        <p:spPr>
          <a:xfrm>
            <a:off x="6940440" y="620640"/>
            <a:ext cx="1663920" cy="1327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684360" y="222120"/>
            <a:ext cx="638316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3"/>
          <p:cNvSpPr/>
          <p:nvPr/>
        </p:nvSpPr>
        <p:spPr>
          <a:xfrm>
            <a:off x="1143000" y="2127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 Cyr"/>
              </a:rPr>
              <a:t>ОСНОВНЫЕ КОНЦЕПЦИИ СОВРЕМЕННОЙ НАУК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6" name="AutoShape 38"/>
          <p:cNvSpPr/>
          <p:nvPr/>
        </p:nvSpPr>
        <p:spPr>
          <a:xfrm>
            <a:off x="900000" y="2819520"/>
            <a:ext cx="8136000" cy="115416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7" name="Text Box 39"/>
          <p:cNvSpPr/>
          <p:nvPr/>
        </p:nvSpPr>
        <p:spPr>
          <a:xfrm>
            <a:off x="1042920" y="289548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ЗНАНИ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истема знаний с опорой только на достоверные проверенные факты и знания т.е. без социальной определённости науч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8" name="Picture 40" descr="Uprobr2008"/>
          <p:cNvPicPr/>
          <p:nvPr/>
        </p:nvPicPr>
        <p:blipFill>
          <a:blip r:embed="rId1"/>
          <a:stretch/>
        </p:blipFill>
        <p:spPr>
          <a:xfrm>
            <a:off x="196920" y="692280"/>
            <a:ext cx="1892160" cy="1857240"/>
          </a:xfrm>
          <a:prstGeom prst="rect">
            <a:avLst/>
          </a:prstGeom>
          <a:ln w="0">
            <a:noFill/>
          </a:ln>
        </p:spPr>
      </p:pic>
      <p:sp>
        <p:nvSpPr>
          <p:cNvPr id="1079" name="AutoShape 43"/>
          <p:cNvSpPr/>
          <p:nvPr/>
        </p:nvSpPr>
        <p:spPr>
          <a:xfrm>
            <a:off x="900000" y="4149720"/>
            <a:ext cx="8064720" cy="126216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0" name="Text Box 44"/>
          <p:cNvSpPr/>
          <p:nvPr/>
        </p:nvSpPr>
        <p:spPr>
          <a:xfrm>
            <a:off x="1066680" y="4221000"/>
            <a:ext cx="7753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евращение науки в непосредственную производительную силу - создание и упрочение постоянных каналов для практического использования научных знан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1" name="AutoShape 45"/>
          <p:cNvSpPr/>
          <p:nvPr/>
        </p:nvSpPr>
        <p:spPr>
          <a:xfrm>
            <a:off x="900000" y="5715000"/>
            <a:ext cx="7993080" cy="109872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2" name="Text Box 46"/>
          <p:cNvSpPr/>
          <p:nvPr/>
        </p:nvSpPr>
        <p:spPr>
          <a:xfrm>
            <a:off x="900000" y="5869080"/>
            <a:ext cx="7920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СОЦИАЛЬНЫЙ ИНСТИТУТ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пособ организации совместной деятельности учёных, которые являются особой социально-профессиональной группой, определённым сообщество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3" name="AutoShape 47"/>
          <p:cNvSpPr/>
          <p:nvPr/>
        </p:nvSpPr>
        <p:spPr>
          <a:xfrm>
            <a:off x="3124080" y="914400"/>
            <a:ext cx="5639040" cy="38088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4" name="AutoShape 48"/>
          <p:cNvSpPr/>
          <p:nvPr/>
        </p:nvSpPr>
        <p:spPr>
          <a:xfrm>
            <a:off x="3124080" y="1523880"/>
            <a:ext cx="5639040" cy="3812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5" name="AutoShape 49"/>
          <p:cNvSpPr/>
          <p:nvPr/>
        </p:nvSpPr>
        <p:spPr>
          <a:xfrm>
            <a:off x="3124080" y="2133720"/>
            <a:ext cx="5639040" cy="38088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6" name="Text Box 50"/>
          <p:cNvSpPr/>
          <p:nvPr/>
        </p:nvSpPr>
        <p:spPr>
          <a:xfrm>
            <a:off x="3124080" y="990720"/>
            <a:ext cx="5486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ЗНАНИЕ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7" name="Text Box 51"/>
          <p:cNvSpPr/>
          <p:nvPr/>
        </p:nvSpPr>
        <p:spPr>
          <a:xfrm>
            <a:off x="3124080" y="1600200"/>
            <a:ext cx="5486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8" name="Text Box 52"/>
          <p:cNvSpPr/>
          <p:nvPr/>
        </p:nvSpPr>
        <p:spPr>
          <a:xfrm>
            <a:off x="3200400" y="2209680"/>
            <a:ext cx="5410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Трофимов Николай Борисович</dc:creator>
  <dc:description/>
  <cp:keywords>наука логика общество</cp:keywords>
  <dc:language>en-US</dc:language>
  <cp:lastModifiedBy>Ирина</cp:lastModifiedBy>
  <dcterms:modified xsi:type="dcterms:W3CDTF">2017-08-11T20:16:21Z</dcterms:modified>
  <cp:revision>58</cp:revision>
  <dc:subject>Наука всовременном мире</dc:subject>
  <dc:title>Обществознание 1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b0000000000010250300207f7000400038000</vt:lpwstr>
  </property>
</Properties>
</file>