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422-42B2-429B-9809-B1F1C1A8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C45-1A90-4C7C-A139-45E4E0E4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B21-7D2C-4220-8B3F-1B57E165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010-CA7C-4227-9683-91E7787D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F44C-650E-43EB-8799-9A2E0577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C8C2-6820-4619-BD4C-C824A80B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78A4-7FB5-472D-AF45-3043E5C4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4ECC-5F86-4DCE-BC41-82A51675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6577-1A17-4BFD-8521-08BCDC8B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6E56-C150-4EF1-B0B7-BB208034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828D-3CD4-450B-947B-EEED4114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569-7ABD-4AC5-A901-EB7D1189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E570-C31F-4B91-B26A-D8429ACF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DBBE-6E4C-4B99-AFB3-F1A5AB86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67F1-181C-4CB0-BFCE-ECF5BE7E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9020-827E-4E8D-B6D3-3A675B7F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63E0-DFF9-4BBE-BE47-EE4A62FB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EA2-39F4-46E5-9F14-78B10518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3DF-8E6C-41AA-A755-920B6BE7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526-E5CD-44C6-801B-DBFD837A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8E5-918F-43B7-9CA0-0EC174D3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CF5-08CD-48F4-B442-BA2EB3BF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B4D-5BEE-4F69-AF1B-366A6A7E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0BC-9B31-4ADD-A308-2B8DC12C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0104-7648-4A8E-BB13-27E57889A64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7891-1B03-4F5E-BDC1-CFB49471DBD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22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Правовое государство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0" y="981000"/>
            <a:ext cx="518148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конность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это неуклонное и точное соблюдение правовых норм. 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Она также подразумевает эффективную борьбу с преступностью, неотвратимость юридической ответствен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Законность обеспечивается прокурорским надзором, судебной практи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вопорядок –</a:t>
            </a:r>
            <a:r>
              <a:rPr b="1" i="1" lang="ru-RU" sz="20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истема общественных отношений, основанная на праве, законности, правомерном поведении гражд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250920"/>
            <a:ext cx="835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конность и правопорядок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7" name="Picture 8" descr="Закон и порядок Право"/>
          <p:cNvPicPr/>
          <p:nvPr/>
        </p:nvPicPr>
        <p:blipFill>
          <a:blip r:embed="rId1"/>
          <a:stretch/>
        </p:blipFill>
        <p:spPr>
          <a:xfrm>
            <a:off x="5489640" y="884160"/>
            <a:ext cx="3600360" cy="3333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Суд"/>
          <p:cNvPicPr/>
          <p:nvPr/>
        </p:nvPicPr>
        <p:blipFill>
          <a:blip r:embed="rId2"/>
          <a:stretch/>
        </p:blipFill>
        <p:spPr>
          <a:xfrm>
            <a:off x="4876920" y="4389480"/>
            <a:ext cx="3240000" cy="2197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Прокурор"/>
          <p:cNvPicPr/>
          <p:nvPr/>
        </p:nvPicPr>
        <p:blipFill>
          <a:blip r:embed="rId3"/>
          <a:stretch/>
        </p:blipFill>
        <p:spPr>
          <a:xfrm>
            <a:off x="7516800" y="4259160"/>
            <a:ext cx="1573200" cy="2349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12" descr="Начальник директор злой бюрократ 2"/>
          <p:cNvPicPr/>
          <p:nvPr/>
        </p:nvPicPr>
        <p:blipFill>
          <a:blip r:embed="rId1"/>
          <a:stretch/>
        </p:blipFill>
        <p:spPr>
          <a:xfrm>
            <a:off x="4713120" y="549360"/>
            <a:ext cx="2592720" cy="2469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Взятка"/>
          <p:cNvPicPr/>
          <p:nvPr/>
        </p:nvPicPr>
        <p:blipFill>
          <a:blip r:embed="rId2"/>
          <a:srcRect l="0" t="15919" r="0" b="0"/>
          <a:stretch/>
        </p:blipFill>
        <p:spPr>
          <a:xfrm>
            <a:off x="6732720" y="333360"/>
            <a:ext cx="2189160" cy="2301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Коррупция взятка 2"/>
          <p:cNvPicPr/>
          <p:nvPr/>
        </p:nvPicPr>
        <p:blipFill>
          <a:blip r:embed="rId3"/>
          <a:stretch/>
        </p:blipFill>
        <p:spPr>
          <a:xfrm>
            <a:off x="4568760" y="2997360"/>
            <a:ext cx="2664000" cy="1780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Милиция Жестокость 9"/>
          <p:cNvPicPr/>
          <p:nvPr/>
        </p:nvPicPr>
        <p:blipFill>
          <a:blip r:embed="rId4"/>
          <a:stretch/>
        </p:blipFill>
        <p:spPr>
          <a:xfrm>
            <a:off x="7093080" y="2562120"/>
            <a:ext cx="1682640" cy="2254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Толпа разгон демонстрация"/>
          <p:cNvPicPr/>
          <p:nvPr/>
        </p:nvPicPr>
        <p:blipFill>
          <a:blip r:embed="rId5"/>
          <a:srcRect l="0" t="11585" r="21475" b="0"/>
          <a:stretch/>
        </p:blipFill>
        <p:spPr>
          <a:xfrm>
            <a:off x="6513480" y="4508640"/>
            <a:ext cx="2432160" cy="1928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Милиция Жестокость 5"/>
          <p:cNvPicPr/>
          <p:nvPr/>
        </p:nvPicPr>
        <p:blipFill>
          <a:blip r:embed="rId6"/>
          <a:stretch/>
        </p:blipFill>
        <p:spPr>
          <a:xfrm>
            <a:off x="4716360" y="4724280"/>
            <a:ext cx="1970280" cy="141624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"/>
          <p:cNvSpPr/>
          <p:nvPr/>
        </p:nvSpPr>
        <p:spPr>
          <a:xfrm>
            <a:off x="136440" y="2286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Правовое государство – 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организация политической власти, основанная на праве, разделении властей, полном соблюдении прав и свобод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0240" y="1219320"/>
            <a:ext cx="43038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Верховенство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пр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Конституционный 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тр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Народный суверенитет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полновластие народа, т. е. обладание народом политическими средствами </a:t>
            </a:r>
            <a:r>
              <a:rPr b="1" i="1" lang="en-US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для реального участия в управлении государство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ильная и независимая 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удебная систе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20" descr="Законы право суд 2"/>
          <p:cNvPicPr/>
          <p:nvPr/>
        </p:nvPicPr>
        <p:blipFill>
          <a:blip r:embed="rId1"/>
          <a:stretch/>
        </p:blipFill>
        <p:spPr>
          <a:xfrm>
            <a:off x="4572000" y="210960"/>
            <a:ext cx="4456080" cy="3341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320" y="210960"/>
            <a:ext cx="449568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знаки правового </a:t>
            </a:r>
            <a:br>
              <a:rPr sz="2800"/>
            </a:b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государства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5" name="Picture 22" descr="Голосование"/>
          <p:cNvPicPr/>
          <p:nvPr/>
        </p:nvPicPr>
        <p:blipFill>
          <a:blip r:embed="rId2"/>
          <a:srcRect l="0" t="13617" r="0" b="0"/>
          <a:stretch/>
        </p:blipFill>
        <p:spPr>
          <a:xfrm>
            <a:off x="4343400" y="2133720"/>
            <a:ext cx="3527280" cy="228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1" descr="Судья"/>
          <p:cNvPicPr/>
          <p:nvPr/>
        </p:nvPicPr>
        <p:blipFill>
          <a:blip r:embed="rId3"/>
          <a:srcRect l="9967" t="3032" r="0" b="9045"/>
          <a:stretch/>
        </p:blipFill>
        <p:spPr>
          <a:xfrm>
            <a:off x="4334040" y="4297320"/>
            <a:ext cx="3241440" cy="2371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Выборы 5"/>
          <p:cNvPicPr/>
          <p:nvPr/>
        </p:nvPicPr>
        <p:blipFill>
          <a:blip r:embed="rId4"/>
          <a:stretch/>
        </p:blipFill>
        <p:spPr>
          <a:xfrm>
            <a:off x="7284960" y="3537000"/>
            <a:ext cx="182412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1" descr="Гражданское общество Люди общество молодежь митинг"/>
          <p:cNvPicPr/>
          <p:nvPr/>
        </p:nvPicPr>
        <p:blipFill>
          <a:blip r:embed="rId1"/>
          <a:stretch/>
        </p:blipFill>
        <p:spPr>
          <a:xfrm>
            <a:off x="4773600" y="12600"/>
            <a:ext cx="4343400" cy="2987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76320" y="404640"/>
            <a:ext cx="45720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Гарантия осуществления гражданами своих </a:t>
            </a:r>
            <a:r>
              <a:rPr b="1" i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ав и свобод,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налаженный механизм их защи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инцип </a:t>
            </a:r>
            <a:r>
              <a:rPr b="1" i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разделения влас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заимная ответственность государства и лич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иоритет международного права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над национальным законодательств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e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ысокая</a:t>
            </a:r>
            <a:r>
              <a:rPr b="1" i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правовая культура 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гражд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14" descr="Грызлов депутат Дума"/>
          <p:cNvPicPr/>
          <p:nvPr/>
        </p:nvPicPr>
        <p:blipFill>
          <a:blip r:embed="rId2"/>
          <a:srcRect l="0" t="0" r="38836" b="0"/>
          <a:stretch/>
        </p:blipFill>
        <p:spPr>
          <a:xfrm>
            <a:off x="6924600" y="1260360"/>
            <a:ext cx="2192400" cy="2519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Путин 4"/>
          <p:cNvPicPr/>
          <p:nvPr/>
        </p:nvPicPr>
        <p:blipFill>
          <a:blip r:embed="rId3"/>
          <a:srcRect l="18747" t="0" r="11545" b="0"/>
          <a:stretch/>
        </p:blipFill>
        <p:spPr>
          <a:xfrm>
            <a:off x="5791320" y="2239920"/>
            <a:ext cx="1792080" cy="2232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Судья"/>
          <p:cNvPicPr/>
          <p:nvPr/>
        </p:nvPicPr>
        <p:blipFill>
          <a:blip r:embed="rId4"/>
          <a:stretch/>
        </p:blipFill>
        <p:spPr>
          <a:xfrm>
            <a:off x="4773600" y="2998800"/>
            <a:ext cx="148428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8" descr="Конституция ООН Международное право"/>
          <p:cNvPicPr/>
          <p:nvPr/>
        </p:nvPicPr>
        <p:blipFill>
          <a:blip r:embed="rId5"/>
          <a:srcRect l="816" t="689" r="816" b="689"/>
          <a:stretch/>
        </p:blipFill>
        <p:spPr>
          <a:xfrm>
            <a:off x="6465960" y="3757680"/>
            <a:ext cx="2601720" cy="3089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ura lex, sed lex.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Закон суров, но это закон)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27813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Никто, независимо от занимаемого поста не имеет права нарушать зак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Законы государства пишут в соответствии с международным законодательством, прежде всего всеобщей декларацией прав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9360" y="1127160"/>
            <a:ext cx="46389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кон должен главенствовать и над государством, и над гражданами в равной ме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кон является главным регулятором общественных отноше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кон необходимо соблюдать всем, он должен беспрекословно исполня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се граждане равны перед законом, равны в своих прав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9" name="Group 44"/>
          <p:cNvGrpSpPr/>
          <p:nvPr/>
        </p:nvGrpSpPr>
        <p:grpSpPr>
          <a:xfrm>
            <a:off x="4716360" y="260280"/>
            <a:ext cx="4191120" cy="2667240"/>
            <a:chOff x="4716360" y="260280"/>
            <a:chExt cx="4191120" cy="2667240"/>
          </a:xfrm>
        </p:grpSpPr>
        <p:pic>
          <p:nvPicPr>
            <p:cNvPr id="180" name="Picture 38" descr="Флаг РФ"/>
            <p:cNvPicPr/>
            <p:nvPr/>
          </p:nvPicPr>
          <p:blipFill>
            <a:blip r:embed="rId1"/>
            <a:stretch/>
          </p:blipFill>
          <p:spPr>
            <a:xfrm>
              <a:off x="4716360" y="260280"/>
              <a:ext cx="41911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9"/>
            <p:cNvSpPr/>
            <p:nvPr/>
          </p:nvSpPr>
          <p:spPr>
            <a:xfrm>
              <a:off x="5292720" y="1125360"/>
              <a:ext cx="309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00"/>
                  </a:solidFill>
                  <a:latin typeface="Tahoma"/>
                </a:rPr>
                <a:t>ЗАКОН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82" name="Picture 40" descr="Кремль Москва"/>
          <p:cNvPicPr/>
          <p:nvPr/>
        </p:nvPicPr>
        <p:blipFill>
          <a:blip r:embed="rId2"/>
          <a:stretch/>
        </p:blipFill>
        <p:spPr>
          <a:xfrm>
            <a:off x="4572000" y="3141720"/>
            <a:ext cx="2790720" cy="1733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1" descr="Люди Общество Мужчины"/>
          <p:cNvPicPr/>
          <p:nvPr/>
        </p:nvPicPr>
        <p:blipFill>
          <a:blip r:embed="rId3"/>
          <a:srcRect l="20327" t="28929" r="0" b="0"/>
          <a:stretch/>
        </p:blipFill>
        <p:spPr>
          <a:xfrm>
            <a:off x="6084720" y="4940280"/>
            <a:ext cx="2824200" cy="177012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42"/>
          <p:cNvSpPr/>
          <p:nvPr/>
        </p:nvSpPr>
        <p:spPr>
          <a:xfrm>
            <a:off x="6300720" y="3068640"/>
            <a:ext cx="358920" cy="720720"/>
          </a:xfrm>
          <a:prstGeom prst="downArrow">
            <a:avLst>
              <a:gd name="adj1" fmla="val 56639"/>
              <a:gd name="adj2" fmla="val 6457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43"/>
          <p:cNvSpPr/>
          <p:nvPr/>
        </p:nvSpPr>
        <p:spPr>
          <a:xfrm>
            <a:off x="7885080" y="3068640"/>
            <a:ext cx="430200" cy="1655640"/>
          </a:xfrm>
          <a:prstGeom prst="downArrow">
            <a:avLst>
              <a:gd name="adj1" fmla="val 49556"/>
              <a:gd name="adj2" fmla="val 6531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250920" y="69120"/>
            <a:ext cx="4465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ерховенство права, зак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0" y="1330200"/>
            <a:ext cx="432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Важнейшие права человека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(право на жизнь, на достойное существование, на свободу совести, мысли, слова и пр.) 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приобретаются людьми с рождения, принадлежат от природы и являются поэтому 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естественными и неотчуждае-мыми.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260280"/>
            <a:ext cx="4140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арантия прав </a:t>
            </a: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15" descr="Семья ребенок"/>
          <p:cNvPicPr/>
          <p:nvPr/>
        </p:nvPicPr>
        <p:blipFill>
          <a:blip r:embed="rId1"/>
          <a:srcRect l="0" t="12076" r="0" b="0"/>
          <a:stretch/>
        </p:blipFill>
        <p:spPr>
          <a:xfrm>
            <a:off x="4140360" y="189000"/>
            <a:ext cx="3744720" cy="2473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Рабочий Токарь"/>
          <p:cNvPicPr/>
          <p:nvPr/>
        </p:nvPicPr>
        <p:blipFill>
          <a:blip r:embed="rId2"/>
          <a:srcRect l="0" t="19393" r="0" b="0"/>
          <a:stretch/>
        </p:blipFill>
        <p:spPr>
          <a:xfrm>
            <a:off x="4427640" y="2421000"/>
            <a:ext cx="2477880" cy="2665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0" descr="Мусульманин Намаз Молитва Хадж"/>
          <p:cNvPicPr/>
          <p:nvPr/>
        </p:nvPicPr>
        <p:blipFill>
          <a:blip r:embed="rId3"/>
          <a:srcRect l="5099" t="0" r="32520" b="0"/>
          <a:stretch/>
        </p:blipFill>
        <p:spPr>
          <a:xfrm>
            <a:off x="6588000" y="620640"/>
            <a:ext cx="2333880" cy="2808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1" descr="Рупор свобода слова"/>
          <p:cNvPicPr/>
          <p:nvPr/>
        </p:nvPicPr>
        <p:blipFill>
          <a:blip r:embed="rId4"/>
          <a:stretch/>
        </p:blipFill>
        <p:spPr>
          <a:xfrm>
            <a:off x="4572000" y="4903920"/>
            <a:ext cx="2735280" cy="1825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2" descr="Семья радость счастье дети родители"/>
          <p:cNvPicPr/>
          <p:nvPr/>
        </p:nvPicPr>
        <p:blipFill>
          <a:blip r:embed="rId5"/>
          <a:stretch/>
        </p:blipFill>
        <p:spPr>
          <a:xfrm>
            <a:off x="6659640" y="3429000"/>
            <a:ext cx="213336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250920" y="762120"/>
            <a:ext cx="864216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e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Государственная власть разделена на 3 независимые друг от друга ветви: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конодательную 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Федеральное собрание из 2-х палат: Совет Федерации и Государственная Дума),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сполнительную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(правительство) и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удебную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суды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e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Каждая из них осуществляет только свои чётко определённые функции и не может вмешиваться, а тем более подменять деятельность другой вет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de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амостоятельность и независимость ветвей власти необходимы для того, чтобы одна </a:t>
            </a:r>
            <a:r>
              <a:rPr b="1" i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держивала</a:t>
            </a:r>
            <a:r>
              <a:rPr b="1" lang="ru-RU" sz="2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две остальные от злоупотребления властью, нарушений и ошиб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76320"/>
            <a:ext cx="835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нцип разделения властей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98" name="Group 28"/>
          <p:cNvGrpSpPr/>
          <p:nvPr/>
        </p:nvGrpSpPr>
        <p:grpSpPr>
          <a:xfrm>
            <a:off x="152280" y="4502160"/>
            <a:ext cx="2808360" cy="2114640"/>
            <a:chOff x="152280" y="4502160"/>
            <a:chExt cx="2808360" cy="2114640"/>
          </a:xfrm>
        </p:grpSpPr>
        <p:pic>
          <p:nvPicPr>
            <p:cNvPr id="199" name="Picture 29" descr="Гос Дума"/>
            <p:cNvPicPr/>
            <p:nvPr/>
          </p:nvPicPr>
          <p:blipFill>
            <a:blip r:embed="rId1">
              <a:lum contrast="42000"/>
            </a:blip>
            <a:srcRect l="10744" t="0" r="0" b="943"/>
            <a:stretch/>
          </p:blipFill>
          <p:spPr>
            <a:xfrm>
              <a:off x="152280" y="4502160"/>
              <a:ext cx="280836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30"/>
            <p:cNvSpPr/>
            <p:nvPr/>
          </p:nvSpPr>
          <p:spPr>
            <a:xfrm>
              <a:off x="152280" y="4502160"/>
              <a:ext cx="28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конодательна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ла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1" name="Group 31"/>
          <p:cNvGrpSpPr/>
          <p:nvPr/>
        </p:nvGrpSpPr>
        <p:grpSpPr>
          <a:xfrm>
            <a:off x="3048120" y="4505400"/>
            <a:ext cx="2881080" cy="2111400"/>
            <a:chOff x="3048120" y="4505400"/>
            <a:chExt cx="2881080" cy="2111400"/>
          </a:xfrm>
        </p:grpSpPr>
        <p:pic>
          <p:nvPicPr>
            <p:cNvPr id="202" name="Picture 32" descr="Правительство Заседание3"/>
            <p:cNvPicPr/>
            <p:nvPr/>
          </p:nvPicPr>
          <p:blipFill>
            <a:blip r:embed="rId2"/>
            <a:srcRect l="2551" t="0" r="11764" b="1116"/>
            <a:stretch/>
          </p:blipFill>
          <p:spPr>
            <a:xfrm>
              <a:off x="3048120" y="4505400"/>
              <a:ext cx="2881080" cy="21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33"/>
            <p:cNvSpPr/>
            <p:nvPr/>
          </p:nvSpPr>
          <p:spPr>
            <a:xfrm>
              <a:off x="3049200" y="4505400"/>
              <a:ext cx="2808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сполнительна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ла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4" name="Group 34"/>
          <p:cNvGrpSpPr/>
          <p:nvPr/>
        </p:nvGrpSpPr>
        <p:grpSpPr>
          <a:xfrm>
            <a:off x="6335640" y="4502160"/>
            <a:ext cx="2808360" cy="2101680"/>
            <a:chOff x="6335640" y="4502160"/>
            <a:chExt cx="2808360" cy="2101680"/>
          </a:xfrm>
        </p:grpSpPr>
        <p:pic>
          <p:nvPicPr>
            <p:cNvPr id="205" name="Picture 35" descr="Суд"/>
            <p:cNvPicPr/>
            <p:nvPr/>
          </p:nvPicPr>
          <p:blipFill>
            <a:blip r:embed="rId3"/>
            <a:srcRect l="0" t="0" r="12205" b="0"/>
            <a:stretch/>
          </p:blipFill>
          <p:spPr>
            <a:xfrm flipH="1">
              <a:off x="6335640" y="4502160"/>
              <a:ext cx="273672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36"/>
            <p:cNvSpPr/>
            <p:nvPr/>
          </p:nvSpPr>
          <p:spPr>
            <a:xfrm>
              <a:off x="6335640" y="4502160"/>
              <a:ext cx="28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удебная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ла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50920" y="981000"/>
            <a:ext cx="864216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Принимая законы и другие решения, государство берет на себя конкретные обязательства перед личностью. В свою очередь, личность обязана подчиняться общим установлениям государства, выполнять свои конституционные обязанности. </a:t>
            </a:r>
            <a:r>
              <a:rPr b="1" i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В правовом государстве существует взаимная ответственность государства и лич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920" y="250920"/>
            <a:ext cx="835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осударство и личность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0" name="Picture 22" descr="j0344105"/>
          <p:cNvPicPr/>
          <p:nvPr/>
        </p:nvPicPr>
        <p:blipFill>
          <a:blip r:embed="rId1"/>
          <a:stretch/>
        </p:blipFill>
        <p:spPr>
          <a:xfrm>
            <a:off x="3187800" y="3645000"/>
            <a:ext cx="2768400" cy="3024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5" descr="Флаг кремль куранты"/>
          <p:cNvPicPr/>
          <p:nvPr/>
        </p:nvPicPr>
        <p:blipFill>
          <a:blip r:embed="rId2"/>
          <a:stretch/>
        </p:blipFill>
        <p:spPr>
          <a:xfrm>
            <a:off x="395280" y="4005360"/>
            <a:ext cx="2598840" cy="2708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6" descr="Мужчина"/>
          <p:cNvPicPr/>
          <p:nvPr/>
        </p:nvPicPr>
        <p:blipFill>
          <a:blip r:embed="rId3"/>
          <a:srcRect l="0" t="20127" r="0" b="0"/>
          <a:stretch/>
        </p:blipFill>
        <p:spPr>
          <a:xfrm>
            <a:off x="6192720" y="4000680"/>
            <a:ext cx="2535480" cy="26985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7"/>
          <p:cNvSpPr/>
          <p:nvPr/>
        </p:nvSpPr>
        <p:spPr>
          <a:xfrm>
            <a:off x="-12600" y="35784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заимная 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7-08-23T13:58:1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