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1D9-22E8-49EA-84C1-9D285CB5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FB6-10D3-46E8-9E53-8BBE860E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38A-858E-4E75-881F-2009AC4C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42E-91A2-4FB1-99A4-665030DC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FA2C-4BC2-491D-B2E5-01666EA4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D598-FF42-4A22-B1BB-DDE1131C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F496-F023-4555-9E61-D4D85B55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4537-EDA8-41BC-9CE0-8860C1E2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6DD0-1023-422C-AB75-5573BFB8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1678-6CEB-4BDE-9D3F-2C8FF550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0AF0-D931-41B2-B516-616CDD5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A13-A4F1-4DF9-B242-04D58F70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5B1B-64E8-4462-A386-904BCE4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3A16-2D42-4FD7-AB8B-0872A585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6233-1AAF-45F0-B951-EDC9F81D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F1C7-F2C9-41F5-A9EF-969E1A5F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C0C4-F9CA-4095-B1EB-640150A4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1B4-102E-4192-9795-0AF229C2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201-0453-43AC-9D41-5A11D85E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9AB-112E-4FD1-BEEA-D1FC1734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144-80B9-4F56-9CD4-5D9AADB2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52B-81F7-4817-A564-43FD145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666-0032-4A1E-8B1F-4213B903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7FB-4983-4421-A83E-E287ACA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4B38-1673-4A74-B858-782E053E744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FBE-D671-464F-B12F-8F52BF07EB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22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равовое государство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0" y="981000"/>
            <a:ext cx="518148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ность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это неуклонное и точное соблюдение правовых норм.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на также подразумевает эффективную борьбу с преступностью, неотвратимость юридической ответствен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Законность обеспечивается прокурорским надзором, судебной практи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опорядок –</a:t>
            </a:r>
            <a:r>
              <a:rPr b="1" i="1" lang="ru-RU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истема общественных отношений, основанная на праве, законности, правомерном поведении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250920"/>
            <a:ext cx="835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ность и правопорядок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7" name="Picture 8" descr="Закон и порядок Право"/>
          <p:cNvPicPr/>
          <p:nvPr/>
        </p:nvPicPr>
        <p:blipFill>
          <a:blip r:embed="rId1"/>
          <a:stretch/>
        </p:blipFill>
        <p:spPr>
          <a:xfrm>
            <a:off x="5489640" y="884160"/>
            <a:ext cx="3600360" cy="3333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Суд"/>
          <p:cNvPicPr/>
          <p:nvPr/>
        </p:nvPicPr>
        <p:blipFill>
          <a:blip r:embed="rId2"/>
          <a:stretch/>
        </p:blipFill>
        <p:spPr>
          <a:xfrm>
            <a:off x="4876920" y="4389480"/>
            <a:ext cx="3240000" cy="2197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Прокурор"/>
          <p:cNvPicPr/>
          <p:nvPr/>
        </p:nvPicPr>
        <p:blipFill>
          <a:blip r:embed="rId3"/>
          <a:stretch/>
        </p:blipFill>
        <p:spPr>
          <a:xfrm>
            <a:off x="7516800" y="4259160"/>
            <a:ext cx="157320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2" descr="Начальник директор злой бюрократ 2"/>
          <p:cNvPicPr/>
          <p:nvPr/>
        </p:nvPicPr>
        <p:blipFill>
          <a:blip r:embed="rId1"/>
          <a:stretch/>
        </p:blipFill>
        <p:spPr>
          <a:xfrm>
            <a:off x="4713120" y="549360"/>
            <a:ext cx="2592720" cy="2469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Взятка"/>
          <p:cNvPicPr/>
          <p:nvPr/>
        </p:nvPicPr>
        <p:blipFill>
          <a:blip r:embed="rId2"/>
          <a:srcRect l="0" t="15919" r="0" b="0"/>
          <a:stretch/>
        </p:blipFill>
        <p:spPr>
          <a:xfrm>
            <a:off x="6732720" y="333360"/>
            <a:ext cx="2189160" cy="2301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Коррупция взятка 2"/>
          <p:cNvPicPr/>
          <p:nvPr/>
        </p:nvPicPr>
        <p:blipFill>
          <a:blip r:embed="rId3"/>
          <a:stretch/>
        </p:blipFill>
        <p:spPr>
          <a:xfrm>
            <a:off x="4568760" y="2997360"/>
            <a:ext cx="2664000" cy="178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Милиция Жестокость 9"/>
          <p:cNvPicPr/>
          <p:nvPr/>
        </p:nvPicPr>
        <p:blipFill>
          <a:blip r:embed="rId4"/>
          <a:stretch/>
        </p:blipFill>
        <p:spPr>
          <a:xfrm>
            <a:off x="7093080" y="2562120"/>
            <a:ext cx="1682640" cy="2254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Толпа разгон демонстрация"/>
          <p:cNvPicPr/>
          <p:nvPr/>
        </p:nvPicPr>
        <p:blipFill>
          <a:blip r:embed="rId5"/>
          <a:srcRect l="0" t="11585" r="21475" b="0"/>
          <a:stretch/>
        </p:blipFill>
        <p:spPr>
          <a:xfrm>
            <a:off x="6513480" y="4508640"/>
            <a:ext cx="2432160" cy="1928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Милиция Жестокость 5"/>
          <p:cNvPicPr/>
          <p:nvPr/>
        </p:nvPicPr>
        <p:blipFill>
          <a:blip r:embed="rId6"/>
          <a:stretch/>
        </p:blipFill>
        <p:spPr>
          <a:xfrm>
            <a:off x="4716360" y="4724280"/>
            <a:ext cx="1970280" cy="14162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"/>
          <p:cNvSpPr/>
          <p:nvPr/>
        </p:nvSpPr>
        <p:spPr>
          <a:xfrm>
            <a:off x="136440" y="2286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Правовое государство –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рганизация политической власти, основанная на праве, разделении властей, полном соблюдении прав и свобод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240" y="1219320"/>
            <a:ext cx="4303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ерховенство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Конституционный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тр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ародный суверенитет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полновластие народа, т. е. обладание народом политическими средствами </a:t>
            </a:r>
            <a:r>
              <a:rPr b="1" i="1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для реального участия в управлении государство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ильная и независимая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удебная систе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0" descr="Законы право суд 2"/>
          <p:cNvPicPr/>
          <p:nvPr/>
        </p:nvPicPr>
        <p:blipFill>
          <a:blip r:embed="rId1"/>
          <a:stretch/>
        </p:blipFill>
        <p:spPr>
          <a:xfrm>
            <a:off x="4572000" y="210960"/>
            <a:ext cx="4456080" cy="3341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320" y="210960"/>
            <a:ext cx="449568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правового </a:t>
            </a:r>
            <a:br>
              <a:rPr sz="2800"/>
            </a:b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государства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Picture 22" descr="Голосование"/>
          <p:cNvPicPr/>
          <p:nvPr/>
        </p:nvPicPr>
        <p:blipFill>
          <a:blip r:embed="rId2"/>
          <a:srcRect l="0" t="13617" r="0" b="0"/>
          <a:stretch/>
        </p:blipFill>
        <p:spPr>
          <a:xfrm>
            <a:off x="4343400" y="2133720"/>
            <a:ext cx="3527280" cy="228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1" descr="Судья"/>
          <p:cNvPicPr/>
          <p:nvPr/>
        </p:nvPicPr>
        <p:blipFill>
          <a:blip r:embed="rId3"/>
          <a:srcRect l="9967" t="3032" r="0" b="9045"/>
          <a:stretch/>
        </p:blipFill>
        <p:spPr>
          <a:xfrm>
            <a:off x="4334040" y="4297320"/>
            <a:ext cx="3241440" cy="2371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Выборы 5"/>
          <p:cNvPicPr/>
          <p:nvPr/>
        </p:nvPicPr>
        <p:blipFill>
          <a:blip r:embed="rId4"/>
          <a:stretch/>
        </p:blipFill>
        <p:spPr>
          <a:xfrm>
            <a:off x="7284960" y="3537000"/>
            <a:ext cx="182412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1" descr="Гражданское общество Люди общество молодежь митинг"/>
          <p:cNvPicPr/>
          <p:nvPr/>
        </p:nvPicPr>
        <p:blipFill>
          <a:blip r:embed="rId1"/>
          <a:stretch/>
        </p:blipFill>
        <p:spPr>
          <a:xfrm>
            <a:off x="4773600" y="12600"/>
            <a:ext cx="4343400" cy="2987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320" y="404640"/>
            <a:ext cx="45720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арантия осуществления гражданами своих </a:t>
            </a: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ав и свобод,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налаженный механизм их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инцип </a:t>
            </a: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разделения влас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заимная ответственность государства и лич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иоритет международного права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над национальным законодательств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ысокая</a:t>
            </a: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правовая культура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4" descr="Грызлов депутат Дума"/>
          <p:cNvPicPr/>
          <p:nvPr/>
        </p:nvPicPr>
        <p:blipFill>
          <a:blip r:embed="rId2"/>
          <a:srcRect l="0" t="0" r="38836" b="0"/>
          <a:stretch/>
        </p:blipFill>
        <p:spPr>
          <a:xfrm>
            <a:off x="6924600" y="1260360"/>
            <a:ext cx="2192400" cy="251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Путин 4"/>
          <p:cNvPicPr/>
          <p:nvPr/>
        </p:nvPicPr>
        <p:blipFill>
          <a:blip r:embed="rId3"/>
          <a:srcRect l="18747" t="0" r="11545" b="0"/>
          <a:stretch/>
        </p:blipFill>
        <p:spPr>
          <a:xfrm>
            <a:off x="5791320" y="2239920"/>
            <a:ext cx="1792080" cy="223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Судья"/>
          <p:cNvPicPr/>
          <p:nvPr/>
        </p:nvPicPr>
        <p:blipFill>
          <a:blip r:embed="rId4"/>
          <a:stretch/>
        </p:blipFill>
        <p:spPr>
          <a:xfrm>
            <a:off x="4773600" y="2998800"/>
            <a:ext cx="14842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8" descr="Конституция ООН Международное право"/>
          <p:cNvPicPr/>
          <p:nvPr/>
        </p:nvPicPr>
        <p:blipFill>
          <a:blip r:embed="rId5"/>
          <a:srcRect l="816" t="689" r="816" b="689"/>
          <a:stretch/>
        </p:blipFill>
        <p:spPr>
          <a:xfrm>
            <a:off x="6465960" y="3757680"/>
            <a:ext cx="2601720" cy="3089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ura lex, sed lex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кон суров, но это закон)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781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икто, независимо от занимаемого поста не имеет права нарушать зак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Законы государства пишут в соответствии с международным законодательством, прежде всего всеобщей декларацией прав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9360" y="1127160"/>
            <a:ext cx="46389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кон должен главенствовать и над государством, и над гражданами в равной м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кон является главным регулятором общественных отноше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кон необходимо соблюдать всем, он должен беспрекословно исполн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се граждане равны перед законом, равны в своих прав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9" name="Group 44"/>
          <p:cNvGrpSpPr/>
          <p:nvPr/>
        </p:nvGrpSpPr>
        <p:grpSpPr>
          <a:xfrm>
            <a:off x="4716360" y="260280"/>
            <a:ext cx="4191120" cy="2667240"/>
            <a:chOff x="4716360" y="260280"/>
            <a:chExt cx="4191120" cy="2667240"/>
          </a:xfrm>
        </p:grpSpPr>
        <p:pic>
          <p:nvPicPr>
            <p:cNvPr id="180" name="Picture 38" descr="Флаг РФ"/>
            <p:cNvPicPr/>
            <p:nvPr/>
          </p:nvPicPr>
          <p:blipFill>
            <a:blip r:embed="rId1"/>
            <a:stretch/>
          </p:blipFill>
          <p:spPr>
            <a:xfrm>
              <a:off x="4716360" y="260280"/>
              <a:ext cx="41911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9"/>
            <p:cNvSpPr/>
            <p:nvPr/>
          </p:nvSpPr>
          <p:spPr>
            <a:xfrm>
              <a:off x="5292720" y="1125360"/>
              <a:ext cx="309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00"/>
                  </a:solidFill>
                  <a:latin typeface="Tahoma"/>
                </a:rPr>
                <a:t>ЗАКОН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2" name="Picture 40" descr="Кремль Москва"/>
          <p:cNvPicPr/>
          <p:nvPr/>
        </p:nvPicPr>
        <p:blipFill>
          <a:blip r:embed="rId2"/>
          <a:stretch/>
        </p:blipFill>
        <p:spPr>
          <a:xfrm>
            <a:off x="4572000" y="3141720"/>
            <a:ext cx="2790720" cy="1733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" descr="Люди Общество Мужчины"/>
          <p:cNvPicPr/>
          <p:nvPr/>
        </p:nvPicPr>
        <p:blipFill>
          <a:blip r:embed="rId3"/>
          <a:srcRect l="20327" t="28929" r="0" b="0"/>
          <a:stretch/>
        </p:blipFill>
        <p:spPr>
          <a:xfrm>
            <a:off x="6084720" y="4940280"/>
            <a:ext cx="2824200" cy="17701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42"/>
          <p:cNvSpPr/>
          <p:nvPr/>
        </p:nvSpPr>
        <p:spPr>
          <a:xfrm>
            <a:off x="6300720" y="3068640"/>
            <a:ext cx="358920" cy="720720"/>
          </a:xfrm>
          <a:prstGeom prst="downArrow">
            <a:avLst>
              <a:gd name="adj1" fmla="val 56639"/>
              <a:gd name="adj2" fmla="val 6457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43"/>
          <p:cNvSpPr/>
          <p:nvPr/>
        </p:nvSpPr>
        <p:spPr>
          <a:xfrm>
            <a:off x="7885080" y="3068640"/>
            <a:ext cx="430200" cy="1655640"/>
          </a:xfrm>
          <a:prstGeom prst="downArrow">
            <a:avLst>
              <a:gd name="adj1" fmla="val 49556"/>
              <a:gd name="adj2" fmla="val 6531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50920" y="69120"/>
            <a:ext cx="4465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ерховенство права,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13302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ажнейшие права человека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(право на жизнь, на достойное существование, на свободу совести, мысли, слова и пр.)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приобретаются людьми с рождения, принадлежат от природы и являются поэтому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естественными и неотчуждае-мыми.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260280"/>
            <a:ext cx="4140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арантия прав </a:t>
            </a: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15" descr="Семья ребенок"/>
          <p:cNvPicPr/>
          <p:nvPr/>
        </p:nvPicPr>
        <p:blipFill>
          <a:blip r:embed="rId1"/>
          <a:srcRect l="0" t="12076" r="0" b="0"/>
          <a:stretch/>
        </p:blipFill>
        <p:spPr>
          <a:xfrm>
            <a:off x="4140360" y="189000"/>
            <a:ext cx="3744720" cy="2473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Рабочий Токарь"/>
          <p:cNvPicPr/>
          <p:nvPr/>
        </p:nvPicPr>
        <p:blipFill>
          <a:blip r:embed="rId2"/>
          <a:srcRect l="0" t="19393" r="0" b="0"/>
          <a:stretch/>
        </p:blipFill>
        <p:spPr>
          <a:xfrm>
            <a:off x="4427640" y="2421000"/>
            <a:ext cx="2477880" cy="2665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0" descr="Мусульманин Намаз Молитва Хадж"/>
          <p:cNvPicPr/>
          <p:nvPr/>
        </p:nvPicPr>
        <p:blipFill>
          <a:blip r:embed="rId3"/>
          <a:srcRect l="5099" t="0" r="32520" b="0"/>
          <a:stretch/>
        </p:blipFill>
        <p:spPr>
          <a:xfrm>
            <a:off x="6588000" y="620640"/>
            <a:ext cx="2333880" cy="280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Рупор свобода слова"/>
          <p:cNvPicPr/>
          <p:nvPr/>
        </p:nvPicPr>
        <p:blipFill>
          <a:blip r:embed="rId4"/>
          <a:stretch/>
        </p:blipFill>
        <p:spPr>
          <a:xfrm>
            <a:off x="4572000" y="4903920"/>
            <a:ext cx="2735280" cy="1825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Семья радость счастье дети родители"/>
          <p:cNvPicPr/>
          <p:nvPr/>
        </p:nvPicPr>
        <p:blipFill>
          <a:blip r:embed="rId5"/>
          <a:stretch/>
        </p:blipFill>
        <p:spPr>
          <a:xfrm>
            <a:off x="6659640" y="3429000"/>
            <a:ext cx="213336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50920" y="762120"/>
            <a:ext cx="86421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e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Государственная власть разделена на 3 независимые друг от друга ветви: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одательную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Федеральное собрание из 2-х палат: Совет Федерации и Государственная Дума),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полнительную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(правительство) и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удебную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суды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e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Каждая из них осуществляет только свои чётко определённые функции и не может вмешиваться, а тем более подменять деятельность другой вет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e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амостоятельность и независимость ветвей власти необходимы для того, чтобы одна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держивала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две остальные от злоупотребления властью, нарушений и ошиб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76320"/>
            <a:ext cx="835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нцип разделения власте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98" name="Group 28"/>
          <p:cNvGrpSpPr/>
          <p:nvPr/>
        </p:nvGrpSpPr>
        <p:grpSpPr>
          <a:xfrm>
            <a:off x="152280" y="4502160"/>
            <a:ext cx="2808360" cy="2114640"/>
            <a:chOff x="152280" y="4502160"/>
            <a:chExt cx="2808360" cy="2114640"/>
          </a:xfrm>
        </p:grpSpPr>
        <p:pic>
          <p:nvPicPr>
            <p:cNvPr id="199" name="Picture 29" descr="Гос Дума"/>
            <p:cNvPicPr/>
            <p:nvPr/>
          </p:nvPicPr>
          <p:blipFill>
            <a:blip r:embed="rId1">
              <a:lum contrast="42000"/>
            </a:blip>
            <a:srcRect l="10744" t="0" r="0" b="943"/>
            <a:stretch/>
          </p:blipFill>
          <p:spPr>
            <a:xfrm>
              <a:off x="152280" y="4502160"/>
              <a:ext cx="28083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30"/>
            <p:cNvSpPr/>
            <p:nvPr/>
          </p:nvSpPr>
          <p:spPr>
            <a:xfrm>
              <a:off x="152280" y="4502160"/>
              <a:ext cx="28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конодатель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ла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3048120" y="4505400"/>
            <a:ext cx="2881080" cy="2111400"/>
            <a:chOff x="3048120" y="4505400"/>
            <a:chExt cx="2881080" cy="2111400"/>
          </a:xfrm>
        </p:grpSpPr>
        <p:pic>
          <p:nvPicPr>
            <p:cNvPr id="202" name="Picture 32" descr="Правительство Заседание3"/>
            <p:cNvPicPr/>
            <p:nvPr/>
          </p:nvPicPr>
          <p:blipFill>
            <a:blip r:embed="rId2"/>
            <a:srcRect l="2551" t="0" r="11764" b="1116"/>
            <a:stretch/>
          </p:blipFill>
          <p:spPr>
            <a:xfrm>
              <a:off x="3048120" y="4505400"/>
              <a:ext cx="2881080" cy="21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33"/>
            <p:cNvSpPr/>
            <p:nvPr/>
          </p:nvSpPr>
          <p:spPr>
            <a:xfrm>
              <a:off x="3049200" y="4505400"/>
              <a:ext cx="2808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сполнитель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ла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6335640" y="4502160"/>
            <a:ext cx="2808360" cy="2101680"/>
            <a:chOff x="6335640" y="4502160"/>
            <a:chExt cx="2808360" cy="2101680"/>
          </a:xfrm>
        </p:grpSpPr>
        <p:pic>
          <p:nvPicPr>
            <p:cNvPr id="205" name="Picture 35" descr="Суд"/>
            <p:cNvPicPr/>
            <p:nvPr/>
          </p:nvPicPr>
          <p:blipFill>
            <a:blip r:embed="rId3"/>
            <a:srcRect l="0" t="0" r="12205" b="0"/>
            <a:stretch/>
          </p:blipFill>
          <p:spPr>
            <a:xfrm flipH="1">
              <a:off x="6335640" y="4502160"/>
              <a:ext cx="273672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36"/>
            <p:cNvSpPr/>
            <p:nvPr/>
          </p:nvSpPr>
          <p:spPr>
            <a:xfrm>
              <a:off x="6335640" y="4502160"/>
              <a:ext cx="28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удеб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ла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50920" y="981000"/>
            <a:ext cx="864216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инимая законы и другие решения, государство берет на себя конкретные обязательства перед личностью. В свою очередь, личность обязана подчиняться общим установлениям государства, выполнять свои конституционные обязанности. </a:t>
            </a:r>
            <a:r>
              <a:rPr b="1" i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 правовом государстве существует взаимная ответственность государства и лич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250920"/>
            <a:ext cx="835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осударство и личность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0" name="Picture 22" descr="j0344105"/>
          <p:cNvPicPr/>
          <p:nvPr/>
        </p:nvPicPr>
        <p:blipFill>
          <a:blip r:embed="rId1"/>
          <a:stretch/>
        </p:blipFill>
        <p:spPr>
          <a:xfrm>
            <a:off x="3187800" y="3645000"/>
            <a:ext cx="2768400" cy="3024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5" descr="Флаг кремль куранты"/>
          <p:cNvPicPr/>
          <p:nvPr/>
        </p:nvPicPr>
        <p:blipFill>
          <a:blip r:embed="rId2"/>
          <a:stretch/>
        </p:blipFill>
        <p:spPr>
          <a:xfrm>
            <a:off x="395280" y="4005360"/>
            <a:ext cx="2598840" cy="2708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Мужчина"/>
          <p:cNvPicPr/>
          <p:nvPr/>
        </p:nvPicPr>
        <p:blipFill>
          <a:blip r:embed="rId3"/>
          <a:srcRect l="0" t="20127" r="0" b="0"/>
          <a:stretch/>
        </p:blipFill>
        <p:spPr>
          <a:xfrm>
            <a:off x="6192720" y="4000680"/>
            <a:ext cx="2535480" cy="26985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7"/>
          <p:cNvSpPr/>
          <p:nvPr/>
        </p:nvSpPr>
        <p:spPr>
          <a:xfrm>
            <a:off x="-12600" y="35784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заимная 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7-08-23T13:58:1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