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21.jpeg" ContentType="image/jpeg"/>
  <Override PartName="/ppt/media/image18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C4C-F7E7-4B79-A5DB-C7502552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991-3EAA-4653-A001-79F11C74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D955-D618-407F-9DAD-F75D7064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464-E8CC-43D0-94AE-04BAA0E59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24463-138E-45C2-840B-2C706784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D0416-374F-4C44-8663-22D4DB7C1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74579-0999-4E27-9138-6BFD33E4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4606A-AE1E-4741-B5FE-F5606D99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EEF10-B630-4EFF-B38E-3230E4C4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7A883-31E3-4341-9CDC-58ECA921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3D57E-18FF-4CA8-95F5-199A445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2031E-8F7C-4065-BCCA-96B73471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59B44-3025-4543-84AC-473A5075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7116F7-AFB3-4D10-B0ED-ECA9914A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6DDB42-2BC2-4324-A12A-34FFAC2C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C3097-6E8D-4B10-9796-FBB78A71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C49BE9-C5F3-4F32-BC0E-FA5539E5A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5AA27-1497-4317-BD06-26D92781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3877BE-0BCB-4554-A761-460B8CAA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5A3EB-4C5C-479E-9990-A990DFD5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01A5E8-E2C3-4B55-AA4F-353CC745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D28F8-4854-4DAA-9B6F-0EB900FB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D8B6-2885-48F5-B03C-46CCDEB2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5F47D-2FCC-4C58-B832-CE731E91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B9260-D5EE-4A14-A22B-9EC7CB3B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51A57-B51D-4B0D-87E4-D4CD0C6E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B50721-E94D-4DCB-9459-0596A7FD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018CE-2EF5-4FE7-8CFE-40AD33DB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6214D-65F3-48CC-9640-8440CC11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BE895-2E0F-4DEA-A068-F6E6547A2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34DCB4-42B4-4987-937E-97DFBCA5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47FCA2-D984-462A-A670-4923304A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FD298C-B40E-4FA9-B5CE-460D8F44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FA4-C6E2-40E0-93E0-23312944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048527-4B3C-4B0E-891A-8541514E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F2DA3C-294E-4046-8B83-9A026C3C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4737C6-C746-4348-B08C-A0FF06E1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D7BACE-14B8-4570-B721-65F1906B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B7EC86-7B58-4D8C-B5D4-0DC8DB33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1D8577-4884-480F-A8E5-16D1527F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EB7241-C2BB-456C-BE51-DFCBB505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2047C-D18D-41A4-AFE1-6EB9D90B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0AB906-B89C-43C5-825E-BF229FEF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592EF2-FCE0-4BF3-800C-92F3F287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9E71-4E05-4223-B953-BCAF4FFE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AD8831-2B4B-4DA3-863A-ED1D3EA7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AA7920-F7D9-4B27-A332-973E40DB0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49155-4E42-4D3F-8867-1C87842A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63676E-D3B2-4EC8-AA33-05956417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D334EE-228A-411D-B6F7-08AA68ED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D0D31D-B6A8-427C-AFFF-9C562569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0D52A-D96F-4ECF-92B0-15EBD03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420E6-6626-4A5C-A7A3-B45439D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85161E-3A0C-4855-ACD2-40F731C1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5FAEAD-3C04-41AF-84DD-33ED61F0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661-84E6-49EE-82C1-00A1D1D0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3955DC-A97E-4A01-9DA7-DE455507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DEE1ED-7B9A-468D-BF00-E8F87295B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94BD1-95F5-4F4F-A612-D59363820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B2916B-750B-4F4C-8A48-21E94687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F971B-AD62-470C-B7C6-B4ABE359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F48A9E-8A31-406C-9999-41FE2248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353F4-7EBD-403B-A8DC-10BBC68D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08355D-3C26-4354-AAD5-310BCA8A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F661A5-D443-485D-B086-8BF621D6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0A0D6B-AB3F-4479-9AB2-6C4F25B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9CA-5D0E-49D5-8642-955553EC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317455-0886-4177-849A-BC4F8EC7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F0321D-DE31-4DE0-A0C6-917C0D105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04E90F-1D6D-404D-8221-BA1938D3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B20-E56B-42AE-AC85-18ECE02A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0A4-583C-4CD0-AF87-EB79515B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7950-C729-4F86-865B-F4237B8E72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49AD-8D16-45ED-8B50-0F57BA3485E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0881-9FA2-48B1-9B11-FB82723935A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844E-993C-4B46-9ECD-91550D67AB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4AEE-7444-41F6-8649-ACF93A43599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57EC-12EB-4660-8791-90027F1615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213000" y="3087720"/>
            <a:ext cx="2735280" cy="280836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1"/>
          <a:stretch/>
        </p:blipFill>
        <p:spPr>
          <a:xfrm>
            <a:off x="3565440" y="3641760"/>
            <a:ext cx="2033640" cy="1700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2"/>
          <a:stretch/>
        </p:blipFill>
        <p:spPr>
          <a:xfrm>
            <a:off x="874800" y="1411200"/>
            <a:ext cx="1520640" cy="206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"/>
          <p:cNvPicPr/>
          <p:nvPr/>
        </p:nvPicPr>
        <p:blipFill>
          <a:blip r:embed="rId3"/>
          <a:stretch/>
        </p:blipFill>
        <p:spPr>
          <a:xfrm>
            <a:off x="324000" y="3641760"/>
            <a:ext cx="2016000" cy="1504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4"/>
          <a:stretch/>
        </p:blipFill>
        <p:spPr>
          <a:xfrm>
            <a:off x="6676920" y="3475080"/>
            <a:ext cx="2303640" cy="153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"/>
          <p:cNvPicPr/>
          <p:nvPr/>
        </p:nvPicPr>
        <p:blipFill>
          <a:blip r:embed="rId5"/>
          <a:stretch/>
        </p:blipFill>
        <p:spPr>
          <a:xfrm>
            <a:off x="874800" y="5342040"/>
            <a:ext cx="1800000" cy="1401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"/>
          <p:cNvPicPr/>
          <p:nvPr/>
        </p:nvPicPr>
        <p:blipFill>
          <a:blip r:embed="rId6"/>
          <a:stretch/>
        </p:blipFill>
        <p:spPr>
          <a:xfrm>
            <a:off x="6404040" y="5315040"/>
            <a:ext cx="2089080" cy="1455480"/>
          </a:xfrm>
          <a:prstGeom prst="rect">
            <a:avLst/>
          </a:prstGeom>
          <a:ln w="0">
            <a:noFill/>
          </a:ln>
        </p:spPr>
      </p:pic>
      <p:sp>
        <p:nvSpPr>
          <p:cNvPr id="253" name="Line 17"/>
          <p:cNvSpPr/>
          <p:nvPr/>
        </p:nvSpPr>
        <p:spPr>
          <a:xfrm>
            <a:off x="2492280" y="2717640"/>
            <a:ext cx="666720" cy="4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2440080" y="42465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 flipV="1">
            <a:off x="2727360" y="5587920"/>
            <a:ext cx="431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 flipH="1" flipV="1">
            <a:off x="6011640" y="557676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1"/>
          <p:cNvSpPr/>
          <p:nvPr/>
        </p:nvSpPr>
        <p:spPr>
          <a:xfrm flipH="1">
            <a:off x="5952960" y="415440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 flipH="1">
            <a:off x="6011640" y="2692440"/>
            <a:ext cx="601560" cy="44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3" descr=""/>
          <p:cNvPicPr/>
          <p:nvPr/>
        </p:nvPicPr>
        <p:blipFill>
          <a:blip r:embed="rId7"/>
          <a:stretch/>
        </p:blipFill>
        <p:spPr>
          <a:xfrm>
            <a:off x="6710400" y="1052640"/>
            <a:ext cx="1476360" cy="22143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"/>
          <p:cNvSpPr/>
          <p:nvPr/>
        </p:nvSpPr>
        <p:spPr>
          <a:xfrm>
            <a:off x="1207440" y="193680"/>
            <a:ext cx="635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рирода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1332000" y="1023840"/>
            <a:ext cx="64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Человек, индивид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личност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Monotype Corsiva"/>
              </a:rPr>
              <a:t>Факторы, влияющие на формирование личности: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</a:rPr>
              <a:t>генетический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</a:rPr>
              <a:t>индивидуальный опыт человека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</a:rPr>
              <a:t>социальное окружение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</a:rPr>
              <a:t>культурная среда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Monotype Corsiva"/>
              </a:rPr>
              <a:t>Личность</a:t>
            </a:r>
            <a:endParaRPr b="0" i="1" lang="en-US" sz="5400" spc="-1" strike="noStrike">
              <a:solidFill>
                <a:srgbClr val="ffffff"/>
              </a:solidFill>
              <a:latin typeface="Candar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имеет активную жизненную               позицию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имеет систему ценностей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оздействует на развитие других людей.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024"/>
          <p:cNvSpPr/>
          <p:nvPr/>
        </p:nvSpPr>
        <p:spPr>
          <a:xfrm>
            <a:off x="1441080" y="2220840"/>
            <a:ext cx="2328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f3f3f"/>
                </a:solidFill>
                <a:latin typeface="Times New Roman"/>
              </a:rPr>
              <a:t>B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Times New Roman"/>
              </a:rPr>
              <a:t>(природ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25"/>
          <p:cNvSpPr/>
          <p:nvPr/>
        </p:nvSpPr>
        <p:spPr>
          <a:xfrm>
            <a:off x="5362560" y="2160720"/>
            <a:ext cx="331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f3f3f"/>
                </a:solidFill>
                <a:latin typeface="Times New Roman"/>
              </a:rPr>
              <a:t>Socio</a:t>
            </a:r>
            <a:r>
              <a:rPr b="1" i="1" lang="ru-RU" sz="4000" spc="-1" strike="noStrike">
                <a:solidFill>
                  <a:srgbClr val="3f3f3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f3f3f"/>
                </a:solidFill>
                <a:latin typeface="Times New Roman"/>
              </a:rPr>
              <a:t>(обществен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026"/>
          <p:cNvSpPr/>
          <p:nvPr/>
        </p:nvSpPr>
        <p:spPr>
          <a:xfrm>
            <a:off x="5362560" y="3728160"/>
            <a:ext cx="330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р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озн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ысшие психические функ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пособность к созданию орудий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27"/>
          <p:cNvSpPr/>
          <p:nvPr/>
        </p:nvSpPr>
        <p:spPr>
          <a:xfrm>
            <a:off x="1314720" y="98100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Человек – биосоциальное су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028"/>
          <p:cNvSpPr/>
          <p:nvPr/>
        </p:nvSpPr>
        <p:spPr>
          <a:xfrm>
            <a:off x="4481640" y="234936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f3f3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29"/>
          <p:cNvSpPr/>
          <p:nvPr/>
        </p:nvSpPr>
        <p:spPr>
          <a:xfrm>
            <a:off x="1271520" y="3858480"/>
            <a:ext cx="28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нато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физиологические потре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инстин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дивид</a:t>
            </a:r>
            <a:r>
              <a:rPr b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единичный представитель человеческого рода, конкретный носитель всех социальных и психологических черт человечества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5543640" cy="3541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4920" y="1267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дивидуа́льность —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овокупность характерных особенностей и свойств, отличающих одного человека от другого; своеобразие психики и личности индивида, её неповторимость, уникальность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93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ИНДИВИДУАЛЬНОСТЬ – ПЛОХО ИЛИ ХОРОШО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724360" y="402732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1944360" cy="2017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3"/>
          <a:stretch/>
        </p:blipFill>
        <p:spPr>
          <a:xfrm>
            <a:off x="2771640" y="4245120"/>
            <a:ext cx="2665440" cy="168084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"/>
          <p:cNvSpPr/>
          <p:nvPr/>
        </p:nvSpPr>
        <p:spPr>
          <a:xfrm>
            <a:off x="3365640" y="3429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Monotype Corsiva"/>
              </a:rPr>
              <a:t>В понятие индивидуальность включается : интеллект, характер, темперамент, социальные отличия.</a:t>
            </a:r>
            <a:endParaRPr b="0" i="1" lang="en-US" sz="3000" spc="-1" strike="noStrike">
              <a:solidFill>
                <a:srgbClr val="ffffff"/>
              </a:solidFill>
              <a:latin typeface="Candara"/>
            </a:endParaRPr>
          </a:p>
          <a:p>
            <a:pPr marL="2617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f3f3f"/>
                </a:solidFill>
                <a:uFillTx/>
                <a:latin typeface="Franklin Gothic Demi"/>
              </a:rPr>
              <a:t>Интеллект:</a:t>
            </a:r>
            <a:r>
              <a:rPr b="1" i="1" lang="ru-RU" sz="3000" spc="-1" strike="noStrike" u="sng">
                <a:solidFill>
                  <a:srgbClr val="3f3f3f"/>
                </a:solidFill>
                <a:uFillTx/>
                <a:latin typeface="Times New Roman"/>
              </a:rPr>
              <a:t> </a:t>
            </a:r>
            <a:endParaRPr b="0" i="1" lang="en-US" sz="30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тки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природные предпосылки способностей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( свойства нервной системы- повышенная чувствительность, предрасположенность к восприятию пространственных форм и др.).Задатки необходимо развивать, чтобы они превратились в способност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пособности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индивидуально-психологические особенности человека, которые выражают его готовность к овладению определёнными видами деятельности и к их успешному осуществлению. 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алант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выдающиеся способности, высшая степень развития одарённост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ениальность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высшая степень развития таланта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арактер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- совокупность устойчивых свойств индивида, в которых выражаются способы его поведения и эмоционального реагирования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ХАРАКТЕР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 не врождённый, он меняется в течение всей жизни.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f3f3f"/>
                </a:solidFill>
                <a:uFillTx/>
                <a:latin typeface="Times New Roman"/>
                <a:ea typeface="Times New Roman"/>
              </a:rPr>
              <a:t>На него оказывают влияние: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аследственность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оциальная сред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амовоспитание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Темперамент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f3f3f"/>
                </a:solidFill>
                <a:latin typeface="Times New Roman"/>
              </a:rPr>
              <a:t>Темперамент - врождённое и неизменное свойство психики, определяющее реакции на других людей и обстоятельства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Темперамент не меняется в течение жизни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Виды темперамента: ( Гиппократ)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холерик  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флегматик  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сангвиник  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меланхолик 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722040" y="549360"/>
            <a:ext cx="2094840" cy="581400"/>
          </a:xfrm>
          <a:prstGeom prst="rect">
            <a:avLst/>
          </a:prstGeom>
          <a:solidFill>
            <a:srgbClr val="3f3f3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5"/>
          <p:cNvGrpSpPr/>
          <p:nvPr/>
        </p:nvGrpSpPr>
        <p:grpSpPr>
          <a:xfrm>
            <a:off x="6168960" y="195120"/>
            <a:ext cx="2543040" cy="1716120"/>
            <a:chOff x="6168960" y="195120"/>
            <a:chExt cx="2543040" cy="1716120"/>
          </a:xfrm>
        </p:grpSpPr>
        <p:pic>
          <p:nvPicPr>
            <p:cNvPr id="283" name="Object 6" descr=""/>
            <p:cNvPicPr/>
            <p:nvPr/>
          </p:nvPicPr>
          <p:blipFill>
            <a:blip r:embed="rId1"/>
            <a:stretch/>
          </p:blipFill>
          <p:spPr>
            <a:xfrm>
              <a:off x="6931080" y="19512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AutoShape 7"/>
            <p:cNvSpPr/>
            <p:nvPr/>
          </p:nvSpPr>
          <p:spPr>
            <a:xfrm>
              <a:off x="6168960" y="696960"/>
              <a:ext cx="779400" cy="380880"/>
            </a:xfrm>
            <a:prstGeom prst="rightArrow">
              <a:avLst>
                <a:gd name="adj1" fmla="val 50000"/>
                <a:gd name="adj2" fmla="val 30003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8"/>
          <p:cNvGrpSpPr/>
          <p:nvPr/>
        </p:nvGrpSpPr>
        <p:grpSpPr>
          <a:xfrm>
            <a:off x="1306440" y="190440"/>
            <a:ext cx="2280960" cy="2057400"/>
            <a:chOff x="1306440" y="190440"/>
            <a:chExt cx="2280960" cy="2057400"/>
          </a:xfrm>
        </p:grpSpPr>
        <p:pic>
          <p:nvPicPr>
            <p:cNvPr id="286" name="Object 9" descr=""/>
            <p:cNvPicPr/>
            <p:nvPr/>
          </p:nvPicPr>
          <p:blipFill>
            <a:blip r:embed="rId2"/>
            <a:stretch/>
          </p:blipFill>
          <p:spPr>
            <a:xfrm>
              <a:off x="1306440" y="19044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0"/>
            <p:cNvSpPr/>
            <p:nvPr/>
          </p:nvSpPr>
          <p:spPr>
            <a:xfrm flipH="1">
              <a:off x="2947320" y="752400"/>
              <a:ext cx="639720" cy="300240"/>
            </a:xfrm>
            <a:prstGeom prst="rightArrow">
              <a:avLst>
                <a:gd name="adj1" fmla="val 50000"/>
                <a:gd name="adj2" fmla="val 29978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Group 11"/>
          <p:cNvGrpSpPr/>
          <p:nvPr/>
        </p:nvGrpSpPr>
        <p:grpSpPr>
          <a:xfrm>
            <a:off x="4030560" y="1620720"/>
            <a:ext cx="1765440" cy="2651400"/>
            <a:chOff x="4030560" y="1620720"/>
            <a:chExt cx="1765440" cy="2651400"/>
          </a:xfrm>
        </p:grpSpPr>
        <p:pic>
          <p:nvPicPr>
            <p:cNvPr id="289" name="Object 12" descr=""/>
            <p:cNvPicPr/>
            <p:nvPr/>
          </p:nvPicPr>
          <p:blipFill>
            <a:blip r:embed="rId3"/>
            <a:stretch/>
          </p:blipFill>
          <p:spPr>
            <a:xfrm>
              <a:off x="4030560" y="2492280"/>
              <a:ext cx="176544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AutoShape 13"/>
            <p:cNvSpPr/>
            <p:nvPr/>
          </p:nvSpPr>
          <p:spPr>
            <a:xfrm rot="5400000">
              <a:off x="4348440" y="1829160"/>
              <a:ext cx="798480" cy="381240"/>
            </a:xfrm>
            <a:prstGeom prst="rightArrow">
              <a:avLst>
                <a:gd name="adj1" fmla="val 50000"/>
                <a:gd name="adj2" fmla="val 29981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14"/>
          <p:cNvGrpSpPr/>
          <p:nvPr/>
        </p:nvGrpSpPr>
        <p:grpSpPr>
          <a:xfrm>
            <a:off x="5629680" y="1470240"/>
            <a:ext cx="2952000" cy="2582640"/>
            <a:chOff x="5629680" y="1470240"/>
            <a:chExt cx="2952000" cy="2582640"/>
          </a:xfrm>
        </p:grpSpPr>
        <p:pic>
          <p:nvPicPr>
            <p:cNvPr id="292" name="Object 15" descr=""/>
            <p:cNvPicPr/>
            <p:nvPr/>
          </p:nvPicPr>
          <p:blipFill>
            <a:blip r:embed="rId4"/>
            <a:stretch/>
          </p:blipFill>
          <p:spPr>
            <a:xfrm>
              <a:off x="7020000" y="2011320"/>
              <a:ext cx="156168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AutoShape 16"/>
            <p:cNvSpPr/>
            <p:nvPr/>
          </p:nvSpPr>
          <p:spPr>
            <a:xfrm rot="1928400">
              <a:off x="5651640" y="1716120"/>
              <a:ext cx="1034640" cy="380880"/>
            </a:xfrm>
            <a:prstGeom prst="rightArrow">
              <a:avLst>
                <a:gd name="adj1" fmla="val 50000"/>
                <a:gd name="adj2" fmla="val 29994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17"/>
          <p:cNvGrpSpPr/>
          <p:nvPr/>
        </p:nvGrpSpPr>
        <p:grpSpPr>
          <a:xfrm>
            <a:off x="1152360" y="1411920"/>
            <a:ext cx="2904840" cy="2639520"/>
            <a:chOff x="1152360" y="1411920"/>
            <a:chExt cx="2904840" cy="2639520"/>
          </a:xfrm>
        </p:grpSpPr>
        <p:pic>
          <p:nvPicPr>
            <p:cNvPr id="295" name="Object 18" descr=""/>
            <p:cNvPicPr/>
            <p:nvPr/>
          </p:nvPicPr>
          <p:blipFill>
            <a:blip r:embed="rId5"/>
            <a:stretch/>
          </p:blipFill>
          <p:spPr>
            <a:xfrm>
              <a:off x="1152360" y="2303640"/>
              <a:ext cx="244332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AutoShape 19"/>
            <p:cNvSpPr/>
            <p:nvPr/>
          </p:nvSpPr>
          <p:spPr>
            <a:xfrm rot="8380200">
              <a:off x="3133800" y="1660320"/>
              <a:ext cx="907920" cy="380880"/>
            </a:xfrm>
            <a:prstGeom prst="rightArrow">
              <a:avLst>
                <a:gd name="adj1" fmla="val 50000"/>
                <a:gd name="adj2" fmla="val 30006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Прямоугольник 2"/>
          <p:cNvSpPr/>
          <p:nvPr/>
        </p:nvSpPr>
        <p:spPr>
          <a:xfrm>
            <a:off x="179280" y="49417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ичность</a:t>
            </a:r>
            <a:r>
              <a:rPr b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- субъект сознательной  деятельности, обладающий совокупностью социально-значимых черт, которые он реализует в общественной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2700000" y="404280"/>
            <a:ext cx="626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ичность –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совокупность качеств человека, которые приобретаются им в процессе жизни, в обществе, в деятельности и общении с другими людьм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знание –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тношение человека к миру, понимание того, что он делает, как живёт, о чем мечтает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25923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ЧТО ТАКОЕ  ЛИЧНОСТЬ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108000" y="3554280"/>
            <a:ext cx="1942920" cy="3003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C:\Users\Владелец\Desktop\tumblr_kq66iaJtbG1qa4pp6o1_400.jpg"/>
          <p:cNvPicPr/>
          <p:nvPr/>
        </p:nvPicPr>
        <p:blipFill>
          <a:blip r:embed="rId2"/>
          <a:stretch/>
        </p:blipFill>
        <p:spPr>
          <a:xfrm>
            <a:off x="2268360" y="3584520"/>
            <a:ext cx="1998720" cy="3003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Users\Владелец\Desktop\1267835131_PEACHonka_ru_1267839618974.jpg"/>
          <p:cNvPicPr/>
          <p:nvPr/>
        </p:nvPicPr>
        <p:blipFill>
          <a:blip r:embed="rId3"/>
          <a:stretch/>
        </p:blipFill>
        <p:spPr>
          <a:xfrm>
            <a:off x="4500720" y="3584520"/>
            <a:ext cx="2038320" cy="3003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Users\Владелец\Desktop\post-27862-1175920363.jpg"/>
          <p:cNvPicPr/>
          <p:nvPr/>
        </p:nvPicPr>
        <p:blipFill>
          <a:blip r:embed="rId4"/>
          <a:srcRect l="6993" t="1479" r="8068" b="2958"/>
          <a:stretch/>
        </p:blipFill>
        <p:spPr>
          <a:xfrm>
            <a:off x="6802560" y="3554280"/>
            <a:ext cx="2017440" cy="30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9:30:46Z</dcterms:created>
  <dc:creator>Света</dc:creator>
  <dc:description/>
  <dc:language>en-US</dc:language>
  <cp:lastModifiedBy>Ирина</cp:lastModifiedBy>
  <dcterms:modified xsi:type="dcterms:W3CDTF">2017-08-01T17:02:31Z</dcterms:modified>
  <cp:revision>17</cp:revision>
  <dc:subject/>
  <dc:title>Человек - личность</dc:title>
</cp:coreProperties>
</file>