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8.png" ContentType="image/png"/>
  <Override PartName="/ppt/media/image16.wmf" ContentType="image/x-wmf"/>
  <Override PartName="/ppt/media/image12.png" ContentType="image/png"/>
  <Override PartName="/ppt/media/image20.jpeg" ContentType="image/jpeg"/>
  <Override PartName="/ppt/media/image21.jpeg" ContentType="image/jpeg"/>
  <Override PartName="/ppt/media/image18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4.wmf" ContentType="image/x-wmf"/>
  <Override PartName="/ppt/media/image6.png" ContentType="image/png"/>
  <Override PartName="/ppt/media/image19.jpeg" ContentType="image/jpeg"/>
  <Override PartName="/ppt/media/image11.png" ContentType="image/png"/>
  <Override PartName="/ppt/media/image15.wmf" ContentType="image/x-wmf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C9BA-F639-480E-AAE3-EF7CBE474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C191-C5B9-4AF2-8CBC-D9E9F863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E4CE-9A09-45EF-ABF9-0F5F7C446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5F5B-36CA-4F1B-BF15-4F601A456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E7855-2F75-41C1-A1AE-A3A30E6C4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A4978-4634-4493-8324-358B538B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AC83B1-54D7-4C98-8BCA-C59C2A80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3155E3-B71C-45E9-B6B2-0063AAE2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A4635-D640-4C24-8C56-75D40100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63585-000D-471A-8B8B-765B8691A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05857-3E03-42C2-8F15-8248A633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52CE-8194-4960-8F28-4B18D7C5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EE07E-C6BF-4910-885D-E721C6E0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F2956-A0BF-44FA-9C0E-59744893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CF39F-A004-4652-8833-75CC3E731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51B7A-CFA3-496A-B424-6926DD0A3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D8B155-4BCF-4BD7-8B54-5186F894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89EC71-CCA2-4E82-9BFA-33DDADC80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026740-9A01-418F-AC4F-F1A2FDFF8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640596-38C4-4D35-B1E5-AF07D9E8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976742-F806-470B-A898-D903BD48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43321B-6E2B-4F35-B41A-9AC6E922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90C3-3A1F-4163-BA1B-EA74601C1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42B36F-ED26-4C02-9183-F900FEB8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7C3268-E964-487F-81EE-EAFF70A1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F8B7A9-C7CB-4934-B6F9-C40419AE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1462A1-D6E8-44D9-8706-611E1386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16FB89-2F84-4B0D-A3CE-19B52759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8C0921-16FF-41C4-8E90-8075EC35A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451F96-0158-43EA-B8FE-3A6C2E0E7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8C53FE-93FA-452B-A692-20BCE3485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BF160C-D3F2-4DBC-A4F1-0FB6BD447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2AEA18-945F-4703-964F-F2A63053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C591-14E8-43A0-AA99-BCE52ED5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90C155-9325-41A9-8B69-1C7A2453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D1B7E0-5DD2-472D-ADCF-106EF11E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374B35-FE06-4629-BAA6-5FCC002F4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0897B4-9FDC-460C-A929-BFCA40DD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F16176-8836-4088-A01A-BEB4C9B7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81600E-207A-44A0-8FBF-BBB86CD5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AEC3D2-94C3-4DB2-935E-69D20531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162286-5661-4292-84EF-9244840B8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E60A10-7723-46A2-B887-B92678C70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E86739-7A42-439B-A0AB-7FEB6F71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B2E5-82F3-4213-A04B-F58D23ABB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7C6028-D97F-4E8F-AE75-725E03BD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FF5C65-477C-4044-8ADB-0DB4ACA5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C5845B-8A2F-4442-BA22-BC24C31E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E76082-FA3D-4401-A167-54EEFAED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C5C109-20F3-4F98-AE50-C4A990BB8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21F9FC-C93D-4E40-B464-11FB7BD1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E88D29-46C5-47BC-BD94-82F3096B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AE05D2-C42C-47BC-864E-030FB413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5A9B01-2BBB-432A-A26D-97DC4D82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5F778D-442D-4FF5-B6CF-0B2BC63F5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612B-D8CE-49C7-A2EB-2B6629DD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87CC00-C193-428A-AEA6-83C6FBB6D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80FD6C-481A-453D-B870-C0195D69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6BD28D-D61F-4FFA-BAFF-AF58CC8A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259B8E-D101-4C59-9FC8-3930BD11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AEADD2-1D8C-46E0-9DE5-CECD2AF5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D4E4617-DA7C-4B1A-B1FF-42B47E3F8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C8DB3D-1EB2-464C-B234-3E13EE0B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C8736D-7D69-4C09-A8BB-6F7FA07C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8D6C81-824E-4B50-A30F-8FF74975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D81804-79CA-44AF-872B-6A551867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DE7A-ABA0-4BF6-AF08-0FB27C31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CDA3DB-F09F-482A-B75E-A91B0EF5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60FFD4-4A66-480A-968D-E97A774C7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D3FB00-0B6B-4159-A62C-32BA5D458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2F2A-7282-4F34-88E8-2CD5147B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DB8D-C2CE-4296-881A-276C790E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4070-AB26-4774-B9F1-52E222FB3B0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85C4-60F2-4640-973E-7ED23BC5A14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209A9-18AF-4B9B-B00F-F99D65BD5DF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162920" y="1550520"/>
            <a:ext cx="182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FDF8F-FAC2-4E75-B226-C7531577184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81D3-21DB-46CB-93C0-1DB947A9D26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5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7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0F1B-5C5C-4766-B835-7D2BF983F31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8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213000" y="3087720"/>
            <a:ext cx="2735280" cy="280836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10" descr=""/>
          <p:cNvPicPr/>
          <p:nvPr/>
        </p:nvPicPr>
        <p:blipFill>
          <a:blip r:embed="rId1"/>
          <a:stretch/>
        </p:blipFill>
        <p:spPr>
          <a:xfrm>
            <a:off x="3565440" y="3641760"/>
            <a:ext cx="2033640" cy="17002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1" descr=""/>
          <p:cNvPicPr/>
          <p:nvPr/>
        </p:nvPicPr>
        <p:blipFill>
          <a:blip r:embed="rId2"/>
          <a:stretch/>
        </p:blipFill>
        <p:spPr>
          <a:xfrm>
            <a:off x="874800" y="1411200"/>
            <a:ext cx="1520640" cy="2063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2" descr=""/>
          <p:cNvPicPr/>
          <p:nvPr/>
        </p:nvPicPr>
        <p:blipFill>
          <a:blip r:embed="rId3"/>
          <a:stretch/>
        </p:blipFill>
        <p:spPr>
          <a:xfrm>
            <a:off x="324000" y="3641760"/>
            <a:ext cx="2016000" cy="15048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"/>
          <p:cNvPicPr/>
          <p:nvPr/>
        </p:nvPicPr>
        <p:blipFill>
          <a:blip r:embed="rId4"/>
          <a:stretch/>
        </p:blipFill>
        <p:spPr>
          <a:xfrm>
            <a:off x="6676920" y="3475080"/>
            <a:ext cx="2303640" cy="1530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4" descr=""/>
          <p:cNvPicPr/>
          <p:nvPr/>
        </p:nvPicPr>
        <p:blipFill>
          <a:blip r:embed="rId5"/>
          <a:stretch/>
        </p:blipFill>
        <p:spPr>
          <a:xfrm>
            <a:off x="874800" y="5342040"/>
            <a:ext cx="1800000" cy="14018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5" descr=""/>
          <p:cNvPicPr/>
          <p:nvPr/>
        </p:nvPicPr>
        <p:blipFill>
          <a:blip r:embed="rId6"/>
          <a:stretch/>
        </p:blipFill>
        <p:spPr>
          <a:xfrm>
            <a:off x="6404040" y="5315040"/>
            <a:ext cx="2089080" cy="1455480"/>
          </a:xfrm>
          <a:prstGeom prst="rect">
            <a:avLst/>
          </a:prstGeom>
          <a:ln w="0">
            <a:noFill/>
          </a:ln>
        </p:spPr>
      </p:pic>
      <p:sp>
        <p:nvSpPr>
          <p:cNvPr id="253" name="Line 17"/>
          <p:cNvSpPr/>
          <p:nvPr/>
        </p:nvSpPr>
        <p:spPr>
          <a:xfrm>
            <a:off x="2492280" y="2717640"/>
            <a:ext cx="666720" cy="466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Line 18"/>
          <p:cNvSpPr/>
          <p:nvPr/>
        </p:nvSpPr>
        <p:spPr>
          <a:xfrm>
            <a:off x="2440080" y="4246560"/>
            <a:ext cx="718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19"/>
          <p:cNvSpPr/>
          <p:nvPr/>
        </p:nvSpPr>
        <p:spPr>
          <a:xfrm flipV="1">
            <a:off x="2727360" y="5587920"/>
            <a:ext cx="43164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20"/>
          <p:cNvSpPr/>
          <p:nvPr/>
        </p:nvSpPr>
        <p:spPr>
          <a:xfrm flipH="1" flipV="1">
            <a:off x="6011640" y="557676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21"/>
          <p:cNvSpPr/>
          <p:nvPr/>
        </p:nvSpPr>
        <p:spPr>
          <a:xfrm flipH="1">
            <a:off x="5952960" y="415440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22"/>
          <p:cNvSpPr/>
          <p:nvPr/>
        </p:nvSpPr>
        <p:spPr>
          <a:xfrm flipH="1">
            <a:off x="6011640" y="2692440"/>
            <a:ext cx="601560" cy="44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23" descr=""/>
          <p:cNvPicPr/>
          <p:nvPr/>
        </p:nvPicPr>
        <p:blipFill>
          <a:blip r:embed="rId7"/>
          <a:stretch/>
        </p:blipFill>
        <p:spPr>
          <a:xfrm>
            <a:off x="6710400" y="1052640"/>
            <a:ext cx="1476360" cy="221436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1"/>
          <p:cNvSpPr/>
          <p:nvPr/>
        </p:nvSpPr>
        <p:spPr>
          <a:xfrm>
            <a:off x="1207440" y="193680"/>
            <a:ext cx="635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Природа человек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Прямоугольник 3"/>
          <p:cNvSpPr/>
          <p:nvPr/>
        </p:nvSpPr>
        <p:spPr>
          <a:xfrm>
            <a:off x="1332000" y="1023840"/>
            <a:ext cx="645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Человек, индивид,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личность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Monotype Corsiva"/>
              </a:rPr>
              <a:t>Факторы, влияющие на формирование личности:</a:t>
            </a:r>
            <a:br>
              <a:rPr sz="4300"/>
            </a:br>
            <a:endParaRPr b="0" lang="en-US" sz="43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f3f3f"/>
                </a:solidFill>
                <a:latin typeface="Times New Roman"/>
              </a:rPr>
              <a:t>генетический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f3f3f"/>
                </a:solidFill>
                <a:latin typeface="Times New Roman"/>
              </a:rPr>
              <a:t>индивидуальный опыт человека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f3f3f"/>
                </a:solidFill>
                <a:latin typeface="Times New Roman"/>
              </a:rPr>
              <a:t>социальное окружение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f3f3f"/>
                </a:solidFill>
                <a:latin typeface="Times New Roman"/>
              </a:rPr>
              <a:t>культурная среда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Monotype Corsiva"/>
              </a:rPr>
              <a:t>Личность</a:t>
            </a:r>
            <a:endParaRPr b="0" i="1" lang="en-US" sz="5400" spc="-1" strike="noStrike">
              <a:solidFill>
                <a:srgbClr val="ffffff"/>
              </a:solidFill>
              <a:latin typeface="Candara"/>
            </a:endParaRPr>
          </a:p>
          <a:p>
            <a:pPr marL="272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имеет активную жизненную               позицию</a:t>
            </a:r>
            <a:endParaRPr b="0" i="1" lang="en-US" sz="36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имеет систему ценностей</a:t>
            </a:r>
            <a:endParaRPr b="0" i="1" lang="en-US" sz="36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воздействует на развитие других людей.</a:t>
            </a:r>
            <a:endParaRPr b="0" i="1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1024"/>
          <p:cNvSpPr/>
          <p:nvPr/>
        </p:nvSpPr>
        <p:spPr>
          <a:xfrm>
            <a:off x="1441080" y="2220840"/>
            <a:ext cx="23281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f3f3f"/>
                </a:solidFill>
                <a:latin typeface="Times New Roman"/>
              </a:rPr>
              <a:t>Bi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f3f3f"/>
                </a:solidFill>
                <a:latin typeface="Times New Roman"/>
              </a:rPr>
              <a:t>(природно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025"/>
          <p:cNvSpPr/>
          <p:nvPr/>
        </p:nvSpPr>
        <p:spPr>
          <a:xfrm>
            <a:off x="5362560" y="2160720"/>
            <a:ext cx="3313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f3f3f"/>
                </a:solidFill>
                <a:latin typeface="Times New Roman"/>
              </a:rPr>
              <a:t>Socio</a:t>
            </a:r>
            <a:r>
              <a:rPr b="1" i="1" lang="ru-RU" sz="4000" spc="-1" strike="noStrike">
                <a:solidFill>
                  <a:srgbClr val="3f3f3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3f3f3f"/>
                </a:solidFill>
                <a:latin typeface="Times New Roman"/>
              </a:rPr>
              <a:t>(общественно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026"/>
          <p:cNvSpPr/>
          <p:nvPr/>
        </p:nvSpPr>
        <p:spPr>
          <a:xfrm>
            <a:off x="5362560" y="3728160"/>
            <a:ext cx="3309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3f3f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реч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f3f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созн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f3f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высшие психические функ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f3f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способность к созданию орудий тру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1027"/>
          <p:cNvSpPr/>
          <p:nvPr/>
        </p:nvSpPr>
        <p:spPr>
          <a:xfrm>
            <a:off x="1314720" y="981000"/>
            <a:ext cx="66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Человек – биосоциальное сущ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1028"/>
          <p:cNvSpPr/>
          <p:nvPr/>
        </p:nvSpPr>
        <p:spPr>
          <a:xfrm>
            <a:off x="4481640" y="2349360"/>
            <a:ext cx="61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f3f3f"/>
                </a:solidFill>
                <a:latin typeface="Times New Roman"/>
              </a:rPr>
              <a:t>+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1029"/>
          <p:cNvSpPr/>
          <p:nvPr/>
        </p:nvSpPr>
        <p:spPr>
          <a:xfrm>
            <a:off x="1271520" y="3858480"/>
            <a:ext cx="287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анатом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f3f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физиологические потреб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f3f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инстинк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ндивид</a:t>
            </a:r>
            <a:r>
              <a:rPr b="1" lang="ru-RU" sz="28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- единичный представитель человеческого рода, конкретный носитель всех социальных и психологических черт человечества.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1908000" y="3141720"/>
            <a:ext cx="5543640" cy="35416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394920" y="1267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ндивидуа́льность —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совокупность характерных особенностей и свойств, отличающих одного человека от другого; своеобразие психики и личности индивида, её неповторимость, уникальность.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69328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ИНДИВИДУАЛЬНОСТЬ – ПЛОХО ИЛИ ХОРОШО?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1"/>
          <a:stretch/>
        </p:blipFill>
        <p:spPr>
          <a:xfrm>
            <a:off x="5724360" y="402732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1944360" cy="20178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"/>
          <p:cNvPicPr/>
          <p:nvPr/>
        </p:nvPicPr>
        <p:blipFill>
          <a:blip r:embed="rId3"/>
          <a:stretch/>
        </p:blipFill>
        <p:spPr>
          <a:xfrm>
            <a:off x="2771640" y="4245120"/>
            <a:ext cx="2665440" cy="1680840"/>
          </a:xfrm>
          <a:prstGeom prst="rect">
            <a:avLst/>
          </a:prstGeom>
          <a:ln w="0">
            <a:noFill/>
          </a:ln>
        </p:spPr>
      </p:pic>
      <p:sp>
        <p:nvSpPr>
          <p:cNvPr id="275" name="Прямоугольник 1"/>
          <p:cNvSpPr/>
          <p:nvPr/>
        </p:nvSpPr>
        <p:spPr>
          <a:xfrm>
            <a:off x="3365640" y="3429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Monotype Corsiva"/>
              </a:rPr>
              <a:t>В понятие индивидуальность включается : интеллект, характер, темперамент, социальные отличия.</a:t>
            </a:r>
            <a:endParaRPr b="0" i="1" lang="en-US" sz="3000" spc="-1" strike="noStrike">
              <a:solidFill>
                <a:srgbClr val="ffffff"/>
              </a:solidFill>
              <a:latin typeface="Candara"/>
            </a:endParaRPr>
          </a:p>
          <a:p>
            <a:pPr marL="261720"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f3f3f"/>
                </a:solidFill>
                <a:uFillTx/>
                <a:latin typeface="Franklin Gothic Demi"/>
              </a:rPr>
              <a:t>Интеллект:</a:t>
            </a:r>
            <a:r>
              <a:rPr b="1" i="1" lang="ru-RU" sz="3000" spc="-1" strike="noStrike" u="sng">
                <a:solidFill>
                  <a:srgbClr val="3f3f3f"/>
                </a:solidFill>
                <a:uFillTx/>
                <a:latin typeface="Times New Roman"/>
              </a:rPr>
              <a:t> </a:t>
            </a:r>
            <a:endParaRPr b="0" i="1" lang="en-US" sz="3000" spc="-1" strike="noStrike">
              <a:solidFill>
                <a:srgbClr val="ffffff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Задатки</a:t>
            </a: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- природные предпосылки способностей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61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( свойства нервной системы- повышенная чувствительность, предрасположенность к восприятию пространственных форм и др.).Задатки необходимо развивать, чтобы они превратились в способности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пособности</a:t>
            </a: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- индивидуально-психологические особенности человека, которые выражают его готовность к овладению определёнными видами деятельности и к их успешному осуществлению.  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Талант</a:t>
            </a: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- выдающиеся способности, высшая степень развития одарённости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Гениальность</a:t>
            </a: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- высшая степень развития таланта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Характер</a:t>
            </a: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- совокупность устойчивых свойств индивида, в которых выражаются способы его поведения и эмоционального реагирования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ХАРАКТЕР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85672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арактер не врождённый, он меняется в течение всей жизни.</a:t>
            </a:r>
            <a:endParaRPr b="0" i="1" lang="en-US" sz="3200" spc="-1" strike="noStrike">
              <a:solidFill>
                <a:srgbClr val="ffffff"/>
              </a:solidFill>
              <a:latin typeface="Candara"/>
            </a:endParaRPr>
          </a:p>
          <a:p>
            <a:pPr marL="2728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marL="272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3f3f3f"/>
                </a:solidFill>
                <a:uFillTx/>
                <a:latin typeface="Times New Roman"/>
                <a:ea typeface="Times New Roman"/>
              </a:rPr>
              <a:t>На него оказывают влияние: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272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наследственность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социальная среда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самовоспитание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8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Темперамент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f3f3f"/>
                </a:solidFill>
                <a:latin typeface="Times New Roman"/>
              </a:rPr>
              <a:t>Темперамент - врождённое и неизменное свойство психики, определяющее реакции на других людей и обстоятельства.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270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f3f3f"/>
                </a:solidFill>
                <a:latin typeface="Times New Roman"/>
              </a:rPr>
              <a:t>Темперамент не меняется в течение жизни.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2700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imes New Roman"/>
              </a:rPr>
              <a:t>Виды темперамента: ( Гиппократ)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f3f3f"/>
                </a:solidFill>
                <a:latin typeface="Times New Roman"/>
              </a:rPr>
              <a:t>холерик  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f3f3f"/>
                </a:solidFill>
                <a:latin typeface="Times New Roman"/>
              </a:rPr>
              <a:t>флегматик  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f3f3f"/>
                </a:solidFill>
                <a:latin typeface="Times New Roman"/>
              </a:rPr>
              <a:t>сангвиник  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  <a:p>
            <a:pPr marL="270000" indent="-270000">
              <a:lnSpc>
                <a:spcPct val="100000"/>
              </a:lnSpc>
              <a:spcBef>
                <a:spcPts val="7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f3f3f"/>
                </a:solidFill>
                <a:latin typeface="Times New Roman"/>
              </a:rPr>
              <a:t>меланхолик </a:t>
            </a:r>
            <a:endParaRPr b="0" i="1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3722040" y="549360"/>
            <a:ext cx="2094840" cy="581400"/>
          </a:xfrm>
          <a:prstGeom prst="rect">
            <a:avLst/>
          </a:prstGeom>
          <a:solidFill>
            <a:srgbClr val="3f3f3f"/>
          </a:solidFill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ичн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Group 5"/>
          <p:cNvGrpSpPr/>
          <p:nvPr/>
        </p:nvGrpSpPr>
        <p:grpSpPr>
          <a:xfrm>
            <a:off x="6168960" y="195120"/>
            <a:ext cx="2543040" cy="1716120"/>
            <a:chOff x="6168960" y="195120"/>
            <a:chExt cx="2543040" cy="1716120"/>
          </a:xfrm>
        </p:grpSpPr>
        <p:pic>
          <p:nvPicPr>
            <p:cNvPr id="283" name="Object 6" descr=""/>
            <p:cNvPicPr/>
            <p:nvPr/>
          </p:nvPicPr>
          <p:blipFill>
            <a:blip r:embed="rId1"/>
            <a:stretch/>
          </p:blipFill>
          <p:spPr>
            <a:xfrm>
              <a:off x="6931080" y="195120"/>
              <a:ext cx="1780920" cy="17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AutoShape 7"/>
            <p:cNvSpPr/>
            <p:nvPr/>
          </p:nvSpPr>
          <p:spPr>
            <a:xfrm>
              <a:off x="6168960" y="696960"/>
              <a:ext cx="779400" cy="380880"/>
            </a:xfrm>
            <a:prstGeom prst="rightArrow">
              <a:avLst>
                <a:gd name="adj1" fmla="val 50000"/>
                <a:gd name="adj2" fmla="val 30003"/>
              </a:avLst>
            </a:prstGeom>
            <a:solidFill>
              <a:srgbClr val="3f3f3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Group 8"/>
          <p:cNvGrpSpPr/>
          <p:nvPr/>
        </p:nvGrpSpPr>
        <p:grpSpPr>
          <a:xfrm>
            <a:off x="1306440" y="190440"/>
            <a:ext cx="2280960" cy="2057400"/>
            <a:chOff x="1306440" y="190440"/>
            <a:chExt cx="2280960" cy="2057400"/>
          </a:xfrm>
        </p:grpSpPr>
        <p:pic>
          <p:nvPicPr>
            <p:cNvPr id="286" name="Object 9" descr=""/>
            <p:cNvPicPr/>
            <p:nvPr/>
          </p:nvPicPr>
          <p:blipFill>
            <a:blip r:embed="rId2"/>
            <a:stretch/>
          </p:blipFill>
          <p:spPr>
            <a:xfrm>
              <a:off x="1306440" y="190440"/>
              <a:ext cx="144000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AutoShape 10"/>
            <p:cNvSpPr/>
            <p:nvPr/>
          </p:nvSpPr>
          <p:spPr>
            <a:xfrm flipH="1">
              <a:off x="2947320" y="752400"/>
              <a:ext cx="639720" cy="300240"/>
            </a:xfrm>
            <a:prstGeom prst="rightArrow">
              <a:avLst>
                <a:gd name="adj1" fmla="val 50000"/>
                <a:gd name="adj2" fmla="val 29978"/>
              </a:avLst>
            </a:prstGeom>
            <a:solidFill>
              <a:srgbClr val="3f3f3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8" name="Group 11"/>
          <p:cNvGrpSpPr/>
          <p:nvPr/>
        </p:nvGrpSpPr>
        <p:grpSpPr>
          <a:xfrm>
            <a:off x="4030560" y="1620720"/>
            <a:ext cx="1765440" cy="2651400"/>
            <a:chOff x="4030560" y="1620720"/>
            <a:chExt cx="1765440" cy="2651400"/>
          </a:xfrm>
        </p:grpSpPr>
        <p:pic>
          <p:nvPicPr>
            <p:cNvPr id="289" name="Object 12" descr=""/>
            <p:cNvPicPr/>
            <p:nvPr/>
          </p:nvPicPr>
          <p:blipFill>
            <a:blip r:embed="rId3"/>
            <a:stretch/>
          </p:blipFill>
          <p:spPr>
            <a:xfrm>
              <a:off x="4030560" y="2492280"/>
              <a:ext cx="1765440" cy="177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AutoShape 13"/>
            <p:cNvSpPr/>
            <p:nvPr/>
          </p:nvSpPr>
          <p:spPr>
            <a:xfrm rot="5400000">
              <a:off x="4348440" y="1829160"/>
              <a:ext cx="798480" cy="381240"/>
            </a:xfrm>
            <a:prstGeom prst="rightArrow">
              <a:avLst>
                <a:gd name="adj1" fmla="val 50000"/>
                <a:gd name="adj2" fmla="val 29981"/>
              </a:avLst>
            </a:prstGeom>
            <a:solidFill>
              <a:srgbClr val="3f3f3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1" name="Group 14"/>
          <p:cNvGrpSpPr/>
          <p:nvPr/>
        </p:nvGrpSpPr>
        <p:grpSpPr>
          <a:xfrm>
            <a:off x="5629680" y="1470240"/>
            <a:ext cx="2952000" cy="2582640"/>
            <a:chOff x="5629680" y="1470240"/>
            <a:chExt cx="2952000" cy="2582640"/>
          </a:xfrm>
        </p:grpSpPr>
        <p:pic>
          <p:nvPicPr>
            <p:cNvPr id="292" name="Object 15" descr=""/>
            <p:cNvPicPr/>
            <p:nvPr/>
          </p:nvPicPr>
          <p:blipFill>
            <a:blip r:embed="rId4"/>
            <a:stretch/>
          </p:blipFill>
          <p:spPr>
            <a:xfrm>
              <a:off x="7020000" y="2011320"/>
              <a:ext cx="156168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AutoShape 16"/>
            <p:cNvSpPr/>
            <p:nvPr/>
          </p:nvSpPr>
          <p:spPr>
            <a:xfrm rot="1928400">
              <a:off x="5651640" y="1716120"/>
              <a:ext cx="1034640" cy="380880"/>
            </a:xfrm>
            <a:prstGeom prst="rightArrow">
              <a:avLst>
                <a:gd name="adj1" fmla="val 50000"/>
                <a:gd name="adj2" fmla="val 29994"/>
              </a:avLst>
            </a:prstGeom>
            <a:solidFill>
              <a:srgbClr val="3f3f3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4" name="Group 17"/>
          <p:cNvGrpSpPr/>
          <p:nvPr/>
        </p:nvGrpSpPr>
        <p:grpSpPr>
          <a:xfrm>
            <a:off x="1152360" y="1411920"/>
            <a:ext cx="2904840" cy="2639520"/>
            <a:chOff x="1152360" y="1411920"/>
            <a:chExt cx="2904840" cy="2639520"/>
          </a:xfrm>
        </p:grpSpPr>
        <p:pic>
          <p:nvPicPr>
            <p:cNvPr id="295" name="Object 18" descr=""/>
            <p:cNvPicPr/>
            <p:nvPr/>
          </p:nvPicPr>
          <p:blipFill>
            <a:blip r:embed="rId5"/>
            <a:stretch/>
          </p:blipFill>
          <p:spPr>
            <a:xfrm>
              <a:off x="1152360" y="2303640"/>
              <a:ext cx="2443320" cy="17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AutoShape 19"/>
            <p:cNvSpPr/>
            <p:nvPr/>
          </p:nvSpPr>
          <p:spPr>
            <a:xfrm rot="8380200">
              <a:off x="3133800" y="1660320"/>
              <a:ext cx="907920" cy="380880"/>
            </a:xfrm>
            <a:prstGeom prst="rightArrow">
              <a:avLst>
                <a:gd name="adj1" fmla="val 50000"/>
                <a:gd name="adj2" fmla="val 30006"/>
              </a:avLst>
            </a:prstGeom>
            <a:solidFill>
              <a:srgbClr val="3f3f3f"/>
            </a:solidFill>
            <a:ln w="381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7" name="Прямоугольник 2"/>
          <p:cNvSpPr/>
          <p:nvPr/>
        </p:nvSpPr>
        <p:spPr>
          <a:xfrm>
            <a:off x="179280" y="4941720"/>
            <a:ext cx="878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Личность</a:t>
            </a:r>
            <a:r>
              <a:rPr b="1" lang="ru-RU" sz="28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- субъект сознательной  деятельности, обладающий совокупностью социально-значимых черт, которые он реализует в общественной жиз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2700000" y="404280"/>
            <a:ext cx="6264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Личность –</a:t>
            </a:r>
            <a:r>
              <a:rPr b="1" i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 совокупность качеств человека, которые приобретаются им в процессе жизни, в обществе, в деятельности и общении с другими людьми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ознание –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3f3f3f"/>
                </a:solidFill>
                <a:latin typeface="Times New Roman"/>
                <a:ea typeface="Times New Roman"/>
              </a:rPr>
              <a:t>отношение человека к миру, понимание того, что он делает, как живёт, о чем мечтает.</a:t>
            </a:r>
            <a:endParaRPr b="0" i="1" lang="en-US" sz="2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7640" y="549000"/>
            <a:ext cx="259236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ЧТО ТАКОЕ  ЛИЧНОСТЬ?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00" name="Picture 7" descr=""/>
          <p:cNvPicPr/>
          <p:nvPr/>
        </p:nvPicPr>
        <p:blipFill>
          <a:blip r:embed="rId1"/>
          <a:stretch/>
        </p:blipFill>
        <p:spPr>
          <a:xfrm>
            <a:off x="108000" y="3554280"/>
            <a:ext cx="1942920" cy="30038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C:\Users\Владелец\Desktop\tumblr_kq66iaJtbG1qa4pp6o1_400.jpg"/>
          <p:cNvPicPr/>
          <p:nvPr/>
        </p:nvPicPr>
        <p:blipFill>
          <a:blip r:embed="rId2"/>
          <a:stretch/>
        </p:blipFill>
        <p:spPr>
          <a:xfrm>
            <a:off x="2268360" y="3584520"/>
            <a:ext cx="1998720" cy="30034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3" descr="C:\Users\Владелец\Desktop\1267835131_PEACHonka_ru_1267839618974.jpg"/>
          <p:cNvPicPr/>
          <p:nvPr/>
        </p:nvPicPr>
        <p:blipFill>
          <a:blip r:embed="rId3"/>
          <a:stretch/>
        </p:blipFill>
        <p:spPr>
          <a:xfrm>
            <a:off x="4500720" y="3584520"/>
            <a:ext cx="2038320" cy="30034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4" descr="C:\Users\Владелец\Desktop\post-27862-1175920363.jpg"/>
          <p:cNvPicPr/>
          <p:nvPr/>
        </p:nvPicPr>
        <p:blipFill>
          <a:blip r:embed="rId4"/>
          <a:srcRect l="6993" t="1479" r="8068" b="2958"/>
          <a:stretch/>
        </p:blipFill>
        <p:spPr>
          <a:xfrm>
            <a:off x="6802560" y="3554280"/>
            <a:ext cx="2017440" cy="3033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1T19:30:46Z</dcterms:created>
  <dc:creator>Света</dc:creator>
  <dc:description/>
  <dc:language>en-US</dc:language>
  <cp:lastModifiedBy>Ирина</cp:lastModifiedBy>
  <dcterms:modified xsi:type="dcterms:W3CDTF">2017-08-01T17:02:31Z</dcterms:modified>
  <cp:revision>17</cp:revision>
  <dc:subject/>
  <dc:title>Человек - личность</dc:title>
</cp:coreProperties>
</file>