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gif" ContentType="image/gi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10BA-DAAF-47F6-B161-0B2D78ACD3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C6A0-7303-413E-B5EB-ED1C290706A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29A8-168D-4599-9561-C3EA74E4590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A1E-E781-4788-82C4-A78E7ED8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608-EB1A-4E9E-A02D-DB7D6A88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59A1-4294-42FF-AB12-A5E756FE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E6C-2555-4A93-B0F1-FFFCF973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97CF-5D9D-420D-95FD-3649C7E7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1426-DDEA-42A5-9AF5-E323C857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615E-1723-4C9B-9ADF-F32DE2F6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4AB3-FCF5-4C86-B8F4-1D5531F0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3C24-236D-40BA-91DE-B770A12F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FAD0-4207-48AB-99A0-8D419CC0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BE06-06C2-47BD-BB49-E99D1ED3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3D4-68AC-49B4-BCB0-47FE788F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ADD0-3C42-46C3-908E-3C3E6A85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B873-28BA-4749-B29D-DB54647E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DAD2-FCA8-4C3B-8131-E7C2302E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71AD-57CE-4C7F-A0D0-329C9945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2215-6A32-4490-8858-0362DC1A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B8D-DCC3-4FFD-95D0-A213C2F2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2D7-5CF2-4934-BD3C-7463414B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A3A-CD8A-4999-8718-03C202F0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690-3B0C-49EF-89CC-F8158249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509-67DC-4D3B-B1C0-C54AC77F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31C-663D-459F-9CBC-340B8E58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B9C-FC86-409B-97CC-C5ABF266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3884-E866-45A5-8642-95B3755F8A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7A24-6BFA-4627-A8C1-0A3C087BE005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image" Target="../media/image9.gi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-1291680" y="1268280"/>
            <a:ext cx="1203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Профессиональное образование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0" name="Picture 12" descr="http://aktualno.ru/images/content_news/22_Glavniii_sait_5190_ptu_625x415_big.jpg"/>
          <p:cNvPicPr/>
          <p:nvPr/>
        </p:nvPicPr>
        <p:blipFill>
          <a:blip r:embed="rId1"/>
          <a:stretch/>
        </p:blipFill>
        <p:spPr>
          <a:xfrm>
            <a:off x="324000" y="3141720"/>
            <a:ext cx="4000320" cy="2625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trainclub.ru/images/news/brynskiy_zd_kolledz.jpg"/>
          <p:cNvPicPr/>
          <p:nvPr/>
        </p:nvPicPr>
        <p:blipFill>
          <a:blip r:embed="rId2"/>
          <a:stretch/>
        </p:blipFill>
        <p:spPr>
          <a:xfrm>
            <a:off x="5148360" y="3933720"/>
            <a:ext cx="3500280" cy="2629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Правила выбора професс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Узнать себя – что я хочу и мог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Узнать мир профессий (существует более 40 тысяч) и пути получения професс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Знать ошибки при выборе профессий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(«за компанию», по решению родителей, увлечение внешней стороной профессии, отождествление профессии с учебным предметом, или с конкретным человеком и т.д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Профессиональный план – пути построения план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тересы, склонности и способн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Желание выбрать ту, или иную профессию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оставления списка подходящих профессий (из 40 тысяч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Финансовые возможности семь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стребование профессии на рынке труд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Востребованные профессии на рынке труда – рабочие профессии 70% и 30% вакансий с высшим образованием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5564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рограммисты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Учителя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родавцы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Строители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Водители;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Слесар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7" name="Picture 7" descr="MCj02997210000[1]"/>
          <p:cNvPicPr/>
          <p:nvPr/>
        </p:nvPicPr>
        <p:blipFill>
          <a:blip r:embed="rId1"/>
          <a:stretch/>
        </p:blipFill>
        <p:spPr>
          <a:xfrm>
            <a:off x="179280" y="1209600"/>
            <a:ext cx="1054080" cy="1811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MCj04241680000[1]"/>
          <p:cNvPicPr/>
          <p:nvPr/>
        </p:nvPicPr>
        <p:blipFill>
          <a:blip r:embed="rId2"/>
          <a:stretch/>
        </p:blipFill>
        <p:spPr>
          <a:xfrm>
            <a:off x="6300720" y="2205000"/>
            <a:ext cx="1835280" cy="1631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MMj02347240000[1]"/>
          <p:cNvPicPr/>
          <p:nvPr/>
        </p:nvPicPr>
        <p:blipFill>
          <a:blip r:embed="rId3"/>
          <a:stretch/>
        </p:blipFill>
        <p:spPr>
          <a:xfrm>
            <a:off x="7093080" y="4076640"/>
            <a:ext cx="1660320" cy="1249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MCj02516490000[1]"/>
          <p:cNvPicPr/>
          <p:nvPr/>
        </p:nvPicPr>
        <p:blipFill>
          <a:blip r:embed="rId4"/>
          <a:stretch/>
        </p:blipFill>
        <p:spPr>
          <a:xfrm>
            <a:off x="395280" y="4724280"/>
            <a:ext cx="1407960" cy="1812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MMj01883510000[1]"/>
          <p:cNvPicPr/>
          <p:nvPr/>
        </p:nvPicPr>
        <p:blipFill>
          <a:blip r:embed="rId5"/>
          <a:stretch/>
        </p:blipFill>
        <p:spPr>
          <a:xfrm>
            <a:off x="5508720" y="4797360"/>
            <a:ext cx="1346040" cy="1727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MCj01986020000[1]"/>
          <p:cNvPicPr/>
          <p:nvPr/>
        </p:nvPicPr>
        <p:blipFill>
          <a:blip r:embed="rId6"/>
          <a:stretch/>
        </p:blipFill>
        <p:spPr>
          <a:xfrm>
            <a:off x="395280" y="2781360"/>
            <a:ext cx="2247840" cy="178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лассификация професс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ассификация профессий по Е. А. Климову (по предмету, цели, орудиям и условиям труда)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Человек – природа»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физиолог, агроном, агроном, ветврач и др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Человек – техника»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инженер-механик, инженер-строитель, осмотрщик вагонов и др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Человек – человек»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учитель, врач, вахтер, следователь, журналист и др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Человек – знаковая система»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чертёжник, корректор, сортировщик почтовых отправлений и др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Человек – художественный образ»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писатель, актёр, музыкант, художник, антиквар и др.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3840" y="189000"/>
            <a:ext cx="540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Образование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-98280" y="1333440"/>
            <a:ext cx="92566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дин из способов становлени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ичности путём получения знаний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обретения умений и навыков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вития умственно-познавательных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 творческих способностей через систему таких социальных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нститутов, как семья, школа, средства массовой информац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Образование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– целенаправленный процесс воспитания и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бучения в интересах человека, общества, государств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5724360" y="165240"/>
            <a:ext cx="3353040" cy="2369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686800" cy="19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Образование</a:t>
            </a:r>
            <a:br>
              <a:rPr sz="4900"/>
            </a:br>
            <a:br>
              <a:rPr sz="4900"/>
            </a:br>
            <a:br>
              <a:rPr sz="49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7524720" y="154080"/>
            <a:ext cx="1519200" cy="2135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179280" y="1579680"/>
            <a:ext cx="885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«Государство обеспечивает гражданам право на образование путём создания системы образования и соответствующих социально-экономических условий для получения образования»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3148200" y="614196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кон об образовании РФ (статья 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Функции образован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иобщение человека к достижениям человечеств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ередача и сохранение культурного наследия и накопленного опы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дготовка человека к самостоятельной деятельност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азвитие творческих способностей личност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спитание и социализация личност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0438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Функции образования: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324000" y="1916280"/>
            <a:ext cx="813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2d050"/>
                </a:solidFill>
                <a:uFillTx/>
                <a:latin typeface="Times New Roman"/>
                <a:ea typeface="Cambria Math"/>
              </a:rPr>
              <a:t>Экономическая</a:t>
            </a:r>
            <a:r>
              <a:rPr b="1" lang="ru-RU" sz="2800" spc="-1" strike="noStrike">
                <a:solidFill>
                  <a:srgbClr val="92d050"/>
                </a:solidFill>
                <a:latin typeface="Times New Roman"/>
                <a:ea typeface="Cambria Math"/>
              </a:rPr>
              <a:t> (формирование социально-профессиональной структуры общества);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2d050"/>
                </a:solidFill>
                <a:uFillTx/>
                <a:latin typeface="Times New Roman"/>
                <a:ea typeface="Cambria Math"/>
              </a:rPr>
              <a:t>Социальная</a:t>
            </a:r>
            <a:r>
              <a:rPr b="1" lang="ru-RU" sz="2800" spc="-1" strike="noStrike">
                <a:solidFill>
                  <a:srgbClr val="92d050"/>
                </a:solidFill>
                <a:latin typeface="Times New Roman"/>
                <a:ea typeface="Cambria Math"/>
              </a:rPr>
              <a:t> (осуществление социализации личности (социальная функция);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2d050"/>
                </a:solidFill>
                <a:uFillTx/>
                <a:latin typeface="Times New Roman"/>
                <a:ea typeface="Cambria Math"/>
              </a:rPr>
              <a:t>Культурная</a:t>
            </a:r>
            <a:r>
              <a:rPr b="1" lang="ru-RU" sz="2800" spc="-1" strike="noStrike">
                <a:solidFill>
                  <a:srgbClr val="92d050"/>
                </a:solidFill>
                <a:latin typeface="Times New Roman"/>
                <a:ea typeface="Cambria Math"/>
              </a:rPr>
              <a:t> (использование ранее накопленной культуры в целях воспитания индивида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тупени образования. Общеобразовательная часть.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Дошкольное образование (ясли, детсад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чальное образование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бщее основное образование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реднее (полное) общее образование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тупени образования. Профессиональная част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чальное  профессиональное образование (ПТУ, училища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реднее профессиональное образование (колледжи, техникумы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сшее профессиональное образование (институты, академии, университеты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31376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сновные понят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Профессия –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д трудовой деятельности, требующий специальных знаний и опыта и обеспечивающий условия существования челове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Специальность –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олее узкая область приложения физических и духовных сил человека в рамках той или иной професс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Квалификация –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степень подготовленности человека к тому или иному виду трудовой деятельности, совокупность знаний и умений, необходимых для выполнения труда заданной слож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начение образования в современном обществ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Воспроизводит </a:t>
            </a: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рабочую силу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 различной квалификаци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Формирует </a:t>
            </a: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свободную личность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Является одним из основных </a:t>
            </a: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каналов социальных перемещений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: рабочий, получивший образование переходит в ряды интеллигенци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Способствует </a:t>
            </a: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освоению людьми новых поколений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 знаний, навыков, традиций, социально-культурного опыта, необходимых для их вступления в жизн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14:50:00Z</dcterms:created>
  <dc:creator>Лытаева И.В.</dc:creator>
  <dc:description/>
  <cp:keywords>Профессиональная карьера Выбор профессии</cp:keywords>
  <dc:language>en-US</dc:language>
  <cp:lastModifiedBy>Ирина</cp:lastModifiedBy>
  <dcterms:modified xsi:type="dcterms:W3CDTF">2017-08-12T09:32:37Z</dcterms:modified>
  <cp:revision>53</cp:revision>
  <dc:subject>Профессиональная карьера</dc:subject>
  <dc:title>Выбор профессии</dc:title>
</cp:coreProperties>
</file>