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gif" ContentType="image/gif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423C-9467-4033-B36D-1A60732E9B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E546-D102-4808-A6DC-1FD5A268820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1BF0-2446-4737-A0F1-1A1EF251F2B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8843-BEC3-41C8-8957-B7AE0652D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038B-438E-445F-8C46-4170EB31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5D69-0F92-46DB-8BB3-D603FC74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09F9-188D-4929-94E2-898EEAA4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24C8-23F7-4F95-BF00-B321475B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560A-25A7-420E-9F5D-D4B4F1DF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FF86-424B-4DD0-B8D4-4F9248BC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19CD-6A68-4A7E-A60A-7897657C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E3AF-76BB-4E06-B2FA-C86480A6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C77D-55BA-4B28-8C67-18CC0244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EB11-EC26-48DF-AE1D-C89600CC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0E34-A994-4A7F-B41E-CC36897C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BC0E-5787-4A72-83D0-96FC2A47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926B-A59E-4CBA-9CAC-F7FEA094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61CC-CBF7-443E-AEC8-0ED98CCC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EB9E-6499-4C87-8CC1-16B689E8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A40C-CC74-40C5-9FD3-821D8940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607D-4156-49D2-BEDA-5DC54049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B6A7-0CA0-4EEA-8C79-C5167641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7F75-A2A4-43DE-9257-1BD812B7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68C7-2FEA-4F96-86B0-979588F8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B58E-B34D-4D9B-8F8F-C4269D81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851C-97AE-4FA8-A1EE-6D566F94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3B30-DE28-42D9-81EC-883636E1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2F87-E932-47E1-978A-0C19D8F7C11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842E-FB4B-4E6B-A748-6847BBE8876D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wmf"/><Relationship Id="rId5" Type="http://schemas.openxmlformats.org/officeDocument/2006/relationships/image" Target="../media/image9.gi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3"/>
          <p:cNvSpPr/>
          <p:nvPr/>
        </p:nvSpPr>
        <p:spPr>
          <a:xfrm>
            <a:off x="-1291680" y="1268280"/>
            <a:ext cx="1203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Профессиональное образование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0" name="Picture 12" descr="http://aktualno.ru/images/content_news/22_Glavniii_sait_5190_ptu_625x415_big.jpg"/>
          <p:cNvPicPr/>
          <p:nvPr/>
        </p:nvPicPr>
        <p:blipFill>
          <a:blip r:embed="rId1"/>
          <a:stretch/>
        </p:blipFill>
        <p:spPr>
          <a:xfrm>
            <a:off x="324000" y="3141720"/>
            <a:ext cx="4000320" cy="26258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trainclub.ru/images/news/brynskiy_zd_kolledz.jpg"/>
          <p:cNvPicPr/>
          <p:nvPr/>
        </p:nvPicPr>
        <p:blipFill>
          <a:blip r:embed="rId2"/>
          <a:stretch/>
        </p:blipFill>
        <p:spPr>
          <a:xfrm>
            <a:off x="5148360" y="3933720"/>
            <a:ext cx="3500280" cy="2629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Правила выбора професс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Узнать себя – что я хочу и мог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Узнать мир профессий (существует более 40 тысяч) и пути получения професс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Знать ошибки при выборе профессий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(«за компанию», по решению родителей, увлечение внешней стороной профессии, отождествление профессии с учебным предметом, или с конкретным человеком и т.д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Профессиональный план – пути построения план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нтересы, склонности и способнос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Желание выбрать ту, или иную профессию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оставления списка подходящих профессий (из 40 тысяч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Финансовые возможности семь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Востребование профессии на рынке труд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Times New Roman"/>
              </a:rPr>
              <a:t>Востребованные профессии на рынке труда – рабочие профессии 70% и 30% вакансий с высшим образованием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5564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рограммисты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Учителя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родавцы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Строители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Водители;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Слесар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7" name="Picture 7" descr="MCj02997210000[1]"/>
          <p:cNvPicPr/>
          <p:nvPr/>
        </p:nvPicPr>
        <p:blipFill>
          <a:blip r:embed="rId1"/>
          <a:stretch/>
        </p:blipFill>
        <p:spPr>
          <a:xfrm>
            <a:off x="179280" y="1209600"/>
            <a:ext cx="1054080" cy="1811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MCj04241680000[1]"/>
          <p:cNvPicPr/>
          <p:nvPr/>
        </p:nvPicPr>
        <p:blipFill>
          <a:blip r:embed="rId2"/>
          <a:stretch/>
        </p:blipFill>
        <p:spPr>
          <a:xfrm>
            <a:off x="6300720" y="2205000"/>
            <a:ext cx="1835280" cy="1631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MMj02347240000[1]"/>
          <p:cNvPicPr/>
          <p:nvPr/>
        </p:nvPicPr>
        <p:blipFill>
          <a:blip r:embed="rId3"/>
          <a:stretch/>
        </p:blipFill>
        <p:spPr>
          <a:xfrm>
            <a:off x="7093080" y="4076640"/>
            <a:ext cx="1660320" cy="12495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" descr="MCj02516490000[1]"/>
          <p:cNvPicPr/>
          <p:nvPr/>
        </p:nvPicPr>
        <p:blipFill>
          <a:blip r:embed="rId4"/>
          <a:stretch/>
        </p:blipFill>
        <p:spPr>
          <a:xfrm>
            <a:off x="395280" y="4724280"/>
            <a:ext cx="1407960" cy="1812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1" descr="MMj01883510000[1]"/>
          <p:cNvPicPr/>
          <p:nvPr/>
        </p:nvPicPr>
        <p:blipFill>
          <a:blip r:embed="rId5"/>
          <a:stretch/>
        </p:blipFill>
        <p:spPr>
          <a:xfrm>
            <a:off x="5508720" y="4797360"/>
            <a:ext cx="1346040" cy="1727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MCj01986020000[1]"/>
          <p:cNvPicPr/>
          <p:nvPr/>
        </p:nvPicPr>
        <p:blipFill>
          <a:blip r:embed="rId6"/>
          <a:stretch/>
        </p:blipFill>
        <p:spPr>
          <a:xfrm>
            <a:off x="395280" y="2781360"/>
            <a:ext cx="2247840" cy="1782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лассификация професс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лассификация профессий по Е. А. Климову (по предмету, цели, орудиям и условиям труда)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Человек – природа»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(физиолог, агроном, агроном, ветврач и др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Человек – техника»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(инженер-механик, инженер-строитель, осмотрщик вагонов и др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Человек – человек»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(учитель, врач, вахтер, следователь, журналист и др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Человек – знаковая система»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(чертёжник, корректор, сортировщик почтовых отправлений и др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Человек – художественный образ»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(писатель, актёр, музыкант, художник, антиквар и др. 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23840" y="189000"/>
            <a:ext cx="540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Образование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-98280" y="1333440"/>
            <a:ext cx="92566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дин из способов становления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ичности путём получения знаний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иобретения умений и навыков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азвития умственно-познавательных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и творческих способностей через систему таких социальных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институтов, как семья, школа, средства массовой информаци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Образование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– целенаправленный процесс воспитания и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бучения в интересах человека, общества, государства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1"/>
          <a:stretch/>
        </p:blipFill>
        <p:spPr>
          <a:xfrm>
            <a:off x="5724360" y="165240"/>
            <a:ext cx="3353040" cy="2369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686800" cy="19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Образование</a:t>
            </a:r>
            <a:br>
              <a:rPr sz="4900"/>
            </a:br>
            <a:br>
              <a:rPr sz="4900"/>
            </a:br>
            <a:br>
              <a:rPr sz="49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7524720" y="154080"/>
            <a:ext cx="1519200" cy="21351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179280" y="1579680"/>
            <a:ext cx="885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«Государство обеспечивает гражданам право на образование путём создания системы образования и соответствующих социально-экономических условий для получения образования»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Прямоугольник 6"/>
          <p:cNvSpPr/>
          <p:nvPr/>
        </p:nvSpPr>
        <p:spPr>
          <a:xfrm>
            <a:off x="3148200" y="6141960"/>
            <a:ext cx="51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кон об образовании РФ (статья 5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Функции образования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иобщение человека к достижениям человечеств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ередача и сохранение культурного наследия и накопленного опы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дготовка человека к самостоятельной деятельност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азвитие творческих способностей личност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спитание и социализация личност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04384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Функции образования: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324000" y="1916280"/>
            <a:ext cx="8135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92d050"/>
                </a:solidFill>
                <a:uFillTx/>
                <a:latin typeface="Times New Roman"/>
                <a:ea typeface="Cambria Math"/>
              </a:rPr>
              <a:t>Экономическая</a:t>
            </a:r>
            <a:r>
              <a:rPr b="1" lang="ru-RU" sz="2800" spc="-1" strike="noStrike">
                <a:solidFill>
                  <a:srgbClr val="92d050"/>
                </a:solidFill>
                <a:latin typeface="Times New Roman"/>
                <a:ea typeface="Cambria Math"/>
              </a:rPr>
              <a:t> (формирование социально-профессиональной структуры общества);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92d050"/>
                </a:solidFill>
                <a:uFillTx/>
                <a:latin typeface="Times New Roman"/>
                <a:ea typeface="Cambria Math"/>
              </a:rPr>
              <a:t>Социальная</a:t>
            </a:r>
            <a:r>
              <a:rPr b="1" lang="ru-RU" sz="2800" spc="-1" strike="noStrike">
                <a:solidFill>
                  <a:srgbClr val="92d050"/>
                </a:solidFill>
                <a:latin typeface="Times New Roman"/>
                <a:ea typeface="Cambria Math"/>
              </a:rPr>
              <a:t> (осуществление социализации личности (социальная функция);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92d050"/>
                </a:solidFill>
                <a:uFillTx/>
                <a:latin typeface="Times New Roman"/>
                <a:ea typeface="Cambria Math"/>
              </a:rPr>
              <a:t>Культурная</a:t>
            </a:r>
            <a:r>
              <a:rPr b="1" lang="ru-RU" sz="2800" spc="-1" strike="noStrike">
                <a:solidFill>
                  <a:srgbClr val="92d050"/>
                </a:solidFill>
                <a:latin typeface="Times New Roman"/>
                <a:ea typeface="Cambria Math"/>
              </a:rPr>
              <a:t> (использование ранее накопленной культуры в целях воспитания индивида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Ступени образования. Общеобразовательная часть.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Дошкольное образование (ясли, детсад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ачальное образование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бщее основное образование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реднее (полное) общее образование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Ступени образования. Профессиональная часть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ачальное  профессиональное образование (ПТУ, училища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реднее профессиональное образование (колледжи, техникумы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ысшее профессиональное образование (институты, академии, университеты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313760" cy="9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сновные понят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Профессия –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д трудовой деятельности, требующий специальных знаний и опыта и обеспечивающий условия существования человек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Специальность –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более узкая область приложения физических и духовных сил человека в рамках той или иной професс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Квалификация –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о степень подготовленности человека к тому или иному виду трудовой деятельности, совокупность знаний и умений, необходимых для выполнения труда заданной слож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Значение образования в современном обществ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85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Воспроизводит </a:t>
            </a:r>
            <a:r>
              <a:rPr b="1" lang="ru-RU" sz="2400" spc="-1" strike="noStrike">
                <a:solidFill>
                  <a:srgbClr val="92d050"/>
                </a:solidFill>
                <a:latin typeface="Arial"/>
              </a:rPr>
              <a:t>рабочую силу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 различной квалификации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Формирует </a:t>
            </a:r>
            <a:r>
              <a:rPr b="1" lang="ru-RU" sz="2400" spc="-1" strike="noStrike">
                <a:solidFill>
                  <a:srgbClr val="92d050"/>
                </a:solidFill>
                <a:latin typeface="Arial"/>
              </a:rPr>
              <a:t>свободную личность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Является одним из основных </a:t>
            </a:r>
            <a:r>
              <a:rPr b="1" lang="ru-RU" sz="2400" spc="-1" strike="noStrike">
                <a:solidFill>
                  <a:srgbClr val="92d050"/>
                </a:solidFill>
                <a:latin typeface="Arial"/>
              </a:rPr>
              <a:t>каналов социальных перемещений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: рабочий, получивший образование переходит в ряды интеллигенции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Способствует </a:t>
            </a:r>
            <a:r>
              <a:rPr b="1" lang="ru-RU" sz="2400" spc="-1" strike="noStrike">
                <a:solidFill>
                  <a:srgbClr val="92d050"/>
                </a:solidFill>
                <a:latin typeface="Arial"/>
              </a:rPr>
              <a:t>освоению людьми новых поколений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 знаний, навыков, традиций, социально-культурного опыта, необходимых для их вступления в жизн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14:50:00Z</dcterms:created>
  <dc:creator>Лытаева И.В.</dc:creator>
  <dc:description/>
  <cp:keywords>Профессиональная карьера Выбор профессии</cp:keywords>
  <dc:language>en-US</dc:language>
  <cp:lastModifiedBy>Ирина</cp:lastModifiedBy>
  <dcterms:modified xsi:type="dcterms:W3CDTF">2017-08-12T09:32:37Z</dcterms:modified>
  <cp:revision>53</cp:revision>
  <dc:subject>Профессиональная карьера</dc:subject>
  <dc:title>Выбор профессии</dc:title>
</cp:coreProperties>
</file>