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A045-9F9B-4A2E-96DB-0DC0886B65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7A7A-FFF6-4289-891A-CE1B7A24F9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9A1F-9599-4948-81A8-2F43C65749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F01B-4AC5-4988-91D0-FFBA6F77B2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E111-86A1-49BF-8300-4BDAC317C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4560-1C08-405C-AEA1-6E53A33F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7EC6-D506-404A-91FF-58B281E3F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5F2E-9CCF-4461-A11B-325E807D7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CEA6F-903A-4B14-AB9E-A5DA160F0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A8843-A9BE-4328-A942-A0C60176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976FC-7FE0-4983-B60B-C2B9FD78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1F5A9-8D6E-44EE-92F1-1AF5D71C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5ABC7-0D4F-42B7-9473-B39CBE29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F91EB-DC50-4416-92CF-894BBCE5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0194C-4D77-4C43-B5BE-7738A7C3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7CD9-E8E4-4C52-8B5C-DE737170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A080A-418B-450A-881C-DC580DDD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6167B-B8F3-411F-89DA-64D21F65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40F48-9449-41CD-B28F-5EEDFF01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7502C-39A9-4E6F-B162-732CA321A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FE971-62E6-4DD3-9DD4-99964E310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2B57BF-CFA3-4B22-9237-5A6A19EF0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BC4D13-9363-4194-B1F9-E156BA33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754BC8-5F7C-4C33-8AAB-E5F770C9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9E9D27-2DAA-49C4-9078-800B5B2C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1362F6-C87F-4E36-8517-819587B9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89DA-F8ED-44DB-96AC-70FD4655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EBEA9C-CD0C-49E3-8588-D78C0A77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E0F196-D5C0-4D8D-AC73-3537DFE0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5AF2BC-60C4-4C47-83DC-6D850F00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6B8DF6-722A-44DA-8CD2-DDB13E94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59F5CC-A1A7-4372-872D-2EEE3BE0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298D3A-5663-4C8E-8B6A-12BE9D70E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A69D72-E1EA-4456-9257-76E9C5000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69FC-A5FD-48AD-8B6B-F192E170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43AD-1C66-4377-88EE-B652F7CC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B917-18DB-4664-805E-D9989F62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2563-DBE5-49A2-B20E-5A61A215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D7F5-0941-4239-A644-284A6821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CFCF-B6DF-42AE-8241-3BD38414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5115-FE97-4406-B426-8D7C0337626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C07C-68CC-404F-B266-A633AAD822D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EFAD-BDC3-4FFC-BB9C-E49B9C2E5E7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73;&#1097;&#1077;&#1089;&#1090;&#1074;&#1077;&#1085;&#1085;&#1099;&#1077;_&#1086;&#1090;&#1085;&#1086;&#1096;&#1077;&#1085;&#1080;&#1103;" TargetMode="External"/><Relationship Id="rId2" Type="http://schemas.openxmlformats.org/officeDocument/2006/relationships/hyperlink" Target="http://ru.wikipedia.org/wiki/&#1054;&#1073;&#1097;&#1077;&#1089;&#1090;&#1074;&#1077;&#1085;&#1085;&#1099;&#1077;_&#1086;&#1090;&#1085;&#1086;&#1096;&#1077;&#1085;&#1080;&#1103;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640" y="549360"/>
            <a:ext cx="893916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Гражданское общество и государств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5" descr="mos12"/>
          <p:cNvPicPr/>
          <p:nvPr/>
        </p:nvPicPr>
        <p:blipFill>
          <a:blip r:embed="rId1"/>
          <a:stretch/>
        </p:blipFill>
        <p:spPr>
          <a:xfrm>
            <a:off x="108000" y="3500280"/>
            <a:ext cx="4259160" cy="3194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2"/>
          <a:stretch/>
        </p:blipFill>
        <p:spPr>
          <a:xfrm>
            <a:off x="4427640" y="2708280"/>
            <a:ext cx="4619520" cy="3084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руктура гражданского обще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ые и культурные организации, спортивные обще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3492360" y="1773360"/>
            <a:ext cx="1584360" cy="1182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"/>
          <p:cNvPicPr/>
          <p:nvPr/>
        </p:nvPicPr>
        <p:blipFill>
          <a:blip r:embed="rId2"/>
          <a:stretch/>
        </p:blipFill>
        <p:spPr>
          <a:xfrm>
            <a:off x="5076720" y="2349360"/>
            <a:ext cx="1800360" cy="1195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"/>
          <p:cNvPicPr/>
          <p:nvPr/>
        </p:nvPicPr>
        <p:blipFill>
          <a:blip r:embed="rId3"/>
          <a:stretch/>
        </p:blipFill>
        <p:spPr>
          <a:xfrm>
            <a:off x="6659640" y="3270240"/>
            <a:ext cx="2195280" cy="851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4"/>
          <a:stretch/>
        </p:blipFill>
        <p:spPr>
          <a:xfrm>
            <a:off x="395280" y="4875120"/>
            <a:ext cx="2376360" cy="1790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"/>
          <p:cNvPicPr/>
          <p:nvPr/>
        </p:nvPicPr>
        <p:blipFill>
          <a:blip r:embed="rId5"/>
          <a:stretch/>
        </p:blipFill>
        <p:spPr>
          <a:xfrm>
            <a:off x="3635280" y="4797360"/>
            <a:ext cx="1611360" cy="18734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11"/>
          <p:cNvSpPr/>
          <p:nvPr/>
        </p:nvSpPr>
        <p:spPr>
          <a:xfrm>
            <a:off x="4501440" y="4292640"/>
            <a:ext cx="181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ков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2" descr="z11"/>
          <p:cNvPicPr/>
          <p:nvPr/>
        </p:nvPicPr>
        <p:blipFill>
          <a:blip r:embed="rId7"/>
          <a:stretch/>
        </p:blipFill>
        <p:spPr>
          <a:xfrm>
            <a:off x="5508720" y="4941720"/>
            <a:ext cx="2484360" cy="1657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Гражданское общ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ющаяся и развивающаяся в демократических государствах человеческая общность, представленная сетью добровольно образованных негосударственных структур во всех сферах жизнедеятельности общества и совокупностью негосударственных отношений – экономических, социальных, духовных, религиозных и други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изнаки гражданского обще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е обеспечение прав и свобод человека и граждан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о формирующееся общественное мнение и плюрализ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ение права человека на информац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укладность эконом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итимность вла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ое государ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ьная социальная политика государ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Функции гражданского обще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е удовлетворение материальных, духовных потребностей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частных сфер жизни люд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щный рычаг сдерживания политической власти от абсолютного господ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изация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общественных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 отношений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оцесс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2"/>
          <p:cNvSpPr/>
          <p:nvPr/>
        </p:nvSpPr>
        <p:spPr>
          <a:xfrm>
            <a:off x="108000" y="542880"/>
            <a:ext cx="892800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инцип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ием формального (юридического) равенства граждан перед законом и суд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ческая свобода, многообразие форм собственности, рыночные отнош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ологический и политический плюрализ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ое государство, невмешательство государства в частную жизнь гражда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ая социальная политика, обеспечивающая достойный уровень жизни лю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рганизация, самоуправляем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Условия возникновения и развития гражданского обще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8000" y="1700280"/>
            <a:ext cx="49687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ая свобода, демократическое государственное управление, существование общественной сферы политической деятельности и политической дискусс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сность и высокая информированность гражд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5219640" y="2421000"/>
            <a:ext cx="3780000" cy="2835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Условия формирования гражданского общества в Росс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всех форм собственности, развитие экономической конкурен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квидация основ любой безраздельной политической вл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ления чувства личного достоин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руктура гражданского обще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1666800"/>
            <a:ext cx="41403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тические парт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енно-политические организации и движения: экологические, правозащитны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4140360" y="1484280"/>
            <a:ext cx="2016000" cy="1525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2"/>
          <a:stretch/>
        </p:blipFill>
        <p:spPr>
          <a:xfrm>
            <a:off x="6343560" y="2205000"/>
            <a:ext cx="2017800" cy="1452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"/>
          <p:cNvPicPr/>
          <p:nvPr/>
        </p:nvPicPr>
        <p:blipFill>
          <a:blip r:embed="rId3"/>
          <a:stretch/>
        </p:blipFill>
        <p:spPr>
          <a:xfrm>
            <a:off x="4356000" y="3933720"/>
            <a:ext cx="2448000" cy="1602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4"/>
          <a:stretch/>
        </p:blipFill>
        <p:spPr>
          <a:xfrm>
            <a:off x="6804000" y="4724280"/>
            <a:ext cx="2087640" cy="15591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руктура гражданского обще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юзы предпринимате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ые средства массовой инфор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2303640" cy="1719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2"/>
          <a:stretch/>
        </p:blipFill>
        <p:spPr>
          <a:xfrm>
            <a:off x="6588000" y="1916280"/>
            <a:ext cx="2376720" cy="1706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"/>
          <p:cNvPicPr/>
          <p:nvPr/>
        </p:nvPicPr>
        <p:blipFill>
          <a:blip r:embed="rId3"/>
          <a:stretch/>
        </p:blipFill>
        <p:spPr>
          <a:xfrm>
            <a:off x="4643280" y="4005360"/>
            <a:ext cx="2448000" cy="1376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4"/>
          <a:stretch/>
        </p:blipFill>
        <p:spPr>
          <a:xfrm>
            <a:off x="6659640" y="4941720"/>
            <a:ext cx="2340000" cy="1565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08:15:58Z</dcterms:created>
  <dc:creator>Nikiforov</dc:creator>
  <dc:description/>
  <dc:language>en-US</dc:language>
  <cp:lastModifiedBy>Надежда</cp:lastModifiedBy>
  <dcterms:modified xsi:type="dcterms:W3CDTF">2018-03-29T08:12:16Z</dcterms:modified>
  <cp:revision>21</cp:revision>
  <dc:subject/>
  <dc:title>Гражданское общество и государств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