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DC86-F903-4C36-93F4-CE1D954DB1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B116-5DE2-49B9-8418-6B6797989D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36AC-E853-4F25-9755-265D1F6D41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339E-2FFF-4778-8387-E2965B4AA9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1AE-2317-4699-899A-756F5950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1710-387A-441B-B1F3-66DB425E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2DA5-673D-4E64-A821-B7C24225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0A79-451F-40C8-90BD-D8388563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3C101-7D80-4A1C-8645-53ACA8ED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3AEAA-C644-44A2-80D3-6E6DE804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BF994-8646-455F-9F48-485F1EC0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A49F3-D5F8-46E7-BFFB-C5FF1AD4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8F9F6-3792-4DB8-9DC5-790FB7EF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6136D-2234-4DAB-A950-5C199566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F900D-F264-46F8-9DAE-71152700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25BF-9416-4CCC-948C-069C7C07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9B9AD-6155-45A3-8D26-746172FD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51AB9-4F28-4842-9413-C3F3560C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5F48E-FC53-4F5B-A329-DB764A01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B8E20-D203-4D2F-9E3B-F5F66B26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E3451-5B8E-47E4-B2B9-8936DB59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E0CE74-AB69-4E1F-A393-ED7B7BAC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A7F022-C6E8-4C99-AA11-1E28BFC1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5E3C89-299A-429E-9ACD-610B0ECB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3C9BA9-7D9D-47C6-8A78-D925FD6E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092F1A-8AB5-4846-A21B-126A5A80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5E37-C9D4-472E-82E0-B87F2305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06C128-E194-43A9-8E44-29FA7653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0E74CB-4145-4058-8CC1-2E4649A2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337BD9-899D-42AC-BFBA-DF700FDF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C2A121-A813-4321-9FF2-2319EF3C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7C7511-8158-4C03-A659-D1CFECB1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5362B2-B66B-4331-B7F4-D6AFF951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B585F7-9367-46DE-A07E-CBCE143F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3F5-5433-4A9A-8BCB-1A0A30D6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DDD-04E9-485F-89C8-EDCC7C7E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C10-001A-48C3-9F02-F57AD93A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8C1-D6CB-4DA3-BACB-8807DEE1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EC25-F5B2-400B-90C7-AA2C1F33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DED0-B0BF-45F1-B6D4-2560CD2F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7D3A-5D1C-49FB-9FDF-18E9CA60AAE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63F9-406B-48D0-852D-0E7659C2A9F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189B-C110-4123-A0CF-9E891916F84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7;&#1077;&#1089;&#1090;&#1074;&#1077;&#1085;&#1085;&#1099;&#1077;_&#1086;&#1090;&#1085;&#1086;&#1096;&#1077;&#1085;&#1080;&#1103;" TargetMode="External"/><Relationship Id="rId2" Type="http://schemas.openxmlformats.org/officeDocument/2006/relationships/hyperlink" Target="http://ru.wikipedia.org/wiki/&#1054;&#1073;&#1097;&#1077;&#1089;&#1090;&#1074;&#1077;&#1085;&#1085;&#1099;&#1077;_&#1086;&#1090;&#1085;&#1086;&#1096;&#1077;&#1085;&#1080;&#1103;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640" y="549360"/>
            <a:ext cx="893916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Гражданское общество и государств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mos12"/>
          <p:cNvPicPr/>
          <p:nvPr/>
        </p:nvPicPr>
        <p:blipFill>
          <a:blip r:embed="rId1"/>
          <a:stretch/>
        </p:blipFill>
        <p:spPr>
          <a:xfrm>
            <a:off x="108000" y="3500280"/>
            <a:ext cx="4259160" cy="319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2"/>
          <a:stretch/>
        </p:blipFill>
        <p:spPr>
          <a:xfrm>
            <a:off x="4427640" y="2708280"/>
            <a:ext cx="4619520" cy="308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уктура гражданского об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е и культурные организации, спортивные общ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3492360" y="1773360"/>
            <a:ext cx="1584360" cy="1182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5076720" y="2349360"/>
            <a:ext cx="1800360" cy="1195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3"/>
          <a:stretch/>
        </p:blipFill>
        <p:spPr>
          <a:xfrm>
            <a:off x="6659640" y="3270240"/>
            <a:ext cx="2195280" cy="851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4"/>
          <a:stretch/>
        </p:blipFill>
        <p:spPr>
          <a:xfrm>
            <a:off x="395280" y="4875120"/>
            <a:ext cx="2376360" cy="1790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5"/>
          <a:stretch/>
        </p:blipFill>
        <p:spPr>
          <a:xfrm>
            <a:off x="3635280" y="4797360"/>
            <a:ext cx="1611360" cy="18734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1"/>
          <p:cNvSpPr/>
          <p:nvPr/>
        </p:nvSpPr>
        <p:spPr>
          <a:xfrm>
            <a:off x="4501440" y="4292640"/>
            <a:ext cx="181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z11"/>
          <p:cNvPicPr/>
          <p:nvPr/>
        </p:nvPicPr>
        <p:blipFill>
          <a:blip r:embed="rId7"/>
          <a:stretch/>
        </p:blipFill>
        <p:spPr>
          <a:xfrm>
            <a:off x="5508720" y="4941720"/>
            <a:ext cx="248436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ражданское об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щаяся и развивающаяся в демократических государствах человеческая общность, представленная сетью добровольно образованных негосударственных структур во всех сферах жизнедеятельности общества и совокупностью негосударственных отношений – экономических, социальных, духовных, религиозных и друг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знаки гражданского об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обеспечение прав и свобод человека и граждан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 формирующееся общественное мнение и плюрал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права человека на информац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кладность эконом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итимность в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государ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ая социальная политика государ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ункции гражданского об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удовлетворение материальных, духовных потребностей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частных сфер жизни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щный рычаг сдерживания политической власти от абсолютного господ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изация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общественных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 отношений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оцес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2"/>
          <p:cNvSpPr/>
          <p:nvPr/>
        </p:nvSpPr>
        <p:spPr>
          <a:xfrm>
            <a:off x="108000" y="542880"/>
            <a:ext cx="8928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нци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м формального (юридического) равенства граждан перед законом и суд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ая свобода, многообразие форм собственности, рыночные отно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ческий и политический плюрализ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государство, невмешательство государства в частную жизнь граж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ая социальная политика, обеспечивающая достойный уровень жизни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рганизация, самоуправляе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словия возникновения и развития гражданского общ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1700280"/>
            <a:ext cx="4968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свобода, демократическое государственное управление, существование общественной сферы политической деятельности и политической диску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ость и высокая информированность гражд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3780000" cy="2835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Условия формирования гражданского общества в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сех форм собственности, развитие экономической конкурен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видация основ любой безраздельной политической в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я чувства личного достои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уктура гражданского об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66680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ие парт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о-политические организации и движения: экологические, правозащитн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140360" y="1484280"/>
            <a:ext cx="2016000" cy="1525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2"/>
          <a:stretch/>
        </p:blipFill>
        <p:spPr>
          <a:xfrm>
            <a:off x="6343560" y="2205000"/>
            <a:ext cx="2017800" cy="1452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3"/>
          <a:stretch/>
        </p:blipFill>
        <p:spPr>
          <a:xfrm>
            <a:off x="4356000" y="3933720"/>
            <a:ext cx="2448000" cy="1602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4"/>
          <a:stretch/>
        </p:blipFill>
        <p:spPr>
          <a:xfrm>
            <a:off x="6804000" y="4724280"/>
            <a:ext cx="2087640" cy="1559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уктура гражданского об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ы предпринима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ые средства масс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2303640" cy="1719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2376720" cy="1706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3"/>
          <a:stretch/>
        </p:blipFill>
        <p:spPr>
          <a:xfrm>
            <a:off x="4643280" y="4005360"/>
            <a:ext cx="2448000" cy="137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4"/>
          <a:stretch/>
        </p:blipFill>
        <p:spPr>
          <a:xfrm>
            <a:off x="6659640" y="4941720"/>
            <a:ext cx="2340000" cy="1565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8:15:58Z</dcterms:created>
  <dc:creator>Nikiforov</dc:creator>
  <dc:description/>
  <dc:language>en-US</dc:language>
  <cp:lastModifiedBy>Надежда</cp:lastModifiedBy>
  <dcterms:modified xsi:type="dcterms:W3CDTF">2018-03-29T08:12:16Z</dcterms:modified>
  <cp:revision>21</cp:revision>
  <dc:subject/>
  <dc:title>Гражданское общество и государ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