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A692-7AE4-4B61-A6A9-B7A143F54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F5E8-6871-4245-A9BB-23F89A380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4D16-0091-46B8-A722-130789A05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9B66-1351-4191-B369-4FBF9C58D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рганизует обсуждение, только после его завершения на слайд выводятся пункты 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E411-4BA4-4B71-8150-FCE3968A4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414-EA21-49C1-8009-0AFBA544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7FF-44D5-4AAF-9C77-55375B79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68F-E711-48B0-A74D-6E1C4DDD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8CD-5AD3-41FB-8BA0-504D4B67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420-3930-4028-B718-2301D784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25C-B9E4-4E5A-A845-A747655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9EA-A50A-49D5-B424-74ED39C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1C2-748E-4E9B-B8B8-35FF806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32D-9BDB-41E7-BCD8-4111E49B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362-E837-4A90-B354-13DE061D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418-7048-4F50-82D3-151A9A5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E76-FB17-4C43-BA8B-36E1B29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D204-83A2-4FCC-A489-8AFC784C8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722800">
            <a:off x="438840" y="354132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Основные принципы и нормы морали.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Моральный выбор.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2843280" y="4869000"/>
            <a:ext cx="58863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е знаю, что такое добро. То, что люди ценят во мне, и есть мои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что такое зло. То, что люди не любят во мне,- вот это и есть мои пороки».                Древнекитайское изр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E02097_"/>
          <p:cNvPicPr/>
          <p:nvPr/>
        </p:nvPicPr>
        <p:blipFill>
          <a:blip r:embed="rId1"/>
          <a:stretch/>
        </p:blipFill>
        <p:spPr>
          <a:xfrm>
            <a:off x="179280" y="223920"/>
            <a:ext cx="397188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2"/>
          <p:cNvSpPr/>
          <p:nvPr/>
        </p:nvSpPr>
        <p:spPr>
          <a:xfrm>
            <a:off x="428760" y="2428920"/>
            <a:ext cx="1857240" cy="2286000"/>
          </a:xfrm>
          <a:custGeom>
            <a:avLst/>
            <a:gdLst>
              <a:gd name="textAreaLeft" fmla="*/ 90360 w 1857240"/>
              <a:gd name="textAreaRight" fmla="*/ 1766880 w 1857240"/>
              <a:gd name="textAreaTop" fmla="*/ 90360 h 2286000"/>
              <a:gd name="textAreaBottom" fmla="*/ 2195640 h 2286000"/>
            </a:gdLst>
            <a:ahLst/>
            <a:rect l="textAreaLeft" t="textAreaTop" r="textAreaRight" b="textAreaBottom"/>
            <a:pathLst>
              <a:path w="21600" h="26586">
                <a:moveTo>
                  <a:pt x="3600" y="0"/>
                </a:moveTo>
                <a:arcTo wR="3600" hR="3600" stAng="16200000" swAng="-5400000"/>
                <a:lnTo>
                  <a:pt x="0" y="22986"/>
                </a:lnTo>
                <a:arcTo wR="3600" hR="3600" stAng="10800000" swAng="-5400000"/>
                <a:lnTo>
                  <a:pt x="18000" y="265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3"/>
          <p:cNvSpPr/>
          <p:nvPr/>
        </p:nvSpPr>
        <p:spPr>
          <a:xfrm>
            <a:off x="2428920" y="3143160"/>
            <a:ext cx="149544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95640" y="2000160"/>
            <a:ext cx="4824360" cy="385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что противоположно добру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зло. Понятие зла объединяет в себе все отрицательн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-  это все то, что губит  душ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2231640" y="549360"/>
            <a:ext cx="45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то такое  з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000" y="691920"/>
            <a:ext cx="835164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л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осознание безусл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я моральных требова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й долг человека – быть человеком в человеческ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4643280" y="4005360"/>
            <a:ext cx="36738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48104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обязанностей человека перед обществом на уровне общественного мнения (сознания)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индивидуального сознания — понимание личностью этих обязанностей и принятие их е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Картинка 16 из 103442"/>
          <p:cNvPicPr/>
          <p:nvPr/>
        </p:nvPicPr>
        <p:blipFill>
          <a:blip r:embed="rId1"/>
          <a:stretch/>
        </p:blipFill>
        <p:spPr>
          <a:xfrm>
            <a:off x="5572080" y="1214280"/>
            <a:ext cx="3233880" cy="4738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280" y="333360"/>
            <a:ext cx="82090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ве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знание и чувство мор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и человека за своё поведение перед самим и внутренняя потребность поступать прави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явление совести -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ы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4811760" cy="2887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1042920" y="3435480"/>
            <a:ext cx="201636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68436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ов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999720"/>
            <a:ext cx="4535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личности к эмоциональной оценке совершенных и совершаемых ею поступков, соотносимых с идеей должног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яция личностью возможна лишь при условии отключения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Андрей\Desktop\big_655748.jpg"/>
          <p:cNvPicPr/>
          <p:nvPr/>
        </p:nvPicPr>
        <p:blipFill>
          <a:blip r:embed="rId1"/>
          <a:srcRect l="0" t="0" r="0" b="10052"/>
          <a:stretch/>
        </p:blipFill>
        <p:spPr>
          <a:xfrm>
            <a:off x="4714920" y="3571920"/>
            <a:ext cx="4233960" cy="29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Картинка 3 из 105270"/>
          <p:cNvPicPr/>
          <p:nvPr/>
        </p:nvPicPr>
        <p:blipFill>
          <a:blip r:embed="rId2"/>
          <a:srcRect l="0" t="0" r="0" b="4478"/>
          <a:stretch/>
        </p:blipFill>
        <p:spPr>
          <a:xfrm>
            <a:off x="4714920" y="214200"/>
            <a:ext cx="420984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Честь и достоин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егории чести и достоинства личности отражают признание ценности личности на основе наличия у нее некоторых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ых черт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родства, готовности к самоотверженности, определенной сдержанности и соблюдения в отношениях с другими людьми правил, принятых той или иной референтной груп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5"/>
          <p:cNvGrpSpPr/>
          <p:nvPr/>
        </p:nvGrpSpPr>
        <p:grpSpPr>
          <a:xfrm>
            <a:off x="428760" y="1428840"/>
            <a:ext cx="8561160" cy="4143240"/>
            <a:chOff x="428760" y="1428840"/>
            <a:chExt cx="8561160" cy="4143240"/>
          </a:xfrm>
        </p:grpSpPr>
        <p:pic>
          <p:nvPicPr>
            <p:cNvPr id="100" name="Picture 2" descr="Картинка 1 из 20199"/>
            <p:cNvPicPr/>
            <p:nvPr/>
          </p:nvPicPr>
          <p:blipFill>
            <a:blip r:embed="rId1"/>
            <a:stretch/>
          </p:blipFill>
          <p:spPr>
            <a:xfrm>
              <a:off x="428760" y="1428840"/>
              <a:ext cx="5638320" cy="41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Картинка 77 из 20195"/>
            <p:cNvPicPr/>
            <p:nvPr/>
          </p:nvPicPr>
          <p:blipFill>
            <a:blip r:embed="rId2"/>
            <a:srcRect l="0" t="0" r="42520" b="0"/>
            <a:stretch/>
          </p:blipFill>
          <p:spPr>
            <a:xfrm>
              <a:off x="5414400" y="1428840"/>
              <a:ext cx="3575520" cy="4143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31280" y="188640"/>
            <a:ext cx="842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есть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общественное признание поступков человека, его заслуг, проявляющееся в почитании, авторитете, сл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042200" y="4108320"/>
            <a:ext cx="1143720" cy="907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4" name="TextBox 5"/>
          <p:cNvSpPr/>
          <p:nvPr/>
        </p:nvSpPr>
        <p:spPr>
          <a:xfrm>
            <a:off x="307800" y="50148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и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7"/>
          <p:cNvCxnSpPr/>
          <p:nvPr/>
        </p:nvCxnSpPr>
        <p:spPr>
          <a:xfrm>
            <a:off x="3780000" y="4013280"/>
            <a:ext cx="1008720" cy="7387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6" name="TextBox 8"/>
          <p:cNvSpPr/>
          <p:nvPr/>
        </p:nvSpPr>
        <p:spPr>
          <a:xfrm>
            <a:off x="4643280" y="4632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ж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0"/>
          <p:cNvCxnSpPr/>
          <p:nvPr/>
        </p:nvCxnSpPr>
        <p:spPr>
          <a:xfrm>
            <a:off x="3132000" y="4107960"/>
            <a:ext cx="403920" cy="986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8" name="TextBox 11"/>
          <p:cNvSpPr/>
          <p:nvPr/>
        </p:nvSpPr>
        <p:spPr>
          <a:xfrm>
            <a:off x="2340000" y="521496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ессион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990800" y="276696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е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"/>
          <p:cNvPicPr/>
          <p:nvPr/>
        </p:nvPicPr>
        <p:blipFill>
          <a:blip r:embed="rId1"/>
          <a:stretch/>
        </p:blipFill>
        <p:spPr>
          <a:xfrm>
            <a:off x="5219640" y="2451240"/>
            <a:ext cx="3384720" cy="2195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9"/>
          <p:cNvSpPr/>
          <p:nvPr/>
        </p:nvSpPr>
        <p:spPr>
          <a:xfrm>
            <a:off x="307800" y="1395360"/>
            <a:ext cx="851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стои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самоуважение, потребность человека в сознании своей собственной ценности, в одобрении своих поступков самим соб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Нравственная культура личности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восприятия индивидом нравственного сознания и культуры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Факторы, определяющие уровень нравственной куль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жизни и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нравственных переживаний, сопере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и разнообразие жизненных связей и интересов лично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равственная культу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реализация человеком в своем поведении нравственных принципов (ценностей и нор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а 3 из 80905"/>
          <p:cNvPicPr/>
          <p:nvPr/>
        </p:nvPicPr>
        <p:blipFill>
          <a:blip r:embed="rId1"/>
          <a:stretch/>
        </p:blipFill>
        <p:spPr>
          <a:xfrm>
            <a:off x="3429000" y="2857680"/>
            <a:ext cx="5076720" cy="35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Картинка 25 из 80905"/>
          <p:cNvPicPr/>
          <p:nvPr/>
        </p:nvPicPr>
        <p:blipFill>
          <a:blip r:embed="rId2"/>
          <a:stretch/>
        </p:blipFill>
        <p:spPr>
          <a:xfrm>
            <a:off x="714240" y="2857680"/>
            <a:ext cx="250056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b050"/>
                </a:solidFill>
                <a:latin typeface="Monotype Corsiva"/>
              </a:rPr>
              <a:t>Мораль -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8497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одобренных общественным мнением норм, определяющих отношения людей в социуме, их обязанности друг перед другом и перед общ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BD04972_"/>
          <p:cNvPicPr/>
          <p:nvPr/>
        </p:nvPicPr>
        <p:blipFill>
          <a:blip r:embed="rId1"/>
          <a:stretch/>
        </p:blipFill>
        <p:spPr>
          <a:xfrm>
            <a:off x="4932360" y="4292640"/>
            <a:ext cx="292428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479760" y="5445000"/>
            <a:ext cx="53611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– подобие Бога, имеет высшую сакральн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5300640"/>
            <a:ext cx="28083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ый (нравственно-универс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419640" y="3573360"/>
            <a:ext cx="54734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обладает равными правами и свободами, обязанностями. Реализация «Золотого правила нравствен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31920" y="3645000"/>
            <a:ext cx="2952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манистический (просоци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75160" y="2565360"/>
            <a:ext cx="502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к тем, кто не принадлежит к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587680"/>
            <a:ext cx="28098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оцентр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481560" y="1308240"/>
            <a:ext cx="53593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бственному удобству, выгоде, престижу. Потребительское отношение к окружа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68360" y="1308240"/>
            <a:ext cx="2806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гоцентрически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646440" y="333360"/>
            <a:ext cx="502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ерты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95280" y="404640"/>
            <a:ext cx="2808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вень нрав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271520" y="0"/>
            <a:ext cx="72993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79280" y="256536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179280" y="342900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179280" y="5373720"/>
            <a:ext cx="874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271520" y="6858000"/>
            <a:ext cx="72993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0" y="2260440"/>
            <a:ext cx="1440" cy="4597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3419640" y="404640"/>
            <a:ext cx="0" cy="612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9144000" y="2260440"/>
            <a:ext cx="1440" cy="4597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Эс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равственность не упала. Нравственность изменила позицию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 Сломинь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Поведение - это зеркало, в котором каждый показывает свой ли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( И. Гё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b27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уродство — равнодушие к плохим поступкам и слова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офра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2. «Лишь две вещи на свет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особны тревожить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ше воображение: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звёдное небо над нами и нравственный закон внутри нас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68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. 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187280" y="5516640"/>
            <a:ext cx="712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 ли философ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876240" y="5493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ра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ринятые в обществе представления о хорошем и плохом, правильном и неправильном, добре и зле.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Ожег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876240" y="214488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равственность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внутренние, духовные качества, которыми руководствуется человек, этические нормы; правила поведения, определяемые этими качествами. 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Ожег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13560" y="3933720"/>
            <a:ext cx="489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и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ение о мо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76240" y="4321080"/>
            <a:ext cx="79866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и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ая практика (нравы, поступки, типичные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ое сознание («что такое хорошо, что такое плох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самосознание (самооценка, готовность совершать выбор между добром и зл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Функции мо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ющая (поведение в соответствии с моральными норм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ологическая (оценка: нравственно / ненравств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ющая (выработка системы ценностей, линии повед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(формирование общепризнанных образцов повед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(взаимопонимание, общ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раль  регулирует  деятельность 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ние окружающих людей + общественное  мнение  +  внутренние убеждения  личности  +  сове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E02097_"/>
          <p:cNvPicPr/>
          <p:nvPr/>
        </p:nvPicPr>
        <p:blipFill>
          <a:blip r:embed="rId1"/>
          <a:stretch/>
        </p:blipFill>
        <p:spPr>
          <a:xfrm>
            <a:off x="3581280" y="3581280"/>
            <a:ext cx="433224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37840" cy="145080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4"/>
          <p:cNvCxnSpPr/>
          <p:nvPr/>
        </p:nvCxnSpPr>
        <p:spPr>
          <a:xfrm flipH="1">
            <a:off x="3429000" y="928800"/>
            <a:ext cx="643320" cy="4291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5" name="Прямая со стрелкой 6"/>
          <p:cNvCxnSpPr/>
          <p:nvPr/>
        </p:nvCxnSpPr>
        <p:spPr>
          <a:xfrm>
            <a:off x="5867280" y="983880"/>
            <a:ext cx="572400" cy="4294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6" name="TextBox 10"/>
          <p:cNvSpPr/>
          <p:nvPr/>
        </p:nvSpPr>
        <p:spPr>
          <a:xfrm>
            <a:off x="2195640" y="1198440"/>
            <a:ext cx="15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6153120" y="1198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2"/>
          <a:stretch/>
        </p:blipFill>
        <p:spPr>
          <a:xfrm>
            <a:off x="2771640" y="1720800"/>
            <a:ext cx="396108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68360" y="836640"/>
            <a:ext cx="820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бр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о, что полезно людям, это совокупность положительных норм и требований нрав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6227640" y="2992320"/>
            <a:ext cx="2629080" cy="329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Андрей\Desktop\51481640_u1.jpg"/>
          <p:cNvPicPr/>
          <p:nvPr/>
        </p:nvPicPr>
        <p:blipFill>
          <a:blip r:embed="rId2"/>
          <a:stretch/>
        </p:blipFill>
        <p:spPr>
          <a:xfrm>
            <a:off x="324000" y="2922480"/>
            <a:ext cx="2519280" cy="32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артинка 35 из 52868"/>
          <p:cNvPicPr/>
          <p:nvPr/>
        </p:nvPicPr>
        <p:blipFill>
          <a:blip r:embed="rId3"/>
          <a:stretch/>
        </p:blipFill>
        <p:spPr>
          <a:xfrm>
            <a:off x="2876400" y="3357720"/>
            <a:ext cx="33483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то такое доб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"/>
          <p:cNvSpPr/>
          <p:nvPr/>
        </p:nvSpPr>
        <p:spPr>
          <a:xfrm>
            <a:off x="428760" y="2286000"/>
            <a:ext cx="23572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e"/>
              </a:gs>
              <a:gs pos="100000">
                <a:srgbClr val="ffffe4"/>
              </a:gs>
            </a:gsLst>
            <a:lin ang="16200000"/>
          </a:gradFill>
          <a:ln w="9360">
            <a:solidFill>
              <a:srgbClr val="bbbd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3"/>
          <p:cNvSpPr/>
          <p:nvPr/>
        </p:nvSpPr>
        <p:spPr>
          <a:xfrm>
            <a:off x="2928960" y="3143160"/>
            <a:ext cx="1498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643280" y="1714680"/>
            <a:ext cx="4032360" cy="464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добра- философы определяют как стремление человека к человечности, к гум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-  это справедлив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, любовь к ближ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499680"/>
            <a:ext cx="853920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ло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стоит добру, это  уничтожение жизни или препятствие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5148360" y="3949560"/>
            <a:ext cx="3527280" cy="2643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1187280" y="4869000"/>
            <a:ext cx="2552760" cy="1698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3"/>
          <a:stretch/>
        </p:blipFill>
        <p:spPr>
          <a:xfrm>
            <a:off x="1908000" y="2521080"/>
            <a:ext cx="262908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2:23:29Z</dcterms:created>
  <dc:creator>Оля</dc:creator>
  <dc:description/>
  <dc:language>en-US</dc:language>
  <cp:lastModifiedBy>Ирина</cp:lastModifiedBy>
  <dcterms:modified xsi:type="dcterms:W3CDTF">2017-08-16T12:51:18Z</dcterms:modified>
  <cp:revision>35</cp:revision>
  <dc:subject/>
  <dc:title>Мораль и нравственность</dc:title>
</cp:coreProperties>
</file>