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8163-ABC8-4013-8739-FEC327603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B7CF-955B-42DC-9767-46BF2BAE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988F-83DD-4A4F-B824-69F782FED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CACC-8F3B-41AF-8CF0-2082BFABE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0813-5E7F-44CD-B4EF-D3022003D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4670-8401-4E4C-B739-16E6C23C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8828-8FB0-41CB-BCBD-C649C41E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F714-D961-4181-B5AE-5231AD24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1A72-46E6-49A8-9A89-BB7ECBF5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E1D7-DA52-4FA5-9325-54B9FA4C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3482-A9F6-45E9-95F5-B0F5E683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2BFB-555D-48CD-88D0-343929B8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D7A7-8223-4C5B-AEE8-7566EA13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CA86-1E0A-4403-AB65-52E08C17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95D6-F574-4E5F-AD14-85989933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A608-C39A-4BAD-B803-DB08FB2D2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3E53-1F87-49C0-933E-7E0B0F77A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5F982-B103-4F0C-BABF-C05C8C98F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B8DD3-7DBB-4B60-B507-2F9C2B12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3A3B1-970F-411F-9372-233EC3C7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5110E-E93C-4EA9-B005-E7670902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E1145-D073-41E5-9030-A2D4B6C8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0364-5DE1-499C-8297-6D957512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9F37F-FE11-4756-8918-850044A5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0B755-7C26-4FD8-9355-2E19BF0E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458C8-4EDA-4F41-850B-087D2E71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F4714-0FD6-4DB8-BD3B-5251314C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F8AA2-E3F8-488C-B3F7-0FFA100F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69E9B-A8FD-4EA1-9DC9-1BB1F35C2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7744D-9462-4F21-8417-488E2EF44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01636-52E7-48FF-90A1-E9FEB22C3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08625-33F2-46CB-9C72-78468767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47F1C-3A16-44D1-8AF6-634C7EA7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1CBC-7501-4A8F-AF5D-B0ACEB85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32A6C-1AF3-412F-B64A-0D644FF1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D7B32-611F-46CA-97CF-AF15A5F0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E1C58-BE14-410D-A133-4B272EBC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C813D-CABE-4EF4-B420-4A37F4B6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43346-8D77-4FE5-8297-CCFB77C5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DCDD8-060D-4A7B-A3D5-ED49FF56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CCAF9-BB3A-4848-ABD5-F9EA5BF5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24334-7ACB-47E2-98F3-08AE4B07E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C4DDB-C8E0-4539-8B8F-33CC3C0BE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0370F-7E27-4992-8988-A77F9F63B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2224-7AD4-4F6C-B915-48A67632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33A75-2278-43F8-B9DE-9E2D3EC7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529DC-1466-448C-A296-3AF44839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44B94-F23F-48AF-A29A-B6CD357E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4AF10-184E-4D1B-ADA8-3F91B5C8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C3DFB-CA60-4AD7-8DD5-604C2EB9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CD05A-DD22-411F-8E48-AF898884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F144A-1645-42DB-8574-3C56E328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64A02-7980-4B86-9315-5D026344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D88A5-A49A-4294-BF22-EF81AF37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76BCD-9F88-427D-8991-EF9C3FDD2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336B-B1F6-424C-8E67-1574C5CC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5F779-DE6B-4BF3-80E4-A31685278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6C8B-08B6-43EC-A71E-AD85B872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41DA-C1C2-4B41-80DD-BACCFBEA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9D7F-4A79-4EC5-859A-266CB2F0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F1AC-1468-44C2-923A-2C46F630105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0E2A-E3EB-4E78-9D85-8005733A983C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2BDA-AE1D-4722-A58D-A6502A41124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4ADD-77AD-44F0-9A4B-63A7AB444766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7434-3D0D-447B-B005-FC513B83FB69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2700360" y="1487520"/>
            <a:ext cx="6724800" cy="338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7" descr="kabin1"/>
          <p:cNvPicPr/>
          <p:nvPr/>
        </p:nvPicPr>
        <p:blipFill>
          <a:blip r:embed="rId1"/>
          <a:stretch/>
        </p:blipFill>
        <p:spPr>
          <a:xfrm>
            <a:off x="1476360" y="1125360"/>
            <a:ext cx="4321080" cy="323856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Тайное голосование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0" descr="iz2"/>
          <p:cNvPicPr/>
          <p:nvPr/>
        </p:nvPicPr>
        <p:blipFill>
          <a:blip r:embed="rId1"/>
          <a:stretch/>
        </p:blipFill>
        <p:spPr>
          <a:xfrm>
            <a:off x="2843280" y="2565360"/>
            <a:ext cx="4174920" cy="30970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08000" y="18900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обровольное участие в выборах и референдуме</a:t>
            </a:r>
            <a:endParaRPr b="0" lang="en-US" sz="3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1204538738_96790"/>
          <p:cNvPicPr/>
          <p:nvPr/>
        </p:nvPicPr>
        <p:blipFill>
          <a:blip r:embed="rId1"/>
          <a:stretch/>
        </p:blipFill>
        <p:spPr>
          <a:xfrm>
            <a:off x="1042920" y="1268280"/>
            <a:ext cx="7201080" cy="316872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-541440" y="4581000"/>
            <a:ext cx="8964720" cy="15447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льтернативность выборов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randomBar dir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5"/>
          <p:cNvSpPr/>
          <p:nvPr/>
        </p:nvSpPr>
        <p:spPr>
          <a:xfrm>
            <a:off x="250920" y="2060640"/>
            <a:ext cx="777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действия всех политических субъектов, которые так или иначе связаны с выборами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826920" y="549360"/>
            <a:ext cx="7417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збирательный процесс -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Bar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Избирательная кампания –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ятельность по подготовке и проведению выборов, осуществляемая в период со дня официального опубликования решения о проведении выборов до дня предоставления соответствующей избирательной комиссией финансового отчета о расходовании средств, выделенных на подготовку и проведение выборов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Picture 5" descr="flag"/>
          <p:cNvPicPr/>
          <p:nvPr/>
        </p:nvPicPr>
        <p:blipFill>
          <a:blip r:embed="rId1"/>
          <a:stretch/>
        </p:blipFill>
        <p:spPr>
          <a:xfrm>
            <a:off x="7524720" y="0"/>
            <a:ext cx="1619280" cy="13240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-249120" y="-171360"/>
            <a:ext cx="9144000" cy="15922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0" y="1120320"/>
            <a:ext cx="5076720" cy="57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начение выборов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 избирательных округов и избирательных участков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избирателей и составление списков избирателей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вижение кандидатов и их регистрации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ыборная агитация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голосования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чет голосов, определение итогов голосования, установление результатов выборов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4" name="Рисунок 3" descr=""/>
          <p:cNvPicPr/>
          <p:nvPr/>
        </p:nvPicPr>
        <p:blipFill>
          <a:blip r:embed="rId2"/>
          <a:stretch/>
        </p:blipFill>
        <p:spPr>
          <a:xfrm>
            <a:off x="4568760" y="2168640"/>
            <a:ext cx="4568760" cy="3493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684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250920" y="2276640"/>
            <a:ext cx="7850160" cy="48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окупность правовых норм, регулирующих порядок предоставления избирательных прав, проведения выборов в органы государства и местного самоуправления, определения результатов голосования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Rectangle 10" descr=""/>
          <p:cNvPicPr/>
          <p:nvPr/>
        </p:nvPicPr>
        <p:blipFill>
          <a:blip r:embed="rId1"/>
          <a:stretch/>
        </p:blipFill>
        <p:spPr>
          <a:xfrm>
            <a:off x="0" y="281160"/>
            <a:ext cx="8229600" cy="14922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ирать имеют право лица, достигшие 18-летнего возраст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8-летнего возраста можно избираться депутатом местного совет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1 года – депутатом Государственной Думы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35 – президентом страны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Rectangle 2" descr=""/>
          <p:cNvPicPr/>
          <p:nvPr/>
        </p:nvPicPr>
        <p:blipFill>
          <a:blip r:embed="rId1"/>
          <a:stretch/>
        </p:blipFill>
        <p:spPr>
          <a:xfrm>
            <a:off x="231840" y="195120"/>
            <a:ext cx="7291440" cy="157824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4"/>
          <p:cNvSpPr/>
          <p:nvPr/>
        </p:nvSpPr>
        <p:spPr>
          <a:xfrm>
            <a:off x="252360" y="2147760"/>
            <a:ext cx="7886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ac66bb"/>
                </a:solidFill>
                <a:latin typeface="Times New Roman"/>
                <a:ea typeface="Times New Roman"/>
              </a:rPr>
              <a:t>«Гражданин Российской Федерации, достигший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 лет,</a:t>
            </a:r>
            <a:r>
              <a:rPr b="1" i="1" lang="ru-RU" sz="2800" spc="-1" strike="noStrike">
                <a:solidFill>
                  <a:srgbClr val="ac66bb"/>
                </a:solidFill>
                <a:latin typeface="Times New Roman"/>
                <a:ea typeface="Times New Roman"/>
              </a:rPr>
              <a:t>  вправе избирать и быть избранным независимо от пола, расы, национальности, языка, происхождения, имущественного и должностного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c66bb"/>
                </a:solidFill>
                <a:latin typeface="Times New Roman"/>
                <a:ea typeface="Times New Roman"/>
              </a:rPr>
              <a:t>положения, места жительства, отношени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c66bb"/>
                </a:solidFill>
                <a:latin typeface="Times New Roman"/>
                <a:ea typeface="Times New Roman"/>
              </a:rPr>
              <a:t>к религии, принадлежности к общественным объединениям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Picture 5" descr="flag"/>
          <p:cNvPicPr/>
          <p:nvPr/>
        </p:nvPicPr>
        <p:blipFill>
          <a:blip r:embed="rId2"/>
          <a:stretch/>
        </p:blipFill>
        <p:spPr>
          <a:xfrm>
            <a:off x="7524720" y="0"/>
            <a:ext cx="1619280" cy="13240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-30240" y="-66600"/>
            <a:ext cx="8229600" cy="16462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4"/>
          <p:cNvSpPr/>
          <p:nvPr/>
        </p:nvSpPr>
        <p:spPr>
          <a:xfrm>
            <a:off x="684360" y="1199880"/>
            <a:ext cx="770076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ризнание его недееспособным в судебном порядке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ахождение в местах лишения  свободы по приговору суда. (Конституция РФ, ст. 32  )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" name="Picture 5" descr="flag"/>
          <p:cNvPicPr/>
          <p:nvPr/>
        </p:nvPicPr>
        <p:blipFill>
          <a:blip r:embed="rId2"/>
          <a:stretch/>
        </p:blipFill>
        <p:spPr>
          <a:xfrm>
            <a:off x="7524720" y="0"/>
            <a:ext cx="1619280" cy="13240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Содержимое 2" descr=""/>
          <p:cNvPicPr/>
          <p:nvPr/>
        </p:nvPicPr>
        <p:blipFill>
          <a:blip r:embed="rId1"/>
          <a:stretch/>
        </p:blipFill>
        <p:spPr>
          <a:xfrm>
            <a:off x="19080" y="208080"/>
            <a:ext cx="9124920" cy="58752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8" descr="178_3402_1"/>
          <p:cNvPicPr/>
          <p:nvPr/>
        </p:nvPicPr>
        <p:blipFill>
          <a:blip r:embed="rId1"/>
          <a:stretch/>
        </p:blipFill>
        <p:spPr>
          <a:xfrm>
            <a:off x="179280" y="981000"/>
            <a:ext cx="3303720" cy="2657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novosti_01_12_07"/>
          <p:cNvPicPr/>
          <p:nvPr/>
        </p:nvPicPr>
        <p:blipFill>
          <a:blip r:embed="rId2"/>
          <a:stretch/>
        </p:blipFill>
        <p:spPr>
          <a:xfrm>
            <a:off x="5364000" y="692280"/>
            <a:ext cx="3125880" cy="2779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full"/>
          <p:cNvPicPr/>
          <p:nvPr/>
        </p:nvPicPr>
        <p:blipFill>
          <a:blip r:embed="rId3"/>
          <a:stretch/>
        </p:blipFill>
        <p:spPr>
          <a:xfrm>
            <a:off x="395280" y="4221000"/>
            <a:ext cx="2857680" cy="21434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3419280" y="4149720"/>
            <a:ext cx="5290920" cy="211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сеобщие выборы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randomBar dir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5" descr="vibory1_250"/>
          <p:cNvPicPr/>
          <p:nvPr/>
        </p:nvPicPr>
        <p:blipFill>
          <a:blip r:embed="rId1"/>
          <a:stretch/>
        </p:blipFill>
        <p:spPr>
          <a:xfrm>
            <a:off x="0" y="1413000"/>
            <a:ext cx="4897440" cy="3960720"/>
          </a:xfrm>
          <a:prstGeom prst="rect">
            <a:avLst/>
          </a:prstGeom>
          <a:ln w="0">
            <a:noFill/>
          </a:ln>
        </p:spPr>
      </p:pic>
      <p:sp>
        <p:nvSpPr>
          <p:cNvPr id="237" name="TextBox 5"/>
          <p:cNvSpPr/>
          <p:nvPr/>
        </p:nvSpPr>
        <p:spPr>
          <a:xfrm>
            <a:off x="2928960" y="5786280"/>
            <a:ext cx="466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избиратель = 1 голо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TextBox 6"/>
          <p:cNvSpPr/>
          <p:nvPr/>
        </p:nvSpPr>
        <p:spPr>
          <a:xfrm>
            <a:off x="1006560" y="404640"/>
            <a:ext cx="657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авные выборы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Bar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Gysev"/>
          <p:cNvPicPr/>
          <p:nvPr/>
        </p:nvPicPr>
        <p:blipFill>
          <a:blip r:embed="rId1"/>
          <a:stretch/>
        </p:blipFill>
        <p:spPr>
          <a:xfrm>
            <a:off x="468360" y="2060640"/>
            <a:ext cx="3600360" cy="3078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IMG_2778"/>
          <p:cNvPicPr/>
          <p:nvPr/>
        </p:nvPicPr>
        <p:blipFill>
          <a:blip r:embed="rId2"/>
          <a:stretch/>
        </p:blipFill>
        <p:spPr>
          <a:xfrm>
            <a:off x="5148360" y="2852640"/>
            <a:ext cx="3902040" cy="32688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0" y="-1713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ямые выборы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1:11:31Z</dcterms:created>
  <dc:creator>FoM</dc:creator>
  <dc:description/>
  <dc:language>en-US</dc:language>
  <cp:lastModifiedBy>Ирина</cp:lastModifiedBy>
  <dcterms:modified xsi:type="dcterms:W3CDTF">2017-08-23T17:05:34Z</dcterms:modified>
  <cp:revision>9</cp:revision>
  <dc:subject/>
  <dc:title>Демократические выборы и политические партии</dc:title>
</cp:coreProperties>
</file>