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808-F6DD-4074-A92F-A5162882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856-8F05-4498-A4CA-339E85E0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B6A-7635-4EA9-ABC7-16D49D24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65BF-9294-4C71-B40D-154BBC59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55D7-FCF4-4EF7-8C9D-DB4AE7FD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415E-C23E-4EAC-AD71-AD0B7986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7AB5-2827-4FE2-A633-CEF63248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0E3E-E3F1-451F-9B0A-2F01B7DA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30A3-9FC0-4FC5-AB62-40F42648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F240-E192-408F-BAC8-F374FD76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0A92-A30D-4792-A72D-24A89F97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C4A9-861F-4B39-A755-C461D389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5F70-73BC-4AF1-B7E9-FF2C128E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B0FD-5D5C-4948-AEFD-72BB5C99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3F35-BD30-470C-9ECD-44B2791E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74C3-7083-4FE6-B860-3A96938B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868E-A0DE-433A-BA7F-E6FE0FA4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7D719-0DDF-433D-9EB2-81191BCB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26390-3F87-466D-B2A0-AE1BC64D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A72D3-9DFE-4585-AB97-FA917754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9F370-02CD-452F-8413-D6F1311C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333F5-7D0F-4D58-8F2C-1AF472AE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10D-C2A8-488D-B41D-CDE591C1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51E1C-4390-430F-996D-210279A0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91F12-425E-48BE-9E57-56F4476D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7410F-107F-4A0C-ABBB-54883454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2698B-2A2D-454B-9188-A1EA006E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657FA-BB65-41BB-A804-88EA4D8E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2F7C4-FD78-47EF-93EB-CF0E25E0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4FE6C-D4DD-4977-95AD-C756EDEB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23564-5C8E-490A-A9FF-5A0413A8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55C3F-E3E6-40CC-9737-5C4C2657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A184A-105D-46F8-B74F-5AF9FFA7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138-8012-45F7-A3D4-4DB42ECE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78942-9B9F-486D-9E03-3B8CCE45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81265-4D34-4FE6-B5E2-D660E71E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8C73A-98D9-4F2A-91AA-005828F0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42669-15FF-4DC2-903B-6BFC4738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101A9-26E5-43D9-B999-667217E4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798A4-FE34-4B9D-89E2-3463EB1D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583BD-DB04-47A3-9CA9-138367D8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6E743-3B0A-413A-9F40-3C9561E6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9EFA9-9FC1-4E11-9517-EDAB5640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5DA9F-A999-461C-BB11-1F85B10D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1F4-0085-444C-8B8F-5A35DC10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D597F-7470-447E-BF59-543ACDB4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93463-295D-4A0C-8F18-E4D33F01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9B593-8699-4244-8F1E-4650A43D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64F22-9FF4-45D9-8B6B-E4432297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D5E73-AE37-4718-A7E2-587C8AC2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B986B-2869-4556-A3EF-B0DF9077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63FAF-72DD-4D00-9FD7-4B3DA3F2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DE60C-0D91-4BB0-84AA-7D1AEA9D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6A97E-07FC-4EE7-B8B1-928574F9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2ED58-F57B-4615-8F5C-62D6222F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360F-858E-4981-9AF1-38EC7E05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70E51-3F54-4BCA-A3EF-3D96773E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825-70AE-4D8B-B985-F22624C1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843A-2250-4419-936F-1F6D76A4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CD0-575B-46D9-A0D9-EBC21FF0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BE5C-8A51-4861-A0D3-1FE45D38DE9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1227-FDE8-430A-BE9D-8FD4A1A979C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DA7B-6A18-4AC5-BE61-91B34D2EF04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DCDF-D349-45C0-B0CD-3ADC2AA32BB3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0CB0-6D5A-441F-A970-BAC1843A429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2700360" y="1487520"/>
            <a:ext cx="6724800" cy="3382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7" descr="kabin1"/>
          <p:cNvPicPr/>
          <p:nvPr/>
        </p:nvPicPr>
        <p:blipFill>
          <a:blip r:embed="rId1"/>
          <a:stretch/>
        </p:blipFill>
        <p:spPr>
          <a:xfrm>
            <a:off x="1476360" y="1125360"/>
            <a:ext cx="4321080" cy="32385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айное голосование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0" descr="iz2"/>
          <p:cNvPicPr/>
          <p:nvPr/>
        </p:nvPicPr>
        <p:blipFill>
          <a:blip r:embed="rId1"/>
          <a:stretch/>
        </p:blipFill>
        <p:spPr>
          <a:xfrm>
            <a:off x="2843280" y="2565360"/>
            <a:ext cx="4174920" cy="3097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бровольное участие в выборах и референдуме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1204538738_96790"/>
          <p:cNvPicPr/>
          <p:nvPr/>
        </p:nvPicPr>
        <p:blipFill>
          <a:blip r:embed="rId1"/>
          <a:stretch/>
        </p:blipFill>
        <p:spPr>
          <a:xfrm>
            <a:off x="1042920" y="1268280"/>
            <a:ext cx="7201080" cy="31687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-541440" y="4581000"/>
            <a:ext cx="8964720" cy="1544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льтернативность выборов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5"/>
          <p:cNvSpPr/>
          <p:nvPr/>
        </p:nvSpPr>
        <p:spPr>
          <a:xfrm>
            <a:off x="250920" y="2060640"/>
            <a:ext cx="77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действия всех политических субъектов, которые так или иначе связаны с выборам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826920" y="549360"/>
            <a:ext cx="741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збирательный процесс -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Избирательная кампания –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ятельность по подготовке и проведению выборов, осуществляемая в период со дня официального опубликования решения о проведении выборов до дня предоставления соответствующей избирательной комиссией финансового отчета о расходовании средств, выделенных на подготовку и проведение выбор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5" descr="flag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1324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-249120" y="-171360"/>
            <a:ext cx="9144000" cy="1592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0" y="1120320"/>
            <a:ext cx="5076720" cy="57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выборов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избирательных округов и избирательных участков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збирателей и составление списков избирателей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вижение кандидатов и их регистраци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ыборная агитация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голосования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чет голосов, определение итогов голосования, установление результатов выборов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Рисунок 3" descr=""/>
          <p:cNvPicPr/>
          <p:nvPr/>
        </p:nvPicPr>
        <p:blipFill>
          <a:blip r:embed="rId2"/>
          <a:stretch/>
        </p:blipFill>
        <p:spPr>
          <a:xfrm>
            <a:off x="4568760" y="2168640"/>
            <a:ext cx="4568760" cy="3493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68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250920" y="2276640"/>
            <a:ext cx="7850160" cy="48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правовых норм, регулирующих порядок предоставления избирательных прав, проведения выборов в органы государства и местного самоуправления, определения результатов голосования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10" descr=""/>
          <p:cNvPicPr/>
          <p:nvPr/>
        </p:nvPicPr>
        <p:blipFill>
          <a:blip r:embed="rId1"/>
          <a:stretch/>
        </p:blipFill>
        <p:spPr>
          <a:xfrm>
            <a:off x="0" y="281160"/>
            <a:ext cx="8229600" cy="14922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ирать имеют право лица, достигшие 18-летнего возраст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8-летнего возраста можно избираться депутатом местного совет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года – депутатом Государственной Дум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35 – президентом стран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231840" y="195120"/>
            <a:ext cx="7291440" cy="15782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252360" y="2147760"/>
            <a:ext cx="7886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ac66bb"/>
                </a:solidFill>
                <a:latin typeface="Times New Roman"/>
                <a:ea typeface="Times New Roman"/>
              </a:rPr>
              <a:t>«Гражданин Российской Федерации, достигший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 лет,</a:t>
            </a:r>
            <a:r>
              <a:rPr b="1" i="1" lang="ru-RU" sz="2800" spc="-1" strike="noStrike">
                <a:solidFill>
                  <a:srgbClr val="ac66bb"/>
                </a:solidFill>
                <a:latin typeface="Times New Roman"/>
                <a:ea typeface="Times New Roman"/>
              </a:rPr>
              <a:t>  вправе избирать и быть избранным независимо от пола, расы, национальности, языка, происхождения, имущественного и должностног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c66bb"/>
                </a:solidFill>
                <a:latin typeface="Times New Roman"/>
                <a:ea typeface="Times New Roman"/>
              </a:rPr>
              <a:t>положения, места жительства, отнош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c66bb"/>
                </a:solidFill>
                <a:latin typeface="Times New Roman"/>
                <a:ea typeface="Times New Roman"/>
              </a:rPr>
              <a:t>к религии, принадлежности к общественным объединениям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Picture 5" descr="flag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1324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-30240" y="-66600"/>
            <a:ext cx="8229600" cy="16462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"/>
          <p:cNvSpPr/>
          <p:nvPr/>
        </p:nvSpPr>
        <p:spPr>
          <a:xfrm>
            <a:off x="684360" y="1199880"/>
            <a:ext cx="770076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знание его недееспособным в судебном порядке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хождение в местах лишения  свободы по приговору суда. (Конституция РФ, ст. 32  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Picture 5" descr="flag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1324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Содержимое 2" descr=""/>
          <p:cNvPicPr/>
          <p:nvPr/>
        </p:nvPicPr>
        <p:blipFill>
          <a:blip r:embed="rId1"/>
          <a:stretch/>
        </p:blipFill>
        <p:spPr>
          <a:xfrm>
            <a:off x="19080" y="208080"/>
            <a:ext cx="9124920" cy="5875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8" descr="178_3402_1"/>
          <p:cNvPicPr/>
          <p:nvPr/>
        </p:nvPicPr>
        <p:blipFill>
          <a:blip r:embed="rId1"/>
          <a:stretch/>
        </p:blipFill>
        <p:spPr>
          <a:xfrm>
            <a:off x="179280" y="981000"/>
            <a:ext cx="3303720" cy="2657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novosti_01_12_07"/>
          <p:cNvPicPr/>
          <p:nvPr/>
        </p:nvPicPr>
        <p:blipFill>
          <a:blip r:embed="rId2"/>
          <a:stretch/>
        </p:blipFill>
        <p:spPr>
          <a:xfrm>
            <a:off x="5364000" y="692280"/>
            <a:ext cx="3125880" cy="2779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full"/>
          <p:cNvPicPr/>
          <p:nvPr/>
        </p:nvPicPr>
        <p:blipFill>
          <a:blip r:embed="rId3"/>
          <a:stretch/>
        </p:blipFill>
        <p:spPr>
          <a:xfrm>
            <a:off x="395280" y="4221000"/>
            <a:ext cx="2857680" cy="2143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419280" y="4149720"/>
            <a:ext cx="5290920" cy="211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сеобщие выбор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vibory1_250"/>
          <p:cNvPicPr/>
          <p:nvPr/>
        </p:nvPicPr>
        <p:blipFill>
          <a:blip r:embed="rId1"/>
          <a:stretch/>
        </p:blipFill>
        <p:spPr>
          <a:xfrm>
            <a:off x="0" y="1413000"/>
            <a:ext cx="4897440" cy="3960720"/>
          </a:xfrm>
          <a:prstGeom prst="rect">
            <a:avLst/>
          </a:prstGeom>
          <a:ln w="0">
            <a:noFill/>
          </a:ln>
        </p:spPr>
      </p:pic>
      <p:sp>
        <p:nvSpPr>
          <p:cNvPr id="237" name="TextBox 5"/>
          <p:cNvSpPr/>
          <p:nvPr/>
        </p:nvSpPr>
        <p:spPr>
          <a:xfrm>
            <a:off x="2928960" y="5786280"/>
            <a:ext cx="46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избиратель = 1 голо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1006560" y="40464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вные выборы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Gysev"/>
          <p:cNvPicPr/>
          <p:nvPr/>
        </p:nvPicPr>
        <p:blipFill>
          <a:blip r:embed="rId1"/>
          <a:stretch/>
        </p:blipFill>
        <p:spPr>
          <a:xfrm>
            <a:off x="468360" y="2060640"/>
            <a:ext cx="3600360" cy="307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IMG_2778"/>
          <p:cNvPicPr/>
          <p:nvPr/>
        </p:nvPicPr>
        <p:blipFill>
          <a:blip r:embed="rId2"/>
          <a:stretch/>
        </p:blipFill>
        <p:spPr>
          <a:xfrm>
            <a:off x="5148360" y="2852640"/>
            <a:ext cx="3902040" cy="32688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0" y="-1713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ямые выборы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1:11:31Z</dcterms:created>
  <dc:creator>FoM</dc:creator>
  <dc:description/>
  <dc:language>en-US</dc:language>
  <cp:lastModifiedBy>Ирина</cp:lastModifiedBy>
  <dcterms:modified xsi:type="dcterms:W3CDTF">2017-08-23T17:05:34Z</dcterms:modified>
  <cp:revision>9</cp:revision>
  <dc:subject/>
  <dc:title>Демократические выборы и политические партии</dc:title>
</cp:coreProperties>
</file>