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F14B5-AB34-428D-BCBD-5BE05548E7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54DF-01AA-46A8-9321-960602BEFFA2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C21-C728-40E8-B53B-5C1B0C5E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34C9-09BF-42BA-8E99-D68BD9B9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925-DE3E-44E4-A800-14E726E62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6B5F-6D95-41F7-9C48-33C70EB2C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A8F1C-F9AC-4BA4-840A-6ADFD69F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F1E93-E389-49B7-947F-6496519A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E83F-B357-48D8-BA57-150AC7EB8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04D3-C10F-45D2-81A4-418D54B0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11A49-092C-4E90-B568-9AF9D4F5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49B36-FD88-4A98-826A-AC57C80E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F75D-8E2F-4D43-9B96-B3A7D37A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FE22-E311-4FDD-B76C-490EC7C6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BE87-B616-41F2-BF12-7305ACDA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305B-C7D4-44B2-8FFE-757FB437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4E10-FE73-4AFE-AD57-83F1DAFA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A459-26CA-4BBE-9F36-11B2769C4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36DB-CB4D-4213-894C-54E1FA06D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8CD1-8054-4E38-B021-B48DB10AB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0AB1-2A7C-477B-BDAF-AC580C58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E87-0D3B-4713-9352-14B5BAF1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49FF-448C-4E49-BD19-B02280DB6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3482-317A-4B11-B363-0C939600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B54A-3F92-479D-8054-0A667766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1314-EAC4-4E8D-AAAB-ACA19281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F3A6-11BE-42A7-AF8E-D7DEBD99EC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0BC9-A5FA-4232-A6BB-BFC80C3CF37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2636640"/>
            <a:ext cx="89280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Сознание и деятельность.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09520" y="299700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br>
              <a:rPr sz="40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ифологическое;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религиозное;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философское;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научное;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экономическое;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эстетическое;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нравственное;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авовое;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экологическое и др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Рисунок 2" descr="599.jpg"/>
          <p:cNvPicPr/>
          <p:nvPr/>
        </p:nvPicPr>
        <p:blipFill>
          <a:blip r:embed="rId1"/>
          <a:stretch/>
        </p:blipFill>
        <p:spPr>
          <a:xfrm>
            <a:off x="-79200" y="-96840"/>
            <a:ext cx="2157120" cy="32180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1"/>
          <p:cNvSpPr/>
          <p:nvPr/>
        </p:nvSpPr>
        <p:spPr>
          <a:xfrm>
            <a:off x="1979640" y="115920"/>
            <a:ext cx="6978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К формам общественного сознания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тносятся 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0_12a83_9bcb00e7_XL"/>
          <p:cNvPicPr/>
          <p:nvPr/>
        </p:nvPicPr>
        <p:blipFill>
          <a:blip r:embed="rId1"/>
          <a:stretch/>
        </p:blipFill>
        <p:spPr>
          <a:xfrm>
            <a:off x="0" y="-31608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24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знание</a:t>
            </a:r>
            <a:r>
              <a:rPr b="1" i="1" lang="ru-RU" sz="4100" spc="-1" strike="noStrike">
                <a:solidFill>
                  <a:srgbClr val="00763b"/>
                </a:solidFill>
                <a:latin typeface="Times New Roman"/>
                <a:ea typeface="Times New Roman"/>
              </a:rPr>
              <a:t> 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остояние психической жизни человека, выражающееся в субъективной переживаемости событий внешнего мира и жизни самого индивида, а также в отчёте об этих событиях.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1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4"/>
          <p:cNvSpPr/>
          <p:nvPr/>
        </p:nvSpPr>
        <p:spPr>
          <a:xfrm>
            <a:off x="1908000" y="2421000"/>
            <a:ext cx="6120000" cy="1439640"/>
          </a:xfrm>
          <a:prstGeom prst="ellipse">
            <a:avLst/>
          </a:prstGeom>
          <a:blipFill rotWithShape="0">
            <a:blip r:embed="rId1">
              <a:alphaModFix amt="96000"/>
            </a:blip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НАНИЕ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H="1" flipV="1">
            <a:off x="2555640" y="1125360"/>
            <a:ext cx="1368360" cy="1656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 flipV="1">
            <a:off x="5580000" y="1628640"/>
            <a:ext cx="1224000" cy="1152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Line 10"/>
          <p:cNvSpPr/>
          <p:nvPr/>
        </p:nvSpPr>
        <p:spPr>
          <a:xfrm flipH="1">
            <a:off x="2268000" y="3716280"/>
            <a:ext cx="1079640" cy="934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5796000" y="3789360"/>
            <a:ext cx="1224000" cy="158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642960" y="5157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9720" y="549360"/>
            <a:ext cx="560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результат общественно-историческог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развит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5175000" y="907920"/>
            <a:ext cx="390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функциональное свойств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мозг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149760" y="4694400"/>
            <a:ext cx="35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идеальное отображение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действительност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5398200" y="5384880"/>
            <a:ext cx="365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регулятор деятельности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челове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0_d2_13d619ab_XL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9720" y="620640"/>
            <a:ext cx="91803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i="1" lang="ru-RU" sz="3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знание</a:t>
            </a:r>
            <a:r>
              <a:rPr b="1" i="1" lang="ru-RU" sz="37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вязанная с деятельностью мозга способность человека отражать и воспроизводить мир в идеальной форме, целенаправленно, творчески активно отражать действительность и преобразовывать ее в своих интересах. 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Рисунок 3" descr="tsifrovoi-chelovechek-800x600.jpg"/>
          <p:cNvPicPr/>
          <p:nvPr/>
        </p:nvPicPr>
        <p:blipFill>
          <a:blip r:embed="rId2"/>
          <a:stretch/>
        </p:blipFill>
        <p:spPr>
          <a:xfrm>
            <a:off x="5645160" y="4438800"/>
            <a:ext cx="3322800" cy="235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79280" y="11592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сихологические характеристик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889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амосознание – ощущение себя познающим субъекто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Мысленное представление существующей и воображаемой действительност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пособность контролировать свои поведенческие и психические состоян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Рисунок 3" descr="depositphotos_1057658-3d-puppet-reading-the-book.jpg"/>
          <p:cNvPicPr/>
          <p:nvPr/>
        </p:nvPicPr>
        <p:blipFill>
          <a:blip r:embed="rId1"/>
          <a:stretch/>
        </p:blipFill>
        <p:spPr>
          <a:xfrm>
            <a:off x="-6480" y="0"/>
            <a:ext cx="269424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63280" y="189000"/>
            <a:ext cx="727236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74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Структура сознания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8920" y="1483920"/>
            <a:ext cx="8820360" cy="50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знание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есть </a:t>
            </a: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сознание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в его активной направленности вовне, на объект, то само сознание в свою очередь результат познан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, способность сознания концентрироваться на определенных видах познавательной и любой иной деятельност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амять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, способность сознания накапливать информацию, хранить, а при необходимости и воспроизводить ее, а также использовать ранее приобретенные знания в деятельности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увства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(радости, удовольствия, горя), а также настроения и аффекты (гнев, ярость, ужас, отчаянье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оля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, представляющая собой осмысленное устремление человека к определенной цел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Monotype Corsiva"/>
              </a:rPr>
              <a:t>Функции сознания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0560" y="1196640"/>
            <a:ext cx="8373960" cy="519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ознавательная</a:t>
            </a:r>
            <a:r>
              <a:rPr b="1" lang="ru-RU" sz="3000" spc="-1" strike="noStrike">
                <a:solidFill>
                  <a:srgbClr val="eaeaea"/>
                </a:solidFill>
                <a:latin typeface="Times New Roman"/>
              </a:rPr>
              <a:t>, которая реализуется в приобретении и накоплении знаний о природе, обществе и самом человеке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творчески конструктивная</a:t>
            </a:r>
            <a:r>
              <a:rPr b="1" lang="ru-RU" sz="3000" spc="-1" strike="noStrike">
                <a:solidFill>
                  <a:srgbClr val="eaeaea"/>
                </a:solidFill>
                <a:latin typeface="Times New Roman"/>
              </a:rPr>
              <a:t>, проявляющаяся в опережающем отражении, в мысленном моделировании будущего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регулятивно управленческая</a:t>
            </a:r>
            <a:r>
              <a:rPr b="1" lang="ru-RU" sz="3000" spc="-1" strike="noStrike">
                <a:solidFill>
                  <a:srgbClr val="eaeaea"/>
                </a:solidFill>
                <a:latin typeface="Times New Roman"/>
              </a:rPr>
              <a:t>, обеспечивающая разумное регулирование и самоконтроль поведения и деятельности человека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рогностическая </a:t>
            </a:r>
            <a:r>
              <a:rPr b="1" lang="ru-RU" sz="3000" spc="-1" strike="noStrike">
                <a:solidFill>
                  <a:srgbClr val="eaeaea"/>
                </a:solidFill>
                <a:latin typeface="Times New Roman"/>
              </a:rPr>
              <a:t>- предвидеть будущее, прогнозировать свои действия, строить планы и осуществлять их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1800360" y="1700280"/>
            <a:ext cx="4968720" cy="2087640"/>
          </a:xfrm>
          <a:prstGeom prst="pie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НАНИЕ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5497560" y="3213000"/>
            <a:ext cx="1079280" cy="719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 flipH="1">
            <a:off x="1835280" y="3102120"/>
            <a:ext cx="1079280" cy="792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4680" y="3932280"/>
            <a:ext cx="3745080" cy="215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3b"/>
                </a:solidFill>
                <a:latin typeface="Times New Roman"/>
                <a:ea typeface="Times New Roman"/>
              </a:rPr>
              <a:t>индивидуально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5072040" y="3932280"/>
            <a:ext cx="3889440" cy="2017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3b"/>
                </a:solidFill>
                <a:latin typeface="Times New Roman"/>
                <a:ea typeface="Times New Roman"/>
              </a:rPr>
              <a:t>общественно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Рисунок 6" descr="0_80b35_396ac30f_XL.png"/>
          <p:cNvPicPr/>
          <p:nvPr/>
        </p:nvPicPr>
        <p:blipFill>
          <a:blip r:embed="rId1"/>
          <a:stretch/>
        </p:blipFill>
        <p:spPr>
          <a:xfrm>
            <a:off x="7016760" y="189000"/>
            <a:ext cx="212724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современной философии в структуре индивидуального сознания принято выделять четыре основных компонента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елесно-перцептивный (ощущения, восприятия, представления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Чувственно-эмоциональный (эмоции, аффекты, чувства, инстинкты);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огико-понятийный (понятия, логические умозаключения);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Ценностно-мотивационный (идеалы, фантазия, воображение, интуиция)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41:12Z</dcterms:created>
  <dc:creator>Admin</dc:creator>
  <dc:description/>
  <dc:language>en-US</dc:language>
  <cp:lastModifiedBy>Ирина</cp:lastModifiedBy>
  <dcterms:modified xsi:type="dcterms:W3CDTF">2017-08-03T15:29:28Z</dcterms:modified>
  <cp:revision>10</cp:revision>
  <dc:subject/>
  <dc:title>ПСИХИКА, СОЗНАНИЕ, БЕССОЗНАТЕЛЬНО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