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5A0B-9D8E-4053-BD58-27312EC624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A452-4ECC-4B9B-A8D3-A7676332234A}" type="slidenum">
              <a:rPr b="0" lang="ru-R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C351-7AA7-4545-B642-E874FA06A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A4F1-EA5F-4683-AD03-07D6B792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4FDC-334D-4B2E-9990-28DCD0007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C81F-B33C-410D-840A-314F9BE08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84CE-4812-4431-902F-93DDB0E2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5141-2F99-420A-8FCB-022229074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6939-CFC1-43A9-9BF1-1B4751C4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3ACAD-38A3-40B7-90E4-8D54CB306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CDA0-4E54-4D81-91EA-5B76B883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E5CAE-8FAE-47BA-9B9E-F3F08E271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FBCC1-4E94-435D-9A7F-706D465F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9251-A7E8-493E-A6B7-37139F85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35E1-97CD-407A-BA26-541720B5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03EB-2D61-4FD6-A7BE-A678FF22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8A46A-51CB-4795-A25B-AF881E29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9D75-7830-4E8C-B00E-FD2D149BD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900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176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62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900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176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D3D6-BF34-4401-8B8B-6D43BDF35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597C-71ED-4EDA-9063-BB44A2F2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6140-5705-41A2-A2E6-F7667302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6EB3-BFF9-451D-8C7B-6976CC27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904760" y="2286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92FB-7DB8-4716-BEEE-99F9B39E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72CE-96D6-4BA4-8D12-76EA8D39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4472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F3F2-2EC4-4F1E-987E-70A2E0F08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6204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472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204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6055-833E-4439-BB42-B93F23CE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2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5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790D1-DE36-4C02-9819-3AF01FCF21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53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55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56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7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8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0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8E10-4413-4261-83F3-8366DDD9192A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8000" y="2636640"/>
            <a:ext cx="89280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Monotype Corsiva"/>
              </a:rPr>
              <a:t>Сознание и деятельность.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09520" y="2997000"/>
            <a:ext cx="6048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 </a:t>
            </a:r>
            <a:br>
              <a:rPr sz="4000"/>
            </a:b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мифологическое; 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религиозное;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философское;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научное;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экономическое;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эстетическое;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нравственное;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правовое;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экологическое и др.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Рисунок 2" descr="599.jpg"/>
          <p:cNvPicPr/>
          <p:nvPr/>
        </p:nvPicPr>
        <p:blipFill>
          <a:blip r:embed="rId1"/>
          <a:stretch/>
        </p:blipFill>
        <p:spPr>
          <a:xfrm>
            <a:off x="-79200" y="-96840"/>
            <a:ext cx="2157120" cy="3218040"/>
          </a:xfrm>
          <a:prstGeom prst="rect">
            <a:avLst/>
          </a:prstGeom>
          <a:ln w="0">
            <a:noFill/>
          </a:ln>
        </p:spPr>
      </p:pic>
      <p:sp>
        <p:nvSpPr>
          <p:cNvPr id="142" name="Прямоугольник 1"/>
          <p:cNvSpPr/>
          <p:nvPr/>
        </p:nvSpPr>
        <p:spPr>
          <a:xfrm>
            <a:off x="1979640" y="115920"/>
            <a:ext cx="6978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К формам общественного сознания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относятся :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0_12a83_9bcb00e7_XL"/>
          <p:cNvPicPr/>
          <p:nvPr/>
        </p:nvPicPr>
        <p:blipFill>
          <a:blip r:embed="rId1"/>
          <a:stretch/>
        </p:blipFill>
        <p:spPr>
          <a:xfrm>
            <a:off x="0" y="-316080"/>
            <a:ext cx="9396360" cy="71740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248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знание</a:t>
            </a:r>
            <a:r>
              <a:rPr b="1" i="1" lang="ru-RU" sz="4100" spc="-1" strike="noStrike">
                <a:solidFill>
                  <a:srgbClr val="00763b"/>
                </a:solidFill>
                <a:latin typeface="Times New Roman"/>
                <a:ea typeface="Times New Roman"/>
              </a:rPr>
              <a:t> </a:t>
            </a:r>
            <a:r>
              <a:rPr b="1" i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состояние психической жизни человека, выражающееся в субъективной переживаемости событий внешнего мира и жизни самого индивида, а также в отчёте об этих событиях.</a:t>
            </a:r>
            <a:r>
              <a:rPr b="1" lang="ru-RU" sz="4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1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Oval 4"/>
          <p:cNvSpPr/>
          <p:nvPr/>
        </p:nvSpPr>
        <p:spPr>
          <a:xfrm>
            <a:off x="1908000" y="2421000"/>
            <a:ext cx="6120000" cy="1439640"/>
          </a:xfrm>
          <a:prstGeom prst="ellipse">
            <a:avLst/>
          </a:prstGeom>
          <a:blipFill rotWithShape="0">
            <a:blip r:embed="rId1">
              <a:alphaModFix amt="96000"/>
            </a:blip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ЗНАНИЕ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Line 7"/>
          <p:cNvSpPr/>
          <p:nvPr/>
        </p:nvSpPr>
        <p:spPr>
          <a:xfrm flipH="1" flipV="1">
            <a:off x="2555640" y="1125360"/>
            <a:ext cx="1368360" cy="1656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Line 9"/>
          <p:cNvSpPr/>
          <p:nvPr/>
        </p:nvSpPr>
        <p:spPr>
          <a:xfrm flipV="1">
            <a:off x="5580000" y="1628640"/>
            <a:ext cx="1224000" cy="11527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Line 10"/>
          <p:cNvSpPr/>
          <p:nvPr/>
        </p:nvSpPr>
        <p:spPr>
          <a:xfrm flipH="1">
            <a:off x="2268000" y="3716280"/>
            <a:ext cx="1079640" cy="934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Line 11"/>
          <p:cNvSpPr/>
          <p:nvPr/>
        </p:nvSpPr>
        <p:spPr>
          <a:xfrm>
            <a:off x="5796000" y="3789360"/>
            <a:ext cx="1224000" cy="158292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642960" y="51577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Rectangle 13"/>
          <p:cNvSpPr/>
          <p:nvPr/>
        </p:nvSpPr>
        <p:spPr>
          <a:xfrm>
            <a:off x="9720" y="549360"/>
            <a:ext cx="560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4f4"/>
                </a:solidFill>
                <a:latin typeface="Times New Roman"/>
                <a:ea typeface="Times New Roman"/>
              </a:rPr>
              <a:t>результат общественно-исторического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4f4"/>
                </a:solidFill>
                <a:latin typeface="Times New Roman"/>
                <a:ea typeface="Times New Roman"/>
              </a:rPr>
              <a:t>развития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5175000" y="907920"/>
            <a:ext cx="390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4f4"/>
                </a:solidFill>
                <a:latin typeface="Times New Roman"/>
                <a:ea typeface="Times New Roman"/>
              </a:rPr>
              <a:t>функциональное свойство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4f4"/>
                </a:solidFill>
                <a:latin typeface="Times New Roman"/>
                <a:ea typeface="Times New Roman"/>
              </a:rPr>
              <a:t>мозг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149760" y="4694400"/>
            <a:ext cx="3516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4f4"/>
                </a:solidFill>
                <a:latin typeface="Times New Roman"/>
                <a:ea typeface="Times New Roman"/>
              </a:rPr>
              <a:t>идеальное отображение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4f4"/>
                </a:solidFill>
                <a:latin typeface="Times New Roman"/>
                <a:ea typeface="Times New Roman"/>
              </a:rPr>
              <a:t>действительност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5398200" y="5384880"/>
            <a:ext cx="365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4f4f4"/>
                </a:solidFill>
                <a:latin typeface="Times New Roman"/>
                <a:ea typeface="Times New Roman"/>
              </a:rPr>
              <a:t>регулятор деятельности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4f4f4"/>
                </a:solidFill>
                <a:latin typeface="Times New Roman"/>
                <a:ea typeface="Times New Roman"/>
              </a:rPr>
              <a:t>человек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0_d2_13d619ab_XL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-9720" y="620640"/>
            <a:ext cx="918036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1904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i="1" lang="ru-RU" sz="37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знание</a:t>
            </a:r>
            <a:r>
              <a:rPr b="1" i="1" lang="ru-RU" sz="37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ru-RU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связанная с деятельностью мозга способность человека отражать и воспроизводить мир в идеальной форме, целенаправленно, творчески активно отражать действительность и преобразовывать ее в своих интересах. </a:t>
            </a:r>
            <a:endParaRPr b="0" lang="en-US" sz="37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Рисунок 3" descr="tsifrovoi-chelovechek-800x600.jpg"/>
          <p:cNvPicPr/>
          <p:nvPr/>
        </p:nvPicPr>
        <p:blipFill>
          <a:blip r:embed="rId2"/>
          <a:stretch/>
        </p:blipFill>
        <p:spPr>
          <a:xfrm>
            <a:off x="5645160" y="4438800"/>
            <a:ext cx="3322800" cy="23587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79280" y="11592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Психологические характеристики сознания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55640" y="188928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Самосознание – ощущение себя познающим субъектом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Мысленное представление существующей и воображаемой действительности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Способность контролировать свои поведенческие и психические состояния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7" name="Рисунок 3" descr="depositphotos_1057658-3d-puppet-reading-the-book.jpg"/>
          <p:cNvPicPr/>
          <p:nvPr/>
        </p:nvPicPr>
        <p:blipFill>
          <a:blip r:embed="rId1"/>
          <a:stretch/>
        </p:blipFill>
        <p:spPr>
          <a:xfrm>
            <a:off x="-6480" y="0"/>
            <a:ext cx="2694240" cy="2060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763280" y="189000"/>
            <a:ext cx="727236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rmAutofit fontScale="74000"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Структура сознания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78920" y="1483920"/>
            <a:ext cx="8820360" cy="505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познание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есть </a:t>
            </a:r>
            <a:r>
              <a:rPr b="1" i="1" lang="ru-RU" sz="2400" spc="-1" strike="noStrike">
                <a:solidFill>
                  <a:srgbClr val="eaeaea"/>
                </a:solidFill>
                <a:latin typeface="Times New Roman"/>
              </a:rPr>
              <a:t>сознание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в его активной направленности вовне, на объект, то само сознание в свою очередь результат познани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внимание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, способность сознания концентрироваться на определенных видах познавательной и любой иной деятельност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память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, способность сознания накапливать информацию, хранить, а при необходимости и воспроизводить ее, а также использовать ранее приобретенные знания в деятельности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чувства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(радости, удовольствия, горя), а также настроения и аффекты (гнев, ярость, ужас, отчаянье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воля</a:t>
            </a: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, представляющая собой осмысленное устремление человека к определенной цел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Monotype Corsiva"/>
              </a:rPr>
              <a:t>Функции сознания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50560" y="1196640"/>
            <a:ext cx="8373960" cy="519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познавательная</a:t>
            </a:r>
            <a:r>
              <a:rPr b="1" lang="ru-RU" sz="3000" spc="-1" strike="noStrike">
                <a:solidFill>
                  <a:srgbClr val="eaeaea"/>
                </a:solidFill>
                <a:latin typeface="Times New Roman"/>
              </a:rPr>
              <a:t>, которая реализуется в приобретении и накоплении знаний о природе, обществе и самом человеке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творчески конструктивная</a:t>
            </a:r>
            <a:r>
              <a:rPr b="1" lang="ru-RU" sz="3000" spc="-1" strike="noStrike">
                <a:solidFill>
                  <a:srgbClr val="eaeaea"/>
                </a:solidFill>
                <a:latin typeface="Times New Roman"/>
              </a:rPr>
              <a:t>, проявляющаяся в опережающем отражении, в мысленном моделировании будущего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регулятивно управленческая</a:t>
            </a:r>
            <a:r>
              <a:rPr b="1" lang="ru-RU" sz="3000" spc="-1" strike="noStrike">
                <a:solidFill>
                  <a:srgbClr val="eaeaea"/>
                </a:solidFill>
                <a:latin typeface="Times New Roman"/>
              </a:rPr>
              <a:t>, обеспечивающая разумное регулирование и самоконтроль поведения и деятельности человека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c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Times New Roman"/>
              </a:rPr>
              <a:t>Прогностическая </a:t>
            </a:r>
            <a:r>
              <a:rPr b="1" lang="ru-RU" sz="3000" spc="-1" strike="noStrike">
                <a:solidFill>
                  <a:srgbClr val="eaeaea"/>
                </a:solidFill>
                <a:latin typeface="Times New Roman"/>
              </a:rPr>
              <a:t>- предвидеть будущее, прогнозировать свои действия, строить планы и осуществлять их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5"/>
          <p:cNvSpPr/>
          <p:nvPr/>
        </p:nvSpPr>
        <p:spPr>
          <a:xfrm>
            <a:off x="1800360" y="1700280"/>
            <a:ext cx="4968720" cy="2087640"/>
          </a:xfrm>
          <a:prstGeom prst="pie">
            <a:avLst/>
          </a:prstGeom>
          <a:solidFill>
            <a:srgbClr val="cc99ff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ЗНАНИЕ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5497560" y="3213000"/>
            <a:ext cx="1079280" cy="7192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Line 8"/>
          <p:cNvSpPr/>
          <p:nvPr/>
        </p:nvSpPr>
        <p:spPr>
          <a:xfrm flipH="1">
            <a:off x="1835280" y="3102120"/>
            <a:ext cx="1079280" cy="7920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Oval 9"/>
          <p:cNvSpPr/>
          <p:nvPr/>
        </p:nvSpPr>
        <p:spPr>
          <a:xfrm>
            <a:off x="4680" y="3932280"/>
            <a:ext cx="3745080" cy="2158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3b"/>
                </a:solidFill>
                <a:latin typeface="Times New Roman"/>
                <a:ea typeface="Times New Roman"/>
              </a:rPr>
              <a:t>индивидуальное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Oval 10"/>
          <p:cNvSpPr/>
          <p:nvPr/>
        </p:nvSpPr>
        <p:spPr>
          <a:xfrm>
            <a:off x="5072040" y="3932280"/>
            <a:ext cx="3889440" cy="2017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63b"/>
                </a:solidFill>
                <a:latin typeface="Times New Roman"/>
                <a:ea typeface="Times New Roman"/>
              </a:rPr>
              <a:t>общественное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7" name="Рисунок 6" descr="0_80b35_396ac30f_XL.png"/>
          <p:cNvPicPr/>
          <p:nvPr/>
        </p:nvPicPr>
        <p:blipFill>
          <a:blip r:embed="rId1"/>
          <a:stretch/>
        </p:blipFill>
        <p:spPr>
          <a:xfrm>
            <a:off x="7016760" y="189000"/>
            <a:ext cx="2127240" cy="22320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 современной философии в структуре индивидуального сознания принято выделять четыре основных компонента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елесно-перцептивный (ощущения, восприятия, представления)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Чувственно-эмоциональный (эмоции, аффекты, чувства, инстинкты);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Логико-понятийный (понятия, логические умозаключения);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Ценностно-мотивационный (идеалы, фантазия, воображение, интуиция)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5:41:12Z</dcterms:created>
  <dc:creator>Admin</dc:creator>
  <dc:description/>
  <dc:language>en-US</dc:language>
  <cp:lastModifiedBy>Ирина</cp:lastModifiedBy>
  <dcterms:modified xsi:type="dcterms:W3CDTF">2017-08-03T15:29:28Z</dcterms:modified>
  <cp:revision>10</cp:revision>
  <dc:subject/>
  <dc:title>ПСИХИКА, СОЗНАНИЕ, БЕССОЗНАТЕЛЬНО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