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0AD2-537D-42B0-A28E-F19BDF2463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141-7E39-41AC-B6B6-2A849753C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394-24A3-4F4C-B1D8-EF0ECCFB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B71-BD8D-4B82-B0BD-73087AF5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928-BC20-4BFD-AEBF-42633EC0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3EA-2769-494E-B10F-03ADE8A3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9EFD-935D-4818-AD4E-7C84EEC9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CC75-C1E5-4526-8CE7-227F2B20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9D5E-05E1-41E4-8E88-B39C904B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D3AB-4173-4225-BC49-D11865F1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749F-792B-482B-B9A6-E06FAA5D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6955-CBE6-4EA6-ABBF-BC1BBE7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4240-E0EF-4C86-B4FB-90258A9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79B-3220-4702-B101-C050C8B8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2C65-2756-4A31-89A4-C788FF2C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CE4F-A860-4124-8757-62A6E2AA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D160-D19F-4639-8C4C-FE190C98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A8C7-61E7-4785-8713-FCE3535A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A7AF-0AAE-4C5B-9F93-D1407746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DB23-A0F5-4787-A396-4D1C8AFA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8825-46CB-4CC7-9832-26C2D35B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DE79-AA55-4D81-931B-1752854D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3508B-04F4-4C3A-A3DE-7B5F66F9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C4A47-3B2A-47D9-91E5-0BA3F34B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00D-3E51-434C-8E87-D886921A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2F74-1BED-47FD-B7E9-DEB8E11D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704F-0E8C-4C28-AD47-019D933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CCD52-BC0F-4A8F-B9D9-D126C90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9A57-EDA1-412D-B622-DCCD4F7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A888-30BB-412F-BC61-42CF2573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8A49-D2D4-4036-A342-3CEDB313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BF4F-63B1-41B1-A3AF-A459E188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82DD7-1BD7-43E7-86B0-655DEE9B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D23F-6FDA-4BBE-B6AF-239B92B4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4139-B98E-46F4-B4E9-558DBE0C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AB1-5DB8-42CA-92B4-C78A181B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3D5C1-C424-4079-A7CE-5E72D182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5713-97BE-4783-A08B-E8363982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00A6-E4DF-4D85-A829-7EA6F271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EA70-67B4-46AC-B7AC-4B1EE82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F6D9-35E8-4B91-8B9A-ED1A140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E565-E185-4600-96D6-A1E9756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93E7-57BB-4118-807E-9275EF4C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9DD6-B473-40C6-8308-1D9ED42A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00AA-CDB1-42A9-8677-C0F89D43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71BA-F58A-4750-885C-BD11FA73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9AF-2314-4C76-ABDB-05D68FBF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F565-2ADF-4B22-8E2B-64B642D6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93C4-F428-4BE8-B6B1-1A158261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2BA6-E9B3-4E87-BD62-3E9D665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B787D-CC6E-4694-ACD1-E7082AFD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5029-B2EA-4C49-877D-93D4D08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5384B-EDCB-4D51-AAD3-FC3F1F87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1E0DE-2046-40A1-B948-9C448D8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E18BB-8868-47D0-B764-107C4C3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99C3-B064-4A46-BF73-E09C63C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A285B-71FA-4FB9-8554-92D9AD7F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520-5A6B-4D6F-AD02-277F88EC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FF58-6A1E-4756-84C3-CABB583C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9FB-7733-443F-ADA4-995E6DE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D8D-EB65-463D-BF2E-1956420C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160-547E-4E77-A5BD-7DD4401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PPP_SDESI_PRT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66760" y="6610320"/>
            <a:ext cx="73454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тонина Сергеевна Матвиен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0790-826E-4F0E-B315-83804608D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A049-4132-4224-9EAA-052BD0D134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4" descr="PPP_SDESI_TLE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166760" y="6610320"/>
            <a:ext cx="74138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нтонина Сергеевна Матвиен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BE4-08D8-4F7E-963B-645D15519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9" descr="PPP_SDESI_PRT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27CD-A838-4C71-A04B-2F614776D5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C27-A609-41C8-8769-0A13E487A0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png"/><Relationship Id="rId6" Type="http://schemas.openxmlformats.org/officeDocument/2006/relationships/image" Target="../media/image13.wmf"/><Relationship Id="rId7" Type="http://schemas.openxmlformats.org/officeDocument/2006/relationships/image" Target="../media/image11.wmf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1.wmf"/><Relationship Id="rId11" Type="http://schemas.openxmlformats.org/officeDocument/2006/relationships/image" Target="../media/image16.png"/><Relationship Id="rId12" Type="http://schemas.openxmlformats.org/officeDocument/2006/relationships/image" Target="../media/image13.wmf"/><Relationship Id="rId13" Type="http://schemas.openxmlformats.org/officeDocument/2006/relationships/image" Target="../media/image11.wmf"/><Relationship Id="rId14" Type="http://schemas.openxmlformats.org/officeDocument/2006/relationships/image" Target="../media/image17.png"/><Relationship Id="rId15" Type="http://schemas.openxmlformats.org/officeDocument/2006/relationships/image" Target="../media/image13.wmf"/><Relationship Id="rId16" Type="http://schemas.openxmlformats.org/officeDocument/2006/relationships/image" Target="../media/image11.wmf"/><Relationship Id="rId17" Type="http://schemas.openxmlformats.org/officeDocument/2006/relationships/image" Target="../media/image12.png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000" y="1356840"/>
            <a:ext cx="88567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итические партии и движения, их классификаци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лассификация партийных сист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900000" y="1773360"/>
            <a:ext cx="7344000" cy="7189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ddcb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539640" y="3500280"/>
            <a:ext cx="2303640" cy="1729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debe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алит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492360" y="3500280"/>
            <a:ext cx="2303640" cy="1729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debe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ит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6497640" y="3500280"/>
            <a:ext cx="2467080" cy="1729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debe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71280" y="20520"/>
            <a:ext cx="705780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щественные движения 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формы объединения людей, которые организованными способами выражают интересы  определенной групп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04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Общность интере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Коллективность принятия реш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Необязательность членства и членских взно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99640" y="1411200"/>
            <a:ext cx="7559640" cy="39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месту деятельности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естные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егиональные, *общегосударственные, *международ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65973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611280" y="1652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ипологии общественных дви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1411200"/>
            <a:ext cx="8207280" cy="43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социальному составу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молодёжные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женские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профессиональные, *ветеранск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65973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324000" y="1652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ипологии общественных дви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411200"/>
            <a:ext cx="8207280" cy="43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способу организации:</a:t>
            </a:r>
            <a:br>
              <a:rPr sz="3600"/>
            </a:br>
            <a:br>
              <a:rPr sz="3600"/>
            </a:b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Клуб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*Ассоциац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*Союз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65973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7"/>
          <p:cNvSpPr/>
          <p:nvPr/>
        </p:nvSpPr>
        <p:spPr>
          <a:xfrm>
            <a:off x="250920" y="1652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Типологии общественных дви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щественно-политические дви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личие от политических пар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тавят целью борьбу за в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ют непостоянный со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труктуриров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вигают общие цели и не имеют чётк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меют чёткой идеологии, могут объединять представителей разных иде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ивоенные движения, женские, молодёжные движения, антиглобалисты, правозащитные движени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лассификация по идеологии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2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« Зелёные»</a:t>
            </a:r>
            <a:r>
              <a:rPr b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 нацелены на защиту окружающей сред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лерикальные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 нацелены на усиление позиций церкви и рели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Социалистические, социал-демократические</a:t>
            </a:r>
            <a:r>
              <a:rPr b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 нацелены на равенство и государственное регулирование экономи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Либеральны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нацелены на свободу и невмешательство государства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Демократически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нацелены на развитие народовласт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Фашистские</a:t>
            </a:r>
            <a:r>
              <a:rPr b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( нацелены на насилие, подавление личности, ликвидацию свобод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Националистически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проповедуют национализ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Коммунистически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( нацелены на общественную собственность, полное равенство, солидарность трудящих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4067280" y="1628640"/>
            <a:ext cx="4608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олитическая групп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группа, деятельность которой направлена на участие в политическ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1489"/>
          <p:cNvPicPr/>
          <p:nvPr/>
        </p:nvPicPr>
        <p:blipFill>
          <a:blip r:embed="rId1"/>
          <a:stretch/>
        </p:blipFill>
        <p:spPr>
          <a:xfrm>
            <a:off x="324000" y="1714680"/>
            <a:ext cx="2950920" cy="29509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"/>
          <p:cNvSpPr/>
          <p:nvPr/>
        </p:nvSpPr>
        <p:spPr>
          <a:xfrm>
            <a:off x="4213800" y="4168800"/>
            <a:ext cx="45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сновные политические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3851280" y="465300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2465280" y="5373720"/>
            <a:ext cx="26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итические пар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7020000" y="465300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940360" y="53942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енные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ущностные признаки политической парт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5480" y="1523880"/>
            <a:ext cx="8643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ная идеология, система общих ценностей и но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тносительно продолжительное по времени добровольное объединение людей.  Организацио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ы построения партии отражаются,  как правило,  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ийном уста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нацеленность парт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реализацию через государство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есов тех социальных групп,  которые она выражае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нно ради этого партии ведут борьбу за завоевание и осуществление государственно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ла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Партии стремятся обеспечить себе поддержку избирателей. Это достигается во время выборов через агитацию избирателей за партийную предвыборную платформу (предвыборную программ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6"/>
          <p:cNvGrpSpPr/>
          <p:nvPr/>
        </p:nvGrpSpPr>
        <p:grpSpPr>
          <a:xfrm>
            <a:off x="-12600" y="-12600"/>
            <a:ext cx="9169200" cy="6883200"/>
            <a:chOff x="-12600" y="-12600"/>
            <a:chExt cx="9169200" cy="6883200"/>
          </a:xfrm>
        </p:grpSpPr>
        <p:pic>
          <p:nvPicPr>
            <p:cNvPr id="242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916920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34800" y="334800"/>
              <a:ext cx="847440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Политическая партия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 добровольное объединение людей определенной идейно-политической ориентации, стремящихся завоевать государственную власть или участвовать в ее осуществлении для реализации инте­ресов тех или иных социальных групп и слоев населен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900000" y="115920"/>
            <a:ext cx="170496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929200" y="115920"/>
            <a:ext cx="2214720" cy="18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6" name="Picture 6" descr=""/>
          <p:cNvPicPr/>
          <p:nvPr/>
        </p:nvPicPr>
        <p:blipFill>
          <a:blip r:embed="rId4"/>
          <a:stretch/>
        </p:blipFill>
        <p:spPr>
          <a:xfrm>
            <a:off x="3419640" y="68400"/>
            <a:ext cx="2000160" cy="20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Picture 7" descr=""/>
          <p:cNvPicPr/>
          <p:nvPr/>
        </p:nvPicPr>
        <p:blipFill>
          <a:blip r:embed="rId5"/>
          <a:stretch/>
        </p:blipFill>
        <p:spPr>
          <a:xfrm>
            <a:off x="925560" y="4941720"/>
            <a:ext cx="1714320" cy="1710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6"/>
          <a:stretch/>
        </p:blipFill>
        <p:spPr>
          <a:xfrm>
            <a:off x="3000240" y="4941720"/>
            <a:ext cx="2928960" cy="1671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7"/>
          <a:stretch/>
        </p:blipFill>
        <p:spPr>
          <a:xfrm>
            <a:off x="6156360" y="4919760"/>
            <a:ext cx="2595600" cy="16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784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е систе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330280" y="155412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о числу партий в гос-в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258920" y="2421000"/>
            <a:ext cx="302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днопарти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единственная партия в ст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292720" y="2421000"/>
            <a:ext cx="355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вухпарти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две партии, сменяющие друг дру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916360" y="3716280"/>
            <a:ext cx="367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ногопарти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несколько крупных политических парт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4788000" y="2205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 flipH="1">
            <a:off x="3132000" y="2133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6227640" y="2133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584000" y="3716280"/>
            <a:ext cx="1372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3875760" y="5013360"/>
            <a:ext cx="18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6416640" y="3693960"/>
            <a:ext cx="2824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икобр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п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политической парт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-360" y="1773360"/>
            <a:ext cx="9143640" cy="696600"/>
            <a:chOff x="-360" y="1773360"/>
            <a:chExt cx="9143640" cy="696600"/>
          </a:xfrm>
        </p:grpSpPr>
        <p:sp>
          <p:nvSpPr>
            <p:cNvPr id="263" name="AutoShape 4"/>
            <p:cNvSpPr/>
            <p:nvPr/>
          </p:nvSpPr>
          <p:spPr>
            <a:xfrm>
              <a:off x="352800" y="1773360"/>
              <a:ext cx="8790480" cy="69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650520" y="1869120"/>
              <a:ext cx="76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ситель определённой идеолог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6"/>
            <p:cNvGrpSpPr/>
            <p:nvPr/>
          </p:nvGrpSpPr>
          <p:grpSpPr>
            <a:xfrm>
              <a:off x="-360" y="1831680"/>
              <a:ext cx="768600" cy="620640"/>
              <a:chOff x="-360" y="1831680"/>
              <a:chExt cx="768600" cy="620640"/>
            </a:xfrm>
          </p:grpSpPr>
          <p:grpSp>
            <p:nvGrpSpPr>
              <p:cNvPr id="266" name="Group 7"/>
              <p:cNvGrpSpPr/>
              <p:nvPr/>
            </p:nvGrpSpPr>
            <p:grpSpPr>
              <a:xfrm>
                <a:off x="-360" y="1831680"/>
                <a:ext cx="768600" cy="620640"/>
                <a:chOff x="-360" y="1831680"/>
                <a:chExt cx="768600" cy="620640"/>
              </a:xfrm>
            </p:grpSpPr>
            <p:pic>
              <p:nvPicPr>
                <p:cNvPr id="267" name="Picture 8" descr="Picture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4720" y="2341800"/>
                  <a:ext cx="6642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Oval 9"/>
                <p:cNvSpPr/>
                <p:nvPr/>
              </p:nvSpPr>
              <p:spPr>
                <a:xfrm flipH="1">
                  <a:off x="-720" y="1831680"/>
                  <a:ext cx="768600" cy="55404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0"/>
                <p:cNvSpPr/>
                <p:nvPr/>
              </p:nvSpPr>
              <p:spPr>
                <a:xfrm flipH="1">
                  <a:off x="20160" y="1843920"/>
                  <a:ext cx="733680" cy="52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6100"/>
                    </a:gs>
                    <a:gs pos="100000">
                      <a:srgbClr val="ff9900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0" name="Picture 11" descr="Picture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640" y="1835640"/>
                  <a:ext cx="502560" cy="36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1" name="Text Box 12"/>
              <p:cNvSpPr/>
              <p:nvPr/>
            </p:nvSpPr>
            <p:spPr>
              <a:xfrm>
                <a:off x="195480" y="186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3"/>
          <p:cNvGrpSpPr/>
          <p:nvPr/>
        </p:nvGrpSpPr>
        <p:grpSpPr>
          <a:xfrm>
            <a:off x="-360" y="2637000"/>
            <a:ext cx="9148320" cy="719640"/>
            <a:chOff x="-360" y="2637000"/>
            <a:chExt cx="9148320" cy="719640"/>
          </a:xfrm>
        </p:grpSpPr>
        <p:sp>
          <p:nvSpPr>
            <p:cNvPr id="273" name="AutoShape 14"/>
            <p:cNvSpPr/>
            <p:nvPr/>
          </p:nvSpPr>
          <p:spPr>
            <a:xfrm>
              <a:off x="356040" y="2637000"/>
              <a:ext cx="8791920" cy="695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3d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>
              <a:off x="653760" y="2737080"/>
              <a:ext cx="84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ость, наличие определённой структ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6"/>
            <p:cNvGrpSpPr/>
            <p:nvPr/>
          </p:nvGrpSpPr>
          <p:grpSpPr>
            <a:xfrm>
              <a:off x="-360" y="2737080"/>
              <a:ext cx="768600" cy="619560"/>
              <a:chOff x="-360" y="2737080"/>
              <a:chExt cx="768600" cy="619560"/>
            </a:xfrm>
          </p:grpSpPr>
          <p:grpSp>
            <p:nvGrpSpPr>
              <p:cNvPr id="276" name="Group 17"/>
              <p:cNvGrpSpPr/>
              <p:nvPr/>
            </p:nvGrpSpPr>
            <p:grpSpPr>
              <a:xfrm>
                <a:off x="-360" y="2737080"/>
                <a:ext cx="768600" cy="619560"/>
                <a:chOff x="-360" y="2737080"/>
                <a:chExt cx="768600" cy="619560"/>
              </a:xfrm>
            </p:grpSpPr>
            <p:pic>
              <p:nvPicPr>
                <p:cNvPr id="277" name="Picture 18" descr="Picture2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720" y="3246480"/>
                  <a:ext cx="664200" cy="11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Oval 19"/>
                <p:cNvSpPr/>
                <p:nvPr/>
              </p:nvSpPr>
              <p:spPr>
                <a:xfrm flipH="1">
                  <a:off x="-720" y="2737080"/>
                  <a:ext cx="768600" cy="55296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20"/>
                <p:cNvSpPr/>
                <p:nvPr/>
              </p:nvSpPr>
              <p:spPr>
                <a:xfrm flipH="1">
                  <a:off x="20160" y="2749320"/>
                  <a:ext cx="733680" cy="5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09d11"/>
                    </a:gs>
                    <a:gs pos="100000">
                      <a:srgbClr val="fcf71a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0" name="Picture 21" descr="Picture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3640" y="2741040"/>
                  <a:ext cx="502560" cy="361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1" name="Text Box 22"/>
              <p:cNvSpPr/>
              <p:nvPr/>
            </p:nvSpPr>
            <p:spPr>
              <a:xfrm>
                <a:off x="195840" y="2769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23"/>
          <p:cNvGrpSpPr/>
          <p:nvPr/>
        </p:nvGrpSpPr>
        <p:grpSpPr>
          <a:xfrm>
            <a:off x="1080" y="3429000"/>
            <a:ext cx="9142560" cy="925560"/>
            <a:chOff x="1080" y="3429000"/>
            <a:chExt cx="9142560" cy="925560"/>
          </a:xfrm>
        </p:grpSpPr>
        <p:sp>
          <p:nvSpPr>
            <p:cNvPr id="283" name="AutoShape 24"/>
            <p:cNvSpPr/>
            <p:nvPr/>
          </p:nvSpPr>
          <p:spPr>
            <a:xfrm>
              <a:off x="351720" y="3429000"/>
              <a:ext cx="8791920" cy="696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5"/>
            <p:cNvSpPr/>
            <p:nvPr/>
          </p:nvSpPr>
          <p:spPr>
            <a:xfrm>
              <a:off x="649440" y="3529080"/>
              <a:ext cx="838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программных документов – Устава и 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6"/>
            <p:cNvGrpSpPr/>
            <p:nvPr/>
          </p:nvGrpSpPr>
          <p:grpSpPr>
            <a:xfrm>
              <a:off x="1080" y="3526560"/>
              <a:ext cx="768600" cy="619920"/>
              <a:chOff x="1080" y="3526560"/>
              <a:chExt cx="768600" cy="619920"/>
            </a:xfrm>
          </p:grpSpPr>
          <p:sp>
            <p:nvSpPr>
              <p:cNvPr id="286" name="Text Box 27"/>
              <p:cNvSpPr/>
              <p:nvPr/>
            </p:nvSpPr>
            <p:spPr>
              <a:xfrm>
                <a:off x="177840" y="3570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28"/>
              <p:cNvGrpSpPr/>
              <p:nvPr/>
            </p:nvGrpSpPr>
            <p:grpSpPr>
              <a:xfrm>
                <a:off x="1080" y="3526560"/>
                <a:ext cx="768600" cy="619920"/>
                <a:chOff x="1080" y="3526560"/>
                <a:chExt cx="768600" cy="619920"/>
              </a:xfrm>
            </p:grpSpPr>
            <p:pic>
              <p:nvPicPr>
                <p:cNvPr id="288" name="Picture 29" descr="Picture2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6160" y="4036320"/>
                  <a:ext cx="664200" cy="11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Oval 30"/>
                <p:cNvSpPr/>
                <p:nvPr/>
              </p:nvSpPr>
              <p:spPr>
                <a:xfrm flipH="1">
                  <a:off x="720" y="3526560"/>
                  <a:ext cx="768600" cy="55368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31"/>
                <p:cNvSpPr/>
                <p:nvPr/>
              </p:nvSpPr>
              <p:spPr>
                <a:xfrm flipH="1">
                  <a:off x="21600" y="3538800"/>
                  <a:ext cx="733680" cy="52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a9147"/>
                    </a:gs>
                    <a:gs pos="100000">
                      <a:srgbClr val="10e470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91" name="Picture 32" descr="Picture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35080" y="3530520"/>
                  <a:ext cx="502560" cy="36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2" name="Text Box 33"/>
              <p:cNvSpPr/>
              <p:nvPr/>
            </p:nvSpPr>
            <p:spPr>
              <a:xfrm>
                <a:off x="197280" y="3560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34"/>
          <p:cNvGrpSpPr/>
          <p:nvPr/>
        </p:nvGrpSpPr>
        <p:grpSpPr>
          <a:xfrm>
            <a:off x="-5040" y="4253040"/>
            <a:ext cx="9148320" cy="848160"/>
            <a:chOff x="-5040" y="4253040"/>
            <a:chExt cx="9148320" cy="848160"/>
          </a:xfrm>
        </p:grpSpPr>
        <p:sp>
          <p:nvSpPr>
            <p:cNvPr id="294" name="AutoShape 35"/>
            <p:cNvSpPr/>
            <p:nvPr/>
          </p:nvSpPr>
          <p:spPr>
            <a:xfrm>
              <a:off x="351360" y="4253040"/>
              <a:ext cx="8791920" cy="696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6"/>
            <p:cNvSpPr/>
            <p:nvPr/>
          </p:nvSpPr>
          <p:spPr>
            <a:xfrm>
              <a:off x="649080" y="4275720"/>
              <a:ext cx="848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собственного имущества, финансовых средств, С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37"/>
            <p:cNvGrpSpPr/>
            <p:nvPr/>
          </p:nvGrpSpPr>
          <p:grpSpPr>
            <a:xfrm>
              <a:off x="-5040" y="4350960"/>
              <a:ext cx="768600" cy="621360"/>
              <a:chOff x="-5040" y="4350960"/>
              <a:chExt cx="768600" cy="621360"/>
            </a:xfrm>
          </p:grpSpPr>
          <p:sp>
            <p:nvSpPr>
              <p:cNvPr id="297" name="Text Box 38"/>
              <p:cNvSpPr/>
              <p:nvPr/>
            </p:nvSpPr>
            <p:spPr>
              <a:xfrm>
                <a:off x="177840" y="4396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Group 39"/>
              <p:cNvGrpSpPr/>
              <p:nvPr/>
            </p:nvGrpSpPr>
            <p:grpSpPr>
              <a:xfrm>
                <a:off x="-5040" y="4350960"/>
                <a:ext cx="768600" cy="621360"/>
                <a:chOff x="-5040" y="4350960"/>
                <a:chExt cx="768600" cy="621360"/>
              </a:xfrm>
            </p:grpSpPr>
            <p:pic>
              <p:nvPicPr>
                <p:cNvPr id="299" name="Picture 40" descr="Picture2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0040" y="4861800"/>
                  <a:ext cx="6642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Oval 41"/>
                <p:cNvSpPr/>
                <p:nvPr/>
              </p:nvSpPr>
              <p:spPr>
                <a:xfrm flipH="1">
                  <a:off x="-5400" y="4350960"/>
                  <a:ext cx="768600" cy="554760"/>
                </a:xfrm>
                <a:prstGeom prst="ellips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42"/>
                <p:cNvSpPr/>
                <p:nvPr/>
              </p:nvSpPr>
              <p:spPr>
                <a:xfrm flipH="1">
                  <a:off x="15480" y="4363200"/>
                  <a:ext cx="733680" cy="52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369e"/>
                    </a:gs>
                    <a:gs pos="100000">
                      <a:srgbClr val="ca55f9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2" name="Picture 43" descr="Picture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28960" y="4354920"/>
                  <a:ext cx="502560" cy="36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3" name="Text Box 44"/>
              <p:cNvSpPr/>
              <p:nvPr/>
            </p:nvSpPr>
            <p:spPr>
              <a:xfrm>
                <a:off x="191160" y="4384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Group 45"/>
          <p:cNvGrpSpPr/>
          <p:nvPr/>
        </p:nvGrpSpPr>
        <p:grpSpPr>
          <a:xfrm>
            <a:off x="-360" y="5084640"/>
            <a:ext cx="9135720" cy="717840"/>
            <a:chOff x="-360" y="5084640"/>
            <a:chExt cx="9135720" cy="717840"/>
          </a:xfrm>
        </p:grpSpPr>
        <p:sp>
          <p:nvSpPr>
            <p:cNvPr id="305" name="AutoShape 46"/>
            <p:cNvSpPr/>
            <p:nvPr/>
          </p:nvSpPr>
          <p:spPr>
            <a:xfrm>
              <a:off x="344160" y="5084640"/>
              <a:ext cx="8791200" cy="695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4d98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47"/>
            <p:cNvSpPr/>
            <p:nvPr/>
          </p:nvSpPr>
          <p:spPr>
            <a:xfrm>
              <a:off x="642240" y="5184720"/>
              <a:ext cx="76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личие собственной символ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48"/>
            <p:cNvGrpSpPr/>
            <p:nvPr/>
          </p:nvGrpSpPr>
          <p:grpSpPr>
            <a:xfrm>
              <a:off x="-360" y="5182920"/>
              <a:ext cx="768600" cy="619560"/>
              <a:chOff x="-360" y="5182920"/>
              <a:chExt cx="768600" cy="619560"/>
            </a:xfrm>
          </p:grpSpPr>
          <p:grpSp>
            <p:nvGrpSpPr>
              <p:cNvPr id="308" name="Group 49"/>
              <p:cNvGrpSpPr/>
              <p:nvPr/>
            </p:nvGrpSpPr>
            <p:grpSpPr>
              <a:xfrm>
                <a:off x="-360" y="5182920"/>
                <a:ext cx="768600" cy="619560"/>
                <a:chOff x="-360" y="5182920"/>
                <a:chExt cx="768600" cy="619560"/>
              </a:xfrm>
            </p:grpSpPr>
            <p:pic>
              <p:nvPicPr>
                <p:cNvPr id="309" name="Picture 50" descr="Picture2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4720" y="5692320"/>
                  <a:ext cx="664200" cy="11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Oval 51"/>
                <p:cNvSpPr/>
                <p:nvPr/>
              </p:nvSpPr>
              <p:spPr>
                <a:xfrm flipH="1">
                  <a:off x="-720" y="5182920"/>
                  <a:ext cx="768600" cy="553320"/>
                </a:xfrm>
                <a:prstGeom prst="ellips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52"/>
                <p:cNvSpPr/>
                <p:nvPr/>
              </p:nvSpPr>
              <p:spPr>
                <a:xfrm flipH="1">
                  <a:off x="20160" y="5195160"/>
                  <a:ext cx="733680" cy="5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16190"/>
                    </a:gs>
                    <a:gs pos="100000">
                      <a:srgbClr val="4d98e3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2" name="Picture 53" descr="Picture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33640" y="5186880"/>
                  <a:ext cx="50256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3" name="Text Box 54"/>
              <p:cNvSpPr/>
              <p:nvPr/>
            </p:nvSpPr>
            <p:spPr>
              <a:xfrm>
                <a:off x="195840" y="5215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Group 3"/>
          <p:cNvGrpSpPr/>
          <p:nvPr/>
        </p:nvGrpSpPr>
        <p:grpSpPr>
          <a:xfrm>
            <a:off x="-360" y="5950080"/>
            <a:ext cx="9143640" cy="696600"/>
            <a:chOff x="-360" y="5950080"/>
            <a:chExt cx="9143640" cy="696600"/>
          </a:xfrm>
        </p:grpSpPr>
        <p:sp>
          <p:nvSpPr>
            <p:cNvPr id="315" name="AutoShape 4"/>
            <p:cNvSpPr/>
            <p:nvPr/>
          </p:nvSpPr>
          <p:spPr>
            <a:xfrm>
              <a:off x="352800" y="5950080"/>
              <a:ext cx="8790480" cy="696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650520" y="6045840"/>
              <a:ext cx="761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ремление к завоеванию вл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6"/>
            <p:cNvGrpSpPr/>
            <p:nvPr/>
          </p:nvGrpSpPr>
          <p:grpSpPr>
            <a:xfrm>
              <a:off x="-360" y="6008400"/>
              <a:ext cx="768600" cy="620640"/>
              <a:chOff x="-360" y="6008400"/>
              <a:chExt cx="768600" cy="620640"/>
            </a:xfrm>
          </p:grpSpPr>
          <p:grpSp>
            <p:nvGrpSpPr>
              <p:cNvPr id="318" name="Group 7"/>
              <p:cNvGrpSpPr/>
              <p:nvPr/>
            </p:nvGrpSpPr>
            <p:grpSpPr>
              <a:xfrm>
                <a:off x="-360" y="6008400"/>
                <a:ext cx="768600" cy="620640"/>
                <a:chOff x="-360" y="6008400"/>
                <a:chExt cx="768600" cy="620640"/>
              </a:xfrm>
            </p:grpSpPr>
            <p:pic>
              <p:nvPicPr>
                <p:cNvPr id="319" name="Picture 8" descr="Picture2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4720" y="6518520"/>
                  <a:ext cx="6642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Oval 9"/>
                <p:cNvSpPr/>
                <p:nvPr/>
              </p:nvSpPr>
              <p:spPr>
                <a:xfrm flipH="1">
                  <a:off x="-720" y="6008400"/>
                  <a:ext cx="768600" cy="554040"/>
                </a:xfrm>
                <a:prstGeom prst="ellips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0"/>
                <p:cNvSpPr/>
                <p:nvPr/>
              </p:nvSpPr>
              <p:spPr>
                <a:xfrm flipH="1">
                  <a:off x="20160" y="6020640"/>
                  <a:ext cx="733680" cy="52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6100"/>
                    </a:gs>
                    <a:gs pos="100000">
                      <a:srgbClr val="ff9900">
                        <a:alpha val="85098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2" name="Picture 11" descr="Picture1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233640" y="6012360"/>
                  <a:ext cx="502560" cy="36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3" name="Text Box 12"/>
              <p:cNvSpPr/>
              <p:nvPr/>
            </p:nvSpPr>
            <p:spPr>
              <a:xfrm>
                <a:off x="195480" y="60411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уктура политической парт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Diagram 2"/>
          <p:cNvGrpSpPr/>
          <p:nvPr/>
        </p:nvGrpSpPr>
        <p:grpSpPr>
          <a:xfrm>
            <a:off x="2451240" y="1996560"/>
            <a:ext cx="4311360" cy="3733920"/>
            <a:chOff x="2451240" y="1996560"/>
            <a:chExt cx="4311360" cy="3733920"/>
          </a:xfrm>
        </p:grpSpPr>
        <p:sp>
          <p:nvSpPr>
            <p:cNvPr id="326" name="_s1028"/>
            <p:cNvSpPr/>
            <p:nvPr/>
          </p:nvSpPr>
          <p:spPr>
            <a:xfrm flipV="1">
              <a:off x="4067280" y="1996200"/>
              <a:ext cx="1079280" cy="933480"/>
            </a:xfrm>
            <a:custGeom>
              <a:avLst/>
              <a:gdLst>
                <a:gd name="textAreaLeft" fmla="*/ 387360 w 1079280"/>
                <a:gd name="textAreaRight" fmla="*/ 691920 w 1079280"/>
                <a:gd name="textAreaTop" fmla="*/ 334800 h 933480"/>
                <a:gd name="textAreaBottom" fmla="*/ 5986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1029"/>
            <p:cNvSpPr/>
            <p:nvPr/>
          </p:nvSpPr>
          <p:spPr>
            <a:xfrm flipV="1">
              <a:off x="3529080" y="2929680"/>
              <a:ext cx="2155680" cy="933480"/>
            </a:xfrm>
            <a:custGeom>
              <a:avLst/>
              <a:gdLst>
                <a:gd name="textAreaLeft" fmla="*/ 474120 w 2155680"/>
                <a:gd name="textAreaRight" fmla="*/ 1681560 w 2155680"/>
                <a:gd name="textAreaTop" fmla="*/ 205200 h 933480"/>
                <a:gd name="textAreaBottom" fmla="*/ 7282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ий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кти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1030"/>
            <p:cNvSpPr/>
            <p:nvPr/>
          </p:nvSpPr>
          <p:spPr>
            <a:xfrm flipV="1">
              <a:off x="2990880" y="3863160"/>
              <a:ext cx="3232080" cy="933480"/>
            </a:xfrm>
            <a:custGeom>
              <a:avLst/>
              <a:gdLst>
                <a:gd name="textAreaLeft" fmla="*/ 560880 w 3232080"/>
                <a:gd name="textAreaRight" fmla="*/ 2671200 w 3232080"/>
                <a:gd name="textAreaTop" fmla="*/ 162000 h 933480"/>
                <a:gd name="textAreaBottom" fmla="*/ 7714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ядов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лены парт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1031"/>
            <p:cNvSpPr/>
            <p:nvPr/>
          </p:nvSpPr>
          <p:spPr>
            <a:xfrm flipV="1">
              <a:off x="2451240" y="4796640"/>
              <a:ext cx="4311360" cy="933480"/>
            </a:xfrm>
            <a:custGeom>
              <a:avLst/>
              <a:gdLst>
                <a:gd name="textAreaLeft" fmla="*/ 648720 w 4311360"/>
                <a:gd name="textAreaRight" fmla="*/ 3662640 w 4311360"/>
                <a:gd name="textAreaTop" fmla="*/ 140400 h 933480"/>
                <a:gd name="textAreaBottom" fmla="*/ 7930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орон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рт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AutoShape 11"/>
          <p:cNvSpPr/>
          <p:nvPr/>
        </p:nvSpPr>
        <p:spPr>
          <a:xfrm>
            <a:off x="6519960" y="1946160"/>
            <a:ext cx="2084400" cy="762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976"/>
              <a:gd name="adj5" fmla="val 77865"/>
              <a:gd name="adj6" fmla="val -79666"/>
            </a:avLst>
          </a:prstGeom>
          <a:gradFill rotWithShape="0">
            <a:gsLst>
              <a:gs pos="0">
                <a:srgbClr val="ffcc99"/>
              </a:gs>
              <a:gs pos="50000">
                <a:srgbClr val="ffe4c8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(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политической парт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08000" y="1773360"/>
            <a:ext cx="8928000" cy="9349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средническа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едставительство интересов соци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 и слоёв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108000" y="2997360"/>
            <a:ext cx="8928000" cy="9349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Борьба за власть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частие в избирательных кампани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формировании органов государственной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08000" y="4221000"/>
            <a:ext cx="8928000" cy="935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деологическ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работка и осуществление партий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, пропаганда своих идей, формирование электо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108000" y="5516640"/>
            <a:ext cx="8928000" cy="10080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грацион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сглаживание конфликтов, соглас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 борющихся сил, политическая стабил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политической парт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131760" y="4365720"/>
            <a:ext cx="8785080" cy="1079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разработка, применение и внедрение прав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тношений политических институтов (межпарти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я, партийные коалиции, союзы и бло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139680" y="5589720"/>
            <a:ext cx="8785080" cy="11509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ая социализация лич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спитание пре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и формирование политической культуры граж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131760" y="3213000"/>
            <a:ext cx="8929800" cy="9352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ое рекрутирование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полнение партии нов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ами  и формирование  политической эл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108000" y="1700280"/>
            <a:ext cx="8928000" cy="12970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99"/>
              </a:gs>
              <a:gs pos="100000">
                <a:srgbClr val="ffe5cb"/>
              </a:gs>
            </a:gsLst>
            <a:lin ang="5400000"/>
          </a:gra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ммуникативна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связи масс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ми структурами, институал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ого участия граж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ртийная сист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21"/>
          <p:cNvSpPr/>
          <p:nvPr/>
        </p:nvSpPr>
        <p:spPr>
          <a:xfrm>
            <a:off x="539640" y="1916280"/>
            <a:ext cx="806472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9b74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ые связи и отношения поли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й различного типа друг с другом, а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сударством и другими политичес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2"/>
          <p:cNvSpPr/>
          <p:nvPr/>
        </p:nvSpPr>
        <p:spPr>
          <a:xfrm>
            <a:off x="611280" y="4365720"/>
            <a:ext cx="806436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9b74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всех политических парт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ющих в данной стране,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тношения 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3:38:01Z</dcterms:created>
  <dc:creator>Первый</dc:creator>
  <dc:description/>
  <dc:language>en-US</dc:language>
  <cp:lastModifiedBy>Ирина</cp:lastModifiedBy>
  <dcterms:modified xsi:type="dcterms:W3CDTF">2017-08-24T09:50:17Z</dcterms:modified>
  <cp:revision>36</cp:revision>
  <dc:subject/>
  <dc:title>Слайд 1</dc:title>
</cp:coreProperties>
</file>