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15E1-7E7F-4AB2-B93D-78992C285E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2968-EBF4-4057-BA48-DC7690A36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8B0-9B80-448E-A09A-ED89D789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385-4E10-406E-AD6D-8D8AD4B6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E41-A4CD-468D-8185-AA284FBF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1F2-32AA-48DF-BC1A-689E2751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B0C8-AE00-49AA-AD64-E4319D03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A173-B8C6-44C9-B95F-54D5F0F0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80BD-AF81-4EDE-B3AB-32997D25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BDD9-FB24-458F-871A-19B670BB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B5E9-8E62-4F4D-B571-94E07513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C95A-1077-48B7-8167-AFA9E4BF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CA18-497E-4480-A3BA-6B9A5040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A7C9-D0D9-456B-B3E4-B78CE0B8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4919-CDAD-4B68-8D70-BB004008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2905-4F81-4757-85BE-CBB5D658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A207-F47B-4515-B4DF-7FEB29DD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7183-F128-4757-B10E-2D69DD8E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BE93-C67B-47B9-B7A4-502BF634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B294A-C2E4-430A-BF30-6C1D09E6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6F93-043D-4280-9E89-CEE7B9B1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C272-0C01-490B-BD37-CEFA1AAF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32E0F-049B-437B-B5DE-18905AAA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50B55-EAAF-4989-87A7-5561FC2C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5C4-1045-4AE7-A3F6-38374902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53AAB-3780-4E7E-BE82-B87B181B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19D47-D4E5-4C37-82A2-9545A83D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07B7F-AA52-49AB-87E5-181976B6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2AE26-863D-42DC-808E-351BC2CD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1A1E3-3A0F-4A36-AEAA-8F521367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45920-A1D3-4AEA-AAA0-99A7BB9F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515B-E6C1-4C9F-8526-302AE918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5F599-0A4D-4B00-A668-8635B1D5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15AC6-5D83-456A-AE71-704C20B9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976F6-9E0F-4677-A369-5C9114C4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6E3-974C-4CBC-945B-F9D307A5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0D2A6-1F3B-4B28-BF06-11C792D7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7087D-96B5-4A53-84E9-664BE7E4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4DE48-7CDB-47E6-82FB-88645FD6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A7215-3D38-4496-A96B-185AA521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5731F-E394-49BA-9BA0-379125C2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00DE0-9378-4F02-9031-485CA51F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7C533-D470-472E-9135-BF3D9EB0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87F80-5E2B-42FF-8038-009B4D91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F0837-6DD3-4C18-BF21-6D64989A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A24D1-D975-4289-88DB-D2D92D9F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B02-04BF-4E35-93DF-D338DF06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CD22F-446F-402C-9877-72950373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D833A-8118-4BEF-ACE2-5C27DBF1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472D3-E7DD-4DDE-80BA-FF9157C6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DE286-A20E-4F86-BE74-305A7DD4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65060-EFDC-400E-ADF8-C45B2646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E0EB4-FB3C-42BF-930D-844251B3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7EA91-379A-4B3F-9B10-199ECA72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A1FB2-1095-4709-9A10-9926531C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48BFF-7CFF-45F7-8B93-CD49E22A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D637E-CBBC-45A9-8F98-29C68991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FE5-2A5C-45FC-B3E9-B9B5AF75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6748A-E314-4EAE-82A7-21793960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C3C-C253-49C4-B0AC-68AFB3E5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AB6-FF74-426B-830F-4C90E23E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FFA-6F76-43E8-AB40-5090F2B6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PPP_SDESI_PRT_Shawshan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0320"/>
            <a:ext cx="11667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166760" y="6610320"/>
            <a:ext cx="734544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тонина Сергеевна Матвиен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48640" y="6610320"/>
            <a:ext cx="4953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6708-77F3-42DE-ABFD-559F49C13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B48E-F14C-40F5-A049-BBA84CBD4D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4" descr="PPP_SDESI_TLE_Shawshan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-360" y="6610320"/>
            <a:ext cx="11667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166760" y="6610320"/>
            <a:ext cx="741384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нтонина Сергеевна Матвиен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648640" y="6610320"/>
            <a:ext cx="4953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7111-9D39-4A3B-9D1F-4007BE0A2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9" descr="PPP_SDESI_PRT_Shawshan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56F4-EFF6-4F0E-97F7-A83A23A736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390D-3510-4718-B2A2-3C36E3F335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4.png"/><Relationship Id="rId6" Type="http://schemas.openxmlformats.org/officeDocument/2006/relationships/image" Target="../media/image13.wmf"/><Relationship Id="rId7" Type="http://schemas.openxmlformats.org/officeDocument/2006/relationships/image" Target="../media/image11.wmf"/><Relationship Id="rId8" Type="http://schemas.openxmlformats.org/officeDocument/2006/relationships/image" Target="../media/image15.png"/><Relationship Id="rId9" Type="http://schemas.openxmlformats.org/officeDocument/2006/relationships/image" Target="../media/image13.wmf"/><Relationship Id="rId10" Type="http://schemas.openxmlformats.org/officeDocument/2006/relationships/image" Target="../media/image11.wmf"/><Relationship Id="rId11" Type="http://schemas.openxmlformats.org/officeDocument/2006/relationships/image" Target="../media/image16.png"/><Relationship Id="rId12" Type="http://schemas.openxmlformats.org/officeDocument/2006/relationships/image" Target="../media/image13.wmf"/><Relationship Id="rId13" Type="http://schemas.openxmlformats.org/officeDocument/2006/relationships/image" Target="../media/image11.wmf"/><Relationship Id="rId14" Type="http://schemas.openxmlformats.org/officeDocument/2006/relationships/image" Target="../media/image17.png"/><Relationship Id="rId15" Type="http://schemas.openxmlformats.org/officeDocument/2006/relationships/image" Target="../media/image13.wmf"/><Relationship Id="rId16" Type="http://schemas.openxmlformats.org/officeDocument/2006/relationships/image" Target="../media/image11.wmf"/><Relationship Id="rId17" Type="http://schemas.openxmlformats.org/officeDocument/2006/relationships/image" Target="../media/image12.png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000" y="1356840"/>
            <a:ext cx="88567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итические партии и движения, их классификация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лассификация партийных сист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900000" y="1773360"/>
            <a:ext cx="7344000" cy="7189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ddcb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539640" y="3500280"/>
            <a:ext cx="2303640" cy="1729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debe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алит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492360" y="3500280"/>
            <a:ext cx="2303640" cy="1729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debe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ит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6497640" y="3500280"/>
            <a:ext cx="2467080" cy="1729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debe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кра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71280" y="20520"/>
            <a:ext cx="7057800" cy="508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щественные движения </a:t>
            </a: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формы объединения людей, которые организованными способами выражают интересы  определенной групп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знаки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04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Общность интере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Коллективность принятия реш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Необязательность членства и членских взно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99640" y="1411200"/>
            <a:ext cx="7559640" cy="393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месту деятельности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местные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егиональные, *общегосударственные, *международны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65973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7"/>
          <p:cNvSpPr/>
          <p:nvPr/>
        </p:nvSpPr>
        <p:spPr>
          <a:xfrm>
            <a:off x="611280" y="1652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Типологии общественных дви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1411200"/>
            <a:ext cx="8207280" cy="432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социальному составу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молодёжные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женские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профессиональные, *ветеранск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65973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324000" y="1652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Типологии общественных дви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411200"/>
            <a:ext cx="8207280" cy="432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способу организации:</a:t>
            </a:r>
            <a:br>
              <a:rPr sz="3600"/>
            </a:br>
            <a:br>
              <a:rPr sz="3600"/>
            </a:b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Клуб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*Ассоциаци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*Союз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65973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7"/>
          <p:cNvSpPr/>
          <p:nvPr/>
        </p:nvSpPr>
        <p:spPr>
          <a:xfrm>
            <a:off x="250920" y="1652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Типологии общественных дви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щественно-политические дви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отличие от политических парт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тавят целью борьбу за в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ют непостоянный сост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труктуриров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двигают общие цели и не имеют чётк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имеют чёткой идеологии, могут объединять представителей разных иде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тивоенные движения, женские, молодёжные движения, антиглобалисты, правозащитные движения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лассификация по идеологии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92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« Зелёные»</a:t>
            </a:r>
            <a:r>
              <a:rPr b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( нацелены на защиту окружающей сред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лерикальные 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( нацелены на усиление позиций церкви и религ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Социалистические, социал-демократические</a:t>
            </a:r>
            <a:r>
              <a:rPr b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( нацелены на равенство и государственное регулирование экономи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Либеральные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( нацелены на свободу и невмешательство государства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Демократические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( нацелены на развитие народовласт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Фашистские</a:t>
            </a:r>
            <a:r>
              <a:rPr b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( нацелены на насилие, подавление личности, ликвидацию свобод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Националистические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( проповедуют национализ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Коммунистические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( нацелены на общественную собственность, полное равенство, солидарность трудящихс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4067280" y="1628640"/>
            <a:ext cx="4608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олитическая группа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ая группа, деятельность которой направлена на участие в политическ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1489"/>
          <p:cNvPicPr/>
          <p:nvPr/>
        </p:nvPicPr>
        <p:blipFill>
          <a:blip r:embed="rId1"/>
          <a:stretch/>
        </p:blipFill>
        <p:spPr>
          <a:xfrm>
            <a:off x="324000" y="1714680"/>
            <a:ext cx="2950920" cy="29509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0"/>
          <p:cNvSpPr/>
          <p:nvPr/>
        </p:nvSpPr>
        <p:spPr>
          <a:xfrm>
            <a:off x="4213800" y="416880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сновные политические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3851280" y="4653000"/>
            <a:ext cx="936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2465280" y="5373720"/>
            <a:ext cx="26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итические пар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7020000" y="4653000"/>
            <a:ext cx="647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5940360" y="539424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енные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ущностные признаки политической парт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5480" y="1523880"/>
            <a:ext cx="8643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ная идеология, система общих ценностей и нор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относительно продолжительное по времени добровольное объединение людей.  Организацион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ципы построения партии отражаются,  как правило,  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ийном уста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нацеленность парт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еализацию через государств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есов тех социальных групп,  которые она выражае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нно ради этого партии ведут борьбу за завоевание и осуществление государственной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ла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Партии стремятся обеспечить себе поддержку избирателей. Это достигается во время выборов через агитацию избирателей за партийную предвыборную платформу (предвыборную программ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Скругленный прямоугольник 6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242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34800" y="334800"/>
              <a:ext cx="8474400" cy="61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Политическая партия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 добровольное объединение людей определенной идейно-политической ориентации, стремящихся завоевать государственную власть или участвовать в ее осуществлении для реализации инте­ресов тех или иных социальных групп и слоев населени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900000" y="115920"/>
            <a:ext cx="1704960" cy="19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5" name="Picture 5" descr=""/>
          <p:cNvPicPr/>
          <p:nvPr/>
        </p:nvPicPr>
        <p:blipFill>
          <a:blip r:embed="rId3"/>
          <a:stretch/>
        </p:blipFill>
        <p:spPr>
          <a:xfrm>
            <a:off x="5929200" y="115920"/>
            <a:ext cx="2214720" cy="186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6" name="Picture 6" descr=""/>
          <p:cNvPicPr/>
          <p:nvPr/>
        </p:nvPicPr>
        <p:blipFill>
          <a:blip r:embed="rId4"/>
          <a:stretch/>
        </p:blipFill>
        <p:spPr>
          <a:xfrm>
            <a:off x="3419640" y="68400"/>
            <a:ext cx="2000160" cy="20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7" name="Picture 7" descr=""/>
          <p:cNvPicPr/>
          <p:nvPr/>
        </p:nvPicPr>
        <p:blipFill>
          <a:blip r:embed="rId5"/>
          <a:stretch/>
        </p:blipFill>
        <p:spPr>
          <a:xfrm>
            <a:off x="925560" y="4941720"/>
            <a:ext cx="1714320" cy="1710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6"/>
          <a:stretch/>
        </p:blipFill>
        <p:spPr>
          <a:xfrm>
            <a:off x="3000240" y="4941720"/>
            <a:ext cx="2928960" cy="1671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7"/>
          <a:stretch/>
        </p:blipFill>
        <p:spPr>
          <a:xfrm>
            <a:off x="6156360" y="4919760"/>
            <a:ext cx="2595600" cy="16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784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ие систе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330280" y="155412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по числу партий в гос-в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258920" y="2421000"/>
            <a:ext cx="302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днопартий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единственная партия в стра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5292720" y="2421000"/>
            <a:ext cx="3552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Двухпартий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две партии, сменяющие друг друг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916360" y="3716280"/>
            <a:ext cx="367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Многопартий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есколько крупных политических парт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4788000" y="2205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 flipH="1">
            <a:off x="3132000" y="2133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6227640" y="2133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584000" y="3716280"/>
            <a:ext cx="137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3875760" y="5013360"/>
            <a:ext cx="18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т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6416640" y="3693960"/>
            <a:ext cx="2824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ликобр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п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знаки политической парт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-360" y="1773360"/>
            <a:ext cx="9143640" cy="696600"/>
            <a:chOff x="-360" y="1773360"/>
            <a:chExt cx="9143640" cy="696600"/>
          </a:xfrm>
        </p:grpSpPr>
        <p:sp>
          <p:nvSpPr>
            <p:cNvPr id="263" name="AutoShape 4"/>
            <p:cNvSpPr/>
            <p:nvPr/>
          </p:nvSpPr>
          <p:spPr>
            <a:xfrm>
              <a:off x="352800" y="1773360"/>
              <a:ext cx="8790480" cy="696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5"/>
            <p:cNvSpPr/>
            <p:nvPr/>
          </p:nvSpPr>
          <p:spPr>
            <a:xfrm>
              <a:off x="650520" y="1869120"/>
              <a:ext cx="761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ситель определённой идеолог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6"/>
            <p:cNvGrpSpPr/>
            <p:nvPr/>
          </p:nvGrpSpPr>
          <p:grpSpPr>
            <a:xfrm>
              <a:off x="-360" y="1831680"/>
              <a:ext cx="768600" cy="620640"/>
              <a:chOff x="-360" y="1831680"/>
              <a:chExt cx="768600" cy="620640"/>
            </a:xfrm>
          </p:grpSpPr>
          <p:grpSp>
            <p:nvGrpSpPr>
              <p:cNvPr id="266" name="Group 7"/>
              <p:cNvGrpSpPr/>
              <p:nvPr/>
            </p:nvGrpSpPr>
            <p:grpSpPr>
              <a:xfrm>
                <a:off x="-360" y="1831680"/>
                <a:ext cx="768600" cy="620640"/>
                <a:chOff x="-360" y="1831680"/>
                <a:chExt cx="768600" cy="620640"/>
              </a:xfrm>
            </p:grpSpPr>
            <p:pic>
              <p:nvPicPr>
                <p:cNvPr id="267" name="Picture 8" descr="Picture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4720" y="2341800"/>
                  <a:ext cx="6642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Oval 9"/>
                <p:cNvSpPr/>
                <p:nvPr/>
              </p:nvSpPr>
              <p:spPr>
                <a:xfrm flipH="1">
                  <a:off x="-720" y="1831680"/>
                  <a:ext cx="768600" cy="55404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0"/>
                <p:cNvSpPr/>
                <p:nvPr/>
              </p:nvSpPr>
              <p:spPr>
                <a:xfrm flipH="1">
                  <a:off x="20160" y="1843920"/>
                  <a:ext cx="733680" cy="52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6100"/>
                    </a:gs>
                    <a:gs pos="100000">
                      <a:srgbClr val="ff9900">
                        <a:alpha val="85098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0" name="Picture 11" descr="Picture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640" y="1835640"/>
                  <a:ext cx="502560" cy="362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71" name="Text Box 12"/>
              <p:cNvSpPr/>
              <p:nvPr/>
            </p:nvSpPr>
            <p:spPr>
              <a:xfrm>
                <a:off x="195480" y="1864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Group 13"/>
          <p:cNvGrpSpPr/>
          <p:nvPr/>
        </p:nvGrpSpPr>
        <p:grpSpPr>
          <a:xfrm>
            <a:off x="-360" y="2637000"/>
            <a:ext cx="9148320" cy="719640"/>
            <a:chOff x="-360" y="2637000"/>
            <a:chExt cx="9148320" cy="719640"/>
          </a:xfrm>
        </p:grpSpPr>
        <p:sp>
          <p:nvSpPr>
            <p:cNvPr id="273" name="AutoShape 14"/>
            <p:cNvSpPr/>
            <p:nvPr/>
          </p:nvSpPr>
          <p:spPr>
            <a:xfrm>
              <a:off x="356040" y="2637000"/>
              <a:ext cx="8791920" cy="695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3da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>
              <a:off x="653760" y="2737080"/>
              <a:ext cx="84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ованность, наличие определённой структ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16"/>
            <p:cNvGrpSpPr/>
            <p:nvPr/>
          </p:nvGrpSpPr>
          <p:grpSpPr>
            <a:xfrm>
              <a:off x="-360" y="2737080"/>
              <a:ext cx="768600" cy="619560"/>
              <a:chOff x="-360" y="2737080"/>
              <a:chExt cx="768600" cy="619560"/>
            </a:xfrm>
          </p:grpSpPr>
          <p:grpSp>
            <p:nvGrpSpPr>
              <p:cNvPr id="276" name="Group 17"/>
              <p:cNvGrpSpPr/>
              <p:nvPr/>
            </p:nvGrpSpPr>
            <p:grpSpPr>
              <a:xfrm>
                <a:off x="-360" y="2737080"/>
                <a:ext cx="768600" cy="619560"/>
                <a:chOff x="-360" y="2737080"/>
                <a:chExt cx="768600" cy="619560"/>
              </a:xfrm>
            </p:grpSpPr>
            <p:pic>
              <p:nvPicPr>
                <p:cNvPr id="277" name="Picture 18" descr="Picture2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4720" y="3246480"/>
                  <a:ext cx="664200" cy="11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Oval 19"/>
                <p:cNvSpPr/>
                <p:nvPr/>
              </p:nvSpPr>
              <p:spPr>
                <a:xfrm flipH="1">
                  <a:off x="-720" y="2737080"/>
                  <a:ext cx="768600" cy="55296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20"/>
                <p:cNvSpPr/>
                <p:nvPr/>
              </p:nvSpPr>
              <p:spPr>
                <a:xfrm flipH="1">
                  <a:off x="20160" y="2749320"/>
                  <a:ext cx="733680" cy="5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9d11"/>
                    </a:gs>
                    <a:gs pos="100000">
                      <a:srgbClr val="fcf71a">
                        <a:alpha val="85098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80" name="Picture 21" descr="Picture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33640" y="2741040"/>
                  <a:ext cx="502560" cy="361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81" name="Text Box 22"/>
              <p:cNvSpPr/>
              <p:nvPr/>
            </p:nvSpPr>
            <p:spPr>
              <a:xfrm>
                <a:off x="195840" y="27698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23"/>
          <p:cNvGrpSpPr/>
          <p:nvPr/>
        </p:nvGrpSpPr>
        <p:grpSpPr>
          <a:xfrm>
            <a:off x="1080" y="3429000"/>
            <a:ext cx="9142560" cy="925560"/>
            <a:chOff x="1080" y="3429000"/>
            <a:chExt cx="9142560" cy="925560"/>
          </a:xfrm>
        </p:grpSpPr>
        <p:sp>
          <p:nvSpPr>
            <p:cNvPr id="283" name="AutoShape 24"/>
            <p:cNvSpPr/>
            <p:nvPr/>
          </p:nvSpPr>
          <p:spPr>
            <a:xfrm>
              <a:off x="351720" y="3429000"/>
              <a:ext cx="8791920" cy="6962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5"/>
            <p:cNvSpPr/>
            <p:nvPr/>
          </p:nvSpPr>
          <p:spPr>
            <a:xfrm>
              <a:off x="649440" y="3529080"/>
              <a:ext cx="838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ичие программных документов – Устава и Програм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6"/>
            <p:cNvGrpSpPr/>
            <p:nvPr/>
          </p:nvGrpSpPr>
          <p:grpSpPr>
            <a:xfrm>
              <a:off x="1080" y="3526560"/>
              <a:ext cx="768600" cy="619920"/>
              <a:chOff x="1080" y="3526560"/>
              <a:chExt cx="768600" cy="619920"/>
            </a:xfrm>
          </p:grpSpPr>
          <p:sp>
            <p:nvSpPr>
              <p:cNvPr id="286" name="Text Box 27"/>
              <p:cNvSpPr/>
              <p:nvPr/>
            </p:nvSpPr>
            <p:spPr>
              <a:xfrm>
                <a:off x="177840" y="3570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28"/>
              <p:cNvGrpSpPr/>
              <p:nvPr/>
            </p:nvGrpSpPr>
            <p:grpSpPr>
              <a:xfrm>
                <a:off x="1080" y="3526560"/>
                <a:ext cx="768600" cy="619920"/>
                <a:chOff x="1080" y="3526560"/>
                <a:chExt cx="768600" cy="619920"/>
              </a:xfrm>
            </p:grpSpPr>
            <p:pic>
              <p:nvPicPr>
                <p:cNvPr id="288" name="Picture 29" descr="Picture2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6160" y="4036320"/>
                  <a:ext cx="664200" cy="11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Oval 30"/>
                <p:cNvSpPr/>
                <p:nvPr/>
              </p:nvSpPr>
              <p:spPr>
                <a:xfrm flipH="1">
                  <a:off x="720" y="3526560"/>
                  <a:ext cx="768600" cy="553680"/>
                </a:xfrm>
                <a:prstGeom prst="ellips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31"/>
                <p:cNvSpPr/>
                <p:nvPr/>
              </p:nvSpPr>
              <p:spPr>
                <a:xfrm flipH="1">
                  <a:off x="21600" y="3538800"/>
                  <a:ext cx="733680" cy="52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a9147"/>
                    </a:gs>
                    <a:gs pos="100000">
                      <a:srgbClr val="10e470">
                        <a:alpha val="85098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91" name="Picture 32" descr="Picture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35080" y="3530520"/>
                  <a:ext cx="502560" cy="362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92" name="Text Box 33"/>
              <p:cNvSpPr/>
              <p:nvPr/>
            </p:nvSpPr>
            <p:spPr>
              <a:xfrm>
                <a:off x="197280" y="3560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 34"/>
          <p:cNvGrpSpPr/>
          <p:nvPr/>
        </p:nvGrpSpPr>
        <p:grpSpPr>
          <a:xfrm>
            <a:off x="-5040" y="4253040"/>
            <a:ext cx="9148320" cy="848160"/>
            <a:chOff x="-5040" y="4253040"/>
            <a:chExt cx="9148320" cy="848160"/>
          </a:xfrm>
        </p:grpSpPr>
        <p:sp>
          <p:nvSpPr>
            <p:cNvPr id="294" name="AutoShape 35"/>
            <p:cNvSpPr/>
            <p:nvPr/>
          </p:nvSpPr>
          <p:spPr>
            <a:xfrm>
              <a:off x="351360" y="4253040"/>
              <a:ext cx="8791920" cy="696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6"/>
            <p:cNvSpPr/>
            <p:nvPr/>
          </p:nvSpPr>
          <p:spPr>
            <a:xfrm>
              <a:off x="649080" y="4275720"/>
              <a:ext cx="848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ичие собственного имущества, финансовых средств, С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37"/>
            <p:cNvGrpSpPr/>
            <p:nvPr/>
          </p:nvGrpSpPr>
          <p:grpSpPr>
            <a:xfrm>
              <a:off x="-5040" y="4350960"/>
              <a:ext cx="768600" cy="621360"/>
              <a:chOff x="-5040" y="4350960"/>
              <a:chExt cx="768600" cy="621360"/>
            </a:xfrm>
          </p:grpSpPr>
          <p:sp>
            <p:nvSpPr>
              <p:cNvPr id="297" name="Text Box 38"/>
              <p:cNvSpPr/>
              <p:nvPr/>
            </p:nvSpPr>
            <p:spPr>
              <a:xfrm>
                <a:off x="177840" y="4396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Group 39"/>
              <p:cNvGrpSpPr/>
              <p:nvPr/>
            </p:nvGrpSpPr>
            <p:grpSpPr>
              <a:xfrm>
                <a:off x="-5040" y="4350960"/>
                <a:ext cx="768600" cy="621360"/>
                <a:chOff x="-5040" y="4350960"/>
                <a:chExt cx="768600" cy="621360"/>
              </a:xfrm>
            </p:grpSpPr>
            <p:pic>
              <p:nvPicPr>
                <p:cNvPr id="299" name="Picture 40" descr="Picture2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0040" y="4861800"/>
                  <a:ext cx="6642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0" name="Oval 41"/>
                <p:cNvSpPr/>
                <p:nvPr/>
              </p:nvSpPr>
              <p:spPr>
                <a:xfrm flipH="1">
                  <a:off x="-5400" y="4350960"/>
                  <a:ext cx="768600" cy="554760"/>
                </a:xfrm>
                <a:prstGeom prst="ellipse">
                  <a:avLst/>
                </a:pr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42"/>
                <p:cNvSpPr/>
                <p:nvPr/>
              </p:nvSpPr>
              <p:spPr>
                <a:xfrm flipH="1">
                  <a:off x="15480" y="4363200"/>
                  <a:ext cx="733680" cy="52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369e"/>
                    </a:gs>
                    <a:gs pos="100000">
                      <a:srgbClr val="ca55f9">
                        <a:alpha val="85098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2" name="Picture 43" descr="Picture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28960" y="4354920"/>
                  <a:ext cx="502560" cy="36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03" name="Text Box 44"/>
              <p:cNvSpPr/>
              <p:nvPr/>
            </p:nvSpPr>
            <p:spPr>
              <a:xfrm>
                <a:off x="191160" y="43840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Group 45"/>
          <p:cNvGrpSpPr/>
          <p:nvPr/>
        </p:nvGrpSpPr>
        <p:grpSpPr>
          <a:xfrm>
            <a:off x="-360" y="5084640"/>
            <a:ext cx="9135720" cy="717840"/>
            <a:chOff x="-360" y="5084640"/>
            <a:chExt cx="9135720" cy="717840"/>
          </a:xfrm>
        </p:grpSpPr>
        <p:sp>
          <p:nvSpPr>
            <p:cNvPr id="305" name="AutoShape 46"/>
            <p:cNvSpPr/>
            <p:nvPr/>
          </p:nvSpPr>
          <p:spPr>
            <a:xfrm>
              <a:off x="344160" y="5084640"/>
              <a:ext cx="8791200" cy="6958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4d98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47"/>
            <p:cNvSpPr/>
            <p:nvPr/>
          </p:nvSpPr>
          <p:spPr>
            <a:xfrm>
              <a:off x="642240" y="5184720"/>
              <a:ext cx="76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ичие собственной символ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48"/>
            <p:cNvGrpSpPr/>
            <p:nvPr/>
          </p:nvGrpSpPr>
          <p:grpSpPr>
            <a:xfrm>
              <a:off x="-360" y="5182920"/>
              <a:ext cx="768600" cy="619560"/>
              <a:chOff x="-360" y="5182920"/>
              <a:chExt cx="768600" cy="619560"/>
            </a:xfrm>
          </p:grpSpPr>
          <p:grpSp>
            <p:nvGrpSpPr>
              <p:cNvPr id="308" name="Group 49"/>
              <p:cNvGrpSpPr/>
              <p:nvPr/>
            </p:nvGrpSpPr>
            <p:grpSpPr>
              <a:xfrm>
                <a:off x="-360" y="5182920"/>
                <a:ext cx="768600" cy="619560"/>
                <a:chOff x="-360" y="5182920"/>
                <a:chExt cx="768600" cy="619560"/>
              </a:xfrm>
            </p:grpSpPr>
            <p:pic>
              <p:nvPicPr>
                <p:cNvPr id="309" name="Picture 50" descr="Picture2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4720" y="5692320"/>
                  <a:ext cx="664200" cy="11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0" name="Oval 51"/>
                <p:cNvSpPr/>
                <p:nvPr/>
              </p:nvSpPr>
              <p:spPr>
                <a:xfrm flipH="1">
                  <a:off x="-720" y="5182920"/>
                  <a:ext cx="768600" cy="553320"/>
                </a:xfrm>
                <a:prstGeom prst="ellipse">
                  <a:avLst/>
                </a:prstGeom>
                <a:blipFill rotWithShape="0">
                  <a:blip r:embed="rId1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52"/>
                <p:cNvSpPr/>
                <p:nvPr/>
              </p:nvSpPr>
              <p:spPr>
                <a:xfrm flipH="1">
                  <a:off x="20160" y="5195160"/>
                  <a:ext cx="733680" cy="52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16190"/>
                    </a:gs>
                    <a:gs pos="100000">
                      <a:srgbClr val="4d98e3">
                        <a:alpha val="85098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2" name="Picture 53" descr="Picture1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33640" y="5186880"/>
                  <a:ext cx="50256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13" name="Text Box 54"/>
              <p:cNvSpPr/>
              <p:nvPr/>
            </p:nvSpPr>
            <p:spPr>
              <a:xfrm>
                <a:off x="195840" y="5215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Group 3"/>
          <p:cNvGrpSpPr/>
          <p:nvPr/>
        </p:nvGrpSpPr>
        <p:grpSpPr>
          <a:xfrm>
            <a:off x="-360" y="5950080"/>
            <a:ext cx="9143640" cy="696600"/>
            <a:chOff x="-360" y="5950080"/>
            <a:chExt cx="9143640" cy="696600"/>
          </a:xfrm>
        </p:grpSpPr>
        <p:sp>
          <p:nvSpPr>
            <p:cNvPr id="315" name="AutoShape 4"/>
            <p:cNvSpPr/>
            <p:nvPr/>
          </p:nvSpPr>
          <p:spPr>
            <a:xfrm>
              <a:off x="352800" y="5950080"/>
              <a:ext cx="8790480" cy="696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650520" y="6045840"/>
              <a:ext cx="761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емление к завоеванию вл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6"/>
            <p:cNvGrpSpPr/>
            <p:nvPr/>
          </p:nvGrpSpPr>
          <p:grpSpPr>
            <a:xfrm>
              <a:off x="-360" y="6008400"/>
              <a:ext cx="768600" cy="620640"/>
              <a:chOff x="-360" y="6008400"/>
              <a:chExt cx="768600" cy="620640"/>
            </a:xfrm>
          </p:grpSpPr>
          <p:grpSp>
            <p:nvGrpSpPr>
              <p:cNvPr id="318" name="Group 7"/>
              <p:cNvGrpSpPr/>
              <p:nvPr/>
            </p:nvGrpSpPr>
            <p:grpSpPr>
              <a:xfrm>
                <a:off x="-360" y="6008400"/>
                <a:ext cx="768600" cy="620640"/>
                <a:chOff x="-360" y="6008400"/>
                <a:chExt cx="768600" cy="620640"/>
              </a:xfrm>
            </p:grpSpPr>
            <p:pic>
              <p:nvPicPr>
                <p:cNvPr id="319" name="Picture 8" descr="Picture2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4720" y="6518520"/>
                  <a:ext cx="6642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Oval 9"/>
                <p:cNvSpPr/>
                <p:nvPr/>
              </p:nvSpPr>
              <p:spPr>
                <a:xfrm flipH="1">
                  <a:off x="-720" y="6008400"/>
                  <a:ext cx="768600" cy="554040"/>
                </a:xfrm>
                <a:prstGeom prst="ellipse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10"/>
                <p:cNvSpPr/>
                <p:nvPr/>
              </p:nvSpPr>
              <p:spPr>
                <a:xfrm flipH="1">
                  <a:off x="20160" y="6020640"/>
                  <a:ext cx="733680" cy="52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6100"/>
                    </a:gs>
                    <a:gs pos="100000">
                      <a:srgbClr val="ff9900">
                        <a:alpha val="85098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2" name="Picture 11" descr="Picture1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233640" y="6012360"/>
                  <a:ext cx="502560" cy="362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23" name="Text Box 12"/>
              <p:cNvSpPr/>
              <p:nvPr/>
            </p:nvSpPr>
            <p:spPr>
              <a:xfrm>
                <a:off x="195480" y="60411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circl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уктура политической парт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Diagram 2"/>
          <p:cNvGrpSpPr/>
          <p:nvPr/>
        </p:nvGrpSpPr>
        <p:grpSpPr>
          <a:xfrm>
            <a:off x="2451240" y="1996560"/>
            <a:ext cx="4311360" cy="3733920"/>
            <a:chOff x="2451240" y="1996560"/>
            <a:chExt cx="4311360" cy="3733920"/>
          </a:xfrm>
        </p:grpSpPr>
        <p:sp>
          <p:nvSpPr>
            <p:cNvPr id="326" name="_s1028"/>
            <p:cNvSpPr/>
            <p:nvPr/>
          </p:nvSpPr>
          <p:spPr>
            <a:xfrm flipV="1">
              <a:off x="4067280" y="1996200"/>
              <a:ext cx="1079280" cy="933480"/>
            </a:xfrm>
            <a:custGeom>
              <a:avLst/>
              <a:gdLst>
                <a:gd name="textAreaLeft" fmla="*/ 387360 w 1079280"/>
                <a:gd name="textAreaRight" fmla="*/ 691920 w 1079280"/>
                <a:gd name="textAreaTop" fmla="*/ 334800 h 933480"/>
                <a:gd name="textAreaBottom" fmla="*/ 59868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1029"/>
            <p:cNvSpPr/>
            <p:nvPr/>
          </p:nvSpPr>
          <p:spPr>
            <a:xfrm flipV="1">
              <a:off x="3529080" y="2929680"/>
              <a:ext cx="2155680" cy="933480"/>
            </a:xfrm>
            <a:custGeom>
              <a:avLst/>
              <a:gdLst>
                <a:gd name="textAreaLeft" fmla="*/ 474120 w 2155680"/>
                <a:gd name="textAreaRight" fmla="*/ 1681560 w 2155680"/>
                <a:gd name="textAreaTop" fmla="*/ 205200 h 933480"/>
                <a:gd name="textAreaBottom" fmla="*/ 72828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66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ий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кти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_s1030"/>
            <p:cNvSpPr/>
            <p:nvPr/>
          </p:nvSpPr>
          <p:spPr>
            <a:xfrm flipV="1">
              <a:off x="2990880" y="3863160"/>
              <a:ext cx="3232080" cy="933480"/>
            </a:xfrm>
            <a:custGeom>
              <a:avLst/>
              <a:gdLst>
                <a:gd name="textAreaLeft" fmla="*/ 560880 w 3232080"/>
                <a:gd name="textAreaRight" fmla="*/ 2671200 w 3232080"/>
                <a:gd name="textAreaTop" fmla="*/ 162000 h 933480"/>
                <a:gd name="textAreaBottom" fmla="*/ 77148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ядов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лены парт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_s1031"/>
            <p:cNvSpPr/>
            <p:nvPr/>
          </p:nvSpPr>
          <p:spPr>
            <a:xfrm flipV="1">
              <a:off x="2451240" y="4796640"/>
              <a:ext cx="4311360" cy="933480"/>
            </a:xfrm>
            <a:custGeom>
              <a:avLst/>
              <a:gdLst>
                <a:gd name="textAreaLeft" fmla="*/ 648720 w 4311360"/>
                <a:gd name="textAreaRight" fmla="*/ 3662640 w 4311360"/>
                <a:gd name="textAreaTop" fmla="*/ 140400 h 933480"/>
                <a:gd name="textAreaBottom" fmla="*/ 79308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торон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AutoShape 11"/>
          <p:cNvSpPr/>
          <p:nvPr/>
        </p:nvSpPr>
        <p:spPr>
          <a:xfrm>
            <a:off x="6519960" y="1946160"/>
            <a:ext cx="2084400" cy="7621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0976"/>
              <a:gd name="adj5" fmla="val 77865"/>
              <a:gd name="adj6" fmla="val -79666"/>
            </a:avLst>
          </a:prstGeom>
          <a:gradFill rotWithShape="0">
            <a:gsLst>
              <a:gs pos="0">
                <a:srgbClr val="ffcc99"/>
              </a:gs>
              <a:gs pos="50000">
                <a:srgbClr val="ffe4c8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(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ункции политической парт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108000" y="1773360"/>
            <a:ext cx="8928000" cy="9349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99"/>
              </a:gs>
              <a:gs pos="100000">
                <a:srgbClr val="ffe5cb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средническая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редставительство интересов соци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  и слоёв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108000" y="2997360"/>
            <a:ext cx="8928000" cy="9349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99"/>
              </a:gs>
              <a:gs pos="100000">
                <a:srgbClr val="ffe5cb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орьба за власть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частие в избирательных кампания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формировании органов государственной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108000" y="4221000"/>
            <a:ext cx="8928000" cy="9352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99"/>
              </a:gs>
              <a:gs pos="100000">
                <a:srgbClr val="ffe5cb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деологическ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работка и осуществление партий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, пропаганда своих идей, формирование электо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108000" y="5516640"/>
            <a:ext cx="8928000" cy="10080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99"/>
              </a:gs>
              <a:gs pos="100000">
                <a:srgbClr val="ffe5cb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грационн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сглаживание конфликтов, соглас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ов борющихся сил, политическая стабил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ункции политической парт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131760" y="4365720"/>
            <a:ext cx="8785080" cy="10792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99"/>
              </a:gs>
              <a:gs pos="100000">
                <a:srgbClr val="ffe5cb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рмативн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разработка, применение и внедрение прав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отношений политических институтов (межпарти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я, партийные коалиции, союзы и бло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139680" y="5589720"/>
            <a:ext cx="8785080" cy="11509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99"/>
              </a:gs>
              <a:gs pos="100000">
                <a:srgbClr val="ffe5cb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ая социализация лич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спитание пре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ов и формирование политической культуры гражд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131760" y="3213000"/>
            <a:ext cx="8929800" cy="9352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99"/>
              </a:gs>
              <a:gs pos="100000">
                <a:srgbClr val="ffe5cb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ое рекрутирование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полнение партии н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ами  и формирование  политической эл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108000" y="1700280"/>
            <a:ext cx="8928000" cy="1297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99"/>
              </a:gs>
              <a:gs pos="100000">
                <a:srgbClr val="ffe5cb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ммуникативная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связи масс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ми структурами, институал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ого участия граж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артийная сист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21"/>
          <p:cNvSpPr/>
          <p:nvPr/>
        </p:nvSpPr>
        <p:spPr>
          <a:xfrm>
            <a:off x="539640" y="1916280"/>
            <a:ext cx="806472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29b74"/>
              </a:gs>
              <a:gs pos="100000">
                <a:srgbClr val="ffcc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ые связи и отношения поли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й различного типа друг с другом, а так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осударством и другими политическ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ту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2"/>
          <p:cNvSpPr/>
          <p:nvPr/>
        </p:nvSpPr>
        <p:spPr>
          <a:xfrm>
            <a:off x="611280" y="4365720"/>
            <a:ext cx="806436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29b74"/>
              </a:gs>
              <a:gs pos="100000">
                <a:srgbClr val="ffcc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всех политических парт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ющих в данной стране,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отношения друг с дру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3:38:01Z</dcterms:created>
  <dc:creator>Первый</dc:creator>
  <dc:description/>
  <dc:language>en-US</dc:language>
  <cp:lastModifiedBy>Ирина</cp:lastModifiedBy>
  <dcterms:modified xsi:type="dcterms:W3CDTF">2017-08-24T09:50:17Z</dcterms:modified>
  <cp:revision>36</cp:revision>
  <dc:subject/>
  <dc:title>Слайд 1</dc:title>
</cp:coreProperties>
</file>