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2D0B-BC2E-40B8-B42A-AAC7A9919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F620-0A12-46AC-8EED-5669CB5C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8DDC-0062-409E-B5E6-6F2D35E96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0BD5-BC70-4550-8DAD-9E7E8BA9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9C728-151D-43DB-AB85-A614E6168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D702-C315-4383-B77D-308FA4C28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FF05-2186-4C00-8BC1-0180D0768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FD67-739F-4940-A57D-D3403CBF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50F2-7A0C-48F8-988B-59C60622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F681-62CE-4ACC-91AC-11A27CC9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191E-E052-4126-9709-EC2F9905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D979-44BC-4ACD-B3C1-63FACAFD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D6B7-5978-4F97-B8F2-C53BF317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84F2-5637-4D0D-B59B-160A570A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0836-6808-4591-84AC-901797933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6124F-374B-4206-AC15-68F6D68F2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2726B-EAEE-4F57-92AE-1BEA349FD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3EDB-FD74-4637-9D58-FB5DFF78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0AF8-8668-471D-B7D0-134300B5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F0BB-ED01-4B21-8D9B-2F7A6AA1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669D-E634-4BA3-8DA5-064063C6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6A78-1985-48E0-B1ED-11B619F3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42EB-BA65-4844-8DAF-29CE0D60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FA70-A268-4861-8B52-6E96FA68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5DDC-B271-4A66-ACA9-245880B0A4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bb59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86780-6CA3-4357-9CCD-E7AE2433E2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a22002.rimg.info/icon/19898230008c237036fa53e5afccf665566844e7cd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Картинка 44 из 3883">
            <a:hlinkClick r:id="rId1"/>
          </p:cNvPr>
          <p:cNvPicPr/>
          <p:nvPr/>
        </p:nvPicPr>
        <p:blipFill>
          <a:blip r:embed="rId2"/>
          <a:srcRect l="0" t="4668" r="0" b="466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3" descr=""/>
          <p:cNvPicPr/>
          <p:nvPr/>
        </p:nvPicPr>
        <p:blipFill>
          <a:blip r:embed="rId3"/>
          <a:stretch/>
        </p:blipFill>
        <p:spPr>
          <a:xfrm>
            <a:off x="109440" y="103320"/>
            <a:ext cx="9034560" cy="265248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4"/>
          <p:cNvSpPr/>
          <p:nvPr/>
        </p:nvSpPr>
        <p:spPr>
          <a:xfrm>
            <a:off x="3276720" y="4869000"/>
            <a:ext cx="5692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воё знание принадлежит душе, </a:t>
            </a:r>
            <a:br>
              <a:rPr sz="2800"/>
            </a:b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воё богатство принадлежит лишь те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рабское изре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0920" y="150480"/>
            <a:ext cx="903636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953735"/>
                </a:solidFill>
                <a:uFillTx/>
                <a:latin typeface="Times New Roman"/>
                <a:ea typeface="Times New Roman"/>
              </a:rPr>
              <a:t>Знание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результат познания. </a:t>
            </a:r>
            <a:br>
              <a:rPr sz="3200"/>
            </a:b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знание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 постижения   действительности, накопления и осмысления данных,  полученных в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е взаимодействия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ловека с окружающим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ом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44280" y="3716280"/>
            <a:ext cx="91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ознание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ятельно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ая на получ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х зна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C:\Users\Владелец\Desktop\knowledge1.jpg"/>
          <p:cNvPicPr/>
          <p:nvPr/>
        </p:nvPicPr>
        <p:blipFill>
          <a:blip r:embed="rId1"/>
          <a:stretch/>
        </p:blipFill>
        <p:spPr>
          <a:xfrm>
            <a:off x="5508720" y="2060640"/>
            <a:ext cx="356400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0440" y="224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onotype Corsiva"/>
              </a:rPr>
              <a:t>Проблема познаваемост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85760" y="4221000"/>
            <a:ext cx="2370240" cy="225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ссимист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рицаю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вае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3357360" y="4292640"/>
            <a:ext cx="2230560" cy="2288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ми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ю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и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иаль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"/>
          <p:cNvSpPr/>
          <p:nvPr/>
        </p:nvSpPr>
        <p:spPr>
          <a:xfrm>
            <a:off x="6497280" y="4262400"/>
            <a:ext cx="2555280" cy="2350080"/>
          </a:xfrm>
          <a:prstGeom prst="rect">
            <a:avLst/>
          </a:prstGeom>
          <a:solidFill>
            <a:srgbClr val="bfbfb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еп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ерждаю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позна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, выраж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н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остовер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ного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Прямая со стрелкой 7"/>
          <p:cNvCxnSpPr/>
          <p:nvPr/>
        </p:nvCxnSpPr>
        <p:spPr>
          <a:xfrm flipH="1">
            <a:off x="1258200" y="3111480"/>
            <a:ext cx="927720" cy="1110240"/>
          </a:xfrm>
          <a:prstGeom prst="straightConnector1">
            <a:avLst/>
          </a:prstGeom>
          <a:ln w="76320">
            <a:solidFill>
              <a:srgbClr val="595959"/>
            </a:solidFill>
            <a:miter/>
            <a:tailEnd len="med" type="arrow" w="med"/>
          </a:ln>
        </p:spPr>
      </p:cxnSp>
      <p:cxnSp>
        <p:nvCxnSpPr>
          <p:cNvPr id="93" name="Прямая со стрелкой 9"/>
          <p:cNvCxnSpPr/>
          <p:nvPr/>
        </p:nvCxnSpPr>
        <p:spPr>
          <a:xfrm flipH="1">
            <a:off x="4569840" y="3111120"/>
            <a:ext cx="5400" cy="1181880"/>
          </a:xfrm>
          <a:prstGeom prst="straightConnector1">
            <a:avLst/>
          </a:prstGeom>
          <a:ln w="76320">
            <a:solidFill>
              <a:srgbClr val="595959"/>
            </a:solidFill>
            <a:miter/>
            <a:tailEnd len="med" type="arrow" w="med"/>
          </a:ln>
        </p:spPr>
      </p:cxnSp>
      <p:cxnSp>
        <p:nvCxnSpPr>
          <p:cNvPr id="94" name="Прямая со стрелкой 13"/>
          <p:cNvCxnSpPr/>
          <p:nvPr/>
        </p:nvCxnSpPr>
        <p:spPr>
          <a:xfrm>
            <a:off x="7235640" y="3111480"/>
            <a:ext cx="865800" cy="1110240"/>
          </a:xfrm>
          <a:prstGeom prst="straightConnector1">
            <a:avLst/>
          </a:prstGeom>
          <a:ln w="76320">
            <a:solidFill>
              <a:srgbClr val="595959"/>
            </a:solidFill>
            <a:miter/>
            <a:tailEnd len="med" type="arrow" w="med"/>
          </a:ln>
        </p:spPr>
      </p:cxnSp>
      <p:sp>
        <p:nvSpPr>
          <p:cNvPr id="95" name="Прямоугольник 1"/>
          <p:cNvSpPr/>
          <p:nvPr/>
        </p:nvSpPr>
        <p:spPr>
          <a:xfrm>
            <a:off x="34920" y="189000"/>
            <a:ext cx="910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а познаваемости происходит из реальных трудностей познания. В своих подходах к данной теме учёные разделились на оптимистов, пессимистов, скепт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36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Monotype Corsiva"/>
              </a:rPr>
              <a:t>Процесс познания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93400" y="1785960"/>
            <a:ext cx="271224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6083280" y="1785960"/>
            <a:ext cx="257796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3777840" y="1785960"/>
            <a:ext cx="1559880" cy="4597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6"/>
          <p:cNvSpPr/>
          <p:nvPr/>
        </p:nvSpPr>
        <p:spPr>
          <a:xfrm>
            <a:off x="214200" y="3000240"/>
            <a:ext cx="1785960" cy="1739880"/>
          </a:xfrm>
          <a:prstGeom prst="rect">
            <a:avLst/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нающий человек, наделённый волей и сознанием, или коллекти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2286000" y="3143160"/>
            <a:ext cx="1285920" cy="642600"/>
          </a:xfrm>
          <a:prstGeom prst="rect">
            <a:avLst/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ё 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8"/>
          <p:cNvSpPr/>
          <p:nvPr/>
        </p:nvSpPr>
        <p:spPr>
          <a:xfrm>
            <a:off x="1143000" y="5357880"/>
            <a:ext cx="7143840" cy="1099440"/>
          </a:xfrm>
          <a:prstGeom prst="rect">
            <a:avLst/>
          </a:prstGeom>
          <a:solidFill>
            <a:srgbClr val="ffc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Monotype Corsiva"/>
              </a:rPr>
              <a:t>Зн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"/>
          <p:cNvSpPr/>
          <p:nvPr/>
        </p:nvSpPr>
        <p:spPr>
          <a:xfrm>
            <a:off x="5500800" y="2857680"/>
            <a:ext cx="1714320" cy="2014200"/>
          </a:xfrm>
          <a:prstGeom prst="rect">
            <a:avLst/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наваемый предмет (процесс, явление, внутреннее состояние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7358040" y="3500280"/>
            <a:ext cx="1571760" cy="916920"/>
          </a:xfrm>
          <a:prstGeom prst="rect">
            <a:avLst/>
          </a:prstGeom>
          <a:solidFill>
            <a:srgbClr val="d9d9d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сь окружающий м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Прямая со стрелкой 12"/>
          <p:cNvCxnSpPr/>
          <p:nvPr/>
        </p:nvCxnSpPr>
        <p:spPr>
          <a:xfrm flipH="1">
            <a:off x="1649160" y="984240"/>
            <a:ext cx="1421280" cy="6595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06" name="Прямая со стрелкой 15"/>
          <p:cNvCxnSpPr/>
          <p:nvPr/>
        </p:nvCxnSpPr>
        <p:spPr>
          <a:xfrm flipH="1">
            <a:off x="4500000" y="1142640"/>
            <a:ext cx="1080" cy="5007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107" name="Прямая со стрелкой 17"/>
          <p:cNvCxnSpPr/>
          <p:nvPr/>
        </p:nvCxnSpPr>
        <p:spPr>
          <a:xfrm flipH="1">
            <a:off x="4500000" y="2428560"/>
            <a:ext cx="1080" cy="27154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08" name="Прямая со стрелкой 19"/>
          <p:cNvCxnSpPr/>
          <p:nvPr/>
        </p:nvCxnSpPr>
        <p:spPr>
          <a:xfrm flipH="1">
            <a:off x="1142280" y="2357280"/>
            <a:ext cx="1080" cy="5011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09" name="Прямая со стрелкой 20"/>
          <p:cNvCxnSpPr/>
          <p:nvPr/>
        </p:nvCxnSpPr>
        <p:spPr>
          <a:xfrm flipH="1">
            <a:off x="2714040" y="2357280"/>
            <a:ext cx="1080" cy="6433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10" name="Прямая со стрелкой 22"/>
          <p:cNvCxnSpPr/>
          <p:nvPr/>
        </p:nvCxnSpPr>
        <p:spPr>
          <a:xfrm>
            <a:off x="6227280" y="1052280"/>
            <a:ext cx="1297800" cy="6483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11" name="Прямая со стрелкой 24"/>
          <p:cNvCxnSpPr/>
          <p:nvPr/>
        </p:nvCxnSpPr>
        <p:spPr>
          <a:xfrm flipH="1">
            <a:off x="6428520" y="2356920"/>
            <a:ext cx="2520" cy="4294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112" name="Прямая со стрелкой 25"/>
          <p:cNvCxnSpPr/>
          <p:nvPr/>
        </p:nvCxnSpPr>
        <p:spPr>
          <a:xfrm flipH="1">
            <a:off x="8143200" y="2356920"/>
            <a:ext cx="1080" cy="10011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3"/>
          <p:cNvSpPr/>
          <p:nvPr/>
        </p:nvSpPr>
        <p:spPr>
          <a:xfrm>
            <a:off x="34920" y="2859120"/>
            <a:ext cx="2736720" cy="3080880"/>
          </a:xfrm>
          <a:prstGeom prst="rect">
            <a:avLst/>
          </a:prstGeom>
          <a:solidFill>
            <a:srgbClr val="e6b9b8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щу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возникают в результате непосредствен-ного воздействия предмета на органы чув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TextBox 6" descr=""/>
          <p:cNvPicPr/>
          <p:nvPr/>
        </p:nvPicPr>
        <p:blipFill>
          <a:blip r:embed="rId1"/>
          <a:stretch/>
        </p:blipFill>
        <p:spPr>
          <a:xfrm>
            <a:off x="1944720" y="1042920"/>
            <a:ext cx="5248080" cy="274788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3268800" y="3573360"/>
            <a:ext cx="2808000" cy="2715120"/>
          </a:xfrm>
          <a:prstGeom prst="rect">
            <a:avLst/>
          </a:prstGeom>
          <a:solidFill>
            <a:srgbClr val="e5e874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ри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остный образ предмета, сформированный из множества самых разных его свой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6473880" y="2716200"/>
            <a:ext cx="2663640" cy="3080880"/>
          </a:xfrm>
          <a:prstGeom prst="rect">
            <a:avLst/>
          </a:prstGeom>
          <a:solidFill>
            <a:srgbClr val="ccc1d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л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торичный образ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спроизведё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амятью и вызванно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сознании ощущ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ли восприят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hape 18"/>
          <p:cNvCxnSpPr/>
          <p:nvPr/>
        </p:nvCxnSpPr>
        <p:spPr>
          <a:xfrm flipV="1" rot="10800000">
            <a:off x="673920" y="1483200"/>
            <a:ext cx="1286640" cy="1375560"/>
          </a:xfrm>
          <a:prstGeom prst="bentConnector2">
            <a:avLst/>
          </a:prstGeom>
          <a:ln w="572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18" name="Соединительная линия уступом 22"/>
          <p:cNvCxnSpPr/>
          <p:nvPr/>
        </p:nvCxnSpPr>
        <p:spPr>
          <a:xfrm flipH="1" rot="16200000">
            <a:off x="4041360" y="2941560"/>
            <a:ext cx="1197360" cy="65520"/>
          </a:xfrm>
          <a:prstGeom prst="bentConnector3">
            <a:avLst>
              <a:gd name="adj1" fmla="val 49984"/>
            </a:avLst>
          </a:prstGeom>
          <a:ln w="572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19" name="Shape 29"/>
          <p:cNvCxnSpPr/>
          <p:nvPr/>
        </p:nvCxnSpPr>
        <p:spPr>
          <a:xfrm>
            <a:off x="7233840" y="1484280"/>
            <a:ext cx="964440" cy="1232280"/>
          </a:xfrm>
          <a:prstGeom prst="bentConnector2">
            <a:avLst/>
          </a:prstGeom>
          <a:ln w="572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20" name="Прямоугольник 10"/>
          <p:cNvSpPr/>
          <p:nvPr/>
        </p:nvSpPr>
        <p:spPr>
          <a:xfrm>
            <a:off x="250920" y="23184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енное познание осуществляется с помощью пяти основных чувств: зрения, слуха, осязания, обоняния и вк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Формы рационального позн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3417840" y="3808440"/>
            <a:ext cx="526752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 нового знания на основе имеющихся сужд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57200" y="3789360"/>
            <a:ext cx="296244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о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417840" y="2637000"/>
            <a:ext cx="5267520" cy="15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сль утверждающая или отрицающая нечто об объектах с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6"/>
          <p:cNvSpPr/>
          <p:nvPr/>
        </p:nvSpPr>
        <p:spPr>
          <a:xfrm>
            <a:off x="457200" y="2565360"/>
            <a:ext cx="296244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417840" y="1600200"/>
            <a:ext cx="5267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гически обобщённый образ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457200" y="1600200"/>
            <a:ext cx="2962440" cy="15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457200" y="278136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457200" y="40705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457200" y="6126120"/>
            <a:ext cx="8229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457200" y="1600200"/>
            <a:ext cx="0" cy="4525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3419640" y="1600200"/>
            <a:ext cx="0" cy="452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5"/>
          <p:cNvSpPr/>
          <p:nvPr/>
        </p:nvSpPr>
        <p:spPr>
          <a:xfrm>
            <a:off x="8686800" y="1600200"/>
            <a:ext cx="0" cy="4525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457200" y="508464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4"/>
          <p:cNvSpPr/>
          <p:nvPr/>
        </p:nvSpPr>
        <p:spPr>
          <a:xfrm>
            <a:off x="1067400" y="5316480"/>
            <a:ext cx="14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5"/>
          <p:cNvSpPr/>
          <p:nvPr/>
        </p:nvSpPr>
        <p:spPr>
          <a:xfrm>
            <a:off x="3416400" y="4978440"/>
            <a:ext cx="526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процесса познания, соответствующий действи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Прямоугольник 5"/>
          <p:cNvSpPr/>
          <p:nvPr/>
        </p:nvSpPr>
        <p:spPr>
          <a:xfrm>
            <a:off x="4500720" y="0"/>
            <a:ext cx="4643280" cy="68580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250920" y="1714680"/>
            <a:ext cx="3990960" cy="36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Сенсуализ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ое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по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вит чувствен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тельну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4714920" y="1714680"/>
            <a:ext cx="374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Рационализм</a:t>
            </a:r>
            <a:r>
              <a:rPr b="1" lang="ru-RU" sz="48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знает осново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пове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д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у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9:58:10Z</dcterms:created>
  <dc:creator>Владелец</dc:creator>
  <dc:description/>
  <dc:language>en-US</dc:language>
  <cp:lastModifiedBy>Надежда</cp:lastModifiedBy>
  <dcterms:modified xsi:type="dcterms:W3CDTF">2017-11-08T09:49:37Z</dcterms:modified>
  <cp:revision>37</cp:revision>
  <dc:subject/>
  <dc:title>САМОПОЗНАНИЕ</dc:title>
</cp:coreProperties>
</file>