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C9EC-DA3E-4DFF-8D61-C0324136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C362-A58E-413D-AAC5-4A71A599D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2E48-2EB0-4C6C-8909-F6DE71C1E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EF8A-B24C-41E7-9424-C1F0E0ADC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4FA8-274A-45AA-9E9D-539934C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9829-E6D1-436F-A690-B399D9D9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D546E-9F86-40C8-BBF7-DC95C497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B261-5626-4456-B568-610882C9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2870-1518-439C-905E-7176C124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1DCE-1C7A-47E6-80F5-DE2F99C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47D0-81E8-490B-8700-EC345575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B745-B31E-4FC9-93BF-849F8A75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B358-095F-425B-9C5D-F98FEEFF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7B30-EDBF-4C59-8BB5-2873BD4D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535F-6407-4F8A-9B37-1C360885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6684-A883-43B1-8AE5-21CACEAF3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6233-B065-4EE2-9906-0D5A7AE9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2EC-64D7-455B-8899-C4D8458F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A246-45BF-4126-BB95-9EE2771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9F1-217B-4A74-8381-CB013785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CE0-29F7-4D03-9845-0726B5E4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94A-CAAB-4291-A267-C9B0E697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69F-F5C9-481F-94B1-BD136510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47C7-1D84-491F-8CA9-E413E084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366E-81FD-4AFC-8C68-D617D79E8C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4708-ADBE-4DB1-84AD-DC759388D6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22002.rimg.info/icon/19898230008c237036fa53e5afccf665566844e7cd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Картинка 44 из 3883">
            <a:hlinkClick r:id="rId1"/>
          </p:cNvPr>
          <p:cNvPicPr/>
          <p:nvPr/>
        </p:nvPicPr>
        <p:blipFill>
          <a:blip r:embed="rId2"/>
          <a:srcRect l="0" t="4668" r="0" b="4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3"/>
          <a:stretch/>
        </p:blipFill>
        <p:spPr>
          <a:xfrm>
            <a:off x="109440" y="103320"/>
            <a:ext cx="9034560" cy="2652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276720" y="4869000"/>
            <a:ext cx="569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ё знание принадлежит душе,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ё богатство принадлежит лишь т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абское изр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150480"/>
            <a:ext cx="90363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Знани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езультат познания. </a:t>
            </a:r>
            <a:br>
              <a:rPr sz="3200"/>
            </a:b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нани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остижения   действительности, накопления и осмысления данных,  полученных 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е взаимодейст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 с окружающи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4280" y="3716280"/>
            <a:ext cx="91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н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ая на полу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Владелец\Desktop\knowledge1.jpg"/>
          <p:cNvPicPr/>
          <p:nvPr/>
        </p:nvPicPr>
        <p:blipFill>
          <a:blip r:embed="rId1"/>
          <a:stretch/>
        </p:blipFill>
        <p:spPr>
          <a:xfrm>
            <a:off x="5508720" y="2060640"/>
            <a:ext cx="3564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440" y="224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Проблема познаваемо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85760" y="4221000"/>
            <a:ext cx="2370240" cy="22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симис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357360" y="4292640"/>
            <a:ext cx="2230560" cy="228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497280" y="4262400"/>
            <a:ext cx="2555280" cy="2350080"/>
          </a:xfrm>
          <a:prstGeom prst="rect">
            <a:avLst/>
          </a:prstGeom>
          <a:solidFill>
            <a:srgbClr val="bfbfb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п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зна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выраж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овер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7"/>
          <p:cNvCxnSpPr/>
          <p:nvPr/>
        </p:nvCxnSpPr>
        <p:spPr>
          <a:xfrm flipH="1">
            <a:off x="1258200" y="3111480"/>
            <a:ext cx="927720" cy="111024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93" name="Прямая со стрелкой 9"/>
          <p:cNvCxnSpPr/>
          <p:nvPr/>
        </p:nvCxnSpPr>
        <p:spPr>
          <a:xfrm flipH="1">
            <a:off x="4569840" y="3111120"/>
            <a:ext cx="5400" cy="118188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94" name="Прямая со стрелкой 13"/>
          <p:cNvCxnSpPr/>
          <p:nvPr/>
        </p:nvCxnSpPr>
        <p:spPr>
          <a:xfrm>
            <a:off x="7235640" y="3111480"/>
            <a:ext cx="865800" cy="111024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95" name="Прямоугольник 1"/>
          <p:cNvSpPr/>
          <p:nvPr/>
        </p:nvSpPr>
        <p:spPr>
          <a:xfrm>
            <a:off x="34920" y="189000"/>
            <a:ext cx="91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познаваемости происходит из реальных трудностей познания. В своих подходах к данной теме учёные разделились на оптимистов, пессимистов, скеп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Процесс позна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93400" y="1785960"/>
            <a:ext cx="27122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083280" y="1785960"/>
            <a:ext cx="25779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777840" y="1785960"/>
            <a:ext cx="15598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14200" y="3000240"/>
            <a:ext cx="1785960" cy="173988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ющий человек, наделённый волей и сознанием, или коллек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2286000" y="3143160"/>
            <a:ext cx="1285920" cy="64260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143000" y="5357880"/>
            <a:ext cx="7143840" cy="109944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</a:rPr>
              <a:t>Зн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500800" y="2857680"/>
            <a:ext cx="1714320" cy="201420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ваемый предмет (процесс, явление, внутреннее состоя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7358040" y="3500280"/>
            <a:ext cx="1571760" cy="91692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2"/>
          <p:cNvCxnSpPr/>
          <p:nvPr/>
        </p:nvCxnSpPr>
        <p:spPr>
          <a:xfrm flipH="1">
            <a:off x="1649160" y="984240"/>
            <a:ext cx="1421280" cy="659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6" name="Прямая со стрелкой 15"/>
          <p:cNvCxnSpPr/>
          <p:nvPr/>
        </p:nvCxnSpPr>
        <p:spPr>
          <a:xfrm flipH="1">
            <a:off x="4500000" y="1142640"/>
            <a:ext cx="108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7" name="Прямая со стрелкой 17"/>
          <p:cNvCxnSpPr/>
          <p:nvPr/>
        </p:nvCxnSpPr>
        <p:spPr>
          <a:xfrm flipH="1">
            <a:off x="4500000" y="2428560"/>
            <a:ext cx="1080" cy="2715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 flipH="1">
            <a:off x="1142280" y="2357280"/>
            <a:ext cx="1080" cy="501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>
            <a:off x="2714040" y="2357280"/>
            <a:ext cx="108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10" name="Прямая со стрелкой 22"/>
          <p:cNvCxnSpPr/>
          <p:nvPr/>
        </p:nvCxnSpPr>
        <p:spPr>
          <a:xfrm>
            <a:off x="6227280" y="1052280"/>
            <a:ext cx="1297800" cy="648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11" name="Прямая со стрелкой 24"/>
          <p:cNvCxnSpPr/>
          <p:nvPr/>
        </p:nvCxnSpPr>
        <p:spPr>
          <a:xfrm flipH="1">
            <a:off x="6428520" y="2356920"/>
            <a:ext cx="252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12" name="Прямая со стрелкой 25"/>
          <p:cNvCxnSpPr/>
          <p:nvPr/>
        </p:nvCxnSpPr>
        <p:spPr>
          <a:xfrm flipH="1">
            <a:off x="8143200" y="2356920"/>
            <a:ext cx="1080" cy="1001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34920" y="2859120"/>
            <a:ext cx="2736720" cy="3080880"/>
          </a:xfrm>
          <a:prstGeom prst="rect">
            <a:avLst/>
          </a:prstGeom>
          <a:solidFill>
            <a:srgbClr val="e6b9b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озникают в результате непосредствен-ного воздействия предмета на органы чув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Box 6" descr=""/>
          <p:cNvPicPr/>
          <p:nvPr/>
        </p:nvPicPr>
        <p:blipFill>
          <a:blip r:embed="rId1"/>
          <a:stretch/>
        </p:blipFill>
        <p:spPr>
          <a:xfrm>
            <a:off x="1944720" y="1042920"/>
            <a:ext cx="5248080" cy="27478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3268800" y="3573360"/>
            <a:ext cx="2808000" cy="2715120"/>
          </a:xfrm>
          <a:prstGeom prst="rect">
            <a:avLst/>
          </a:prstGeom>
          <a:solidFill>
            <a:srgbClr val="e5e87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ый образ предмета, сформированный из множества самых разных его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473880" y="2716200"/>
            <a:ext cx="2663640" cy="3080880"/>
          </a:xfrm>
          <a:prstGeom prst="rect">
            <a:avLst/>
          </a:prstGeom>
          <a:solidFill>
            <a:srgbClr val="ccc1d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торичный об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роизведё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мятью и вызва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знании ощу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ли воспри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hape 18"/>
          <p:cNvCxnSpPr/>
          <p:nvPr/>
        </p:nvCxnSpPr>
        <p:spPr>
          <a:xfrm flipV="1" rot="10800000">
            <a:off x="673920" y="1483200"/>
            <a:ext cx="1286640" cy="1375560"/>
          </a:xfrm>
          <a:prstGeom prst="bentConnector2">
            <a:avLst/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18" name="Соединительная линия уступом 22"/>
          <p:cNvCxnSpPr/>
          <p:nvPr/>
        </p:nvCxnSpPr>
        <p:spPr>
          <a:xfrm flipH="1" rot="16200000">
            <a:off x="4041360" y="2941560"/>
            <a:ext cx="1197360" cy="65520"/>
          </a:xfrm>
          <a:prstGeom prst="bentConnector3">
            <a:avLst>
              <a:gd name="adj1" fmla="val 49984"/>
            </a:avLst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19" name="Shape 29"/>
          <p:cNvCxnSpPr/>
          <p:nvPr/>
        </p:nvCxnSpPr>
        <p:spPr>
          <a:xfrm>
            <a:off x="7233840" y="1484280"/>
            <a:ext cx="964440" cy="1232280"/>
          </a:xfrm>
          <a:prstGeom prst="bentConnector2">
            <a:avLst/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20" name="Прямоугольник 10"/>
          <p:cNvSpPr/>
          <p:nvPr/>
        </p:nvSpPr>
        <p:spPr>
          <a:xfrm>
            <a:off x="250920" y="2318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ое познание осуществляется с помощью пяти основных чувств: зрения, слуха, осязания, обоняния и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Формы рационального по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417840" y="3808440"/>
            <a:ext cx="52675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нового знания на основе имеющихся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378936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417840" y="2637000"/>
            <a:ext cx="52675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ь утверждающая или отрицающая нечто об объектах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7200" y="256536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417840" y="1600200"/>
            <a:ext cx="5267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 обобщё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457200" y="27813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57200" y="40705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57200" y="50846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67400" y="531648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416400" y="497844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процесса познания, соответствующий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50920" y="1714680"/>
            <a:ext cx="39909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нсуал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 чувст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4714920" y="1714680"/>
            <a:ext cx="374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Рационализм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ет осн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58:10Z</dcterms:created>
  <dc:creator>Владелец</dc:creator>
  <dc:description/>
  <dc:language>en-US</dc:language>
  <cp:lastModifiedBy>Надежда</cp:lastModifiedBy>
  <dcterms:modified xsi:type="dcterms:W3CDTF">2017-11-08T09:49:37Z</dcterms:modified>
  <cp:revision>37</cp:revision>
  <dc:subject/>
  <dc:title>САМОПОЗНАНИЕ</dc:title>
</cp:coreProperties>
</file>