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4F9B-21F4-4EC7-A0A8-2A901A5C25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C8E7-1578-4DC3-8A4A-F7B270DDDF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604E-99A9-4FE9-9B71-26EEBA108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611B-9E17-4F8A-89E6-25ECA4079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5550-6ECB-47BF-BA4D-E410B27F0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B2A5-13B5-4C91-B037-0CD82414C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F537-0C5A-4CFE-A222-EB4B6202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B21A-8F31-47E7-8A55-DAA4C26C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4FE9-A9E3-4834-87F7-F16CAB66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84A2-F905-4239-800D-8688018B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8A49-7C60-4966-B3B8-AABF855F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382D-0590-4A75-99C5-564DA9C9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B2CE-050A-469F-88E5-8F6D9EDE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8E79-BA32-4C6B-A022-8A220E889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723E-FAEA-4C2D-95F6-ABA42DCE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1681-2852-4BEF-996F-1C3C2FC4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C691-ACDF-45D1-AC85-F5C034F9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287A1-91DC-422C-89E8-871537B7E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B6181-7980-489D-AD61-395881C4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C6998-60F0-4B36-8929-FD0ED071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DE32C-BA92-49F6-A916-7D888737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5AC86-0FB6-455B-B152-78FD6AD02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74F75-8D8F-4CA1-AF7D-6433A745C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EB0C6-1D1F-4064-B13E-C91481B7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73D3-BAFA-4505-86E1-E1A52964C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7891-9BF8-4B8C-A2D5-0DFA8592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D9391-9F03-4162-B911-5C8F706D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7E1D0-7D79-4898-9AC5-2B9D6750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819E6-AD96-4E54-A347-11FF4B6A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E2392-2D0B-42FB-BF20-38E4673F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06606-2992-4B6D-A64D-F149D9E40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90027-DF65-4270-8D34-9E15AF485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4D9E6-A859-489D-A5B8-3103FE9A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D472D-CAD9-486B-88FD-0062D4F4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045B7-1B8D-4621-93A7-B48B1081B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70DB-D4AE-4547-9986-4D70CF3D1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68FC6-EBE8-439F-BB2B-E41B3EDAB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7C691-ECCF-45AD-88E5-5C0BAE4C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2806A-B577-4A46-80CC-F4D5BC22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4A7ED-1F98-4B12-A4D3-F1EBFD69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1BC59-CC74-4F39-A297-4616D6DC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D9E3D-4277-4C25-804C-A36D7ECD3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0063D-1CBC-4948-B8A3-6CF06D36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C2697-FCFB-4FC3-AEA1-7273DF48C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8896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8800" y="160020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8896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8800" y="3964320"/>
            <a:ext cx="255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52FDE-0F24-48B9-A44E-6A9124B05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D8D-128A-4074-AB73-7C3D5CF5B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7925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174D-46EF-439D-BDC8-6336A38C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1785-A51A-45AF-8F91-7E3B39C9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6432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6D64-B281-46B3-B6AB-8EF0B66F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00200"/>
            <a:ext cx="3867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7925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568-6551-41B7-BF4F-254CBAB5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E6B8A-3129-4760-97D7-CFB3D19629AB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orizon.png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BF0B-3074-4B7F-A11A-5A544E972F1C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55CC-D36C-46C2-80AA-991832DDE976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83838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0" descr="horizon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16002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2057400" indent="-228600">
              <a:spcBef>
                <a:spcPts val="425"/>
              </a:spcBef>
              <a:spcAft>
                <a:spcPts val="601"/>
              </a:spcAft>
              <a:buClr>
                <a:srgbClr val="dc9e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2057400" indent="-228600">
              <a:spcBef>
                <a:spcPts val="425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5714640" y="6356520"/>
            <a:ext cx="152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7543800" y="6356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E172-C260-4880-B63A-ED044915658A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8000" y="2008080"/>
            <a:ext cx="885672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  <a:ea typeface="Mongolian Baiti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  <a:ea typeface="Mongolian Baiti"/>
              </a:rPr>
              <a:t>Социальные роли человека в  трудовом коллективе.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оугольник 3"/>
          <p:cNvSpPr/>
          <p:nvPr/>
        </p:nvSpPr>
        <p:spPr>
          <a:xfrm>
            <a:off x="900000" y="1628640"/>
            <a:ext cx="75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Трудовой коллектив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особая социальная общность, объединяющая людей, осуществляющих совместную трудовую деятельность в рамках трудовой организации. Он составляет социальную основу стабильных, устойчиво функционирующих и способных к развитию трудовых организаций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1"/>
          <p:cNvSpPr/>
          <p:nvPr/>
        </p:nvSpPr>
        <p:spPr>
          <a:xfrm>
            <a:off x="826920" y="134136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составу коллективы бывают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могенные (однородные);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терогенные (разнородные). Эти различия могут касаться пола, возраста, профессии, статуса, уровня образования и проч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терогенные коллективы более эффективны при решении сложных проблем; они эффективны также при интенсивной творческой работе (мозговая атака). В то же время гомогенные лучше решают простые задачи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7093080" y="260280"/>
            <a:ext cx="190476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ик 1"/>
          <p:cNvSpPr/>
          <p:nvPr/>
        </p:nvSpPr>
        <p:spPr>
          <a:xfrm>
            <a:off x="108000" y="0"/>
            <a:ext cx="604836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структуре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функционально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на основе разделения труда и определения производственных задач каждого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литическо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в соответствии с принадлежностью к тем или иным группировкам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оциально-демографическо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по полу, возрасту, образованию, квалификации и проч.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оциально-психологическо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в соответствии с симпатиями и антипатиями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веденческо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определяемой активностью и проч.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отивационной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в зависимости от движущих факторов поведения)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6156360" y="1428840"/>
            <a:ext cx="298764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395280" y="476280"/>
            <a:ext cx="4968720" cy="29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 размерам: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малые;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члены поддерживают между собой не просто непосредственные, но еще и эмоционально окрашенные дружеские контакты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большие;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ждый выполняет широкий круг обязанностей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3564000" y="3500280"/>
            <a:ext cx="4143240" cy="2751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"/>
          <p:cNvPicPr/>
          <p:nvPr/>
        </p:nvPicPr>
        <p:blipFill>
          <a:blip r:embed="rId2"/>
          <a:stretch/>
        </p:blipFill>
        <p:spPr>
          <a:xfrm>
            <a:off x="5435640" y="333360"/>
            <a:ext cx="3246480" cy="2158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Прямоугольник 1"/>
          <p:cNvSpPr/>
          <p:nvPr/>
        </p:nvSpPr>
        <p:spPr>
          <a:xfrm>
            <a:off x="3557520" y="115920"/>
            <a:ext cx="540072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плочённость —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ин из процессов групповой динамики, характеризующий степень приверженности к группе ее членов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ачестве конкретных показателей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лочённости, как правило, рассматриваются: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овень взаимной симпатии в межличностных отношениях — чем большее количество членов группы нравятся друг другу, тем выше ее сплоченность;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епень привлекательности (полезности) группы для ее членов — чем больше число тех людей, кто удовлетворен своим пребыванием в группе, т.е. тех, для кого субъективная ценность приобретаемых благодаря группе преимуществ превосходит значимость затрачиваемых усилий, тем выше сила ее притяжения, а, следовательно, и сплоченность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08000" y="2101680"/>
            <a:ext cx="3384360" cy="2251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6:46:27Z</dcterms:created>
  <dc:creator>ВЕРСТАК</dc:creator>
  <dc:description/>
  <dc:language>en-US</dc:language>
  <cp:lastModifiedBy>Ирина</cp:lastModifiedBy>
  <dcterms:modified xsi:type="dcterms:W3CDTF">2017-08-18T19:41:52Z</dcterms:modified>
  <cp:revision>4</cp:revision>
  <dc:subject/>
  <dc:title>Субкультура трудового коллектива</dc:title>
</cp:coreProperties>
</file>