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BA9F-CED5-4CD0-B014-19CAC7DC9C8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6BD3D-D8E7-4E73-BBC4-6C03907E9CF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D0FA-625E-47F5-83FB-8C3C1C445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27A2-AFCB-4D3F-9F7B-9B68A3932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2CA7-A8FF-4CE8-9DE3-AA2C92686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FEA5-17A7-40DB-BF54-0B6314FBB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16698-6956-4FB5-AD4A-98E72D2E2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FEB78-995F-4015-8412-CEA00353D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EDC3E-EF1D-435F-B68D-89B20F6E9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A773D-1CB7-43AD-A59E-1C2020395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E723D-ABE3-4A6A-BC97-3CE5442B2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684A2-5031-447B-8500-6BDD1941E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46963-9A9D-44DC-9268-A5B6C9E6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6F37-CD8E-43F4-8B7D-48FC9350F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8FB8B-85ED-4796-AD05-F1E6B315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2D4B7-D471-46A5-9A18-EC90844C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DF6DD-6CA8-4FC9-B02A-C636265AF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8F094-57A0-4405-8EC7-A1078F602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1D0DB-0200-43CA-BCF4-303525895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6B62A-AFA1-4F25-8E7D-E93D329B8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7D48F-86B8-48DF-B58D-539497CFA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494C1-6325-4FE7-B364-3448305D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9ED69-7707-4BD4-A237-CC8CE89E4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F12A6-A01A-4E6C-AAFB-0D5F7005D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67E9-2829-41FC-8EF5-B7422604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8F98C-C54D-4D25-B4B0-D38BAB8D4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1C786-1C1C-4081-B1D5-26BDCF46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F1179-E4BA-48C5-95BE-9D71D2B4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45A32-79C3-4705-92C2-B2DB6892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BFE93-0440-4AF2-AB71-CFE22205F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17F58-9AE8-4640-9FF2-ADE6EE3AE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81914-5D32-43E0-8B06-4D86451D0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E1101-EC40-49CD-B720-9EA4936B0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3FD39D-A3FD-472B-B966-708D8A53A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1B9A5-8192-4F32-955F-26AFCB0D2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815F-998A-429E-A3DA-B178AD990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76558-7288-4B02-80A7-93E17ECD5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A59B6-1715-4ECF-A592-14841D618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4F740-9AA0-4805-8D90-87FC6DAE9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59483-6BEC-4EE7-837F-0DEDA187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B71E8-FBBA-4B9D-B50B-8B0BE51B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813A9-4DA1-49F6-9268-01459B166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B06A0-8D19-4813-BD9B-CC0A4521F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90F41-9E32-4DC9-836D-1EF82DD29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B073B-9E54-4C3E-AE68-2CE127726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E67D-A4AA-4212-A7D3-D1BED25C5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344E-AB6D-400D-A265-38A3425DE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B9E7-72CB-4231-8AC2-88B1013A8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0678-D05F-4196-9F1D-852DFE83C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3D27-7A06-44A5-950F-3732D86D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A33D9-1F1E-4289-992A-AA0076928FD0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horizon.png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39962-F956-4013-A483-F4CC29AD2826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076BB-F438-4FCC-9B4A-BF628B064F29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0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B7CBA-50F6-4A27-B1AE-45003B2B92EC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8000" y="2008080"/>
            <a:ext cx="885672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  <a:ea typeface="Mongolian Baiti"/>
              </a:rPr>
              <a:t> </a:t>
            </a:r>
            <a:r>
              <a:rPr b="1" lang="ru-RU" sz="6000" spc="-1" strike="noStrike">
                <a:solidFill>
                  <a:srgbClr val="ffffff"/>
                </a:solidFill>
                <a:latin typeface="Monotype Corsiva"/>
                <a:ea typeface="Mongolian Baiti"/>
              </a:rPr>
              <a:t>Социальные роли человека в  трудовом коллективе.</a:t>
            </a:r>
            <a:endParaRPr b="0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Прямоугольник 3"/>
          <p:cNvSpPr/>
          <p:nvPr/>
        </p:nvSpPr>
        <p:spPr>
          <a:xfrm>
            <a:off x="900000" y="1628640"/>
            <a:ext cx="755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Трудовой коллектив 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о особая социальная общность, объединяющая людей, осуществляющих совместную трудовую деятельность в рамках трудовой организации. Он составляет социальную основу стабильных, устойчиво функционирующих и способных к развитию трудовых организаций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1"/>
          <p:cNvSpPr/>
          <p:nvPr/>
        </p:nvSpPr>
        <p:spPr>
          <a:xfrm>
            <a:off x="826920" y="1341360"/>
            <a:ext cx="7705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о составу коллективы бывают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могенные (однородные);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терогенные (разнородные). Эти различия могут касаться пола, возраста, профессии, статуса, уровня образования и проч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терогенные коллективы более эффективны при решении сложных проблем; они эффективны также при интенсивной творческой работе (мозговая атака). В то же время гомогенные лучше решают простые задачи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7093080" y="260280"/>
            <a:ext cx="1904760" cy="13716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ик 1"/>
          <p:cNvSpPr/>
          <p:nvPr/>
        </p:nvSpPr>
        <p:spPr>
          <a:xfrm>
            <a:off x="108000" y="0"/>
            <a:ext cx="6048360" cy="62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о структуре: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функциональной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на основе разделения труда и определения производственных задач каждого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олитической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в соответствии с принадлежностью к тем или иным группировкам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социально-демографической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по полу, возрасту, образованию, квалификации и проч.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социально-психологической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в соответствии с симпатиями и антипатиями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оведенческой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определяемой активностью и проч.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мотивационной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в зависимости от движущих факторов поведения)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6156360" y="1428840"/>
            <a:ext cx="2987640" cy="3168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Прямоугольник 1"/>
          <p:cNvSpPr/>
          <p:nvPr/>
        </p:nvSpPr>
        <p:spPr>
          <a:xfrm>
            <a:off x="395280" y="476280"/>
            <a:ext cx="4968720" cy="29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о размерам: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малые;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члены поддерживают между собой не просто непосредственные, но еще и эмоционально окрашенные дружеские контакты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большие;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ждый выполняет широкий круг обязанностей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3564000" y="3500280"/>
            <a:ext cx="4143240" cy="27511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"/>
          <p:cNvPicPr/>
          <p:nvPr/>
        </p:nvPicPr>
        <p:blipFill>
          <a:blip r:embed="rId2"/>
          <a:stretch/>
        </p:blipFill>
        <p:spPr>
          <a:xfrm>
            <a:off x="5435640" y="333360"/>
            <a:ext cx="3246480" cy="2158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Прямоугольник 1"/>
          <p:cNvSpPr/>
          <p:nvPr/>
        </p:nvSpPr>
        <p:spPr>
          <a:xfrm>
            <a:off x="3557520" y="115920"/>
            <a:ext cx="540072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Сплочённость —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ин из процессов групповой динамики, характеризующий степень приверженности к группе ее членов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качестве конкретных показателей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лочённости, как правило, рассматриваются: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ровень взаимной симпатии в межличностных отношениях — чем большее количество членов группы нравятся друг другу, тем выше ее сплоченность;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епень привлекательности (полезности) группы для ее членов — чем больше число тех людей, кто удовлетворен своим пребыванием в группе, т.е. тех, для кого субъективная ценность приобретаемых благодаря группе преимуществ превосходит значимость затрачиваемых усилий, тем выше сила ее притяжения, а, следовательно, и сплоченность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108000" y="2101680"/>
            <a:ext cx="3384360" cy="2251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3T16:46:27Z</dcterms:created>
  <dc:creator>ВЕРСТАК</dc:creator>
  <dc:description/>
  <dc:language>en-US</dc:language>
  <cp:lastModifiedBy>Ирина</cp:lastModifiedBy>
  <dcterms:modified xsi:type="dcterms:W3CDTF">2017-08-18T19:41:52Z</dcterms:modified>
  <cp:revision>4</cp:revision>
  <dc:subject/>
  <dc:title>Субкультура трудового коллектива</dc:title>
</cp:coreProperties>
</file>