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091-DC55-4E3D-95A5-FC570C0C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EED-9A48-416B-A32C-2A2CD445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905-FF36-4114-894B-5264A74F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C5C-E7A3-4663-9B41-027B6DE6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9096-1733-4188-8501-C1F64804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6261-28CA-46C0-B3FE-70F4D44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4B6-75CF-49B7-99F1-A2FF0F83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B467-10E0-4E05-84DC-40847B3E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150B-B881-4230-8FC7-241D5E8E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B5E2-FEF5-424B-ACC6-5984D9D9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4FA9-52C1-4491-B138-57CD9388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152-B84E-4382-8239-507E40AD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5ABE-073B-43D0-AF4C-52372436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18F1-6392-4DE3-A479-654A2E9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3004-0544-4D23-ACE6-2512A757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BDC-DFFF-4D48-ABF4-1F84BAA8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7EF1-CB20-402B-AEC7-3F11B462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A3CC-39D0-4A40-9717-39E7860B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1A72-A018-4AD3-8C07-1811A50A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7143B-A184-4B24-81B6-43403B0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6D12-E053-4FD2-A78B-595FF4E5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26C7-BEA6-4648-84BF-EDC6CC86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CC8-D596-4605-91A0-89231CA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221F-F2D9-4222-8F3B-ABBDE624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8903-881F-4BD0-B82A-5710AD77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7E94-DF8D-4CB4-897C-DDC64BD9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F5EF-20A7-42D7-AAEE-D9E9796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58A0-F0A8-47AF-8D4D-E77DC3EC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F951C-F3E3-4DF5-8EFF-A1DAC37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3D8C-02D1-4FDF-BDCB-2D482381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432E-0109-44A8-8F4C-DF91C721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D77E-8901-436F-92F2-347BF4A4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C0D4-BFBD-40C2-8E9B-337DB690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D31-AD3C-488E-B002-E4BACA34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78DF8-CA7E-498D-ADBB-5CDA3084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E805-EAA6-4134-9E4D-7DA2221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1837-170E-4F5D-A84B-5688D75C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0CC6-162B-43BF-B8D2-4837D563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91A0-D06F-4EB1-995C-7D625BD3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8889-14F8-4987-AC83-28C6BE7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C376-7689-4B54-8FD6-33988131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A2E8-2226-4615-809A-F0299415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F421-A998-4145-B4B2-2167BDEE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A350-EFB8-4FEC-A806-51E60CD0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1E6-D813-4634-8927-57975EC5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1ECC-E7F8-4E6A-B5DE-8110F8BB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CB442-97CB-4AEC-8FE6-CE01EFC2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1270-436C-49BE-BC85-CE960F2D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B26E-9E87-46AF-B3EB-562A3328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48F9-0EC1-4384-AEFB-F9F72D03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C61B-4127-480B-AB09-47A8E450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BFE63-8B38-4C52-8E54-B54E436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8791D-FFA0-4584-893F-5D3FCFFB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720B-2E10-4554-B22A-8D6F575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445A-7A2C-4608-8857-5D1E9324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C66-15F1-4D21-8E9B-EBD9FCF3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FBB8-47A5-48E7-85E5-278C2DCA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4B5C-5C45-4020-85C4-4DC71995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3568-ECD4-4B28-A670-F0218D5F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89415-E4FA-4DD9-A042-20D50EC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21045-66AB-47C4-997B-B31C913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F56E5-B3EC-4430-BF48-EA646709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4106D-4DDD-4F84-910D-86118E87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BF2F-9EF0-4BA6-9DBA-8A567D5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1165-EB4A-4B47-A6FC-F249920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2D35-C357-4239-9C98-2993971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EB2-DB52-4024-9693-94199D7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BFD78-3460-4F7A-B4D4-BBC0599C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DA6C-257B-41D0-864E-DFD93149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EEE8-5989-4B69-AFEE-7689CB9C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199-3266-47EE-99E5-B36D6F02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1FD-1C6B-4DB1-8779-C3A7F269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419-5611-417E-B274-4661E2EAEF9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390D-0B41-47C5-BA9F-6D7E2A00718C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939A-9F61-4291-BB0D-10B6F87CC3B0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1EF-6562-48ED-8191-6B7B4E793E6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6AE7-19D2-4735-856B-250AB6DEC1A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05B8-AD59-4CA3-84D0-06C649377B81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амостоятельная работ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аспределите слова в 2 столбика: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Мёд, еда, каюта, якорь, лес, тепло, ёлка, тень, люди, вьюга, льёт, летит, лямка, яма, баян, река, баня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268360" y="306864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07800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ёд                        е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с                         якор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пло                      каю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ень                        ёл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юди                       вьюга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етит                       льё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ямка                       я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аня                         бая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ёд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ш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г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нга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Заголовок 1"/>
          <p:cNvSpPr/>
          <p:nvPr/>
        </p:nvSpPr>
        <p:spPr>
          <a:xfrm>
            <a:off x="611280" y="333360"/>
            <a:ext cx="74977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</a:t>
            </a:r>
            <a:br>
              <a:rPr sz="7400"/>
            </a:br>
            <a:r>
              <a:rPr b="1" lang="en-US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активную работу на уроке!</a:t>
            </a:r>
            <a:br>
              <a:rPr sz="7400"/>
            </a:br>
            <a:br>
              <a:rPr sz="7400"/>
            </a:br>
            <a:br>
              <a:rPr sz="3000"/>
            </a:br>
            <a:r>
              <a:rPr b="1" lang="en-US" sz="7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лодцы!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Картинка 47 из 64000"/>
          <p:cNvPicPr/>
          <p:nvPr/>
        </p:nvPicPr>
        <p:blipFill>
          <a:blip r:embed="rId1"/>
          <a:srcRect l="0" t="15525" r="0" b="19750"/>
          <a:stretch/>
        </p:blipFill>
        <p:spPr>
          <a:xfrm>
            <a:off x="3635280" y="3860640"/>
            <a:ext cx="1673280" cy="1536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3"/>
          <p:cNvSpPr/>
          <p:nvPr/>
        </p:nvSpPr>
        <p:spPr>
          <a:xfrm>
            <a:off x="698400" y="303120"/>
            <a:ext cx="77328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езде, применение, умение, най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8" descr="Рисунок2"/>
          <p:cNvPicPr/>
          <p:nvPr/>
        </p:nvPicPr>
        <p:blipFill>
          <a:blip r:embed="rId1"/>
          <a:stretch/>
        </p:blipFill>
        <p:spPr>
          <a:xfrm>
            <a:off x="684360" y="3429000"/>
            <a:ext cx="140940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698400" y="303120"/>
            <a:ext cx="7732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мение везде найдет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Рисунок2"/>
          <p:cNvPicPr/>
          <p:nvPr/>
        </p:nvPicPr>
        <p:blipFill>
          <a:blip r:embed="rId1"/>
          <a:stretch/>
        </p:blipFill>
        <p:spPr>
          <a:xfrm>
            <a:off x="566640" y="3549600"/>
            <a:ext cx="1409760" cy="272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2914560" y="1347840"/>
            <a:ext cx="5545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звуки: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а, о, у, и, ы, 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буквы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: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а, о, у, и, ы, э,      </a:t>
            </a:r>
            <a:r>
              <a:rPr b="1" i="1" lang="en-US" sz="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38200" y="177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2936"/>
                </a:solidFill>
                <a:latin typeface="Arial"/>
              </a:rPr>
              <a:t>Глас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i?id=77027893-01"/>
          <p:cNvPicPr/>
          <p:nvPr/>
        </p:nvPicPr>
        <p:blipFill>
          <a:blip r:embed="rId1"/>
          <a:stretch/>
        </p:blipFill>
        <p:spPr>
          <a:xfrm>
            <a:off x="826920" y="4365720"/>
            <a:ext cx="2737080" cy="210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1841400" y="622440"/>
            <a:ext cx="6723000" cy="50292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163440" y="333360"/>
            <a:ext cx="2011320" cy="24526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4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288200" y="3860640"/>
            <a:ext cx="160488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920" y="836280"/>
            <a:ext cx="7490160" cy="52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Мера         ем               боец                  отъез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Полёт        ёлка           приём               вью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Клюв         юг              каюта               обезья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Verdana"/>
              </a:rPr>
              <a:t>Сяду          яблоко       стоят                ружь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Е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Ю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Я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Е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Ю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Я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11280" y="1197000"/>
          <a:ext cx="7775640" cy="4537080"/>
        </p:xfrm>
        <a:graphic>
          <a:graphicData uri="http://schemas.openxmlformats.org/drawingml/2006/table">
            <a:tbl>
              <a:tblPr/>
              <a:tblGrid>
                <a:gridCol w="3671640"/>
                <a:gridCol w="4104000"/>
              </a:tblGrid>
              <a:tr h="75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5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1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0" name="Содержимое 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Двойная роль букв 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684360" y="1125360"/>
          <a:ext cx="7775280" cy="4973760"/>
        </p:xfrm>
        <a:graphic>
          <a:graphicData uri="http://schemas.openxmlformats.org/drawingml/2006/table">
            <a:tbl>
              <a:tblPr/>
              <a:tblGrid>
                <a:gridCol w="3671640"/>
                <a:gridCol w="4103640"/>
              </a:tblGrid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ает 2 зву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ает 1 зву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ягчает соглас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1872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09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[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 [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]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 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[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  [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576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71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чале слова (ям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гласных (бая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ъ и ь (съел, въюг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cc00"/>
                      </a:solidFill>
                    </a:lnL>
                    <a:lnR w="576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согласных (лю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c00"/>
                      </a:solidFill>
                    </a:lnL>
                    <a:lnR w="18720">
                      <a:solidFill>
                        <a:srgbClr val="00cc00"/>
                      </a:solidFill>
                    </a:lnR>
                    <a:lnT w="5760">
                      <a:solidFill>
                        <a:srgbClr val="00cc00"/>
                      </a:solidFill>
                    </a:lnT>
                    <a:lnB w="18720">
                      <a:solidFill>
                        <a:srgbClr val="00cc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2" name="Содержимое 2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Двойная роль букв е, ё, ю,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2:04:19Z</dcterms:created>
  <dc:creator>user</dc:creator>
  <dc:description/>
  <dc:language>en-US</dc:language>
  <cp:lastModifiedBy>User</cp:lastModifiedBy>
  <dcterms:modified xsi:type="dcterms:W3CDTF">2017-11-02T17:24:38Z</dcterms:modified>
  <cp:revision>42</cp:revision>
  <dc:subject/>
  <dc:title>Двойная роль букв Е, Ё, Ю, Я</dc:title>
</cp:coreProperties>
</file>