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wmf" ContentType="image/x-wmf"/>
  <Override PartName="/ppt/media/image8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DEB9-67B3-4C6F-AE71-C7E9D75A0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05D7-380C-46D7-95A6-6DD7DDDC2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5DD0-2A15-40F0-B1D1-40EA18A95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092C-9A9B-400C-891C-E70A3E29C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25C8B-C5A5-4DFA-B243-92808F29D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B9F86-D7CA-4F9E-951E-098F659FE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C2749-ED52-41A4-AE32-F906CB741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27E1D-6F18-4D35-BC6C-0879E029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A6DEF-32A4-4E65-B0FD-25EA9BC73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9002E-7908-496F-A35D-DBB156BA9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B62E4-55EC-41DB-863A-B56AC65D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571C-4A5B-49BA-8CC8-B86BC7934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A0261-E795-4539-A3D4-714D5F09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5CE16-450C-4E69-8678-2D46D290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FCFF7-CBA7-4C05-A774-08EE926BC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DEB51-1D1E-42FD-8846-4BCD37D32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2F283-4629-4EB8-9A05-F94505314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CBE73-E869-4D35-9D83-5747A74F3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88BD9-09A1-4108-82DA-15DF6BD39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D9251-6A15-4ADF-B9C5-1B35D09E2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C8CC3-718A-4AB3-BF3C-421328710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B491D-8801-4B4D-92F9-C46110C2D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6A88-A596-428C-B715-9EF98E9D9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FF81F-2EDA-4BEA-9655-0ABE0EB05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AB104-2CFC-4662-8248-3A20ADC8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B7887-C02A-4838-8C8F-20D2C29C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DF673-DBBD-4EB3-824E-68FF5CF6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65394-D426-4575-B847-2D009694D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52B07-9756-48FE-A90E-BE7E4F403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9DD66-C58D-4B18-84E6-F20861677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ABF7B-CDB0-4D48-996B-EA80F137E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C3077-4EE6-409B-A33B-E1CE35749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A8277-F297-4573-825C-81A5DBCF4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967A-552B-4B30-A45C-78A918A3C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17118-5685-402E-94C8-EAD511B67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DBE56-6531-435C-ABDE-32E1C326E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3A9C2-C4C4-47A6-B4D0-5DCB97F1D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4B6D8-B953-4DC6-ABA1-A4238F27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5B3C6-4CE4-4567-A832-5EC7F6E4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262CD-51C4-4A89-8593-62FB28F9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15556-48C1-4C9D-A171-A115B8C97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5653D-1F54-4CA5-9099-1E77FE1BF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63AAF-F882-4AB7-A181-6B2C3F4B7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79C8B-D8D3-45F4-B593-9A929674F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824E-08F5-41D6-996C-5E9CF7FE6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7A660-3FD6-4381-B577-EAF1D6364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1EB73-9B73-49FC-B737-6DB0B01AE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0BAE6-11DC-43E4-BF47-EA956347A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FCF83-E3C5-40CD-B8B1-18DB7A29F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65A91-DC6F-4B01-B88F-6985AE985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F91AF-2E01-4750-804C-9945DF7B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F9923-86B7-4F61-9DF6-3721B2AF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EA378-48E3-4089-85A4-41AC76F0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E172B-4041-463F-9907-15ED4D1C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FE7D8-AA6C-4E4D-B2A8-01346CD58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3278-DFFB-4A12-8546-3D954409B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5368A-08A9-4B92-B817-B7F93F225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A5896-2DD4-4485-932A-A456328C7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1581F-CFF1-400C-938F-F1C80E35C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5993B-A1E7-483E-A084-9E1CB6E3F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BD7A9-3A26-40DB-9D61-1A2200F3F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FD0A4-3689-4BC6-9F5B-5E90C293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72EEC-D5BD-471D-9793-6FD0CCCD4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4D021-1353-472E-9DB5-D54C5E91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B800AA-57F6-4F96-899F-FB7FCF66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F8E24-B823-48A0-ABE0-C836DF49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8217-4C4E-4FDF-B945-7529C9B7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20AFA-E065-4304-8E36-82715E8D8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9A662A-ADE1-43A5-A583-94024CB80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01BE6-6C25-4794-81E9-73520FE56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8AAB-908D-49EA-A5A7-AB69AED0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D336-5852-4261-83B0-DAB9016A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2FC4F-5C6F-4860-95B0-74CDF6D82936}" type="slidenum">
              <a:rPr b="0" lang="en-US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BAEAE-EC85-46F1-A599-4BDB9615B586}" type="slidenum">
              <a:rPr b="0" lang="en-US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B5838-833E-4BB3-8C1C-E815C2B82221}" type="slidenum">
              <a:rPr b="0" lang="en-US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F71F-1188-4CB3-BC5E-8FC2A4097D3B}" type="slidenum">
              <a:rPr b="0" lang="en-US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83017-5FA7-4CB8-9168-5783235CCBDF}" type="slidenum">
              <a:rPr b="0" lang="en-US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2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2FA9C-A954-4E51-8303-792E470ACE0C}" type="slidenum">
              <a:rPr b="0" lang="en-US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24000" y="285264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Самостоятельная работа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Распределите слова в 2 столбика:</a:t>
            </a:r>
            <a:br>
              <a:rPr sz="2000"/>
            </a:br>
            <a:br>
              <a:rPr sz="20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Мёд, еда, каюта, якорь, лес, тепло, ёлка, тень, люди, вьюга, льёт, летит, лямка, яма, баян, река, баня</a:t>
            </a:r>
            <a:br>
              <a:rPr sz="2400"/>
            </a:b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68360" y="40428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268360" y="3068640"/>
            <a:ext cx="4572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286000" y="3078000"/>
            <a:ext cx="4572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539640" y="1267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Мёд                        ед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Лес                         якор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Тепло                      каю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Тень                        ёл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Люди                       вьюга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Летит                       льё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Лямка                       ям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Баня                         бая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ре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ёд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Ёрш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Юг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Юнга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нг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Заголовок 1"/>
          <p:cNvSpPr/>
          <p:nvPr/>
        </p:nvSpPr>
        <p:spPr>
          <a:xfrm>
            <a:off x="611280" y="333360"/>
            <a:ext cx="7497720" cy="60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пасибо</a:t>
            </a:r>
            <a:br>
              <a:rPr sz="7400"/>
            </a:br>
            <a:r>
              <a:rPr b="1" lang="en-US" sz="7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 активную работу на уроке!</a:t>
            </a:r>
            <a:br>
              <a:rPr sz="7400"/>
            </a:br>
            <a:br>
              <a:rPr sz="7400"/>
            </a:br>
            <a:br>
              <a:rPr sz="3000"/>
            </a:br>
            <a:r>
              <a:rPr b="1" lang="en-US" sz="7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олодцы!</a:t>
            </a: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6" descr="Картинка 47 из 64000"/>
          <p:cNvPicPr/>
          <p:nvPr/>
        </p:nvPicPr>
        <p:blipFill>
          <a:blip r:embed="rId1"/>
          <a:srcRect l="0" t="15525" r="0" b="19750"/>
          <a:stretch/>
        </p:blipFill>
        <p:spPr>
          <a:xfrm>
            <a:off x="3635280" y="3860640"/>
            <a:ext cx="1673280" cy="1536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3"/>
          <p:cNvSpPr/>
          <p:nvPr/>
        </p:nvSpPr>
        <p:spPr>
          <a:xfrm>
            <a:off x="698400" y="303120"/>
            <a:ext cx="7732800" cy="32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1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Везде, применение, умение, найд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1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1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1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1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1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1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8" descr="Рисунок2"/>
          <p:cNvPicPr/>
          <p:nvPr/>
        </p:nvPicPr>
        <p:blipFill>
          <a:blip r:embed="rId1"/>
          <a:stretch/>
        </p:blipFill>
        <p:spPr>
          <a:xfrm>
            <a:off x="684360" y="3429000"/>
            <a:ext cx="1409400" cy="2727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3"/>
          <p:cNvSpPr/>
          <p:nvPr/>
        </p:nvSpPr>
        <p:spPr>
          <a:xfrm>
            <a:off x="698400" y="303120"/>
            <a:ext cx="77328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1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Умение везде найдет примен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1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1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8" descr="Рисунок2"/>
          <p:cNvPicPr/>
          <p:nvPr/>
        </p:nvPicPr>
        <p:blipFill>
          <a:blip r:embed="rId1"/>
          <a:stretch/>
        </p:blipFill>
        <p:spPr>
          <a:xfrm>
            <a:off x="566640" y="3549600"/>
            <a:ext cx="1409760" cy="2727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3"/>
          <p:cNvSpPr/>
          <p:nvPr/>
        </p:nvSpPr>
        <p:spPr>
          <a:xfrm>
            <a:off x="2914560" y="1347840"/>
            <a:ext cx="55450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60066"/>
                </a:solidFill>
                <a:uFillTx/>
                <a:latin typeface="Arial"/>
              </a:rPr>
              <a:t>звуки:</a:t>
            </a:r>
            <a:r>
              <a:rPr b="0" lang="en-US" sz="4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660066"/>
                </a:solidFill>
                <a:latin typeface="Arial"/>
              </a:rPr>
              <a:t>а, о, у, и, ы, 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60066"/>
                </a:solidFill>
                <a:uFillTx/>
                <a:latin typeface="Arial"/>
              </a:rPr>
              <a:t>буквы</a:t>
            </a:r>
            <a:r>
              <a:rPr b="0" lang="en-US" sz="4000" spc="-1" strike="noStrike">
                <a:solidFill>
                  <a:srgbClr val="660066"/>
                </a:solidFill>
                <a:latin typeface="Arial"/>
              </a:rPr>
              <a:t>: </a:t>
            </a:r>
            <a:r>
              <a:rPr b="1" i="1" lang="en-US" sz="4000" spc="-1" strike="noStrike">
                <a:solidFill>
                  <a:srgbClr val="660066"/>
                </a:solidFill>
                <a:latin typeface="Arial"/>
              </a:rPr>
              <a:t>а, о, у, и, ы, э,      </a:t>
            </a:r>
            <a:r>
              <a:rPr b="1" i="1" lang="en-US" sz="800" spc="-1" strike="noStrike">
                <a:solidFill>
                  <a:srgbClr val="660066"/>
                </a:solidFill>
                <a:latin typeface="Arial"/>
              </a:rPr>
              <a:t>.</a:t>
            </a:r>
            <a:r>
              <a:rPr b="1" i="1" lang="en-US" sz="4000" spc="-1" strike="noStrike">
                <a:solidFill>
                  <a:srgbClr val="660066"/>
                </a:solidFill>
                <a:latin typeface="Arial"/>
              </a:rPr>
              <a:t>            </a:t>
            </a:r>
            <a:r>
              <a:rPr b="1" i="1" lang="en-US" sz="4000" spc="-1" strike="noStrike">
                <a:solidFill>
                  <a:srgbClr val="ff3300"/>
                </a:solidFill>
                <a:latin typeface="Arial"/>
              </a:rPr>
              <a:t>е, ё, ю, 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538200" y="177336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f2936"/>
                </a:solidFill>
                <a:latin typeface="Arial"/>
              </a:rPr>
              <a:t>Глас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9" descr="i?id=77027893-01"/>
          <p:cNvPicPr/>
          <p:nvPr/>
        </p:nvPicPr>
        <p:blipFill>
          <a:blip r:embed="rId1"/>
          <a:stretch/>
        </p:blipFill>
        <p:spPr>
          <a:xfrm>
            <a:off x="826920" y="4365720"/>
            <a:ext cx="2737080" cy="2101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2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Заголовок 1" descr=""/>
          <p:cNvPicPr/>
          <p:nvPr/>
        </p:nvPicPr>
        <p:blipFill>
          <a:blip r:embed="rId1"/>
          <a:stretch/>
        </p:blipFill>
        <p:spPr>
          <a:xfrm>
            <a:off x="1841400" y="622440"/>
            <a:ext cx="6723000" cy="5029200"/>
          </a:xfrm>
          <a:prstGeom prst="rect">
            <a:avLst/>
          </a:prstGeom>
          <a:ln w="0">
            <a:noFill/>
          </a:ln>
        </p:spPr>
      </p:pic>
      <p:pic>
        <p:nvPicPr>
          <p:cNvPr id="275" name="Рисунок 3" descr="D:\Мои документы со старого диска\Мои рисунки\Алфавит\E.WMF"/>
          <p:cNvPicPr/>
          <p:nvPr/>
        </p:nvPicPr>
        <p:blipFill>
          <a:blip r:embed="rId2"/>
          <a:stretch/>
        </p:blipFill>
        <p:spPr>
          <a:xfrm>
            <a:off x="163440" y="333360"/>
            <a:ext cx="2011320" cy="2452680"/>
          </a:xfrm>
          <a:prstGeom prst="rect">
            <a:avLst/>
          </a:prstGeom>
          <a:ln w="0">
            <a:noFill/>
          </a:ln>
        </p:spPr>
      </p:pic>
      <p:pic>
        <p:nvPicPr>
          <p:cNvPr id="276" name="Рисунок 4" descr="D:\Мои документы со старого диска\Мои рисунки\Алфавит\R.WMF"/>
          <p:cNvPicPr/>
          <p:nvPr/>
        </p:nvPicPr>
        <p:blipFill>
          <a:blip r:embed="rId3"/>
          <a:stretch/>
        </p:blipFill>
        <p:spPr>
          <a:xfrm flipH="1">
            <a:off x="7288200" y="3860640"/>
            <a:ext cx="1604880" cy="2808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826920" y="836280"/>
            <a:ext cx="7490160" cy="52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Verdana"/>
              </a:rPr>
              <a:t>Мера         ем               боец                  отъезд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Verdana"/>
              </a:rPr>
              <a:t>Полёт        ёлка           приём               вьюг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Verdana"/>
              </a:rPr>
              <a:t>Клюв         юг              каюта               обезья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Verdana"/>
              </a:rPr>
              <a:t>Сяду          яблоко       стоят                ружьё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Ё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Е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Ю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Я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Ё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Е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э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Ю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у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Я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9" name=""/>
          <p:cNvGraphicFramePr/>
          <p:nvPr/>
        </p:nvGraphicFramePr>
        <p:xfrm>
          <a:off x="611280" y="1197000"/>
          <a:ext cx="7775640" cy="4537080"/>
        </p:xfrm>
        <a:graphic>
          <a:graphicData uri="http://schemas.openxmlformats.org/drawingml/2006/table">
            <a:tbl>
              <a:tblPr/>
              <a:tblGrid>
                <a:gridCol w="3671640"/>
                <a:gridCol w="4104000"/>
              </a:tblGrid>
              <a:tr h="758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00"/>
                      </a:solidFill>
                    </a:lnL>
                    <a:lnR w="5760">
                      <a:solidFill>
                        <a:srgbClr val="00cc00"/>
                      </a:solidFill>
                    </a:lnR>
                    <a:lnT w="18720">
                      <a:solidFill>
                        <a:srgbClr val="00cc00"/>
                      </a:solidFill>
                    </a:lnT>
                    <a:lnB w="5760">
                      <a:solidFill>
                        <a:srgbClr val="00cc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00"/>
                      </a:solidFill>
                    </a:lnL>
                    <a:lnR w="18720">
                      <a:solidFill>
                        <a:srgbClr val="00cc00"/>
                      </a:solidFill>
                    </a:lnR>
                    <a:lnT w="18720">
                      <a:solidFill>
                        <a:srgbClr val="00cc00"/>
                      </a:solidFill>
                    </a:lnT>
                    <a:lnB w="5760">
                      <a:solidFill>
                        <a:srgbClr val="00cc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1058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00"/>
                      </a:solidFill>
                    </a:lnL>
                    <a:lnR w="5760">
                      <a:solidFill>
                        <a:srgbClr val="00cc00"/>
                      </a:solidFill>
                    </a:lnR>
                    <a:lnT w="5760">
                      <a:solidFill>
                        <a:srgbClr val="00cc00"/>
                      </a:solidFill>
                    </a:lnT>
                    <a:lnB w="5760">
                      <a:solidFill>
                        <a:srgbClr val="00cc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00"/>
                      </a:solidFill>
                    </a:lnL>
                    <a:lnR w="18720">
                      <a:solidFill>
                        <a:srgbClr val="00cc00"/>
                      </a:solidFill>
                    </a:lnR>
                    <a:lnT w="5760">
                      <a:solidFill>
                        <a:srgbClr val="00cc00"/>
                      </a:solidFill>
                    </a:lnT>
                    <a:lnB w="5760">
                      <a:solidFill>
                        <a:srgbClr val="00cc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719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00"/>
                      </a:solidFill>
                    </a:lnL>
                    <a:lnR w="5760">
                      <a:solidFill>
                        <a:srgbClr val="00cc00"/>
                      </a:solidFill>
                    </a:lnR>
                    <a:lnT w="5760">
                      <a:solidFill>
                        <a:srgbClr val="00cc00"/>
                      </a:solidFill>
                    </a:lnT>
                    <a:lnB w="18720">
                      <a:solidFill>
                        <a:srgbClr val="00cc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00"/>
                      </a:solidFill>
                    </a:lnL>
                    <a:lnR w="18720">
                      <a:solidFill>
                        <a:srgbClr val="00cc00"/>
                      </a:solidFill>
                    </a:lnR>
                    <a:lnT w="5760">
                      <a:solidFill>
                        <a:srgbClr val="00cc00"/>
                      </a:solidFill>
                    </a:lnT>
                    <a:lnB w="18720">
                      <a:solidFill>
                        <a:srgbClr val="00cc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80" name="Содержимое 2"/>
          <p:cNvSpPr/>
          <p:nvPr/>
        </p:nvSpPr>
        <p:spPr>
          <a:xfrm>
            <a:off x="0" y="333360"/>
            <a:ext cx="9144000" cy="647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alibri"/>
              </a:rPr>
              <a:t>Двойная роль букв е, ё, ю, 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1" name=""/>
          <p:cNvGraphicFramePr/>
          <p:nvPr/>
        </p:nvGraphicFramePr>
        <p:xfrm>
          <a:off x="684360" y="1125360"/>
          <a:ext cx="7775280" cy="4973760"/>
        </p:xfrm>
        <a:graphic>
          <a:graphicData uri="http://schemas.openxmlformats.org/drawingml/2006/table">
            <a:tbl>
              <a:tblPr/>
              <a:tblGrid>
                <a:gridCol w="3671640"/>
                <a:gridCol w="4103640"/>
              </a:tblGrid>
              <a:tr h="1168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означает 2 зву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00"/>
                      </a:solidFill>
                    </a:lnL>
                    <a:lnR w="5760">
                      <a:solidFill>
                        <a:srgbClr val="00cc00"/>
                      </a:solidFill>
                    </a:lnR>
                    <a:lnT w="18720">
                      <a:solidFill>
                        <a:srgbClr val="00cc00"/>
                      </a:solidFill>
                    </a:lnT>
                    <a:lnB w="5760">
                      <a:solidFill>
                        <a:srgbClr val="00cc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означает 1 зву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мягчает согласны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00"/>
                      </a:solidFill>
                    </a:lnL>
                    <a:lnR w="18720">
                      <a:solidFill>
                        <a:srgbClr val="00cc00"/>
                      </a:solidFill>
                    </a:lnR>
                    <a:lnT w="18720">
                      <a:solidFill>
                        <a:srgbClr val="00cc00"/>
                      </a:solidFill>
                    </a:lnT>
                    <a:lnB w="5760">
                      <a:solidFill>
                        <a:srgbClr val="00cc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109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[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й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’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] [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й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’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]   [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й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’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]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[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й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’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00"/>
                      </a:solidFill>
                    </a:lnL>
                    <a:lnR w="5760">
                      <a:solidFill>
                        <a:srgbClr val="00cc00"/>
                      </a:solidFill>
                    </a:lnR>
                    <a:lnT w="5760">
                      <a:solidFill>
                        <a:srgbClr val="00cc00"/>
                      </a:solidFill>
                    </a:lnT>
                    <a:lnB w="5760">
                      <a:solidFill>
                        <a:srgbClr val="00cc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[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]   [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]  [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]  [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00"/>
                      </a:solidFill>
                    </a:lnL>
                    <a:lnR w="18720">
                      <a:solidFill>
                        <a:srgbClr val="00cc00"/>
                      </a:solidFill>
                    </a:lnR>
                    <a:lnT w="5760">
                      <a:solidFill>
                        <a:srgbClr val="00cc00"/>
                      </a:solidFill>
                    </a:lnT>
                    <a:lnB w="5760">
                      <a:solidFill>
                        <a:srgbClr val="00cc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710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начале слова (яма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ле гласных (баян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ле ъ и ь (съел, въюга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00"/>
                      </a:solidFill>
                    </a:lnL>
                    <a:lnR w="5760">
                      <a:solidFill>
                        <a:srgbClr val="00cc00"/>
                      </a:solidFill>
                    </a:lnR>
                    <a:lnT w="5760">
                      <a:solidFill>
                        <a:srgbClr val="00cc00"/>
                      </a:solidFill>
                    </a:lnT>
                    <a:lnB w="18720">
                      <a:solidFill>
                        <a:srgbClr val="00cc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ле согласных (люк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00"/>
                      </a:solidFill>
                    </a:lnL>
                    <a:lnR w="18720">
                      <a:solidFill>
                        <a:srgbClr val="00cc00"/>
                      </a:solidFill>
                    </a:lnR>
                    <a:lnT w="5760">
                      <a:solidFill>
                        <a:srgbClr val="00cc00"/>
                      </a:solidFill>
                    </a:lnT>
                    <a:lnB w="18720">
                      <a:solidFill>
                        <a:srgbClr val="00cc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82" name="Содержимое 2"/>
          <p:cNvSpPr/>
          <p:nvPr/>
        </p:nvSpPr>
        <p:spPr>
          <a:xfrm>
            <a:off x="0" y="333360"/>
            <a:ext cx="9144000" cy="647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alibri"/>
              </a:rPr>
              <a:t>Двойная роль букв е, ё, ю, 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3T22:04:19Z</dcterms:created>
  <dc:creator>user</dc:creator>
  <dc:description/>
  <dc:language>en-US</dc:language>
  <cp:lastModifiedBy>User</cp:lastModifiedBy>
  <dcterms:modified xsi:type="dcterms:W3CDTF">2017-11-02T17:24:38Z</dcterms:modified>
  <cp:revision>42</cp:revision>
  <dc:subject/>
  <dc:title>Двойная роль букв Е, Ё, Ю, Я</dc:title>
</cp:coreProperties>
</file>