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58B-3B2E-4ADD-9283-76B66E52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B2E-C9F5-4D9A-BEE4-D27EBC2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060-728B-4573-813A-D1145E1A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994-8338-4843-9EAA-F9308105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F0B7-C166-48A2-8DFB-154CEC7C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6311-367A-4ED5-B6E7-BA2BC5C1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2E0C-07AE-4BBD-8D3F-3A598CA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15A3-CA44-4D8B-948C-1FDBCCC9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A9F0-D524-4A83-A70C-73812FF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39D-9F98-4DB1-AAA0-B34307E7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1C0D-B5F9-4E12-986C-126D610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6BF-99D7-4244-BE6B-5AD8E92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213-0937-4AFE-952C-E257ECB6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5CA-B012-4FC7-8B53-673C63D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5C0-ADC7-45B6-91A2-7155BF0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DABE-1C58-42E9-8724-85B88F4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0FA-E89B-4648-81DA-7B545A3E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CC9-2732-4887-BC78-A831EC0A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2CF-9B12-43C8-AE7E-AA402E8E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FB4-22A5-4B17-B3C1-4FD03D5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BC6-17E8-4993-B43C-B9379BC9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E8E-4E36-4A97-85F4-A027C3B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2CE-4319-481C-86BA-73A2F04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AF2-7255-47AA-9729-AA0D859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A2E-21E2-48EF-8FD0-F0DA3769E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81B-F0A2-4E70-BF09-5C281469D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Bookman Old Style"/>
              </a:rPr>
              <a:t>                                    </a:t>
            </a:r>
            <a:r>
              <a:rPr b="0" lang="ru-RU" sz="51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4067280" y="4149720"/>
            <a:ext cx="50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СТАВИЛА: ВОСПИТАТЕЛЬ МДОУ ЦРР «КРИСТАЛЛИК» – ДЕТСКИЙ САД №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ОРОДА ЖЕЛЕЗНОГОР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МИТРИКОВА ГАЛ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24000" y="260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ННЫЙ ОБРАЗО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 К НОД ПО  ПОЗНАВАТЕЛЬНОМУ РАЗВИТИЮ «МИХАЙЛОВСКИЙ Г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nsportal.ru/sites/default/files/2016/04/03/dsc_0000039.jpg"/>
          <p:cNvPicPr/>
          <p:nvPr/>
        </p:nvPicPr>
        <p:blipFill>
          <a:blip r:embed="rId1"/>
          <a:stretch/>
        </p:blipFill>
        <p:spPr>
          <a:xfrm>
            <a:off x="0" y="1989000"/>
            <a:ext cx="4284720" cy="496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ttp://russos.ru/img/trip/2010-crimea/gok-24.jpg"/>
          <p:cNvPicPr/>
          <p:nvPr/>
        </p:nvPicPr>
        <p:blipFill>
          <a:blip r:embed="rId2"/>
          <a:stretch/>
        </p:blipFill>
        <p:spPr>
          <a:xfrm>
            <a:off x="7164360" y="260280"/>
            <a:ext cx="18716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nevsedoma.com.ua/images/2011/117/3/Anomaly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metalloinvest.com/upload/resize_cache/iblock/049/660_346_2/obogatitelnaja_fabrika_mgok_small.jpg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adsl.zveronline.ru/projects/articles/2013/11/17/kak_dobyvayut_zhelezo_lebedinskiy_gok_i_mihaylovskiy_gok/0067.jpg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images.aif.ru/006/181/1030504be7a8f8d0c439899074e86878.JPG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images.aif.ru/006/486/0ca98a462ec5107450d819ac8bc782c7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pp.vk.me/c624922/v624922851/328ae/oy_1aoIegpA.jpg"/>
          <p:cNvPicPr/>
          <p:nvPr/>
        </p:nvPicPr>
        <p:blipFill>
          <a:blip r:embed="rId1"/>
          <a:stretch/>
        </p:blipFill>
        <p:spPr>
          <a:xfrm>
            <a:off x="324000" y="1413000"/>
            <a:ext cx="83516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t.dkc.ru/upload/iblock/544/5442c658107a2fb2fbf1c67c8e825e71.jpg"/>
          <p:cNvPicPr/>
          <p:nvPr/>
        </p:nvPicPr>
        <p:blipFill>
          <a:blip r:embed="rId1"/>
          <a:stretch/>
        </p:blipFill>
        <p:spPr>
          <a:xfrm>
            <a:off x="155520" y="1484280"/>
            <a:ext cx="898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static.panoramio.com/photos/large/43771687.jpg"/>
          <p:cNvPicPr/>
          <p:nvPr/>
        </p:nvPicPr>
        <p:blipFill>
          <a:blip r:embed="rId1"/>
          <a:stretch/>
        </p:blipFill>
        <p:spPr>
          <a:xfrm>
            <a:off x="155520" y="1341360"/>
            <a:ext cx="852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www.metalloinvest.com/upload/medialibrary/mikhailovsky.jpg"/>
          <p:cNvPicPr/>
          <p:nvPr/>
        </p:nvPicPr>
        <p:blipFill>
          <a:blip r:embed="rId1"/>
          <a:stretch/>
        </p:blipFill>
        <p:spPr>
          <a:xfrm>
            <a:off x="468360" y="1341360"/>
            <a:ext cx="8136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metalloinvest.com/upload/resize_cache/iblock/0d6/660_346_2/mihajlovskij_gok_rabota_oborudovanija_na_peregruzochnom_punkte_small.jpg"/>
          <p:cNvPicPr/>
          <p:nvPr/>
        </p:nvPicPr>
        <p:blipFill>
          <a:blip r:embed="rId1"/>
          <a:stretch/>
        </p:blipFill>
        <p:spPr>
          <a:xfrm>
            <a:off x="539640" y="1484280"/>
            <a:ext cx="8136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s://www.swsu.ru/structura/up/gf/gdiopi/P1010011.JPG"/>
          <p:cNvPicPr/>
          <p:nvPr/>
        </p:nvPicPr>
        <p:blipFill>
          <a:blip r:embed="rId1"/>
          <a:stretch/>
        </p:blipFill>
        <p:spPr>
          <a:xfrm>
            <a:off x="179280" y="1413000"/>
            <a:ext cx="8640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cs507511.vk.me/u166195306/video/l_dd72cd5b.jpg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adsl.zveronline.ru/projects/articles/2013/11/17/kak_dobyvayut_zhelezo_lebedinskiy_gok_i_mihaylovskiy_gok/00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at-minerals.com/imgs/88977459_6c815b8d05.jpg"/>
          <p:cNvPicPr/>
          <p:nvPr/>
        </p:nvPicPr>
        <p:blipFill>
          <a:blip r:embed="rId1"/>
          <a:stretch/>
        </p:blipFill>
        <p:spPr>
          <a:xfrm>
            <a:off x="468360" y="1268280"/>
            <a:ext cx="835164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Наталья</cp:lastModifiedBy>
  <dcterms:modified xsi:type="dcterms:W3CDTF">2016-12-10T19:52:21Z</dcterms:modified>
  <cp:revision>55</cp:revision>
  <dc:subject/>
  <dc:title>Слайд 1</dc:title>
</cp:coreProperties>
</file>