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0AAF-31BF-4A96-A4A1-27FC947D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58D4-DEE9-41A5-B486-D340EBC1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9854-BDB4-4BE7-9414-A0AB52D1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8B3C-12E9-43BD-A82D-A2695FB36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2C68-5243-4EBA-A627-4E48F2C45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6C23-10F6-4EF8-B6DF-3EDE1248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754A-682E-4EDE-8D26-8F42D0C2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9916-8524-4B8B-928F-E258775C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3794-D903-49C6-BC0A-21E4ED66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A39C-0CDC-47E8-A9AA-A4F0A088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209D-7A1F-4772-970A-FC55A8DC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6A5A-EE33-4048-9BAB-6EF0FC3E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D39C-E65B-44BA-8BF6-B333CB0F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05AF-49C5-49E2-B694-2822BB4A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26D7-B609-496E-97D1-15F161D8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8791-C251-44DA-B283-A8D106139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9E50-81E2-4EA2-9B6D-1E438D20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385F-959A-4B2E-8D04-179D21D0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A45F-6391-453D-8A1B-095F0566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E87C-9D0E-42C2-A6D3-542BDEE5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D28F-76B5-483F-B51D-3049AC3C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A42D-D166-4D24-9271-FB06B59D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B60C-364C-4C0C-BDF1-8C9CA583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B785-2AB9-4E2B-97D0-964DD2DF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1BE7-FD09-4538-9196-3478BDA7B9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138F-4CD1-4859-8C9C-F1C5C97DD7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000000"/>
                </a:solidFill>
                <a:latin typeface="Bookman Old Style"/>
              </a:rPr>
              <a:t>                                    </a:t>
            </a:r>
            <a:r>
              <a:rPr b="0" lang="ru-RU" sz="5100" spc="-1" strike="noStrike">
                <a:solidFill>
                  <a:srgbClr val="002060"/>
                </a:solidFill>
                <a:latin typeface="Bookman Old Style"/>
              </a:rPr>
              <a:t> 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1"/>
          <p:cNvSpPr/>
          <p:nvPr/>
        </p:nvSpPr>
        <p:spPr>
          <a:xfrm>
            <a:off x="4067280" y="4149720"/>
            <a:ext cx="50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ОСТАВИЛА: ВОСПИТАТЕЛЬ МДОУ ЦРР «КРИСТАЛЛИК» – ДЕТСКИЙ САД №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ГОРОДА ЖЕЛЕЗНОГОР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КУ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МИТРИКОВА ГАЛИ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324000" y="26028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КТРОННЫЙ ОБРАЗОВА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УКТ К НОД ПО  ПОЗНАВАТЕЛЬНОМУ РАЗВИТИЮ «МИХАЙЛОВСКИЙ Г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http://nsportal.ru/sites/default/files/2016/04/03/dsc_0000039.jpg"/>
          <p:cNvPicPr/>
          <p:nvPr/>
        </p:nvPicPr>
        <p:blipFill>
          <a:blip r:embed="rId1"/>
          <a:stretch/>
        </p:blipFill>
        <p:spPr>
          <a:xfrm>
            <a:off x="0" y="1989000"/>
            <a:ext cx="4284720" cy="496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http://russos.ru/img/trip/2010-crimea/gok-24.jpg"/>
          <p:cNvPicPr/>
          <p:nvPr/>
        </p:nvPicPr>
        <p:blipFill>
          <a:blip r:embed="rId2"/>
          <a:stretch/>
        </p:blipFill>
        <p:spPr>
          <a:xfrm>
            <a:off x="7164360" y="260280"/>
            <a:ext cx="18716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nevsedoma.com.ua/images/2011/117/3/Anomaly0.jpg"/>
          <p:cNvPicPr/>
          <p:nvPr/>
        </p:nvPicPr>
        <p:blipFill>
          <a:blip r:embed="rId1"/>
          <a:stretch/>
        </p:blipFill>
        <p:spPr>
          <a:xfrm>
            <a:off x="395280" y="1484280"/>
            <a:ext cx="842472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www.metalloinvest.com/upload/resize_cache/iblock/049/660_346_2/obogatitelnaja_fabrika_mgok_small.jpg"/>
          <p:cNvPicPr/>
          <p:nvPr/>
        </p:nvPicPr>
        <p:blipFill>
          <a:blip r:embed="rId1"/>
          <a:stretch/>
        </p:blipFill>
        <p:spPr>
          <a:xfrm>
            <a:off x="324000" y="1484280"/>
            <a:ext cx="849600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adsl.zveronline.ru/projects/articles/2013/11/17/kak_dobyvayut_zhelezo_lebedinskiy_gok_i_mihaylovskiy_gok/0067.jpg"/>
          <p:cNvPicPr/>
          <p:nvPr/>
        </p:nvPicPr>
        <p:blipFill>
          <a:blip r:embed="rId1"/>
          <a:stretch/>
        </p:blipFill>
        <p:spPr>
          <a:xfrm>
            <a:off x="468360" y="1484280"/>
            <a:ext cx="828036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://images.aif.ru/006/181/1030504be7a8f8d0c439899074e86878.JPG"/>
          <p:cNvPicPr/>
          <p:nvPr/>
        </p:nvPicPr>
        <p:blipFill>
          <a:blip r:embed="rId1"/>
          <a:stretch/>
        </p:blipFill>
        <p:spPr>
          <a:xfrm>
            <a:off x="395280" y="1557360"/>
            <a:ext cx="835344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://images.aif.ru/006/486/0ca98a462ec5107450d819ac8bc782c7.jpg"/>
          <p:cNvPicPr/>
          <p:nvPr/>
        </p:nvPicPr>
        <p:blipFill>
          <a:blip r:embed="rId1"/>
          <a:stretch/>
        </p:blipFill>
        <p:spPr>
          <a:xfrm>
            <a:off x="395280" y="1484280"/>
            <a:ext cx="842472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s://pp.vk.me/c624922/v624922851/328ae/oy_1aoIegpA.jpg"/>
          <p:cNvPicPr/>
          <p:nvPr/>
        </p:nvPicPr>
        <p:blipFill>
          <a:blip r:embed="rId1"/>
          <a:stretch/>
        </p:blipFill>
        <p:spPr>
          <a:xfrm>
            <a:off x="324000" y="1413000"/>
            <a:ext cx="835164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st.dkc.ru/upload/iblock/544/5442c658107a2fb2fbf1c67c8e825e71.jpg"/>
          <p:cNvPicPr/>
          <p:nvPr/>
        </p:nvPicPr>
        <p:blipFill>
          <a:blip r:embed="rId1"/>
          <a:stretch/>
        </p:blipFill>
        <p:spPr>
          <a:xfrm>
            <a:off x="155520" y="1484280"/>
            <a:ext cx="89884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static.panoramio.com/photos/large/43771687.jpg"/>
          <p:cNvPicPr/>
          <p:nvPr/>
        </p:nvPicPr>
        <p:blipFill>
          <a:blip r:embed="rId1"/>
          <a:stretch/>
        </p:blipFill>
        <p:spPr>
          <a:xfrm>
            <a:off x="155520" y="1341360"/>
            <a:ext cx="85201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www.metalloinvest.com/upload/medialibrary/mikhailovsky.jpg"/>
          <p:cNvPicPr/>
          <p:nvPr/>
        </p:nvPicPr>
        <p:blipFill>
          <a:blip r:embed="rId1"/>
          <a:stretch/>
        </p:blipFill>
        <p:spPr>
          <a:xfrm>
            <a:off x="468360" y="1341360"/>
            <a:ext cx="813600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www.metalloinvest.com/upload/resize_cache/iblock/0d6/660_346_2/mihajlovskij_gok_rabota_oborudovanija_na_peregruzochnom_punkte_small.jpg"/>
          <p:cNvPicPr/>
          <p:nvPr/>
        </p:nvPicPr>
        <p:blipFill>
          <a:blip r:embed="rId1"/>
          <a:stretch/>
        </p:blipFill>
        <p:spPr>
          <a:xfrm>
            <a:off x="539640" y="1484280"/>
            <a:ext cx="813600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s://www.swsu.ru/structura/up/gf/gdiopi/P1010011.JPG"/>
          <p:cNvPicPr/>
          <p:nvPr/>
        </p:nvPicPr>
        <p:blipFill>
          <a:blip r:embed="rId1"/>
          <a:stretch/>
        </p:blipFill>
        <p:spPr>
          <a:xfrm>
            <a:off x="179280" y="1413000"/>
            <a:ext cx="864072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cs507511.vk.me/u166195306/video/l_dd72cd5b.jpg"/>
          <p:cNvPicPr/>
          <p:nvPr/>
        </p:nvPicPr>
        <p:blipFill>
          <a:blip r:embed="rId1"/>
          <a:stretch/>
        </p:blipFill>
        <p:spPr>
          <a:xfrm>
            <a:off x="468360" y="1484280"/>
            <a:ext cx="828036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adsl.zveronline.ru/projects/articles/2013/11/17/kak_dobyvayut_zhelezo_lebedinskiy_gok_i_mihaylovskiy_gok/0017.jpg"/>
          <p:cNvPicPr/>
          <p:nvPr/>
        </p:nvPicPr>
        <p:blipFill>
          <a:blip r:embed="rId1"/>
          <a:stretch/>
        </p:blipFill>
        <p:spPr>
          <a:xfrm>
            <a:off x="395280" y="1484280"/>
            <a:ext cx="842472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://www.at-minerals.com/imgs/88977459_6c815b8d05.jpg"/>
          <p:cNvPicPr/>
          <p:nvPr/>
        </p:nvPicPr>
        <p:blipFill>
          <a:blip r:embed="rId1"/>
          <a:stretch/>
        </p:blipFill>
        <p:spPr>
          <a:xfrm>
            <a:off x="468360" y="1268280"/>
            <a:ext cx="835164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0:28:03Z</dcterms:created>
  <dc:creator>Федотова Виктория Александровна</dc:creator>
  <dc:description/>
  <dc:language>en-US</dc:language>
  <cp:lastModifiedBy>Наталья</cp:lastModifiedBy>
  <dcterms:modified xsi:type="dcterms:W3CDTF">2016-12-10T19:52:21Z</dcterms:modified>
  <cp:revision>55</cp:revision>
  <dc:subject/>
  <dc:title>Слайд 1</dc:title>
</cp:coreProperties>
</file>