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1BA3-FF9D-4762-B8C7-A38AD805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7C6-F1D6-4D4B-BE6B-CD091FBFC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A307F-0D14-4DE1-A6A6-43EAFE31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94545-8134-4E41-A5BD-3949E97C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B0823-F353-4DEA-93CC-659000C9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6F94F-AE18-4958-AFB8-7451FFDB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208D8-44A6-41C6-8034-4FAB86C7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93086-16FE-49FA-8E8B-F1F3FB71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36149-2421-41DF-A44D-6FEC705D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6FBFB-491A-4C7E-9D71-AC6DFAF12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70B06-166B-4558-A6FD-840FCBC43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503C-0487-4D74-B062-B304B5428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B18D-FFD2-44E2-963B-E1B6FCAE9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996C7-6C8B-47A1-8E80-0FA15DAD9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B26EF-CF81-4959-B506-C2C6EC98A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C413-7858-448C-92A7-3563D441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0FB4-020F-41BA-AF89-FD8EA0F29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E482-6A0A-4566-AC05-29C471E74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60CA2-0C4A-4A83-B5A4-5B53E9792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0FF3-DEF6-4954-A447-0335AAD1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BA5D-51CF-4968-AF30-8047E875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FA73-83C9-42D1-9396-23253BED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ED29-5000-4F49-8BDA-202A9CC2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4B2A0-BA8C-4F33-BED9-C2C3BAE4A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0733A-B8EE-4E11-BBFD-11C6FE87B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E96A-EF36-468F-905C-C3A22E369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554E7-1D59-4FBE-8EC7-1F3B91B7D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5FA59-7ED1-449B-B52F-29C736EEE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C76B5-CD97-45CA-9981-CD631B41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35A4D-3B71-427E-8B74-9C3B832D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9471D-9A54-438F-9ECA-77D12331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FAD4-CAA7-4D38-8F35-6473FA6F2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F6BF2-7DF7-4334-93C0-4FE7DA9C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B26F2-114B-42F3-B215-51FD5200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9B1FF-14D3-415C-89E7-31D9D178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823AF-E0D5-4015-B0B6-64F53665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4F5AE-64DF-4D69-BD88-80D124BC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5ECAC-88C7-424F-80E0-538E10BA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A8476-82AB-42B9-AAA3-C1997943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69509-5CC0-4C72-A07B-85657E5A4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28921-8CA7-4E7D-B0E9-6143ADF7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26C19-6EB2-499F-91D2-FD0E30F7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F2C1-8CF9-44AB-AC6B-609610F2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142E2-6937-4AA6-9A47-9C0D4661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23D60D-EEF3-476B-9E85-BD429223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21A2A-4B6D-466E-A3DE-904B952BF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58359-658B-4FA7-9FC2-C28E0861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0860D-36FC-40D8-8B86-3913734C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D7D88-15EE-49AA-B297-BDE63E07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EB5AD-367B-48A5-8976-8D7FC05F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38E8A-67AC-4C31-A5B8-B16882C53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48578-99A4-4E67-B221-8749F1D0B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B75CF-EB0A-422F-BCDB-E660DAE4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9AF6-609E-411B-9FA8-3638AA1E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04F9E6-7A41-419C-9364-D278A3C0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0BDE3-4F9E-4764-8664-81E53E5F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16613-B52B-4B5F-B64A-7F403FCF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ACDC4-0243-426C-98F3-D217A9F7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A6D01-6A2E-46BA-BAE8-7787AA25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6DCA6-F7B6-4057-BB3A-7F665874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55233-5BBC-4066-83CC-EA6640C4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23F6E-4CBD-491A-8387-2DB5C3CF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6CE4F-2B7F-451D-A926-8C68014FE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89B199-BC0B-4034-ACE4-B376B748E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A50-5E5B-4544-9999-F1CF69DA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557B5-D609-431E-89F3-13D303E2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DD662-47F8-4292-BA03-39005923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DC112-AF85-4348-98E8-362D12A7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E79DF-8394-4D2E-BE8F-A3C0923C8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5D9BFB-BD13-4182-B380-9E4257F9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2CDBC-5E2B-487F-AD25-B45EBBC3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3946E6-9BAD-418F-AABE-91617B7E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DEE52-D4EB-439E-B4DE-284BB5DD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A61BA-A277-4A1B-8EAA-02E493B6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34C21-2BF7-4B31-BB15-D180CA1E4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4B03-4E95-4064-868F-EDB55EB4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C9F0D-D1CD-4D7E-AD9A-060AB909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960C8-C5EA-4EEC-A516-8B7297CE0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8CE44-90D0-4C7C-9DCE-ACDF3AEA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7293A-4A6B-49AD-9AD4-4766A969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7CB08-4BB5-44FC-A2A3-8EDEC6F5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281804-B07E-444B-A414-33DB9BFB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EAE1D8-B759-4E53-8071-1A7AEEDC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70D51-C46B-4E0C-988D-BA05EF5B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677BD6-F30B-4B39-97D8-06828DA85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4293F-2FDC-4CD8-89E7-7C38AAD8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459B-7148-4716-B1C3-88A7C510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6FF56-3194-46B1-BF69-B1FBB1A7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0F97D-450E-4EF6-9519-66D69DCF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E2019-5218-46A9-896C-6BD0880F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CD129-6D55-4E47-B82D-015A82E29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08895-51BC-44C6-B122-2C9178B61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92C32-F5A3-44D3-A281-DFC4EE9C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1A833D-AEE7-49BE-8F85-83847056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F20EEF-997F-4105-B53C-4F09AEF9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51994-32A0-4FE0-9FD6-C82AB8FB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A9F295-4F3F-4FE4-AB94-97D246A9A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B727-404D-45C1-BAE0-AB1F62E6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F7F09-3B2E-4B18-9F7C-DA56E2B9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A2508-CC5F-49C4-840C-311CF6DB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E7AD1-41EB-4108-977B-24347C90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A8412-2C45-48FF-81ED-AD7EB667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CBA637-08AC-4395-8B57-70C298690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2A0ED-24CF-40E1-9B00-B41A5F9D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CC573-B048-4948-8039-49B800FE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D42C79-A6A2-4F8F-96F8-8D9D6C0CD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37AE49-DC01-428D-ADB2-70F08C1F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4FD88-C485-4E51-855F-29612CE7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6EDE-FA89-48E1-B140-0213BC551AF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CC860-E097-4468-AEA0-A1EF7D008BA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A8AC-6467-4A83-966D-1B16FABFFE7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a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e7a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a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e7a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a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e7a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a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e7a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a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e7a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a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e7a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a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e7ab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7a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fe7ab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4BAB-5E85-4C1E-8863-0AD8DCE2EAC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1B9EF-FB9D-4782-B112-40F7FD1D089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DF41-EB20-45D6-BEEC-A3BF003FC7D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C66C-64BE-4DE4-9B55-C1B9C06ABA1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B91B-893D-49BF-A53B-DDECED4CF37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DCC1-4EED-46A2-BDEB-3A6A71BEDFA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C:\Documents and Settings\Admin\Рабочий стол\Копия 4кл\DSCN1382.jpg"/>
          <p:cNvPicPr/>
          <p:nvPr/>
        </p:nvPicPr>
        <p:blipFill>
          <a:blip r:embed="rId1"/>
          <a:stretch/>
        </p:blipFill>
        <p:spPr>
          <a:xfrm>
            <a:off x="1901880" y="1600200"/>
            <a:ext cx="5335560" cy="4002120"/>
          </a:xfrm>
          <a:prstGeom prst="rect">
            <a:avLst/>
          </a:prstGeom>
          <a:ln w="0">
            <a:noFill/>
          </a:ln>
        </p:spPr>
      </p:pic>
      <p:sp>
        <p:nvSpPr>
          <p:cNvPr id="400" name="TextBox 2"/>
          <p:cNvSpPr/>
          <p:nvPr/>
        </p:nvSpPr>
        <p:spPr>
          <a:xfrm>
            <a:off x="902160" y="304920"/>
            <a:ext cx="731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ОГРАММА РАЗВИТ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ЛАССНОГО КОЛЛЕКТИ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762120" y="579132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 классного руководителя 2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Школа г.Москвы  ОП  Ерино   Мацько Ирины Михайло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1"/>
          <p:cNvSpPr/>
          <p:nvPr/>
        </p:nvSpPr>
        <p:spPr>
          <a:xfrm>
            <a:off x="2036880" y="304920"/>
            <a:ext cx="51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Franklin Gothic Book"/>
              </a:rPr>
              <a:t>Мы –патриоты нашей Родины</a:t>
            </a:r>
            <a:r>
              <a:rPr b="1" lang="ru-RU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" descr="C:\Documents and Settings\Admin\Рабочий стол\43 кл\DSC05418.JPG"/>
          <p:cNvPicPr/>
          <p:nvPr/>
        </p:nvPicPr>
        <p:blipFill>
          <a:blip r:embed="rId1"/>
          <a:stretch/>
        </p:blipFill>
        <p:spPr>
          <a:xfrm>
            <a:off x="380880" y="1219320"/>
            <a:ext cx="3656160" cy="27432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" descr="C:\Documents and Settings\Admin\Рабочий стол\43 кл\P1011253.JPG"/>
          <p:cNvPicPr/>
          <p:nvPr/>
        </p:nvPicPr>
        <p:blipFill>
          <a:blip r:embed="rId2"/>
          <a:stretch/>
        </p:blipFill>
        <p:spPr>
          <a:xfrm>
            <a:off x="1211400" y="4038480"/>
            <a:ext cx="1995480" cy="26607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" descr="C:\Documents and Settings\Admin\Рабочий стол\43 кл\спорт\P1010655.JPG"/>
          <p:cNvPicPr/>
          <p:nvPr/>
        </p:nvPicPr>
        <p:blipFill>
          <a:blip r:embed="rId3"/>
          <a:stretch/>
        </p:blipFill>
        <p:spPr>
          <a:xfrm>
            <a:off x="4419720" y="260028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e3b30"/>
                </a:solidFill>
                <a:latin typeface="Franklin Gothic Book"/>
              </a:rPr>
              <a:t>Направление «Я – эрудит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положительная динамики успеваемости и качества знаний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активный участник конкурсов, выставок и других  мероприятиях школьного и районного уровня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готовый к саморазвитию и самообразованию, осознанному выбору и построению дальнейшей индивидуальной траектории образования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e3b30"/>
                </a:solidFill>
                <a:latin typeface="Franklin Gothic Book"/>
              </a:rPr>
              <a:t>Направление «Я и общество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социально активный, уважает закон и правопорядок, соизмеряет свои поступки с нравственными ценностями, осознающий свои обязанности перед семьей, обществом, Отечеством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обладающий высоким уровнем самосознания, чувства собственного достоинства, са­модисциплины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e3b30"/>
                </a:solidFill>
                <a:latin typeface="Franklin Gothic Book"/>
              </a:rPr>
              <a:t>Направление «Я и Родина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гражданин своей Родины, осознающий ответственности за судьбу страны, родного края, семьи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 уважающий свой народ, его культуру и духовные традиции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2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9" name="TextBox 3" descr=""/>
          <p:cNvPicPr/>
          <p:nvPr/>
        </p:nvPicPr>
        <p:blipFill>
          <a:blip r:embed="rId1"/>
          <a:stretch/>
        </p:blipFill>
        <p:spPr>
          <a:xfrm>
            <a:off x="298440" y="-133200"/>
            <a:ext cx="766296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4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4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4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4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66600" y="146160"/>
            <a:ext cx="8931240" cy="11588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04920" y="15537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e3b30"/>
                </a:solidFill>
                <a:latin typeface="Franklin Gothic Book"/>
              </a:rPr>
              <a:t>Направление «Я и здоровье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самореализация в спорте через участие в конкурсах, смотрах, викторинах, соревнованиях разного уровня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сформирована ценность здорового и безопасного образа жизни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усвоены правила индивидуального и коллективного безопасного поведения в любых жизненных ситуациях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e3b30"/>
                </a:solidFill>
                <a:latin typeface="Franklin Gothic Book"/>
              </a:rPr>
              <a:t>Направление «Я и творчество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сформированное стремление своими руками творить прекрасное вокруг себя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потребность в посещении театров, выставок, концертов, чтении классической литературы, умение проникать во внутренний мир художественного произведения, понимать его духовную сущность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 стремление строить свою дальнейшую жизнь по законам гармонии и красоты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e3b30"/>
                </a:solidFill>
                <a:latin typeface="Franklin Gothic Book"/>
              </a:rPr>
              <a:t>Направление «Я и природа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сформированное бережное отношение к природе родной земли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участие в природоохранительной деятельности в школе, в районе, в стране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Содержимое 2" descr=""/>
          <p:cNvPicPr/>
          <p:nvPr/>
        </p:nvPicPr>
        <p:blipFill>
          <a:blip r:embed="rId1"/>
          <a:stretch/>
        </p:blipFill>
        <p:spPr>
          <a:xfrm>
            <a:off x="426960" y="689040"/>
            <a:ext cx="8278920" cy="5986440"/>
          </a:xfrm>
          <a:prstGeom prst="rect">
            <a:avLst/>
          </a:prstGeom>
          <a:ln w="0">
            <a:noFill/>
          </a:ln>
        </p:spPr>
      </p:pic>
      <p:pic>
        <p:nvPicPr>
          <p:cNvPr id="463" name="Заголовок 1" descr=""/>
          <p:cNvPicPr/>
          <p:nvPr/>
        </p:nvPicPr>
        <p:blipFill>
          <a:blip r:embed="rId2"/>
          <a:stretch/>
        </p:blipFill>
        <p:spPr>
          <a:xfrm>
            <a:off x="390600" y="378000"/>
            <a:ext cx="8467560" cy="14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Прямоугольник 3" descr=""/>
          <p:cNvPicPr/>
          <p:nvPr/>
        </p:nvPicPr>
        <p:blipFill>
          <a:blip r:embed="rId1"/>
          <a:stretch/>
        </p:blipFill>
        <p:spPr>
          <a:xfrm>
            <a:off x="182520" y="3236760"/>
            <a:ext cx="875988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Содержимое 2" descr=""/>
          <p:cNvPicPr/>
          <p:nvPr/>
        </p:nvPicPr>
        <p:blipFill>
          <a:blip r:embed="rId1"/>
          <a:stretch/>
        </p:blipFill>
        <p:spPr>
          <a:xfrm>
            <a:off x="219240" y="500040"/>
            <a:ext cx="86389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-237960" y="-60480"/>
            <a:ext cx="8474040" cy="9194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на основе изучения личности каждого учащегося, интересов, стремлений и желаний создать максимум условий для всестороннего развития личност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способствовать воспитанию интереса к учебе, стремление повышать качество своих знани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учить доброте, милосердию, отзывчивости, толерантност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способствовать воспитанию любви к малой Родине, семье, школе, природе, народным традициям Росси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способствовать формированию у учащихся гражданско-патриотического сознания, духовно-нравственных ценностей гражданина Росси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прививать навыки здорового образа жизни, любовь к физкультуре и спорту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поддерживать творческую активность учащихся во всех сферах деятельност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способствовать формированию бесконфликтного сотрудничества и взаимодействие обучающихся, учителей и родителе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всю работу над развитием личности ребёнка вести с учётом его возрастных особенностей, к каждому ученику – индивидуальный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5"/>
          <p:cNvSpPr/>
          <p:nvPr/>
        </p:nvSpPr>
        <p:spPr>
          <a:xfrm>
            <a:off x="1403280" y="2349360"/>
            <a:ext cx="6193080" cy="1922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воспитательной работы с классным коллектив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6"/>
          <p:cNvSpPr/>
          <p:nvPr/>
        </p:nvSpPr>
        <p:spPr>
          <a:xfrm>
            <a:off x="0" y="549360"/>
            <a:ext cx="2843280" cy="1557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ллектуальное вос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и нау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7"/>
          <p:cNvSpPr/>
          <p:nvPr/>
        </p:nvSpPr>
        <p:spPr>
          <a:xfrm>
            <a:off x="6156360" y="620640"/>
            <a:ext cx="2987640" cy="1557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триотическое вос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и Род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8"/>
          <p:cNvSpPr/>
          <p:nvPr/>
        </p:nvSpPr>
        <p:spPr>
          <a:xfrm>
            <a:off x="3059280" y="549360"/>
            <a:ext cx="2881080" cy="1557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равственное воспит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и обще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9"/>
          <p:cNvSpPr/>
          <p:nvPr/>
        </p:nvSpPr>
        <p:spPr>
          <a:xfrm>
            <a:off x="0" y="4508640"/>
            <a:ext cx="2916360" cy="1922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культурно-оздоровительное воспит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и здоровь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0"/>
          <p:cNvSpPr/>
          <p:nvPr/>
        </p:nvSpPr>
        <p:spPr>
          <a:xfrm>
            <a:off x="3132000" y="4508640"/>
            <a:ext cx="2808360" cy="1922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ественно-эстетическое вос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и творче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1"/>
          <p:cNvSpPr/>
          <p:nvPr/>
        </p:nvSpPr>
        <p:spPr>
          <a:xfrm>
            <a:off x="6156360" y="4508640"/>
            <a:ext cx="2987640" cy="1922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ое вос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и 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22"/>
          <p:cNvSpPr/>
          <p:nvPr/>
        </p:nvSpPr>
        <p:spPr>
          <a:xfrm>
            <a:off x="3048120" y="2895480"/>
            <a:ext cx="2514600" cy="25146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3048120" y="2831760"/>
            <a:ext cx="2666880" cy="2837160"/>
          </a:xfrm>
          <a:prstGeom prst="rect">
            <a:avLst/>
          </a:prstGeom>
          <a:solidFill>
            <a:srgbClr val="e2ac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лассные ча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нкур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се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нкетир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олевые иг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стречи с интересными людь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ллективные творческие д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23"/>
          <p:cNvSpPr/>
          <p:nvPr/>
        </p:nvSpPr>
        <p:spPr>
          <a:xfrm>
            <a:off x="6019920" y="2895480"/>
            <a:ext cx="2971800" cy="18288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6"/>
          <p:cNvSpPr/>
          <p:nvPr/>
        </p:nvSpPr>
        <p:spPr>
          <a:xfrm>
            <a:off x="304920" y="2895480"/>
            <a:ext cx="2438280" cy="18288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"/>
          <p:cNvSpPr/>
          <p:nvPr/>
        </p:nvSpPr>
        <p:spPr>
          <a:xfrm>
            <a:off x="533520" y="3049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сновные направ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оспитательной работы и виды меро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Овал 2"/>
          <p:cNvSpPr/>
          <p:nvPr/>
        </p:nvSpPr>
        <p:spPr>
          <a:xfrm>
            <a:off x="228600" y="1523880"/>
            <a:ext cx="2133720" cy="91440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Овал 3"/>
          <p:cNvSpPr/>
          <p:nvPr/>
        </p:nvSpPr>
        <p:spPr>
          <a:xfrm>
            <a:off x="3276720" y="1523880"/>
            <a:ext cx="2209680" cy="91440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Овал 4"/>
          <p:cNvSpPr/>
          <p:nvPr/>
        </p:nvSpPr>
        <p:spPr>
          <a:xfrm>
            <a:off x="6095880" y="1447920"/>
            <a:ext cx="2895840" cy="9903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"/>
          <p:cNvSpPr/>
          <p:nvPr/>
        </p:nvSpPr>
        <p:spPr>
          <a:xfrm>
            <a:off x="228600" y="2904480"/>
            <a:ext cx="2514600" cy="2014200"/>
          </a:xfrm>
          <a:prstGeom prst="rect">
            <a:avLst/>
          </a:prstGeom>
          <a:solidFill>
            <a:srgbClr val="e2ac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нкурсы ;                     - олимпиа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лассные ча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се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иктор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матические КВ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1"/>
          <p:cNvSpPr/>
          <p:nvPr/>
        </p:nvSpPr>
        <p:spPr>
          <a:xfrm flipH="1">
            <a:off x="1295280" y="1258920"/>
            <a:ext cx="3200400" cy="2649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13"/>
          <p:cNvSpPr/>
          <p:nvPr/>
        </p:nvSpPr>
        <p:spPr>
          <a:xfrm>
            <a:off x="4494960" y="1258920"/>
            <a:ext cx="3048120" cy="18900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15"/>
          <p:cNvSpPr/>
          <p:nvPr/>
        </p:nvSpPr>
        <p:spPr>
          <a:xfrm flipH="1">
            <a:off x="4381200" y="1258920"/>
            <a:ext cx="114120" cy="2649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5943600" y="2828160"/>
            <a:ext cx="3048120" cy="2014200"/>
          </a:xfrm>
          <a:prstGeom prst="rect">
            <a:avLst/>
          </a:prstGeom>
          <a:solidFill>
            <a:srgbClr val="e2ac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лассные ча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кур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нцер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сещение театров, музеев, выста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атральные постанов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25"/>
          <p:cNvSpPr/>
          <p:nvPr/>
        </p:nvSpPr>
        <p:spPr>
          <a:xfrm>
            <a:off x="1295280" y="2438280"/>
            <a:ext cx="190800" cy="45720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27"/>
          <p:cNvSpPr/>
          <p:nvPr/>
        </p:nvSpPr>
        <p:spPr>
          <a:xfrm flipH="1">
            <a:off x="4379400" y="2440080"/>
            <a:ext cx="3240" cy="38088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ая соединительная линия 29"/>
          <p:cNvSpPr/>
          <p:nvPr/>
        </p:nvSpPr>
        <p:spPr>
          <a:xfrm flipH="1">
            <a:off x="7467480" y="2438280"/>
            <a:ext cx="76320" cy="38124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22"/>
          <p:cNvSpPr/>
          <p:nvPr/>
        </p:nvSpPr>
        <p:spPr>
          <a:xfrm rot="16200000">
            <a:off x="3048120" y="3276360"/>
            <a:ext cx="2514600" cy="2133720"/>
          </a:xfrm>
          <a:prstGeom prst="rect">
            <a:avLst/>
          </a:prstGeom>
          <a:solidFill>
            <a:srgbClr val="e2ac76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23"/>
          <p:cNvSpPr/>
          <p:nvPr/>
        </p:nvSpPr>
        <p:spPr>
          <a:xfrm>
            <a:off x="6019920" y="2895480"/>
            <a:ext cx="2819160" cy="2590920"/>
          </a:xfrm>
          <a:prstGeom prst="rect">
            <a:avLst/>
          </a:prstGeom>
          <a:solidFill>
            <a:srgbClr val="e2ac76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16"/>
          <p:cNvSpPr/>
          <p:nvPr/>
        </p:nvSpPr>
        <p:spPr>
          <a:xfrm>
            <a:off x="304920" y="2895480"/>
            <a:ext cx="2438280" cy="2133720"/>
          </a:xfrm>
          <a:prstGeom prst="rect">
            <a:avLst/>
          </a:prstGeom>
          <a:solidFill>
            <a:srgbClr val="e2ac76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1"/>
          <p:cNvSpPr/>
          <p:nvPr/>
        </p:nvSpPr>
        <p:spPr>
          <a:xfrm>
            <a:off x="533520" y="3049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сновные направ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оспитательной работы и виды меро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Овал 2"/>
          <p:cNvSpPr/>
          <p:nvPr/>
        </p:nvSpPr>
        <p:spPr>
          <a:xfrm>
            <a:off x="228600" y="1523880"/>
            <a:ext cx="2438280" cy="91440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3"/>
          <p:cNvSpPr/>
          <p:nvPr/>
        </p:nvSpPr>
        <p:spPr>
          <a:xfrm>
            <a:off x="3276720" y="1523880"/>
            <a:ext cx="2209680" cy="91440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4"/>
          <p:cNvSpPr/>
          <p:nvPr/>
        </p:nvSpPr>
        <p:spPr>
          <a:xfrm>
            <a:off x="5867280" y="1447920"/>
            <a:ext cx="3124440" cy="9903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о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ая соединительная линия 11"/>
          <p:cNvSpPr/>
          <p:nvPr/>
        </p:nvSpPr>
        <p:spPr>
          <a:xfrm flipH="1">
            <a:off x="1447920" y="1258920"/>
            <a:ext cx="3047760" cy="2649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ая соединительная линия 13"/>
          <p:cNvSpPr/>
          <p:nvPr/>
        </p:nvSpPr>
        <p:spPr>
          <a:xfrm>
            <a:off x="4495680" y="1258920"/>
            <a:ext cx="2934000" cy="18900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ая соединительная линия 15"/>
          <p:cNvSpPr/>
          <p:nvPr/>
        </p:nvSpPr>
        <p:spPr>
          <a:xfrm flipH="1">
            <a:off x="4381200" y="1258920"/>
            <a:ext cx="114120" cy="2649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ая соединительная линия 25"/>
          <p:cNvSpPr/>
          <p:nvPr/>
        </p:nvSpPr>
        <p:spPr>
          <a:xfrm>
            <a:off x="1447920" y="2438280"/>
            <a:ext cx="38160" cy="45720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380880" y="2980440"/>
            <a:ext cx="2286000" cy="2014200"/>
          </a:xfrm>
          <a:prstGeom prst="rect">
            <a:avLst/>
          </a:prstGeom>
          <a:solidFill>
            <a:srgbClr val="e2ac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ртивные соревн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седы и ле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урни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хо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экскур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движные иг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3124080" y="3183840"/>
            <a:ext cx="236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лассные ча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кур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се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стречи с родител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нкетир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стирование;  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6095880" y="2707200"/>
            <a:ext cx="2667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лассные ча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се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стречи с интересными людь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экскурсии и похо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иктор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смотры фильмов;  -проектная де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ая соединительная линия 42"/>
          <p:cNvSpPr/>
          <p:nvPr/>
        </p:nvSpPr>
        <p:spPr>
          <a:xfrm flipH="1">
            <a:off x="4305240" y="2438280"/>
            <a:ext cx="76320" cy="7365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ая соединительная линия 47"/>
          <p:cNvSpPr/>
          <p:nvPr/>
        </p:nvSpPr>
        <p:spPr>
          <a:xfrm>
            <a:off x="7429680" y="2438280"/>
            <a:ext cx="0" cy="45720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45" name="Содержимое 2" descr=""/>
          <p:cNvPicPr/>
          <p:nvPr/>
        </p:nvPicPr>
        <p:blipFill>
          <a:blip r:embed="rId2"/>
          <a:stretch/>
        </p:blipFill>
        <p:spPr>
          <a:xfrm>
            <a:off x="219240" y="1547640"/>
            <a:ext cx="9034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2475000" y="-146160"/>
            <a:ext cx="6278400" cy="19749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"/>
          <p:cNvPicPr/>
          <p:nvPr/>
        </p:nvPicPr>
        <p:blipFill>
          <a:blip r:embed="rId2"/>
          <a:stretch/>
        </p:blipFill>
        <p:spPr>
          <a:xfrm>
            <a:off x="250920" y="117360"/>
            <a:ext cx="2449440" cy="326556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4" descr="день им.JPG"/>
          <p:cNvPicPr/>
          <p:nvPr/>
        </p:nvPicPr>
        <p:blipFill>
          <a:blip r:embed="rId3"/>
          <a:stretch/>
        </p:blipFill>
        <p:spPr>
          <a:xfrm>
            <a:off x="324000" y="3672000"/>
            <a:ext cx="4248000" cy="3186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"/>
          <p:cNvPicPr/>
          <p:nvPr/>
        </p:nvPicPr>
        <p:blipFill>
          <a:blip r:embed="rId4"/>
          <a:stretch/>
        </p:blipFill>
        <p:spPr>
          <a:xfrm>
            <a:off x="4716360" y="1474920"/>
            <a:ext cx="4103640" cy="5383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"/>
          <p:cNvPicPr/>
          <p:nvPr/>
        </p:nvPicPr>
        <p:blipFill>
          <a:blip r:embed="rId5"/>
          <a:stretch/>
        </p:blipFill>
        <p:spPr>
          <a:xfrm>
            <a:off x="1835280" y="1916280"/>
            <a:ext cx="37656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e3b30"/>
                </a:solidFill>
                <a:latin typeface="Monotype Corsiva"/>
              </a:rPr>
              <a:t>Воспоминания родителей, семейные фотографии, реликвии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3" name="Picture 24" descr="DSC00765"/>
          <p:cNvPicPr/>
          <p:nvPr/>
        </p:nvPicPr>
        <p:blipFill>
          <a:blip r:embed="rId1"/>
          <a:stretch/>
        </p:blipFill>
        <p:spPr>
          <a:xfrm>
            <a:off x="0" y="1989000"/>
            <a:ext cx="6985080" cy="486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кола</dc:creator>
  <dc:description/>
  <dc:language>en-US</dc:language>
  <cp:lastModifiedBy>user</cp:lastModifiedBy>
  <dcterms:modified xsi:type="dcterms:W3CDTF">2018-06-26T13:06:57Z</dcterms:modified>
  <cp:revision>40</cp:revision>
  <dc:subject/>
  <dc:title>Слайд 1</dc:title>
</cp:coreProperties>
</file>