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2.png" ContentType="image/png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AD9-0CA5-4F67-86BA-6A08C7EF0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674-C461-41D6-BB2B-BC4CEF01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A1D8C-0B98-44CD-92F8-9D8D0F10C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5637F-5441-486E-911F-D55E4C34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5EB221-2090-4E5F-9450-DF7CA387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E6807-56E9-4012-B33E-21515133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E2EEEB-9AFE-4310-B6CA-EFD6F153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956D9D-F409-4FFE-B29B-BDEEE0241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24BC48-3397-403B-830D-A166749B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D522C-6228-4546-913B-C406C305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140774-E76F-4A1A-A714-1FC514B5D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52BC-9B11-4C38-A856-F30992FA6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E251-C121-4604-BE6B-6682B9F2A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C3181-1677-4017-94E1-3E90FF0AA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38B4-5196-47E8-A23C-698FC24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EDA5-DA9F-47B3-8105-160BF90A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A599B-E751-44E7-B516-DFE1913B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8286D-7151-434B-BBD2-3857A3BFB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FC6F-06AF-44A2-B7D9-937088DB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5111-8C13-4403-BE95-E7623E81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0FDA-2524-495F-8DF5-A6665CA8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CFE7-ABA0-4206-A1C0-236B8F86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B188-9D57-46F7-9DBF-003302C3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C86A-67D9-4D8D-AC4B-53944D34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767E-95AE-401A-B485-457F2229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53FF-2B23-47EE-997C-7C8C8916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250C3-F2CB-4591-B1E1-1F1CF282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CB3A1-80BB-45E5-8FB0-BB4FBA897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DCD1A-DDD6-4C4D-91D8-39B2189DB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9B343F-7164-4AFF-A205-3BFA3A4D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A5897-E44D-45A2-A5A8-154915F3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2F88-61E1-4F33-86F7-A8229ED1B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6606-F5E5-4768-AAAC-E5A60FBC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1C2A-851D-45E7-98BB-94CC6604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81AB00-82D4-4EC3-BCF3-90AF57E7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986E8-D9F5-4FEB-8438-113D97FB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1B00E-01DC-427F-A6EF-61A8A5E2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18C4-753E-4358-B004-D633FA0E5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7EEEB-2815-4ACA-A92D-AC42322A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18FA3-9B50-41A6-861C-129BA712C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8C982-F3F7-4EAD-8B88-FC5858563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A417-56C9-4EC2-B0B3-7125E54D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C97-8B61-4543-9AC0-2E5928B6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2483B-067D-4ACB-A8AD-BDE7CD1F4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B97C2-CFC9-41EC-BB61-E5BB148E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C1692-B2DA-4461-B63D-74FFC025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6F0AC-9414-4318-BD85-4D840E0F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DC2AA-6DE5-49FC-B9F3-3D4EAE11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63C9B-1DF1-4E7D-993D-CB30D7F38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E7464-9437-49EE-A4F9-3B326A52D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4E9EF-8299-40AB-914E-D7102EE1A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2F1A7-2C28-4C94-BE14-34AB078E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6C0E4-1C4A-48EC-BF8B-31F231A7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E02-5B1D-4395-A421-748D11FA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F2287-9378-406B-A914-67416989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88882-771D-4B3E-87DB-6D5030F0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42749-E041-4C32-8A8A-582E55CD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AADD6-91E1-4B59-A183-0CB89A2E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6DDEE8-3CA7-4191-B743-C0412464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23414-4794-4F9F-A7F2-AE078B0C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7D4B6-A069-4AB6-A6EA-CA32D7ED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A728D0-05BA-4701-A49D-432561F1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89D9F-091F-43B0-B406-B035D91A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0C4E7-6928-4726-B4EE-5C4EBBC8E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D821-D17C-4C81-8EB0-A56B4DEA5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93E5AA-C211-4219-8DBA-60E48840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D67DA-9977-4670-AA56-C4589EA6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57A0F-BBC2-4C46-A8FF-71FF6DB3C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361DD-8008-4B43-A6B9-553CDBE5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DBEE-9A38-4B4F-A5DD-10DDC7142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962CE-41C0-4559-BEA4-E6345645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59535-4F87-4BAA-92C3-1CC14AFC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70CBA-9810-4A31-9A99-993240F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200392-C2C4-422A-A1EA-7A9C59F2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F1307-33E5-447B-A8EA-D6E8FE09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560B-F646-44CA-9E6F-280AA0C6C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65E1E-A962-4E34-863C-8D3C727B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767053-AFAD-490D-9DC3-0A3D4F0B2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D99D8-ACF1-4AD9-9D3F-8FD2A34BF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0C5D2-08EC-4230-8174-FB70A0CA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9A8FDB-0C17-466E-BAB7-15AD2DAD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CB75C-67C4-4D7E-B499-1FF07517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C3F76F-7103-4ACA-A773-47ABEF43D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B179A-9A9C-4193-BF73-2B1F8F9B0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A1974F-FCFB-45BC-B7C4-2419121A1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8ECD3-F59E-4281-AF4B-300C7D17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33A-9725-469B-93E4-910FFDEF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F0A15-5876-4F4A-B33D-4227760D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CC0AB-86F7-4AB3-9219-8380FA90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F9680-2190-4608-ACF0-BE3EF26F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0EAE7-9B30-4493-919C-7550B7BB8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47137-13D9-45B9-9E69-47122AAF1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2283A-12B7-4A00-AF72-638BB4BC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01F06-20CB-4304-853A-FC79CC1D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997A8-7615-4333-89B1-B35723F80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67E01-F2D6-4BBF-A4FD-069C025D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A66210-9910-4A01-96C8-196A37236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5325-A295-4FF8-B18C-E6F6D474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1B01C7-D535-4CA1-813E-5833746CF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0D6E3-2452-49C2-8514-7ECF9BEB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DC6525-1301-456E-A014-635C7DDE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585F7-180A-438F-B82B-E9E5CEF6D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44EBF9-A192-45D2-BB02-558C95912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DEEA6F-6ABE-4D0E-AC17-EBF7F5E1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8CABD-ADCF-419A-B8F0-4A6905F4B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339BB-28E6-40E7-A9E3-E082E906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40F77F-CD1F-4E68-AD52-4B3A1F503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348F42-BA68-4128-8537-134D3EBC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837F-E262-445D-853D-1C8A665DCF0C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C7A3-3B2B-4BDB-B339-36508504CD7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4C72-A228-4F56-B135-DE8E93703AE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ab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fe7ab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ab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fe7ab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7769A-E2C0-4A4E-A397-CC42A369162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3314-1C8B-4BB3-B7B4-B805A9BD8F7E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5AE0D-A5A5-4DB2-AA08-4F84D9924CE4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9CE78-AFE2-4B02-AEFD-DFC8E5817D2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4439-906D-4EC3-AAA3-D5A55008178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61FD5-367D-437B-9F85-5A1649C69B9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2" descr="C:\Documents and Settings\Admin\Рабочий стол\Копия 4кл\DSCN1382.jpg"/>
          <p:cNvPicPr/>
          <p:nvPr/>
        </p:nvPicPr>
        <p:blipFill>
          <a:blip r:embed="rId1"/>
          <a:stretch/>
        </p:blipFill>
        <p:spPr>
          <a:xfrm>
            <a:off x="1901880" y="1600200"/>
            <a:ext cx="5335560" cy="4002120"/>
          </a:xfrm>
          <a:prstGeom prst="rect">
            <a:avLst/>
          </a:prstGeom>
          <a:ln w="0">
            <a:noFill/>
          </a:ln>
        </p:spPr>
      </p:pic>
      <p:sp>
        <p:nvSpPr>
          <p:cNvPr id="400" name="TextBox 2"/>
          <p:cNvSpPr/>
          <p:nvPr/>
        </p:nvSpPr>
        <p:spPr>
          <a:xfrm>
            <a:off x="902160" y="304920"/>
            <a:ext cx="7317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ПРОГРАММА РАЗВИТИ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ЛАССНОГО КОЛЛЕКТ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762120" y="579132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пыта работы классного руководителя 2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г.Москвы  ОП  Ерино   Мацько Ирины Михайло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Box 1"/>
          <p:cNvSpPr/>
          <p:nvPr/>
        </p:nvSpPr>
        <p:spPr>
          <a:xfrm>
            <a:off x="2036880" y="304920"/>
            <a:ext cx="513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Franklin Gothic Book"/>
              </a:rPr>
              <a:t>Мы –патриоты нашей Родины</a:t>
            </a:r>
            <a:r>
              <a:rPr b="1" lang="ru-RU" sz="2400" spc="-1" strike="noStrike">
                <a:solidFill>
                  <a:srgbClr val="ffff00"/>
                </a:solidFill>
                <a:latin typeface="Franklin Gothic 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2" descr="C:\Documents and Settings\Admin\Рабочий стол\43 кл\DSC05418.JPG"/>
          <p:cNvPicPr/>
          <p:nvPr/>
        </p:nvPicPr>
        <p:blipFill>
          <a:blip r:embed="rId1"/>
          <a:stretch/>
        </p:blipFill>
        <p:spPr>
          <a:xfrm>
            <a:off x="380880" y="1219320"/>
            <a:ext cx="3656160" cy="27432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C:\Documents and Settings\Admin\Рабочий стол\43 кл\P1011253.JPG"/>
          <p:cNvPicPr/>
          <p:nvPr/>
        </p:nvPicPr>
        <p:blipFill>
          <a:blip r:embed="rId2"/>
          <a:stretch/>
        </p:blipFill>
        <p:spPr>
          <a:xfrm>
            <a:off x="1211400" y="4038480"/>
            <a:ext cx="1995480" cy="26607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3" descr="C:\Documents and Settings\Admin\Рабочий стол\43 кл\спорт\P1010655.JPG"/>
          <p:cNvPicPr/>
          <p:nvPr/>
        </p:nvPicPr>
        <p:blipFill>
          <a:blip r:embed="rId3"/>
          <a:stretch/>
        </p:blipFill>
        <p:spPr>
          <a:xfrm>
            <a:off x="4419720" y="260028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3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– эрудит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положительная динамики успеваемости и качества знаний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активный участник конкурсов, выставок и других  мероприятиях школьного и районного уровня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готовый к саморазвитию и самообразованию, осознанному выбору и построению дальнейшей индивидуальной траектории образования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общество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оциально активный, уважает закон и правопорядок, соизмеряет свои поступки с нравственными ценностями, осознающий свои обязанности перед семьей, обществом, Отечеством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обладающий высоким уровнем самосознания, чувства собственного достоинства, са­модисциплины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Родина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гражданин своей Родины, осознающий ответственности за судьбу страны, родного края, семьи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 уважающий свой народ, его культуру и духовные традиции.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275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9" name="TextBox 3" descr=""/>
          <p:cNvPicPr/>
          <p:nvPr/>
        </p:nvPicPr>
        <p:blipFill>
          <a:blip r:embed="rId1"/>
          <a:stretch/>
        </p:blipFill>
        <p:spPr>
          <a:xfrm>
            <a:off x="298440" y="-133200"/>
            <a:ext cx="76629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4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4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4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45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45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45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45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45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45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Заголовок 1" descr=""/>
          <p:cNvPicPr/>
          <p:nvPr/>
        </p:nvPicPr>
        <p:blipFill>
          <a:blip r:embed="rId1"/>
          <a:stretch/>
        </p:blipFill>
        <p:spPr>
          <a:xfrm>
            <a:off x="66600" y="146160"/>
            <a:ext cx="893124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04920" y="1553760"/>
            <a:ext cx="8686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здоровье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амореализация в спорте через участие в конкурсах, смотрах, викторинах, соревнованиях разного уровня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формирована ценность здорового и безопасного образа жизни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усвоены правила индивидуального и коллективного безопасного поведения в любых жизненных ситуациях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творчество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формированное стремление своими руками творить прекрасное вокруг себя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потребность в посещении театров, выставок, концертов, чтении классической литературы, умение проникать во внутренний мир художественного произведения, понимать его духовную сущность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 стремление строить свою дальнейшую жизнь по законам гармонии и красоты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 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e3b30"/>
                </a:solidFill>
                <a:latin typeface="Franklin Gothic Book"/>
              </a:rPr>
              <a:t>Направление «Я и природа»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сформированное бережное отношение к природе родной земли;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e3b30"/>
                </a:solidFill>
                <a:latin typeface="Franklin Gothic Book"/>
              </a:rPr>
              <a:t>- участие в природоохранительной деятельности в школе, в районе, в стран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Содержимое 2" descr=""/>
          <p:cNvPicPr/>
          <p:nvPr/>
        </p:nvPicPr>
        <p:blipFill>
          <a:blip r:embed="rId1"/>
          <a:stretch/>
        </p:blipFill>
        <p:spPr>
          <a:xfrm>
            <a:off x="426960" y="689040"/>
            <a:ext cx="8278920" cy="5986440"/>
          </a:xfrm>
          <a:prstGeom prst="rect">
            <a:avLst/>
          </a:prstGeom>
          <a:ln w="0">
            <a:noFill/>
          </a:ln>
        </p:spPr>
      </p:pic>
      <p:pic>
        <p:nvPicPr>
          <p:cNvPr id="463" name="Заголовок 1" descr=""/>
          <p:cNvPicPr/>
          <p:nvPr/>
        </p:nvPicPr>
        <p:blipFill>
          <a:blip r:embed="rId2"/>
          <a:stretch/>
        </p:blipFill>
        <p:spPr>
          <a:xfrm>
            <a:off x="390600" y="378000"/>
            <a:ext cx="8467560" cy="148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Прямоугольник 3" descr=""/>
          <p:cNvPicPr/>
          <p:nvPr/>
        </p:nvPicPr>
        <p:blipFill>
          <a:blip r:embed="rId1"/>
          <a:stretch/>
        </p:blipFill>
        <p:spPr>
          <a:xfrm>
            <a:off x="182520" y="3236760"/>
            <a:ext cx="8759880" cy="8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Содержимое 2" descr=""/>
          <p:cNvPicPr/>
          <p:nvPr/>
        </p:nvPicPr>
        <p:blipFill>
          <a:blip r:embed="rId1"/>
          <a:stretch/>
        </p:blipFill>
        <p:spPr>
          <a:xfrm>
            <a:off x="219240" y="500040"/>
            <a:ext cx="86389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Заголовок 1" descr=""/>
          <p:cNvPicPr/>
          <p:nvPr/>
        </p:nvPicPr>
        <p:blipFill>
          <a:blip r:embed="rId1"/>
          <a:stretch/>
        </p:blipFill>
        <p:spPr>
          <a:xfrm>
            <a:off x="-237960" y="-60480"/>
            <a:ext cx="8474040" cy="9194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на основе изучения личности каждого учащегося, интересов, стремлений и желаний создать максимум условий для всестороннего развития лич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пособствовать воспитанию интереса к учебе, стремление повышать качество своих знани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учить доброте, милосердию, отзывчивости, толерант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пособствовать воспитанию любви к малой Родине, семье, школе, природе, народным традициям Росси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пособствовать формированию у учащихся гражданско-патриотического сознания, духовно-нравственных ценностей гражданина Росси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рививать навыки здорового образа жизни, любовь к физкультуре и спорт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поддерживать творческую активность учащихся во всех сферах деятельнос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способствовать формированию бесконфликтного сотрудничества и взаимодействие обучающихся, учителей и родителей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- всю работу над развитием личности ребёнка вести с учётом его возрастных особенностей, к каждому ученику – индивидуальный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4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4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4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4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4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4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Box 5"/>
          <p:cNvSpPr/>
          <p:nvPr/>
        </p:nvSpPr>
        <p:spPr>
          <a:xfrm>
            <a:off x="1403280" y="2349360"/>
            <a:ext cx="6193080" cy="19224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воспитательной работы с классным коллектив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6"/>
          <p:cNvSpPr/>
          <p:nvPr/>
        </p:nvSpPr>
        <p:spPr>
          <a:xfrm>
            <a:off x="0" y="549360"/>
            <a:ext cx="2843280" cy="155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нау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7"/>
          <p:cNvSpPr/>
          <p:nvPr/>
        </p:nvSpPr>
        <p:spPr>
          <a:xfrm>
            <a:off x="6156360" y="620640"/>
            <a:ext cx="2987640" cy="155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риот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Родн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Box 8"/>
          <p:cNvSpPr/>
          <p:nvPr/>
        </p:nvSpPr>
        <p:spPr>
          <a:xfrm>
            <a:off x="3059280" y="549360"/>
            <a:ext cx="2881080" cy="1557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ственное воспит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обще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9"/>
          <p:cNvSpPr/>
          <p:nvPr/>
        </p:nvSpPr>
        <p:spPr>
          <a:xfrm>
            <a:off x="0" y="4508640"/>
            <a:ext cx="2916360" cy="1922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культурно-оздоровительное воспит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здоровь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10"/>
          <p:cNvSpPr/>
          <p:nvPr/>
        </p:nvSpPr>
        <p:spPr>
          <a:xfrm>
            <a:off x="3132000" y="4508640"/>
            <a:ext cx="2808360" cy="1922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удожественно-эстет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творчество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11"/>
          <p:cNvSpPr/>
          <p:nvPr/>
        </p:nvSpPr>
        <p:spPr>
          <a:xfrm>
            <a:off x="6156360" y="4508640"/>
            <a:ext cx="2987640" cy="192276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ое воспит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и при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Прямоугольник 22"/>
          <p:cNvSpPr/>
          <p:nvPr/>
        </p:nvSpPr>
        <p:spPr>
          <a:xfrm>
            <a:off x="3048120" y="2895480"/>
            <a:ext cx="2514600" cy="25146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048120" y="2831760"/>
            <a:ext cx="2666880" cy="2837160"/>
          </a:xfrm>
          <a:prstGeom prst="rect">
            <a:avLst/>
          </a:prstGeom>
          <a:solidFill>
            <a:srgbClr val="e2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кур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ке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олев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стречи с интересными люд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ллективные творческие д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Прямоугольник 23"/>
          <p:cNvSpPr/>
          <p:nvPr/>
        </p:nvSpPr>
        <p:spPr>
          <a:xfrm>
            <a:off x="6019920" y="2895480"/>
            <a:ext cx="2971800" cy="1828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Прямоугольник 16"/>
          <p:cNvSpPr/>
          <p:nvPr/>
        </p:nvSpPr>
        <p:spPr>
          <a:xfrm>
            <a:off x="304920" y="2895480"/>
            <a:ext cx="2438280" cy="1828800"/>
          </a:xfrm>
          <a:prstGeom prst="rect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Прямоугольник 1"/>
          <p:cNvSpPr/>
          <p:nvPr/>
        </p:nvSpPr>
        <p:spPr>
          <a:xfrm>
            <a:off x="533520" y="304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сновные на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спитательной работы и виды меро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Овал 2"/>
          <p:cNvSpPr/>
          <p:nvPr/>
        </p:nvSpPr>
        <p:spPr>
          <a:xfrm>
            <a:off x="228600" y="1523880"/>
            <a:ext cx="2133720" cy="914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Овал 3"/>
          <p:cNvSpPr/>
          <p:nvPr/>
        </p:nvSpPr>
        <p:spPr>
          <a:xfrm>
            <a:off x="3276720" y="1523880"/>
            <a:ext cx="2209680" cy="914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Овал 4"/>
          <p:cNvSpPr/>
          <p:nvPr/>
        </p:nvSpPr>
        <p:spPr>
          <a:xfrm>
            <a:off x="6095880" y="1447920"/>
            <a:ext cx="2895840" cy="990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"/>
          <p:cNvSpPr/>
          <p:nvPr/>
        </p:nvSpPr>
        <p:spPr>
          <a:xfrm>
            <a:off x="228600" y="2904480"/>
            <a:ext cx="2514600" cy="2014200"/>
          </a:xfrm>
          <a:prstGeom prst="rect">
            <a:avLst/>
          </a:prstGeom>
          <a:solidFill>
            <a:srgbClr val="e2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курсы ;                     - олимпиа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ктор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матические КВ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ая соединительная линия 11"/>
          <p:cNvSpPr/>
          <p:nvPr/>
        </p:nvSpPr>
        <p:spPr>
          <a:xfrm flipH="1">
            <a:off x="1295280" y="1258920"/>
            <a:ext cx="3200400" cy="2649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Прямая соединительная линия 13"/>
          <p:cNvSpPr/>
          <p:nvPr/>
        </p:nvSpPr>
        <p:spPr>
          <a:xfrm>
            <a:off x="4494960" y="1258920"/>
            <a:ext cx="3048120" cy="1890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Прямая соединительная линия 15"/>
          <p:cNvSpPr/>
          <p:nvPr/>
        </p:nvSpPr>
        <p:spPr>
          <a:xfrm flipH="1">
            <a:off x="4381200" y="1258920"/>
            <a:ext cx="114120" cy="2649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"/>
          <p:cNvSpPr/>
          <p:nvPr/>
        </p:nvSpPr>
        <p:spPr>
          <a:xfrm>
            <a:off x="5943600" y="2828160"/>
            <a:ext cx="3048120" cy="2014200"/>
          </a:xfrm>
          <a:prstGeom prst="rect">
            <a:avLst/>
          </a:prstGeom>
          <a:solidFill>
            <a:srgbClr val="e2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ур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нцер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сещение театров, музеев, выстав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атральные постанов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Прямая соединительная линия 25"/>
          <p:cNvSpPr/>
          <p:nvPr/>
        </p:nvSpPr>
        <p:spPr>
          <a:xfrm>
            <a:off x="1295280" y="2438280"/>
            <a:ext cx="190800" cy="457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ая соединительная линия 27"/>
          <p:cNvSpPr/>
          <p:nvPr/>
        </p:nvSpPr>
        <p:spPr>
          <a:xfrm flipH="1">
            <a:off x="4379400" y="2440080"/>
            <a:ext cx="3240" cy="38088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Прямая соединительная линия 29"/>
          <p:cNvSpPr/>
          <p:nvPr/>
        </p:nvSpPr>
        <p:spPr>
          <a:xfrm flipH="1">
            <a:off x="7467480" y="2438280"/>
            <a:ext cx="76320" cy="38124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Прямоугольник 22"/>
          <p:cNvSpPr/>
          <p:nvPr/>
        </p:nvSpPr>
        <p:spPr>
          <a:xfrm rot="16200000">
            <a:off x="3048120" y="3276360"/>
            <a:ext cx="2514600" cy="2133720"/>
          </a:xfrm>
          <a:prstGeom prst="rect">
            <a:avLst/>
          </a:prstGeom>
          <a:solidFill>
            <a:srgbClr val="e2ac7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Прямоугольник 23"/>
          <p:cNvSpPr/>
          <p:nvPr/>
        </p:nvSpPr>
        <p:spPr>
          <a:xfrm>
            <a:off x="6019920" y="2895480"/>
            <a:ext cx="2819160" cy="2590920"/>
          </a:xfrm>
          <a:prstGeom prst="rect">
            <a:avLst/>
          </a:prstGeom>
          <a:solidFill>
            <a:srgbClr val="e2ac7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Прямоугольник 16"/>
          <p:cNvSpPr/>
          <p:nvPr/>
        </p:nvSpPr>
        <p:spPr>
          <a:xfrm>
            <a:off x="304920" y="2895480"/>
            <a:ext cx="2438280" cy="2133720"/>
          </a:xfrm>
          <a:prstGeom prst="rect">
            <a:avLst/>
          </a:prstGeom>
          <a:solidFill>
            <a:srgbClr val="e2ac76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Прямоугольник 1"/>
          <p:cNvSpPr/>
          <p:nvPr/>
        </p:nvSpPr>
        <p:spPr>
          <a:xfrm>
            <a:off x="533520" y="3049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Основные на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воспитательной работы и виды меропри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Овал 2"/>
          <p:cNvSpPr/>
          <p:nvPr/>
        </p:nvSpPr>
        <p:spPr>
          <a:xfrm>
            <a:off x="228600" y="1523880"/>
            <a:ext cx="2438280" cy="914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оровь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Овал 3"/>
          <p:cNvSpPr/>
          <p:nvPr/>
        </p:nvSpPr>
        <p:spPr>
          <a:xfrm>
            <a:off x="3276720" y="1523880"/>
            <a:ext cx="2209680" cy="91440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Овал 4"/>
          <p:cNvSpPr/>
          <p:nvPr/>
        </p:nvSpPr>
        <p:spPr>
          <a:xfrm>
            <a:off x="5867280" y="1447920"/>
            <a:ext cx="3124440" cy="990360"/>
          </a:xfrm>
          <a:prstGeom prst="ellipse">
            <a:avLst/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от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Прямая соединительная линия 11"/>
          <p:cNvSpPr/>
          <p:nvPr/>
        </p:nvSpPr>
        <p:spPr>
          <a:xfrm flipH="1">
            <a:off x="1447920" y="1258920"/>
            <a:ext cx="3047760" cy="2649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Прямая соединительная линия 13"/>
          <p:cNvSpPr/>
          <p:nvPr/>
        </p:nvSpPr>
        <p:spPr>
          <a:xfrm>
            <a:off x="4495680" y="1258920"/>
            <a:ext cx="2934000" cy="1890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Прямая соединительная линия 15"/>
          <p:cNvSpPr/>
          <p:nvPr/>
        </p:nvSpPr>
        <p:spPr>
          <a:xfrm flipH="1">
            <a:off x="4381200" y="1258920"/>
            <a:ext cx="114120" cy="2649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ая соединительная линия 25"/>
          <p:cNvSpPr/>
          <p:nvPr/>
        </p:nvSpPr>
        <p:spPr>
          <a:xfrm>
            <a:off x="1447920" y="2438280"/>
            <a:ext cx="38160" cy="457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4"/>
          <p:cNvSpPr/>
          <p:nvPr/>
        </p:nvSpPr>
        <p:spPr>
          <a:xfrm>
            <a:off x="380880" y="2980440"/>
            <a:ext cx="2286000" cy="2014200"/>
          </a:xfrm>
          <a:prstGeom prst="rect">
            <a:avLst/>
          </a:prstGeom>
          <a:solidFill>
            <a:srgbClr val="e2ac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портивные соревнов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 и лек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урни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кскур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вижные 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5"/>
          <p:cNvSpPr/>
          <p:nvPr/>
        </p:nvSpPr>
        <p:spPr>
          <a:xfrm>
            <a:off x="3124080" y="3183840"/>
            <a:ext cx="23623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кур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стречи с родителя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нкетирова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стирование;  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6"/>
          <p:cNvSpPr/>
          <p:nvPr/>
        </p:nvSpPr>
        <p:spPr>
          <a:xfrm>
            <a:off x="6095880" y="2707200"/>
            <a:ext cx="266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лассные ча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есе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стречи с интересными людьм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экскурсии и поход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викторин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росмотры фильмов;  -проектная деятельнос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ая соединительная линия 42"/>
          <p:cNvSpPr/>
          <p:nvPr/>
        </p:nvSpPr>
        <p:spPr>
          <a:xfrm flipH="1">
            <a:off x="4305240" y="2438280"/>
            <a:ext cx="76320" cy="73656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Прямая соединительная линия 47"/>
          <p:cNvSpPr/>
          <p:nvPr/>
        </p:nvSpPr>
        <p:spPr>
          <a:xfrm>
            <a:off x="7429680" y="2438280"/>
            <a:ext cx="0" cy="457200"/>
          </a:xfrm>
          <a:prstGeom prst="line">
            <a:avLst/>
          </a:prstGeom>
          <a:ln w="10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Заголовок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45" name="Содержимое 2" descr=""/>
          <p:cNvPicPr/>
          <p:nvPr/>
        </p:nvPicPr>
        <p:blipFill>
          <a:blip r:embed="rId2"/>
          <a:stretch/>
        </p:blipFill>
        <p:spPr>
          <a:xfrm>
            <a:off x="219240" y="1547640"/>
            <a:ext cx="90342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Заголовок 1" descr=""/>
          <p:cNvPicPr/>
          <p:nvPr/>
        </p:nvPicPr>
        <p:blipFill>
          <a:blip r:embed="rId1"/>
          <a:stretch/>
        </p:blipFill>
        <p:spPr>
          <a:xfrm>
            <a:off x="2475000" y="-146160"/>
            <a:ext cx="6278400" cy="197496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2" descr=""/>
          <p:cNvPicPr/>
          <p:nvPr/>
        </p:nvPicPr>
        <p:blipFill>
          <a:blip r:embed="rId2"/>
          <a:stretch/>
        </p:blipFill>
        <p:spPr>
          <a:xfrm>
            <a:off x="250920" y="117360"/>
            <a:ext cx="2449440" cy="32655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4" descr="день им.JPG"/>
          <p:cNvPicPr/>
          <p:nvPr/>
        </p:nvPicPr>
        <p:blipFill>
          <a:blip r:embed="rId3"/>
          <a:stretch/>
        </p:blipFill>
        <p:spPr>
          <a:xfrm>
            <a:off x="324000" y="3672000"/>
            <a:ext cx="4248000" cy="318600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3" descr=""/>
          <p:cNvPicPr/>
          <p:nvPr/>
        </p:nvPicPr>
        <p:blipFill>
          <a:blip r:embed="rId4"/>
          <a:stretch/>
        </p:blipFill>
        <p:spPr>
          <a:xfrm>
            <a:off x="4716360" y="1474920"/>
            <a:ext cx="4103640" cy="538308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" descr=""/>
          <p:cNvPicPr/>
          <p:nvPr/>
        </p:nvPicPr>
        <p:blipFill>
          <a:blip r:embed="rId5"/>
          <a:stretch/>
        </p:blipFill>
        <p:spPr>
          <a:xfrm>
            <a:off x="1835280" y="1916280"/>
            <a:ext cx="376560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914400" y="1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4e3b30"/>
                </a:solidFill>
                <a:latin typeface="Monotype Corsiva"/>
              </a:rPr>
              <a:t>Воспоминания родителей, семейные фотографии, реликви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53" name="Picture 24" descr="DSC00765"/>
          <p:cNvPicPr/>
          <p:nvPr/>
        </p:nvPicPr>
        <p:blipFill>
          <a:blip r:embed="rId1"/>
          <a:stretch/>
        </p:blipFill>
        <p:spPr>
          <a:xfrm>
            <a:off x="0" y="1989000"/>
            <a:ext cx="6985080" cy="486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indefinite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9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2" dur="indefinite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1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user</cp:lastModifiedBy>
  <dcterms:modified xsi:type="dcterms:W3CDTF">2018-06-26T13:06:57Z</dcterms:modified>
  <cp:revision>40</cp:revision>
  <dc:subject/>
  <dc:title>Слайд 1</dc:title>
</cp:coreProperties>
</file>