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C789-6EAE-4658-8522-017D765B8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0AA3-5AE2-42FD-80BD-50E0430C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5AF1-F318-4A61-9097-77EA75974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2175-9496-40BA-833C-F5FB12677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FF81-2B69-44AF-8414-9CCFFCF3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12AB-5A28-4D97-9896-811F49CD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0A8F-0272-4B2B-9238-8B4BA84C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2D5-A406-47A7-BDFC-4C1A35FB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571-B445-4BCD-9A4B-7FCAE0E41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4FB8-0C3A-42B0-B27B-2298D1E9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19F-A462-4D87-9F69-7188F709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418-2717-4B0A-974E-326BCB0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4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1517B-9470-4E18-8146-0B1529F577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Местоим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8960" y="312372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Еремеева Инна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52480" y="91404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Я-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а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S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о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ы,вы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Мы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и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Th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4475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Подбери местоимения ,которыми можно заменить существительные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5410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Helen                         a) 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father and mother       b)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brother                        c)  s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pen                              d)  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dog                             e)  th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Let`s  read the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ошибся: ай-яй-я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ъяснились мы в любв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Мы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w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а спешила! Не спеш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а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sh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 не стойте на краю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Ты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и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вы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инач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you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 смеялся: хи-хи-х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h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и жалели всех люде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и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they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219320"/>
            <a:ext cx="51814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Thank you for the lesson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Inna</cp:lastModifiedBy>
  <dcterms:modified xsi:type="dcterms:W3CDTF">2018-06-26T18:03:28Z</dcterms:modified>
  <cp:revision>6</cp:revision>
  <dc:subject/>
  <dc:title>Слайд 1</dc:title>
</cp:coreProperties>
</file>