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5AC8-8BB9-4616-B1C3-706B976D5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24FE-1549-4FFB-BFBF-492D797E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2553-8E12-478E-BCAC-0EB53B81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1824-3AC0-4430-AB2F-0D58794CA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52C0-C8F2-4C01-9A21-07C6D4A1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071-C35B-4873-A35D-EE68FBC2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246B-CD1C-4043-9112-519F4A9F2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C868-700C-4FEB-9E6F-29C4C39D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F6F-223A-49FD-96EB-1F38C2EE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3D49-3DF3-4FBF-B234-0D1B5332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0074-5594-4608-B21D-D8EA23EE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7432-A173-4B57-9581-02CD7486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http://fotoramky.narod.ru/images_big/ramka24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02F28-BFBC-441A-A4D3-BCAC25A9B6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1760" y="914040"/>
            <a:ext cx="70102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Arial Black"/>
              </a:rPr>
              <a:t>Местоимения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18960" y="3123720"/>
            <a:ext cx="61722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Arial"/>
              </a:rPr>
              <a:t>Еремеева Инна Никола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52480" y="914040"/>
            <a:ext cx="5029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Я- 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а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Sh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о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Ты,вы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Yo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Мы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W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cc"/>
                </a:solidFill>
                <a:latin typeface="Arial"/>
              </a:rPr>
              <a:t>Они-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 The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447560"/>
            <a:ext cx="5486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Подбери местоимения ,которыми можно заменить существительные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828800" y="1523880"/>
            <a:ext cx="5410080" cy="28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 Helen                         a) 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 father and mother       b)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 brother                        c)  s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pen                              d)  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. dog                             e)  th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Let`s  read the po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Я ошибся: ай-яй-яй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Я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бъяснились мы в любви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Мы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w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а спешила! Не спеши!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а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sh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 не стойте на краю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Ты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и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вы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инач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you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 смеялся: хи-хи-х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he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ни жалели всех людей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Они </a:t>
            </a:r>
            <a:r>
              <a:rPr b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местоимение … </a:t>
            </a:r>
            <a:r>
              <a:rPr b="1" lang="ru-RU" sz="20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they</a:t>
            </a:r>
            <a:r>
              <a:rPr b="0" lang="ru-RU" sz="2000" spc="-1" strike="noStrike">
                <a:solidFill>
                  <a:srgbClr val="4f81bd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599840" y="1219320"/>
            <a:ext cx="518148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Thank you for the lesson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cc"/>
                </a:solidFill>
                <a:latin typeface="Times New Roman"/>
                <a:ea typeface="Times New Roman"/>
              </a:rPr>
              <a:t>Good bye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06:58:29Z</dcterms:created>
  <dc:creator>User</dc:creator>
  <dc:description/>
  <dc:language>en-US</dc:language>
  <cp:lastModifiedBy>Inna</cp:lastModifiedBy>
  <dcterms:modified xsi:type="dcterms:W3CDTF">2018-06-26T18:03:28Z</dcterms:modified>
  <cp:revision>6</cp:revision>
  <dc:subject/>
  <dc:title>Слайд 1</dc:title>
</cp:coreProperties>
</file>