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5.gif" ContentType="image/gif"/>
  <Override PartName="/ppt/media/image33.png" ContentType="image/pn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4.gif" ContentType="image/gif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3F0-5A87-4B6E-B5B8-B109BF062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BB3F-97F2-4C77-B76D-70B7A9BE5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1DC-59D2-4870-B577-AD7010B40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E58-F35C-4A4E-A0BD-AD4C056F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8A5-5261-43F1-AC69-1F8AF36B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98A-0F88-4E23-A833-1F289FE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272-CC13-4653-AD2B-8B822C88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C7A-26EC-4C45-BB57-8BADC68A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FE3-52AD-4789-B604-A25F1C2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51F-4602-4573-8DD0-CD076883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7B0-0736-445E-BEC5-891B22C6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713-E73C-416B-A9DC-4675014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0B8-0DA2-4F96-967E-4968BDC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AB4-8FCA-45DD-8502-517F7D9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C65-D95D-4848-806A-8850C3D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147-AD19-423F-AB52-5432D68E7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92360" y="620640"/>
            <a:ext cx="5111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754280" y="1989000"/>
            <a:ext cx="540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50920" y="3500280"/>
            <a:ext cx="86756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0033cc"/>
                </a:solidFill>
                <a:latin typeface="Arial"/>
              </a:rPr>
              <a:t>ИЗМЕРЕНИЕ МАССЫ ТЕЛА НА РЫЧАЖНЫХ ВЕСАХ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0360" y="4941720"/>
            <a:ext cx="36277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Анали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19160" y="476280"/>
            <a:ext cx="4290840" cy="43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Res" descr="res1ED6703F-023C-4C15-AE89-BECD1332671D"/>
          <p:cNvPicPr/>
          <p:nvPr/>
        </p:nvPicPr>
        <p:blipFill>
          <a:blip r:embed="rId2"/>
          <a:stretch/>
        </p:blipFill>
        <p:spPr>
          <a:xfrm>
            <a:off x="4572000" y="1989000"/>
            <a:ext cx="4413240" cy="4100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859280" y="1197000"/>
            <a:ext cx="36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771640" y="260280"/>
            <a:ext cx="374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Медицинск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&amp;Vcy;&amp;iecy;&amp;scy;&amp;ycy; &amp;acy;&amp;ncy;&amp;acy;&amp;lcy;&amp;icy;&amp;tcy;&amp;icy;&amp;chcy;&amp;iecy;&amp;scy;&amp;kcy;&amp;icy;&amp;iecy; &amp;icy; &amp;lcy;&amp;acy;&amp;bcy;&amp;ocy;&amp;rcy;&amp;acy;&amp;tcy;&amp;ocy;&amp;rcy;&amp;ncy;&amp;ycy;&amp;iecy; &amp;vcy;&amp;iecy;&amp;scy;&amp;ycy; &amp;Kcy;&amp;rcy;&amp;acy;&amp;ncy;&amp;ocy;&amp;vcy;&amp;ycy;&amp;iecy; &amp;vcy;&amp;iecy;&amp;scy;&amp;ycy;. &amp;Acy;&amp;ncy;&amp;acy;&amp;lcy;&amp;icy;&amp;zcy;&amp;acy;&amp;tcy;&amp;ocy;&amp;rcy;&amp;ycy; &amp;vcy;&amp;lcy;&amp;acy;&amp;zhcy;&amp;ncy;&amp;ocy;&amp;scy;&amp;tcy;&amp;icy; &amp;Pcy;&amp;lcy;&amp;acy;&amp;tcy;&amp;fcy;&amp;ocy;&amp;rcy;&amp;mcy;&amp;iecy;&amp;ncy;&amp;ncy;&amp;ycy;&amp;iecy; &amp;vcy;&amp;iecy;&amp;scy;&amp;ycy; &amp;Kcy;&amp;ocy;&amp;mcy;&amp;pcy;&amp;acy;&amp;rcy;&amp;acy;&amp;tcy;&amp;ocy;&amp;rcy;&amp;ycy; &amp;mcy;&amp;acy;&amp;scy;&amp;scy;&amp;ycy; &amp;Mcy;&amp;icy;&amp;kcy;&amp;rcy;&amp;ocy;&amp;vcy;&amp;iecy;&amp;scy;&amp;ycy;."/>
          <p:cNvPicPr/>
          <p:nvPr/>
        </p:nvPicPr>
        <p:blipFill>
          <a:blip r:embed="rId1"/>
          <a:stretch/>
        </p:blipFill>
        <p:spPr>
          <a:xfrm>
            <a:off x="108000" y="1025640"/>
            <a:ext cx="3206880" cy="47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&amp;Kcy;&amp;ucy;&amp;pcy;&amp;icy;&amp;tcy;&amp;softcy; &amp;vcy;&amp;iecy;&amp;scy;&amp;ycy; &amp;ecy;&amp;lcy;&amp;iecy;&amp;kcy;&amp;tcy;&amp;rcy;&amp;ocy;&amp;ncy;&amp;ncy;&amp;ycy;&amp;iecy; &amp;scy; &amp;acy;&amp;vcy;&amp;tcy;&amp;ocy;&amp;ncy;&amp;ocy;&amp;mcy;&amp;ncy;&amp;ycy;&amp;mcy; &amp;pcy;&amp;icy;&amp;tcy;&amp;acy;&amp;ncy;&amp;icy;&amp;iecy;&amp;mcy; &amp;ncy;&amp;acy;&amp;scy;&amp;tcy;&amp;ocy;&amp;lcy;&amp;softcy;&amp;ncy;&amp;ycy;&amp;iecy; &amp;dcy;&amp;lcy;&amp;yacy; &amp;mcy;&amp;lcy;&amp;acy;&amp;dcy;&amp;iecy;&amp;ncy;&amp;tscy;&amp;iecy;&amp;vcy; &amp;Vcy;1-15-&quot;&amp;Scy;&amp;Acy;&amp;SHcy;&amp;Acy;&quot;"/>
          <p:cNvPicPr/>
          <p:nvPr/>
        </p:nvPicPr>
        <p:blipFill>
          <a:blip r:embed="rId2"/>
          <a:stretch/>
        </p:blipFill>
        <p:spPr>
          <a:xfrm>
            <a:off x="3522600" y="167148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&amp;Acy;&amp;pcy;&amp;tcy;&amp;iecy;&amp;kcy;&amp;acy;&amp;rcy;&amp;scy;&amp;kcy;&amp;icy;&amp;iecy; &amp;vcy;&amp;iecy;&amp;scy;&amp;ycy; &amp;scy; &amp;ncy;&amp;acy;&amp;bcy;&amp;ocy;&amp;rcy;&amp;ocy;&amp;mcy; &amp;gcy;&amp;rcy;&amp;ucy;&amp;zcy;&amp;ocy;&amp;vcy;. &amp;Vcy;&amp;icy;&amp;ncy;&amp;tcy;&amp;acy;&amp;zhcy;, 1970 &amp;gcy;&amp;gcy; &amp;zcy;&amp;acy; 4500 &amp;rcy;…"/>
          <p:cNvPicPr/>
          <p:nvPr/>
        </p:nvPicPr>
        <p:blipFill>
          <a:blip r:embed="rId1"/>
          <a:stretch/>
        </p:blipFill>
        <p:spPr>
          <a:xfrm>
            <a:off x="100080" y="1125360"/>
            <a:ext cx="4111560" cy="439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3880" y="260280"/>
            <a:ext cx="375588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Аптекарск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ergHOFF 2003299: &amp;tscy;&amp;iecy;&amp;ncy;&amp;ycy;, &amp;ocy;&amp;pcy;&amp;icy;&amp;scy;&amp;acy;&amp;ncy;&amp;icy;&amp;iecy;, &amp;ocy;&amp;tcy;&amp;zcy;&amp;ycy;&amp;vcy;&amp;ycy; &amp;Kcy;&amp;ucy;&amp;pcy;&amp;icy;&amp;tcy;&amp;softcy; BergHOFF 2003299."/>
          <p:cNvPicPr/>
          <p:nvPr/>
        </p:nvPicPr>
        <p:blipFill>
          <a:blip r:embed="rId2"/>
          <a:stretch/>
        </p:blipFill>
        <p:spPr>
          <a:xfrm>
            <a:off x="4572000" y="189000"/>
            <a:ext cx="3625920" cy="261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292720" y="2932200"/>
            <a:ext cx="3624120" cy="2793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5076720" y="5950080"/>
            <a:ext cx="375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Электро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&amp;Ncy;&amp;ocy;&amp;vcy;&amp;ocy;&amp;scy;&amp;tcy;&amp;icy;"/>
          <p:cNvPicPr/>
          <p:nvPr/>
        </p:nvPicPr>
        <p:blipFill>
          <a:blip r:embed="rId1"/>
          <a:stretch/>
        </p:blipFill>
        <p:spPr>
          <a:xfrm>
            <a:off x="179280" y="800280"/>
            <a:ext cx="2857680" cy="433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&amp;Ncy;&amp;Pcy;&amp;Pcy; &amp;Tcy;&amp;ocy;&amp;chcy;&amp;pcy;&amp;rcy;&amp;icy;&amp;bcy;&amp;ocy;&amp;rcy; &amp;Vcy;&amp;iecy;&amp;scy;&amp;ycy; &amp;acy;&amp;vcy;&amp;tcy;&amp;ocy;&amp;mcy;&amp;ocy;&amp;bcy;&amp;icy;&amp;lcy;&amp;softcy;&amp;ncy;&amp;ycy;&amp;iecy;"/>
          <p:cNvPicPr/>
          <p:nvPr/>
        </p:nvPicPr>
        <p:blipFill>
          <a:blip r:embed="rId2"/>
          <a:stretch/>
        </p:blipFill>
        <p:spPr>
          <a:xfrm>
            <a:off x="3708360" y="728640"/>
            <a:ext cx="48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amp;Vcy;&amp;Tcy;&amp;Vcy;-1&amp;Scy;&amp;Bcy; &amp;Pcy;&amp;ucy;&amp;lcy;&amp;softcy;&amp;scy;&amp;acy;&amp;rcy; 92"/>
          <p:cNvPicPr/>
          <p:nvPr/>
        </p:nvPicPr>
        <p:blipFill>
          <a:blip r:embed="rId3"/>
          <a:stretch/>
        </p:blipFill>
        <p:spPr>
          <a:xfrm>
            <a:off x="3419640" y="4102200"/>
            <a:ext cx="3477960" cy="260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5407200"/>
            <a:ext cx="3036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300720" y="4941720"/>
            <a:ext cx="362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аг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07040" y="3357720"/>
            <a:ext cx="36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Автомоб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042920" y="4680"/>
            <a:ext cx="640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300" spc="-1" strike="noStrike">
                <a:solidFill>
                  <a:srgbClr val="0033cc"/>
                </a:solidFill>
                <a:latin typeface="Arial"/>
              </a:rPr>
              <a:t>Торговы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&amp;Pcy;&amp;rcy;&amp;ocy;&amp;dcy;&amp;acy;&amp;yucy; &amp;vcy;&amp;iecy;&amp;scy;&amp;ycy; &amp;tcy;&amp;ocy;&amp;rcy;&amp;gcy;&amp;ocy;&amp;vcy;&amp;ycy;&amp;iecy; &amp;ncy;&amp;acy;&amp;scy;&amp;tcy;&amp;ocy;&amp;lcy;&amp;softcy;&amp;ncy;&amp;ycy;&amp;iecy; &amp;mcy;&amp;iecy;&amp;khcy;&amp;acy;&amp;ncy;&amp;icy;&amp;chcy;&amp;iecy;&amp;scy;&amp;kcy;&amp;icy;&amp;iecy;.(&amp;bcy;/&amp;ucy;)"/>
          <p:cNvPicPr/>
          <p:nvPr/>
        </p:nvPicPr>
        <p:blipFill>
          <a:blip r:embed="rId1"/>
          <a:stretch/>
        </p:blipFill>
        <p:spPr>
          <a:xfrm>
            <a:off x="3132000" y="367668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&amp;Scy;&amp;Rcy;&amp;Ocy;&amp;CHcy;&amp;Ncy;&amp;Ocy; &amp;vcy;&amp;ocy;&amp;zcy;&amp;softcy;&amp;mcy;&amp;iecy;&amp;mcy; &amp;vcy; &amp;acy;&amp;rcy;&amp;iecy;&amp;ncy;&amp;dcy;&amp;ucy; &amp;ncy;&amp;acy; 1 &amp;dcy;&amp;iecy;&amp;ncy;&amp;softcy; &amp;vcy;&amp;iecy;&amp;scy;&amp;ycy;-&amp;ucy;&amp;tcy;&amp;ocy;&amp;chcy;&amp;kcy;&amp;icy;, 1000&amp;rcy;. &amp;Rcy;&amp;iecy;&amp;kcy;&amp;vcy;&amp;icy;&amp;zcy;&amp;icy;&amp;tcy; &amp;Mcy;&amp;acy;&amp;scy;&amp;scy;&amp;ocy;&amp;vcy;&amp;kcy;&amp;icy;.&amp;Rcy;&amp;ucy;"/>
          <p:cNvPicPr/>
          <p:nvPr/>
        </p:nvPicPr>
        <p:blipFill>
          <a:blip r:embed="rId2"/>
          <a:stretch/>
        </p:blipFill>
        <p:spPr>
          <a:xfrm>
            <a:off x="5003640" y="719280"/>
            <a:ext cx="3672000" cy="278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amp;pcy;&amp;rcy;&amp;ocy;&amp;dcy;&amp;acy;&amp;zhcy;&amp;acy; &amp;vcy;&amp;iecy;&amp;scy;&amp;ocy;&amp;vcy;"/>
          <p:cNvPicPr/>
          <p:nvPr/>
        </p:nvPicPr>
        <p:blipFill>
          <a:blip r:embed="rId3"/>
          <a:stretch/>
        </p:blipFill>
        <p:spPr>
          <a:xfrm>
            <a:off x="81000" y="836640"/>
            <a:ext cx="36273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042920" y="4680"/>
            <a:ext cx="64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i="1" lang="ru-RU" sz="4200" spc="-1" strike="noStrike">
                <a:solidFill>
                  <a:srgbClr val="0033cc"/>
                </a:solidFill>
                <a:latin typeface="Arial"/>
              </a:rPr>
              <a:t>Бытов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&amp;Vcy;&amp;iecy;&amp;scy;&amp;ycy; &amp;bcy;&amp;ycy;&amp;tcy;&amp;ocy;&amp;vcy;&amp;ycy;&amp;iecy; &amp;SHcy;&amp;tcy;&amp;rcy;&amp;icy;&amp;khcy; E-Scale - &amp;kcy;&amp;ucy;&amp;pcy;&amp;icy;&amp;tcy;&amp;softcy; &amp;vcy; &amp;Scy;&amp;acy;&amp;ncy;&amp;kcy;&amp;tcy;-&amp;Pcy;&amp;iecy;&amp;tcy;&amp;iecy;&amp;rcy;&amp;bcy;&amp;ucy;&amp;rcy;&amp;gcy;&amp;iecy;, &amp;Mcy;&amp;ocy;&amp;scy;&amp;kcy;&amp;vcy;&amp;iecy;, &amp;IEcy;&amp;kcy;&amp;acy;&amp;tcy;&amp;iecy;&amp;rcy;&amp;icy;&amp;ncy;&amp;bcy;&amp;ucy;&amp;rcy;&amp;gcy;&amp;iecy;, &amp;Ncy;&amp;ocy;&amp;vcy;&amp;ocy;&amp;scy;&amp;icy;&amp;bcy;&amp;icy;&amp;rcy;&amp;scy;&amp;kcy;&amp;iecy;"/>
          <p:cNvPicPr/>
          <p:nvPr/>
        </p:nvPicPr>
        <p:blipFill>
          <a:blip r:embed="rId1"/>
          <a:stretch/>
        </p:blipFill>
        <p:spPr>
          <a:xfrm>
            <a:off x="539640" y="7984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&amp;Ecy;&amp;lcy;&amp;iecy;&amp;kcy;&amp;tcy;&amp;rcy;&amp;ocy;&amp;ncy;&amp;ncy;&amp;ycy;&amp;iecy; &amp;kcy;&amp;ucy;&amp;khcy;&amp;ocy;&amp;ncy;&amp;ncy;&amp;ycy;&amp;iecy; &amp;vcy;&amp;iecy;&amp;scy;&amp;ycy; Marta MT-1621 Silver - &amp;ncy;&amp;icy;&amp;zcy;&amp;kcy;&amp;acy;&amp;yacy; &amp;tscy;&amp;iecy;&amp;ncy;&amp;acy;, &amp;ocy;&amp;bcy;&amp;zcy;&amp;ocy;&amp;rcy;&amp;ycy; &amp;icy; &amp;ocy;&amp;tcy;&amp;zcy;&amp;ycy;&amp;vcy;&amp;ycy;. &amp;Kcy;&amp;ucy;&amp;pcy;&amp;icy;&amp;tcy;&amp;softcy; &amp;ecy;&amp;lcy;&amp;iecy;&amp;kcy;&amp;tcy;&amp;rcy;&amp;ocy;&amp;ncy;&amp;ncy;&amp;ycy;&amp;iecy; &amp;kcy;&amp;ucy;&amp;khcy;&amp;ocy;&amp;ncy;&amp;ncy;&amp;ycy;&amp;iecy; &amp;vcy;&amp;iecy;&amp;scy;&amp;ycy; Marta &amp;Mcy;&amp;Tcy;-1621 Si"/>
          <p:cNvPicPr/>
          <p:nvPr/>
        </p:nvPicPr>
        <p:blipFill>
          <a:blip r:embed="rId2"/>
          <a:stretch/>
        </p:blipFill>
        <p:spPr>
          <a:xfrm>
            <a:off x="2771640" y="3981600"/>
            <a:ext cx="3343320" cy="265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&amp;Mcy;&amp;iecy;&amp;khcy;&amp;acy;&amp;ncy;&amp;icy;&amp;chcy;&amp;iecy;&amp;scy;&amp;kcy;&amp;icy;&amp;iecy; &amp;vcy;&amp;iecy;&amp;scy;&amp;ycy; &amp;kcy;&amp;ucy;&amp;pcy;&amp;icy;&amp;tcy;&amp;softcy; &amp;vcy; &amp;CHcy;&amp;acy;&amp;jcy;&amp;kcy;&amp;ocy;&amp;vcy;&amp;scy;&amp;kcy;&amp;ocy;&amp;mcy; &amp;CHcy;&amp;acy;&amp;jcy;&amp;kcy;&amp;ocy;&amp;vcy;&amp;scy;&amp;kcy;&amp;icy;&amp;jcy; &amp;icy;&amp;ncy;&amp;tcy;&amp;iecy;&amp;rcy;&amp;ncy;&amp;iecy;&amp;tcy; &amp;mcy;&amp;acy;&amp;gcy;&amp;acy;&amp;zcy;&amp;icy;&amp;ncy;"/>
          <p:cNvPicPr/>
          <p:nvPr/>
        </p:nvPicPr>
        <p:blipFill>
          <a:blip r:embed="rId3"/>
          <a:stretch/>
        </p:blipFill>
        <p:spPr>
          <a:xfrm>
            <a:off x="5425920" y="798480"/>
            <a:ext cx="2995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7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Кант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&amp;Kcy;&amp;acy;&amp;ncy;&amp;tcy;&amp;acy;&amp;rcy;&amp;softcy; &amp;kcy;&amp;rcy;&amp;ucy;&amp;gcy;&amp;lcy;&amp;ycy;&amp;jcy; &amp;rcy;&amp;ocy;&amp;scy;&amp;scy;&amp;icy;&amp;yacy;"/>
          <p:cNvPicPr/>
          <p:nvPr/>
        </p:nvPicPr>
        <p:blipFill>
          <a:blip r:embed="rId2"/>
          <a:stretch/>
        </p:blipFill>
        <p:spPr>
          <a:xfrm>
            <a:off x="5076720" y="2276640"/>
            <a:ext cx="3888000" cy="388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&amp;Scy;&amp;tcy;&amp;acy;&amp;rcy;&amp;icy;&amp;ncy;&amp;ncy;&amp;ycy;&amp;iecy; &amp;vcy;&amp;iecy;&amp;scy;&amp;ycy;-&amp;bcy;&amp;iecy;&amp;zcy;&amp;mcy;&amp;iecy;&amp;ncy; &amp;zcy;&amp;acy; 2000&amp;rcy;, &amp;Ncy;&amp;ocy;&amp;vcy;&amp;ocy;&amp;scy;&amp;icy;&amp;bcy;&amp;icy;&amp;rcy;&amp;scy;&amp;kcy;, &amp;ocy;&amp;tcy; 2013-03-23 07:33:52, 57539"/>
          <p:cNvPicPr/>
          <p:nvPr/>
        </p:nvPicPr>
        <p:blipFill>
          <a:blip r:embed="rId3"/>
          <a:stretch/>
        </p:blipFill>
        <p:spPr>
          <a:xfrm>
            <a:off x="395280" y="1158840"/>
            <a:ext cx="446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88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Старинные вес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&amp;Scy;&amp;tcy;&amp;acy;&amp;rcy;&amp;icy;&amp;ncy;&amp;ncy;&amp;ocy;&amp;iecy; &amp;icy; &amp;rcy;&amp;iecy;&amp;tcy;&amp;rcy;&amp;ocy; - &amp;scy;&amp;tcy;&amp;rcy;&amp;acy;&amp;ncy;&amp;icy;&amp;tscy;&amp;acy; 4 - &amp;Kcy;&amp;acy;&amp;ncy;&amp;acy;&amp;lcy; &amp;pcy;&amp;rcy;&amp;ocy;&amp;fcy;&amp;iecy;&amp;scy;&amp;scy;&amp;icy;&amp;ocy;&amp;ncy;&amp;acy;&amp;lcy;&amp;softcy;&amp;ncy;&amp;ycy;&amp;khcy; &amp;fcy;&amp;ocy;&amp;tcy;&amp;ocy;…"/>
          <p:cNvPicPr/>
          <p:nvPr/>
        </p:nvPicPr>
        <p:blipFill>
          <a:blip r:embed="rId2"/>
          <a:stretch/>
        </p:blipFill>
        <p:spPr>
          <a:xfrm>
            <a:off x="0" y="836640"/>
            <a:ext cx="4824360" cy="31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&amp;Acy;&amp;ncy;&amp;tcy;&amp;icy;&amp;kcy;&amp;vcy;&amp;acy;&amp;rcy;&amp;ncy;&amp;ycy;&amp;iecy; &amp;vcy;&amp;iecy;&amp;scy;&amp;ycy; - &amp;acy;&amp;ncy;&amp;tcy;&amp;icy;&amp;kcy;&amp;vcy;&amp;acy;&amp;rcy;&amp;ncy;&amp;ycy;&amp;jcy; &amp;scy;&amp;acy;&amp;lcy;&amp;ocy;&amp;ncy; &quot;&amp;Gcy;&amp;acy;&amp;lcy;&amp;iecy;&amp;rcy;&amp;iecy;&amp;yacy; 21&quot;"/>
          <p:cNvPicPr/>
          <p:nvPr/>
        </p:nvPicPr>
        <p:blipFill>
          <a:blip r:embed="rId3"/>
          <a:stretch/>
        </p:blipFill>
        <p:spPr>
          <a:xfrm>
            <a:off x="4211640" y="4103640"/>
            <a:ext cx="4608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Изображение весов на египетских пирамидах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&amp;Pcy;&amp;Acy;&amp;Rcy;&amp;Acy;&amp;Ncy;&amp;Ocy;&amp;Rcy;&amp;Mcy;&amp;Acy;&amp;Lcy;&amp;Icy;&amp;Icy;."/>
          <p:cNvPicPr/>
          <p:nvPr/>
        </p:nvPicPr>
        <p:blipFill>
          <a:blip r:embed="rId1"/>
          <a:stretch/>
        </p:blipFill>
        <p:spPr>
          <a:xfrm>
            <a:off x="684360" y="1773360"/>
            <a:ext cx="79437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&amp;Bcy;&amp;rcy;&amp;ocy;&amp;ncy;&amp;zcy;&amp;ocy;&amp;vcy;&amp;acy;&amp;yacy; &amp;scy;&amp;kcy;&amp;ucy;&amp;lcy;&amp;softcy;&amp;pcy;&amp;tcy;&amp;ucy;&amp;rcy;&amp;acy; &amp;Fcy;&amp;iecy;&amp;mcy;&amp;icy;&amp;dcy;&amp;acy; &amp;bcy;&amp;ocy;&amp;gcy;&amp;icy;&amp;ncy;&amp;yacy; &amp;pcy;&amp;rcy;&amp;acy;&amp;vcy;&amp;ocy;&amp;scy;&amp;ucy;&amp;dcy;&amp;icy;&amp;yacy; 78 &amp;khcy; 28 &amp;scy;&amp;mcy; &amp;kcy;&amp;ucy;&amp;pcy;…"/>
          <p:cNvPicPr/>
          <p:nvPr/>
        </p:nvPicPr>
        <p:blipFill>
          <a:blip r:embed="rId2"/>
          <a:stretch/>
        </p:blipFill>
        <p:spPr>
          <a:xfrm>
            <a:off x="1692360" y="189000"/>
            <a:ext cx="548784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691920"/>
            <a:ext cx="6346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33cc"/>
                </a:solidFill>
                <a:latin typeface="Arial"/>
              </a:rPr>
              <a:t>«Расскажи – и я забуду. Покажи – и я запомню. </a:t>
            </a:r>
            <a:br>
              <a:rPr sz="3900"/>
            </a:br>
            <a:r>
              <a:rPr b="1" i="1" lang="ru-RU" sz="3900" spc="-1" strike="noStrike">
                <a:solidFill>
                  <a:srgbClr val="0033cc"/>
                </a:solidFill>
                <a:latin typeface="Arial"/>
              </a:rPr>
              <a:t>Дай мне действовать самому – и я научусь.»                                </a:t>
            </a:r>
            <a:br>
              <a:rPr sz="3900"/>
            </a:br>
            <a:br>
              <a:rPr sz="3900"/>
            </a:br>
            <a:r>
              <a:rPr b="1" i="1" lang="ru-RU" sz="2700" spc="-1" strike="noStrike">
                <a:solidFill>
                  <a:srgbClr val="0033cc"/>
                </a:solidFill>
                <a:latin typeface="Arial"/>
              </a:rPr>
              <a:t>Восточная мудрос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сова"/>
          <p:cNvPicPr/>
          <p:nvPr/>
        </p:nvPicPr>
        <p:blipFill>
          <a:blip r:embed="rId1"/>
          <a:srcRect l="0" t="0" r="12094" b="0"/>
          <a:stretch/>
        </p:blipFill>
        <p:spPr>
          <a:xfrm>
            <a:off x="324000" y="1197000"/>
            <a:ext cx="2376360" cy="38019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абораторные рычажные ве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128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AT18"/>
          <p:cNvPicPr/>
          <p:nvPr/>
        </p:nvPicPr>
        <p:blipFill>
          <a:blip r:embed="rId1"/>
          <a:srcRect l="0" t="3523" r="0" b="0"/>
          <a:stretch/>
        </p:blipFill>
        <p:spPr>
          <a:xfrm>
            <a:off x="181080" y="1844640"/>
            <a:ext cx="2995560" cy="3960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2987640" y="3573360"/>
            <a:ext cx="1419120" cy="360360"/>
          </a:xfrm>
          <a:prstGeom prst="wedgeRectCallout">
            <a:avLst>
              <a:gd name="adj1" fmla="val -190379"/>
              <a:gd name="adj2" fmla="val 30550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AT1A"/>
          <p:cNvPicPr/>
          <p:nvPr/>
        </p:nvPicPr>
        <p:blipFill>
          <a:blip r:embed="rId2"/>
          <a:stretch/>
        </p:blipFill>
        <p:spPr>
          <a:xfrm>
            <a:off x="4643280" y="3213000"/>
            <a:ext cx="4283280" cy="2044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132000" y="1773360"/>
            <a:ext cx="1511280" cy="503280"/>
          </a:xfrm>
          <a:prstGeom prst="wedgeRectCallout">
            <a:avLst>
              <a:gd name="adj1" fmla="val -132666"/>
              <a:gd name="adj2" fmla="val 1824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омы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0" y="981000"/>
            <a:ext cx="1547640" cy="647640"/>
          </a:xfrm>
          <a:prstGeom prst="wedgeRectCallout">
            <a:avLst>
              <a:gd name="adj1" fmla="val 62513"/>
              <a:gd name="adj2" fmla="val 208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елка 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2987640" y="3573360"/>
            <a:ext cx="1490760" cy="360360"/>
          </a:xfrm>
          <a:prstGeom prst="wedgeRectCallout">
            <a:avLst>
              <a:gd name="adj1" fmla="val -81523"/>
              <a:gd name="adj2" fmla="val 2966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4643280" y="2708280"/>
            <a:ext cx="865440" cy="360360"/>
          </a:xfrm>
          <a:prstGeom prst="wedgeRectCallout">
            <a:avLst>
              <a:gd name="adj1" fmla="val 15138"/>
              <a:gd name="adj2" fmla="val 370263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5508720" y="1989000"/>
            <a:ext cx="1346040" cy="360360"/>
          </a:xfrm>
          <a:prstGeom prst="wedgeRectCallout">
            <a:avLst>
              <a:gd name="adj1" fmla="val 351"/>
              <a:gd name="adj2" fmla="val 414759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ц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7667640" y="2492280"/>
            <a:ext cx="1131840" cy="432000"/>
          </a:xfrm>
          <a:prstGeom prst="wedgeRectCallout">
            <a:avLst>
              <a:gd name="adj1" fmla="val -25736"/>
              <a:gd name="adj2" fmla="val 186763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4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i="1" lang="ru-RU" sz="5200" spc="-1" strike="noStrike">
                <a:solidFill>
                  <a:srgbClr val="0033cc"/>
                </a:solidFill>
                <a:latin typeface="Arial"/>
              </a:rPr>
              <a:t>Учебные весы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32000" y="5732640"/>
            <a:ext cx="587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Разновесы – набор гир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1912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9280" y="836640"/>
            <a:ext cx="84805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еред взвешиванием необходимо убедиться, что весы уравновеше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Взвешиваемое тело кладут на левую чашу весов, а гири – на праву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Во избежание порчи весов тело и гири опускать осторож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Нельзя взвешивать тела более тяжелые, чем указанная на веса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редельная нагруз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5.  На чашки весов нельзя класть мокрые, грязные, горячие тела, насыпать порошки, наливать жидк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Мелкие гири нужно брать только пинцетом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осле взвешивания переносят гири с чашки весов в футляр и проверяют, все ли гири положены на место</a:t>
            </a:r>
            <a:r>
              <a:rPr b="0" lang="ru-RU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30200" y="604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Правила взвешивания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08000" y="0"/>
            <a:ext cx="90360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Единицы измерения      массы в системе СИ: 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1 к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Единицы измерения массы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т = 1000 кг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г = 0, 001 кг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мг = 0,000001 к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ц = 100 к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549000"/>
            <a:ext cx="8229600" cy="5576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50920" y="115920"/>
            <a:ext cx="8748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Перевести в  кил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следующие   знач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0 г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00 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50 м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8,3 мг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75,6 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150 т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45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0 г = 0,02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00 г = 0,2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50 мг = 0,00025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8,3 мг = 0,0000283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75,6 г =0,0756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150 т = 150000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&amp;Mcy;&amp;ocy;&amp;yacy; &amp;pcy;&amp;iecy;&amp;dcy;&amp;acy;&amp;gcy;&amp;ocy;&amp;gcy;&amp;icy;&amp;chcy;&amp;iecy;&amp;scy;&amp;kcy;&amp;acy;&amp;yacy; &amp;fcy;&amp;icy;&amp;lcy;&amp;ocy;&amp;scy;&amp;ocy;&amp;fcy;&amp;icy;&amp;yacy;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§ 19 повторить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800" y="274320"/>
            <a:ext cx="902484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3300"/>
                </a:solidFill>
                <a:latin typeface="Arial"/>
              </a:rPr>
              <a:t>Отгадайте загадку!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«Две сестры качались,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Правды добивались,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А когда добились – остановились»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2" descr="baby18"/>
          <p:cNvPicPr/>
          <p:nvPr/>
        </p:nvPicPr>
        <p:blipFill>
          <a:blip r:embed="rId1"/>
          <a:stretch/>
        </p:blipFill>
        <p:spPr>
          <a:xfrm>
            <a:off x="119160" y="4132440"/>
            <a:ext cx="204300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33cc"/>
                </a:solidFill>
                <a:latin typeface="Arial"/>
              </a:rPr>
              <a:t>Вес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250px-Balance_%C3%A0_tabac_1850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«Знаем мы с седьмого класса: главное для тела масс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Если масса велика, жизнь для тела нелег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С места тело трудно сдвинуть, трудно вверх его подкинуть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Трудно скорость изменить, только в том кого винить?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Рис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Рис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7672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79280" y="115920"/>
            <a:ext cx="871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"/>
              </a:rPr>
              <a:t>Эталон массы изготовлен из платиново-иридиевого сплава, имеет форму цилиндра высотой примерно 39 мм, и хранится в городе Севре во Франции. С эталона изготовлены копии: в России хранится копия №12, в США – № 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Типы ве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2760840" cy="270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03640" y="1700280"/>
            <a:ext cx="2712960" cy="263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Res" descr="res6E3EA001-5FB6-40CC-94E3-B017F68D805C"/>
          <p:cNvPicPr/>
          <p:nvPr/>
        </p:nvPicPr>
        <p:blipFill>
          <a:blip r:embed="rId3"/>
          <a:stretch/>
        </p:blipFill>
        <p:spPr>
          <a:xfrm>
            <a:off x="6156360" y="3789360"/>
            <a:ext cx="2863800" cy="271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156360" y="2708280"/>
            <a:ext cx="2863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Весы для измер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сил поверхностно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натяж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51640" y="4334040"/>
            <a:ext cx="30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ужинные 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3040" y="30481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33cc"/>
                </a:solidFill>
                <a:latin typeface="Arial"/>
              </a:rPr>
              <a:t>Рычажные ве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58000" y="981000"/>
            <a:ext cx="2212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Учеб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48:34Z</dcterms:created>
  <dc:creator>Борис</dc:creator>
  <dc:description/>
  <dc:language>en-US</dc:language>
  <cp:lastModifiedBy>user</cp:lastModifiedBy>
  <dcterms:modified xsi:type="dcterms:W3CDTF">2014-10-26T10:30:42Z</dcterms:modified>
  <cp:revision>25</cp:revision>
  <dc:subject/>
  <dc:title>Слайд 1</dc:title>
</cp:coreProperties>
</file>