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media/image8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223-09C3-45E7-9A14-D2811D00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668-CABC-456A-A447-43B38B5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F5F-0179-478A-927C-10C24F8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D0B-B3AA-4E7C-BFC7-0786E566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F137-A9D3-4B8D-A3B0-06F0C9BE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28E-1769-4AEA-B309-7B62E04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F03-368C-4036-B747-EB69F7E3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1B14-13EC-42EC-B27A-B51D97C3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FBEA-B406-4070-A1A9-AF6493B9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A380-A080-4366-A4D6-0178C14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0C50-8C51-4043-911E-4A32BB4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4DE-4574-43C2-A011-E943FAA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E5E-B683-4A08-869F-EBFC3542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7806-2410-4A8D-8DAC-D126328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3A1-38B8-4D61-8412-04EA71F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8998-EAEF-4E05-A175-3F51A7F5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944A-E7D3-4F1B-B3B5-A7E27198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9AD-11F9-4DB8-A402-2E2A3E7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334-9207-4A30-8FAC-E7F09B5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4D2-E92F-4ADD-BB27-764C2114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93B-9E53-433B-B992-658ADDE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F41-3B59-4456-9440-D18A8DF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E8D-DAD5-4413-BF9D-32B3ED4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C4F-C3D0-40FB-81BE-0C1B619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6BB-1EE7-43FE-A93F-4677FAE986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617F-013F-4BBB-9778-185649CD3914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Опыт Резерфорда.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Постулаты Бора.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149440" y="4365720"/>
            <a:ext cx="39942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работала: Низамутдинова Светлана Юрьевна, учитель физики МАОУ «Гимназия №19»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г. Миасс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отсутствии фольги – на экране появлялся светлый кружок напротив канала с радиоактивным веществом.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Picture 4" descr="n118a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Когда на пути пучка альфа-частиц поместили фольгу, площадь пятна на экране увеличилась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мещая экран сверху и снизу установки, Резерфорд обнаружил, что небольшое число альфа-частиц отклонилось на углы около 90</a:t>
            </a:r>
            <a:r>
              <a:rPr b="1" lang="ru-RU" sz="2000" spc="-1" strike="noStrike" baseline="30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Единичные частицы были отброшены назад.</a:t>
            </a:r>
            <a:br>
              <a:rPr sz="2000"/>
            </a:b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icture 4" descr="n118b"/>
          <p:cNvPicPr/>
          <p:nvPr/>
        </p:nvPicPr>
        <p:blipFill>
          <a:blip r:embed="rId1"/>
          <a:stretch/>
        </p:blipFill>
        <p:spPr>
          <a:xfrm>
            <a:off x="0" y="1673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1"/>
          <p:cNvSpPr/>
          <p:nvPr/>
        </p:nvSpPr>
        <p:spPr>
          <a:xfrm>
            <a:off x="179280" y="2492280"/>
            <a:ext cx="8713800" cy="4176720"/>
          </a:xfrm>
          <a:custGeom>
            <a:avLst/>
            <a:gdLst>
              <a:gd name="textAreaLeft" fmla="*/ 1785600 w 8713800"/>
              <a:gd name="textAreaRight" fmla="*/ 6928200 w 8713800"/>
              <a:gd name="textAreaTop" fmla="*/ 855720 h 4176720"/>
              <a:gd name="textAreaBottom" fmla="*/ 3321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53" y="12520"/>
                </a:lnTo>
                <a:lnTo>
                  <a:pt x="786" y="14846"/>
                </a:lnTo>
                <a:lnTo>
                  <a:pt x="3241" y="15709"/>
                </a:lnTo>
                <a:lnTo>
                  <a:pt x="3163" y="18437"/>
                </a:lnTo>
                <a:lnTo>
                  <a:pt x="5760" y="18272"/>
                </a:lnTo>
                <a:lnTo>
                  <a:pt x="6580" y="20741"/>
                </a:lnTo>
                <a:lnTo>
                  <a:pt x="8926" y="19616"/>
                </a:lnTo>
                <a:lnTo>
                  <a:pt x="10800" y="21600"/>
                </a:lnTo>
                <a:lnTo>
                  <a:pt x="12520" y="19647"/>
                </a:lnTo>
                <a:lnTo>
                  <a:pt x="14846" y="20814"/>
                </a:lnTo>
                <a:lnTo>
                  <a:pt x="15709" y="18359"/>
                </a:lnTo>
                <a:lnTo>
                  <a:pt x="18437" y="18437"/>
                </a:lnTo>
                <a:lnTo>
                  <a:pt x="18272" y="15840"/>
                </a:lnTo>
                <a:lnTo>
                  <a:pt x="20741" y="15020"/>
                </a:lnTo>
                <a:lnTo>
                  <a:pt x="19616" y="12674"/>
                </a:lnTo>
                <a:lnTo>
                  <a:pt x="21600" y="10800"/>
                </a:lnTo>
                <a:lnTo>
                  <a:pt x="19647" y="9080"/>
                </a:lnTo>
                <a:lnTo>
                  <a:pt x="20814" y="6754"/>
                </a:lnTo>
                <a:lnTo>
                  <a:pt x="18359" y="5891"/>
                </a:lnTo>
                <a:lnTo>
                  <a:pt x="18437" y="3163"/>
                </a:lnTo>
                <a:lnTo>
                  <a:pt x="15840" y="3328"/>
                </a:lnTo>
                <a:lnTo>
                  <a:pt x="15020" y="859"/>
                </a:lnTo>
                <a:lnTo>
                  <a:pt x="12674" y="1984"/>
                </a:lnTo>
                <a:lnTo>
                  <a:pt x="10800" y="0"/>
                </a:lnTo>
                <a:lnTo>
                  <a:pt x="9080" y="1953"/>
                </a:lnTo>
                <a:lnTo>
                  <a:pt x="6754" y="786"/>
                </a:lnTo>
                <a:lnTo>
                  <a:pt x="5891" y="3241"/>
                </a:lnTo>
                <a:lnTo>
                  <a:pt x="3163" y="3163"/>
                </a:lnTo>
                <a:lnTo>
                  <a:pt x="3328" y="5760"/>
                </a:lnTo>
                <a:lnTo>
                  <a:pt x="859" y="6580"/>
                </a:lnTo>
                <a:lnTo>
                  <a:pt x="1984" y="8926"/>
                </a:lnTo>
                <a:lnTo>
                  <a:pt x="0" y="10800"/>
                </a:lnTo>
                <a:close/>
              </a:path>
            </a:pathLst>
          </a:custGeom>
          <a:solidFill>
            <a:srgbClr val="a9bee9">
              <a:alpha val="6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 из опыт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92200" y="164952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менно случаи рассеяния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 на большие углы привели Резерфорда к выводу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692360" y="306864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толь сильное отклонение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 возможно только в том случае, если внутри атома имеется чрезвычайно сильное электрическое поле. Было рассчитано, что такое поле могло быть создано зарядом, сконцентрированным в очень малом объеме (по сравнению с объемом атома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6"/>
          <p:cNvSpPr/>
          <p:nvPr/>
        </p:nvSpPr>
        <p:spPr>
          <a:xfrm>
            <a:off x="468360" y="2781360"/>
            <a:ext cx="7704000" cy="3816360"/>
          </a:xfrm>
          <a:custGeom>
            <a:avLst/>
            <a:gdLst>
              <a:gd name="textAreaLeft" fmla="*/ 1602360 w 7704000"/>
              <a:gd name="textAreaRight" fmla="*/ 6101640 w 7704000"/>
              <a:gd name="textAreaTop" fmla="*/ 793800 h 3816360"/>
              <a:gd name="textAreaBottom" fmla="*/ 30225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4" y="11577"/>
                </a:lnTo>
                <a:lnTo>
                  <a:pt x="198" y="12861"/>
                </a:lnTo>
                <a:lnTo>
                  <a:pt x="2226" y="13259"/>
                </a:lnTo>
                <a:lnTo>
                  <a:pt x="786" y="14846"/>
                </a:lnTo>
                <a:lnTo>
                  <a:pt x="2924" y="14988"/>
                </a:lnTo>
                <a:lnTo>
                  <a:pt x="1742" y="16682"/>
                </a:lnTo>
                <a:lnTo>
                  <a:pt x="3868" y="16414"/>
                </a:lnTo>
                <a:lnTo>
                  <a:pt x="3163" y="18437"/>
                </a:lnTo>
                <a:lnTo>
                  <a:pt x="5066" y="17633"/>
                </a:lnTo>
                <a:lnTo>
                  <a:pt x="4761" y="19754"/>
                </a:lnTo>
                <a:lnTo>
                  <a:pt x="6475" y="18602"/>
                </a:lnTo>
                <a:lnTo>
                  <a:pt x="6580" y="20741"/>
                </a:lnTo>
                <a:lnTo>
                  <a:pt x="8192" y="19330"/>
                </a:lnTo>
                <a:lnTo>
                  <a:pt x="8555" y="21364"/>
                </a:lnTo>
                <a:lnTo>
                  <a:pt x="9868" y="19671"/>
                </a:lnTo>
                <a:lnTo>
                  <a:pt x="10800" y="21600"/>
                </a:lnTo>
                <a:lnTo>
                  <a:pt x="11577" y="19686"/>
                </a:lnTo>
                <a:lnTo>
                  <a:pt x="12861" y="21402"/>
                </a:lnTo>
                <a:lnTo>
                  <a:pt x="13259" y="19374"/>
                </a:lnTo>
                <a:lnTo>
                  <a:pt x="14846" y="20814"/>
                </a:lnTo>
                <a:lnTo>
                  <a:pt x="14988" y="18676"/>
                </a:lnTo>
                <a:lnTo>
                  <a:pt x="16682" y="19858"/>
                </a:lnTo>
                <a:lnTo>
                  <a:pt x="16414" y="17732"/>
                </a:lnTo>
                <a:lnTo>
                  <a:pt x="18437" y="18437"/>
                </a:lnTo>
                <a:lnTo>
                  <a:pt x="17633" y="16534"/>
                </a:lnTo>
                <a:lnTo>
                  <a:pt x="19754" y="16839"/>
                </a:lnTo>
                <a:lnTo>
                  <a:pt x="18602" y="15125"/>
                </a:lnTo>
                <a:lnTo>
                  <a:pt x="20741" y="15020"/>
                </a:lnTo>
                <a:lnTo>
                  <a:pt x="19330" y="13408"/>
                </a:lnTo>
                <a:lnTo>
                  <a:pt x="21364" y="13045"/>
                </a:lnTo>
                <a:lnTo>
                  <a:pt x="19671" y="11732"/>
                </a:lnTo>
                <a:lnTo>
                  <a:pt x="21600" y="10800"/>
                </a:lnTo>
                <a:lnTo>
                  <a:pt x="19686" y="10023"/>
                </a:lnTo>
                <a:lnTo>
                  <a:pt x="21402" y="8739"/>
                </a:lnTo>
                <a:lnTo>
                  <a:pt x="19374" y="8341"/>
                </a:lnTo>
                <a:lnTo>
                  <a:pt x="20814" y="6754"/>
                </a:lnTo>
                <a:lnTo>
                  <a:pt x="18676" y="6612"/>
                </a:lnTo>
                <a:lnTo>
                  <a:pt x="19858" y="4918"/>
                </a:lnTo>
                <a:lnTo>
                  <a:pt x="17732" y="5186"/>
                </a:lnTo>
                <a:lnTo>
                  <a:pt x="18437" y="3163"/>
                </a:lnTo>
                <a:lnTo>
                  <a:pt x="16534" y="3967"/>
                </a:lnTo>
                <a:lnTo>
                  <a:pt x="16839" y="1846"/>
                </a:lnTo>
                <a:lnTo>
                  <a:pt x="15125" y="2998"/>
                </a:lnTo>
                <a:lnTo>
                  <a:pt x="15020" y="859"/>
                </a:lnTo>
                <a:lnTo>
                  <a:pt x="13408" y="2270"/>
                </a:lnTo>
                <a:lnTo>
                  <a:pt x="13045" y="236"/>
                </a:lnTo>
                <a:lnTo>
                  <a:pt x="11732" y="1929"/>
                </a:lnTo>
                <a:lnTo>
                  <a:pt x="10800" y="0"/>
                </a:lnTo>
                <a:lnTo>
                  <a:pt x="10023" y="1914"/>
                </a:lnTo>
                <a:lnTo>
                  <a:pt x="8739" y="198"/>
                </a:lnTo>
                <a:lnTo>
                  <a:pt x="8341" y="2226"/>
                </a:lnTo>
                <a:lnTo>
                  <a:pt x="6754" y="786"/>
                </a:lnTo>
                <a:lnTo>
                  <a:pt x="6612" y="2924"/>
                </a:lnTo>
                <a:lnTo>
                  <a:pt x="4918" y="1742"/>
                </a:lnTo>
                <a:lnTo>
                  <a:pt x="5186" y="3868"/>
                </a:lnTo>
                <a:lnTo>
                  <a:pt x="3163" y="3163"/>
                </a:lnTo>
                <a:lnTo>
                  <a:pt x="3967" y="5066"/>
                </a:lnTo>
                <a:lnTo>
                  <a:pt x="1846" y="4761"/>
                </a:lnTo>
                <a:lnTo>
                  <a:pt x="2998" y="6475"/>
                </a:lnTo>
                <a:lnTo>
                  <a:pt x="859" y="6580"/>
                </a:lnTo>
                <a:lnTo>
                  <a:pt x="2270" y="8192"/>
                </a:lnTo>
                <a:lnTo>
                  <a:pt x="236" y="8555"/>
                </a:lnTo>
                <a:lnTo>
                  <a:pt x="1929" y="9868"/>
                </a:lnTo>
                <a:lnTo>
                  <a:pt x="0" y="10800"/>
                </a:lnTo>
                <a:close/>
              </a:path>
            </a:pathLst>
          </a:custGeom>
          <a:solidFill>
            <a:srgbClr val="a9bee9">
              <a:alpha val="6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 из опыт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155736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скольку масса электрона примерно в 8 000 раз меньше массы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ы, электроны, входящие в состав атома, не могли существенным образом изменить направление движения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. Поэтому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79640" y="357336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данном случае речь может идти только о силах электрического отталкивания между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частицами и положительно заряженной частью атома, масса которой значительно больше массы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частиц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496908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центре атома находится положительно заряженное ядро, вокруг которого вращаются по определенным орбитам электрон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сновная масса атома сосредоточена в ядре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ядра = 99,4%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атом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зависимости от массы ядро имеет диаметр порядк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</a:rPr>
              <a:t>-14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–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</a:rPr>
              <a:t>-15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м, т.е. оно в десятки или даже в сотни тысяч раз меньше атома (диаметр атома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10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м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том электрически нейтрален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q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ядра  = +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∑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9" descr="модель резерфорда"/>
          <p:cNvPicPr/>
          <p:nvPr/>
        </p:nvPicPr>
        <p:blipFill>
          <a:blip r:embed="rId1"/>
          <a:stretch/>
        </p:blipFill>
        <p:spPr>
          <a:xfrm>
            <a:off x="5003640" y="260280"/>
            <a:ext cx="3745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Picture 4" descr="Схема рассеяния альфа-частиц в опыте Резерфорда"/>
          <p:cNvPicPr/>
          <p:nvPr/>
        </p:nvPicPr>
        <p:blipFill>
          <a:blip r:embed="rId1"/>
          <a:stretch/>
        </p:blipFill>
        <p:spPr>
          <a:xfrm>
            <a:off x="3995640" y="1916280"/>
            <a:ext cx="4897440" cy="39178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63" name="Text Box 7"/>
          <p:cNvSpPr/>
          <p:nvPr/>
        </p:nvSpPr>
        <p:spPr>
          <a:xfrm>
            <a:off x="395280" y="2349360"/>
            <a:ext cx="340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правление полета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 зависит от того, на каком расстоянии от ядра они пролетают. Оно сильно меняется только в том случае, если частица проходит очень близко к ядру.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920" y="1700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аким образом, в результате опытов по рассеянию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 была доказана несостоятельность модели атома Томсона, выдвинута ядерная модель строения атома и определен порядок диаметров атомных ядер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5" descr="планетарная модель"/>
          <p:cNvPicPr/>
          <p:nvPr/>
        </p:nvPicPr>
        <p:blipFill>
          <a:blip r:embed="rId1"/>
          <a:stretch/>
        </p:blipFill>
        <p:spPr>
          <a:xfrm>
            <a:off x="4716360" y="3338640"/>
            <a:ext cx="4100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тиворечия планетарной модели атома и классической физики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</a:rPr>
              <a:t>Нельзя объяснить факт существования атома, его устойчивость.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 законам электродинамики Максвелла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о орбите с ускорением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излучение ЭМ волн с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ν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ν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обращения вокруг ядра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теря Е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 спирали к ядру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ремя существования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ТОМ УСТОЙЧИВ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332000" y="3429000"/>
            <a:ext cx="3619440" cy="3428640"/>
            <a:chOff x="1332000" y="3429000"/>
            <a:chExt cx="3619440" cy="3428640"/>
          </a:xfrm>
        </p:grpSpPr>
        <p:sp>
          <p:nvSpPr>
            <p:cNvPr id="171" name="Oval 5"/>
            <p:cNvSpPr/>
            <p:nvPr/>
          </p:nvSpPr>
          <p:spPr>
            <a:xfrm>
              <a:off x="1332000" y="3429000"/>
              <a:ext cx="3619440" cy="3428640"/>
            </a:xfrm>
            <a:prstGeom prst="ellipse">
              <a:avLst/>
            </a:prstGeom>
            <a:gradFill rotWithShape="0">
              <a:gsLst>
                <a:gs pos="0">
                  <a:srgbClr val="d4d828"/>
                </a:gs>
                <a:gs pos="100000">
                  <a:srgbClr val="62641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2086920" y="3955680"/>
              <a:ext cx="2230920" cy="2357280"/>
            </a:xfrm>
            <a:prstGeom prst="ellipse">
              <a:avLst/>
            </a:prstGeom>
            <a:gradFill rotWithShape="0">
              <a:gsLst>
                <a:gs pos="0">
                  <a:srgbClr val="d4d828"/>
                </a:gs>
                <a:gs pos="100000">
                  <a:srgbClr val="62641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 flipH="1">
            <a:off x="2987640" y="5013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681840" y="4941720"/>
            <a:ext cx="1367640" cy="292320"/>
            <a:chOff x="681840" y="4941720"/>
            <a:chExt cx="1367640" cy="292320"/>
          </a:xfrm>
        </p:grpSpPr>
        <p:sp>
          <p:nvSpPr>
            <p:cNvPr id="175" name="Freeform 10"/>
            <p:cNvSpPr/>
            <p:nvPr/>
          </p:nvSpPr>
          <p:spPr>
            <a:xfrm rot="10479000">
              <a:off x="684360" y="5059080"/>
              <a:ext cx="1125360" cy="10656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14" h="202">
                  <a:moveTo>
                    <a:pt x="4" y="97"/>
                  </a:moveTo>
                  <a:cubicBezTo>
                    <a:pt x="7" y="68"/>
                    <a:pt x="0" y="35"/>
                    <a:pt x="14" y="10"/>
                  </a:cubicBezTo>
                  <a:cubicBezTo>
                    <a:pt x="20" y="0"/>
                    <a:pt x="35" y="20"/>
                    <a:pt x="42" y="29"/>
                  </a:cubicBezTo>
                  <a:cubicBezTo>
                    <a:pt x="59" y="51"/>
                    <a:pt x="81" y="116"/>
                    <a:pt x="90" y="145"/>
                  </a:cubicBezTo>
                  <a:cubicBezTo>
                    <a:pt x="136" y="129"/>
                    <a:pt x="127" y="114"/>
                    <a:pt x="138" y="68"/>
                  </a:cubicBezTo>
                  <a:cubicBezTo>
                    <a:pt x="145" y="74"/>
                    <a:pt x="154" y="79"/>
                    <a:pt x="158" y="87"/>
                  </a:cubicBezTo>
                  <a:cubicBezTo>
                    <a:pt x="167" y="105"/>
                    <a:pt x="177" y="145"/>
                    <a:pt x="177" y="145"/>
                  </a:cubicBezTo>
                  <a:cubicBezTo>
                    <a:pt x="200" y="121"/>
                    <a:pt x="205" y="100"/>
                    <a:pt x="215" y="68"/>
                  </a:cubicBezTo>
                  <a:cubicBezTo>
                    <a:pt x="225" y="71"/>
                    <a:pt x="237" y="70"/>
                    <a:pt x="244" y="77"/>
                  </a:cubicBezTo>
                  <a:cubicBezTo>
                    <a:pt x="251" y="84"/>
                    <a:pt x="251" y="96"/>
                    <a:pt x="254" y="106"/>
                  </a:cubicBezTo>
                  <a:cubicBezTo>
                    <a:pt x="263" y="138"/>
                    <a:pt x="272" y="170"/>
                    <a:pt x="282" y="202"/>
                  </a:cubicBezTo>
                  <a:cubicBezTo>
                    <a:pt x="352" y="180"/>
                    <a:pt x="311" y="175"/>
                    <a:pt x="350" y="116"/>
                  </a:cubicBezTo>
                  <a:cubicBezTo>
                    <a:pt x="363" y="97"/>
                    <a:pt x="388" y="58"/>
                    <a:pt x="388" y="58"/>
                  </a:cubicBezTo>
                  <a:cubicBezTo>
                    <a:pt x="452" y="100"/>
                    <a:pt x="413" y="141"/>
                    <a:pt x="474" y="183"/>
                  </a:cubicBezTo>
                  <a:cubicBezTo>
                    <a:pt x="501" y="144"/>
                    <a:pt x="508" y="103"/>
                    <a:pt x="522" y="58"/>
                  </a:cubicBezTo>
                  <a:cubicBezTo>
                    <a:pt x="554" y="105"/>
                    <a:pt x="545" y="141"/>
                    <a:pt x="590" y="183"/>
                  </a:cubicBezTo>
                  <a:cubicBezTo>
                    <a:pt x="597" y="182"/>
                    <a:pt x="653" y="172"/>
                    <a:pt x="666" y="164"/>
                  </a:cubicBezTo>
                  <a:cubicBezTo>
                    <a:pt x="674" y="159"/>
                    <a:pt x="678" y="150"/>
                    <a:pt x="686" y="145"/>
                  </a:cubicBezTo>
                  <a:cubicBezTo>
                    <a:pt x="694" y="140"/>
                    <a:pt x="714" y="135"/>
                    <a:pt x="714" y="135"/>
                  </a:cubicBezTo>
                </a:path>
              </a:pathLst>
            </a:custGeom>
            <a:noFill/>
            <a:ln w="540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1652760" y="4941720"/>
              <a:ext cx="396720" cy="2923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cc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392760" y="5950080"/>
            <a:ext cx="1367640" cy="291960"/>
            <a:chOff x="392760" y="5950080"/>
            <a:chExt cx="1367640" cy="291960"/>
          </a:xfrm>
        </p:grpSpPr>
        <p:sp>
          <p:nvSpPr>
            <p:cNvPr id="178" name="Freeform 13"/>
            <p:cNvSpPr/>
            <p:nvPr/>
          </p:nvSpPr>
          <p:spPr>
            <a:xfrm rot="10479000">
              <a:off x="395280" y="6066720"/>
              <a:ext cx="1125360" cy="10620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4" h="202">
                  <a:moveTo>
                    <a:pt x="4" y="97"/>
                  </a:moveTo>
                  <a:cubicBezTo>
                    <a:pt x="7" y="68"/>
                    <a:pt x="0" y="35"/>
                    <a:pt x="14" y="10"/>
                  </a:cubicBezTo>
                  <a:cubicBezTo>
                    <a:pt x="20" y="0"/>
                    <a:pt x="35" y="20"/>
                    <a:pt x="42" y="29"/>
                  </a:cubicBezTo>
                  <a:cubicBezTo>
                    <a:pt x="59" y="51"/>
                    <a:pt x="81" y="116"/>
                    <a:pt x="90" y="145"/>
                  </a:cubicBezTo>
                  <a:cubicBezTo>
                    <a:pt x="136" y="129"/>
                    <a:pt x="127" y="114"/>
                    <a:pt x="138" y="68"/>
                  </a:cubicBezTo>
                  <a:cubicBezTo>
                    <a:pt x="145" y="74"/>
                    <a:pt x="154" y="79"/>
                    <a:pt x="158" y="87"/>
                  </a:cubicBezTo>
                  <a:cubicBezTo>
                    <a:pt x="167" y="105"/>
                    <a:pt x="177" y="145"/>
                    <a:pt x="177" y="145"/>
                  </a:cubicBezTo>
                  <a:cubicBezTo>
                    <a:pt x="200" y="121"/>
                    <a:pt x="205" y="100"/>
                    <a:pt x="215" y="68"/>
                  </a:cubicBezTo>
                  <a:cubicBezTo>
                    <a:pt x="225" y="71"/>
                    <a:pt x="237" y="70"/>
                    <a:pt x="244" y="77"/>
                  </a:cubicBezTo>
                  <a:cubicBezTo>
                    <a:pt x="251" y="84"/>
                    <a:pt x="251" y="96"/>
                    <a:pt x="254" y="106"/>
                  </a:cubicBezTo>
                  <a:cubicBezTo>
                    <a:pt x="263" y="138"/>
                    <a:pt x="272" y="170"/>
                    <a:pt x="282" y="202"/>
                  </a:cubicBezTo>
                  <a:cubicBezTo>
                    <a:pt x="352" y="180"/>
                    <a:pt x="311" y="175"/>
                    <a:pt x="350" y="116"/>
                  </a:cubicBezTo>
                  <a:cubicBezTo>
                    <a:pt x="363" y="97"/>
                    <a:pt x="388" y="58"/>
                    <a:pt x="388" y="58"/>
                  </a:cubicBezTo>
                  <a:cubicBezTo>
                    <a:pt x="452" y="100"/>
                    <a:pt x="413" y="141"/>
                    <a:pt x="474" y="183"/>
                  </a:cubicBezTo>
                  <a:cubicBezTo>
                    <a:pt x="501" y="144"/>
                    <a:pt x="508" y="103"/>
                    <a:pt x="522" y="58"/>
                  </a:cubicBezTo>
                  <a:cubicBezTo>
                    <a:pt x="554" y="105"/>
                    <a:pt x="545" y="141"/>
                    <a:pt x="590" y="183"/>
                  </a:cubicBezTo>
                  <a:cubicBezTo>
                    <a:pt x="597" y="182"/>
                    <a:pt x="653" y="172"/>
                    <a:pt x="666" y="164"/>
                  </a:cubicBezTo>
                  <a:cubicBezTo>
                    <a:pt x="674" y="159"/>
                    <a:pt x="678" y="150"/>
                    <a:pt x="686" y="145"/>
                  </a:cubicBezTo>
                  <a:cubicBezTo>
                    <a:pt x="694" y="140"/>
                    <a:pt x="714" y="135"/>
                    <a:pt x="714" y="135"/>
                  </a:cubicBezTo>
                </a:path>
              </a:pathLst>
            </a:custGeom>
            <a:noFill/>
            <a:ln w="540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1363680" y="5950080"/>
              <a:ext cx="396720" cy="2919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cc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0" name="Oval 15"/>
          <p:cNvSpPr/>
          <p:nvPr/>
        </p:nvSpPr>
        <p:spPr>
          <a:xfrm>
            <a:off x="6516720" y="3933720"/>
            <a:ext cx="336600" cy="231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0809 C 0.05746 -0.08255 0.11319 -0.1563 0.18177 -0.1563 C 0.25034 -0.1563 0.30573 -0.08255 0.30573 0.00809 C 0.30573 0.09873 0.25034 0.17202 0.18177 0.17202 C 0.11319 0.17202 0.05746 0.09873 0.05746 0.00809 Z">
                                      <p:cBhvr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6 0.00763 C -0.01562 -0.10266 -0.00937 -0.27561 0.07552 -0.37595 C 0.15955 -0.47861 0.28837 -0.47168 0.36285 -0.36254 C 0.43802 -0.25318 0.43073 -0.08301 0.34653 0.01965 C 0.26268 0.12116 0.13386 0.11538 0.05886 0.00763 Z">
                                      <p:cBhvr>
                                        <p:cTn id="155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ервый постулат Бор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877680"/>
            <a:ext cx="84978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томная система может находится только в особых стационарных  квантовых состояниях, каждому из которых соответствует определенная энергия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24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тационарных состояниях атом не излучает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805120" y="2952720"/>
            <a:ext cx="2955960" cy="2881440"/>
          </a:xfrm>
          <a:custGeom>
            <a:avLst/>
            <a:gdLst>
              <a:gd name="textAreaLeft" fmla="*/ 432720 w 2955960"/>
              <a:gd name="textAreaRight" fmla="*/ 2523240 w 295596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06" y="10800"/>
                </a:moveTo>
                <a:cubicBezTo>
                  <a:pt x="9106" y="11736"/>
                  <a:pt x="9864" y="12494"/>
                  <a:pt x="10800" y="12494"/>
                </a:cubicBezTo>
                <a:cubicBezTo>
                  <a:pt x="11736" y="12494"/>
                  <a:pt x="12494" y="11736"/>
                  <a:pt x="12494" y="10800"/>
                </a:cubicBezTo>
                <a:cubicBezTo>
                  <a:pt x="12494" y="9864"/>
                  <a:pt x="11736" y="9106"/>
                  <a:pt x="10800" y="9106"/>
                </a:cubicBezTo>
                <a:cubicBezTo>
                  <a:pt x="9864" y="9106"/>
                  <a:pt x="9106" y="9864"/>
                  <a:pt x="9106" y="10800"/>
                </a:cubicBez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d4d8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100400" y="4160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4052880" y="2774880"/>
            <a:ext cx="395280" cy="395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087800" y="273204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3.7037E-007 C 0.08993 3.7037E-007 0.16371 0.09329 0.16371 0.2088 C 0.16371 0.32361 0.08993 0.41806 1.38889E-006 0.41806 C -0.09011 0.41806 -0.16302 0.32361 -0.16302 0.2088 C -0.16302 0.09329 -0.09011 3.7037E-007 1.38889E-006 3.7037E-007 Z">
                                      <p:cBhvr>
                                        <p:cTn id="16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13 -0.00162 C 0.09288 -0.00162 0.16667 0.0919 0.16667 0.20718 C 0.16667 0.32223 0.09288 0.41598 0.00313 0.41598 C -0.08732 0.41598 -0.16007 0.32223 -0.16007 0.20718 C -0.16007 0.0919 -0.08732 -0.00162 0.00313 -0.00162 Z">
                                      <p:cBhvr>
                                        <p:cTn id="16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45600"/>
            <a:ext cx="8024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торой постулат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76360" y="1197000"/>
            <a:ext cx="5554440" cy="16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 переходе атома из стационарного состояния с бол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в стационарное состояние с мен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излучается квант, энергия которого равна разности энергий стационарных состояний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V="1">
            <a:off x="1143000" y="1828800"/>
            <a:ext cx="0" cy="32767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1143000" y="5105520"/>
            <a:ext cx="22096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143000" y="3886200"/>
            <a:ext cx="18162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143000" y="3279600"/>
            <a:ext cx="1785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1143000" y="2697120"/>
            <a:ext cx="1806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1143000" y="2514600"/>
            <a:ext cx="1839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157400" y="2332080"/>
            <a:ext cx="1844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1447920" y="33526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2225520" y="2378160"/>
            <a:ext cx="3240" cy="9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02280" y="36212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602280" y="3011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89080" y="15638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310400" y="4186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лучае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1373040" y="3244680"/>
            <a:ext cx="182880" cy="182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2163600" y="2268360"/>
            <a:ext cx="165240" cy="184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56200" y="25383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21" descr="63230164623094-1"/>
          <p:cNvPicPr/>
          <p:nvPr/>
        </p:nvPicPr>
        <p:blipFill>
          <a:blip r:embed="rId1"/>
          <a:stretch/>
        </p:blipFill>
        <p:spPr>
          <a:xfrm>
            <a:off x="4932360" y="5229360"/>
            <a:ext cx="2349360" cy="874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2"/>
          <p:cNvSpPr/>
          <p:nvPr/>
        </p:nvSpPr>
        <p:spPr>
          <a:xfrm>
            <a:off x="4788000" y="3312000"/>
            <a:ext cx="23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ν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nm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 = 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 – 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408560" y="39258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h – постоянная Планк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 flipV="1" rot="10736400">
            <a:off x="4420800" y="450324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астота излуч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Freeform 25"/>
          <p:cNvSpPr/>
          <p:nvPr/>
        </p:nvSpPr>
        <p:spPr>
          <a:xfrm flipH="1">
            <a:off x="2413080" y="3246480"/>
            <a:ext cx="969840" cy="66600"/>
          </a:xfrm>
          <a:custGeom>
            <a:avLst/>
            <a:gdLst>
              <a:gd name="textAreaLeft" fmla="*/ 360 w 969840"/>
              <a:gd name="textAreaRight" fmla="*/ 970560 w 96984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Freeform 26"/>
          <p:cNvSpPr/>
          <p:nvPr/>
        </p:nvSpPr>
        <p:spPr>
          <a:xfrm flipH="1">
            <a:off x="1697040" y="3697200"/>
            <a:ext cx="969840" cy="66600"/>
          </a:xfrm>
          <a:custGeom>
            <a:avLst/>
            <a:gdLst>
              <a:gd name="textAreaLeft" fmla="*/ 360 w 969840"/>
              <a:gd name="textAreaRight" fmla="*/ 970560 w 96984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ff33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1154160" y="2992320"/>
            <a:ext cx="1785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Oval 28"/>
          <p:cNvSpPr/>
          <p:nvPr/>
        </p:nvSpPr>
        <p:spPr>
          <a:xfrm>
            <a:off x="1033560" y="5578560"/>
            <a:ext cx="336600" cy="3045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Freeform 29"/>
          <p:cNvSpPr/>
          <p:nvPr/>
        </p:nvSpPr>
        <p:spPr>
          <a:xfrm>
            <a:off x="533520" y="6086520"/>
            <a:ext cx="1096920" cy="2253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798560" y="551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1835280" y="59896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45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ван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1094E-006 L 0.00087 0.08443 E">
                                      <p:cBhvr>
                                        <p:cTn id="17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116E-006 L 0.16302 -2.60116E-006 E">
                                      <p:cBhvr>
                                        <p:cTn id="18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1111 L -0.00156 0.14676 E">
                                      <p:cBhvr>
                                        <p:cTn id="18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06358E-006 L 0.09132 -0.00625 E">
                                      <p:cBhvr>
                                        <p:cTn id="19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Georgia"/>
              </a:rPr>
              <a:t>Отыщи всему начало, и ты многое поймешь.</a:t>
            </a:r>
            <a:br>
              <a:rPr sz="3200"/>
            </a:b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озьма Прутков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400 г. до н.э. Демокрит:  «Существует предел деления атома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ристотель: «Делимость вещества бесконечна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626 г., Париж: учение об атоме запрещено под страхом смерт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1154160" y="3913200"/>
            <a:ext cx="1706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345600"/>
            <a:ext cx="8169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торой постулат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4000" y="1139400"/>
            <a:ext cx="52880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 переходе атома из стационарного состояния с меньшей 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в стационарное состояние с бол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оглощается квант, энергия которого равна разности энергий стационарных состояний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1143000" y="1828800"/>
            <a:ext cx="0" cy="32767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1143000" y="5105520"/>
            <a:ext cx="22096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143000" y="3352680"/>
            <a:ext cx="1706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143000" y="2697120"/>
            <a:ext cx="1752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143000" y="2514600"/>
            <a:ext cx="1768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157400" y="2332080"/>
            <a:ext cx="178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 flipV="1">
            <a:off x="1447920" y="2820600"/>
            <a:ext cx="15840" cy="10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2378160" y="2286000"/>
            <a:ext cx="1440" cy="111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3520" y="472428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602280" y="36212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2280" y="3011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89080" y="15638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310040" y="4186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оглощае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2303640" y="3306600"/>
            <a:ext cx="182520" cy="18288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1386000" y="3807000"/>
            <a:ext cx="164880" cy="18396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588240" y="25383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7" name="Picture 21" descr="63230164623094-1"/>
          <p:cNvPicPr/>
          <p:nvPr/>
        </p:nvPicPr>
        <p:blipFill>
          <a:blip r:embed="rId1"/>
          <a:stretch/>
        </p:blipFill>
        <p:spPr>
          <a:xfrm>
            <a:off x="4861080" y="5445000"/>
            <a:ext cx="234936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2"/>
          <p:cNvSpPr/>
          <p:nvPr/>
        </p:nvSpPr>
        <p:spPr>
          <a:xfrm>
            <a:off x="5110200" y="3436200"/>
            <a:ext cx="284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ν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nm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 = 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 – 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4556160" y="422100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h – постоянная Планк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4500720" y="4718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астота излучени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1166760" y="2881440"/>
            <a:ext cx="1706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Freeform 26"/>
          <p:cNvSpPr/>
          <p:nvPr/>
        </p:nvSpPr>
        <p:spPr>
          <a:xfrm>
            <a:off x="2685960" y="2951280"/>
            <a:ext cx="946080" cy="88920"/>
          </a:xfrm>
          <a:custGeom>
            <a:avLst/>
            <a:gdLst>
              <a:gd name="textAreaLeft" fmla="*/ 0 w 946080"/>
              <a:gd name="textAreaRight" fmla="*/ 946440 w 9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492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Freeform 27"/>
          <p:cNvSpPr/>
          <p:nvPr/>
        </p:nvSpPr>
        <p:spPr>
          <a:xfrm>
            <a:off x="2575080" y="2260440"/>
            <a:ext cx="946080" cy="88920"/>
          </a:xfrm>
          <a:custGeom>
            <a:avLst/>
            <a:gdLst>
              <a:gd name="textAreaLeft" fmla="*/ 0 w 946080"/>
              <a:gd name="textAreaRight" fmla="*/ 946440 w 9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1033560" y="5578560"/>
            <a:ext cx="336600" cy="30456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1617840" y="602136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45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ван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Freeform 30"/>
          <p:cNvSpPr/>
          <p:nvPr/>
        </p:nvSpPr>
        <p:spPr>
          <a:xfrm>
            <a:off x="533520" y="6102360"/>
            <a:ext cx="1082520" cy="20952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66600">
            <a:solidFill>
              <a:srgbClr val="3399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736640" y="55022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8.33333E-007 -0.14444 E">
                                      <p:cBhvr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09249E-007 L -0.16441 8.09249E-007 E">
                                      <p:cBhvr>
                                        <p:cTn id="20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88 L 4.44444E-006 -0.16227 E">
                                      <p:cBhvr>
                                        <p:cTn id="21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72254E-006 L -0.03801 5.72254E-006 E">
                                      <p:cBhvr>
                                        <p:cTn id="216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279360"/>
            <a:ext cx="82818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Энергетические диаграмм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54000" y="1139400"/>
            <a:ext cx="52880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 flipH="1">
            <a:off x="4224240" y="1566720"/>
            <a:ext cx="378000" cy="7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442880" y="2997360"/>
            <a:ext cx="27673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Line 8"/>
          <p:cNvSpPr/>
          <p:nvPr/>
        </p:nvSpPr>
        <p:spPr>
          <a:xfrm flipV="1">
            <a:off x="1430280" y="4014720"/>
            <a:ext cx="282420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1419120" y="1944720"/>
            <a:ext cx="0" cy="327672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419120" y="5221440"/>
            <a:ext cx="33274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1376280" y="3425760"/>
            <a:ext cx="288288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V="1">
            <a:off x="1419120" y="2797200"/>
            <a:ext cx="2841840" cy="158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1419120" y="2630520"/>
            <a:ext cx="287172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433520" y="2448000"/>
            <a:ext cx="281304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Line 15"/>
          <p:cNvSpPr/>
          <p:nvPr/>
        </p:nvSpPr>
        <p:spPr>
          <a:xfrm flipH="1" flipV="1">
            <a:off x="1724040" y="2936520"/>
            <a:ext cx="15840" cy="1081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809640" y="484020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878760" y="37368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78760" y="312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65200" y="167940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864360" y="26542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2771640" y="2424240"/>
            <a:ext cx="15840" cy="1581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4164120" y="94284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ергетический уровень (стационарное состояние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4689360" y="4267080"/>
            <a:ext cx="463680" cy="711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5340240" y="3975120"/>
            <a:ext cx="355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рмальное состояние атом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минимальная энерг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4484520" y="2308320"/>
            <a:ext cx="101880" cy="1697040"/>
          </a:xfrm>
          <a:custGeom>
            <a:avLst/>
            <a:gdLst>
              <a:gd name="textAreaLeft" fmla="*/ 0 w 101880"/>
              <a:gd name="textAreaRight" fmla="*/ 36720 w 101880"/>
              <a:gd name="textAreaTop" fmla="*/ 43920 h 1697040"/>
              <a:gd name="textAreaBottom" fmla="*/ 1653120 h 16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H="1">
            <a:off x="4834080" y="2263680"/>
            <a:ext cx="374400" cy="916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5435640" y="2060640"/>
            <a:ext cx="3403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збужденное состоя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3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>
            <a:off x="2511360" y="1655640"/>
            <a:ext cx="203400" cy="622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711360" y="10159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еход атом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9960" y="214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стационарном состоянии атома электрон, двигаясь по круговой орбите, должен иметь дискретные, квантованные значения момента импульс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6" name="Picture 4" descr="63230164624436-2"/>
          <p:cNvPicPr/>
          <p:nvPr/>
        </p:nvPicPr>
        <p:blipFill>
          <a:blip r:embed="rId1"/>
          <a:stretch/>
        </p:blipFill>
        <p:spPr>
          <a:xfrm>
            <a:off x="369720" y="2541600"/>
            <a:ext cx="4224600" cy="1174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4676760" y="2381040"/>
            <a:ext cx="42069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масса электрона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υ –  скорость электрон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ru-RU" sz="18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– радиус стационарной круговой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биты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84360" y="41353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 позволяет вычислить радиусы стационарных орбит электрона в атоме водорода и определить значения энергий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ерии излучения атома водорода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996840" y="1198440"/>
            <a:ext cx="19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0840" y="777960"/>
                <a:ext cx="15444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76200" y="1257480"/>
                <a:ext cx="15494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365040" y="2079720"/>
                <a:ext cx="1569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357120" y="3017880"/>
                <a:ext cx="1646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263520" y="4573440"/>
                <a:ext cx="1749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30040" y="6008760"/>
                <a:ext cx="1801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10"/>
          <p:cNvSpPr/>
          <p:nvPr/>
        </p:nvSpPr>
        <p:spPr>
          <a:xfrm>
            <a:off x="2233440" y="4832280"/>
            <a:ext cx="6637680" cy="1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2195640" y="6237360"/>
            <a:ext cx="6662520" cy="1728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2222640" y="3230640"/>
            <a:ext cx="6619680" cy="1728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2233440" y="2262240"/>
            <a:ext cx="6583680" cy="17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2235240" y="1488960"/>
            <a:ext cx="6673680" cy="17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2224080" y="993600"/>
            <a:ext cx="6673680" cy="17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2268360" y="4869000"/>
            <a:ext cx="0" cy="136836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484360" y="3284640"/>
            <a:ext cx="0" cy="2952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2627280" y="3284640"/>
            <a:ext cx="0" cy="2952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2771640" y="3213000"/>
            <a:ext cx="0" cy="30402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2916360" y="1052640"/>
            <a:ext cx="0" cy="518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564000" y="3284640"/>
            <a:ext cx="0" cy="151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3708360" y="2276640"/>
            <a:ext cx="0" cy="252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851280" y="1557360"/>
            <a:ext cx="0" cy="324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3995640" y="981000"/>
            <a:ext cx="0" cy="381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4716360" y="2205000"/>
            <a:ext cx="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>
            <a:off x="4859280" y="1484280"/>
            <a:ext cx="0" cy="1728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5003640" y="981000"/>
            <a:ext cx="0" cy="2232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5529240" y="2349360"/>
            <a:ext cx="326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Пашен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инфракрасное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5253120" y="5256360"/>
            <a:ext cx="326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Лайман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ультрафиолетовое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5194440" y="3803760"/>
            <a:ext cx="326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Бальмер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видимый свет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Достоинства теории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зволила объяснить, почему атомы испускают линейчатые спектры и точно предсказать для атома водорода длины волн испускаемого излуч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зволила объяснить и спектры поглощения: столкновение фотона с атомом приводит к переходу электрона с одного энергетического уровня на другой, более высокий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арантировала стабильность атомов и позволила теоретически определить радиус атома водород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очно предсказала энергию ионизации водорода 13,6 э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едостатки теории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основе теории не удалось количественно объяснить спектр более сложных атомов (гелия и др.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 применимо не всегд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едставление об определенных орбитах, по которым движется электрон в атоме Бора, оказалось условны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897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жозеф Джон Томсон (1856 – 1940). Определил заряд и массу отдельного «атома»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электриче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В природе существует материальный носитель наименьшего заряда – электрон.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906 – 1914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.г. Роберт Милликен (1868 – 1953). Провел эксперименты по точному определению массы и заряда электрон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= 9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9389 10 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-31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кг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Arial"/>
              </a:rPr>
              <a:t>е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  = 1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,602177 10 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– 19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 К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4360" y="19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Явление радиоактивности давало основания предположить, что в состав атома входят отрицательно и положительно заряженные частиц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414972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роме того, было известно, что атом в целом нейтрале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348000" y="2637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1903г. английский физик Джозеф Джон Томсон предложил одну из первых моделей строения атома – «кекс с изюмом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5" descr="Томсон"/>
          <p:cNvPicPr/>
          <p:nvPr/>
        </p:nvPicPr>
        <p:blipFill>
          <a:blip r:embed="rId1"/>
          <a:stretch/>
        </p:blipFill>
        <p:spPr>
          <a:xfrm>
            <a:off x="468360" y="1628640"/>
            <a:ext cx="24858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модель Томсона"/>
          <p:cNvPicPr/>
          <p:nvPr/>
        </p:nvPicPr>
        <p:blipFill>
          <a:blip r:embed="rId1"/>
          <a:stretch/>
        </p:blipFill>
        <p:spPr>
          <a:xfrm>
            <a:off x="5435640" y="2708280"/>
            <a:ext cx="33624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250920" y="292428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нутри этого шара находятся электроны, которые могут колебаться около своего положения равновесия. Положительный заряд шара равен по модулю суммарному отрицательному заряду электрона, поэтому электрический заряд атома в целом равен нулю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50920" y="17226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 предположению Томсона, атом представлял собой шар радиусом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10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, по всему объему которого равномерно распределен положительный заряд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Опыт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258920" y="1341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</a:rPr>
              <a:t>Модель строения атома Томсона нуждалась в экспериментальной проверк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Picture 5" descr="резерфорд"/>
          <p:cNvPicPr/>
          <p:nvPr/>
        </p:nvPicPr>
        <p:blipFill>
          <a:blip r:embed="rId1"/>
          <a:stretch/>
        </p:blipFill>
        <p:spPr>
          <a:xfrm>
            <a:off x="6012000" y="2708280"/>
            <a:ext cx="2523960" cy="3762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611280" y="2637000"/>
            <a:ext cx="49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Важно было проверит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ействительно ли положительный заряд распределён по всему объёму атома с постоянной плотностью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этому в 1906 г. Резерфорд совместно со своими сотрудниками провел ряд опытов по исследованию состава и строения атомо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Идея опыт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ондировать атом альфа–частицам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ьфа-частицы возникают при распаде радия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асса альфа-частицы в 8000 раз больше массы электро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лектрический заряд альфа-частицы в 2 раза больше заряда электро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корость альфа-частицы около 15 000 км/с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ьфа-частицы является ядром атома гелия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Bodoni MT"/>
              </a:rPr>
              <a:t>Схема экспериментальной установки </a:t>
            </a:r>
            <a:br>
              <a:rPr sz="900"/>
            </a:br>
            <a:r>
              <a:rPr b="0" lang="ru-RU" sz="2400" spc="-1" strike="noStrike">
                <a:solidFill>
                  <a:srgbClr val="0000cc"/>
                </a:solidFill>
                <a:latin typeface="Bodoni MT"/>
              </a:rPr>
              <a:t>Вся установка помещается в вакуум.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157644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5:53:48Z</dcterms:created>
  <dc:creator/>
  <dc:description/>
  <dc:language>en-US</dc:language>
  <cp:lastModifiedBy>Svetlana</cp:lastModifiedBy>
  <dcterms:modified xsi:type="dcterms:W3CDTF">2018-06-26T16:12:43Z</dcterms:modified>
  <cp:revision>15</cp:revision>
  <dc:subject/>
  <dc:title>Модели атома. Опыт Резерфорда.</dc:title>
</cp:coreProperties>
</file>