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gif" ContentType="image/gif"/>
  <Override PartName="/ppt/media/image7.png" ContentType="image/png"/>
  <Override PartName="/ppt/media/image8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990-8C8B-4557-9494-D8106686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F943-2190-4037-B53F-061F8DDA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0B5-9888-48C2-B076-C6EE349E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5A5-D3D2-4344-9018-1D7D0228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F52B-38E7-4280-8A30-D8C41273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E64A-9322-456F-AAC9-9D8B1FE8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9831-B716-4399-BD13-FD0E03E3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803B-FA30-44CA-8B1C-09883C9A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1D76-67FC-4FD9-90D4-8E8322D5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B37A-570C-4673-9988-01C413B9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DCCD-77E2-401C-89EE-6773D360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276-4C78-40C8-8AB8-5ECC8606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4C28-1602-40EC-9D36-F811720A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D042-7C3B-4ACC-A5A3-6DE485CA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B7D3-2149-4F52-BCD2-BC7628B0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524D-0372-444A-8AE0-BAA6C66B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9A1E-D56A-4857-A177-5FD4AF7C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41F-4015-4D51-82CB-805054CC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30D-1DA4-46F6-A75E-8D445540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08D-1787-408A-87CD-EDBD6B27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811-96EA-4F0B-8204-55E2E209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48C-C99F-47EF-A75B-B3875D5B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A37-490B-4A4D-A951-EA00CCC6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976-FDBA-405D-8A0C-B14D1279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E879-4D67-44B3-9737-F0054D5504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0A5A-28EC-4FDB-BEE3-DB978E141723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Опыт Резерфорда.</a:t>
            </a:r>
            <a:br>
              <a:rPr sz="5400"/>
            </a:b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Постулаты Бора.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149440" y="4365720"/>
            <a:ext cx="399420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зработала: Низамутдинова Светлана Юрьевна, учитель физики МАОУ «Гимназия №19»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г. Миасс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 отсутствии фольги – на экране появлялся светлый кружок напротив канала с радиоактивным веществом.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Picture 4" descr="n118a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Когда на пути пучка альфа-частиц поместили фольгу, площадь пятна на экране увеличилась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омещая экран сверху и снизу установки, Резерфорд обнаружил, что небольшое число альфа-частиц отклонилось на углы около 90</a:t>
            </a:r>
            <a:r>
              <a:rPr b="1" lang="ru-RU" sz="2000" spc="-1" strike="noStrike" baseline="30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Единичные частицы были отброшены назад.</a:t>
            </a:r>
            <a:br>
              <a:rPr sz="2000"/>
            </a:b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Picture 4" descr="n118b"/>
          <p:cNvPicPr/>
          <p:nvPr/>
        </p:nvPicPr>
        <p:blipFill>
          <a:blip r:embed="rId1"/>
          <a:stretch/>
        </p:blipFill>
        <p:spPr>
          <a:xfrm>
            <a:off x="0" y="167328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1"/>
          <p:cNvSpPr/>
          <p:nvPr/>
        </p:nvSpPr>
        <p:spPr>
          <a:xfrm>
            <a:off x="179280" y="2492280"/>
            <a:ext cx="8713800" cy="4176720"/>
          </a:xfrm>
          <a:custGeom>
            <a:avLst/>
            <a:gdLst>
              <a:gd name="textAreaLeft" fmla="*/ 1785600 w 8713800"/>
              <a:gd name="textAreaRight" fmla="*/ 6928200 w 8713800"/>
              <a:gd name="textAreaTop" fmla="*/ 855720 h 4176720"/>
              <a:gd name="textAreaBottom" fmla="*/ 3321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53" y="12520"/>
                </a:lnTo>
                <a:lnTo>
                  <a:pt x="786" y="14846"/>
                </a:lnTo>
                <a:lnTo>
                  <a:pt x="3241" y="15709"/>
                </a:lnTo>
                <a:lnTo>
                  <a:pt x="3163" y="18437"/>
                </a:lnTo>
                <a:lnTo>
                  <a:pt x="5760" y="18272"/>
                </a:lnTo>
                <a:lnTo>
                  <a:pt x="6580" y="20741"/>
                </a:lnTo>
                <a:lnTo>
                  <a:pt x="8926" y="19616"/>
                </a:lnTo>
                <a:lnTo>
                  <a:pt x="10800" y="21600"/>
                </a:lnTo>
                <a:lnTo>
                  <a:pt x="12520" y="19647"/>
                </a:lnTo>
                <a:lnTo>
                  <a:pt x="14846" y="20814"/>
                </a:lnTo>
                <a:lnTo>
                  <a:pt x="15709" y="18359"/>
                </a:lnTo>
                <a:lnTo>
                  <a:pt x="18437" y="18437"/>
                </a:lnTo>
                <a:lnTo>
                  <a:pt x="18272" y="15840"/>
                </a:lnTo>
                <a:lnTo>
                  <a:pt x="20741" y="15020"/>
                </a:lnTo>
                <a:lnTo>
                  <a:pt x="19616" y="12674"/>
                </a:lnTo>
                <a:lnTo>
                  <a:pt x="21600" y="10800"/>
                </a:lnTo>
                <a:lnTo>
                  <a:pt x="19647" y="9080"/>
                </a:lnTo>
                <a:lnTo>
                  <a:pt x="20814" y="6754"/>
                </a:lnTo>
                <a:lnTo>
                  <a:pt x="18359" y="5891"/>
                </a:lnTo>
                <a:lnTo>
                  <a:pt x="18437" y="3163"/>
                </a:lnTo>
                <a:lnTo>
                  <a:pt x="15840" y="3328"/>
                </a:lnTo>
                <a:lnTo>
                  <a:pt x="15020" y="859"/>
                </a:lnTo>
                <a:lnTo>
                  <a:pt x="12674" y="1984"/>
                </a:lnTo>
                <a:lnTo>
                  <a:pt x="10800" y="0"/>
                </a:lnTo>
                <a:lnTo>
                  <a:pt x="9080" y="1953"/>
                </a:lnTo>
                <a:lnTo>
                  <a:pt x="6754" y="786"/>
                </a:lnTo>
                <a:lnTo>
                  <a:pt x="5891" y="3241"/>
                </a:lnTo>
                <a:lnTo>
                  <a:pt x="3163" y="3163"/>
                </a:lnTo>
                <a:lnTo>
                  <a:pt x="3328" y="5760"/>
                </a:lnTo>
                <a:lnTo>
                  <a:pt x="859" y="6580"/>
                </a:lnTo>
                <a:lnTo>
                  <a:pt x="1984" y="8926"/>
                </a:lnTo>
                <a:lnTo>
                  <a:pt x="0" y="10800"/>
                </a:lnTo>
                <a:close/>
              </a:path>
            </a:pathLst>
          </a:custGeom>
          <a:solidFill>
            <a:srgbClr val="a9bee9">
              <a:alpha val="62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Выводы из опыта Резерфор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92200" y="1649520"/>
            <a:ext cx="70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менно случаи рассеяния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частиц на большие углы привели Резерфорда к выводу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692360" y="3068640"/>
            <a:ext cx="59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толь сильное отклонение </a:t>
            </a:r>
            <a:r>
              <a:rPr b="1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α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частиц возможно только в том случае, если внутри атома имеется чрезвычайно сильное электрическое поле. Было рассчитано, что такое поле могло быть создано зарядом, сконцентрированным в очень малом объеме (по сравнению с объемом атома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6"/>
          <p:cNvSpPr/>
          <p:nvPr/>
        </p:nvSpPr>
        <p:spPr>
          <a:xfrm>
            <a:off x="468360" y="2781360"/>
            <a:ext cx="7704000" cy="3816360"/>
          </a:xfrm>
          <a:custGeom>
            <a:avLst/>
            <a:gdLst>
              <a:gd name="textAreaLeft" fmla="*/ 1602360 w 7704000"/>
              <a:gd name="textAreaRight" fmla="*/ 6101640 w 7704000"/>
              <a:gd name="textAreaTop" fmla="*/ 793800 h 3816360"/>
              <a:gd name="textAreaBottom" fmla="*/ 302256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4" y="11577"/>
                </a:lnTo>
                <a:lnTo>
                  <a:pt x="198" y="12861"/>
                </a:lnTo>
                <a:lnTo>
                  <a:pt x="2226" y="13259"/>
                </a:lnTo>
                <a:lnTo>
                  <a:pt x="786" y="14846"/>
                </a:lnTo>
                <a:lnTo>
                  <a:pt x="2924" y="14988"/>
                </a:lnTo>
                <a:lnTo>
                  <a:pt x="1742" y="16682"/>
                </a:lnTo>
                <a:lnTo>
                  <a:pt x="3868" y="16414"/>
                </a:lnTo>
                <a:lnTo>
                  <a:pt x="3163" y="18437"/>
                </a:lnTo>
                <a:lnTo>
                  <a:pt x="5066" y="17633"/>
                </a:lnTo>
                <a:lnTo>
                  <a:pt x="4761" y="19754"/>
                </a:lnTo>
                <a:lnTo>
                  <a:pt x="6475" y="18602"/>
                </a:lnTo>
                <a:lnTo>
                  <a:pt x="6580" y="20741"/>
                </a:lnTo>
                <a:lnTo>
                  <a:pt x="8192" y="19330"/>
                </a:lnTo>
                <a:lnTo>
                  <a:pt x="8555" y="21364"/>
                </a:lnTo>
                <a:lnTo>
                  <a:pt x="9868" y="19671"/>
                </a:lnTo>
                <a:lnTo>
                  <a:pt x="10800" y="21600"/>
                </a:lnTo>
                <a:lnTo>
                  <a:pt x="11577" y="19686"/>
                </a:lnTo>
                <a:lnTo>
                  <a:pt x="12861" y="21402"/>
                </a:lnTo>
                <a:lnTo>
                  <a:pt x="13259" y="19374"/>
                </a:lnTo>
                <a:lnTo>
                  <a:pt x="14846" y="20814"/>
                </a:lnTo>
                <a:lnTo>
                  <a:pt x="14988" y="18676"/>
                </a:lnTo>
                <a:lnTo>
                  <a:pt x="16682" y="19858"/>
                </a:lnTo>
                <a:lnTo>
                  <a:pt x="16414" y="17732"/>
                </a:lnTo>
                <a:lnTo>
                  <a:pt x="18437" y="18437"/>
                </a:lnTo>
                <a:lnTo>
                  <a:pt x="17633" y="16534"/>
                </a:lnTo>
                <a:lnTo>
                  <a:pt x="19754" y="16839"/>
                </a:lnTo>
                <a:lnTo>
                  <a:pt x="18602" y="15125"/>
                </a:lnTo>
                <a:lnTo>
                  <a:pt x="20741" y="15020"/>
                </a:lnTo>
                <a:lnTo>
                  <a:pt x="19330" y="13408"/>
                </a:lnTo>
                <a:lnTo>
                  <a:pt x="21364" y="13045"/>
                </a:lnTo>
                <a:lnTo>
                  <a:pt x="19671" y="11732"/>
                </a:lnTo>
                <a:lnTo>
                  <a:pt x="21600" y="10800"/>
                </a:lnTo>
                <a:lnTo>
                  <a:pt x="19686" y="10023"/>
                </a:lnTo>
                <a:lnTo>
                  <a:pt x="21402" y="8739"/>
                </a:lnTo>
                <a:lnTo>
                  <a:pt x="19374" y="8341"/>
                </a:lnTo>
                <a:lnTo>
                  <a:pt x="20814" y="6754"/>
                </a:lnTo>
                <a:lnTo>
                  <a:pt x="18676" y="6612"/>
                </a:lnTo>
                <a:lnTo>
                  <a:pt x="19858" y="4918"/>
                </a:lnTo>
                <a:lnTo>
                  <a:pt x="17732" y="5186"/>
                </a:lnTo>
                <a:lnTo>
                  <a:pt x="18437" y="3163"/>
                </a:lnTo>
                <a:lnTo>
                  <a:pt x="16534" y="3967"/>
                </a:lnTo>
                <a:lnTo>
                  <a:pt x="16839" y="1846"/>
                </a:lnTo>
                <a:lnTo>
                  <a:pt x="15125" y="2998"/>
                </a:lnTo>
                <a:lnTo>
                  <a:pt x="15020" y="859"/>
                </a:lnTo>
                <a:lnTo>
                  <a:pt x="13408" y="2270"/>
                </a:lnTo>
                <a:lnTo>
                  <a:pt x="13045" y="236"/>
                </a:lnTo>
                <a:lnTo>
                  <a:pt x="11732" y="1929"/>
                </a:lnTo>
                <a:lnTo>
                  <a:pt x="10800" y="0"/>
                </a:lnTo>
                <a:lnTo>
                  <a:pt x="10023" y="1914"/>
                </a:lnTo>
                <a:lnTo>
                  <a:pt x="8739" y="198"/>
                </a:lnTo>
                <a:lnTo>
                  <a:pt x="8341" y="2226"/>
                </a:lnTo>
                <a:lnTo>
                  <a:pt x="6754" y="786"/>
                </a:lnTo>
                <a:lnTo>
                  <a:pt x="6612" y="2924"/>
                </a:lnTo>
                <a:lnTo>
                  <a:pt x="4918" y="1742"/>
                </a:lnTo>
                <a:lnTo>
                  <a:pt x="5186" y="3868"/>
                </a:lnTo>
                <a:lnTo>
                  <a:pt x="3163" y="3163"/>
                </a:lnTo>
                <a:lnTo>
                  <a:pt x="3967" y="5066"/>
                </a:lnTo>
                <a:lnTo>
                  <a:pt x="1846" y="4761"/>
                </a:lnTo>
                <a:lnTo>
                  <a:pt x="2998" y="6475"/>
                </a:lnTo>
                <a:lnTo>
                  <a:pt x="859" y="6580"/>
                </a:lnTo>
                <a:lnTo>
                  <a:pt x="2270" y="8192"/>
                </a:lnTo>
                <a:lnTo>
                  <a:pt x="236" y="8555"/>
                </a:lnTo>
                <a:lnTo>
                  <a:pt x="1929" y="9868"/>
                </a:lnTo>
                <a:lnTo>
                  <a:pt x="0" y="10800"/>
                </a:lnTo>
                <a:close/>
              </a:path>
            </a:pathLst>
          </a:custGeom>
          <a:solidFill>
            <a:srgbClr val="a9bee9">
              <a:alpha val="62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Выводы из опыта Резерфор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24000" y="155736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скольку масса электрона примерно в 8 000 раз меньше массы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частицы, электроны, входящие в состав атома, не могли существенным образом изменить направление движения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частиц. Поэтому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979640" y="357336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 данном случае речь может идти только о силах электрического отталкивания между </a:t>
            </a: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-частицами и положительно заряженной частью атома, масса которой значительно больше массы </a:t>
            </a: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-частицы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496908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Модель атома Резерфор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центре атома находится положительно заряженное ядро, вокруг которого вращаются по определенным орбитам электроны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Основная масса атома сосредоточена в ядре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ядра = 99,4%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m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атом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зависимости от массы ядро имеет диаметр порядка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003366"/>
                </a:solidFill>
                <a:latin typeface="Times New Roman"/>
              </a:rPr>
              <a:t>-14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– 10</a:t>
            </a:r>
            <a:r>
              <a:rPr b="0" lang="ru-RU" sz="2400" spc="-1" strike="noStrike" baseline="30000">
                <a:solidFill>
                  <a:srgbClr val="003366"/>
                </a:solidFill>
                <a:latin typeface="Times New Roman"/>
              </a:rPr>
              <a:t>-15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м, т.е. оно в десятки или даже в сотни тысяч раз меньше атома (диаметр атома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≈ 10</a:t>
            </a:r>
            <a:r>
              <a:rPr b="0" lang="ru-RU" sz="24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10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м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том электрически нейтрален: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q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ядра  = +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∑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Picture 9" descr="модель резерфорда"/>
          <p:cNvPicPr/>
          <p:nvPr/>
        </p:nvPicPr>
        <p:blipFill>
          <a:blip r:embed="rId1"/>
          <a:stretch/>
        </p:blipFill>
        <p:spPr>
          <a:xfrm>
            <a:off x="5003640" y="260280"/>
            <a:ext cx="37450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Вывод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Picture 4" descr="Схема рассеяния альфа-частиц в опыте Резерфорда"/>
          <p:cNvPicPr/>
          <p:nvPr/>
        </p:nvPicPr>
        <p:blipFill>
          <a:blip r:embed="rId1"/>
          <a:stretch/>
        </p:blipFill>
        <p:spPr>
          <a:xfrm>
            <a:off x="3995640" y="1916280"/>
            <a:ext cx="4897440" cy="391788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63" name="Text Box 7"/>
          <p:cNvSpPr/>
          <p:nvPr/>
        </p:nvSpPr>
        <p:spPr>
          <a:xfrm>
            <a:off x="395280" y="2349360"/>
            <a:ext cx="340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правление полета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частиц зависит от того, на каком расстоянии от ядра они пролетают. Оно сильно меняется только в том случае, если частица проходит очень близко к ядру.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Вывод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50920" y="1700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Таким образом, в результате опытов по рассеянию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частиц была доказана несостоятельность модели атома Томсона, выдвинута ядерная модель строения атома и определен порядок диаметров атомных ядер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7" name="Picture 5" descr="планетарная модель"/>
          <p:cNvPicPr/>
          <p:nvPr/>
        </p:nvPicPr>
        <p:blipFill>
          <a:blip r:embed="rId1"/>
          <a:stretch/>
        </p:blipFill>
        <p:spPr>
          <a:xfrm>
            <a:off x="4716360" y="3338640"/>
            <a:ext cx="4100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отиворечия планетарной модели атома и классической физики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</a:rPr>
              <a:t>Нельзя объяснить факт существования атома, его устойчивость.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 законам электродинамики Максвелла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о орбите с ускорением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&gt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излучение ЭМ волн с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ν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ν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обращения вокруг ядра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&gt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потеря Е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&gt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по спирали к ядру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&gt;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время существования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≈ 10</a:t>
            </a:r>
            <a:r>
              <a:rPr b="0" lang="ru-RU" sz="24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8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- электро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: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ТОМ УСТОЙЧИВ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1332000" y="3429000"/>
            <a:ext cx="3619440" cy="3428640"/>
            <a:chOff x="1332000" y="3429000"/>
            <a:chExt cx="3619440" cy="3428640"/>
          </a:xfrm>
        </p:grpSpPr>
        <p:sp>
          <p:nvSpPr>
            <p:cNvPr id="171" name="Oval 5"/>
            <p:cNvSpPr/>
            <p:nvPr/>
          </p:nvSpPr>
          <p:spPr>
            <a:xfrm>
              <a:off x="1332000" y="3429000"/>
              <a:ext cx="3619440" cy="3428640"/>
            </a:xfrm>
            <a:prstGeom prst="ellipse">
              <a:avLst/>
            </a:prstGeom>
            <a:gradFill rotWithShape="0">
              <a:gsLst>
                <a:gs pos="0">
                  <a:srgbClr val="d4d828"/>
                </a:gs>
                <a:gs pos="100000">
                  <a:srgbClr val="626413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Oval 6"/>
            <p:cNvSpPr/>
            <p:nvPr/>
          </p:nvSpPr>
          <p:spPr>
            <a:xfrm>
              <a:off x="2086920" y="3955680"/>
              <a:ext cx="2230920" cy="2357280"/>
            </a:xfrm>
            <a:prstGeom prst="ellipse">
              <a:avLst/>
            </a:prstGeom>
            <a:gradFill rotWithShape="0">
              <a:gsLst>
                <a:gs pos="0">
                  <a:srgbClr val="d4d828"/>
                </a:gs>
                <a:gs pos="100000">
                  <a:srgbClr val="626413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3" name="Rectangle 7"/>
          <p:cNvSpPr/>
          <p:nvPr/>
        </p:nvSpPr>
        <p:spPr>
          <a:xfrm flipH="1">
            <a:off x="2987640" y="5013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4" name="Group 9"/>
          <p:cNvGrpSpPr/>
          <p:nvPr/>
        </p:nvGrpSpPr>
        <p:grpSpPr>
          <a:xfrm>
            <a:off x="681840" y="4941720"/>
            <a:ext cx="1367640" cy="292320"/>
            <a:chOff x="681840" y="4941720"/>
            <a:chExt cx="1367640" cy="292320"/>
          </a:xfrm>
        </p:grpSpPr>
        <p:sp>
          <p:nvSpPr>
            <p:cNvPr id="175" name="Freeform 10"/>
            <p:cNvSpPr/>
            <p:nvPr/>
          </p:nvSpPr>
          <p:spPr>
            <a:xfrm rot="10479000">
              <a:off x="684360" y="5059080"/>
              <a:ext cx="1125360" cy="10656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714" h="202">
                  <a:moveTo>
                    <a:pt x="4" y="97"/>
                  </a:moveTo>
                  <a:cubicBezTo>
                    <a:pt x="7" y="68"/>
                    <a:pt x="0" y="35"/>
                    <a:pt x="14" y="10"/>
                  </a:cubicBezTo>
                  <a:cubicBezTo>
                    <a:pt x="20" y="0"/>
                    <a:pt x="35" y="20"/>
                    <a:pt x="42" y="29"/>
                  </a:cubicBezTo>
                  <a:cubicBezTo>
                    <a:pt x="59" y="51"/>
                    <a:pt x="81" y="116"/>
                    <a:pt x="90" y="145"/>
                  </a:cubicBezTo>
                  <a:cubicBezTo>
                    <a:pt x="136" y="129"/>
                    <a:pt x="127" y="114"/>
                    <a:pt x="138" y="68"/>
                  </a:cubicBezTo>
                  <a:cubicBezTo>
                    <a:pt x="145" y="74"/>
                    <a:pt x="154" y="79"/>
                    <a:pt x="158" y="87"/>
                  </a:cubicBezTo>
                  <a:cubicBezTo>
                    <a:pt x="167" y="105"/>
                    <a:pt x="177" y="145"/>
                    <a:pt x="177" y="145"/>
                  </a:cubicBezTo>
                  <a:cubicBezTo>
                    <a:pt x="200" y="121"/>
                    <a:pt x="205" y="100"/>
                    <a:pt x="215" y="68"/>
                  </a:cubicBezTo>
                  <a:cubicBezTo>
                    <a:pt x="225" y="71"/>
                    <a:pt x="237" y="70"/>
                    <a:pt x="244" y="77"/>
                  </a:cubicBezTo>
                  <a:cubicBezTo>
                    <a:pt x="251" y="84"/>
                    <a:pt x="251" y="96"/>
                    <a:pt x="254" y="106"/>
                  </a:cubicBezTo>
                  <a:cubicBezTo>
                    <a:pt x="263" y="138"/>
                    <a:pt x="272" y="170"/>
                    <a:pt x="282" y="202"/>
                  </a:cubicBezTo>
                  <a:cubicBezTo>
                    <a:pt x="352" y="180"/>
                    <a:pt x="311" y="175"/>
                    <a:pt x="350" y="116"/>
                  </a:cubicBezTo>
                  <a:cubicBezTo>
                    <a:pt x="363" y="97"/>
                    <a:pt x="388" y="58"/>
                    <a:pt x="388" y="58"/>
                  </a:cubicBezTo>
                  <a:cubicBezTo>
                    <a:pt x="452" y="100"/>
                    <a:pt x="413" y="141"/>
                    <a:pt x="474" y="183"/>
                  </a:cubicBezTo>
                  <a:cubicBezTo>
                    <a:pt x="501" y="144"/>
                    <a:pt x="508" y="103"/>
                    <a:pt x="522" y="58"/>
                  </a:cubicBezTo>
                  <a:cubicBezTo>
                    <a:pt x="554" y="105"/>
                    <a:pt x="545" y="141"/>
                    <a:pt x="590" y="183"/>
                  </a:cubicBezTo>
                  <a:cubicBezTo>
                    <a:pt x="597" y="182"/>
                    <a:pt x="653" y="172"/>
                    <a:pt x="666" y="164"/>
                  </a:cubicBezTo>
                  <a:cubicBezTo>
                    <a:pt x="674" y="159"/>
                    <a:pt x="678" y="150"/>
                    <a:pt x="686" y="145"/>
                  </a:cubicBezTo>
                  <a:cubicBezTo>
                    <a:pt x="694" y="140"/>
                    <a:pt x="714" y="135"/>
                    <a:pt x="714" y="135"/>
                  </a:cubicBezTo>
                </a:path>
              </a:pathLst>
            </a:custGeom>
            <a:noFill/>
            <a:ln w="5400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Oval 11"/>
            <p:cNvSpPr/>
            <p:nvPr/>
          </p:nvSpPr>
          <p:spPr>
            <a:xfrm>
              <a:off x="1652760" y="4941720"/>
              <a:ext cx="396720" cy="29232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ccff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7" name="Group 12"/>
          <p:cNvGrpSpPr/>
          <p:nvPr/>
        </p:nvGrpSpPr>
        <p:grpSpPr>
          <a:xfrm>
            <a:off x="392760" y="5950080"/>
            <a:ext cx="1367640" cy="291960"/>
            <a:chOff x="392760" y="5950080"/>
            <a:chExt cx="1367640" cy="291960"/>
          </a:xfrm>
        </p:grpSpPr>
        <p:sp>
          <p:nvSpPr>
            <p:cNvPr id="178" name="Freeform 13"/>
            <p:cNvSpPr/>
            <p:nvPr/>
          </p:nvSpPr>
          <p:spPr>
            <a:xfrm rot="10479000">
              <a:off x="395280" y="6066720"/>
              <a:ext cx="1125360" cy="106200"/>
            </a:xfrm>
            <a:custGeom>
              <a:avLst/>
              <a:gdLst>
                <a:gd name="textAreaLeft" fmla="*/ 0 w 1125360"/>
                <a:gd name="textAreaRight" fmla="*/ 1125720 w 11253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14" h="202">
                  <a:moveTo>
                    <a:pt x="4" y="97"/>
                  </a:moveTo>
                  <a:cubicBezTo>
                    <a:pt x="7" y="68"/>
                    <a:pt x="0" y="35"/>
                    <a:pt x="14" y="10"/>
                  </a:cubicBezTo>
                  <a:cubicBezTo>
                    <a:pt x="20" y="0"/>
                    <a:pt x="35" y="20"/>
                    <a:pt x="42" y="29"/>
                  </a:cubicBezTo>
                  <a:cubicBezTo>
                    <a:pt x="59" y="51"/>
                    <a:pt x="81" y="116"/>
                    <a:pt x="90" y="145"/>
                  </a:cubicBezTo>
                  <a:cubicBezTo>
                    <a:pt x="136" y="129"/>
                    <a:pt x="127" y="114"/>
                    <a:pt x="138" y="68"/>
                  </a:cubicBezTo>
                  <a:cubicBezTo>
                    <a:pt x="145" y="74"/>
                    <a:pt x="154" y="79"/>
                    <a:pt x="158" y="87"/>
                  </a:cubicBezTo>
                  <a:cubicBezTo>
                    <a:pt x="167" y="105"/>
                    <a:pt x="177" y="145"/>
                    <a:pt x="177" y="145"/>
                  </a:cubicBezTo>
                  <a:cubicBezTo>
                    <a:pt x="200" y="121"/>
                    <a:pt x="205" y="100"/>
                    <a:pt x="215" y="68"/>
                  </a:cubicBezTo>
                  <a:cubicBezTo>
                    <a:pt x="225" y="71"/>
                    <a:pt x="237" y="70"/>
                    <a:pt x="244" y="77"/>
                  </a:cubicBezTo>
                  <a:cubicBezTo>
                    <a:pt x="251" y="84"/>
                    <a:pt x="251" y="96"/>
                    <a:pt x="254" y="106"/>
                  </a:cubicBezTo>
                  <a:cubicBezTo>
                    <a:pt x="263" y="138"/>
                    <a:pt x="272" y="170"/>
                    <a:pt x="282" y="202"/>
                  </a:cubicBezTo>
                  <a:cubicBezTo>
                    <a:pt x="352" y="180"/>
                    <a:pt x="311" y="175"/>
                    <a:pt x="350" y="116"/>
                  </a:cubicBezTo>
                  <a:cubicBezTo>
                    <a:pt x="363" y="97"/>
                    <a:pt x="388" y="58"/>
                    <a:pt x="388" y="58"/>
                  </a:cubicBezTo>
                  <a:cubicBezTo>
                    <a:pt x="452" y="100"/>
                    <a:pt x="413" y="141"/>
                    <a:pt x="474" y="183"/>
                  </a:cubicBezTo>
                  <a:cubicBezTo>
                    <a:pt x="501" y="144"/>
                    <a:pt x="508" y="103"/>
                    <a:pt x="522" y="58"/>
                  </a:cubicBezTo>
                  <a:cubicBezTo>
                    <a:pt x="554" y="105"/>
                    <a:pt x="545" y="141"/>
                    <a:pt x="590" y="183"/>
                  </a:cubicBezTo>
                  <a:cubicBezTo>
                    <a:pt x="597" y="182"/>
                    <a:pt x="653" y="172"/>
                    <a:pt x="666" y="164"/>
                  </a:cubicBezTo>
                  <a:cubicBezTo>
                    <a:pt x="674" y="159"/>
                    <a:pt x="678" y="150"/>
                    <a:pt x="686" y="145"/>
                  </a:cubicBezTo>
                  <a:cubicBezTo>
                    <a:pt x="694" y="140"/>
                    <a:pt x="714" y="135"/>
                    <a:pt x="714" y="135"/>
                  </a:cubicBezTo>
                </a:path>
              </a:pathLst>
            </a:custGeom>
            <a:noFill/>
            <a:ln w="5400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Oval 14"/>
            <p:cNvSpPr/>
            <p:nvPr/>
          </p:nvSpPr>
          <p:spPr>
            <a:xfrm>
              <a:off x="1363680" y="5950080"/>
              <a:ext cx="396720" cy="2919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00ccff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80" name="Oval 15"/>
          <p:cNvSpPr/>
          <p:nvPr/>
        </p:nvSpPr>
        <p:spPr>
          <a:xfrm>
            <a:off x="6516720" y="3933720"/>
            <a:ext cx="336600" cy="2318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00c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46 0.00809 C 0.05746 -0.08255 0.11319 -0.1563 0.18177 -0.1563 C 0.25034 -0.1563 0.30573 -0.08255 0.30573 0.00809 C 0.30573 0.09873 0.25034 0.17202 0.18177 0.17202 C 0.11319 0.17202 0.05746 0.09873 0.05746 0.00809 Z">
                                      <p:cBhvr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6 0.00763 C -0.01562 -0.10266 -0.00937 -0.27561 0.07552 -0.37595 C 0.15955 -0.47861 0.28837 -0.47168 0.36285 -0.36254 C 0.43802 -0.25318 0.43073 -0.08301 0.34653 0.01965 C 0.26268 0.12116 0.13386 0.11538 0.05886 0.00763 Z">
                                      <p:cBhvr>
                                        <p:cTn id="155" dur="3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ервый постулат Бор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877680"/>
            <a:ext cx="84978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томная система может находится только в особых стационарных  квантовых состояниях, каждому из которых соответствует определенная энергия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i="1" lang="ru-RU" sz="2400" spc="-1" strike="noStrike" baseline="-25000">
                <a:solidFill>
                  <a:srgbClr val="003366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тационарных состояниях атом не излучает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64832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2805120" y="2952720"/>
            <a:ext cx="2955960" cy="2881440"/>
          </a:xfrm>
          <a:custGeom>
            <a:avLst/>
            <a:gdLst>
              <a:gd name="textAreaLeft" fmla="*/ 432720 w 2955960"/>
              <a:gd name="textAreaRight" fmla="*/ 2523240 w 2955960"/>
              <a:gd name="textAreaTop" fmla="*/ 421920 h 2881440"/>
              <a:gd name="textAreaBottom" fmla="*/ 245952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06" y="10800"/>
                </a:moveTo>
                <a:cubicBezTo>
                  <a:pt x="9106" y="11736"/>
                  <a:pt x="9864" y="12494"/>
                  <a:pt x="10800" y="12494"/>
                </a:cubicBezTo>
                <a:cubicBezTo>
                  <a:pt x="11736" y="12494"/>
                  <a:pt x="12494" y="11736"/>
                  <a:pt x="12494" y="10800"/>
                </a:cubicBezTo>
                <a:cubicBezTo>
                  <a:pt x="12494" y="9864"/>
                  <a:pt x="11736" y="9106"/>
                  <a:pt x="10800" y="9106"/>
                </a:cubicBezTo>
                <a:cubicBezTo>
                  <a:pt x="9864" y="9106"/>
                  <a:pt x="9106" y="9864"/>
                  <a:pt x="9106" y="10800"/>
                </a:cubicBez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d4d8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100400" y="4160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4052880" y="2774880"/>
            <a:ext cx="395280" cy="395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4087800" y="2732040"/>
            <a:ext cx="3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3.7037E-007 C 0.08993 3.7037E-007 0.16371 0.09329 0.16371 0.2088 C 0.16371 0.32361 0.08993 0.41806 1.38889E-006 0.41806 C -0.09011 0.41806 -0.16302 0.32361 -0.16302 0.2088 C -0.16302 0.09329 -0.09011 3.7037E-007 1.38889E-006 3.7037E-007 Z">
                                      <p:cBhvr>
                                        <p:cTn id="161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13 -0.00162 C 0.09288 -0.00162 0.16667 0.0919 0.16667 0.20718 C 0.16667 0.32223 0.09288 0.41598 0.00313 0.41598 C -0.08732 0.41598 -0.16007 0.32223 -0.16007 0.20718 C -0.16007 0.0919 -0.08732 -0.00162 0.00313 -0.00162 Z">
                                      <p:cBhvr>
                                        <p:cTn id="16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45600"/>
            <a:ext cx="8024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Второй постулат Бор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76360" y="1197000"/>
            <a:ext cx="5554440" cy="16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 переходе атома из стационарного состояния с большей энергией 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En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в стационарное состояние с меньшей энергией 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Em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излучается квант, энергия которого равна разности энергий стационарных состояний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V="1">
            <a:off x="1143000" y="1828800"/>
            <a:ext cx="0" cy="327672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1143000" y="5105520"/>
            <a:ext cx="220968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1143000" y="3886200"/>
            <a:ext cx="18162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143000" y="3279600"/>
            <a:ext cx="1785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1143000" y="2697120"/>
            <a:ext cx="18064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1143000" y="2514600"/>
            <a:ext cx="1839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1157400" y="2332080"/>
            <a:ext cx="1844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1447920" y="33526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2225520" y="2378160"/>
            <a:ext cx="3240" cy="9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533520" y="4724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02280" y="36212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602280" y="30114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89080" y="156384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,э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1310400" y="4186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лучае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1373040" y="3244680"/>
            <a:ext cx="182880" cy="182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2163600" y="2268360"/>
            <a:ext cx="165240" cy="184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556200" y="25383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Picture 21" descr="63230164623094-1"/>
          <p:cNvPicPr/>
          <p:nvPr/>
        </p:nvPicPr>
        <p:blipFill>
          <a:blip r:embed="rId1"/>
          <a:stretch/>
        </p:blipFill>
        <p:spPr>
          <a:xfrm>
            <a:off x="4932360" y="5229360"/>
            <a:ext cx="2349360" cy="874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2"/>
          <p:cNvSpPr/>
          <p:nvPr/>
        </p:nvSpPr>
        <p:spPr>
          <a:xfrm>
            <a:off x="4788000" y="3312000"/>
            <a:ext cx="23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ν</a:t>
            </a:r>
            <a:r>
              <a:rPr b="1" i="1" lang="ru-RU" sz="2000" spc="-1" strike="noStrike" baseline="-25000">
                <a:solidFill>
                  <a:srgbClr val="0000cc"/>
                </a:solidFill>
                <a:latin typeface="Arial"/>
              </a:rPr>
              <a:t>nm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 = 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i="1" lang="ru-RU" sz="2000" spc="-1" strike="noStrike" baseline="-25000">
                <a:solidFill>
                  <a:srgbClr val="0000cc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 – 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i="1" lang="ru-RU" sz="2000" spc="-1" strike="noStrike" baseline="-25000">
                <a:solidFill>
                  <a:srgbClr val="0000cc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4408560" y="392580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h – постоянная Планк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Text Box 24"/>
          <p:cNvSpPr/>
          <p:nvPr/>
        </p:nvSpPr>
        <p:spPr>
          <a:xfrm flipV="1" rot="10736400">
            <a:off x="4420800" y="4503240"/>
            <a:ext cx="31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Частота излучен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Freeform 25"/>
          <p:cNvSpPr/>
          <p:nvPr/>
        </p:nvSpPr>
        <p:spPr>
          <a:xfrm flipH="1">
            <a:off x="2413080" y="3246480"/>
            <a:ext cx="969840" cy="66600"/>
          </a:xfrm>
          <a:custGeom>
            <a:avLst/>
            <a:gdLst>
              <a:gd name="textAreaLeft" fmla="*/ 360 w 969840"/>
              <a:gd name="textAreaRight" fmla="*/ 970560 w 969840"/>
              <a:gd name="textAreaTop" fmla="*/ 0 h 66600"/>
              <a:gd name="textAreaBottom" fmla="*/ 66600 h 66600"/>
            </a:gdLst>
            <a:ahLst/>
            <a:rect l="textAreaLeft" t="textAreaTop" r="textAreaRight" b="textAreaBottom"/>
            <a:pathLst>
              <a:path w="2290" h="179">
                <a:moveTo>
                  <a:pt x="0" y="136"/>
                </a:moveTo>
                <a:cubicBezTo>
                  <a:pt x="175" y="147"/>
                  <a:pt x="350" y="158"/>
                  <a:pt x="488" y="136"/>
                </a:cubicBezTo>
                <a:cubicBezTo>
                  <a:pt x="626" y="114"/>
                  <a:pt x="735" y="0"/>
                  <a:pt x="826" y="7"/>
                </a:cubicBezTo>
                <a:cubicBezTo>
                  <a:pt x="917" y="14"/>
                  <a:pt x="959" y="173"/>
                  <a:pt x="1037" y="176"/>
                </a:cubicBezTo>
                <a:cubicBezTo>
                  <a:pt x="1115" y="179"/>
                  <a:pt x="1217" y="29"/>
                  <a:pt x="1294" y="27"/>
                </a:cubicBezTo>
                <a:cubicBezTo>
                  <a:pt x="1371" y="25"/>
                  <a:pt x="1430" y="157"/>
                  <a:pt x="1497" y="163"/>
                </a:cubicBezTo>
                <a:cubicBezTo>
                  <a:pt x="1564" y="169"/>
                  <a:pt x="1633" y="62"/>
                  <a:pt x="1694" y="61"/>
                </a:cubicBezTo>
                <a:cubicBezTo>
                  <a:pt x="1755" y="60"/>
                  <a:pt x="1809" y="154"/>
                  <a:pt x="1863" y="156"/>
                </a:cubicBezTo>
                <a:cubicBezTo>
                  <a:pt x="1917" y="158"/>
                  <a:pt x="1970" y="72"/>
                  <a:pt x="2019" y="75"/>
                </a:cubicBezTo>
                <a:cubicBezTo>
                  <a:pt x="2068" y="78"/>
                  <a:pt x="2110" y="176"/>
                  <a:pt x="2155" y="176"/>
                </a:cubicBezTo>
                <a:cubicBezTo>
                  <a:pt x="2200" y="176"/>
                  <a:pt x="2270" y="85"/>
                  <a:pt x="2290" y="75"/>
                </a:cubicBezTo>
              </a:path>
            </a:pathLst>
          </a:custGeom>
          <a:noFill/>
          <a:ln w="31680">
            <a:solidFill>
              <a:srgbClr val="339966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Freeform 26"/>
          <p:cNvSpPr/>
          <p:nvPr/>
        </p:nvSpPr>
        <p:spPr>
          <a:xfrm flipH="1">
            <a:off x="1697040" y="3697200"/>
            <a:ext cx="969840" cy="66600"/>
          </a:xfrm>
          <a:custGeom>
            <a:avLst/>
            <a:gdLst>
              <a:gd name="textAreaLeft" fmla="*/ 360 w 969840"/>
              <a:gd name="textAreaRight" fmla="*/ 970560 w 969840"/>
              <a:gd name="textAreaTop" fmla="*/ 0 h 66600"/>
              <a:gd name="textAreaBottom" fmla="*/ 66600 h 66600"/>
            </a:gdLst>
            <a:ahLst/>
            <a:rect l="textAreaLeft" t="textAreaTop" r="textAreaRight" b="textAreaBottom"/>
            <a:pathLst>
              <a:path w="2290" h="179">
                <a:moveTo>
                  <a:pt x="0" y="136"/>
                </a:moveTo>
                <a:cubicBezTo>
                  <a:pt x="175" y="147"/>
                  <a:pt x="350" y="158"/>
                  <a:pt x="488" y="136"/>
                </a:cubicBezTo>
                <a:cubicBezTo>
                  <a:pt x="626" y="114"/>
                  <a:pt x="735" y="0"/>
                  <a:pt x="826" y="7"/>
                </a:cubicBezTo>
                <a:cubicBezTo>
                  <a:pt x="917" y="14"/>
                  <a:pt x="959" y="173"/>
                  <a:pt x="1037" y="176"/>
                </a:cubicBezTo>
                <a:cubicBezTo>
                  <a:pt x="1115" y="179"/>
                  <a:pt x="1217" y="29"/>
                  <a:pt x="1294" y="27"/>
                </a:cubicBezTo>
                <a:cubicBezTo>
                  <a:pt x="1371" y="25"/>
                  <a:pt x="1430" y="157"/>
                  <a:pt x="1497" y="163"/>
                </a:cubicBezTo>
                <a:cubicBezTo>
                  <a:pt x="1564" y="169"/>
                  <a:pt x="1633" y="62"/>
                  <a:pt x="1694" y="61"/>
                </a:cubicBezTo>
                <a:cubicBezTo>
                  <a:pt x="1755" y="60"/>
                  <a:pt x="1809" y="154"/>
                  <a:pt x="1863" y="156"/>
                </a:cubicBezTo>
                <a:cubicBezTo>
                  <a:pt x="1917" y="158"/>
                  <a:pt x="1970" y="72"/>
                  <a:pt x="2019" y="75"/>
                </a:cubicBezTo>
                <a:cubicBezTo>
                  <a:pt x="2068" y="78"/>
                  <a:pt x="2110" y="176"/>
                  <a:pt x="2155" y="176"/>
                </a:cubicBezTo>
                <a:cubicBezTo>
                  <a:pt x="2200" y="176"/>
                  <a:pt x="2270" y="85"/>
                  <a:pt x="2290" y="75"/>
                </a:cubicBezTo>
              </a:path>
            </a:pathLst>
          </a:custGeom>
          <a:noFill/>
          <a:ln w="31680">
            <a:solidFill>
              <a:srgbClr val="ff33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Line 27"/>
          <p:cNvSpPr/>
          <p:nvPr/>
        </p:nvSpPr>
        <p:spPr>
          <a:xfrm>
            <a:off x="1154160" y="2992320"/>
            <a:ext cx="17859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Oval 28"/>
          <p:cNvSpPr/>
          <p:nvPr/>
        </p:nvSpPr>
        <p:spPr>
          <a:xfrm>
            <a:off x="1033560" y="5578560"/>
            <a:ext cx="336600" cy="3045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Freeform 29"/>
          <p:cNvSpPr/>
          <p:nvPr/>
        </p:nvSpPr>
        <p:spPr>
          <a:xfrm>
            <a:off x="533520" y="6086520"/>
            <a:ext cx="1096920" cy="22536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2290" h="179">
                <a:moveTo>
                  <a:pt x="0" y="136"/>
                </a:moveTo>
                <a:cubicBezTo>
                  <a:pt x="175" y="147"/>
                  <a:pt x="350" y="158"/>
                  <a:pt x="488" y="136"/>
                </a:cubicBezTo>
                <a:cubicBezTo>
                  <a:pt x="626" y="114"/>
                  <a:pt x="735" y="0"/>
                  <a:pt x="826" y="7"/>
                </a:cubicBezTo>
                <a:cubicBezTo>
                  <a:pt x="917" y="14"/>
                  <a:pt x="959" y="173"/>
                  <a:pt x="1037" y="176"/>
                </a:cubicBezTo>
                <a:cubicBezTo>
                  <a:pt x="1115" y="179"/>
                  <a:pt x="1217" y="29"/>
                  <a:pt x="1294" y="27"/>
                </a:cubicBezTo>
                <a:cubicBezTo>
                  <a:pt x="1371" y="25"/>
                  <a:pt x="1430" y="157"/>
                  <a:pt x="1497" y="163"/>
                </a:cubicBezTo>
                <a:cubicBezTo>
                  <a:pt x="1564" y="169"/>
                  <a:pt x="1633" y="62"/>
                  <a:pt x="1694" y="61"/>
                </a:cubicBezTo>
                <a:cubicBezTo>
                  <a:pt x="1755" y="60"/>
                  <a:pt x="1809" y="154"/>
                  <a:pt x="1863" y="156"/>
                </a:cubicBezTo>
                <a:cubicBezTo>
                  <a:pt x="1917" y="158"/>
                  <a:pt x="1970" y="72"/>
                  <a:pt x="2019" y="75"/>
                </a:cubicBezTo>
                <a:cubicBezTo>
                  <a:pt x="2068" y="78"/>
                  <a:pt x="2110" y="176"/>
                  <a:pt x="2155" y="176"/>
                </a:cubicBezTo>
                <a:cubicBezTo>
                  <a:pt x="2200" y="176"/>
                  <a:pt x="2270" y="85"/>
                  <a:pt x="2290" y="75"/>
                </a:cubicBezTo>
              </a:path>
            </a:pathLst>
          </a:custGeom>
          <a:noFill/>
          <a:ln w="666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798560" y="5516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лектро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1835280" y="59896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45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ван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91094E-006 L 0.00087 0.08443 E">
                                      <p:cBhvr>
                                        <p:cTn id="175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60116E-006 L 0.16302 -2.60116E-006 E">
                                      <p:cBhvr>
                                        <p:cTn id="183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1111 L -0.00156 0.14676 E">
                                      <p:cBhvr>
                                        <p:cTn id="18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06358E-006 L 0.09132 -0.00625 E">
                                      <p:cBhvr>
                                        <p:cTn id="194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Georgia"/>
              </a:rPr>
              <a:t>Отыщи всему начало, и ты многое поймешь.</a:t>
            </a:r>
            <a:br>
              <a:rPr sz="3200"/>
            </a:b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	</a:t>
            </a: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	</a:t>
            </a: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	</a:t>
            </a: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Козьма Прутков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400 г. до н.э. Демокрит:  «Существует предел деления атома»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Аристотель: «Делимость вещества бесконечна»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1626 г., Париж: учение об атоме запрещено под страхом смерт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1154160" y="3913200"/>
            <a:ext cx="1706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345600"/>
            <a:ext cx="81691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Второй постулат Бор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4000" y="1139400"/>
            <a:ext cx="528804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 переходе атома из стационарного состояния с меньшей  энергией 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En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в стационарное состояние с большей энергией </a:t>
            </a: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Em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оглощается квант, энергия которого равна разности энергий стационарных состояний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1143000" y="1828800"/>
            <a:ext cx="0" cy="327672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1143000" y="5105520"/>
            <a:ext cx="220968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1143000" y="3352680"/>
            <a:ext cx="1706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1143000" y="2697120"/>
            <a:ext cx="17524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1143000" y="2514600"/>
            <a:ext cx="17683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1157400" y="2332080"/>
            <a:ext cx="178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Line 11"/>
          <p:cNvSpPr/>
          <p:nvPr/>
        </p:nvSpPr>
        <p:spPr>
          <a:xfrm flipH="1" flipV="1">
            <a:off x="1447920" y="2820600"/>
            <a:ext cx="15840" cy="1081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V="1">
            <a:off x="2378160" y="2286000"/>
            <a:ext cx="1440" cy="111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533520" y="472428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602280" y="36212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02280" y="30114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289080" y="156384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,э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1310040" y="41860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оглощае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2303640" y="3306600"/>
            <a:ext cx="182520" cy="182880"/>
          </a:xfrm>
          <a:prstGeom prst="ellips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1386000" y="3807000"/>
            <a:ext cx="164880" cy="183960"/>
          </a:xfrm>
          <a:prstGeom prst="ellips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588240" y="25383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7" name="Picture 21" descr="63230164623094-1"/>
          <p:cNvPicPr/>
          <p:nvPr/>
        </p:nvPicPr>
        <p:blipFill>
          <a:blip r:embed="rId1"/>
          <a:stretch/>
        </p:blipFill>
        <p:spPr>
          <a:xfrm>
            <a:off x="4861080" y="5445000"/>
            <a:ext cx="2349360" cy="863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2"/>
          <p:cNvSpPr/>
          <p:nvPr/>
        </p:nvSpPr>
        <p:spPr>
          <a:xfrm>
            <a:off x="5110200" y="3436200"/>
            <a:ext cx="284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ν</a:t>
            </a:r>
            <a:r>
              <a:rPr b="1" i="1" lang="ru-RU" sz="2400" spc="-1" strike="noStrike" baseline="-25000">
                <a:solidFill>
                  <a:srgbClr val="0000cc"/>
                </a:solidFill>
                <a:latin typeface="Times New Roman"/>
              </a:rPr>
              <a:t>nm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 = 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1" i="1" lang="ru-RU" sz="24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 – 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1" i="1" lang="ru-RU" sz="2400" spc="-1" strike="noStrike" baseline="-25000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4556160" y="4221000"/>
            <a:ext cx="39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h – постоянная Планк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4500720" y="47181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Частота излучения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1166760" y="2881440"/>
            <a:ext cx="17067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Freeform 26"/>
          <p:cNvSpPr/>
          <p:nvPr/>
        </p:nvSpPr>
        <p:spPr>
          <a:xfrm>
            <a:off x="2685960" y="2951280"/>
            <a:ext cx="946080" cy="88920"/>
          </a:xfrm>
          <a:custGeom>
            <a:avLst/>
            <a:gdLst>
              <a:gd name="textAreaLeft" fmla="*/ 0 w 946080"/>
              <a:gd name="textAreaRight" fmla="*/ 946440 w 9460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290" h="179">
                <a:moveTo>
                  <a:pt x="0" y="136"/>
                </a:moveTo>
                <a:cubicBezTo>
                  <a:pt x="175" y="147"/>
                  <a:pt x="350" y="158"/>
                  <a:pt x="488" y="136"/>
                </a:cubicBezTo>
                <a:cubicBezTo>
                  <a:pt x="626" y="114"/>
                  <a:pt x="735" y="0"/>
                  <a:pt x="826" y="7"/>
                </a:cubicBezTo>
                <a:cubicBezTo>
                  <a:pt x="917" y="14"/>
                  <a:pt x="959" y="173"/>
                  <a:pt x="1037" y="176"/>
                </a:cubicBezTo>
                <a:cubicBezTo>
                  <a:pt x="1115" y="179"/>
                  <a:pt x="1217" y="29"/>
                  <a:pt x="1294" y="27"/>
                </a:cubicBezTo>
                <a:cubicBezTo>
                  <a:pt x="1371" y="25"/>
                  <a:pt x="1430" y="157"/>
                  <a:pt x="1497" y="163"/>
                </a:cubicBezTo>
                <a:cubicBezTo>
                  <a:pt x="1564" y="169"/>
                  <a:pt x="1633" y="62"/>
                  <a:pt x="1694" y="61"/>
                </a:cubicBezTo>
                <a:cubicBezTo>
                  <a:pt x="1755" y="60"/>
                  <a:pt x="1809" y="154"/>
                  <a:pt x="1863" y="156"/>
                </a:cubicBezTo>
                <a:cubicBezTo>
                  <a:pt x="1917" y="158"/>
                  <a:pt x="1970" y="72"/>
                  <a:pt x="2019" y="75"/>
                </a:cubicBezTo>
                <a:cubicBezTo>
                  <a:pt x="2068" y="78"/>
                  <a:pt x="2110" y="176"/>
                  <a:pt x="2155" y="176"/>
                </a:cubicBezTo>
                <a:cubicBezTo>
                  <a:pt x="2200" y="176"/>
                  <a:pt x="2270" y="85"/>
                  <a:pt x="2290" y="75"/>
                </a:cubicBezTo>
              </a:path>
            </a:pathLst>
          </a:custGeom>
          <a:noFill/>
          <a:ln w="3492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Freeform 27"/>
          <p:cNvSpPr/>
          <p:nvPr/>
        </p:nvSpPr>
        <p:spPr>
          <a:xfrm>
            <a:off x="2575080" y="2260440"/>
            <a:ext cx="946080" cy="88920"/>
          </a:xfrm>
          <a:custGeom>
            <a:avLst/>
            <a:gdLst>
              <a:gd name="textAreaLeft" fmla="*/ 0 w 946080"/>
              <a:gd name="textAreaRight" fmla="*/ 946440 w 9460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290" h="179">
                <a:moveTo>
                  <a:pt x="0" y="136"/>
                </a:moveTo>
                <a:cubicBezTo>
                  <a:pt x="175" y="147"/>
                  <a:pt x="350" y="158"/>
                  <a:pt x="488" y="136"/>
                </a:cubicBezTo>
                <a:cubicBezTo>
                  <a:pt x="626" y="114"/>
                  <a:pt x="735" y="0"/>
                  <a:pt x="826" y="7"/>
                </a:cubicBezTo>
                <a:cubicBezTo>
                  <a:pt x="917" y="14"/>
                  <a:pt x="959" y="173"/>
                  <a:pt x="1037" y="176"/>
                </a:cubicBezTo>
                <a:cubicBezTo>
                  <a:pt x="1115" y="179"/>
                  <a:pt x="1217" y="29"/>
                  <a:pt x="1294" y="27"/>
                </a:cubicBezTo>
                <a:cubicBezTo>
                  <a:pt x="1371" y="25"/>
                  <a:pt x="1430" y="157"/>
                  <a:pt x="1497" y="163"/>
                </a:cubicBezTo>
                <a:cubicBezTo>
                  <a:pt x="1564" y="169"/>
                  <a:pt x="1633" y="62"/>
                  <a:pt x="1694" y="61"/>
                </a:cubicBezTo>
                <a:cubicBezTo>
                  <a:pt x="1755" y="60"/>
                  <a:pt x="1809" y="154"/>
                  <a:pt x="1863" y="156"/>
                </a:cubicBezTo>
                <a:cubicBezTo>
                  <a:pt x="1917" y="158"/>
                  <a:pt x="1970" y="72"/>
                  <a:pt x="2019" y="75"/>
                </a:cubicBezTo>
                <a:cubicBezTo>
                  <a:pt x="2068" y="78"/>
                  <a:pt x="2110" y="176"/>
                  <a:pt x="2155" y="176"/>
                </a:cubicBezTo>
                <a:cubicBezTo>
                  <a:pt x="2200" y="176"/>
                  <a:pt x="2270" y="85"/>
                  <a:pt x="2290" y="75"/>
                </a:cubicBezTo>
              </a:path>
            </a:pathLst>
          </a:custGeom>
          <a:noFill/>
          <a:ln w="31680">
            <a:solidFill>
              <a:srgbClr val="339966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1033560" y="5578560"/>
            <a:ext cx="336600" cy="304560"/>
          </a:xfrm>
          <a:prstGeom prst="ellipse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1617840" y="6021360"/>
            <a:ext cx="24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45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ван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Freeform 30"/>
          <p:cNvSpPr/>
          <p:nvPr/>
        </p:nvSpPr>
        <p:spPr>
          <a:xfrm>
            <a:off x="533520" y="6102360"/>
            <a:ext cx="1082520" cy="20952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290" h="179">
                <a:moveTo>
                  <a:pt x="0" y="136"/>
                </a:moveTo>
                <a:cubicBezTo>
                  <a:pt x="175" y="147"/>
                  <a:pt x="350" y="158"/>
                  <a:pt x="488" y="136"/>
                </a:cubicBezTo>
                <a:cubicBezTo>
                  <a:pt x="626" y="114"/>
                  <a:pt x="735" y="0"/>
                  <a:pt x="826" y="7"/>
                </a:cubicBezTo>
                <a:cubicBezTo>
                  <a:pt x="917" y="14"/>
                  <a:pt x="959" y="173"/>
                  <a:pt x="1037" y="176"/>
                </a:cubicBezTo>
                <a:cubicBezTo>
                  <a:pt x="1115" y="179"/>
                  <a:pt x="1217" y="29"/>
                  <a:pt x="1294" y="27"/>
                </a:cubicBezTo>
                <a:cubicBezTo>
                  <a:pt x="1371" y="25"/>
                  <a:pt x="1430" y="157"/>
                  <a:pt x="1497" y="163"/>
                </a:cubicBezTo>
                <a:cubicBezTo>
                  <a:pt x="1564" y="169"/>
                  <a:pt x="1633" y="62"/>
                  <a:pt x="1694" y="61"/>
                </a:cubicBezTo>
                <a:cubicBezTo>
                  <a:pt x="1755" y="60"/>
                  <a:pt x="1809" y="154"/>
                  <a:pt x="1863" y="156"/>
                </a:cubicBezTo>
                <a:cubicBezTo>
                  <a:pt x="1917" y="158"/>
                  <a:pt x="1970" y="72"/>
                  <a:pt x="2019" y="75"/>
                </a:cubicBezTo>
                <a:cubicBezTo>
                  <a:pt x="2068" y="78"/>
                  <a:pt x="2110" y="176"/>
                  <a:pt x="2155" y="176"/>
                </a:cubicBezTo>
                <a:cubicBezTo>
                  <a:pt x="2200" y="176"/>
                  <a:pt x="2270" y="85"/>
                  <a:pt x="2290" y="75"/>
                </a:cubicBezTo>
              </a:path>
            </a:pathLst>
          </a:custGeom>
          <a:noFill/>
          <a:ln w="66600">
            <a:solidFill>
              <a:srgbClr val="3399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1736640" y="55022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лектро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8.33333E-007 -0.14444 E">
                                      <p:cBhvr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8.09249E-007 L -0.16441 8.09249E-007 E">
                                      <p:cBhvr>
                                        <p:cTn id="20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88 L 4.44444E-006 -0.16227 E">
                                      <p:cBhvr>
                                        <p:cTn id="213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72254E-006 L -0.03801 5.72254E-006 E">
                                      <p:cBhvr>
                                        <p:cTn id="216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0920" y="279360"/>
            <a:ext cx="828180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Энергетические диаграммы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654000" y="1139400"/>
            <a:ext cx="528804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Line 6"/>
          <p:cNvSpPr/>
          <p:nvPr/>
        </p:nvSpPr>
        <p:spPr>
          <a:xfrm flipH="1">
            <a:off x="4224240" y="1566720"/>
            <a:ext cx="378000" cy="755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1442880" y="2997360"/>
            <a:ext cx="27673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Line 8"/>
          <p:cNvSpPr/>
          <p:nvPr/>
        </p:nvSpPr>
        <p:spPr>
          <a:xfrm flipV="1">
            <a:off x="1430280" y="4014720"/>
            <a:ext cx="2824200" cy="144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Line 9"/>
          <p:cNvSpPr/>
          <p:nvPr/>
        </p:nvSpPr>
        <p:spPr>
          <a:xfrm flipV="1">
            <a:off x="1419120" y="1944720"/>
            <a:ext cx="0" cy="327672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419120" y="5221440"/>
            <a:ext cx="3327480" cy="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Line 11"/>
          <p:cNvSpPr/>
          <p:nvPr/>
        </p:nvSpPr>
        <p:spPr>
          <a:xfrm>
            <a:off x="1376280" y="3425760"/>
            <a:ext cx="2882880" cy="144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Line 12"/>
          <p:cNvSpPr/>
          <p:nvPr/>
        </p:nvSpPr>
        <p:spPr>
          <a:xfrm flipV="1">
            <a:off x="1419120" y="2797200"/>
            <a:ext cx="2841840" cy="158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Line 13"/>
          <p:cNvSpPr/>
          <p:nvPr/>
        </p:nvSpPr>
        <p:spPr>
          <a:xfrm>
            <a:off x="1419120" y="2630520"/>
            <a:ext cx="2871720" cy="144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Line 14"/>
          <p:cNvSpPr/>
          <p:nvPr/>
        </p:nvSpPr>
        <p:spPr>
          <a:xfrm>
            <a:off x="1433520" y="2448000"/>
            <a:ext cx="2813040" cy="14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Line 15"/>
          <p:cNvSpPr/>
          <p:nvPr/>
        </p:nvSpPr>
        <p:spPr>
          <a:xfrm flipH="1" flipV="1">
            <a:off x="1724040" y="2936520"/>
            <a:ext cx="15840" cy="1081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809640" y="4840200"/>
            <a:ext cx="5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878760" y="37368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878760" y="3127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565200" y="167940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,э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864360" y="265428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Line 21"/>
          <p:cNvSpPr/>
          <p:nvPr/>
        </p:nvSpPr>
        <p:spPr>
          <a:xfrm>
            <a:off x="2771640" y="2424240"/>
            <a:ext cx="15840" cy="15811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4164120" y="942840"/>
            <a:ext cx="42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ергетический уровень (стационарное состояние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4689360" y="4267080"/>
            <a:ext cx="463680" cy="711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5340240" y="3975120"/>
            <a:ext cx="3552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рмальное состояние атома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минимальная энергия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AutoShape 25"/>
          <p:cNvSpPr/>
          <p:nvPr/>
        </p:nvSpPr>
        <p:spPr>
          <a:xfrm>
            <a:off x="4484520" y="2308320"/>
            <a:ext cx="101880" cy="1697040"/>
          </a:xfrm>
          <a:custGeom>
            <a:avLst/>
            <a:gdLst>
              <a:gd name="textAreaLeft" fmla="*/ 0 w 101880"/>
              <a:gd name="textAreaRight" fmla="*/ 36720 w 101880"/>
              <a:gd name="textAreaTop" fmla="*/ 43920 h 1697040"/>
              <a:gd name="textAreaBottom" fmla="*/ 1653120 h 169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 flipH="1">
            <a:off x="4834080" y="2263680"/>
            <a:ext cx="374400" cy="9162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Text Box 27"/>
          <p:cNvSpPr/>
          <p:nvPr/>
        </p:nvSpPr>
        <p:spPr>
          <a:xfrm>
            <a:off x="5435640" y="2060640"/>
            <a:ext cx="34034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збужденное состояние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3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2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Line 28"/>
          <p:cNvSpPr/>
          <p:nvPr/>
        </p:nvSpPr>
        <p:spPr>
          <a:xfrm>
            <a:off x="2511360" y="1655640"/>
            <a:ext cx="203400" cy="6224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711360" y="101592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ереход атома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69960" y="2142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авило квантования Бора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стационарном состоянии атома электрон, двигаясь по круговой орбите, должен иметь дискретные, квантованные значения момента импульс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6" name="Picture 4" descr="63230164624436-2"/>
          <p:cNvPicPr/>
          <p:nvPr/>
        </p:nvPicPr>
        <p:blipFill>
          <a:blip r:embed="rId1"/>
          <a:stretch/>
        </p:blipFill>
        <p:spPr>
          <a:xfrm>
            <a:off x="369720" y="2541600"/>
            <a:ext cx="4224600" cy="1174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4676760" y="2381040"/>
            <a:ext cx="42069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- масса электрона,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υ –  скорость электрона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1" i="1" lang="ru-RU" sz="1800" spc="-1" strike="noStrike" baseline="-25000">
                <a:solidFill>
                  <a:srgbClr val="003366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– радиус стационарной круговой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рбиты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84360" y="41353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авило квантования Бора позволяет вычислить радиусы стационарных орбит электрона в атоме водорода и определить значения энергий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ерии излучения атома водорода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996840" y="1198440"/>
            <a:ext cx="19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420840" y="777960"/>
                <a:ext cx="15444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5"/>
              <p:cNvSpPr txBox="1"/>
              <p:nvPr/>
            </p:nvSpPr>
            <p:spPr>
              <a:xfrm>
                <a:off x="376200" y="1257480"/>
                <a:ext cx="15494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365040" y="2079720"/>
                <a:ext cx="1569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357120" y="3017880"/>
                <a:ext cx="1646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8"/>
              <p:cNvSpPr txBox="1"/>
              <p:nvPr/>
            </p:nvSpPr>
            <p:spPr>
              <a:xfrm>
                <a:off x="263520" y="4573440"/>
                <a:ext cx="1749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30040" y="6008760"/>
                <a:ext cx="1801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э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Line 10"/>
          <p:cNvSpPr/>
          <p:nvPr/>
        </p:nvSpPr>
        <p:spPr>
          <a:xfrm>
            <a:off x="2233440" y="4832280"/>
            <a:ext cx="6637680" cy="17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2195640" y="6237360"/>
            <a:ext cx="6662520" cy="1728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2222640" y="3230640"/>
            <a:ext cx="6619680" cy="1728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2233440" y="2262240"/>
            <a:ext cx="6583680" cy="17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2235240" y="1488960"/>
            <a:ext cx="6673680" cy="17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2224080" y="993600"/>
            <a:ext cx="6673680" cy="17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2268360" y="4869000"/>
            <a:ext cx="0" cy="136836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484360" y="3284640"/>
            <a:ext cx="0" cy="2952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2627280" y="3284640"/>
            <a:ext cx="0" cy="2952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2771640" y="3213000"/>
            <a:ext cx="0" cy="304020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2916360" y="1052640"/>
            <a:ext cx="0" cy="5184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3564000" y="3284640"/>
            <a:ext cx="0" cy="1512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3708360" y="2276640"/>
            <a:ext cx="0" cy="252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Line 23"/>
          <p:cNvSpPr/>
          <p:nvPr/>
        </p:nvSpPr>
        <p:spPr>
          <a:xfrm>
            <a:off x="3851280" y="1557360"/>
            <a:ext cx="0" cy="3240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Line 24"/>
          <p:cNvSpPr/>
          <p:nvPr/>
        </p:nvSpPr>
        <p:spPr>
          <a:xfrm>
            <a:off x="3995640" y="981000"/>
            <a:ext cx="0" cy="381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4716360" y="2205000"/>
            <a:ext cx="0" cy="10080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Line 26"/>
          <p:cNvSpPr/>
          <p:nvPr/>
        </p:nvSpPr>
        <p:spPr>
          <a:xfrm>
            <a:off x="4859280" y="1484280"/>
            <a:ext cx="0" cy="1728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Line 27"/>
          <p:cNvSpPr/>
          <p:nvPr/>
        </p:nvSpPr>
        <p:spPr>
          <a:xfrm>
            <a:off x="5003640" y="981000"/>
            <a:ext cx="0" cy="22320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5529240" y="2349360"/>
            <a:ext cx="3265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рия Пашен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инфракрасное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5253120" y="5256360"/>
            <a:ext cx="3265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рия Лайман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ультрафиолетовое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5194440" y="3803760"/>
            <a:ext cx="3265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рия Бальмер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(видимый свет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Достоинства теории Бор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зволила объяснить, почему атомы испускают линейчатые спектры и точно предсказать для атома водорода длины волн испускаемого излучения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зволила объяснить и спектры поглощения: столкновение фотона с атомом приводит к переходу электрона с одного энергетического уровня на другой, более высокий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арантировала стабильность атомов и позволила теоретически определить радиус атома водород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Точно предсказала энергию ионизации водорода 13,6 э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Недостатки теории Бор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 основе теории не удалось количественно объяснить спектр более сложных атомов (гелия и др.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авило квантования Бора применимо не всегд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едставление об определенных орбитах, по которым движется электрон в атоме Бора, оказалось условным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1897.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жозеф Джон Томсон (1856 – 1940). Определил заряд и массу отдельного «атома»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электричеств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В природе существует материальный носитель наименьшего заряда – электрон.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906 – 1914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.г. Роберт Милликен (1868 – 1953). Провел эксперименты по точному определению массы и заряда электрона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 = 9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109389 10 </a:t>
            </a:r>
            <a:r>
              <a:rPr b="0" i="1" lang="en-US" sz="2800" spc="-1" strike="noStrike" baseline="30000">
                <a:solidFill>
                  <a:srgbClr val="0000cc"/>
                </a:solidFill>
                <a:latin typeface="Times New Roman"/>
              </a:rPr>
              <a:t>-31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кг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 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  <a:ea typeface="Arial"/>
              </a:rPr>
              <a:t>е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   = 1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,602177 10 </a:t>
            </a:r>
            <a:r>
              <a:rPr b="0" i="1" lang="ru-RU" sz="2800" spc="-1" strike="noStrike" baseline="30000">
                <a:solidFill>
                  <a:srgbClr val="0000cc"/>
                </a:solidFill>
                <a:latin typeface="Times New Roman"/>
              </a:rPr>
              <a:t>– 19</a:t>
            </a: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 К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Модель атома Томсон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84360" y="1989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Явление радиоактивности давало основания предположить, что в состав атома входят отрицательно и положительно заряженные частицы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55640" y="4149720"/>
            <a:ext cx="81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роме того, было известно, что атом в целом нейтрален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Модель атома Томсон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348000" y="26370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1903г. английский физик Джозеф Джон Томсон предложил одну из первых моделей строения атома – «кекс с изюмом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Picture 5" descr="Томсон"/>
          <p:cNvPicPr/>
          <p:nvPr/>
        </p:nvPicPr>
        <p:blipFill>
          <a:blip r:embed="rId1"/>
          <a:stretch/>
        </p:blipFill>
        <p:spPr>
          <a:xfrm>
            <a:off x="468360" y="1628640"/>
            <a:ext cx="248580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Модель атома Томсон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4" descr="модель Томсона"/>
          <p:cNvPicPr/>
          <p:nvPr/>
        </p:nvPicPr>
        <p:blipFill>
          <a:blip r:embed="rId1"/>
          <a:stretch/>
        </p:blipFill>
        <p:spPr>
          <a:xfrm>
            <a:off x="5435640" y="2708280"/>
            <a:ext cx="3362400" cy="3557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250920" y="292428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нутри этого шара находятся электроны, которые могут колебаться около своего положения равновесия. Положительный заряд шара равен по модулю суммарному отрицательному заряду электрона, поэтому электрический заряд атома в целом равен нулю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50920" y="17226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 предположению Томсона, атом представлял собой шар радиусом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≈ 10</a:t>
            </a:r>
            <a:r>
              <a:rPr b="0" lang="ru-RU" sz="2400" spc="-1" strike="noStrike" baseline="30000">
                <a:solidFill>
                  <a:srgbClr val="003366"/>
                </a:solidFill>
                <a:latin typeface="Times New Roman"/>
                <a:ea typeface="Times New Roman"/>
              </a:rPr>
              <a:t>-10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, по всему объему которого равномерно распределен положительный заряд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Опыт Резерфор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258920" y="134136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</a:rPr>
              <a:t>Модель строения атома Томсона нуждалась в экспериментальной проверк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Picture 5" descr="резерфорд"/>
          <p:cNvPicPr/>
          <p:nvPr/>
        </p:nvPicPr>
        <p:blipFill>
          <a:blip r:embed="rId1"/>
          <a:stretch/>
        </p:blipFill>
        <p:spPr>
          <a:xfrm>
            <a:off x="6012000" y="2708280"/>
            <a:ext cx="2523960" cy="3762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611280" y="2637000"/>
            <a:ext cx="498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Важно было проверить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действительно ли положительный заряд распределён по всему объёму атома с постоянной плотностью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этому в 1906 г. Резерфорд совместно со своими сотрудниками провел ряд опытов по исследованию состава и строения атомо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Идея опыт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ондировать атом альфа–частицами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льфа-частицы возникают при распаде радия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асса альфа-частицы в 8000 раз больше массы электрон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Электрический заряд альфа-частицы в 2 раза больше заряда электрон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Скорость альфа-частицы около 15 000 км/с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льфа-частицы является ядром атома гелия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Bodoni MT"/>
              </a:rPr>
              <a:t>Схема экспериментальной установки </a:t>
            </a:r>
            <a:br>
              <a:rPr sz="900"/>
            </a:br>
            <a:r>
              <a:rPr b="0" lang="ru-RU" sz="2400" spc="-1" strike="noStrike">
                <a:solidFill>
                  <a:srgbClr val="0000cc"/>
                </a:solidFill>
                <a:latin typeface="Bodoni MT"/>
              </a:rPr>
              <a:t>Вся установка помещается в вакуум.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1576440"/>
            <a:ext cx="91440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5:53:48Z</dcterms:created>
  <dc:creator/>
  <dc:description/>
  <dc:language>en-US</dc:language>
  <cp:lastModifiedBy>Svetlana</cp:lastModifiedBy>
  <dcterms:modified xsi:type="dcterms:W3CDTF">2018-06-26T16:12:43Z</dcterms:modified>
  <cp:revision>15</cp:revision>
  <dc:subject/>
  <dc:title>Модели атома. Опыт Резерфорда.</dc:title>
</cp:coreProperties>
</file>