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8.png" ContentType="image/png"/>
  <Override PartName="/ppt/media/image6.png" ContentType="image/png"/>
  <Override PartName="/ppt/media/image7.gif" ContentType="image/gif"/>
  <Override PartName="/ppt/media/image9.png" ContentType="image/png"/>
  <Override PartName="/ppt/media/image10.gif" ContentType="image/gif"/>
  <Override PartName="/ppt/media/image11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CE0A-01A9-4143-9004-1402D588C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628F-A93B-42BC-A3EA-06EC51E7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12F4-474C-4016-8211-6C0EDCAD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77C3-E9FC-41F8-BCE8-A834A24AC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EC81-F257-4B65-AD1F-EEEB85C3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9A3D-0619-440C-BC65-F63D4601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D2EC-2D14-4588-B845-9E97F57C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E5B2-CDA9-4D6D-A6CD-AF323AAE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1106-A16A-4AA2-B434-60F21869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569-7200-4B33-98E6-F793DDED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C6C6-2EF9-4E91-9A5B-62BC4749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0845-A199-4C62-86F5-3B32735B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C9DE2-11B7-4470-83F4-3B80765FE85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wmf"/><Relationship Id="rId3" Type="http://schemas.openxmlformats.org/officeDocument/2006/relationships/image" Target="../media/image4.gif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06072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395280" y="6308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Еремеева И.Н. ГБОУ Школа № 657 г. Мос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7"/>
          <p:cNvSpPr/>
          <p:nvPr/>
        </p:nvSpPr>
        <p:spPr>
          <a:xfrm>
            <a:off x="2794320" y="3643200"/>
            <a:ext cx="2558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etwee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0" y="5857920"/>
            <a:ext cx="943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____________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ball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276720" y="1700280"/>
            <a:ext cx="3024000" cy="3976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250920" y="2637000"/>
            <a:ext cx="3313080" cy="3313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http://galerey-room.ru/images/202439_1384277079.png"/>
          <p:cNvPicPr/>
          <p:nvPr/>
        </p:nvPicPr>
        <p:blipFill>
          <a:blip r:embed="rId4"/>
          <a:stretch/>
        </p:blipFill>
        <p:spPr>
          <a:xfrm>
            <a:off x="5364000" y="2637000"/>
            <a:ext cx="3311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86 0.06614 L 0.03976 0.31799 E">
                                      <p:cBhvr>
                                        <p:cTn id="58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4"/>
          <p:cNvSpPr/>
          <p:nvPr/>
        </p:nvSpPr>
        <p:spPr>
          <a:xfrm>
            <a:off x="4075560" y="2857680"/>
            <a:ext cx="657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5786280"/>
            <a:ext cx="975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The cat is</a:t>
            </a:r>
            <a:r>
              <a:rPr b="1" lang="ru-RU" sz="5400" spc="-1" strike="noStrike">
                <a:solidFill>
                  <a:srgbClr val="c00000"/>
                </a:solidFill>
                <a:latin typeface="Calibri"/>
              </a:rPr>
              <a:t>___________</a:t>
            </a:r>
            <a:r>
              <a:rPr b="1" lang="en-US" sz="5400" spc="-1" strike="noStrike">
                <a:solidFill>
                  <a:srgbClr val="c00000"/>
                </a:solidFill>
                <a:latin typeface="Calibri"/>
              </a:rPr>
              <a:t>the box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C:\Documents and Settings\Admin\Local Settings\Temporary Internet Files\Content.IE5\M4K8R7JP\MCj02321270000[1].wmf"/>
          <p:cNvPicPr/>
          <p:nvPr/>
        </p:nvPicPr>
        <p:blipFill>
          <a:blip r:embed="rId2"/>
          <a:stretch/>
        </p:blipFill>
        <p:spPr>
          <a:xfrm>
            <a:off x="2268360" y="1827360"/>
            <a:ext cx="5499360" cy="37573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C:\Documents and Settings\Admin\Рабочий стол\cat198.gif"/>
          <p:cNvPicPr/>
          <p:nvPr/>
        </p:nvPicPr>
        <p:blipFill>
          <a:blip r:embed="rId3"/>
          <a:stretch/>
        </p:blipFill>
        <p:spPr>
          <a:xfrm>
            <a:off x="2484360" y="765000"/>
            <a:ext cx="3745080" cy="2865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8" descr="http://galerey-room.ru/images/202439_1384277079.png"/>
          <p:cNvPicPr/>
          <p:nvPr/>
        </p:nvPicPr>
        <p:blipFill>
          <a:blip r:embed="rId4"/>
          <a:stretch/>
        </p:blipFill>
        <p:spPr>
          <a:xfrm>
            <a:off x="0" y="443700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0.06476 L -0.01302 0.40056 E">
                                      <p:cBhvr>
                                        <p:cTn id="64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6"/>
          <p:cNvSpPr/>
          <p:nvPr/>
        </p:nvSpPr>
        <p:spPr>
          <a:xfrm>
            <a:off x="0" y="189000"/>
            <a:ext cx="961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The cat is</a:t>
            </a: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_____________</a:t>
            </a:r>
            <a:r>
              <a:rPr b="1" lang="en-US" sz="4800" spc="-1" strike="noStrike">
                <a:solidFill>
                  <a:srgbClr val="c00000"/>
                </a:solidFill>
                <a:latin typeface="Calibri"/>
              </a:rPr>
              <a:t>the roo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8"/>
          <p:cNvSpPr/>
          <p:nvPr/>
        </p:nvSpPr>
        <p:spPr>
          <a:xfrm>
            <a:off x="2411280" y="18900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in the middle o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132000" y="3716280"/>
            <a:ext cx="2087640" cy="2745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250920" y="4797360"/>
            <a:ext cx="12967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9"/>
          <p:cNvSpPr/>
          <p:nvPr/>
        </p:nvSpPr>
        <p:spPr>
          <a:xfrm>
            <a:off x="900000" y="5643720"/>
            <a:ext cx="82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 _______ the be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3851280" y="551664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4356000" y="1557360"/>
            <a:ext cx="2232000" cy="29354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250920" y="4437000"/>
            <a:ext cx="12254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5"/>
          <p:cNvSpPr/>
          <p:nvPr/>
        </p:nvSpPr>
        <p:spPr>
          <a:xfrm>
            <a:off x="179280" y="0"/>
            <a:ext cx="932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 _________________the b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571840" y="3071880"/>
            <a:ext cx="550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the lef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1403280" y="1628640"/>
            <a:ext cx="3603600" cy="4738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3851280" y="2349360"/>
            <a:ext cx="39607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135 0.00209 L -0.00312 -0.4493 E">
                                      <p:cBhvr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3"/>
          <p:cNvSpPr/>
          <p:nvPr/>
        </p:nvSpPr>
        <p:spPr>
          <a:xfrm>
            <a:off x="2411280" y="3429000"/>
            <a:ext cx="45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on the righ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0" y="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_______________ the bal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4067280" y="2349360"/>
            <a:ext cx="3313080" cy="4111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1187280" y="2924280"/>
            <a:ext cx="33134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056 -0.01805 L 0.02066 -0.49051 E">
                                      <p:cBhvr>
                                        <p:cTn id="20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780000" y="3656160"/>
            <a:ext cx="216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next t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5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_______the ball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3635280" y="1700280"/>
            <a:ext cx="3816360" cy="4738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539640" y="2276640"/>
            <a:ext cx="37450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2.22222E-006 L -0.01562 -0.50394 E">
                                      <p:cBhvr>
                                        <p:cTn id="26" dur="2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C:\Documents and Settings\Admin\Рабочий стол\cat88.gif"/>
          <p:cNvPicPr/>
          <p:nvPr/>
        </p:nvPicPr>
        <p:blipFill>
          <a:blip r:embed="rId2"/>
          <a:stretch/>
        </p:blipFill>
        <p:spPr>
          <a:xfrm>
            <a:off x="826920" y="3645000"/>
            <a:ext cx="4286520" cy="278424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10"/>
          <p:cNvSpPr/>
          <p:nvPr/>
        </p:nvSpPr>
        <p:spPr>
          <a:xfrm>
            <a:off x="-181080" y="0"/>
            <a:ext cx="932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__________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he tab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3276720" y="0"/>
            <a:ext cx="27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und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900igr.net/datai/matematika/Vesjolaja-tablitsa-umnozhenija/0007-039-Dva-na-chetyre-vosem-dyrok.png"/>
          <p:cNvPicPr/>
          <p:nvPr/>
        </p:nvPicPr>
        <p:blipFill>
          <a:blip r:embed="rId3"/>
          <a:stretch/>
        </p:blipFill>
        <p:spPr>
          <a:xfrm>
            <a:off x="1116000" y="2133720"/>
            <a:ext cx="5688000" cy="41446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http://galerey-room.ru/images/202439_1384277079.png"/>
          <p:cNvPicPr/>
          <p:nvPr/>
        </p:nvPicPr>
        <p:blipFill>
          <a:blip r:embed="rId4"/>
          <a:stretch/>
        </p:blipFill>
        <p:spPr>
          <a:xfrm>
            <a:off x="6443640" y="4797360"/>
            <a:ext cx="14050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6"/>
          <p:cNvSpPr/>
          <p:nvPr/>
        </p:nvSpPr>
        <p:spPr>
          <a:xfrm>
            <a:off x="1038960" y="6027840"/>
            <a:ext cx="76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_________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he ball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4000680" y="3500280"/>
            <a:ext cx="2571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abov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C:\Documents and Settings\Admin\Рабочий стол\cat50.gif"/>
          <p:cNvPicPr/>
          <p:nvPr/>
        </p:nvPicPr>
        <p:blipFill>
          <a:blip r:embed="rId2"/>
          <a:stretch/>
        </p:blipFill>
        <p:spPr>
          <a:xfrm>
            <a:off x="3924360" y="0"/>
            <a:ext cx="2087640" cy="2806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3132000" y="2708280"/>
            <a:ext cx="331164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29 0.03422 L -0.03872 0.34898 E">
                                      <p:cBhvr>
                                        <p:cTn id="40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0" descr="C:\Documents and Settings\Admin\Рабочий стол\cat198.gif"/>
          <p:cNvPicPr/>
          <p:nvPr/>
        </p:nvPicPr>
        <p:blipFill>
          <a:blip r:embed="rId2"/>
          <a:stretch/>
        </p:blipFill>
        <p:spPr>
          <a:xfrm>
            <a:off x="2916360" y="333360"/>
            <a:ext cx="3922560" cy="515772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3643200" y="4214880"/>
            <a:ext cx="3429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behi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4"/>
          <p:cNvSpPr/>
          <p:nvPr/>
        </p:nvSpPr>
        <p:spPr>
          <a:xfrm>
            <a:off x="324000" y="5857920"/>
            <a:ext cx="873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</a:t>
            </a: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____________</a:t>
            </a:r>
            <a:r>
              <a:rPr b="1" lang="en-US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the bal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8" descr="http://galerey-room.ru/images/202439_1384277079.png"/>
          <p:cNvPicPr/>
          <p:nvPr/>
        </p:nvPicPr>
        <p:blipFill>
          <a:blip r:embed="rId3"/>
          <a:stretch/>
        </p:blipFill>
        <p:spPr>
          <a:xfrm>
            <a:off x="2771640" y="2708280"/>
            <a:ext cx="331308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111 0.05643 L 0.01892 0.23474 E">
                                      <p:cBhvr>
                                        <p:cTn id="46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http://3.bp.blogspot.com/-tF0N1XN-H_4/Tgw-cseqiaI/AAAAAAAAAkI/X2SHHmtN7F4/s1600/snite_l-prett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2916360" y="2708280"/>
            <a:ext cx="479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alibri"/>
              </a:rPr>
              <a:t>in front of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-396720" y="5805360"/>
            <a:ext cx="99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at is_____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___________</a:t>
            </a:r>
            <a:r>
              <a:rPr b="1" lang="en-US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ball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ttp://galerey-room.ru/images/202439_1384277079.png"/>
          <p:cNvPicPr/>
          <p:nvPr/>
        </p:nvPicPr>
        <p:blipFill>
          <a:blip r:embed="rId2"/>
          <a:stretch/>
        </p:blipFill>
        <p:spPr>
          <a:xfrm>
            <a:off x="2340000" y="1916280"/>
            <a:ext cx="3887640" cy="3889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C:\Documents and Settings\Admin\Рабочий стол\cat198.gif"/>
          <p:cNvPicPr/>
          <p:nvPr/>
        </p:nvPicPr>
        <p:blipFill>
          <a:blip r:embed="rId3"/>
          <a:stretch/>
        </p:blipFill>
        <p:spPr>
          <a:xfrm>
            <a:off x="2987640" y="1700280"/>
            <a:ext cx="3241800" cy="42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43 0.03402 L 0.01875 0.43541 E">
                                      <p:cBhvr>
                                        <p:cTn id="52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nna</dc:creator>
  <dc:description/>
  <dc:language>en-US</dc:language>
  <cp:lastModifiedBy>Inna</cp:lastModifiedBy>
  <dcterms:modified xsi:type="dcterms:W3CDTF">2018-06-26T17:59:03Z</dcterms:modified>
  <cp:revision>80</cp:revision>
  <dc:subject/>
  <dc:title>Слайд 1</dc:title>
</cp:coreProperties>
</file>