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7.gif" ContentType="image/gif"/>
  <Override PartName="/ppt/media/image9.png" ContentType="image/png"/>
  <Override PartName="/ppt/media/image10.gif" ContentType="image/gi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6A2F-5652-4DEF-AFC4-26813C34D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02C-4316-4867-A3C5-85A828D7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5777-8B11-40FE-B071-C273F002A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24AE-387F-4970-A6C2-CB8C24BFC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CD7A-1BB0-4507-9680-633AF0DE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26A-9CA2-44B1-ACDC-96045147C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3563-4AE2-4B93-87A7-BECD07F1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64F3-A0AC-4D46-9AED-EA7666E3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B4C-FE2F-4070-9BA8-6C30CA70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F49F-04AA-4B73-B50D-72D830C9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C5EE-FA4E-400C-84E8-02107F41F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075-8FC9-4AAE-9EDE-439AFE75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F09B-8F39-4508-B653-F01E883F82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4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60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395280" y="6308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ремеева И.Н. ГБОУ Школа № 657 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2794320" y="364320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tw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0" y="585792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b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276720" y="1700280"/>
            <a:ext cx="3024000" cy="397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263700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5364000" y="263700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06614 L 0.03976 0.31799 E">
                                      <p:cBhvr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075560" y="2857680"/>
            <a:ext cx="6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5786280"/>
            <a:ext cx="97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e cat is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___________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e box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Documents and Settings\Admin\Local Settings\Temporary Internet Files\Content.IE5\M4K8R7JP\MCj02321270000[1].wmf"/>
          <p:cNvPicPr/>
          <p:nvPr/>
        </p:nvPicPr>
        <p:blipFill>
          <a:blip r:embed="rId2"/>
          <a:stretch/>
        </p:blipFill>
        <p:spPr>
          <a:xfrm>
            <a:off x="2268360" y="1827360"/>
            <a:ext cx="5499360" cy="3757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Documents and Settings\Admin\Рабочий стол\cat198.gif"/>
          <p:cNvPicPr/>
          <p:nvPr/>
        </p:nvPicPr>
        <p:blipFill>
          <a:blip r:embed="rId3"/>
          <a:stretch/>
        </p:blipFill>
        <p:spPr>
          <a:xfrm>
            <a:off x="2484360" y="765000"/>
            <a:ext cx="3745080" cy="286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0" y="443700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6476 L -0.01302 0.40056 E">
                                      <p:cBhvr>
                                        <p:cTn id="6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0" y="189000"/>
            <a:ext cx="96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_____________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he roo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2411280" y="18900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 the middl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132000" y="3716280"/>
            <a:ext cx="2087640" cy="274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4797360"/>
            <a:ext cx="1296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900000" y="5643720"/>
            <a:ext cx="82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 _______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851280" y="5516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4356000" y="1557360"/>
            <a:ext cx="2232000" cy="293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4437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79280" y="0"/>
            <a:ext cx="932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 _________________the 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571840" y="3071880"/>
            <a:ext cx="55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lef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1403280" y="1628640"/>
            <a:ext cx="3603600" cy="473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3851280" y="2349360"/>
            <a:ext cx="3960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135 0.00209 L -0.00312 -0.4493 E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411280" y="342900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righ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__________ the 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4067280" y="2349360"/>
            <a:ext cx="3313080" cy="411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1187280" y="2924280"/>
            <a:ext cx="331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56 -0.01805 L 0.02066 -0.49051 E">
                                      <p:cBhvr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780000" y="365616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next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__the 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635280" y="1700280"/>
            <a:ext cx="3816360" cy="473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539640" y="227664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-0.01562 -0.50394 E">
                                      <p:cBhvr>
                                        <p:cTn id="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826920" y="3645000"/>
            <a:ext cx="4286520" cy="2784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0"/>
          <p:cNvSpPr/>
          <p:nvPr/>
        </p:nvSpPr>
        <p:spPr>
          <a:xfrm>
            <a:off x="-181080" y="0"/>
            <a:ext cx="93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t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3276720" y="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900igr.net/datai/matematika/Vesjolaja-tablitsa-umnozhenija/0007-039-Dva-na-chetyre-vosem-dyrok.png"/>
          <p:cNvPicPr/>
          <p:nvPr/>
        </p:nvPicPr>
        <p:blipFill>
          <a:blip r:embed="rId3"/>
          <a:stretch/>
        </p:blipFill>
        <p:spPr>
          <a:xfrm>
            <a:off x="1116000" y="2133720"/>
            <a:ext cx="5688000" cy="414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6443640" y="4797360"/>
            <a:ext cx="14050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038960" y="6027840"/>
            <a:ext cx="76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4000680" y="3500280"/>
            <a:ext cx="257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C:\Documents and Settings\Admin\Рабочий стол\cat50.gif"/>
          <p:cNvPicPr/>
          <p:nvPr/>
        </p:nvPicPr>
        <p:blipFill>
          <a:blip r:embed="rId2"/>
          <a:stretch/>
        </p:blipFill>
        <p:spPr>
          <a:xfrm>
            <a:off x="3924360" y="0"/>
            <a:ext cx="2087640" cy="280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3132000" y="270828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3422 L -0.03872 0.34898 E">
                                      <p:cBhvr>
                                        <p:cTn id="4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2916360" y="333360"/>
            <a:ext cx="3922560" cy="5157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643200" y="4214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324000" y="5857920"/>
            <a:ext cx="87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771640" y="2708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643 L 0.01892 0.23474 E">
                                      <p:cBhvr>
                                        <p:cTn id="4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916360" y="2708280"/>
            <a:ext cx="479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 fron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-396720" y="5805360"/>
            <a:ext cx="99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ball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galerey-room.ru/images/202439_1384277079.png"/>
          <p:cNvPicPr/>
          <p:nvPr/>
        </p:nvPicPr>
        <p:blipFill>
          <a:blip r:embed="rId2"/>
          <a:stretch/>
        </p:blipFill>
        <p:spPr>
          <a:xfrm>
            <a:off x="2340000" y="1916280"/>
            <a:ext cx="3887640" cy="3889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:\Documents and Settings\Admin\Рабочий стол\cat198.gif"/>
          <p:cNvPicPr/>
          <p:nvPr/>
        </p:nvPicPr>
        <p:blipFill>
          <a:blip r:embed="rId3"/>
          <a:stretch/>
        </p:blipFill>
        <p:spPr>
          <a:xfrm>
            <a:off x="2987640" y="1700280"/>
            <a:ext cx="32418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3402 L 0.01875 0.43541 E"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na</dc:creator>
  <dc:description/>
  <dc:language>en-US</dc:language>
  <cp:lastModifiedBy>Inna</cp:lastModifiedBy>
  <dcterms:modified xsi:type="dcterms:W3CDTF">2018-06-26T17:59:03Z</dcterms:modified>
  <cp:revision>80</cp:revision>
  <dc:subject/>
  <dc:title>Слайд 1</dc:title>
</cp:coreProperties>
</file>