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gif" ContentType="image/gif"/>
  <Override PartName="/ppt/media/image9.png" ContentType="image/png"/>
  <Override PartName="/ppt/media/image10.gif" ContentType="image/gi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753E-47AA-4B30-8F21-6823C3663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F5FC-453B-4F94-9CA1-80E551B7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E5E1-73D9-4443-9F62-3EFBC2641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134D-F022-4C2E-9010-AC22FC1CE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3A62-9C8D-4B43-9960-ECFAF6D2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B87-75E2-4789-A879-660F85E4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60F-2EA1-4618-80ED-A2FB0203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8D93-8E82-4602-B627-86777C2A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7D3A-46A3-4E5D-994A-401EB9BB3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9B0A-79D1-4896-A703-D991F608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5C9-99A5-4C87-89C0-EB544A5C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3F87-5A3A-4540-8B16-A1B5FB99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6D060-C5E8-4D0D-97AD-21DF2EA2E4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4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95280" y="6308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ремеева И.Н. ГБОУ Школа № 657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585792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76720" y="1700280"/>
            <a:ext cx="302400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2637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5364000" y="263700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5786280"/>
            <a:ext cx="97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___________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Admin\Local Settings\Temporary Internet Files\Content.IE5\M4K8R7JP\MCj02321270000[1].wmf"/>
          <p:cNvPicPr/>
          <p:nvPr/>
        </p:nvPicPr>
        <p:blipFill>
          <a:blip r:embed="rId2"/>
          <a:stretch/>
        </p:blipFill>
        <p:spPr>
          <a:xfrm>
            <a:off x="2268360" y="1827360"/>
            <a:ext cx="5499360" cy="37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484360" y="76500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0" y="4437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18900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_____________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411280" y="189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132000" y="3716280"/>
            <a:ext cx="2087640" cy="274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79736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900000" y="56437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5128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356000" y="1557360"/>
            <a:ext cx="2232000" cy="293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437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79280" y="0"/>
            <a:ext cx="93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__________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403280" y="1628640"/>
            <a:ext cx="3603600" cy="473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851280" y="2349360"/>
            <a:ext cx="3960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35 0.00209 L -0.00312 -0.4493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411280" y="3429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________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067280" y="2349360"/>
            <a:ext cx="3313080" cy="411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1187280" y="292428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6 -0.01805 L 0.02066 -0.49051 E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80000" y="36561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ext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the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635280" y="1700280"/>
            <a:ext cx="3816360" cy="47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01562 -0.50394 E">
                                      <p:cBhvr>
                                        <p:cTn id="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826920" y="3645000"/>
            <a:ext cx="4286520" cy="2784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0"/>
          <p:cNvSpPr/>
          <p:nvPr/>
        </p:nvSpPr>
        <p:spPr>
          <a:xfrm>
            <a:off x="-181080" y="0"/>
            <a:ext cx="93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27672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900igr.net/datai/matematika/Vesjolaja-tablitsa-umnozhenija/0007-039-Dva-na-chetyre-vosem-dyrok.png"/>
          <p:cNvPicPr/>
          <p:nvPr/>
        </p:nvPicPr>
        <p:blipFill>
          <a:blip r:embed="rId3"/>
          <a:stretch/>
        </p:blipFill>
        <p:spPr>
          <a:xfrm>
            <a:off x="1116000" y="2133720"/>
            <a:ext cx="5688000" cy="414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6443640" y="4797360"/>
            <a:ext cx="1405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38960" y="602784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000680" y="3500280"/>
            <a:ext cx="25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Admin\Рабочий стол\cat50.gif"/>
          <p:cNvPicPr/>
          <p:nvPr/>
        </p:nvPicPr>
        <p:blipFill>
          <a:blip r:embed="rId2"/>
          <a:stretch/>
        </p:blipFill>
        <p:spPr>
          <a:xfrm>
            <a:off x="3924360" y="0"/>
            <a:ext cx="2087640" cy="280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132000" y="270828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3422 L -0.03872 0.34898 E">
                                      <p:cBhvr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916360" y="33336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24000" y="5857920"/>
            <a:ext cx="87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771640" y="270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4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16360" y="2708280"/>
            <a:ext cx="47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-396720" y="5805360"/>
            <a:ext cx="99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galerey-room.ru/images/202439_1384277079.png"/>
          <p:cNvPicPr/>
          <p:nvPr/>
        </p:nvPicPr>
        <p:blipFill>
          <a:blip r:embed="rId2"/>
          <a:stretch/>
        </p:blipFill>
        <p:spPr>
          <a:xfrm>
            <a:off x="2340000" y="1916280"/>
            <a:ext cx="3887640" cy="38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987640" y="1700280"/>
            <a:ext cx="32418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402 L 0.01875 0.43541 E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na</dc:creator>
  <dc:description/>
  <dc:language>en-US</dc:language>
  <cp:lastModifiedBy>Inna</cp:lastModifiedBy>
  <dcterms:modified xsi:type="dcterms:W3CDTF">2018-06-26T17:59:03Z</dcterms:modified>
  <cp:revision>80</cp:revision>
  <dc:subject/>
  <dc:title>Слайд 1</dc:title>
</cp:coreProperties>
</file>