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414-BE45-43BA-9545-021EDCD7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F8D-E9B5-4E91-B765-779D0C1F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5AC-23B2-446B-AA28-DDA05B87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0C1-47F4-4D1D-8181-A9FC1FD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5B7B-615D-44CC-99DA-CE9073DC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A1D1-47EF-4AF1-98F2-7CB718B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BE0A-342A-4807-BBCB-C9D66DE6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A359-0780-4FD9-BB1D-2CA6334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9E7-4B69-4257-A7B4-1D06D14A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E28-3EF0-432D-9796-3352241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BF1-6A02-400A-8714-43B89A5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AFC-0E92-43A1-86A6-EF9AD72F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549-764F-4011-AEF1-B78285E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E0C-AC95-4565-89BE-430D8759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958B-3FC0-4163-9128-50680C56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EC2E-66AC-481D-A8FC-6C0DD762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23A8-9499-422D-94AF-FB3EC7FD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305-DFDC-41C5-AFBB-63265EA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816-8325-400E-99AB-BD556635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49A-B514-4C33-B56A-9197F42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22B-CBDF-41A6-8CA5-E877EA1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417-7D92-4FC0-AA0A-CFC45E2A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E5F-848D-4529-9635-BD6F7E9A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BB6-0A7F-4C69-A4E2-54EACF2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DDC-EB0B-498D-AF62-F219ED0869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EA0-E465-4BE4-BC24-CC163E9CAF7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ba45d"/>
                </a:solidFill>
                <a:latin typeface="Boyarsky"/>
              </a:rPr>
              <a:t>Роль и значение фольклорных мотивов в повести Н.В.Гоголя «Вий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76360" y="609300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2016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a45d"/>
                </a:solidFill>
                <a:latin typeface="Boyarsky"/>
              </a:rPr>
              <a:t>Заклин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83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ba45d"/>
                </a:solidFill>
                <a:uFillTx/>
                <a:latin typeface="Arbat-Bold"/>
              </a:rPr>
              <a:t>Заклинание</a:t>
            </a:r>
            <a:r>
              <a:rPr b="0" i="1" lang="ru-RU" sz="2000" spc="-1" strike="noStrike">
                <a:solidFill>
                  <a:srgbClr val="cba45d"/>
                </a:solidFill>
                <a:latin typeface="Boyarsky"/>
              </a:rPr>
              <a:t> – в старинных суеверных представлениях:</a:t>
            </a:r>
            <a:br>
              <a:rPr sz="2000"/>
            </a:br>
            <a:r>
              <a:rPr b="0" i="1" lang="ru-RU" sz="2000" spc="-1" strike="noStrike">
                <a:solidFill>
                  <a:srgbClr val="cba45d"/>
                </a:solidFill>
                <a:latin typeface="Boyarsky"/>
              </a:rPr>
              <a:t>магические слова, звуки, которыми заклинают*</a:t>
            </a:r>
            <a:r>
              <a:rPr b="0" lang="ru-RU" sz="2000" spc="-1" strike="noStrike">
                <a:solidFill>
                  <a:srgbClr val="cba45d"/>
                </a:solidFill>
                <a:latin typeface="Boyarsky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Boyarsky"/>
              </a:rPr>
              <a:t>*Словарь Ожег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4753080" cy="35082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9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9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a45d"/>
                </a:solidFill>
                <a:latin typeface="Boyarsky"/>
              </a:rPr>
              <a:t>Заклинания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ba45d"/>
                </a:solidFill>
                <a:latin typeface="Arbat-Bold"/>
              </a:rPr>
              <a:t>Когда заклятье творит сама ведьма, то ее колдовская сила растет. Так, ведьма приобретает способность летать в своем гробу по воздуху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6264360" cy="4089600"/>
          </a:xfrm>
          <a:prstGeom prst="rect">
            <a:avLst/>
          </a:prstGeom>
          <a:ln w="76320">
            <a:solidFill>
              <a:srgbClr val="d29f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Образы нечистой силы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В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4292640"/>
            <a:ext cx="2522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59280" y="4724280"/>
            <a:ext cx="2305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Boyarsky"/>
              </a:rPr>
              <a:t>Русалка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2457360" cy="18669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2575080" cy="31669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448000" cy="2160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696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3886200" cy="293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816360" cy="31716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816360" cy="32972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584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ba45d"/>
                </a:solidFill>
                <a:latin typeface="Boyarsky"/>
              </a:rPr>
              <a:t>Ведьм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559640" cy="53020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30000"/>
                                  </p:stCondLst>
                                  <p:childTnLst>
                                    <p:animScale>
                                      <p:cBhvr>
                                        <p:cTn id="392" dur="3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Происхождение Гоголевского Вия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Вий</a:t>
            </a:r>
            <a:r>
              <a:rPr b="0" lang="ru-RU" sz="2800" spc="-1" strike="noStrike">
                <a:solidFill>
                  <a:srgbClr val="cba45d"/>
                </a:solidFill>
                <a:latin typeface="Boyarsky"/>
              </a:rPr>
              <a:t> – предводитель нечистой си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228000" cy="47055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a45d"/>
                </a:solidFill>
                <a:latin typeface="Boyarsky"/>
              </a:rPr>
              <a:t>Прообразы гоголевского В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244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Святой Касья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401920" cy="32324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2222280" cy="316836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72360" y="1557360"/>
            <a:ext cx="2557440" cy="2952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507672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558972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Иуда Искари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8040" y="46530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Языческ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Вел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50028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a45d"/>
                </a:solidFill>
                <a:latin typeface="Boyarsky"/>
              </a:rPr>
              <a:t>Основная гипотеза о происхождении В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6720" y="2060640"/>
            <a:ext cx="38880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Boyarsky"/>
              </a:rPr>
              <a:t>Гоголь, заставляет Хому Брута, пребывающего в душевной лености и не уповающего на Бога, взглянуть на Вия и увидеть в нем ужасного евангельского двой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465440" cy="39736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a45d"/>
                </a:solidFill>
                <a:latin typeface="Boyarsky"/>
              </a:rPr>
              <a:t>Результаты исследов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a45d"/>
                </a:solidFill>
                <a:latin typeface="Arbat-Bold"/>
              </a:rPr>
              <a:t>Основным материалом, на котором построен колорит повести, являются фольклорные мотивы, раскрывающие перед читателем мироощущение украинско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376360" cy="196524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2736720" cy="189540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564000" y="4437000"/>
            <a:ext cx="2381040" cy="2057400"/>
          </a:xfrm>
          <a:prstGeom prst="rect">
            <a:avLst/>
          </a:prstGeom>
          <a:ln w="76320">
            <a:solidFill>
              <a:srgbClr val="af8f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9,69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73,-105,-7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360"/>
                            </p:stCondLst>
                            <p:childTnLst>
                              <p:par>
                                <p:cTn id="4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860"/>
                            </p:stCondLst>
                            <p:childTnLst>
                              <p:par>
                                <p:cTn id="4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360"/>
                            </p:stCondLst>
                            <p:childTnLst>
                              <p:par>
                                <p:cTn id="4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692280"/>
            <a:ext cx="90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Arbat-Bold"/>
              </a:rPr>
              <a:t>Позиция писателя в повести «Вий» озвучивается словами приятеля Хомы, Горобца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36bc"/>
                </a:solidFill>
                <a:latin typeface="Arbat-Bold"/>
              </a:rPr>
              <a:t>«А я знаю почему пропал он: оттого, что побоялся. А если бы не побоялся, то бы ведьма ничего не смогла с ним сделать».</a:t>
            </a:r>
            <a:r>
              <a:rPr b="1" lang="ru-RU" sz="3600" spc="-1" strike="noStrike">
                <a:solidFill>
                  <a:srgbClr val="cba45d"/>
                </a:solidFill>
                <a:latin typeface="Arbat-Bol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5734080"/>
            <a:ext cx="1727280" cy="86364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ba45d"/>
                </a:solidFill>
                <a:latin typeface="Boyarsky"/>
              </a:rPr>
              <a:t>Николай Васильевич Гогол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544500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(1809-185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ba45d"/>
                </a:solidFill>
                <a:latin typeface="Boyarsky"/>
              </a:rPr>
              <a:t>1835 – год издания повести «Вий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77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«Вий» - это повесть о трагической неустроенности жизни. Сам Гоголь писал о ней: «Это было точно необыкновенное явление русской силы: его вышибло из народной груди огниво бед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В 1835 г. в статье «О русской повести и повестях Гоголя» В.Г. Белинский дал весьма положительную оценку «Вию» («это повесть есть дивное создание»), но тут же отмечал неудачу Гоголя в «фантастическом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3949560" cy="44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ba45d"/>
                </a:solidFill>
                <a:latin typeface="Boyarsky"/>
              </a:rPr>
              <a:t>Исследова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1484280"/>
            <a:ext cx="8568720" cy="5184360"/>
            <a:chOff x="250920" y="1484280"/>
            <a:chExt cx="8568720" cy="5184360"/>
          </a:xfrm>
        </p:grpSpPr>
        <p:cxnSp>
          <p:nvCxnSpPr>
            <p:cNvPr id="94" name="_s28681"/>
            <p:cNvCxnSpPr>
              <a:stCxn id="95" idx="1"/>
              <a:endCxn id="96" idx="2"/>
            </p:cNvCxnSpPr>
            <p:nvPr/>
          </p:nvCxnSpPr>
          <p:spPr>
            <a:xfrm rot="10800000">
              <a:off x="5645520" y="4446000"/>
              <a:ext cx="317880" cy="74340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97" name="_s28682"/>
            <p:cNvCxnSpPr>
              <a:stCxn id="98" idx="1"/>
              <a:endCxn id="96" idx="2"/>
            </p:cNvCxnSpPr>
            <p:nvPr/>
          </p:nvCxnSpPr>
          <p:spPr>
            <a:xfrm rot="10800000">
              <a:off x="5645520" y="4446000"/>
              <a:ext cx="317880" cy="18525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99" name="_s28683"/>
            <p:cNvCxnSpPr>
              <a:stCxn id="100" idx="3"/>
              <a:endCxn id="96" idx="2"/>
            </p:cNvCxnSpPr>
            <p:nvPr/>
          </p:nvCxnSpPr>
          <p:spPr>
            <a:xfrm flipV="1">
              <a:off x="5328360" y="4446360"/>
              <a:ext cx="317880" cy="18525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1" name="_s28684"/>
            <p:cNvCxnSpPr>
              <a:stCxn id="102" idx="3"/>
              <a:endCxn id="96" idx="2"/>
            </p:cNvCxnSpPr>
            <p:nvPr/>
          </p:nvCxnSpPr>
          <p:spPr>
            <a:xfrm flipV="1">
              <a:off x="5328360" y="4446000"/>
              <a:ext cx="317880" cy="74340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3" name="_s28685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2684160" y="2965680"/>
              <a:ext cx="369720" cy="111060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6" name="_s28686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1574280" y="2965320"/>
              <a:ext cx="369720" cy="111132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08" name="_s28687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7128000" y="2965320"/>
              <a:ext cx="369720" cy="1111320"/>
            </a:xfrm>
            <a:prstGeom prst="bentConnector3">
              <a:avLst>
                <a:gd name="adj1" fmla="val 34697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1" name="_s28688"/>
            <p:cNvCxnSpPr>
              <a:stCxn id="96" idx="0"/>
              <a:endCxn id="110" idx="2"/>
            </p:cNvCxnSpPr>
            <p:nvPr/>
          </p:nvCxnSpPr>
          <p:spPr>
            <a:xfrm flipH="1" flipV="1" rot="5400000">
              <a:off x="6016320" y="2965320"/>
              <a:ext cx="370800" cy="1111680"/>
            </a:xfrm>
            <a:prstGeom prst="bentConnector3">
              <a:avLst>
                <a:gd name="adj1" fmla="val 34693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2" name="_s28689"/>
            <p:cNvCxnSpPr>
              <a:stCxn id="110" idx="0"/>
              <a:endCxn id="113" idx="2"/>
            </p:cNvCxnSpPr>
            <p:nvPr/>
          </p:nvCxnSpPr>
          <p:spPr>
            <a:xfrm flipV="1" rot="16200000">
              <a:off x="5460120" y="1298520"/>
              <a:ext cx="371160" cy="2222280"/>
            </a:xfrm>
            <a:prstGeom prst="bentConnector3">
              <a:avLst>
                <a:gd name="adj1" fmla="val 34563"/>
              </a:avLst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4" name="_s28690"/>
            <p:cNvCxnSpPr>
              <a:stCxn id="115" idx="0"/>
              <a:endCxn id="113" idx="2"/>
            </p:cNvCxnSpPr>
            <p:nvPr/>
          </p:nvCxnSpPr>
          <p:spPr>
            <a:xfrm flipV="1">
              <a:off x="4535280" y="2224080"/>
              <a:ext cx="1440" cy="371160"/>
            </a:xfrm>
            <a:prstGeom prst="bentConnector2">
              <a:avLst/>
            </a:prstGeom>
            <a:ln w="44280">
              <a:solidFill>
                <a:srgbClr val="cba45d"/>
              </a:solidFill>
              <a:miter/>
            </a:ln>
          </p:spPr>
        </p:cxnSp>
        <p:cxnSp>
          <p:nvCxnSpPr>
            <p:cNvPr id="116" name="_s28691"/>
            <p:cNvCxnSpPr>
              <a:stCxn id="105" idx="0"/>
              <a:endCxn id="113" idx="2"/>
            </p:cNvCxnSpPr>
            <p:nvPr/>
          </p:nvCxnSpPr>
          <p:spPr>
            <a:xfrm flipH="1" flipV="1" rot="5400000">
              <a:off x="3239280" y="1298880"/>
              <a:ext cx="371880" cy="2222280"/>
            </a:xfrm>
            <a:prstGeom prst="bentConnector3">
              <a:avLst>
                <a:gd name="adj1" fmla="val 34593"/>
              </a:avLst>
            </a:prstGeom>
            <a:ln w="44280">
              <a:solidFill>
                <a:srgbClr val="cba45d"/>
              </a:solidFill>
              <a:miter/>
            </a:ln>
          </p:spPr>
        </p:cxnSp>
        <p:sp>
          <p:nvSpPr>
            <p:cNvPr id="113" name="_s28692"/>
            <p:cNvSpPr/>
            <p:nvPr/>
          </p:nvSpPr>
          <p:spPr>
            <a:xfrm>
              <a:off x="3583440" y="148428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ba45d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Текст повести «Вий»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8693"/>
            <p:cNvSpPr/>
            <p:nvPr/>
          </p:nvSpPr>
          <p:spPr>
            <a:xfrm>
              <a:off x="136152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96a644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Фольклорные</a:t>
              </a:r>
              <a:br>
                <a:rPr sz="1900"/>
              </a:b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мотив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8694"/>
            <p:cNvSpPr/>
            <p:nvPr/>
          </p:nvSpPr>
          <p:spPr>
            <a:xfrm>
              <a:off x="358344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4c719a">
                <a:alpha val="8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bat-Bold"/>
                </a:rPr>
                <a:t>Соблюдение требований христианской ве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8695"/>
            <p:cNvSpPr/>
            <p:nvPr/>
          </p:nvSpPr>
          <p:spPr>
            <a:xfrm>
              <a:off x="5805000" y="259524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/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Мистик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28696"/>
            <p:cNvSpPr/>
            <p:nvPr/>
          </p:nvSpPr>
          <p:spPr>
            <a:xfrm>
              <a:off x="469404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>
                <a:alpha val="7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Образы нечистой сил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28697"/>
            <p:cNvSpPr/>
            <p:nvPr/>
          </p:nvSpPr>
          <p:spPr>
            <a:xfrm>
              <a:off x="691560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236bc">
                <a:alpha val="70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Заклинани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8698"/>
            <p:cNvSpPr/>
            <p:nvPr/>
          </p:nvSpPr>
          <p:spPr>
            <a:xfrm>
              <a:off x="25092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bbc87a">
                <a:alpha val="73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Примет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8699"/>
            <p:cNvSpPr/>
            <p:nvPr/>
          </p:nvSpPr>
          <p:spPr>
            <a:xfrm>
              <a:off x="2472480" y="370620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acbc5c">
                <a:alpha val="73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Обряды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28700"/>
            <p:cNvSpPr/>
            <p:nvPr/>
          </p:nvSpPr>
          <p:spPr>
            <a:xfrm>
              <a:off x="3424680" y="481716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Ведьм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28701"/>
            <p:cNvSpPr/>
            <p:nvPr/>
          </p:nvSpPr>
          <p:spPr>
            <a:xfrm>
              <a:off x="3424680" y="592812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Русал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28702"/>
            <p:cNvSpPr/>
            <p:nvPr/>
          </p:nvSpPr>
          <p:spPr>
            <a:xfrm>
              <a:off x="5963760" y="592812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Друга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 </a:t>
              </a:r>
              <a:r>
                <a:rPr b="1" lang="ru-RU" sz="1900" spc="-1" strike="noStrike">
                  <a:solidFill>
                    <a:srgbClr val="000000"/>
                  </a:solidFill>
                  <a:latin typeface="Arbat-Bold"/>
                </a:rPr>
                <a:t>нечист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28703"/>
            <p:cNvSpPr/>
            <p:nvPr/>
          </p:nvSpPr>
          <p:spPr>
            <a:xfrm>
              <a:off x="5963760" y="4817160"/>
              <a:ext cx="1904040" cy="740520"/>
            </a:xfrm>
            <a:prstGeom prst="roundRect">
              <a:avLst>
                <a:gd name="adj" fmla="val 16667"/>
              </a:avLst>
            </a:prstGeom>
            <a:solidFill>
              <a:srgbClr val="cc99ff">
                <a:alpha val="71000"/>
              </a:srgbClr>
            </a:solidFill>
            <a:ln w="76320">
              <a:solidFill>
                <a:srgbClr val="cba4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bat-Bold"/>
                </a:rPr>
                <a:t>В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34930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ba45d"/>
                </a:solidFill>
                <a:latin typeface="Boyarsky"/>
              </a:rPr>
              <a:t>Приметы в повести «Вий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Мистическое значение числа «3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Число «6» </a:t>
            </a:r>
            <a:r>
              <a:rPr b="1" lang="ru-RU" sz="2800" spc="-1" strike="noStrike">
                <a:solidFill>
                  <a:srgbClr val="cba45d"/>
                </a:solidFill>
                <a:latin typeface="Arbat-Bold"/>
              </a:rPr>
              <a:t>–</a:t>
            </a:r>
            <a:r>
              <a:rPr b="1" lang="ru-RU" sz="2800" spc="-1" strike="noStrike">
                <a:solidFill>
                  <a:srgbClr val="cba45d"/>
                </a:solidFill>
                <a:latin typeface="Arbat-Bold"/>
              </a:rPr>
              <a:t> </a:t>
            </a: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символ нечистой сил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Нечетное число гостей на похоронах – к бед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Темное время суток – время «нечистой силы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Черный цвет – символ трау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Красная калина отпугивает ведь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Arbat-Bold"/>
              </a:rPr>
              <a:t>Дневной свет отгоняет зл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a45d"/>
                </a:solidFill>
                <a:latin typeface="Boyarsky"/>
              </a:rPr>
              <a:t> </a:t>
            </a:r>
            <a:r>
              <a:rPr b="1" lang="ru-RU" sz="3600" spc="-1" strike="noStrike">
                <a:solidFill>
                  <a:srgbClr val="cba45d"/>
                </a:solidFill>
                <a:latin typeface="Boyarsky"/>
              </a:rPr>
              <a:t>Приметы в повести «В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920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Вой собаки к покойни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Вой волка – скорое несчасть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Красивая усопшая в гробу – дурной зн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Родственнику нельзя нести гроб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a45d"/>
                </a:solidFill>
                <a:latin typeface="Arbat-Bold"/>
              </a:rPr>
              <a:t>Икона падает – к покойник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5400720" cy="285300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Родственникам нельзя нести гроб на похорона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8862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Существует примета, что прямые родственники умершего в период похорон находятся как бы в карантине. Кровная родственная связь в жизни, предполагает такую же связь в смерти.</a:t>
            </a:r>
            <a:r>
              <a:rPr b="1" i="1" lang="ru-RU" sz="2000" spc="-1" strike="noStrike">
                <a:solidFill>
                  <a:srgbClr val="cba45d"/>
                </a:solidFill>
                <a:latin typeface="Arbat-Bold"/>
              </a:rPr>
              <a:t> </a:t>
            </a:r>
            <a:r>
              <a:rPr b="0" lang="ru-RU" sz="2000" spc="-1" strike="noStrike">
                <a:solidFill>
                  <a:srgbClr val="cba45d"/>
                </a:solidFill>
                <a:latin typeface="Arbat-Bold"/>
              </a:rPr>
              <a:t>Отсюда, им запрещается нести гроб покойника, чтобы не уйти вслед за н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Rectangle 3" descr=""/>
          <p:cNvPicPr/>
          <p:nvPr/>
        </p:nvPicPr>
        <p:blipFill>
          <a:blip r:embed="rId1"/>
          <a:stretch/>
        </p:blipFill>
        <p:spPr>
          <a:xfrm>
            <a:off x="4878360" y="2057400"/>
            <a:ext cx="3425760" cy="406872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ba45d"/>
                </a:solidFill>
                <a:latin typeface="Boyarsky"/>
              </a:rPr>
              <a:t>5 обрядов в повести «Вий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Очерченный вокруг себя круг – защита от темных сил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Свет – метод борьбы со злом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После вынесения гроба, согреть у печи руки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Креститься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ba45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ba45d"/>
                </a:solidFill>
                <a:latin typeface="Arbat-Bold"/>
              </a:rPr>
              <a:t>Красная китайка традиционно использовалась на похоронах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ba45d"/>
                </a:solidFill>
                <a:latin typeface="Boyarsky"/>
              </a:rPr>
              <a:t>Красная китайка традиционно использовалась на похорон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45d"/>
                </a:solidFill>
                <a:latin typeface="Arbat-Bold"/>
              </a:rPr>
              <a:t>Гоголь использует этот обряд для того, чтобы подчеркнуть состоятельность Сотника, красною китайкой был выстлан только пол светлицы умершей дочери, а ее тело лежало «</a:t>
            </a:r>
            <a:r>
              <a:rPr b="1" i="1" lang="ru-RU" sz="1800" spc="-1" strike="noStrike">
                <a:solidFill>
                  <a:srgbClr val="cba45d"/>
                </a:solidFill>
                <a:latin typeface="Arbat-Bold"/>
              </a:rPr>
              <a:t>на одеяле из синего бархата, убранном золотою бахромою и кистями</a:t>
            </a:r>
            <a:r>
              <a:rPr b="0" lang="ru-RU" sz="1800" spc="-1" strike="noStrike">
                <a:solidFill>
                  <a:srgbClr val="cba45d"/>
                </a:solidFill>
                <a:latin typeface="Arbat-Bold"/>
              </a:rPr>
              <a:t>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5400720" cy="3554280"/>
          </a:xfrm>
          <a:prstGeom prst="rect">
            <a:avLst/>
          </a:prstGeom>
          <a:ln w="76320">
            <a:solidFill>
              <a:srgbClr val="cba45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9:44:14Z</dcterms:created>
  <dc:creator>User</dc:creator>
  <dc:description/>
  <cp:keywords/>
  <dc:language>en-US</dc:language>
  <cp:lastModifiedBy>Пользователь Windows</cp:lastModifiedBy>
  <dcterms:modified xsi:type="dcterms:W3CDTF">2018-06-25T14:22:43Z</dcterms:modified>
  <cp:revision>25</cp:revision>
  <dc:subject/>
  <dc:title>Тема проекта: «Роль и значение фольклорных мотивов в повести Н.В.Гоголя «Вий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49</vt:lpwstr>
  </property>
</Properties>
</file>