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3.jpeg" ContentType="image/jpeg"/>
  <Override PartName="/ppt/media/image22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35.png" ContentType="image/png"/>
  <Override PartName="/ppt/media/image5.png" ContentType="image/png"/>
  <Override PartName="/ppt/media/image7.png" ContentType="image/png"/>
  <Override PartName="/ppt/media/image36.png" ContentType="image/png"/>
  <Override PartName="/ppt/media/image1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B7E1-7B8A-4BF8-A77F-5F0789AC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AE01-2F9C-48BB-A49D-85E5C4E6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F615-33D7-4BF8-A3C2-8B4CDB6E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F853-4701-43B0-A72A-11DF43DC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CB2F-433A-45E9-BCAC-7C105824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C56E-2299-4D3A-81C8-16303CDD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144C-B8E2-49F3-BEBE-FB493D22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C120-393B-4260-A010-51AAF200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F801-A845-4D9F-9CD3-18FB07C6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F0F2-C490-4E6E-BA6B-7EDFB4BE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15DE-5D40-4EEC-94BC-B0089E4C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B90F-3594-44CE-A0E3-5C14C53A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8C79-ABE1-4D9E-9917-BF5438A0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0334-48F8-4780-BADE-9701FC65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8417-6244-4E56-833F-83D84C1F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18FF-F85B-4597-9EAA-52A68033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1D6E-17D3-41F5-AF90-EC0BE620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E4F44-6C57-4B25-AEF4-99D1C6D9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B5071-FAC0-4A44-986C-7EA85FF0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D5ADE-BB02-4409-8BE4-2992B111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A2DFC-24D5-4350-AD1D-E5FE9FD4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C5B6B-2790-458C-8CC4-56D290D9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DC72-8D9E-4464-8A89-46E192F0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BD38D-2D4E-4520-8BE9-E4849989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94666-6907-43A9-88A8-B4DE357F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DF7B0-636C-4370-8E73-4D05D666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D6722-9D60-4A8D-95FE-D33688C2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3750B-BB20-4C8E-AEEC-8A984410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967C2-C866-4C1C-B21C-9A7ED77D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D44D7-07C2-4B08-B5CD-8F7EB9C3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A7D11-CEA9-4EB0-8E0B-BEE42FF6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6F46C-9FE0-4ECF-8BC8-D949E636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29F51-3954-4C77-9BA1-EADC7A05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6A51-E365-4326-9C80-D8A74169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F258E-8537-4555-BF46-E4704FF8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F0059-39E9-4270-BC72-29A059C7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6161E-CB9F-47C3-986D-89D01C44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42AE0-BD38-4A26-8574-EDB49D72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5197C-80B4-4ED6-8245-13622EA8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036C4-3DC4-40C3-A2D7-FB1C8B9E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E2AF8-A93C-43A9-9F4F-358AA80C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4376C-8810-4C19-BACD-71E5B4DD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D828D-DBFF-4E47-A20E-855E0042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6D22-C574-4613-B994-9A0C1DCC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F7E-5ABD-405B-AB1F-975D567C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E1A-9F0F-4934-BA49-15C5B76C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0198-F97E-4779-89C7-EAF639A9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08A1-38F9-4772-BD1A-7A9AD5A8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B381-7115-4A5E-B5C4-808AEB01057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9238-C0B5-4322-A85F-DDE029280EB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166F-5CAB-4548-8B8D-B99135567C6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678C-63F2-4AB5-8327-F2F48CF10D76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2.png"/><Relationship Id="rId3" Type="http://schemas.openxmlformats.org/officeDocument/2006/relationships/hyperlink" Target="http://samie-samie.ru/samye-dorogie-chasy-v-mire/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4.png"/><Relationship Id="rId3" Type="http://schemas.openxmlformats.org/officeDocument/2006/relationships/hyperlink" Target="https://ru.wikipedia.org/wiki/&#1041;&#1091;&#1090;&#1077;&#1085;&#1086;&#1087;&#1099;" TargetMode="External"/><Relationship Id="rId4" Type="http://schemas.openxmlformats.org/officeDocument/2006/relationships/hyperlink" Target="https://ru.wikipedia.org/wiki/&#1041;&#1091;&#1090;&#1077;&#1085;&#1086;&#1087;&#1099;" TargetMode="External"/><Relationship Id="rId5" Type="http://schemas.openxmlformats.org/officeDocument/2006/relationships/hyperlink" Target="https://ru.wikipedia.org/wiki/1999_&#1075;&#1086;&#1076;" TargetMode="External"/><Relationship Id="rId6" Type="http://schemas.openxmlformats.org/officeDocument/2006/relationships/hyperlink" Target="https://ru.wikipedia.org/wiki/&#1043;&#1080;&#1084;&#1085;_&#1056;&#1086;&#1089;&#1089;&#1080;&#1080;" TargetMode="External"/><Relationship Id="rId7" Type="http://schemas.openxmlformats.org/officeDocument/2006/relationships/hyperlink" Target="https://ru.wikipedia.org/wiki/&#1063;&#1072;&#1089;&#1099;_&#1085;&#1072;_&#1057;&#1087;&#1072;&#1089;&#1089;&#1082;&#1086;&#1081;_&#1073;&#1072;&#1096;&#1085;&#1077;#cite_note-5" TargetMode="External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6.png"/><Relationship Id="rId3" Type="http://schemas.openxmlformats.org/officeDocument/2006/relationships/hyperlink" Target="https://ru.wikipedia.org/wiki/&#1040;&#1085;&#1075;&#1083;&#1080;&#1081;&#1089;&#1082;&#1080;&#1081;_&#1103;&#1079;&#1099;&#1082;" TargetMode="External"/><Relationship Id="rId4" Type="http://schemas.openxmlformats.org/officeDocument/2006/relationships/hyperlink" Target="https://ru.wikipedia.org/wiki/&#1042;&#1077;&#1089;&#1090;&#1084;&#1080;&#1085;&#1089;&#1090;&#1077;&#1088;&#1089;&#1082;&#1080;&#1081;_&#1076;&#1074;&#1086;&#1088;&#1077;&#1094;" TargetMode="External"/><Relationship Id="rId5" Type="http://schemas.openxmlformats.org/officeDocument/2006/relationships/hyperlink" Target="https://ru.wikipedia.org/wiki/&#1040;&#1085;&#1075;&#1083;&#1080;&#1081;&#1089;&#1082;&#1080;&#1081;_&#1103;&#1079;&#1099;&#1082;" TargetMode="External"/><Relationship Id="rId6" Type="http://schemas.openxmlformats.org/officeDocument/2006/relationships/hyperlink" Target="https://ru.wikipedia.org/wiki/&#1042;&#1077;&#1083;&#1080;&#1082;&#1086;&#1073;&#1088;&#1080;&#1090;&#1072;&#1085;&#1080;&#1103;" TargetMode="External"/><Relationship Id="rId7" Type="http://schemas.openxmlformats.org/officeDocument/2006/relationships/hyperlink" Target="https://ru.wikipedia.org/wiki/&#1061;&#1086;&#1083;&#1083;,_&#1041;&#1077;&#1085;&#1076;&#1078;&#1072;&#1084;&#1080;&#1085;_(&#1087;&#1086;&#1083;&#1080;&#1090;&#1080;&#1082;)" TargetMode="External"/><Relationship Id="rId8" Type="http://schemas.openxmlformats.org/officeDocument/2006/relationships/hyperlink" Target="https://ru.wikipedia.org/wiki/&#1061;&#1086;&#1083;&#1083;,_&#1041;&#1077;&#1085;&#1076;&#1078;&#1072;&#1084;&#1080;&#1085;_(&#1087;&#1086;&#1083;&#1080;&#1090;&#1080;&#1082;)" TargetMode="External"/><Relationship Id="rId9" Type="http://schemas.openxmlformats.org/officeDocument/2006/relationships/hyperlink" Target="https://en.wikipedia.org/wiki/Ben_Caunt" TargetMode="External"/><Relationship Id="rId10" Type="http://schemas.openxmlformats.org/officeDocument/2006/relationships/hyperlink" Target="https://en.wikipedia.org/wiki/Ben_Caunt" TargetMode="External"/><Relationship Id="rId11" Type="http://schemas.openxmlformats.org/officeDocument/2006/relationships/hyperlink" Target="https://en.wikipedia.org/wiki/Ben_Caunt" TargetMode="External"/><Relationship Id="rId12" Type="http://schemas.openxmlformats.org/officeDocument/2006/relationships/hyperlink" Target="https://ru.wikipedia.org/wiki/&#1055;&#1100;&#1102;&#1076;&#1078;&#1080;&#1085;,_&#1054;&#1075;&#1072;&#1089;&#1090;&#1077;&#1089;_&#1059;&#1101;&#1083;&#1073;&#1080;_&#1053;&#1086;&#1088;&#1090;&#1084;&#1086;&#1088;" TargetMode="External"/><Relationship Id="rId13" Type="http://schemas.openxmlformats.org/officeDocument/2006/relationships/hyperlink" Target="https://ru.wikipedia.org/wiki/1859_&#1075;&#1086;&#1076;" TargetMode="External"/><Relationship Id="rId14" Type="http://schemas.openxmlformats.org/officeDocument/2006/relationships/hyperlink" Target="https://ru.wikipedia.org/wiki/&#1063;&#1072;&#1089;&#1099;" TargetMode="External"/><Relationship Id="rId15" Type="http://schemas.openxmlformats.org/officeDocument/2006/relationships/hyperlink" Target="https://ru.wikipedia.org/wiki/31_&#1084;&#1072;&#1103;" TargetMode="External"/><Relationship Id="rId16" Type="http://schemas.openxmlformats.org/officeDocument/2006/relationships/hyperlink" Target="https://ru.wikipedia.org/wiki/1859_&#1075;&#1086;&#1076;" TargetMode="External"/><Relationship Id="rId17" Type="http://schemas.openxmlformats.org/officeDocument/2006/relationships/hyperlink" Target="https://ru.wikipedia.org/wiki/&#1058;&#1086;&#1085;&#1085;&#1072;" TargetMode="External"/><Relationship Id="rId18" Type="http://schemas.openxmlformats.org/officeDocument/2006/relationships/image" Target="../media/image37.jpeg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ПРОЕКТ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История происхождения часов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Заголовок 1"/>
          <p:cNvGrpSpPr/>
          <p:nvPr/>
        </p:nvGrpSpPr>
        <p:grpSpPr>
          <a:xfrm>
            <a:off x="476280" y="133200"/>
            <a:ext cx="8764560" cy="1202040"/>
            <a:chOff x="476280" y="133200"/>
            <a:chExt cx="8764560" cy="1202040"/>
          </a:xfrm>
        </p:grpSpPr>
        <p:pic>
          <p:nvPicPr>
            <p:cNvPr id="27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76280" y="133200"/>
              <a:ext cx="8764560" cy="12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539640" y="265320"/>
              <a:ext cx="864252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есочны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77" name="Объект 6"/>
          <p:cNvGrpSpPr/>
          <p:nvPr/>
        </p:nvGrpSpPr>
        <p:grpSpPr>
          <a:xfrm>
            <a:off x="5059440" y="1787400"/>
            <a:ext cx="4073400" cy="4529160"/>
            <a:chOff x="5059440" y="1787400"/>
            <a:chExt cx="4073400" cy="4529160"/>
          </a:xfrm>
        </p:grpSpPr>
        <p:pic>
          <p:nvPicPr>
            <p:cNvPr id="278" name="Объект 6" descr=""/>
            <p:cNvPicPr/>
            <p:nvPr/>
          </p:nvPicPr>
          <p:blipFill>
            <a:blip r:embed="rId2"/>
            <a:stretch/>
          </p:blipFill>
          <p:spPr>
            <a:xfrm>
              <a:off x="5059440" y="1787400"/>
              <a:ext cx="4073400" cy="45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143320" y="1846080"/>
              <a:ext cx="3874680" cy="43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ервые Песочные часы появились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 III веке до нашей эры, широко использовались ещё древними греками и римлянами.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ве стеклянные колбы соединены узким горлышком, так что песок  проходит от верхней колбы к нижней.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есочные часы в наше время находят применение в церквях для контроля длины проповеди, в лекционных залах университетов, в магазинах ремесленников и медицине.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80" name="Рисунок 1" descr="http://www.cliparthut.com/clip-arts/149/sand-timer-hourglass-149032.jpg"/>
          <p:cNvPicPr/>
          <p:nvPr/>
        </p:nvPicPr>
        <p:blipFill>
          <a:blip r:embed="rId3"/>
          <a:stretch/>
        </p:blipFill>
        <p:spPr>
          <a:xfrm>
            <a:off x="1447920" y="2160720"/>
            <a:ext cx="2643120" cy="3881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Заголовок 1"/>
          <p:cNvGrpSpPr/>
          <p:nvPr/>
        </p:nvGrpSpPr>
        <p:grpSpPr>
          <a:xfrm>
            <a:off x="476280" y="-30240"/>
            <a:ext cx="8764560" cy="1584360"/>
            <a:chOff x="476280" y="-30240"/>
            <a:chExt cx="8764560" cy="1584360"/>
          </a:xfrm>
        </p:grpSpPr>
        <p:pic>
          <p:nvPicPr>
            <p:cNvPr id="28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76280" y="-30240"/>
              <a:ext cx="87645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39640" y="112680"/>
              <a:ext cx="864252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Электронны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84" name=""/>
          <p:cNvSpPr txBox="1"/>
          <p:nvPr/>
        </p:nvSpPr>
        <p:spPr>
          <a:xfrm>
            <a:off x="677880" y="2160360"/>
            <a:ext cx="41832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285" name="Объект 6"/>
          <p:cNvGrpSpPr/>
          <p:nvPr/>
        </p:nvGrpSpPr>
        <p:grpSpPr>
          <a:xfrm>
            <a:off x="5522760" y="1779480"/>
            <a:ext cx="4230360" cy="4605120"/>
            <a:chOff x="5522760" y="1779480"/>
            <a:chExt cx="4230360" cy="4605120"/>
          </a:xfrm>
        </p:grpSpPr>
        <p:pic>
          <p:nvPicPr>
            <p:cNvPr id="286" name="Объект 6" descr=""/>
            <p:cNvPicPr/>
            <p:nvPr/>
          </p:nvPicPr>
          <p:blipFill>
            <a:blip r:embed="rId2"/>
            <a:stretch/>
          </p:blipFill>
          <p:spPr>
            <a:xfrm>
              <a:off x="5522760" y="1779480"/>
              <a:ext cx="4230360" cy="46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761800" y="1889640"/>
              <a:ext cx="3759840" cy="43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ервые часы с цифровой индикацией времени были созданы в 1971 году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ервыми электронными часами были часы на светодиодах, они были изготовлены в золотом корпусе и стоили очень дорого.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остоинством светодиодов является высокая яркость свечения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ветодиодная индикация получила широкое применение в бытовой технике (телевизоры, микроволновые печи, холодильники).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Первые электронные  часы с LCD дисплеем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 были представлены японской компанией Seiko в 1973 году.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88" name="Picture 2" descr="http://i.ucrazy.ru/files/i/2010.9.21/1285066248_1285042574_6.jpg"/>
          <p:cNvPicPr/>
          <p:nvPr/>
        </p:nvPicPr>
        <p:blipFill>
          <a:blip r:embed="rId3"/>
          <a:stretch/>
        </p:blipFill>
        <p:spPr>
          <a:xfrm>
            <a:off x="539640" y="1884240"/>
            <a:ext cx="4753080" cy="4408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Заголовок 1"/>
          <p:cNvGrpSpPr/>
          <p:nvPr/>
        </p:nvGrpSpPr>
        <p:grpSpPr>
          <a:xfrm>
            <a:off x="476280" y="42840"/>
            <a:ext cx="8764560" cy="1384200"/>
            <a:chOff x="476280" y="42840"/>
            <a:chExt cx="8764560" cy="1384200"/>
          </a:xfrm>
        </p:grpSpPr>
        <p:pic>
          <p:nvPicPr>
            <p:cNvPr id="29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76280" y="42840"/>
              <a:ext cx="87645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39640" y="185760"/>
              <a:ext cx="8642520" cy="11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мые маленьки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92" name=""/>
          <p:cNvSpPr txBox="1"/>
          <p:nvPr/>
        </p:nvSpPr>
        <p:spPr>
          <a:xfrm>
            <a:off x="677880" y="2160360"/>
            <a:ext cx="41832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293" name="Объект 6"/>
          <p:cNvGrpSpPr/>
          <p:nvPr/>
        </p:nvGrpSpPr>
        <p:grpSpPr>
          <a:xfrm>
            <a:off x="5230800" y="1700280"/>
            <a:ext cx="4300200" cy="4435560"/>
            <a:chOff x="5230800" y="1700280"/>
            <a:chExt cx="4300200" cy="4435560"/>
          </a:xfrm>
        </p:grpSpPr>
        <p:pic>
          <p:nvPicPr>
            <p:cNvPr id="294" name="Объект 6" descr=""/>
            <p:cNvPicPr/>
            <p:nvPr/>
          </p:nvPicPr>
          <p:blipFill>
            <a:blip r:embed="rId2"/>
            <a:stretch/>
          </p:blipFill>
          <p:spPr>
            <a:xfrm>
              <a:off x="5230800" y="1700280"/>
              <a:ext cx="4300200" cy="44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5489280" y="1817280"/>
              <a:ext cx="3798000" cy="42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мериканский физик Хольгер Мюллер вместе со своими коллегами-учеными (университет в Беркли, Калифорния) создали самые маленькие часы в мире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Маленькие часы сделаны так: атом цезия был разделен на две части, одна из которых двигается вперед и назад, а вторая оказывала на нее влияние.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Такие часы не нашли широкого применения в жизни людей, но вызвали немалый интерес для научного мира.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96" name="Picture 2" descr="Самые маленькие в мире часы состоят из одного атома "/>
          <p:cNvPicPr/>
          <p:nvPr/>
        </p:nvPicPr>
        <p:blipFill>
          <a:blip r:embed="rId3"/>
          <a:stretch/>
        </p:blipFill>
        <p:spPr>
          <a:xfrm>
            <a:off x="677880" y="1817640"/>
            <a:ext cx="4554360" cy="4224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Заголовок 1"/>
          <p:cNvGrpSpPr/>
          <p:nvPr/>
        </p:nvGrpSpPr>
        <p:grpSpPr>
          <a:xfrm>
            <a:off x="476280" y="-30240"/>
            <a:ext cx="8764560" cy="1069920"/>
            <a:chOff x="476280" y="-30240"/>
            <a:chExt cx="8764560" cy="1069920"/>
          </a:xfrm>
        </p:grpSpPr>
        <p:pic>
          <p:nvPicPr>
            <p:cNvPr id="29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76280" y="-30240"/>
              <a:ext cx="8764560" cy="10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39640" y="66240"/>
              <a:ext cx="864252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мые больши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00" name="Объект 6"/>
          <p:cNvGrpSpPr/>
          <p:nvPr/>
        </p:nvGrpSpPr>
        <p:grpSpPr>
          <a:xfrm>
            <a:off x="4622760" y="1060560"/>
            <a:ext cx="4673160" cy="5527080"/>
            <a:chOff x="4622760" y="1060560"/>
            <a:chExt cx="4673160" cy="5527080"/>
          </a:xfrm>
        </p:grpSpPr>
        <p:pic>
          <p:nvPicPr>
            <p:cNvPr id="301" name="Объект 6" descr=""/>
            <p:cNvPicPr/>
            <p:nvPr/>
          </p:nvPicPr>
          <p:blipFill>
            <a:blip r:embed="rId2"/>
            <a:stretch/>
          </p:blipFill>
          <p:spPr>
            <a:xfrm>
              <a:off x="4622760" y="1060560"/>
              <a:ext cx="4673160" cy="55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903560" y="1200600"/>
              <a:ext cx="4119480" cy="52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 Мекке построены самые огромные часы в мире. И это здание победило все рекорды в книге Гинэса.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Разработчиками </a:t>
              </a:r>
              <a:r>
                <a:rPr b="0" lang="ru-RU" sz="1600" spc="-1" strike="noStrike" u="sng">
                  <a:solidFill>
                    <a:srgbClr val="99ca3c"/>
                  </a:solidFill>
                  <a:uFillTx/>
                  <a:latin typeface="Times New Roman"/>
                  <a:hlinkClick r:id="rId3"/>
                </a:rPr>
                <a:t>часов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 стали швейцарские инженеры, которые потратили на создание этого шедевра порядка двух лет.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ысота здания, на котором они расположены, составляет 425 метров.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Размер циферблата — 45 на 43 метра!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лина минутной стрелки составляет 22 м,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часовой — 17 м!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ри этом полный вес конструкции достигает 36 000 тонн!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Циферблат составлен из хрустальной мозаики, состоящей из 90 миллионов фрагментов.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303" name="Рисунок 4" descr="Часы на башне Абраж аль-Баит"/>
          <p:cNvPicPr/>
          <p:nvPr/>
        </p:nvPicPr>
        <p:blipFill>
          <a:blip r:embed="rId4"/>
          <a:stretch/>
        </p:blipFill>
        <p:spPr>
          <a:xfrm>
            <a:off x="531720" y="1144440"/>
            <a:ext cx="4014720" cy="5337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Заголовок 1"/>
          <p:cNvGrpSpPr/>
          <p:nvPr/>
        </p:nvGrpSpPr>
        <p:grpSpPr>
          <a:xfrm>
            <a:off x="476280" y="-30240"/>
            <a:ext cx="8764560" cy="1023840"/>
            <a:chOff x="476280" y="-30240"/>
            <a:chExt cx="8764560" cy="1023840"/>
          </a:xfrm>
        </p:grpSpPr>
        <p:pic>
          <p:nvPicPr>
            <p:cNvPr id="30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76280" y="-30240"/>
              <a:ext cx="8764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39640" y="61920"/>
              <a:ext cx="8642520" cy="8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мые знамениты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07" name="Объект 6"/>
          <p:cNvGrpSpPr/>
          <p:nvPr/>
        </p:nvGrpSpPr>
        <p:grpSpPr>
          <a:xfrm>
            <a:off x="4471920" y="1228680"/>
            <a:ext cx="4804920" cy="5267160"/>
            <a:chOff x="4471920" y="1228680"/>
            <a:chExt cx="4804920" cy="5267160"/>
          </a:xfrm>
        </p:grpSpPr>
        <p:pic>
          <p:nvPicPr>
            <p:cNvPr id="308" name="Объект 6" descr=""/>
            <p:cNvPicPr/>
            <p:nvPr/>
          </p:nvPicPr>
          <p:blipFill>
            <a:blip r:embed="rId2"/>
            <a:stretch/>
          </p:blipFill>
          <p:spPr>
            <a:xfrm>
              <a:off x="4471920" y="1228680"/>
              <a:ext cx="480492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714920" y="1422360"/>
              <a:ext cx="4325040" cy="49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Куранты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- это одни из самых знаменитых часов в мире которые находятся на Спасской башне в Москве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овременные куранты были изготовлены в 1851—1852 годах на русском заводе датских подданных </a:t>
              </a:r>
              <a:r>
                <a:rPr b="0" lang="ru-RU" sz="1400" spc="-1" strike="noStrike" u="sng">
                  <a:solidFill>
                    <a:srgbClr val="99ca3c"/>
                  </a:solidFill>
                  <a:uFillTx/>
                  <a:latin typeface="Times New Roman"/>
                  <a:hlinkClick r:id="rId3"/>
                </a:rPr>
                <a:t>братьев Иоганна (Ивана) и Николая </a:t>
              </a:r>
              <a:r>
                <a:rPr b="0" lang="ru-RU" sz="1400" spc="-1" strike="noStrike" u="sng">
                  <a:solidFill>
                    <a:srgbClr val="99ca3c"/>
                  </a:solidFill>
                  <a:uFillTx/>
                  <a:latin typeface="Times New Roman"/>
                  <a:hlinkClick r:id="rId4"/>
                </a:rPr>
                <a:t>Бутенопов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Знаменитая мелодия колокольного перезвона курантов, которая отмечает наступление каждого часа и четверти, широко известная по всему миру, обусловлена самой конструкцией звонницы Спасской башни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оследнюю крупную реставрацию провели в </a:t>
              </a:r>
              <a:r>
                <a:rPr b="0" lang="ru-RU" sz="1400" spc="-1" strike="noStrike" u="sng">
                  <a:solidFill>
                    <a:srgbClr val="99ca3c"/>
                  </a:solidFill>
                  <a:uFillTx/>
                  <a:latin typeface="Times New Roman"/>
                  <a:hlinkClick r:id="rId5"/>
                </a:rPr>
                <a:t>1999 году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, куранты стали исполнять государственный </a:t>
              </a:r>
              <a:r>
                <a:rPr b="0" lang="ru-RU" sz="1400" spc="-1" strike="noStrike" u="sng">
                  <a:solidFill>
                    <a:srgbClr val="99ca3c"/>
                  </a:solidFill>
                  <a:uFillTx/>
                  <a:latin typeface="Times New Roman"/>
                  <a:hlinkClick r:id="rId6"/>
                </a:rPr>
                <a:t>гимн Российской Федерации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Интересно, что большинство россиян считает, что Новый год наступает с первым или последним ударом колокола. Тогда как на самом деле, новый час, день и год начинаются с началом перезвона курантов</a:t>
              </a:r>
              <a:r>
                <a:rPr b="0" lang="ru-RU" sz="1400" spc="-1" strike="noStrike" u="sng">
                  <a:solidFill>
                    <a:srgbClr val="99ca3c"/>
                  </a:solidFill>
                  <a:uFillTx/>
                  <a:latin typeface="Times New Roman"/>
                  <a:hlinkClick r:id="rId7"/>
                </a:rPr>
                <a:t>[5]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, то есть за 20 секунд до первого удара колокола. А с 12 ударом колокола уже прошла ровно минута Нового года!!!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310" name="Рисунок 2" descr="https://lh6.ggpht.com/bKNEzZNyKHHQO_fiHMMMW3O1R8Dqd7kckfKxMyNTYNXmhYSwJypQf2uHbWvCFLhpolE"/>
          <p:cNvPicPr/>
          <p:nvPr/>
        </p:nvPicPr>
        <p:blipFill>
          <a:blip r:embed="rId8"/>
          <a:stretch/>
        </p:blipFill>
        <p:spPr>
          <a:xfrm>
            <a:off x="650880" y="2152800"/>
            <a:ext cx="3881520" cy="3881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Заголовок 1"/>
          <p:cNvGrpSpPr/>
          <p:nvPr/>
        </p:nvGrpSpPr>
        <p:grpSpPr>
          <a:xfrm>
            <a:off x="431640" y="0"/>
            <a:ext cx="8764560" cy="1006560"/>
            <a:chOff x="431640" y="0"/>
            <a:chExt cx="8764560" cy="1006560"/>
          </a:xfrm>
        </p:grpSpPr>
        <p:pic>
          <p:nvPicPr>
            <p:cNvPr id="31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31640" y="0"/>
              <a:ext cx="87645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95000" y="90720"/>
              <a:ext cx="864252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мые знамениты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14" name="Объект 6"/>
          <p:cNvGrpSpPr/>
          <p:nvPr/>
        </p:nvGrpSpPr>
        <p:grpSpPr>
          <a:xfrm>
            <a:off x="3495600" y="1095480"/>
            <a:ext cx="6065640" cy="5292360"/>
            <a:chOff x="3495600" y="1095480"/>
            <a:chExt cx="6065640" cy="5292360"/>
          </a:xfrm>
        </p:grpSpPr>
        <p:pic>
          <p:nvPicPr>
            <p:cNvPr id="315" name="Объект 6" descr=""/>
            <p:cNvPicPr/>
            <p:nvPr/>
          </p:nvPicPr>
          <p:blipFill>
            <a:blip r:embed="rId2"/>
            <a:stretch/>
          </p:blipFill>
          <p:spPr>
            <a:xfrm>
              <a:off x="3495600" y="1095480"/>
              <a:ext cx="6065640" cy="52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3802320" y="1289880"/>
              <a:ext cx="5459760" cy="49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иг Бен - это очень знаменитые часы в мире, находятся  на Трафальгарской площади в Лондоне. 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Башня Елизаветы (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3"/>
                </a:rPr>
                <a:t>англ.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 ElizabethTower) — часовая башня 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4"/>
                </a:rPr>
                <a:t>Вестминстерского дворца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Биг-Бен (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5"/>
                </a:rPr>
                <a:t>англ.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 BigBen) — название самого большого из пяти колоколов, часто это название относят к часам и Часовой башне в целом.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 момент отливки Биг-Бен был самым большим и тяжёлым (13,7 тонны) колоколом 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6"/>
                </a:rPr>
                <a:t>Соединённого Королевства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читается, что колокол получил имя Биг-Бен (Большой Бен) в честь сэра 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7"/>
                </a:rPr>
                <a:t>Бенджамина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8"/>
                </a:rPr>
                <a:t> Холла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, куратора строительных работ. 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огласно другой версии, он назван в честь 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9"/>
                </a:rPr>
                <a:t>Бенджамина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10"/>
                </a:rPr>
                <a:t> 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11"/>
                </a:rPr>
                <a:t>Каунта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, популярного боксёра в тяжелом весе. 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 2012 года башня переименована в честь королевы Великобритании Елизаветы II и теперь называется "Башня Елизаветы".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Башня возведена по проекту английского архитектора 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12"/>
                </a:rPr>
                <a:t>ОгастесаПьюджина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 в неоготическом стиле в 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13"/>
                </a:rPr>
                <a:t>1859 году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, башенные 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14"/>
                </a:rPr>
                <a:t>часы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запущены 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15"/>
                </a:rPr>
                <a:t>31 мая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16"/>
                </a:rPr>
                <a:t>1859 года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ысота башни, включая шпиль — 96 метров. 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ижняя часть часового механизма располагается на высоте 55 метров. 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Общий вес часового механизма — 5 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17"/>
                </a:rPr>
                <a:t>тонн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Диаметр циферблата — 7 метров.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Длина стрелок — 2,7 и 4,2 метра.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 основании каждого из четырёх циферблатов часов располагается латинская надпись «Domine Salvamfac Reginamnostram Victoriamprimam» («Боже, храни нашу королеву Викторию Первую»).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Башня Елизаветы — один из самых узнаваемых символов Великобритании, часто используемый в сувенирах, рекламе, кинофильмах.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317" name="Рисунок 3" descr="Clock Tower - Palace of Westminster, London - May 2007.jpg"/>
          <p:cNvPicPr/>
          <p:nvPr/>
        </p:nvPicPr>
        <p:blipFill>
          <a:blip r:embed="rId18"/>
          <a:stretch/>
        </p:blipFill>
        <p:spPr>
          <a:xfrm>
            <a:off x="747720" y="1214280"/>
            <a:ext cx="2492280" cy="4962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Заголовок 1"/>
          <p:cNvGrpSpPr/>
          <p:nvPr/>
        </p:nvGrpSpPr>
        <p:grpSpPr>
          <a:xfrm>
            <a:off x="476280" y="60480"/>
            <a:ext cx="8764560" cy="1190520"/>
            <a:chOff x="476280" y="60480"/>
            <a:chExt cx="8764560" cy="1190520"/>
          </a:xfrm>
        </p:grpSpPr>
        <p:pic>
          <p:nvPicPr>
            <p:cNvPr id="31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76280" y="60480"/>
              <a:ext cx="876456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539640" y="184680"/>
              <a:ext cx="86425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мые дороги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21" name="Объект 6"/>
          <p:cNvGrpSpPr/>
          <p:nvPr/>
        </p:nvGrpSpPr>
        <p:grpSpPr>
          <a:xfrm>
            <a:off x="5227560" y="1649520"/>
            <a:ext cx="4135320" cy="4495320"/>
            <a:chOff x="5227560" y="1649520"/>
            <a:chExt cx="4135320" cy="4495320"/>
          </a:xfrm>
        </p:grpSpPr>
        <p:pic>
          <p:nvPicPr>
            <p:cNvPr id="322" name="Объект 6" descr=""/>
            <p:cNvPicPr/>
            <p:nvPr/>
          </p:nvPicPr>
          <p:blipFill>
            <a:blip r:embed="rId2"/>
            <a:stretch/>
          </p:blipFill>
          <p:spPr>
            <a:xfrm>
              <a:off x="5227560" y="1649520"/>
              <a:ext cx="4135320" cy="44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5445360" y="1748520"/>
              <a:ext cx="3708360" cy="42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1 место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– ювелирное изделие от Chopard стоимостью 25.000.000 $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Chopard – это не часы, а уникальное произведение искусства в сочетание с достижениями часового производства.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Часы – браслет, украшены тремя драгоценными камнями в форме сердца – голубым, красным и белым.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бщий вес трех бриллиантов 38 карат, а вес всех камней на часах – браслете достигает 200 карат.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324" name="Рисунок 7" descr="Рейтинг самых дорогих часов в мире"/>
          <p:cNvPicPr/>
          <p:nvPr/>
        </p:nvPicPr>
        <p:blipFill>
          <a:blip r:embed="rId3"/>
          <a:stretch/>
        </p:blipFill>
        <p:spPr>
          <a:xfrm>
            <a:off x="612720" y="2122560"/>
            <a:ext cx="3867120" cy="3867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 rot="10800000">
            <a:off x="1958400" y="3324240"/>
            <a:ext cx="95868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326" name="Заголовок 1"/>
          <p:cNvGrpSpPr/>
          <p:nvPr/>
        </p:nvGrpSpPr>
        <p:grpSpPr>
          <a:xfrm>
            <a:off x="476280" y="60480"/>
            <a:ext cx="8764560" cy="1197000"/>
            <a:chOff x="476280" y="60480"/>
            <a:chExt cx="8764560" cy="1197000"/>
          </a:xfrm>
        </p:grpSpPr>
        <p:pic>
          <p:nvPicPr>
            <p:cNvPr id="32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76280" y="60480"/>
              <a:ext cx="876456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539640" y="185040"/>
              <a:ext cx="8642520" cy="97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ВОД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29" name="Объект 6"/>
          <p:cNvGrpSpPr/>
          <p:nvPr/>
        </p:nvGrpSpPr>
        <p:grpSpPr>
          <a:xfrm>
            <a:off x="487440" y="2004840"/>
            <a:ext cx="8753400" cy="4299120"/>
            <a:chOff x="487440" y="2004840"/>
            <a:chExt cx="8753400" cy="4299120"/>
          </a:xfrm>
        </p:grpSpPr>
        <p:pic>
          <p:nvPicPr>
            <p:cNvPr id="330" name="Объект 6" descr=""/>
            <p:cNvPicPr/>
            <p:nvPr/>
          </p:nvPicPr>
          <p:blipFill>
            <a:blip r:embed="rId2"/>
            <a:stretch/>
          </p:blipFill>
          <p:spPr>
            <a:xfrm>
              <a:off x="487440" y="2004840"/>
              <a:ext cx="8753400" cy="42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677880" y="2095560"/>
              <a:ext cx="8504280" cy="41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Часы это уникальное и нужное изобретения человека.</a:t>
              </a: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Заголовок 1"/>
          <p:cNvGrpSpPr/>
          <p:nvPr/>
        </p:nvGrpSpPr>
        <p:grpSpPr>
          <a:xfrm>
            <a:off x="738360" y="-42840"/>
            <a:ext cx="7948440" cy="1749240"/>
            <a:chOff x="738360" y="-42840"/>
            <a:chExt cx="7948440" cy="1749240"/>
          </a:xfrm>
        </p:grpSpPr>
        <p:pic>
          <p:nvPicPr>
            <p:cNvPr id="21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738360" y="-42840"/>
              <a:ext cx="79484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806400" y="103320"/>
              <a:ext cx="7821720" cy="14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ктуальность выбранной тем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7" name=""/>
          <p:cNvSpPr txBox="1"/>
          <p:nvPr/>
        </p:nvSpPr>
        <p:spPr>
          <a:xfrm>
            <a:off x="838080" y="1825200"/>
            <a:ext cx="34243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218" name="Объект 6"/>
          <p:cNvGrpSpPr/>
          <p:nvPr/>
        </p:nvGrpSpPr>
        <p:grpSpPr>
          <a:xfrm>
            <a:off x="4400640" y="1792440"/>
            <a:ext cx="4432320" cy="4638600"/>
            <a:chOff x="4400640" y="1792440"/>
            <a:chExt cx="4432320" cy="4638600"/>
          </a:xfrm>
        </p:grpSpPr>
        <p:pic>
          <p:nvPicPr>
            <p:cNvPr id="219" name="Объект 6" descr=""/>
            <p:cNvPicPr/>
            <p:nvPr/>
          </p:nvPicPr>
          <p:blipFill>
            <a:blip r:embed="rId2"/>
            <a:stretch/>
          </p:blipFill>
          <p:spPr>
            <a:xfrm>
              <a:off x="4400640" y="1792440"/>
              <a:ext cx="4432320" cy="46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610160" y="1825560"/>
              <a:ext cx="4017960" cy="450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endParaRPr b="0" lang="en-US" sz="3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Я, Мижа Марк, ученик 4 класса А школы №6, считаю что часы – это просто  необходимая вещь в наше время. </a:t>
              </a:r>
              <a:endParaRPr b="0" lang="en-US" sz="3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, надеюсь, многим будет интересно узнать историю их происхождения… </a:t>
              </a:r>
              <a:endParaRPr b="0" lang="en-US" sz="3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21" name="Picture 3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806400" y="1795320"/>
            <a:ext cx="3611520" cy="4567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Заголовок 1"/>
          <p:cNvGrpSpPr/>
          <p:nvPr/>
        </p:nvGrpSpPr>
        <p:grpSpPr>
          <a:xfrm>
            <a:off x="500040" y="166680"/>
            <a:ext cx="8772480" cy="1320840"/>
            <a:chOff x="500040" y="166680"/>
            <a:chExt cx="8772480" cy="1320840"/>
          </a:xfrm>
        </p:grpSpPr>
        <p:pic>
          <p:nvPicPr>
            <p:cNvPr id="22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00040" y="166680"/>
              <a:ext cx="877248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566640" y="284760"/>
              <a:ext cx="8642520" cy="11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Часы в древние времена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677880" y="2160360"/>
            <a:ext cx="41832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226" name="Объект 6"/>
          <p:cNvGrpSpPr/>
          <p:nvPr/>
        </p:nvGrpSpPr>
        <p:grpSpPr>
          <a:xfrm>
            <a:off x="5479920" y="2036880"/>
            <a:ext cx="3988080" cy="4108320"/>
            <a:chOff x="5479920" y="2036880"/>
            <a:chExt cx="3988080" cy="4108320"/>
          </a:xfrm>
        </p:grpSpPr>
        <p:pic>
          <p:nvPicPr>
            <p:cNvPr id="227" name="Объект 6" descr=""/>
            <p:cNvPicPr/>
            <p:nvPr/>
          </p:nvPicPr>
          <p:blipFill>
            <a:blip r:embed="rId2"/>
            <a:stretch/>
          </p:blipFill>
          <p:spPr>
            <a:xfrm>
              <a:off x="5479920" y="2036880"/>
              <a:ext cx="3988080" cy="41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640480" y="2111400"/>
              <a:ext cx="3670200" cy="39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лово «Часы» появилось еще в 14 веке, в переводе с латыни означало «звонок»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ревние люди умели определять время по нахождению солнца в части небосклона: на восходе – утро, посередине – полдень, закат – вечер…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29" name="Picture 4" descr="http://kostyukovichi.ru/prochee/drevnostt/image002.jpg"/>
          <p:cNvPicPr/>
          <p:nvPr/>
        </p:nvPicPr>
        <p:blipFill>
          <a:blip r:embed="rId3"/>
          <a:stretch/>
        </p:blipFill>
        <p:spPr>
          <a:xfrm>
            <a:off x="677880" y="2097000"/>
            <a:ext cx="4849920" cy="394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Заголовок 1"/>
          <p:cNvGrpSpPr/>
          <p:nvPr/>
        </p:nvGrpSpPr>
        <p:grpSpPr>
          <a:xfrm>
            <a:off x="328680" y="128520"/>
            <a:ext cx="9107280" cy="1322280"/>
            <a:chOff x="328680" y="128520"/>
            <a:chExt cx="9107280" cy="1322280"/>
          </a:xfrm>
        </p:grpSpPr>
        <p:pic>
          <p:nvPicPr>
            <p:cNvPr id="23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28680" y="128520"/>
              <a:ext cx="91072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398520" y="268200"/>
              <a:ext cx="89773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ервы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33" name="Picture 2" descr="http://www.russarabbc.ru/upload/iblock/256/10900.jpg"/>
          <p:cNvPicPr/>
          <p:nvPr/>
        </p:nvPicPr>
        <p:blipFill>
          <a:blip r:embed="rId2"/>
          <a:stretch/>
        </p:blipFill>
        <p:spPr>
          <a:xfrm>
            <a:off x="341280" y="2014560"/>
            <a:ext cx="5807160" cy="3863880"/>
          </a:xfrm>
          <a:prstGeom prst="rect">
            <a:avLst/>
          </a:prstGeom>
          <a:ln w="0">
            <a:noFill/>
          </a:ln>
        </p:spPr>
      </p:pic>
      <p:grpSp>
        <p:nvGrpSpPr>
          <p:cNvPr id="234" name="Объект 6"/>
          <p:cNvGrpSpPr/>
          <p:nvPr/>
        </p:nvGrpSpPr>
        <p:grpSpPr>
          <a:xfrm>
            <a:off x="6199200" y="1895400"/>
            <a:ext cx="3414600" cy="4084560"/>
            <a:chOff x="6199200" y="1895400"/>
            <a:chExt cx="3414600" cy="4084560"/>
          </a:xfrm>
        </p:grpSpPr>
        <p:pic>
          <p:nvPicPr>
            <p:cNvPr id="235" name="Объект 6" descr=""/>
            <p:cNvPicPr/>
            <p:nvPr/>
          </p:nvPicPr>
          <p:blipFill>
            <a:blip r:embed="rId3"/>
            <a:stretch/>
          </p:blipFill>
          <p:spPr>
            <a:xfrm>
              <a:off x="6199200" y="1895400"/>
              <a:ext cx="3414600" cy="40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327720" y="2014560"/>
              <a:ext cx="316404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мые первые в мире часы это солнечные часы - Гномон.    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х начали применять еще в 3500 году до нашей эры.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ремя определяли по тени от солнца, ставилась палка, от которой падала тень. Пользоваться такими часами можно было только в светлое время суток.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Заголовок 1"/>
          <p:cNvGrpSpPr/>
          <p:nvPr/>
        </p:nvGrpSpPr>
        <p:grpSpPr>
          <a:xfrm>
            <a:off x="390600" y="49320"/>
            <a:ext cx="9015480" cy="1130040"/>
            <a:chOff x="390600" y="49320"/>
            <a:chExt cx="9015480" cy="1130040"/>
          </a:xfrm>
        </p:grpSpPr>
        <p:pic>
          <p:nvPicPr>
            <p:cNvPr id="23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0600" y="49320"/>
              <a:ext cx="90154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458640" y="152280"/>
              <a:ext cx="888840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одяны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677880" y="2160360"/>
            <a:ext cx="41832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241" name="Объект 6"/>
          <p:cNvGrpSpPr/>
          <p:nvPr/>
        </p:nvGrpSpPr>
        <p:grpSpPr>
          <a:xfrm>
            <a:off x="5934240" y="1389240"/>
            <a:ext cx="3538440" cy="4679280"/>
            <a:chOff x="5934240" y="1389240"/>
            <a:chExt cx="3538440" cy="4679280"/>
          </a:xfrm>
        </p:grpSpPr>
        <p:pic>
          <p:nvPicPr>
            <p:cNvPr id="242" name="Объект 6" descr=""/>
            <p:cNvPicPr/>
            <p:nvPr/>
          </p:nvPicPr>
          <p:blipFill>
            <a:blip r:embed="rId2"/>
            <a:stretch/>
          </p:blipFill>
          <p:spPr>
            <a:xfrm>
              <a:off x="5934240" y="1389240"/>
              <a:ext cx="3538440" cy="46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098400" y="1517760"/>
              <a:ext cx="3255840" cy="444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 1400 году до нашей эры появились водяные часы в Древнем Египте. 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х первое название </a:t>
              </a:r>
              <a:r>
                <a:rPr b="1" i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лепсирда.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ни были сделаны из двух емкостей с водой, установленных  на разном уровне. Емкости соединяла труба по которой перетекала вода. На емкостях стояли мерки, по которым определяли время.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Эти часы пользовались успехом в Греции. 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44" name="Picture 2" descr="https://fs00.infourok.ru/images/doc/204/232421/img8.jpg"/>
          <p:cNvPicPr/>
          <p:nvPr/>
        </p:nvPicPr>
        <p:blipFill>
          <a:blip r:embed="rId3"/>
          <a:stretch/>
        </p:blipFill>
        <p:spPr>
          <a:xfrm>
            <a:off x="449280" y="1630440"/>
            <a:ext cx="5373720" cy="4281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Заголовок 1"/>
          <p:cNvGrpSpPr/>
          <p:nvPr/>
        </p:nvGrpSpPr>
        <p:grpSpPr>
          <a:xfrm>
            <a:off x="384120" y="55440"/>
            <a:ext cx="9041040" cy="1425600"/>
            <a:chOff x="384120" y="55440"/>
            <a:chExt cx="9041040" cy="1425600"/>
          </a:xfrm>
        </p:grpSpPr>
        <p:pic>
          <p:nvPicPr>
            <p:cNvPr id="24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84120" y="55440"/>
              <a:ext cx="90410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53960" y="200160"/>
              <a:ext cx="8907480" cy="11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аятниковы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48" name="Объект 6"/>
          <p:cNvGrpSpPr/>
          <p:nvPr/>
        </p:nvGrpSpPr>
        <p:grpSpPr>
          <a:xfrm>
            <a:off x="6211800" y="1736640"/>
            <a:ext cx="3578400" cy="4230720"/>
            <a:chOff x="6211800" y="1736640"/>
            <a:chExt cx="3578400" cy="4230720"/>
          </a:xfrm>
        </p:grpSpPr>
        <p:pic>
          <p:nvPicPr>
            <p:cNvPr id="249" name="Объект 6" descr=""/>
            <p:cNvPicPr/>
            <p:nvPr/>
          </p:nvPicPr>
          <p:blipFill>
            <a:blip r:embed="rId2"/>
            <a:stretch/>
          </p:blipFill>
          <p:spPr>
            <a:xfrm>
              <a:off x="6211800" y="1736640"/>
              <a:ext cx="357840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342120" y="1857240"/>
              <a:ext cx="3324240" cy="40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мые первые часы с минутной стрелкой появились в 1577 году. 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иболее точные часы были маятниковые.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олодому ученому Галилео Галилею принадлежала идея создать часы с регулятором нового типа - маятником. 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ервые маятниковые часы были созданы уже после его смерти его сыном  в конце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6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ка.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51" name="Picture 2" descr="http://11801.multivps.ru/k/5652.jpg"/>
          <p:cNvPicPr/>
          <p:nvPr/>
        </p:nvPicPr>
        <p:blipFill>
          <a:blip r:embed="rId3"/>
          <a:stretch/>
        </p:blipFill>
        <p:spPr>
          <a:xfrm>
            <a:off x="352440" y="1857240"/>
            <a:ext cx="5824440" cy="3934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Заголовок 1"/>
          <p:cNvGrpSpPr/>
          <p:nvPr/>
        </p:nvGrpSpPr>
        <p:grpSpPr>
          <a:xfrm>
            <a:off x="476280" y="-30240"/>
            <a:ext cx="8764560" cy="1633680"/>
            <a:chOff x="476280" y="-30240"/>
            <a:chExt cx="8764560" cy="1633680"/>
          </a:xfrm>
        </p:grpSpPr>
        <p:pic>
          <p:nvPicPr>
            <p:cNvPr id="25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76280" y="-30240"/>
              <a:ext cx="8764560" cy="16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39640" y="112680"/>
              <a:ext cx="864252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ервые наручные и карманны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55" name=""/>
          <p:cNvSpPr txBox="1"/>
          <p:nvPr/>
        </p:nvSpPr>
        <p:spPr>
          <a:xfrm>
            <a:off x="2046240" y="2160720"/>
            <a:ext cx="682560" cy="5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256" name="Объект 6"/>
          <p:cNvGrpSpPr/>
          <p:nvPr/>
        </p:nvGrpSpPr>
        <p:grpSpPr>
          <a:xfrm>
            <a:off x="5010120" y="1798560"/>
            <a:ext cx="4621320" cy="4260960"/>
            <a:chOff x="5010120" y="1798560"/>
            <a:chExt cx="4621320" cy="4260960"/>
          </a:xfrm>
        </p:grpSpPr>
        <p:pic>
          <p:nvPicPr>
            <p:cNvPr id="257" name="Объект 6" descr=""/>
            <p:cNvPicPr/>
            <p:nvPr/>
          </p:nvPicPr>
          <p:blipFill>
            <a:blip r:embed="rId2"/>
            <a:stretch/>
          </p:blipFill>
          <p:spPr>
            <a:xfrm>
              <a:off x="5010120" y="1798560"/>
              <a:ext cx="4621320" cy="42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5126040" y="1859040"/>
              <a:ext cx="4397400" cy="40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 1507 году в  Германии появились наручные часы и крепились к руке с помощью нитки. Они были изобретены Робертом Дадли и графом Лестером. В основном их использовали женщины, как украшение.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ервые карманные часы появились в 1500 году после изобретения заводной  часовым мастером  Нюренбергом Петером Генлейной, но они были не очень точные.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Только в 17 веке  карманные часы карманные часы из модной, дорогой и бесполезной игрушки превратились в точный и функциональный предмет.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59" name="Picture 2" descr="карманные часы"/>
          <p:cNvPicPr/>
          <p:nvPr/>
        </p:nvPicPr>
        <p:blipFill>
          <a:blip r:embed="rId3"/>
          <a:stretch/>
        </p:blipFill>
        <p:spPr>
          <a:xfrm>
            <a:off x="493560" y="1944720"/>
            <a:ext cx="4324680" cy="3459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Заголовок 1"/>
          <p:cNvGrpSpPr/>
          <p:nvPr/>
        </p:nvGrpSpPr>
        <p:grpSpPr>
          <a:xfrm>
            <a:off x="476280" y="-30240"/>
            <a:ext cx="8764560" cy="1584360"/>
            <a:chOff x="476280" y="-30240"/>
            <a:chExt cx="8764560" cy="1584360"/>
          </a:xfrm>
        </p:grpSpPr>
        <p:pic>
          <p:nvPicPr>
            <p:cNvPr id="26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76280" y="-30240"/>
              <a:ext cx="87645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39640" y="112680"/>
              <a:ext cx="864252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варцевы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63" name="Объект 6"/>
          <p:cNvGrpSpPr/>
          <p:nvPr/>
        </p:nvGrpSpPr>
        <p:grpSpPr>
          <a:xfrm>
            <a:off x="4900680" y="1938240"/>
            <a:ext cx="4554360" cy="4078440"/>
            <a:chOff x="4900680" y="1938240"/>
            <a:chExt cx="4554360" cy="4078440"/>
          </a:xfrm>
        </p:grpSpPr>
        <p:pic>
          <p:nvPicPr>
            <p:cNvPr id="264" name="Объект 6" descr=""/>
            <p:cNvPicPr/>
            <p:nvPr/>
          </p:nvPicPr>
          <p:blipFill>
            <a:blip r:embed="rId2"/>
            <a:stretch/>
          </p:blipFill>
          <p:spPr>
            <a:xfrm>
              <a:off x="4900680" y="1938240"/>
              <a:ext cx="4554360" cy="407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089680" y="2030400"/>
              <a:ext cx="4184640" cy="38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 1957 году были изобретены кварцевые часы. Их изобрела компания 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milton.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варцевые часы - часы, в которых в качестве колебательной системы применяется кристалл кварца, обеспечивая </a:t>
              </a:r>
              <a:r>
                <a:rPr b="1" lang="ru-RU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сокую точность</a:t>
              </a: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хода,  из-за которого часы и получили свое название.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66" name="Picture 2" descr="http://gimn6.ru/hpages/134/image/Kvarc.jpg"/>
          <p:cNvPicPr/>
          <p:nvPr/>
        </p:nvPicPr>
        <p:blipFill>
          <a:blip r:embed="rId3"/>
          <a:stretch/>
        </p:blipFill>
        <p:spPr>
          <a:xfrm>
            <a:off x="690480" y="1935000"/>
            <a:ext cx="4113360" cy="4113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Заголовок 1"/>
          <p:cNvGrpSpPr/>
          <p:nvPr/>
        </p:nvGrpSpPr>
        <p:grpSpPr>
          <a:xfrm>
            <a:off x="476280" y="65160"/>
            <a:ext cx="8764560" cy="1282680"/>
            <a:chOff x="476280" y="65160"/>
            <a:chExt cx="8764560" cy="1282680"/>
          </a:xfrm>
        </p:grpSpPr>
        <p:pic>
          <p:nvPicPr>
            <p:cNvPr id="26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76280" y="65160"/>
              <a:ext cx="876456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39640" y="180720"/>
              <a:ext cx="8642520" cy="108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еханически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70" name="Объект 6"/>
          <p:cNvGrpSpPr/>
          <p:nvPr/>
        </p:nvGrpSpPr>
        <p:grpSpPr>
          <a:xfrm>
            <a:off x="5827680" y="1633680"/>
            <a:ext cx="3541680" cy="4386240"/>
            <a:chOff x="5827680" y="1633680"/>
            <a:chExt cx="3541680" cy="4386240"/>
          </a:xfrm>
        </p:grpSpPr>
        <p:pic>
          <p:nvPicPr>
            <p:cNvPr id="271" name="Объект 6" descr=""/>
            <p:cNvPicPr/>
            <p:nvPr/>
          </p:nvPicPr>
          <p:blipFill>
            <a:blip r:embed="rId2"/>
            <a:stretch/>
          </p:blipFill>
          <p:spPr>
            <a:xfrm>
              <a:off x="5827680" y="1633680"/>
              <a:ext cx="354168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994360" y="1765440"/>
              <a:ext cx="3214800" cy="41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 14 веке появились первые механические часы со шпиндельным спуском.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коло 1510 года нюрнбергский механик П.Хенлейн впервые применил вместо гирь стальную пружину и создал механические  часы со шпиндельным механизмом.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 данный момент самые старейшие механические башенные часы Европы находятся в Гродно, Беларусия.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ни работают уже более 500 лет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73" name="Picture 2" descr="http://img-fotki.yandex.ru/get/4708/54776248.5c/0_6cb80_64a28c4f_XL"/>
          <p:cNvPicPr/>
          <p:nvPr/>
        </p:nvPicPr>
        <p:blipFill>
          <a:blip r:embed="rId3"/>
          <a:stretch/>
        </p:blipFill>
        <p:spPr>
          <a:xfrm>
            <a:off x="539640" y="1817640"/>
            <a:ext cx="5045040" cy="407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5T10:22:21Z</dcterms:created>
  <dc:creator>Home</dc:creator>
  <dc:description/>
  <dc:language>en-US</dc:language>
  <cp:lastModifiedBy>Admin</cp:lastModifiedBy>
  <dcterms:modified xsi:type="dcterms:W3CDTF">2016-11-07T12:27:32Z</dcterms:modified>
  <cp:revision>68</cp:revision>
  <dc:subject/>
  <dc:title>ПРОЕКТ</dc:title>
</cp:coreProperties>
</file>