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3.jpeg" ContentType="image/jpeg"/>
  <Override PartName="/ppt/media/image22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35.png" ContentType="image/png"/>
  <Override PartName="/ppt/media/image5.png" ContentType="image/png"/>
  <Override PartName="/ppt/media/image7.png" ContentType="image/png"/>
  <Override PartName="/ppt/media/image36.png" ContentType="image/png"/>
  <Override PartName="/ppt/media/image1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B99-AABB-494F-8BE1-79902204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C3F7-5BD7-4B9B-981B-0EAACEF9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0AB-2583-4B13-8003-22978328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4A9-C2B1-49BA-A731-3DA17E20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2D80-DFC2-4B2B-B9F7-106C56FD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DF27-4899-4DA2-B7FF-C537C098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CCBF-819D-4BDF-A56B-EA9302B5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6A45-149E-4CF5-932E-0D3748EF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0C41-B006-4956-AA8C-9DB13C56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EFFC-6A5B-4331-B6AC-4D287ECD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F11B-B9E1-4C60-A8AD-62410618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645-328B-404B-A945-79F2B909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6A51-9A59-4857-9F04-50762706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0B55-1A44-4C74-8C1F-6410018B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814B-84D0-4F09-8132-9AF2E3F5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EDC0-1944-4F25-98EB-851F1735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928A-51CA-4B08-A4B9-71B9BD16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BA3A8-63F7-4416-AB45-DB63A3A3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1D20C-01C1-4E65-902D-0CA584B8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20AC6-1489-496E-9061-5DE0B7F0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982A4-2412-4410-AB0B-B174177F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8DC2F-DF2E-4E83-9220-7E5606A9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0DA-DF19-4D23-9EF7-6499A8D4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9D28B-C97E-454D-8421-1F1E623B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735FF-00D7-4AB6-BD0D-E3DD9666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6A959-0DB0-44B1-9F5F-D85632B9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334C1-E79A-4161-971A-C3CF86B3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3526E-41CF-4EC0-A51F-E4AC5BFD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18770-01E2-44ED-817B-0106C899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8DAF1-3EBD-4C84-9C11-A20D89D9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D9D4D-4953-4B7C-96FC-916C66D0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E8F45-0EA4-4156-9D6C-85041B8D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9DCBC-4496-4A29-B847-5B9EAD47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AD8F-2A68-4390-83B5-6E126544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A4EB9-6399-4D1D-BC45-C2405484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8C6DA-C62B-47BD-AB59-0C951E88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CBC57-DA67-4B57-8233-2E47CDED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A7A35-0A65-4719-AB2F-6B28C7C3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B1FE6-B630-46EA-A51F-BE978A79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E2074-4CF2-4D37-BEE6-132DB723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1E265-AA27-4FE0-998D-8C77D7C4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ED189-27A8-4D50-8B12-10568EDA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7CB4F-9945-4DC4-83ED-2B242508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402-8381-49F2-AB01-7C53720C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469-9D0A-4759-9F3F-173BCAA3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5A65-94CB-45B7-9A21-638D267A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3DA3-81A9-4829-9A01-DA74EBEC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87F9-1DB6-468B-88C6-658885CA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6AF0-804E-49F3-8F2A-BFC68F4E83E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3413-CF58-49C1-A1F1-17A7A3D7ECE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2E25-DD06-40D5-B192-DC3B162016D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6DE2-BFB9-43FA-A6C7-06699626C3B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2.png"/><Relationship Id="rId3" Type="http://schemas.openxmlformats.org/officeDocument/2006/relationships/hyperlink" Target="http://samie-samie.ru/samye-dorogie-chasy-v-mire/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4.png"/><Relationship Id="rId3" Type="http://schemas.openxmlformats.org/officeDocument/2006/relationships/hyperlink" Target="https://ru.wikipedia.org/wiki/&#1041;&#1091;&#1090;&#1077;&#1085;&#1086;&#1087;&#1099;" TargetMode="External"/><Relationship Id="rId4" Type="http://schemas.openxmlformats.org/officeDocument/2006/relationships/hyperlink" Target="https://ru.wikipedia.org/wiki/&#1041;&#1091;&#1090;&#1077;&#1085;&#1086;&#1087;&#1099;" TargetMode="External"/><Relationship Id="rId5" Type="http://schemas.openxmlformats.org/officeDocument/2006/relationships/hyperlink" Target="https://ru.wikipedia.org/wiki/1999_&#1075;&#1086;&#1076;" TargetMode="External"/><Relationship Id="rId6" Type="http://schemas.openxmlformats.org/officeDocument/2006/relationships/hyperlink" Target="https://ru.wikipedia.org/wiki/&#1043;&#1080;&#1084;&#1085;_&#1056;&#1086;&#1089;&#1089;&#1080;&#1080;" TargetMode="External"/><Relationship Id="rId7" Type="http://schemas.openxmlformats.org/officeDocument/2006/relationships/hyperlink" Target="https://ru.wikipedia.org/wiki/&#1063;&#1072;&#1089;&#1099;_&#1085;&#1072;_&#1057;&#1087;&#1072;&#1089;&#1089;&#1082;&#1086;&#1081;_&#1073;&#1072;&#1096;&#1085;&#1077;#cite_note-5" TargetMode="External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6.png"/><Relationship Id="rId3" Type="http://schemas.openxmlformats.org/officeDocument/2006/relationships/hyperlink" Target="https://ru.wikipedia.org/wiki/&#1040;&#1085;&#1075;&#1083;&#1080;&#1081;&#1089;&#1082;&#1080;&#1081;_&#1103;&#1079;&#1099;&#1082;" TargetMode="External"/><Relationship Id="rId4" Type="http://schemas.openxmlformats.org/officeDocument/2006/relationships/hyperlink" Target="https://ru.wikipedia.org/wiki/&#1042;&#1077;&#1089;&#1090;&#1084;&#1080;&#1085;&#1089;&#1090;&#1077;&#1088;&#1089;&#1082;&#1080;&#1081;_&#1076;&#1074;&#1086;&#1088;&#1077;&#1094;" TargetMode="External"/><Relationship Id="rId5" Type="http://schemas.openxmlformats.org/officeDocument/2006/relationships/hyperlink" Target="https://ru.wikipedia.org/wiki/&#1040;&#1085;&#1075;&#1083;&#1080;&#1081;&#1089;&#1082;&#1080;&#1081;_&#1103;&#1079;&#1099;&#1082;" TargetMode="External"/><Relationship Id="rId6" Type="http://schemas.openxmlformats.org/officeDocument/2006/relationships/hyperlink" Target="https://ru.wikipedia.org/wiki/&#1042;&#1077;&#1083;&#1080;&#1082;&#1086;&#1073;&#1088;&#1080;&#1090;&#1072;&#1085;&#1080;&#1103;" TargetMode="External"/><Relationship Id="rId7" Type="http://schemas.openxmlformats.org/officeDocument/2006/relationships/hyperlink" Target="https://ru.wikipedia.org/wiki/&#1061;&#1086;&#1083;&#1083;,_&#1041;&#1077;&#1085;&#1076;&#1078;&#1072;&#1084;&#1080;&#1085;_(&#1087;&#1086;&#1083;&#1080;&#1090;&#1080;&#1082;)" TargetMode="External"/><Relationship Id="rId8" Type="http://schemas.openxmlformats.org/officeDocument/2006/relationships/hyperlink" Target="https://ru.wikipedia.org/wiki/&#1061;&#1086;&#1083;&#1083;,_&#1041;&#1077;&#1085;&#1076;&#1078;&#1072;&#1084;&#1080;&#1085;_(&#1087;&#1086;&#1083;&#1080;&#1090;&#1080;&#1082;)" TargetMode="External"/><Relationship Id="rId9" Type="http://schemas.openxmlformats.org/officeDocument/2006/relationships/hyperlink" Target="https://en.wikipedia.org/wiki/Ben_Caunt" TargetMode="External"/><Relationship Id="rId10" Type="http://schemas.openxmlformats.org/officeDocument/2006/relationships/hyperlink" Target="https://en.wikipedia.org/wiki/Ben_Caunt" TargetMode="External"/><Relationship Id="rId11" Type="http://schemas.openxmlformats.org/officeDocument/2006/relationships/hyperlink" Target="https://en.wikipedia.org/wiki/Ben_Caunt" TargetMode="External"/><Relationship Id="rId12" Type="http://schemas.openxmlformats.org/officeDocument/2006/relationships/hyperlink" Target="https://ru.wikipedia.org/wiki/&#1055;&#1100;&#1102;&#1076;&#1078;&#1080;&#1085;,_&#1054;&#1075;&#1072;&#1089;&#1090;&#1077;&#1089;_&#1059;&#1101;&#1083;&#1073;&#1080;_&#1053;&#1086;&#1088;&#1090;&#1084;&#1086;&#1088;" TargetMode="External"/><Relationship Id="rId13" Type="http://schemas.openxmlformats.org/officeDocument/2006/relationships/hyperlink" Target="https://ru.wikipedia.org/wiki/1859_&#1075;&#1086;&#1076;" TargetMode="External"/><Relationship Id="rId14" Type="http://schemas.openxmlformats.org/officeDocument/2006/relationships/hyperlink" Target="https://ru.wikipedia.org/wiki/&#1063;&#1072;&#1089;&#1099;" TargetMode="External"/><Relationship Id="rId15" Type="http://schemas.openxmlformats.org/officeDocument/2006/relationships/hyperlink" Target="https://ru.wikipedia.org/wiki/31_&#1084;&#1072;&#1103;" TargetMode="External"/><Relationship Id="rId16" Type="http://schemas.openxmlformats.org/officeDocument/2006/relationships/hyperlink" Target="https://ru.wikipedia.org/wiki/1859_&#1075;&#1086;&#1076;" TargetMode="External"/><Relationship Id="rId17" Type="http://schemas.openxmlformats.org/officeDocument/2006/relationships/hyperlink" Target="https://ru.wikipedia.org/wiki/&#1058;&#1086;&#1085;&#1085;&#1072;" TargetMode="External"/><Relationship Id="rId18" Type="http://schemas.openxmlformats.org/officeDocument/2006/relationships/image" Target="../media/image37.jpeg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ПРОЕКТ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История происхождения часов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Заголовок 1"/>
          <p:cNvGrpSpPr/>
          <p:nvPr/>
        </p:nvGrpSpPr>
        <p:grpSpPr>
          <a:xfrm>
            <a:off x="476280" y="133200"/>
            <a:ext cx="8764560" cy="1202040"/>
            <a:chOff x="476280" y="133200"/>
            <a:chExt cx="8764560" cy="1202040"/>
          </a:xfrm>
        </p:grpSpPr>
        <p:pic>
          <p:nvPicPr>
            <p:cNvPr id="27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133200"/>
              <a:ext cx="8764560" cy="12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539640" y="265320"/>
              <a:ext cx="864252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сочны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77" name="Объект 6"/>
          <p:cNvGrpSpPr/>
          <p:nvPr/>
        </p:nvGrpSpPr>
        <p:grpSpPr>
          <a:xfrm>
            <a:off x="5059440" y="1787400"/>
            <a:ext cx="4073400" cy="4529160"/>
            <a:chOff x="5059440" y="1787400"/>
            <a:chExt cx="4073400" cy="4529160"/>
          </a:xfrm>
        </p:grpSpPr>
        <p:pic>
          <p:nvPicPr>
            <p:cNvPr id="278" name="Объект 6" descr=""/>
            <p:cNvPicPr/>
            <p:nvPr/>
          </p:nvPicPr>
          <p:blipFill>
            <a:blip r:embed="rId2"/>
            <a:stretch/>
          </p:blipFill>
          <p:spPr>
            <a:xfrm>
              <a:off x="5059440" y="1787400"/>
              <a:ext cx="4073400" cy="45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143320" y="1846080"/>
              <a:ext cx="3874680" cy="43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рвые Песочные часы появились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 III веке до нашей эры, широко использовались ещё древними греками и римлянами.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ве стеклянные колбы соединены узким горлышком, так что песок  проходит от верхней колбы к нижней.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1001"/>
                </a:spcBef>
                <a:buClr>
                  <a:srgbClr val="90c226"/>
                </a:buClr>
                <a:buSzPct val="80000"/>
                <a:buFont typeface="Wingdings 3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сочные часы в наше время находят применение в церквях для контроля длины проповеди, в лекционных залах университетов, в магазинах ремесленников и медицине.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80" name="Рисунок 1" descr="http://www.cliparthut.com/clip-arts/149/sand-timer-hourglass-149032.jpg"/>
          <p:cNvPicPr/>
          <p:nvPr/>
        </p:nvPicPr>
        <p:blipFill>
          <a:blip r:embed="rId3"/>
          <a:stretch/>
        </p:blipFill>
        <p:spPr>
          <a:xfrm>
            <a:off x="1447920" y="2160720"/>
            <a:ext cx="2643120" cy="3881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Заголовок 1"/>
          <p:cNvGrpSpPr/>
          <p:nvPr/>
        </p:nvGrpSpPr>
        <p:grpSpPr>
          <a:xfrm>
            <a:off x="476280" y="-30240"/>
            <a:ext cx="8764560" cy="1584360"/>
            <a:chOff x="476280" y="-30240"/>
            <a:chExt cx="8764560" cy="1584360"/>
          </a:xfrm>
        </p:grpSpPr>
        <p:pic>
          <p:nvPicPr>
            <p:cNvPr id="28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-30240"/>
              <a:ext cx="87645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39640" y="112680"/>
              <a:ext cx="864252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Электронны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84" name=""/>
          <p:cNvSpPr txBox="1"/>
          <p:nvPr/>
        </p:nvSpPr>
        <p:spPr>
          <a:xfrm>
            <a:off x="677880" y="2160360"/>
            <a:ext cx="4183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285" name="Объект 6"/>
          <p:cNvGrpSpPr/>
          <p:nvPr/>
        </p:nvGrpSpPr>
        <p:grpSpPr>
          <a:xfrm>
            <a:off x="5522760" y="1779480"/>
            <a:ext cx="4230360" cy="4605120"/>
            <a:chOff x="5522760" y="1779480"/>
            <a:chExt cx="4230360" cy="4605120"/>
          </a:xfrm>
        </p:grpSpPr>
        <p:pic>
          <p:nvPicPr>
            <p:cNvPr id="286" name="Объект 6" descr=""/>
            <p:cNvPicPr/>
            <p:nvPr/>
          </p:nvPicPr>
          <p:blipFill>
            <a:blip r:embed="rId2"/>
            <a:stretch/>
          </p:blipFill>
          <p:spPr>
            <a:xfrm>
              <a:off x="5522760" y="1779480"/>
              <a:ext cx="4230360" cy="46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761800" y="1889640"/>
              <a:ext cx="3759840" cy="43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ервые часы с цифровой индикацией времени были созданы в 1971 году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ервыми электронными часами были часы на светодиодах, они были изготовлены в золотом корпусе и стоили очень дорого.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остоинством светодиодов является высокая яркость свечения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ветодиодная индикация получила широкое применение в бытовой технике (телевизоры, микроволновые печи, холодильники).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Первые электронные  часы с LCD дисплеем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 были представлены японской компанией Seiko в 1973 году.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88" name="Picture 2" descr="http://i.ucrazy.ru/files/i/2010.9.21/1285066248_1285042574_6.jpg"/>
          <p:cNvPicPr/>
          <p:nvPr/>
        </p:nvPicPr>
        <p:blipFill>
          <a:blip r:embed="rId3"/>
          <a:stretch/>
        </p:blipFill>
        <p:spPr>
          <a:xfrm>
            <a:off x="539640" y="1884240"/>
            <a:ext cx="4753080" cy="4408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Заголовок 1"/>
          <p:cNvGrpSpPr/>
          <p:nvPr/>
        </p:nvGrpSpPr>
        <p:grpSpPr>
          <a:xfrm>
            <a:off x="476280" y="42840"/>
            <a:ext cx="8764560" cy="1384200"/>
            <a:chOff x="476280" y="42840"/>
            <a:chExt cx="8764560" cy="1384200"/>
          </a:xfrm>
        </p:grpSpPr>
        <p:pic>
          <p:nvPicPr>
            <p:cNvPr id="29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42840"/>
              <a:ext cx="87645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39640" y="185760"/>
              <a:ext cx="8642520" cy="11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мые маленьки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92" name=""/>
          <p:cNvSpPr txBox="1"/>
          <p:nvPr/>
        </p:nvSpPr>
        <p:spPr>
          <a:xfrm>
            <a:off x="677880" y="2160360"/>
            <a:ext cx="4183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293" name="Объект 6"/>
          <p:cNvGrpSpPr/>
          <p:nvPr/>
        </p:nvGrpSpPr>
        <p:grpSpPr>
          <a:xfrm>
            <a:off x="5230800" y="1700280"/>
            <a:ext cx="4300200" cy="4435560"/>
            <a:chOff x="5230800" y="1700280"/>
            <a:chExt cx="4300200" cy="4435560"/>
          </a:xfrm>
        </p:grpSpPr>
        <p:pic>
          <p:nvPicPr>
            <p:cNvPr id="294" name="Объект 6" descr=""/>
            <p:cNvPicPr/>
            <p:nvPr/>
          </p:nvPicPr>
          <p:blipFill>
            <a:blip r:embed="rId2"/>
            <a:stretch/>
          </p:blipFill>
          <p:spPr>
            <a:xfrm>
              <a:off x="5230800" y="1700280"/>
              <a:ext cx="4300200" cy="44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5489280" y="1817280"/>
              <a:ext cx="3798000" cy="42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мериканский физик Хольгер Мюллер вместе со своими коллегами-учеными (университет в Беркли, Калифорния) создали самые маленькие часы в мире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Маленькие часы сделаны так: атом цезия был разделен на две части, одна из которых двигается вперед и назад, а вторая оказывала на нее влияние.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Такие часы не нашли широкого применения в жизни людей, но вызвали немалый интерес для научного мира.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96" name="Picture 2" descr="Самые маленькие в мире часы состоят из одного атома "/>
          <p:cNvPicPr/>
          <p:nvPr/>
        </p:nvPicPr>
        <p:blipFill>
          <a:blip r:embed="rId3"/>
          <a:stretch/>
        </p:blipFill>
        <p:spPr>
          <a:xfrm>
            <a:off x="677880" y="1817640"/>
            <a:ext cx="4554360" cy="422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Заголовок 1"/>
          <p:cNvGrpSpPr/>
          <p:nvPr/>
        </p:nvGrpSpPr>
        <p:grpSpPr>
          <a:xfrm>
            <a:off x="476280" y="-30240"/>
            <a:ext cx="8764560" cy="1069920"/>
            <a:chOff x="476280" y="-30240"/>
            <a:chExt cx="8764560" cy="1069920"/>
          </a:xfrm>
        </p:grpSpPr>
        <p:pic>
          <p:nvPicPr>
            <p:cNvPr id="29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-30240"/>
              <a:ext cx="8764560" cy="10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39640" y="66240"/>
              <a:ext cx="864252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мые больши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00" name="Объект 6"/>
          <p:cNvGrpSpPr/>
          <p:nvPr/>
        </p:nvGrpSpPr>
        <p:grpSpPr>
          <a:xfrm>
            <a:off x="4622760" y="1060560"/>
            <a:ext cx="4673160" cy="5527080"/>
            <a:chOff x="4622760" y="1060560"/>
            <a:chExt cx="4673160" cy="5527080"/>
          </a:xfrm>
        </p:grpSpPr>
        <p:pic>
          <p:nvPicPr>
            <p:cNvPr id="301" name="Объект 6" descr=""/>
            <p:cNvPicPr/>
            <p:nvPr/>
          </p:nvPicPr>
          <p:blipFill>
            <a:blip r:embed="rId2"/>
            <a:stretch/>
          </p:blipFill>
          <p:spPr>
            <a:xfrm>
              <a:off x="4622760" y="1060560"/>
              <a:ext cx="4673160" cy="55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903560" y="1200600"/>
              <a:ext cx="4119480" cy="52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 Мекке построены самые огромные часы в мире. И это здание победило все рекорды в книге Гинэса.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Разработчиками </a:t>
              </a:r>
              <a:r>
                <a:rPr b="0" lang="ru-RU" sz="1600" spc="-1" strike="noStrike" u="sng">
                  <a:solidFill>
                    <a:srgbClr val="99ca3c"/>
                  </a:solidFill>
                  <a:uFillTx/>
                  <a:latin typeface="Times New Roman"/>
                  <a:hlinkClick r:id="rId3"/>
                </a:rPr>
                <a:t>часов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 стали швейцарские инженеры, которые потратили на создание этого шедевра порядка двух лет.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ысота здания, на котором они расположены, составляет 425 метров.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Размер циферблата — 45 на 43 метра!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лина минутной стрелки составляет 22 м,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часовой — 17 м!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ри этом полный вес конструкции достигает 36 000 тонн!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Циферблат составлен из хрустальной мозаики, состоящей из 90 миллионов фрагментов. </a:t>
              </a:r>
              <a:endParaRPr b="0" lang="en-US" sz="1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303" name="Рисунок 4" descr="Часы на башне Абраж аль-Баит"/>
          <p:cNvPicPr/>
          <p:nvPr/>
        </p:nvPicPr>
        <p:blipFill>
          <a:blip r:embed="rId4"/>
          <a:stretch/>
        </p:blipFill>
        <p:spPr>
          <a:xfrm>
            <a:off x="531720" y="1144440"/>
            <a:ext cx="4014720" cy="533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Заголовок 1"/>
          <p:cNvGrpSpPr/>
          <p:nvPr/>
        </p:nvGrpSpPr>
        <p:grpSpPr>
          <a:xfrm>
            <a:off x="476280" y="-30240"/>
            <a:ext cx="8764560" cy="1023840"/>
            <a:chOff x="476280" y="-30240"/>
            <a:chExt cx="8764560" cy="1023840"/>
          </a:xfrm>
        </p:grpSpPr>
        <p:pic>
          <p:nvPicPr>
            <p:cNvPr id="30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-30240"/>
              <a:ext cx="87645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39640" y="61920"/>
              <a:ext cx="8642520" cy="8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мые знамениты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07" name="Объект 6"/>
          <p:cNvGrpSpPr/>
          <p:nvPr/>
        </p:nvGrpSpPr>
        <p:grpSpPr>
          <a:xfrm>
            <a:off x="4471920" y="1228680"/>
            <a:ext cx="4804920" cy="5267160"/>
            <a:chOff x="4471920" y="1228680"/>
            <a:chExt cx="4804920" cy="5267160"/>
          </a:xfrm>
        </p:grpSpPr>
        <p:pic>
          <p:nvPicPr>
            <p:cNvPr id="308" name="Объект 6" descr=""/>
            <p:cNvPicPr/>
            <p:nvPr/>
          </p:nvPicPr>
          <p:blipFill>
            <a:blip r:embed="rId2"/>
            <a:stretch/>
          </p:blipFill>
          <p:spPr>
            <a:xfrm>
              <a:off x="4471920" y="1228680"/>
              <a:ext cx="480492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14920" y="1422360"/>
              <a:ext cx="4325040" cy="49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Куранты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- это одни из самых знаменитых часов в мире которые находятся на Спасской башне в Москве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овременные куранты были изготовлены в 1851—1852 годах на русском заводе датских подданных </a:t>
              </a:r>
              <a:r>
                <a:rPr b="0" lang="ru-RU" sz="1400" spc="-1" strike="noStrike" u="sng">
                  <a:solidFill>
                    <a:srgbClr val="99ca3c"/>
                  </a:solidFill>
                  <a:uFillTx/>
                  <a:latin typeface="Times New Roman"/>
                  <a:hlinkClick r:id="rId3"/>
                </a:rPr>
                <a:t>братьев Иоганна (Ивана) и Николая </a:t>
              </a:r>
              <a:r>
                <a:rPr b="0" lang="ru-RU" sz="1400" spc="-1" strike="noStrike" u="sng">
                  <a:solidFill>
                    <a:srgbClr val="99ca3c"/>
                  </a:solidFill>
                  <a:uFillTx/>
                  <a:latin typeface="Times New Roman"/>
                  <a:hlinkClick r:id="rId4"/>
                </a:rPr>
                <a:t>Бутенопов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Знаменитая мелодия колокольного перезвона курантов, которая отмечает наступление каждого часа и четверти, широко известная по всему миру, обусловлена самой конструкцией звонницы Спасской башни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оследнюю крупную реставрацию провели в </a:t>
              </a:r>
              <a:r>
                <a:rPr b="0" lang="ru-RU" sz="1400" spc="-1" strike="noStrike" u="sng">
                  <a:solidFill>
                    <a:srgbClr val="99ca3c"/>
                  </a:solidFill>
                  <a:uFillTx/>
                  <a:latin typeface="Times New Roman"/>
                  <a:hlinkClick r:id="rId5"/>
                </a:rPr>
                <a:t>1999 году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, куранты стали исполнять государственный </a:t>
              </a:r>
              <a:r>
                <a:rPr b="0" lang="ru-RU" sz="1400" spc="-1" strike="noStrike" u="sng">
                  <a:solidFill>
                    <a:srgbClr val="99ca3c"/>
                  </a:solidFill>
                  <a:uFillTx/>
                  <a:latin typeface="Times New Roman"/>
                  <a:hlinkClick r:id="rId6"/>
                </a:rPr>
                <a:t>гимн Российской Федерации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нтересно, что большинство россиян считает, что Новый год наступает с первым или последним ударом колокола. Тогда как на самом деле, новый час, день и год начинаются с началом перезвона курантов</a:t>
              </a:r>
              <a:r>
                <a:rPr b="0" lang="ru-RU" sz="1400" spc="-1" strike="noStrike" u="sng">
                  <a:solidFill>
                    <a:srgbClr val="99ca3c"/>
                  </a:solidFill>
                  <a:uFillTx/>
                  <a:latin typeface="Times New Roman"/>
                  <a:hlinkClick r:id="rId7"/>
                </a:rPr>
                <a:t>[5]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, то есть за 20 секунд до первого удара колокола. А с 12 ударом колокола уже прошла ровно минута Нового года!!!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310" name="Рисунок 2" descr="https://lh6.ggpht.com/bKNEzZNyKHHQO_fiHMMMW3O1R8Dqd7kckfKxMyNTYNXmhYSwJypQf2uHbWvCFLhpolE"/>
          <p:cNvPicPr/>
          <p:nvPr/>
        </p:nvPicPr>
        <p:blipFill>
          <a:blip r:embed="rId8"/>
          <a:stretch/>
        </p:blipFill>
        <p:spPr>
          <a:xfrm>
            <a:off x="650880" y="2152800"/>
            <a:ext cx="3881520" cy="388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Заголовок 1"/>
          <p:cNvGrpSpPr/>
          <p:nvPr/>
        </p:nvGrpSpPr>
        <p:grpSpPr>
          <a:xfrm>
            <a:off x="431640" y="0"/>
            <a:ext cx="8764560" cy="1006560"/>
            <a:chOff x="431640" y="0"/>
            <a:chExt cx="8764560" cy="1006560"/>
          </a:xfrm>
        </p:grpSpPr>
        <p:pic>
          <p:nvPicPr>
            <p:cNvPr id="31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31640" y="0"/>
              <a:ext cx="87645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95000" y="90720"/>
              <a:ext cx="864252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мые знамениты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14" name="Объект 6"/>
          <p:cNvGrpSpPr/>
          <p:nvPr/>
        </p:nvGrpSpPr>
        <p:grpSpPr>
          <a:xfrm>
            <a:off x="3495600" y="1095480"/>
            <a:ext cx="6065640" cy="5292360"/>
            <a:chOff x="3495600" y="1095480"/>
            <a:chExt cx="6065640" cy="5292360"/>
          </a:xfrm>
        </p:grpSpPr>
        <p:pic>
          <p:nvPicPr>
            <p:cNvPr id="315" name="Объект 6" descr=""/>
            <p:cNvPicPr/>
            <p:nvPr/>
          </p:nvPicPr>
          <p:blipFill>
            <a:blip r:embed="rId2"/>
            <a:stretch/>
          </p:blipFill>
          <p:spPr>
            <a:xfrm>
              <a:off x="3495600" y="1095480"/>
              <a:ext cx="6065640" cy="52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3802320" y="1289880"/>
              <a:ext cx="5459760" cy="49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иг Бен - это очень знаменитые часы в мире, находятся  на Трафальгарской площади в Лондоне.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Башня Елизаветы (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3"/>
                </a:rPr>
                <a:t>англ.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 ElizabethTower) — часовая башня 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4"/>
                </a:rPr>
                <a:t>Вестминстерского дворца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Биг-Бен (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5"/>
                </a:rPr>
                <a:t>англ.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 BigBen) — название самого большого из пяти колоколов, часто это название относят к часам и Часовой башне в целом.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 момент отливки Биг-Бен был самым большим и тяжёлым (13,7 тонны) колоколом 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6"/>
                </a:rPr>
                <a:t>Соединённого Королевства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читается, что колокол получил имя Биг-Бен (Большой Бен) в честь сэра 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7"/>
                </a:rPr>
                <a:t>Бенджамина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8"/>
                </a:rPr>
                <a:t> Холла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, куратора строительных работ.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огласно другой версии, он назван в честь 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9"/>
                </a:rPr>
                <a:t>Бенджамина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10"/>
                </a:rPr>
                <a:t> 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11"/>
                </a:rPr>
                <a:t>Каунта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, популярного боксёра в тяжелом весе.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 2012 года башня переименована в честь королевы Великобритании Елизаветы II и теперь называется "Башня Елизаветы".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Башня возведена по проекту английского архитектора 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12"/>
                </a:rPr>
                <a:t>ОгастесаПьюджина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 в неоготическом стиле в 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13"/>
                </a:rPr>
                <a:t>1859 году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, башенные 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14"/>
                </a:rPr>
                <a:t>часы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запущены 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15"/>
                </a:rPr>
                <a:t>31 мая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16"/>
                </a:rPr>
                <a:t>1859 года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ысота башни, включая шпиль — 96 метров.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ижняя часть часового механизма располагается на высоте 55 метров.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Общий вес часового механизма — 5 </a:t>
              </a:r>
              <a:r>
                <a:rPr b="0" lang="ru-RU" sz="1200" spc="-1" strike="noStrike" u="sng">
                  <a:solidFill>
                    <a:srgbClr val="99ca3c"/>
                  </a:solidFill>
                  <a:uFillTx/>
                  <a:latin typeface="Times New Roman"/>
                  <a:hlinkClick r:id="rId17"/>
                </a:rPr>
                <a:t>тонн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Диаметр циферблата — 7 метров.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Длина стрелок — 2,7 и 4,2 метра.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 основании каждого из четырёх циферблатов часов располагается латинская надпись «Domine Salvamfac Reginamnostram Victoriamprimam» («Боже, храни нашу королеву Викторию Первую»).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Башня Елизаветы — один из самых узнаваемых символов Великобритании, часто используемый в сувенирах, рекламе, кинофильмах.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317" name="Рисунок 3" descr="Clock Tower - Palace of Westminster, London - May 2007.jpg"/>
          <p:cNvPicPr/>
          <p:nvPr/>
        </p:nvPicPr>
        <p:blipFill>
          <a:blip r:embed="rId18"/>
          <a:stretch/>
        </p:blipFill>
        <p:spPr>
          <a:xfrm>
            <a:off x="747720" y="1214280"/>
            <a:ext cx="2492280" cy="4962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Заголовок 1"/>
          <p:cNvGrpSpPr/>
          <p:nvPr/>
        </p:nvGrpSpPr>
        <p:grpSpPr>
          <a:xfrm>
            <a:off x="476280" y="60480"/>
            <a:ext cx="8764560" cy="1190520"/>
            <a:chOff x="476280" y="60480"/>
            <a:chExt cx="8764560" cy="1190520"/>
          </a:xfrm>
        </p:grpSpPr>
        <p:pic>
          <p:nvPicPr>
            <p:cNvPr id="31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60480"/>
              <a:ext cx="876456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39640" y="184680"/>
              <a:ext cx="864252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мые дороги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21" name="Объект 6"/>
          <p:cNvGrpSpPr/>
          <p:nvPr/>
        </p:nvGrpSpPr>
        <p:grpSpPr>
          <a:xfrm>
            <a:off x="5227560" y="1649520"/>
            <a:ext cx="4135320" cy="4495320"/>
            <a:chOff x="5227560" y="1649520"/>
            <a:chExt cx="4135320" cy="4495320"/>
          </a:xfrm>
        </p:grpSpPr>
        <p:pic>
          <p:nvPicPr>
            <p:cNvPr id="322" name="Объект 6" descr=""/>
            <p:cNvPicPr/>
            <p:nvPr/>
          </p:nvPicPr>
          <p:blipFill>
            <a:blip r:embed="rId2"/>
            <a:stretch/>
          </p:blipFill>
          <p:spPr>
            <a:xfrm>
              <a:off x="5227560" y="1649520"/>
              <a:ext cx="4135320" cy="44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5445360" y="1748520"/>
              <a:ext cx="3708360" cy="42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1 место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– ювелирное изделие от Chopard стоимостью 25.000.000 $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Chopard – это не часы, а уникальное произведение искусства в сочетание с достижениями часового производства.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Часы – браслет, украшены тремя драгоценными камнями в форме сердца – голубым, красным и белым.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бщий вес трех бриллиантов 38 карат, а вес всех камней на часах – браслете достигает 200 карат.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324" name="Рисунок 7" descr="Рейтинг самых дорогих часов в мире"/>
          <p:cNvPicPr/>
          <p:nvPr/>
        </p:nvPicPr>
        <p:blipFill>
          <a:blip r:embed="rId3"/>
          <a:stretch/>
        </p:blipFill>
        <p:spPr>
          <a:xfrm>
            <a:off x="612720" y="2122560"/>
            <a:ext cx="3867120" cy="3867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 rot="10800000">
            <a:off x="1958400" y="3324240"/>
            <a:ext cx="95868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326" name="Заголовок 1"/>
          <p:cNvGrpSpPr/>
          <p:nvPr/>
        </p:nvGrpSpPr>
        <p:grpSpPr>
          <a:xfrm>
            <a:off x="476280" y="60480"/>
            <a:ext cx="8764560" cy="1197000"/>
            <a:chOff x="476280" y="60480"/>
            <a:chExt cx="8764560" cy="1197000"/>
          </a:xfrm>
        </p:grpSpPr>
        <p:pic>
          <p:nvPicPr>
            <p:cNvPr id="32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60480"/>
              <a:ext cx="876456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539640" y="185040"/>
              <a:ext cx="8642520" cy="97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ВОД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29" name="Объект 6"/>
          <p:cNvGrpSpPr/>
          <p:nvPr/>
        </p:nvGrpSpPr>
        <p:grpSpPr>
          <a:xfrm>
            <a:off x="487440" y="2004840"/>
            <a:ext cx="8753400" cy="4299120"/>
            <a:chOff x="487440" y="2004840"/>
            <a:chExt cx="8753400" cy="4299120"/>
          </a:xfrm>
        </p:grpSpPr>
        <p:pic>
          <p:nvPicPr>
            <p:cNvPr id="330" name="Объект 6" descr=""/>
            <p:cNvPicPr/>
            <p:nvPr/>
          </p:nvPicPr>
          <p:blipFill>
            <a:blip r:embed="rId2"/>
            <a:stretch/>
          </p:blipFill>
          <p:spPr>
            <a:xfrm>
              <a:off x="487440" y="2004840"/>
              <a:ext cx="8753400" cy="42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677880" y="2095560"/>
              <a:ext cx="8504280" cy="41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Часы это уникальное и нужное изобретения человека.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Заголовок 1"/>
          <p:cNvGrpSpPr/>
          <p:nvPr/>
        </p:nvGrpSpPr>
        <p:grpSpPr>
          <a:xfrm>
            <a:off x="738360" y="-42840"/>
            <a:ext cx="7948440" cy="1749240"/>
            <a:chOff x="738360" y="-42840"/>
            <a:chExt cx="7948440" cy="1749240"/>
          </a:xfrm>
        </p:grpSpPr>
        <p:pic>
          <p:nvPicPr>
            <p:cNvPr id="21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738360" y="-42840"/>
              <a:ext cx="79484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806400" y="103320"/>
              <a:ext cx="782172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ктуальность выбранной тем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7" name=""/>
          <p:cNvSpPr txBox="1"/>
          <p:nvPr/>
        </p:nvSpPr>
        <p:spPr>
          <a:xfrm>
            <a:off x="838080" y="1825200"/>
            <a:ext cx="34243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218" name="Объект 6"/>
          <p:cNvGrpSpPr/>
          <p:nvPr/>
        </p:nvGrpSpPr>
        <p:grpSpPr>
          <a:xfrm>
            <a:off x="4400640" y="1792440"/>
            <a:ext cx="4432320" cy="4638600"/>
            <a:chOff x="4400640" y="1792440"/>
            <a:chExt cx="4432320" cy="4638600"/>
          </a:xfrm>
        </p:grpSpPr>
        <p:pic>
          <p:nvPicPr>
            <p:cNvPr id="219" name="Объект 6" descr=""/>
            <p:cNvPicPr/>
            <p:nvPr/>
          </p:nvPicPr>
          <p:blipFill>
            <a:blip r:embed="rId2"/>
            <a:stretch/>
          </p:blipFill>
          <p:spPr>
            <a:xfrm>
              <a:off x="4400640" y="1792440"/>
              <a:ext cx="4432320" cy="46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610160" y="1825560"/>
              <a:ext cx="4017960" cy="45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endParaRPr b="0" lang="en-US" sz="3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Я, Мижа Марк, ученик 4 класса А школы №6, считаю что часы – это просто  необходимая вещь в наше время. </a:t>
              </a:r>
              <a:endParaRPr b="0" lang="en-US" sz="3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, надеюсь, многим будет интересно узнать историю их происхождения… </a:t>
              </a:r>
              <a:endParaRPr b="0" lang="en-US" sz="3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1" name="Picture 3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806400" y="1795320"/>
            <a:ext cx="3611520" cy="4567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Заголовок 1"/>
          <p:cNvGrpSpPr/>
          <p:nvPr/>
        </p:nvGrpSpPr>
        <p:grpSpPr>
          <a:xfrm>
            <a:off x="500040" y="166680"/>
            <a:ext cx="8772480" cy="1320840"/>
            <a:chOff x="500040" y="166680"/>
            <a:chExt cx="8772480" cy="1320840"/>
          </a:xfrm>
        </p:grpSpPr>
        <p:pic>
          <p:nvPicPr>
            <p:cNvPr id="22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00040" y="166680"/>
              <a:ext cx="877248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66640" y="284760"/>
              <a:ext cx="8642520" cy="11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Часы в древние времена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677880" y="2160360"/>
            <a:ext cx="4183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226" name="Объект 6"/>
          <p:cNvGrpSpPr/>
          <p:nvPr/>
        </p:nvGrpSpPr>
        <p:grpSpPr>
          <a:xfrm>
            <a:off x="5479920" y="2036880"/>
            <a:ext cx="3988080" cy="4108320"/>
            <a:chOff x="5479920" y="2036880"/>
            <a:chExt cx="3988080" cy="4108320"/>
          </a:xfrm>
        </p:grpSpPr>
        <p:pic>
          <p:nvPicPr>
            <p:cNvPr id="227" name="Объект 6" descr=""/>
            <p:cNvPicPr/>
            <p:nvPr/>
          </p:nvPicPr>
          <p:blipFill>
            <a:blip r:embed="rId2"/>
            <a:stretch/>
          </p:blipFill>
          <p:spPr>
            <a:xfrm>
              <a:off x="5479920" y="2036880"/>
              <a:ext cx="3988080" cy="41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640480" y="2111400"/>
              <a:ext cx="3670200" cy="39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лово «Часы» появилось еще в 14 веке, в переводе с латыни означало «звонок»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ревние люди умели определять время по нахождению солнца в части небосклона: на восходе – утро, посередине – полдень, закат – вечер…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29" name="Picture 4" descr="http://kostyukovichi.ru/prochee/drevnostt/image002.jpg"/>
          <p:cNvPicPr/>
          <p:nvPr/>
        </p:nvPicPr>
        <p:blipFill>
          <a:blip r:embed="rId3"/>
          <a:stretch/>
        </p:blipFill>
        <p:spPr>
          <a:xfrm>
            <a:off x="677880" y="2097000"/>
            <a:ext cx="4849920" cy="394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Заголовок 1"/>
          <p:cNvGrpSpPr/>
          <p:nvPr/>
        </p:nvGrpSpPr>
        <p:grpSpPr>
          <a:xfrm>
            <a:off x="328680" y="128520"/>
            <a:ext cx="9107280" cy="1322280"/>
            <a:chOff x="328680" y="128520"/>
            <a:chExt cx="9107280" cy="1322280"/>
          </a:xfrm>
        </p:grpSpPr>
        <p:pic>
          <p:nvPicPr>
            <p:cNvPr id="23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28680" y="128520"/>
              <a:ext cx="91072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398520" y="268200"/>
              <a:ext cx="89773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рвы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33" name="Picture 2" descr="http://www.russarabbc.ru/upload/iblock/256/10900.jpg"/>
          <p:cNvPicPr/>
          <p:nvPr/>
        </p:nvPicPr>
        <p:blipFill>
          <a:blip r:embed="rId2"/>
          <a:stretch/>
        </p:blipFill>
        <p:spPr>
          <a:xfrm>
            <a:off x="341280" y="2014560"/>
            <a:ext cx="5807160" cy="3863880"/>
          </a:xfrm>
          <a:prstGeom prst="rect">
            <a:avLst/>
          </a:prstGeom>
          <a:ln w="0">
            <a:noFill/>
          </a:ln>
        </p:spPr>
      </p:pic>
      <p:grpSp>
        <p:nvGrpSpPr>
          <p:cNvPr id="234" name="Объект 6"/>
          <p:cNvGrpSpPr/>
          <p:nvPr/>
        </p:nvGrpSpPr>
        <p:grpSpPr>
          <a:xfrm>
            <a:off x="6199200" y="1895400"/>
            <a:ext cx="3414600" cy="4084560"/>
            <a:chOff x="6199200" y="1895400"/>
            <a:chExt cx="3414600" cy="4084560"/>
          </a:xfrm>
        </p:grpSpPr>
        <p:pic>
          <p:nvPicPr>
            <p:cNvPr id="235" name="Объект 6" descr=""/>
            <p:cNvPicPr/>
            <p:nvPr/>
          </p:nvPicPr>
          <p:blipFill>
            <a:blip r:embed="rId3"/>
            <a:stretch/>
          </p:blipFill>
          <p:spPr>
            <a:xfrm>
              <a:off x="6199200" y="1895400"/>
              <a:ext cx="3414600" cy="40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327720" y="2014560"/>
              <a:ext cx="3164040" cy="38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мые первые в мире часы это солнечные часы - Гномон.    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х начали применять еще в 3500 году до нашей эры.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ремя определяли по тени от солнца, ставилась палка, от которой падала тень. Пользоваться такими часами можно было только в светлое время суток.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Заголовок 1"/>
          <p:cNvGrpSpPr/>
          <p:nvPr/>
        </p:nvGrpSpPr>
        <p:grpSpPr>
          <a:xfrm>
            <a:off x="390600" y="49320"/>
            <a:ext cx="9015480" cy="1130040"/>
            <a:chOff x="390600" y="49320"/>
            <a:chExt cx="9015480" cy="1130040"/>
          </a:xfrm>
        </p:grpSpPr>
        <p:pic>
          <p:nvPicPr>
            <p:cNvPr id="23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49320"/>
              <a:ext cx="901548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458640" y="152280"/>
              <a:ext cx="888840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одяны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677880" y="2160360"/>
            <a:ext cx="4183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241" name="Объект 6"/>
          <p:cNvGrpSpPr/>
          <p:nvPr/>
        </p:nvGrpSpPr>
        <p:grpSpPr>
          <a:xfrm>
            <a:off x="5934240" y="1389240"/>
            <a:ext cx="3538440" cy="4679280"/>
            <a:chOff x="5934240" y="1389240"/>
            <a:chExt cx="3538440" cy="4679280"/>
          </a:xfrm>
        </p:grpSpPr>
        <p:pic>
          <p:nvPicPr>
            <p:cNvPr id="242" name="Объект 6" descr=""/>
            <p:cNvPicPr/>
            <p:nvPr/>
          </p:nvPicPr>
          <p:blipFill>
            <a:blip r:embed="rId2"/>
            <a:stretch/>
          </p:blipFill>
          <p:spPr>
            <a:xfrm>
              <a:off x="5934240" y="1389240"/>
              <a:ext cx="3538440" cy="46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098400" y="1517760"/>
              <a:ext cx="3255840" cy="444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 1400 году до нашей эры появились водяные часы в Древнем Египте. 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х первое название </a:t>
              </a:r>
              <a:r>
                <a:rPr b="1" i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лепсирда.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ни были сделаны из двух емкостей с водой, установленных  на разном уровне. Емкости соединяла труба по которой перетекала вода. На емкостях стояли мерки, по которым определяли время.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Эти часы пользовались успехом в Греции. 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44" name="Picture 2" descr="https://fs00.infourok.ru/images/doc/204/232421/img8.jpg"/>
          <p:cNvPicPr/>
          <p:nvPr/>
        </p:nvPicPr>
        <p:blipFill>
          <a:blip r:embed="rId3"/>
          <a:stretch/>
        </p:blipFill>
        <p:spPr>
          <a:xfrm>
            <a:off x="449280" y="1630440"/>
            <a:ext cx="5373720" cy="428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Заголовок 1"/>
          <p:cNvGrpSpPr/>
          <p:nvPr/>
        </p:nvGrpSpPr>
        <p:grpSpPr>
          <a:xfrm>
            <a:off x="384120" y="55440"/>
            <a:ext cx="9041040" cy="1425600"/>
            <a:chOff x="384120" y="55440"/>
            <a:chExt cx="9041040" cy="1425600"/>
          </a:xfrm>
        </p:grpSpPr>
        <p:pic>
          <p:nvPicPr>
            <p:cNvPr id="24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84120" y="55440"/>
              <a:ext cx="904104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53960" y="200160"/>
              <a:ext cx="8907480" cy="11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аятниковы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48" name="Объект 6"/>
          <p:cNvGrpSpPr/>
          <p:nvPr/>
        </p:nvGrpSpPr>
        <p:grpSpPr>
          <a:xfrm>
            <a:off x="6211800" y="1736640"/>
            <a:ext cx="3578400" cy="4230720"/>
            <a:chOff x="6211800" y="1736640"/>
            <a:chExt cx="3578400" cy="4230720"/>
          </a:xfrm>
        </p:grpSpPr>
        <p:pic>
          <p:nvPicPr>
            <p:cNvPr id="249" name="Объект 6" descr=""/>
            <p:cNvPicPr/>
            <p:nvPr/>
          </p:nvPicPr>
          <p:blipFill>
            <a:blip r:embed="rId2"/>
            <a:stretch/>
          </p:blipFill>
          <p:spPr>
            <a:xfrm>
              <a:off x="6211800" y="1736640"/>
              <a:ext cx="357840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342120" y="1857240"/>
              <a:ext cx="3324240" cy="40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амые первые часы с минутной стрелкой появились в 1577 году. 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иболее точные часы были маятниковые.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олодому ученому Галилео Галилею принадлежала идея создать часы с регулятором нового типа - маятником. 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рвые маятниковые часы были созданы уже после его смерти его сыном  в конце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6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ка.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51" name="Picture 2" descr="http://11801.multivps.ru/k/5652.jpg"/>
          <p:cNvPicPr/>
          <p:nvPr/>
        </p:nvPicPr>
        <p:blipFill>
          <a:blip r:embed="rId3"/>
          <a:stretch/>
        </p:blipFill>
        <p:spPr>
          <a:xfrm>
            <a:off x="352440" y="1857240"/>
            <a:ext cx="5824440" cy="3934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Заголовок 1"/>
          <p:cNvGrpSpPr/>
          <p:nvPr/>
        </p:nvGrpSpPr>
        <p:grpSpPr>
          <a:xfrm>
            <a:off x="476280" y="-30240"/>
            <a:ext cx="8764560" cy="1633680"/>
            <a:chOff x="476280" y="-30240"/>
            <a:chExt cx="8764560" cy="1633680"/>
          </a:xfrm>
        </p:grpSpPr>
        <p:pic>
          <p:nvPicPr>
            <p:cNvPr id="25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-30240"/>
              <a:ext cx="8764560" cy="16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39640" y="112680"/>
              <a:ext cx="864252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рвые наручные и карманны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55" name=""/>
          <p:cNvSpPr txBox="1"/>
          <p:nvPr/>
        </p:nvSpPr>
        <p:spPr>
          <a:xfrm>
            <a:off x="2046240" y="2160720"/>
            <a:ext cx="682560" cy="5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256" name="Объект 6"/>
          <p:cNvGrpSpPr/>
          <p:nvPr/>
        </p:nvGrpSpPr>
        <p:grpSpPr>
          <a:xfrm>
            <a:off x="5010120" y="1798560"/>
            <a:ext cx="4621320" cy="4260960"/>
            <a:chOff x="5010120" y="1798560"/>
            <a:chExt cx="4621320" cy="4260960"/>
          </a:xfrm>
        </p:grpSpPr>
        <p:pic>
          <p:nvPicPr>
            <p:cNvPr id="257" name="Объект 6" descr=""/>
            <p:cNvPicPr/>
            <p:nvPr/>
          </p:nvPicPr>
          <p:blipFill>
            <a:blip r:embed="rId2"/>
            <a:stretch/>
          </p:blipFill>
          <p:spPr>
            <a:xfrm>
              <a:off x="5010120" y="1798560"/>
              <a:ext cx="4621320" cy="42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5126040" y="1859040"/>
              <a:ext cx="4397400" cy="40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 1507 году в  Германии появились наручные часы и крепились к руке с помощью нитки. Они были изобретены Робертом Дадли и графом Лестером. В основном их использовали женщины, как украшение.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рвые карманные часы появились в 1500 году после изобретения заводной  часовым мастером  Нюренбергом Петером Генлейной, но они были не очень точные.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Только в 17 веке  карманные часы карманные часы из модной, дорогой и бесполезной игрушки превратились в точный и функциональный предмет.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59" name="Picture 2" descr="карманные часы"/>
          <p:cNvPicPr/>
          <p:nvPr/>
        </p:nvPicPr>
        <p:blipFill>
          <a:blip r:embed="rId3"/>
          <a:stretch/>
        </p:blipFill>
        <p:spPr>
          <a:xfrm>
            <a:off x="493560" y="1944720"/>
            <a:ext cx="4324680" cy="3459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Заголовок 1"/>
          <p:cNvGrpSpPr/>
          <p:nvPr/>
        </p:nvGrpSpPr>
        <p:grpSpPr>
          <a:xfrm>
            <a:off x="476280" y="-30240"/>
            <a:ext cx="8764560" cy="1584360"/>
            <a:chOff x="476280" y="-30240"/>
            <a:chExt cx="8764560" cy="1584360"/>
          </a:xfrm>
        </p:grpSpPr>
        <p:pic>
          <p:nvPicPr>
            <p:cNvPr id="26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-30240"/>
              <a:ext cx="87645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39640" y="112680"/>
              <a:ext cx="864252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варцевы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3" name="Объект 6"/>
          <p:cNvGrpSpPr/>
          <p:nvPr/>
        </p:nvGrpSpPr>
        <p:grpSpPr>
          <a:xfrm>
            <a:off x="4900680" y="1938240"/>
            <a:ext cx="4554360" cy="4078440"/>
            <a:chOff x="4900680" y="1938240"/>
            <a:chExt cx="4554360" cy="4078440"/>
          </a:xfrm>
        </p:grpSpPr>
        <p:pic>
          <p:nvPicPr>
            <p:cNvPr id="264" name="Объект 6" descr=""/>
            <p:cNvPicPr/>
            <p:nvPr/>
          </p:nvPicPr>
          <p:blipFill>
            <a:blip r:embed="rId2"/>
            <a:stretch/>
          </p:blipFill>
          <p:spPr>
            <a:xfrm>
              <a:off x="4900680" y="1938240"/>
              <a:ext cx="4554360" cy="407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089680" y="2030400"/>
              <a:ext cx="4184640" cy="38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 1957 году были изобретены кварцевые часы. Их изобрела компания 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milton.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варцевые часы - часы, в которых в качестве колебательной системы применяется кристалл кварца, обеспечивая </a:t>
              </a:r>
              <a:r>
                <a:rPr b="1" lang="ru-RU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окую точность</a:t>
              </a: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хода,  из-за которого часы и получили свое название.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66" name="Picture 2" descr="http://gimn6.ru/hpages/134/image/Kvarc.jpg"/>
          <p:cNvPicPr/>
          <p:nvPr/>
        </p:nvPicPr>
        <p:blipFill>
          <a:blip r:embed="rId3"/>
          <a:stretch/>
        </p:blipFill>
        <p:spPr>
          <a:xfrm>
            <a:off x="690480" y="1935000"/>
            <a:ext cx="4113360" cy="4113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Заголовок 1"/>
          <p:cNvGrpSpPr/>
          <p:nvPr/>
        </p:nvGrpSpPr>
        <p:grpSpPr>
          <a:xfrm>
            <a:off x="476280" y="65160"/>
            <a:ext cx="8764560" cy="1282680"/>
            <a:chOff x="476280" y="65160"/>
            <a:chExt cx="8764560" cy="1282680"/>
          </a:xfrm>
        </p:grpSpPr>
        <p:pic>
          <p:nvPicPr>
            <p:cNvPr id="26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76280" y="65160"/>
              <a:ext cx="876456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39640" y="180720"/>
              <a:ext cx="8642520" cy="108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еханические часы</a:t>
              </a:r>
              <a:endParaRPr b="0" lang="en-US" sz="4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70" name="Объект 6"/>
          <p:cNvGrpSpPr/>
          <p:nvPr/>
        </p:nvGrpSpPr>
        <p:grpSpPr>
          <a:xfrm>
            <a:off x="5827680" y="1633680"/>
            <a:ext cx="3541680" cy="4386240"/>
            <a:chOff x="5827680" y="1633680"/>
            <a:chExt cx="3541680" cy="4386240"/>
          </a:xfrm>
        </p:grpSpPr>
        <p:pic>
          <p:nvPicPr>
            <p:cNvPr id="271" name="Объект 6" descr=""/>
            <p:cNvPicPr/>
            <p:nvPr/>
          </p:nvPicPr>
          <p:blipFill>
            <a:blip r:embed="rId2"/>
            <a:stretch/>
          </p:blipFill>
          <p:spPr>
            <a:xfrm>
              <a:off x="5827680" y="1633680"/>
              <a:ext cx="354168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994360" y="1765440"/>
              <a:ext cx="3214800" cy="41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 14 веке появились первые механические часы со шпиндельным спуском.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коло 1510 года нюрнбергский механик П.Хенлейн впервые применил вместо гирь стальную пружину и создал механические  часы со шпиндельным механизмом.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 данный момент самые старейшие механические башенные часы Европы находятся в Гродно, Беларусия.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ни работают уже более 500 лет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just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73" name="Picture 2" descr="http://img-fotki.yandex.ru/get/4708/54776248.5c/0_6cb80_64a28c4f_XL"/>
          <p:cNvPicPr/>
          <p:nvPr/>
        </p:nvPicPr>
        <p:blipFill>
          <a:blip r:embed="rId3"/>
          <a:stretch/>
        </p:blipFill>
        <p:spPr>
          <a:xfrm>
            <a:off x="539640" y="1817640"/>
            <a:ext cx="5045040" cy="407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5T10:22:21Z</dcterms:created>
  <dc:creator>Home</dc:creator>
  <dc:description/>
  <dc:language>en-US</dc:language>
  <cp:lastModifiedBy>Admin</cp:lastModifiedBy>
  <dcterms:modified xsi:type="dcterms:W3CDTF">2016-11-07T12:27:32Z</dcterms:modified>
  <cp:revision>68</cp:revision>
  <dc:subject/>
  <dc:title>ПРОЕКТ</dc:title>
</cp:coreProperties>
</file>