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CAB-FD39-4CEE-85F0-7353A8F3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91F-4703-47A1-81CD-3077E783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ACC-00DA-4FEA-A679-5B0584FC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F71-D49E-46C9-8C70-8D7BFB8A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254A-2BD0-400B-8870-7B2B5239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88BD-60E2-4FAE-8515-4EC3620F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4844-C2D3-4B3D-8CDD-D01F0C1E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44A5-2A35-47DA-AE43-75B50DCE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2B65-48EF-460A-9CCF-4886B942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0741-DC70-4410-AD40-9E0D83B2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2D0F-F1D5-456C-BAEC-727A79C2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8AC-9008-4B1D-ABF7-0904580F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7D65-D9A9-420E-8A73-F9F7AD66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0EB1-F262-45DD-8908-49845BD2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500A-E07B-4EF7-BAFF-EF2E07AA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3562-1C1E-4AB1-8C2F-0584C30C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C716-1B03-40E0-889A-87CDAB5E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56A-96EE-4846-8D3D-EC359491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86C-AFB6-4D34-9D0A-3B6D9FC5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F29-A1B2-42C8-B3FA-FBAAA3E9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4B7-292C-441A-AADC-2D6F1C87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6B2-B759-4475-B1E9-F7CDA06D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3E7-6851-4769-923D-986C9D4D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512-062F-4066-9299-4AE9F1B1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9FDF-D91C-4648-950D-7690894DF62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A671-3756-4F3C-805A-344FF4A84FB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e103"/>
                </a:solidFill>
                <a:uFillTx/>
                <a:latin typeface="Arial Black"/>
              </a:rPr>
              <a:t>Южное окружное управление образования города Москв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e103"/>
                </a:solidFill>
                <a:uFillTx/>
                <a:latin typeface="Arial Black"/>
              </a:rPr>
              <a:t>Школа «Выбор»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роектная работа по русскому языку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Flash"/>
              </a:rPr>
              <a:t>Сборник диктантов </a:t>
            </a:r>
            <a:r>
              <a:rPr b="1" lang="en-US" sz="3600" spc="-1" strike="noStrike">
                <a:solidFill>
                  <a:srgbClr val="9933ff"/>
                </a:solidFill>
                <a:latin typeface="Veruca"/>
              </a:rPr>
              <a:t>«</a:t>
            </a:r>
            <a:r>
              <a:rPr b="1" lang="en-US" sz="3600" spc="-1" strike="noStrike">
                <a:solidFill>
                  <a:srgbClr val="9933ff"/>
                </a:solidFill>
                <a:latin typeface="Flash"/>
              </a:rPr>
              <a:t>На засыпку</a:t>
            </a:r>
            <a:r>
              <a:rPr b="1" lang="en-US" sz="3600" spc="-1" strike="noStrike">
                <a:solidFill>
                  <a:srgbClr val="9933ff"/>
                </a:solidFill>
                <a:latin typeface="Veruca"/>
              </a:rPr>
              <a:t>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Автор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учащаяся 7 класс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Кирюшкина Полин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Руководитель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учитель русского язык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Левина Ю.В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Flash"/>
              </a:rPr>
              <a:t>Москва 2015 год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Flash"/>
              </a:rPr>
              <a:t>Анкетирова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Интересно ли Вам было писать данный диктант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1339920" indent="-53352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Да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1339920" indent="-53352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Нет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1339920" indent="-53352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Затрудняюсь ответить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8000" y="52988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Было опрошено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человек, обучающихся в 7 класс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Из них положительный ответ дали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человек,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человек ответил отрицательно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человек затруднялся с ответом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932360" y="1989000"/>
          <a:ext cx="4537080" cy="343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989000"/>
                    <a:ext cx="4537080" cy="34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79280" y="5729400"/>
            <a:ext cx="878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Было опрошено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человек, обучающихся в 7 класс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Из них положительный ответ дали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человек,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1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человек ответил отрицательно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4221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В результате можно прийти к выводу, что данный вид деятельности не только развивает орфографические навыки, но и способствует повышению положительной мотивации в обучении русскому языку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 Black"/>
              </a:rPr>
              <a:t>Считаете ли Вы, что такие диктанты помогут Вам лучше отработать написание той или иной орфограммы?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440" y="1980720"/>
            <a:ext cx="381492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891360" indent="-479880">
              <a:spcBef>
                <a:spcPts val="499"/>
              </a:spcBef>
              <a:buClr>
                <a:srgbClr val="fe1f08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Д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891360" indent="-479880">
              <a:spcBef>
                <a:spcPts val="499"/>
              </a:spcBef>
              <a:buClr>
                <a:srgbClr val="fe1f08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Нет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891360" indent="-479880">
              <a:spcBef>
                <a:spcPts val="499"/>
              </a:spcBef>
              <a:buClr>
                <a:srgbClr val="fe1f08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Затрудняюсь ответить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48280" indent="-5482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643280" y="1484280"/>
          <a:ext cx="40356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484280"/>
                    <a:ext cx="40356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826920" y="2127240"/>
            <a:ext cx="6623280" cy="47307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895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Flash"/>
              </a:rPr>
              <a:t>Цель проекта:</a:t>
            </a: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составление «Сборника диктантов «На засыпку» для учащихся средней школы», где каждый диктант содержит максимальное количество примеров на изучаемую орфограмму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Flash"/>
              </a:rPr>
              <a:t>Задачи:</a:t>
            </a:r>
            <a:r>
              <a:rPr b="1" lang="en-US" sz="2400" spc="-1" strike="noStrike">
                <a:solidFill>
                  <a:srgbClr val="ffff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Отобрать темы по орфографии русского языка, вызывающие наибольшие затруднения у учащихся  средней школы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Сочинить тексты диктантов для отработки навыка правописания данных орфограмм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Апробировать тексты сочинённых диктантов на учащихся 5,6,7 классов НОУ школы «Выбор»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Повысить собственную грамотность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654984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Flash"/>
              </a:rPr>
              <a:t>Респонденты: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26560" y="2636640"/>
            <a:ext cx="770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Было опрошено 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10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 учителей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г. Москвы (ЧУОО школа «Выбор», школа 1450, школа 1028), работающих в 5 – 7 классах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684360" y="1125360"/>
          <a:ext cx="8064360" cy="60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806436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665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Flash"/>
              </a:rPr>
              <a:t>Рейтинг ошибок (частотность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Flash"/>
              </a:rPr>
              <a:t>Глава 1. Проверяемые безударные гласные в корне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i="1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i="1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Snap ITC"/>
              </a:rPr>
              <a:t>В неударяемом слоге корня пишется та же гласная, что и в соответствующем ударяемом слоге того же или однокоренного слова:</a:t>
            </a:r>
            <a:r>
              <a:rPr b="0" lang="en-US" sz="2400" spc="-1" strike="noStrike">
                <a:solidFill>
                  <a:srgbClr val="ffff00"/>
                </a:solidFill>
                <a:latin typeface="Snap ITC"/>
              </a:rPr>
              <a:t> очаровать – чары; испарение – пар.</a:t>
            </a:r>
            <a:r>
              <a:rPr b="0" lang="en-US" sz="24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Flash"/>
              </a:rPr>
              <a:t>Словарный диктант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Старожил – сторожил; распевать – распивать; висит – весит; окатиться – окотиться; прожевал – проживал; поседеть – посидеть; обижать – обежать; запевать – запивать; умолять – умалять; скрепить – скрипеть; примерять – примирять; частота – чистота; полоскать – поласкать; обвевать – обвивать; слепить – слипаться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"/>
          <p:cNvSpPr/>
          <p:nvPr/>
        </p:nvSpPr>
        <p:spPr>
          <a:xfrm>
            <a:off x="250920" y="1268280"/>
            <a:ext cx="8642160" cy="1297080"/>
          </a:xfrm>
          <a:prstGeom prst="rect">
            <a:avLst/>
          </a:prstGeom>
          <a:noFill/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Flash"/>
              </a:rPr>
              <a:t>Русская деревня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Путешествие по русской деревне интересно и познавательно. Ч..стота застройки подчеркивает ч..стоту самих домиков. Фасады обв..вает сиреневый плющ, который обмывает дождь и обв..вает ветер. Пос..девшие старички любят пос..деть на своих крылечках. А веселые м..лодые девушки пол..скают в речке белье так умело и нежно, как будто хотят пол..скать его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Хороша деревня и зимой. Снег скр..пит и сл..пается, будто задумал сл..пить огромный ком, скр..пив в нем все снежинки на свете.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Наш знакомый ст..рожил, который ст..рожил сарай, пригласил всех на обед. Все засп..шили, чтобы не об..жать его. Отворилась дверь и повеяло запахом отв..рной картошки и домашнего кваса. Мы зашли в сени, где на ст..не в..сел топор, в..сящий килограммов двадцать.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Хозяин, прож..вающий в этом доме уже лет пятьдесят, был еще довольно бодрым старичком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Гости, быстро прож..вав угощение, обильно запили его домашним квасом и начали расп..вать частушки, подр..жая скоморохам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Тёплый свет души этих простых людей заставляет посв..щать им множество стихотворений и поэм.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4253040" cy="2735280"/>
          </a:xfrm>
          <a:prstGeom prst="rect">
            <a:avLst/>
          </a:prstGeom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Flash"/>
              </a:rPr>
              <a:t>Насыщение диктанта орфограммами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1241280"/>
            <a:ext cx="6059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Жили-были старик со старухой и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р..стили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они внука по имени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Р..стислав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.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Любили его безмерно,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ск..кали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вокруг, с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зам..ранием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сердца терпели все придирки,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выб..рали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лучшую еду, читали сказк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Рос он рос и достиг среднего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возр..ста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.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Прекл..нение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родных не прошло даром, внук превратился в «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бл..стящее тв..рение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» -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 соч..тание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безмерного лентяя и высокомерного эгоиста.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Р..стислав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считал себя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неср..вненным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,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бл..стяще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воспитанным, терпеливым и безмерно умным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Бедные старики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скл..нялись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в огороде с утра до вечера в три погибели: сажали, пололи,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выр..внивали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грядки,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соб..рали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урожай, а любимый внук уютно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распол..гался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на печи и не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прик..сался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ни к чему.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Но вот, терпению деда пришел конец. На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з..ре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, когда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Р..стислав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спал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р..вным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сном, он берет огромную охапку дров и кладет ее в печь. Огонь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разг..рается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и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бл..стит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, дым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ст..лется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по всей избе. Нестерпимый жар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подб..рается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к лежебоке. Вдруг со страшным криком лентяй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вск..кивает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на ноги и, держась за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г..рящие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бока,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отв..ряет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дверь и бежит в густые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зар..сли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Целый месяц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Р..стислав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не мог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прик..снуться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к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подг..ревшим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местам, не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л..жился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, а мерил шагами весь огород. Стыдно стало нерадивому внуку, он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покл..нился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родным и стал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неук..снительно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выполнять их просьбы.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2278080" cy="2841840"/>
          </a:xfrm>
          <a:prstGeom prst="rect">
            <a:avLst/>
          </a:prstGeom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Flash"/>
              </a:rPr>
              <a:t>Апробация сборника диктантов </a:t>
            </a:r>
            <a:r>
              <a:rPr b="0" lang="en-US" sz="3600" spc="-1" strike="noStrike">
                <a:solidFill>
                  <a:srgbClr val="00ff00"/>
                </a:solidFill>
                <a:latin typeface="Matura MT Script Capitals"/>
              </a:rPr>
              <a:t>«</a:t>
            </a:r>
            <a:r>
              <a:rPr b="0" lang="en-US" sz="3600" spc="-1" strike="noStrike">
                <a:solidFill>
                  <a:srgbClr val="00ff00"/>
                </a:solidFill>
                <a:latin typeface="Flash"/>
              </a:rPr>
              <a:t>На засыпку</a:t>
            </a:r>
            <a:r>
              <a:rPr b="0" lang="en-US" sz="3600" spc="-1" strike="noStrike">
                <a:solidFill>
                  <a:srgbClr val="00ff00"/>
                </a:solidFill>
                <a:latin typeface="Matura MT Script Capitals"/>
              </a:rPr>
              <a:t>»</a:t>
            </a:r>
            <a:r>
              <a:rPr b="0" lang="en-US" sz="3600" spc="-1" strike="noStrike">
                <a:solidFill>
                  <a:srgbClr val="00ff00"/>
                </a:solidFill>
                <a:latin typeface="Flash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Диктант «Русская деревня» был проведён в 7 классе НОУ школы «Выбор» 4 февраля 2008 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832360" cy="4373640"/>
          </a:xfrm>
          <a:prstGeom prst="rect">
            <a:avLst/>
          </a:prstGeom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3422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Flash"/>
              </a:rPr>
              <a:t>Анализ диктан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85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Диктант «Русская деревня» - 126 слов, из них 46 слов (37%) на орфограмму «Правописание безударных проверяемых гласных в корне слова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476360" y="2390760"/>
          <a:ext cx="669600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390760"/>
                    <a:ext cx="66960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79280" y="2492280"/>
            <a:ext cx="428472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2421000"/>
            <a:ext cx="428472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8:20:05Z</dcterms:created>
  <dc:creator>Юля Владимировна</dc:creator>
  <dc:description/>
  <dc:language>en-US</dc:language>
  <cp:lastModifiedBy>Пользователь Windows</cp:lastModifiedBy>
  <dcterms:modified xsi:type="dcterms:W3CDTF">2018-06-25T14:10:40Z</dcterms:modified>
  <cp:revision>14</cp:revision>
  <dc:subject/>
  <dc:title>Слайд 1</dc:title>
</cp:coreProperties>
</file>