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AB3-3A09-4EDB-BBBF-4E207CE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162-BB04-454A-8CCD-C6F7B43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804-19E4-4CB9-9D59-FC6799E9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0F6-4BF5-4CEB-B8DD-6F3812D5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3B4-D0A1-4080-9387-554A6A79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8E7-8C4B-4B31-9C94-F95BA11D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6CF5-B80B-44D1-9D77-4FD1C7F6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B415-D5D6-4EF9-9D28-46825BAA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5DC7-FDC0-49EB-963C-98DDCD63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42CE-5FFC-4A1F-BE31-BF3E8E15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5759-2266-40E0-85E0-5306813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9D2-CCB2-4384-ADC6-807C5ACC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7FDF-199F-4622-9B0E-66E55F77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0CC-C344-43E1-9DDB-CBED2EC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AC7F-320B-48A1-A903-73325ED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B98A-0369-4E5F-80AD-E8EB5FCC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31B7-F9D9-4D9F-9FBC-3452C472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000-0E66-4DCC-A9C5-14459F2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947-8405-469A-BE9D-93E0231D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4F0-8512-4847-8A84-DA62821D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CCA-CBD1-4093-85AD-1B4095B6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E62-7BB6-400C-A6B4-DC12ACA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6B0-A504-4EA8-8505-0766A61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DA6-D271-49E0-9E8E-23E145F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8E7-2C36-4CD3-B66F-762C9F32983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3CC-87DD-4DA1-B0B4-CBE68865C7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103"/>
                </a:solidFill>
                <a:uFillTx/>
                <a:latin typeface="Arial Black"/>
              </a:rPr>
              <a:t>Южное окружное управление образования города Москв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e103"/>
                </a:solidFill>
                <a:uFillTx/>
                <a:latin typeface="Arial Black"/>
              </a:rPr>
              <a:t>Школа «Выбор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оектная работа по русскому языку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Flash"/>
              </a:rPr>
              <a:t>Сборник диктантов </a:t>
            </a:r>
            <a:r>
              <a:rPr b="1" lang="en-US" sz="3600" spc="-1" strike="noStrike">
                <a:solidFill>
                  <a:srgbClr val="9933ff"/>
                </a:solidFill>
                <a:latin typeface="Veruca"/>
              </a:rPr>
              <a:t>«</a:t>
            </a:r>
            <a:r>
              <a:rPr b="1" lang="en-US" sz="3600" spc="-1" strike="noStrike">
                <a:solidFill>
                  <a:srgbClr val="9933ff"/>
                </a:solidFill>
                <a:latin typeface="Flash"/>
              </a:rPr>
              <a:t>На засыпку</a:t>
            </a:r>
            <a:r>
              <a:rPr b="1" lang="en-US" sz="3600" spc="-1" strike="noStrike">
                <a:solidFill>
                  <a:srgbClr val="9933ff"/>
                </a:solidFill>
                <a:latin typeface="Veruca"/>
              </a:rPr>
              <a:t>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Автор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чащаяся 7 класс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Кирюшкина Поли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 Black"/>
              </a:rPr>
              <a:t>Руководитель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читель русского язык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евина Ю.В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Flash"/>
              </a:rPr>
              <a:t>Москва 2015 год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Интересно ли Вам было писать данный диктант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Да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Нет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1339920" indent="-53352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Затрудняюсь ответить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8000" y="52988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Было опрошено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, обучающихся в 7 класс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Из них положительный ответ дал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 ответил отрицательно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человек затруднялся с ответом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4932360" y="1989000"/>
          <a:ext cx="4537080" cy="34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89000"/>
                    <a:ext cx="453708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79280" y="5729400"/>
            <a:ext cx="878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Было опрошено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, обучающихся в 7 класс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них положительный ответ дали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,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человек ответил отрицательно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221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В результате можно прийти к выводу, что данный вид деятельности не только развивает орфографические навыки, но и способствует повышению положительной мотивации в обучении русскому языку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 Black"/>
              </a:rPr>
              <a:t>Считаете ли Вы, что такие диктанты помогут Вам лучше отработать написание той или иной орфограммы?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440" y="1980720"/>
            <a:ext cx="381492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т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891360" indent="-479880">
              <a:spcBef>
                <a:spcPts val="499"/>
              </a:spcBef>
              <a:buClr>
                <a:srgbClr val="fe1f08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атрудняюсь ответить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548280" indent="-5482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643280" y="148428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484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6920" y="2127240"/>
            <a:ext cx="6623280" cy="4730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95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Flash"/>
              </a:rPr>
              <a:t>Цель проекта:</a:t>
            </a: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составление «Сборника диктантов «На засыпку» для учащихся средней школы», где каждый диктант содержит максимальное количество примеров на изучаемую орфограмм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Flash"/>
              </a:rPr>
              <a:t>Задачи:</a:t>
            </a: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Отобрать темы по орфографии русского языка, вызывающие наибольшие затруднения у учащихся  средней школ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Сочинить тексты диктантов для отработки навыка правописания данных орфограмм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Апробировать тексты сочинённых диктантов на учащихся 5,6,7 классов НОУ школы «Выбор»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Повысить собственную грамотност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54984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Flash"/>
              </a:rPr>
              <a:t>Респонденты: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770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Было опрошено 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10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 учителей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г. Москвы (ЧУОО школа «Выбор», школа 1450, школа 1028), работающих в 5 – 7 классах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684360" y="1125360"/>
          <a:ext cx="8064360" cy="60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06436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659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Рейтинг ошибок (частотность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Flash"/>
              </a:rPr>
              <a:t>Глава 1. Проверяемые безударные гласные в корне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Snap ITC"/>
              </a:rPr>
              <a:t>В неударяемом слоге корня пишется та же гласная, что и в соответствующем ударяемом слоге того же или однокоренного слова:</a:t>
            </a:r>
            <a:r>
              <a:rPr b="0" lang="en-US" sz="2400" spc="-1" strike="noStrike">
                <a:solidFill>
                  <a:srgbClr val="ffff00"/>
                </a:solidFill>
                <a:latin typeface="Snap ITC"/>
              </a:rPr>
              <a:t> очаровать – чары; испарение – пар.</a:t>
            </a:r>
            <a:r>
              <a:rPr b="0" lang="en-US" sz="24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Flash"/>
              </a:rPr>
              <a:t>Словарный диктант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Старожил – сторожил; распевать – распивать; висит – весит; окатиться – окотиться; прожевал – проживал; поседеть – посидеть; обижать – обежать; запевать – запивать; умолять – умалять; скрепить – скрипеть; примерять – примирять; частота – чистота; полоскать – поласкать; обвевать – обвивать; слепить – слипаться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1268280"/>
            <a:ext cx="8642160" cy="1297080"/>
          </a:xfrm>
          <a:prstGeom prst="rect">
            <a:avLst/>
          </a:prstGeom>
          <a:noFill/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Flash"/>
              </a:rPr>
              <a:t>Русская деревн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Путешествие по русской деревне интересно и познавательно. Ч..стота застройки подчеркивает ч..стоту самих домиков. Фасады обв..вает сиреневый плющ, который обмывает дождь и обв..вает ветер. Пос..девшие старички любят пос..деть на своих крылечках. А веселые м..лодые девушки пол..скают в речке белье так умело и нежно, как будто хотят пол..скать его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Хороша деревня и зимой. Снег скр..пит и сл..пается, будто задумал сл..пить огромный ком, скр..пив в нем все снежинки на свете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Наш знакомый ст..рожил, который ст..рожил сарай, пригласил всех на обед. Все засп..шили, чтобы не об..жать его. Отворилась дверь и повеяло запахом отв..рной картошки и домашнего кваса. Мы зашли в сени, где на ст..не в..сел топор, в..сящий килограммов двадцать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Хозяин, прож..вающий в этом доме уже лет пятьдесят, был еще довольно бодрым старичко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Гости, быстро прож..вав угощение, обильно запили его домашним квасом и начали расп..вать частушки, подр..жая скомороха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Тёплый свет души этих простых людей заставляет посв..щать им множество стихотворений и поэм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253040" cy="273528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803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Насыщение диктанта орфограммами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1241280"/>
            <a:ext cx="6059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Жили-были старик со старухой 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они внука по имен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Любили его безмерно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к..к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округ, с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ам..рание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ердца терпели все придирк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ыб..р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лучшую еду, читали сказк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Рос он рос и достиг среднего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озр..ста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екл..не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родных не прошло даром, внук превратился в «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ящее тв..ре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» -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 соч..тан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безмерного лентяя и высокомерного эгоиста.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читал себя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неср..вненны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ящ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оспитанным, терпеливым и безмерно умным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Бедные старик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кл..нялись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 огороде с утра до вечера в три погибели: сажали, полол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ыр..внив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грядки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об..ра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урожай, а любимый внук уютно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аспол..га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а печи и н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ик..са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и к чему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Но вот, терпению деда пришел конец. Н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..р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когд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пал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вны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сном, он берет огромную охапку дров и кладет ее в печь. Огонь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азг..ра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и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бл..сти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дым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ст..л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по всей избе. Нестерпимый жар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дб..рает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к лежебоке. Вдруг со страшным криком лентяй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вск..кивае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а ноги и, держась за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г..рящие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бока,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отв..ряет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дверь и бежит в густы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зар..сли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Целый месяц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Р..стислав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не мог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рик..снуть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к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дг..ревшим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местам, не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л..жи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, а мерил шагами весь огород. Стыдно стало нерадивому внуку, он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покл..нился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родным и стал </a:t>
            </a:r>
            <a:r>
              <a:rPr b="1" lang="ru-RU" sz="1400" spc="-1" strike="noStrike">
                <a:solidFill>
                  <a:srgbClr val="ffff00"/>
                </a:solidFill>
                <a:latin typeface="Arial Black"/>
              </a:rPr>
              <a:t>неук..снительно</a:t>
            </a:r>
            <a:r>
              <a:rPr b="0" lang="ru-RU" sz="1400" spc="-1" strike="noStrike">
                <a:solidFill>
                  <a:srgbClr val="ffff00"/>
                </a:solidFill>
                <a:latin typeface="Arial Black"/>
              </a:rPr>
              <a:t> выполнять их просьбы.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2278080" cy="28418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Апробация сборника диктантов </a:t>
            </a:r>
            <a:r>
              <a:rPr b="0" lang="en-US" sz="3600" spc="-1" strike="noStrike">
                <a:solidFill>
                  <a:srgbClr val="00ff00"/>
                </a:solidFill>
                <a:latin typeface="Matura MT Script Capitals"/>
              </a:rPr>
              <a:t>«</a:t>
            </a: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На засыпку</a:t>
            </a:r>
            <a:r>
              <a:rPr b="0" lang="en-US" sz="3600" spc="-1" strike="noStrike">
                <a:solidFill>
                  <a:srgbClr val="00ff00"/>
                </a:solidFill>
                <a:latin typeface="Matura MT Script Capitals"/>
              </a:rPr>
              <a:t>»</a:t>
            </a:r>
            <a:r>
              <a:rPr b="0" lang="en-US" sz="3600" spc="-1" strike="noStrike">
                <a:solidFill>
                  <a:srgbClr val="00ff00"/>
                </a:solidFill>
                <a:latin typeface="Flash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Диктант «Русская деревня» был проведён в 7 классе НОУ школы «Выбор» 4 февраля 2008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832360" cy="4373640"/>
          </a:xfrm>
          <a:prstGeom prst="rect">
            <a:avLst/>
          </a:prstGeom>
          <a:ln cap="rnd" w="76320">
            <a:solidFill>
              <a:srgbClr val="00ff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342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Flash"/>
              </a:rPr>
              <a:t>Анализ диктан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Диктант «Русская деревня» - 126 слов, из них 46 слов (37%) на орфограмму «Правописание безударных проверяемых гласных в корне слова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76360" y="2390760"/>
          <a:ext cx="66960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90760"/>
                    <a:ext cx="66960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79280" y="2492280"/>
            <a:ext cx="428472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421000"/>
            <a:ext cx="4284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8:20:05Z</dcterms:created>
  <dc:creator>Юля Владимировна</dc:creator>
  <dc:description/>
  <dc:language>en-US</dc:language>
  <cp:lastModifiedBy>Пользователь Windows</cp:lastModifiedBy>
  <dcterms:modified xsi:type="dcterms:W3CDTF">2018-06-25T14:10:40Z</dcterms:modified>
  <cp:revision>14</cp:revision>
  <dc:subject/>
  <dc:title>Слайд 1</dc:title>
</cp:coreProperties>
</file>