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0477-C7AA-49A4-B018-ECBBA85E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C991-D817-43D1-A77B-B26E01A5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749-2F95-4334-9754-0FDED2435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DC8-909D-4E24-8F06-6ABAF21A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EE1C-D855-48BD-AFE5-EA4FB453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FE82-BEA1-4CE3-8CCF-D4A17E79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4FCE-3B82-4CB1-8594-826FE0EA0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85B3-D208-45E4-93D0-42C96A4D5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902B-0608-4B78-9C73-89E97C8B9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15F-6727-453C-BDFD-1D0E2BE1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1266-22F1-4289-9BE6-DEA91ECE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58B-9E1C-4B61-9239-16D6454F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9F0-2F45-4FCC-B421-1B6A189286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31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2666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ИНФОРМАЦ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ПРАВЛЕННАЯ НА ДОСТИ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БЛАГОТВОРИТЕЛЬНЫХ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БЩЕСТВЕННО ПОЛЕЗНЫХ ЦЕ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 ТАК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 ИНТЕРЕСАХ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523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ержание пла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жно быть острым и выраз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ДИЗАЙН ПЛАКАТА СОЦИАЛЬНОЙ РЕКЛАМЫ, БАЗОВЫЕ ПРИНЦИПЫ ВЫРАЗИТЕЛЬНОСТИ И АКТУАЛЬНОСТИ.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6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днозначное толкование созданного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олень-353x500"/>
          <p:cNvPicPr/>
          <p:nvPr/>
        </p:nvPicPr>
        <p:blipFill>
          <a:blip r:embed="rId1"/>
          <a:stretch/>
        </p:blipFill>
        <p:spPr>
          <a:xfrm>
            <a:off x="2819520" y="1523880"/>
            <a:ext cx="3552840" cy="502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а злобу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790960" cy="381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6176880" y="1676520"/>
            <a:ext cx="2694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0" y="114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кон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ы современной жизни требуют ясных и ярких образов, кратких и нескучных фр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люди способны воспринять буквально «на ходу», в суматохе современной городской ул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В Крыму определили лучшие плакаты на тему защиты животных (Ф…"/>
          <p:cNvPicPr/>
          <p:nvPr/>
        </p:nvPicPr>
        <p:blipFill>
          <a:blip r:embed="rId1"/>
          <a:stretch/>
        </p:blipFill>
        <p:spPr>
          <a:xfrm>
            <a:off x="2438280" y="2971800"/>
            <a:ext cx="4402080" cy="312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533520" y="1066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ОШЕНИЕ ИЗОБРАЖЕНИЯ И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План-конспект урока Тема: &quot;Социальный плакат&quot;"/>
          <p:cNvPicPr/>
          <p:nvPr/>
        </p:nvPicPr>
        <p:blipFill>
          <a:blip r:embed="rId1"/>
          <a:stretch/>
        </p:blipFill>
        <p:spPr>
          <a:xfrm>
            <a:off x="838080" y="1600200"/>
            <a:ext cx="3357720" cy="476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Picture 7" descr="Реклама показала три буквы о СПИДе"/>
          <p:cNvPicPr/>
          <p:nvPr/>
        </p:nvPicPr>
        <p:blipFill>
          <a:blip r:embed="rId2"/>
          <a:stretch/>
        </p:blipFill>
        <p:spPr>
          <a:xfrm>
            <a:off x="4495680" y="1600200"/>
            <a:ext cx="4415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152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должен восприниматься на большом рас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zagony.ru/admin_new/foto/2012-6-26/1340705619/kreativnaja_reklama_na_bilbordakh_43_foto_6.jpg"/>
          <p:cNvPicPr/>
          <p:nvPr/>
        </p:nvPicPr>
        <p:blipFill>
          <a:blip r:embed="rId1"/>
          <a:stretch/>
        </p:blipFill>
        <p:spPr>
          <a:xfrm>
            <a:off x="1981080" y="2819520"/>
            <a:ext cx="52992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привлекать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86728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1523880"/>
            <a:ext cx="49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смыс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зображе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лжен сраз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росаться в гла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3wLFad6gAUw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144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мгновенно запомин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:\Users\PL53_2_PC2\Desktop\52633568untitled.jpg"/>
          <p:cNvPicPr/>
          <p:nvPr/>
        </p:nvPicPr>
        <p:blipFill>
          <a:blip r:embed="rId1"/>
          <a:stretch/>
        </p:blipFill>
        <p:spPr>
          <a:xfrm>
            <a:off x="2362320" y="23623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яркость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5" descr="C:\Users\PL53_2_PC2\Desktop\2015_06_27_shwbekino_02.jpg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981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292428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НЕКОММЕРЧЕСКАЯ РЕКЛА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БЩЕСТВЕННАЯ РЕКЛ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177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205740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НАПРАВЛЕНА НА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 ОСВЕЩЕНИЕ НАИБОЛЕЕ АКТУАЛЬНЫХ ЯВЛЕНИЙ РЕГИ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ЗМЕНЕНИЕ МОДЕЛЕЙ ОБЩЕСТВЕ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РИВЛЕЧЕНИЕ ВНИМАНИЯ К ПРОБЛЕ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ОЦИ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1096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НАИБОЛЕЕ ИЗВЕС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16765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- КОМПАНИИ ПО БОРЬБЕ С НАРКОТ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- СОБЛЮДЕНИЕ ПРАВИЛ ДОРОЖ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ПРОПАГАНДА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ХРАНА ПАМЯ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БОРЬБА С НАРКОТ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11349_html_7340f1db"/>
          <p:cNvPicPr/>
          <p:nvPr/>
        </p:nvPicPr>
        <p:blipFill>
          <a:blip r:embed="rId1"/>
          <a:stretch/>
        </p:blipFill>
        <p:spPr>
          <a:xfrm>
            <a:off x="4851360" y="106668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535971_690xNone"/>
          <p:cNvPicPr/>
          <p:nvPr/>
        </p:nvPicPr>
        <p:blipFill>
          <a:blip r:embed="rId2"/>
          <a:stretch/>
        </p:blipFill>
        <p:spPr>
          <a:xfrm>
            <a:off x="792000" y="1066680"/>
            <a:ext cx="379764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160593_600"/>
          <p:cNvPicPr/>
          <p:nvPr/>
        </p:nvPicPr>
        <p:blipFill>
          <a:blip r:embed="rId3"/>
          <a:stretch/>
        </p:blipFill>
        <p:spPr>
          <a:xfrm>
            <a:off x="380880" y="1066680"/>
            <a:ext cx="85345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ПРАВИЛА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295280" y="1463760"/>
            <a:ext cx="6553440" cy="39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3db0dcd45fcfa4a0fc14cc3337ef6af7_"/>
          <p:cNvPicPr/>
          <p:nvPr/>
        </p:nvPicPr>
        <p:blipFill>
          <a:blip r:embed="rId2"/>
          <a:stretch/>
        </p:blipFill>
        <p:spPr>
          <a:xfrm>
            <a:off x="609480" y="1447920"/>
            <a:ext cx="7925040" cy="395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xw_1004985"/>
          <p:cNvPicPr/>
          <p:nvPr/>
        </p:nvPicPr>
        <p:blipFill>
          <a:blip r:embed="rId3"/>
          <a:stretch/>
        </p:blipFill>
        <p:spPr>
          <a:xfrm>
            <a:off x="380880" y="1371600"/>
            <a:ext cx="83822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ЗДОРОВЫЙ ОБРАЗ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zazohz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4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113b1-1401979327-24"/>
          <p:cNvPicPr/>
          <p:nvPr/>
        </p:nvPicPr>
        <p:blipFill>
          <a:blip r:embed="rId2"/>
          <a:stretch/>
        </p:blipFill>
        <p:spPr>
          <a:xfrm>
            <a:off x="990720" y="1447920"/>
            <a:ext cx="7162560" cy="445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8686800" cy="45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619760" cy="52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ХРАНА ПАМЯ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kupreianov1919"/>
          <p:cNvPicPr/>
          <p:nvPr/>
        </p:nvPicPr>
        <p:blipFill>
          <a:blip r:embed="rId1"/>
          <a:stretch/>
        </p:blipFill>
        <p:spPr>
          <a:xfrm>
            <a:off x="1017720" y="1143000"/>
            <a:ext cx="332424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rm_39_2859"/>
          <p:cNvPicPr/>
          <p:nvPr/>
        </p:nvPicPr>
        <p:blipFill>
          <a:blip r:embed="rId2"/>
          <a:stretch/>
        </p:blipFill>
        <p:spPr>
          <a:xfrm>
            <a:off x="4800600" y="1143000"/>
            <a:ext cx="3270240" cy="495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74327523a87503ee930bc82c35c6addc"/>
          <p:cNvPicPr/>
          <p:nvPr/>
        </p:nvPicPr>
        <p:blipFill>
          <a:blip r:embed="rId3"/>
          <a:stretch/>
        </p:blipFill>
        <p:spPr>
          <a:xfrm>
            <a:off x="228600" y="114300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53_2_PC2</cp:lastModifiedBy>
  <dcterms:modified xsi:type="dcterms:W3CDTF">2018-06-26T12:46:33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