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A98-DB31-49D7-A269-0410F647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1EC-66D4-4DFF-BABA-15618931F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EC4-88BC-4A1F-A8D7-7A1BC542B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483-922B-42F7-8C3B-862B7A11B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2D8C-0236-4E21-A100-6DC676CC3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CCA-2711-4019-8F26-38320F79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2F9-B9D8-4C6B-9263-FC6CFB0C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9C99-8FD0-4A39-A431-DE9C0001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E3CE-0F18-40A4-9420-760EB1A4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BC1-2590-4A53-86C0-E1B0DF74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86A-BEB3-4586-BC90-42E65E87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B4D9-3E24-4C9B-801E-7F2DCB36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FAFB-9F8D-4973-8833-9A9503391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0" y="731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СОЦИАЛЬНАЯ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0" y="266688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ЭТО ИНФОРМАЦИЯ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АПРАВЛЕННАЯ НА ДОСТИЖЕНИЕ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БЛАГОТВОРИТЕЛЬНЫХ 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ОБЩЕСТВЕННО ПОЛЕЗНЫХ ЦЕЛЕЙ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А ТАКЖ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В ИНТЕРЕСАХ ГОСУДАР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15238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РЕКЛАМ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3"/>
          <p:cNvSpPr/>
          <p:nvPr/>
        </p:nvSpPr>
        <p:spPr>
          <a:xfrm>
            <a:off x="0" y="838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держание пла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лжно быть острым и выразительн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ДИЗАЙН ПЛАКАТА СОЦИАЛЬНОЙ РЕКЛАМЫ, БАЗОВЫЕ ПРИНЦИПЫ ВЫРАЗИТЕЛЬНОСТИ И АКТУАЛЬНОСТИ."/>
          <p:cNvPicPr/>
          <p:nvPr/>
        </p:nvPicPr>
        <p:blipFill>
          <a:blip r:embed="rId1"/>
          <a:stretch/>
        </p:blipFill>
        <p:spPr>
          <a:xfrm>
            <a:off x="685800" y="1752480"/>
            <a:ext cx="7696080" cy="460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4"/>
          <p:cNvSpPr/>
          <p:nvPr/>
        </p:nvSpPr>
        <p:spPr>
          <a:xfrm>
            <a:off x="0" y="9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Однозначное толкование созданного обр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олень-353x500"/>
          <p:cNvPicPr/>
          <p:nvPr/>
        </p:nvPicPr>
        <p:blipFill>
          <a:blip r:embed="rId1"/>
          <a:stretch/>
        </p:blipFill>
        <p:spPr>
          <a:xfrm>
            <a:off x="2819520" y="1523880"/>
            <a:ext cx="3552840" cy="50292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6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На злобу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5790960" cy="3811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"/>
          <p:cNvPicPr/>
          <p:nvPr/>
        </p:nvPicPr>
        <p:blipFill>
          <a:blip r:embed="rId2"/>
          <a:stretch/>
        </p:blipFill>
        <p:spPr>
          <a:xfrm>
            <a:off x="6176880" y="1676520"/>
            <a:ext cx="2694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0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6"/>
          <p:cNvSpPr/>
          <p:nvPr/>
        </p:nvSpPr>
        <p:spPr>
          <a:xfrm>
            <a:off x="0" y="1143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акон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пы современной жизни требуют ясных и ярких образов, кратких и нескучных фраз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е люди способны воспринять буквально «на ходу», в суматохе современной городской улиц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В Крыму определили лучшие плакаты на тему защиты животных (Ф…"/>
          <p:cNvPicPr/>
          <p:nvPr/>
        </p:nvPicPr>
        <p:blipFill>
          <a:blip r:embed="rId1"/>
          <a:stretch/>
        </p:blipFill>
        <p:spPr>
          <a:xfrm>
            <a:off x="2438280" y="2971800"/>
            <a:ext cx="4402080" cy="3127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СНОВНЫЕ ПРИНЦИПЫ ДИЗАЙ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8"/>
          <p:cNvSpPr/>
          <p:nvPr/>
        </p:nvSpPr>
        <p:spPr>
          <a:xfrm>
            <a:off x="533520" y="106668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НОШЕНИЕ ИЗОБРАЖЕНИЯ И ТЕК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План-конспект урока Тема: &quot;Социальный плакат&quot;"/>
          <p:cNvPicPr/>
          <p:nvPr/>
        </p:nvPicPr>
        <p:blipFill>
          <a:blip r:embed="rId1"/>
          <a:stretch/>
        </p:blipFill>
        <p:spPr>
          <a:xfrm>
            <a:off x="838080" y="1600200"/>
            <a:ext cx="3357720" cy="4768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96" name="Picture 7" descr="Реклама показала три буквы о СПИДе"/>
          <p:cNvPicPr/>
          <p:nvPr/>
        </p:nvPicPr>
        <p:blipFill>
          <a:blip r:embed="rId2"/>
          <a:stretch/>
        </p:blipFill>
        <p:spPr>
          <a:xfrm>
            <a:off x="4495680" y="1600200"/>
            <a:ext cx="441504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152388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должен восприниматься на большом расстоян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zagony.ru/admin_new/foto/2012-6-26/1340705619/kreativnaja_reklama_na_bilbordakh_43_foto_6.jpg"/>
          <p:cNvPicPr/>
          <p:nvPr/>
        </p:nvPicPr>
        <p:blipFill>
          <a:blip r:embed="rId1"/>
          <a:stretch/>
        </p:blipFill>
        <p:spPr>
          <a:xfrm>
            <a:off x="1981080" y="2819520"/>
            <a:ext cx="529920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1523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привлекать вним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2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867280" cy="41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0" y="1523880"/>
            <a:ext cx="4952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смыс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зображен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должен сразу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бросаться в глаз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9" descr="3wLFad6gAUw"/>
          <p:cNvPicPr/>
          <p:nvPr/>
        </p:nvPicPr>
        <p:blipFill>
          <a:blip r:embed="rId1"/>
          <a:stretch/>
        </p:blipFill>
        <p:spPr>
          <a:xfrm>
            <a:off x="5105520" y="1523880"/>
            <a:ext cx="3504960" cy="4981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0" y="1447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мгновенно запомина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9" descr="C:\Users\PL53_2_PC2\Desktop\52633568untitled.jpg"/>
          <p:cNvPicPr/>
          <p:nvPr/>
        </p:nvPicPr>
        <p:blipFill>
          <a:blip r:embed="rId1"/>
          <a:stretch/>
        </p:blipFill>
        <p:spPr>
          <a:xfrm>
            <a:off x="2362320" y="2362320"/>
            <a:ext cx="4190760" cy="4190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0" y="228600"/>
            <a:ext cx="9144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ЕЦИФИКА ХУДОЖЕСТВЕННОГО СОЦИАЛЬНОГО ПЛАКА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0" y="15238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-яркость изобра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5" descr="C:\Users\PL53_2_PC2\Desktop\2015_06_27_shwbekino_02.jpg"/>
          <p:cNvPicPr/>
          <p:nvPr/>
        </p:nvPicPr>
        <p:blipFill>
          <a:blip r:embed="rId1"/>
          <a:stretch/>
        </p:blipFill>
        <p:spPr>
          <a:xfrm>
            <a:off x="1600200" y="2286000"/>
            <a:ext cx="5943600" cy="42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9810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СОЦИАЛЬНАЯ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0" y="2924280"/>
            <a:ext cx="91440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НЕКОММЕРЧЕСКАЯ РЕКЛАМ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ОБЩЕСТВЕННАЯ РЕКЛА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0" y="1773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РЕКЛАМ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0" y="304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СОЦИАЛЬНАЯ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0" y="2057400"/>
            <a:ext cx="91440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 Narrow"/>
              </a:rPr>
              <a:t>НАПРАВЛЕНА НА</a:t>
            </a:r>
            <a:r>
              <a:rPr b="1" lang="en-US" sz="4400" spc="-1" strike="noStrike">
                <a:solidFill>
                  <a:srgbClr val="ffffff"/>
                </a:solidFill>
                <a:latin typeface="Arial Narrow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НА ОСВЕЩЕНИЕ НАИБОЛЕЕ АКТУАЛЬНЫХ ЯВЛЕНИЙ РЕГИ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ИЗМЕНЕНИЕ МОДЕЛЕЙ ОБЩЕСТВЕННОГ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ПО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ПРИВЛЕЧЕНИЕ ВНИМАНИЯ К ПРОБЛЕМ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Narrow"/>
              </a:rPr>
              <a:t>СОЦИ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0" y="109692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 Black"/>
              </a:rPr>
              <a:t>РЕКЛАМА</a:t>
            </a:r>
            <a:r>
              <a:rPr b="1" lang="ru-RU" sz="4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8080"/>
          </a:solidFill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0" y="3049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НАИБОЛЕЕ ИЗВЕСТ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0" y="167652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- КОМПАНИИ ПО БОРЬБЕ С НАРКОТ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- СОБЛЮДЕНИЕ ПРАВИЛ ДОРОЖНОГ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ПРОПАГАНДА ЗДОРОВОГО ОБРАЗА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ОХРАНА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ОХРАНА ПАМЯТ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ПРИМЕ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БОРЬБА С НАРКОТИ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3" descr="11349_html_7340f1db"/>
          <p:cNvPicPr/>
          <p:nvPr/>
        </p:nvPicPr>
        <p:blipFill>
          <a:blip r:embed="rId1"/>
          <a:stretch/>
        </p:blipFill>
        <p:spPr>
          <a:xfrm>
            <a:off x="4851360" y="1066680"/>
            <a:ext cx="3505320" cy="5257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535971_690xNone"/>
          <p:cNvPicPr/>
          <p:nvPr/>
        </p:nvPicPr>
        <p:blipFill>
          <a:blip r:embed="rId2"/>
          <a:stretch/>
        </p:blipFill>
        <p:spPr>
          <a:xfrm>
            <a:off x="792000" y="1066680"/>
            <a:ext cx="3797640" cy="525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160593_600"/>
          <p:cNvPicPr/>
          <p:nvPr/>
        </p:nvPicPr>
        <p:blipFill>
          <a:blip r:embed="rId3"/>
          <a:stretch/>
        </p:blipFill>
        <p:spPr>
          <a:xfrm>
            <a:off x="380880" y="1066680"/>
            <a:ext cx="8534520" cy="527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ПРАВИЛА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1295280" y="1463760"/>
            <a:ext cx="6553440" cy="39304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3db0dcd45fcfa4a0fc14cc3337ef6af7_"/>
          <p:cNvPicPr/>
          <p:nvPr/>
        </p:nvPicPr>
        <p:blipFill>
          <a:blip r:embed="rId2"/>
          <a:stretch/>
        </p:blipFill>
        <p:spPr>
          <a:xfrm>
            <a:off x="609480" y="1447920"/>
            <a:ext cx="7925040" cy="39574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xw_1004985"/>
          <p:cNvPicPr/>
          <p:nvPr/>
        </p:nvPicPr>
        <p:blipFill>
          <a:blip r:embed="rId3"/>
          <a:stretch/>
        </p:blipFill>
        <p:spPr>
          <a:xfrm>
            <a:off x="380880" y="1371600"/>
            <a:ext cx="8382240" cy="476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ЗДОРОВЫЙ ОБРАЗ ЖИЗН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" descr="zazohz"/>
          <p:cNvPicPr/>
          <p:nvPr/>
        </p:nvPicPr>
        <p:blipFill>
          <a:blip r:embed="rId1"/>
          <a:stretch/>
        </p:blipFill>
        <p:spPr>
          <a:xfrm>
            <a:off x="1447920" y="1447920"/>
            <a:ext cx="6324480" cy="44780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2" descr="113b1-1401979327-24"/>
          <p:cNvPicPr/>
          <p:nvPr/>
        </p:nvPicPr>
        <p:blipFill>
          <a:blip r:embed="rId2"/>
          <a:stretch/>
        </p:blipFill>
        <p:spPr>
          <a:xfrm>
            <a:off x="990720" y="1447920"/>
            <a:ext cx="7162560" cy="4459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3" descr=""/>
          <p:cNvPicPr/>
          <p:nvPr/>
        </p:nvPicPr>
        <p:blipFill>
          <a:blip r:embed="rId3"/>
          <a:stretch/>
        </p:blipFill>
        <p:spPr>
          <a:xfrm>
            <a:off x="228600" y="1371600"/>
            <a:ext cx="8686800" cy="456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ХРАНА ОКРУЖАЮЩЕЙ СРЕ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838080" y="148608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7620120" cy="3809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"/>
          <p:cNvPicPr/>
          <p:nvPr/>
        </p:nvPicPr>
        <p:blipFill>
          <a:blip r:embed="rId3"/>
          <a:stretch/>
        </p:blipFill>
        <p:spPr>
          <a:xfrm>
            <a:off x="762120" y="1143000"/>
            <a:ext cx="7619760" cy="52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0" y="228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Arial Narrow"/>
              </a:rPr>
              <a:t>ОХРАНА ПАМЯТ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kupreianov1919"/>
          <p:cNvPicPr/>
          <p:nvPr/>
        </p:nvPicPr>
        <p:blipFill>
          <a:blip r:embed="rId1"/>
          <a:stretch/>
        </p:blipFill>
        <p:spPr>
          <a:xfrm>
            <a:off x="1017720" y="1143000"/>
            <a:ext cx="3324240" cy="495288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rm_39_2859"/>
          <p:cNvPicPr/>
          <p:nvPr/>
        </p:nvPicPr>
        <p:blipFill>
          <a:blip r:embed="rId2"/>
          <a:stretch/>
        </p:blipFill>
        <p:spPr>
          <a:xfrm>
            <a:off x="4800600" y="1143000"/>
            <a:ext cx="3270240" cy="49528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7" descr="74327523a87503ee930bc82c35c6addc"/>
          <p:cNvPicPr/>
          <p:nvPr/>
        </p:nvPicPr>
        <p:blipFill>
          <a:blip r:embed="rId3"/>
          <a:stretch/>
        </p:blipFill>
        <p:spPr>
          <a:xfrm>
            <a:off x="228600" y="1143000"/>
            <a:ext cx="861048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L53_2_PC2</cp:lastModifiedBy>
  <dcterms:modified xsi:type="dcterms:W3CDTF">2018-06-26T12:46:33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