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8C2FF-7EA8-42EE-944C-067839715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E939C-A77D-4E36-BCE2-A66658E04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A42433-D9B2-4FB0-BA6E-D89E81530B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A9E35-BE80-411D-8F95-4A2C3A768A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F59D63-B62B-4BA1-AA53-D07421C1E6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87F40-82A2-4DF5-B987-B9FC142BD9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31E37-23C3-4A40-8E96-31ACE4BF9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E23E3-66AC-4959-8E1A-6E32117704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4FAD1A-97CF-4FDC-8A37-FA9B2F8D1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7B2B37-783F-44FA-8571-A257881011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F2B5BD-29E4-4C5A-8695-88A41389A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3B078-1C98-488F-A101-B73A0E4A03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BCC4E-3062-4EBB-8786-65B47A4BC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389D1-E4A3-4437-B2AD-16D882946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6914F8-8A8F-4E72-935A-FAC7329D6F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165166-2698-423C-AB17-3FD6B2627E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20AE5-F94F-42BE-A1FA-8E3563D925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885142-95CE-4880-ABD0-DAF9A449A49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7B7246-2816-49AB-B0EF-68C0A216D0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7E070B-7D5D-4DFA-8779-8AFBC1CD7C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17D550-2A49-4189-9319-FE249581B9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BBC2A1-A78E-4A6C-BCDC-9A639D5DCB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55629-6F24-48EF-BBBB-80D90FFF3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CB0095-D556-4C71-B990-E4380D7C14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440382-D332-4FDA-92A1-24DAFEF14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46A5C3-3FFA-42B2-9ED6-FCD008B5B3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1128C-7D02-42BA-BD94-82D396300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97DEC0-C632-4932-99D2-E401C09801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0BC203-089E-4D5E-B691-15D1565442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0D41FF-AAF7-4B7C-AF66-AF6109F840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D365FD1-B0AE-4EF6-B784-6DC115E63F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D1B493-E30A-4035-9128-6B0E75D0E3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B5B47C-6E6F-4B5E-8C16-15A32935FA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1D716-17A4-48CE-BF08-2DE1B38D0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FDD9A3-2FA3-4331-B547-31A3D26E56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8AC062-7FBF-4E30-9208-9329FC032B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830902-ABD0-48EB-9140-4F821BEEA1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67850A-C881-4D0C-BE4B-BCE98A8923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FA60BF-F916-4E29-ABC5-4C5E45555A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30761D-ABCE-4F60-839C-89AF6B80D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CECF4B-8182-4960-AA03-EFC4823170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49B444D-9FFB-46B8-9B27-2B368ECFD3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F8B2DA8-7042-4C8C-9564-E6F781A50E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92C1AF1-E494-492D-8FDD-FC3D3A5E80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83D35-04A1-4746-BBF0-7266E1E9E7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17AABE-ABCB-4834-9948-2CECF202A8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66B136-4CA5-43AE-B53E-FD6074C3FB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8EA14B-C50C-4068-AEAD-B20D05ADC1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77325-EB2C-44E9-BCE8-C8804E5695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D40D10-1ABE-4F7B-A92D-0D9600B103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C18438-C9C8-4BE6-A429-FD4EB18331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1B1A6-1F7B-41C8-A102-3FB75418D9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66098B-2141-48BB-A18C-B7891F271E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61B8EC-42B1-4C06-B28A-A166833EFB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DF60E4-F886-4DF5-8D1D-DE0D8133E9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F0EA6-CCB1-45EE-B0BD-20D1A42CE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13D0B2-A3DE-4550-B282-2153BF1D5B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DBC7E-B17F-4806-9154-BF7FA6284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B0B5FB-9E59-4EDD-AADF-9FCCA7A28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A5767-D41C-4A31-A374-B96D8D508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333F-6651-4226-A344-1B66172CED4D}"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6BB4D-F06A-4B87-BC3A-20CE4B377A81}"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1CE38-48E4-4AB6-8C27-413C8622394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9843D-4E54-4C0A-81EA-6157F06A041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E8747-9FFC-445F-9A64-FEF679B50984}"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549360"/>
            <a:ext cx="7772400" cy="27352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8d3e"/>
                </a:solidFill>
                <a:latin typeface="Verdana"/>
              </a:rPr>
              <a:t>Обучение чтению как средство формирования смежных речевых навыков и умений </a:t>
            </a:r>
            <a:endParaRPr b="1" lang="en-US" sz="4100" spc="-1" strike="noStrike">
              <a:solidFill>
                <a:srgbClr val="ff8d3e"/>
              </a:solidFill>
              <a:latin typeface="Verdana"/>
            </a:endParaRPr>
          </a:p>
        </p:txBody>
      </p:sp>
      <p:sp>
        <p:nvSpPr>
          <p:cNvPr id="221" name="Прямоугольник 2"/>
          <p:cNvSpPr/>
          <p:nvPr/>
        </p:nvSpPr>
        <p:spPr>
          <a:xfrm>
            <a:off x="1285920" y="3857760"/>
            <a:ext cx="6858000" cy="9284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Елагина Людмила Васильевна, </a:t>
            </a:r>
            <a:br>
              <a:rPr sz="1800"/>
            </a:br>
            <a:r>
              <a:rPr b="0" lang="en-US" sz="1800" spc="-1" strike="noStrike">
                <a:solidFill>
                  <a:srgbClr val="ffffff"/>
                </a:solidFill>
                <a:latin typeface="Verdana"/>
              </a:rPr>
              <a:t>учитель английского языка МБОУ «СОШ № 19» ЭМ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6"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Психологический компонент</a:t>
            </a: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cxnSp>
        <p:nvCxnSpPr>
          <p:cNvPr id="237" name="Прямая со стрелкой 4"/>
          <p:cNvCxnSpPr/>
          <p:nvPr/>
        </p:nvCxnSpPr>
        <p:spPr>
          <a:xfrm flipH="1">
            <a:off x="3286080" y="1071720"/>
            <a:ext cx="643320" cy="357840"/>
          </a:xfrm>
          <a:prstGeom prst="straightConnector1">
            <a:avLst/>
          </a:prstGeom>
          <a:ln w="9360">
            <a:solidFill>
              <a:srgbClr val="ff8000"/>
            </a:solidFill>
            <a:miter/>
            <a:tailEnd len="med" type="arrow" w="med"/>
          </a:ln>
        </p:spPr>
      </p:cxnSp>
      <p:cxnSp>
        <p:nvCxnSpPr>
          <p:cNvPr id="238" name="Прямая со стрелкой 6"/>
          <p:cNvCxnSpPr/>
          <p:nvPr/>
        </p:nvCxnSpPr>
        <p:spPr>
          <a:xfrm>
            <a:off x="5000400" y="1071720"/>
            <a:ext cx="500760" cy="357840"/>
          </a:xfrm>
          <a:prstGeom prst="straightConnector1">
            <a:avLst/>
          </a:prstGeom>
          <a:ln w="9360">
            <a:solidFill>
              <a:srgbClr val="ff8000"/>
            </a:solidFill>
            <a:miter/>
            <a:tailEnd len="med" type="arrow" w="med"/>
          </a:ln>
        </p:spPr>
      </p:cxnSp>
      <p:sp>
        <p:nvSpPr>
          <p:cNvPr id="239" name="Прямоугольник 7"/>
          <p:cNvSpPr/>
          <p:nvPr/>
        </p:nvSpPr>
        <p:spPr>
          <a:xfrm>
            <a:off x="857160" y="1714680"/>
            <a:ext cx="2928960" cy="3714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Навыки чтения вслух  и про себ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Слов</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Словосочетан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Предложен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Текс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Прямоугольник 8"/>
          <p:cNvSpPr/>
          <p:nvPr/>
        </p:nvSpPr>
        <p:spPr>
          <a:xfrm>
            <a:off x="5000760" y="1714680"/>
            <a:ext cx="2786040" cy="3643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Уме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Антиципац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Вычленения главного</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Сокраще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интерпретации</a:t>
            </a:r>
            <a:endParaRPr b="0" lang="en-US" sz="18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1" name=""/>
          <p:cNvSpPr txBox="1"/>
          <p:nvPr/>
        </p:nvSpPr>
        <p:spPr>
          <a:xfrm>
            <a:off x="503280" y="530280"/>
            <a:ext cx="8183520" cy="51847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Методологический компонент:</a:t>
            </a: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Умение читать по ключевым словам</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Умение пользоваться транскрипцией  при чтени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Умение пользоваться справочными материалами</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Умение осуществлять языковую догадку</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2" name=""/>
          <p:cNvSpPr txBox="1"/>
          <p:nvPr/>
        </p:nvSpPr>
        <p:spPr>
          <a:xfrm>
            <a:off x="503280" y="530280"/>
            <a:ext cx="8183520" cy="51134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Формы чтения</a:t>
            </a:r>
            <a:r>
              <a:rPr b="0" lang="ru-RU"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1).</a:t>
            </a:r>
            <a:r>
              <a:rPr b="0" i="1" lang="ru-RU" sz="2800" spc="-1" strike="noStrike" u="sng">
                <a:solidFill>
                  <a:srgbClr val="000000"/>
                </a:solidFill>
                <a:uFillTx/>
                <a:latin typeface="Verdana"/>
              </a:rPr>
              <a:t>Про себя </a:t>
            </a:r>
            <a:r>
              <a:rPr b="0" lang="ru-RU" sz="2800" spc="-1" strike="noStrike">
                <a:solidFill>
                  <a:srgbClr val="000000"/>
                </a:solidFill>
                <a:latin typeface="Verdana"/>
              </a:rPr>
              <a:t>(внутреннее чтение). Чтение про себя – основная форма чтения – имеет целью извлечение информации, оно «монологично», совершается наедине с собой.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2</a:t>
            </a:r>
            <a:r>
              <a:rPr b="0" i="1" lang="ru-RU" sz="2800" spc="-1" strike="noStrike">
                <a:solidFill>
                  <a:srgbClr val="000000"/>
                </a:solidFill>
                <a:latin typeface="Verdana"/>
              </a:rPr>
              <a:t>). </a:t>
            </a:r>
            <a:r>
              <a:rPr b="0" i="1" lang="ru-RU" sz="2800" spc="-1" strike="noStrike" u="sng">
                <a:solidFill>
                  <a:srgbClr val="000000"/>
                </a:solidFill>
                <a:uFillTx/>
                <a:latin typeface="Verdana"/>
              </a:rPr>
              <a:t>Чтение вслух </a:t>
            </a:r>
            <a:r>
              <a:rPr b="0" lang="ru-RU" sz="2800" spc="-1" strike="noStrike">
                <a:solidFill>
                  <a:srgbClr val="000000"/>
                </a:solidFill>
                <a:latin typeface="Verdana"/>
              </a:rPr>
              <a:t>(внешнее чтение). – вторичная форма, оно «диалогично», его назначение в основном в передаче информации другому лицу.</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3" name=""/>
          <p:cNvSpPr txBox="1"/>
          <p:nvPr/>
        </p:nvSpPr>
        <p:spPr>
          <a:xfrm>
            <a:off x="503280" y="530280"/>
            <a:ext cx="8183520" cy="547056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В зависимости от этапа обучения, от индивидуальных особенностей обучаемых и реальных условий обучения может изменяться процентное соотношение чтения вслух и про себя на уроке и дома. Е.Н.Соловова предлагает наиболее оптимальное процентное соотношение различных форм чтения:</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44" name=""/>
          <p:cNvGraphicFramePr/>
          <p:nvPr/>
        </p:nvGraphicFramePr>
        <p:xfrm>
          <a:off x="1357200" y="3500280"/>
          <a:ext cx="6096240" cy="1381320"/>
        </p:xfrm>
        <a:graphic>
          <a:graphicData uri="http://schemas.openxmlformats.org/drawingml/2006/table">
            <a:tbl>
              <a:tblPr/>
              <a:tblGrid>
                <a:gridCol w="1524240"/>
                <a:gridCol w="1523880"/>
                <a:gridCol w="1523880"/>
                <a:gridCol w="15242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Форма чт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Начальный этап</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Средний этап</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Старший этап</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Вслу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Про себ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5" name=""/>
          <p:cNvSpPr txBox="1"/>
          <p:nvPr/>
        </p:nvSpPr>
        <p:spPr>
          <a:xfrm>
            <a:off x="503280" y="530280"/>
            <a:ext cx="8183520" cy="525600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Виды чтения:</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Изучающе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Ознакомительно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Просмотрово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6" name=""/>
          <p:cNvSpPr txBox="1"/>
          <p:nvPr/>
        </p:nvSpPr>
        <p:spPr>
          <a:xfrm>
            <a:off x="503280" y="530280"/>
            <a:ext cx="8183520" cy="5470560"/>
          </a:xfrm>
          <a:prstGeom prst="rect">
            <a:avLst/>
          </a:prstGeom>
          <a:noFill/>
          <a:ln w="0">
            <a:noFill/>
          </a:ln>
        </p:spPr>
        <p:txBody>
          <a:bodyPr lIns="182880" tIns="91440" anchor="t">
            <a:normAutofit/>
          </a:bodyPr>
          <a:p>
            <a:pPr marL="264960" indent="-264960" algn="just">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Изучающее чтение </a:t>
            </a:r>
            <a:r>
              <a:rPr b="0" lang="ru-RU" sz="2400" spc="-1" strike="noStrike">
                <a:solidFill>
                  <a:srgbClr val="000000"/>
                </a:solidFill>
                <a:latin typeface="Verdana"/>
              </a:rPr>
              <a:t>представляет собой внимательное вчитывание, проникновение в смысл при помощи анализа текста. Изучающее чтение является, прежде всего, самостоятельной целью обучения чтению. Изучающее чтение одновременно является средством обучения чтению, так как оно представляет собой максимально развернутую форму чтения, при которой оттачиваются все приемы чтения, развивается «бдительность» ко всем сигналам, исходящим от текста. Оно практикуется обычно на небольших по объему текстах определенной степени трудности, так как главная задача – качественная сторона чтения, полнота и точность понимани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7" name=""/>
          <p:cNvSpPr txBox="1"/>
          <p:nvPr/>
        </p:nvSpPr>
        <p:spPr>
          <a:xfrm>
            <a:off x="500040" y="1285560"/>
            <a:ext cx="8183520" cy="4187880"/>
          </a:xfrm>
          <a:prstGeom prst="rect">
            <a:avLst/>
          </a:prstGeom>
          <a:noFill/>
          <a:ln w="0">
            <a:noFill/>
          </a:ln>
        </p:spPr>
        <p:txBody>
          <a:bodyPr lIns="182880" tIns="91440" anchor="t">
            <a:normAutofit/>
          </a:bodyPr>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При ознакомительном чтении </a:t>
            </a:r>
            <a:r>
              <a:rPr b="0" lang="en-US" sz="2800" spc="-1" strike="noStrike">
                <a:solidFill>
                  <a:srgbClr val="000000"/>
                </a:solidFill>
                <a:latin typeface="Verdana"/>
              </a:rPr>
              <a:t>целью является извлечение основной информации (приблизительно 70%), при этом делается ставка на воссоздающее воображение читателя, благодаря которому частично восполняется смысл текст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8" name=""/>
          <p:cNvSpPr txBox="1"/>
          <p:nvPr/>
        </p:nvSpPr>
        <p:spPr>
          <a:xfrm>
            <a:off x="503280" y="529920"/>
            <a:ext cx="8183520" cy="5041800"/>
          </a:xfrm>
          <a:prstGeom prst="rect">
            <a:avLst/>
          </a:prstGeom>
          <a:noFill/>
          <a:ln w="0">
            <a:noFill/>
          </a:ln>
        </p:spPr>
        <p:txBody>
          <a:bodyPr lIns="182880" tIns="91440" anchor="t">
            <a:normAutofit/>
          </a:bodyPr>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В результате </a:t>
            </a:r>
            <a:r>
              <a:rPr b="1" lang="en-US" sz="2800" spc="-1" strike="noStrike">
                <a:solidFill>
                  <a:srgbClr val="000000"/>
                </a:solidFill>
                <a:latin typeface="Verdana"/>
              </a:rPr>
              <a:t>просмотрового чтения </a:t>
            </a:r>
            <a:r>
              <a:rPr b="0" lang="en-US" sz="2800" spc="-1" strike="noStrike">
                <a:solidFill>
                  <a:srgbClr val="000000"/>
                </a:solidFill>
                <a:latin typeface="Verdana"/>
              </a:rPr>
              <a:t>читатель получает самое общее представление о содержательно-смысловом плане текста: о чем идет в нем речь. В естественном процессе коммуникации этот вид чтения выполняет важную роль: из большой массы печатной информации выбрать именно ту, которая нужна и исключить необязательное и второстепенное.</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9" name=""/>
          <p:cNvSpPr txBox="1"/>
          <p:nvPr/>
        </p:nvSpPr>
        <p:spPr>
          <a:xfrm>
            <a:off x="214200" y="529920"/>
            <a:ext cx="8715600" cy="6041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истема работы с текстом</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Дотекстовый этап (этап антиципации).</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lang="ru-RU" sz="2800" spc="-1" strike="noStrike">
                <a:solidFill>
                  <a:srgbClr val="000000"/>
                </a:solidFill>
                <a:latin typeface="Verdana"/>
              </a:rPr>
              <a:t>Цели:</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1.Определить/сформулировать речевую задачу для первого прочтения</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2.Создать необходимый уровень мотивации у учащихся.</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3. По возможности сократить уровень языковых и речевых трудностей.</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0" name=""/>
          <p:cNvSpPr txBox="1"/>
          <p:nvPr/>
        </p:nvSpPr>
        <p:spPr>
          <a:xfrm>
            <a:off x="500040" y="529920"/>
            <a:ext cx="8183520" cy="5970600"/>
          </a:xfrm>
          <a:prstGeom prst="rect">
            <a:avLst/>
          </a:prstGeom>
          <a:noFill/>
          <a:ln w="0">
            <a:noFill/>
          </a:ln>
        </p:spPr>
        <p:txBody>
          <a:bodyPr lIns="182880" tIns="91440" anchor="t">
            <a:norm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Упражнения и задания.</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1. Работа с заголовком.</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По заголовку можно попросить учащихся определить:</a:t>
            </a:r>
            <a:endParaRPr b="0" lang="en-US" sz="13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Тематику текста;</a:t>
            </a:r>
            <a:endParaRPr b="0" lang="en-US" sz="13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Перечень поднимаемых в нем проблем;</a:t>
            </a:r>
            <a:endParaRPr b="0" lang="en-US" sz="13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Ключевые слова и выражения.</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2. Использование ассоциаций, связанных с именем автора.</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К какому жанру можно предположительно отнести этот текст?</a:t>
            </a:r>
            <a:endParaRPr b="0" lang="en-US" sz="13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Кто, по-вашему, будет главным героем (профессия, национальность)?</a:t>
            </a:r>
            <a:endParaRPr b="0" lang="en-US" sz="13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Где и в какое время может происходить действие?</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3.Сформулировать предположения о тематике текста на основе имеющихся иллюстраций.</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4. Ознакомиться с новой лексикой и определить тематику/проблематику текста на основе языковой догадки.</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5. Просмотреть текст/первый абзац и определить, о чем этот текст.</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6. Прочесть вопросы/утверждения по тексту и определить его тематику и проблематику.</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7. Попытаться ответить на предложенные вопросы до чтения текста.</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2" name=""/>
          <p:cNvSpPr txBox="1"/>
          <p:nvPr/>
        </p:nvSpPr>
        <p:spPr>
          <a:xfrm>
            <a:off x="539640" y="475920"/>
            <a:ext cx="8183520" cy="5256360"/>
          </a:xfrm>
          <a:prstGeom prst="rect">
            <a:avLst/>
          </a:prstGeom>
          <a:noFill/>
          <a:ln w="0">
            <a:noFill/>
          </a:ln>
        </p:spPr>
        <p:txBody>
          <a:bodyPr lIns="182880" tIns="9144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Чтение – рецептивный вид речевой деятельности, направленный на восприятие и понимание письменного текста (И.Л.Колесникова, О.А.Долгина).</a:t>
            </a:r>
            <a:endParaRPr b="0" lang="en-US" sz="26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Чтение является рецептивным видом деятельности, заключающимся в восприятии и текста – продукта репродуктивной деятельности некоего автора (Г.В.Рогова) и переработке читающим объективно существующего. </a:t>
            </a:r>
            <a:endParaRPr b="0" lang="en-US" sz="26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В процессе чтения происходит осмысление и оценка информации, содержащейся в тексте.</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1" name=""/>
          <p:cNvSpPr txBox="1"/>
          <p:nvPr/>
        </p:nvSpPr>
        <p:spPr>
          <a:xfrm>
            <a:off x="285480" y="356760"/>
            <a:ext cx="8643960" cy="62866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Текстовый этап</a:t>
            </a:r>
            <a:r>
              <a:rPr b="0" lang="ru-RU" sz="2000" spc="-1" strike="noStrike">
                <a:solidFill>
                  <a:srgbClr val="000000"/>
                </a:solidFill>
                <a:latin typeface="Verdana"/>
              </a:rPr>
              <a:t>. Цели:</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1.  Проконтролировать степень сформированности различных языковых навыков и речевых умений.</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2.Продолжить формирование соответствующих навыков и умений.</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Упражнения и задания.</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 Найти/выбрать/прочесть/соединить/вставить:</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ответы на предложенные вопросы;</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подтверждение правильности/ложности утверждений;</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подходящий заголовок к каждому из абзацев;</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подходящее по смыслу предложение, пропущенное в тексте;</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описание внешности/места события/отношения кого-либо к чему-либо.</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 Догадаться:</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о значении слова или слов по контексту;</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какой из предложенных переводов/какая дефиниция слова наиболее точно отражает его значение в данном контексте;   </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как будут развиваться события во второй главе/следующей части текста.</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2" name=""/>
          <p:cNvSpPr txBox="1"/>
          <p:nvPr/>
        </p:nvSpPr>
        <p:spPr>
          <a:xfrm>
            <a:off x="503280" y="530280"/>
            <a:ext cx="8183520" cy="6113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ослетекстовый этап</a:t>
            </a:r>
            <a:r>
              <a:rPr b="0" lang="ru-RU" sz="1800" spc="-1" strike="noStrike">
                <a:solidFill>
                  <a:srgbClr val="000000"/>
                </a:solidFill>
                <a:latin typeface="Verdana"/>
              </a:rPr>
              <a:t>. Цель:</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Использовать ситуацию текста в качестве языковой/речевой /содержательной опоры для развития умений в устной и письменной речи.</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пражнения и задания.</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 Опровергнуть утверждения или согласиться с ними.</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 Доказать, что…</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 Охарактеризовать…</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 Сказать, какое из следующих высказываний наиболее точно передает основную мысль текста. Обосновать свой ответ.</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 Сказать, с каким из данных выражений был бы не согласен автор.</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6. Составить план текста, выделив его основные мысли.</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7. Взять за основу ситуацию текста, написать собственный текст в другом жанре.</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3" name=""/>
          <p:cNvSpPr txBox="1"/>
          <p:nvPr/>
        </p:nvSpPr>
        <p:spPr>
          <a:xfrm>
            <a:off x="503280" y="529920"/>
            <a:ext cx="8183520" cy="6327720"/>
          </a:xfrm>
          <a:prstGeom prst="rect">
            <a:avLst/>
          </a:prstGeom>
          <a:noFill/>
          <a:ln w="0">
            <a:noFill/>
          </a:ln>
        </p:spPr>
        <p:txBody>
          <a:bodyPr lIns="182880" tIns="91440" anchor="t">
            <a:norm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Требования, предъявляемые к учебным текстам</a:t>
            </a:r>
            <a:endParaRPr b="0" lang="en-US" sz="18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Коммуникативные цели обучения чтению предполагают использование в учебном процессе различных типов текста - разного жанра и функциональных стилей. При этом их отбор и организация должны осуществляться с учетом этапов обучения:</a:t>
            </a: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В начальной школе: стихи, рифмовки, короткие рассказы, сказки; личное письмо ровесника из страны изучаемого языка, письмо в газету и детский журнал, открытка, простой кулинарный рецепт, билеты (в театр, на транспорт), программы телепередач, афиши, карта страны изучаемого языка и др.</a:t>
            </a: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В 5—7 классах: названные выше типы текстов, а также указатели, вывески в магазинах, на вокзалах, этикетки к товарам, расписание поездов, указатели в городах, объявления, прогноз погоды, журнальные и газетные статьи страноведческого характера, отрывки из художественной литературы.</a:t>
            </a: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В 8-9 классах: названные в предыдущем пункте типы текстов, а также реклама, проспекты, публикации из подростковых газет и журналов различного характера (сообщения, обзор, очерки, интервью, статистика) и др.</a:t>
            </a: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4" name=""/>
          <p:cNvSpPr txBox="1"/>
          <p:nvPr/>
        </p:nvSpPr>
        <p:spPr>
          <a:xfrm>
            <a:off x="503280" y="529920"/>
            <a:ext cx="8183520" cy="604188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Учебные материалы имеют особое значение при обучении чтению, так как от их характера зависит, будет чтение протекать как речевая деятельность учащегося или как упражнение. Поэтому к учебным текстам для чтения предъявляются особые требования, основные из которых следующие:</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Воспитательная ценность текстов, их нравственный потенциал - в какой степени тексты способствуют воспитанию учащихся  и формированию морально-этических норм.</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ознавательная ценность текстов и научность их содержания. Тексты должны включать фактический материал о стране и народе, язык которого изучается, а также сведения из самых разнообразных областей человеческих знаний (научно-популярные тексты).</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Соответствие содержания текстов возрасту и интересам учащихс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равильность соотношения нового и известного. Из психологии известно, что одним из условий привлечения внимания к объекту является такая степень его новизны, при которой наряду с новыми элементами имеются и элементы, оказывающиеся для учащихся в какой-то мере знакомыми.</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Мера доступности текстов. Интересный текст, содержащий непреодолимые трудности, теряет в глазах учащихся всякую привлекательность.</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ланомерное нарастание объема текста.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5" name=""/>
          <p:cNvSpPr txBox="1"/>
          <p:nvPr/>
        </p:nvSpPr>
        <p:spPr>
          <a:xfrm>
            <a:off x="503280" y="530280"/>
            <a:ext cx="8183520" cy="6541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800" spc="-1" strike="noStrike">
                <a:solidFill>
                  <a:srgbClr val="000000"/>
                </a:solidFill>
                <a:latin typeface="Verdana"/>
              </a:rPr>
              <a:t>Важной задачей является научить учащихся понимать аутентичные тексты, не прибегая при каждой встрече с незнакомым языковым явлением к словарю. Для этого, как считает Н.Д.Гальскова учащиеся должны усвоить несколько правил работы с текстом:</a:t>
            </a: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читать текст на английском языке - это не значит переводить каждое слово;</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для понимания любого текста важную роль играет имеющийся у школьника жизненный опыт;</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чтобы понять текст (или прогнозировать, о чем будет идти речь в этом тексте), необходимо обратиться к помощи заголовка, рисунков, схем, таблиц и т.д., сопровождающих данный текст, его структуры;</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при чтении текста следует опираться в первую очередь на то, что знакомо в нем (слова, выражения), и попытаться прогнозировать содержание текста, догадаться о значении незнакомых слов;</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обращаться к словарю рекомендуется лишь в тех случаях, когда все прочие возможности понять значение новых слов исчерпаны.</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6" name=""/>
          <p:cNvSpPr txBox="1"/>
          <p:nvPr/>
        </p:nvSpPr>
        <p:spPr>
          <a:xfrm>
            <a:off x="503280" y="530280"/>
            <a:ext cx="8183520" cy="6067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Не менее важной задачей является разработка стратегий и тактики подготовки учащихся к ГИА и ЕГЭ.</a:t>
            </a:r>
            <a:br>
              <a:rPr sz="2000"/>
            </a:br>
            <a:r>
              <a:rPr b="0" lang="en-US" sz="2000" spc="-1" strike="noStrike">
                <a:solidFill>
                  <a:srgbClr val="000000"/>
                </a:solidFill>
                <a:latin typeface="Verdana"/>
              </a:rPr>
              <a:t>Большие сложности у учащихся среднего и старшего звена вызывают задания на множественный выбор в формате ЕГЭ и ГИА где проверяется полное и детальное понимание текста. Некоторые текстовые вопросы могут проверять понимание деталей – они связаны с конкретным отрезком текста. Другие вопросы могут проверять понимание всего текста, понимание мыслей и намерений автора, такие тестовые вопросы (один-два) даются последними.</a:t>
            </a:r>
            <a:br>
              <a:rPr sz="2000"/>
            </a:br>
            <a:r>
              <a:rPr b="0" lang="en-US" sz="2000" spc="-1" strike="noStrike">
                <a:solidFill>
                  <a:srgbClr val="000000"/>
                </a:solidFill>
                <a:latin typeface="Verdana"/>
              </a:rPr>
              <a:t>Таким образом, как показывает мой опыт работы, существуют стратегии тренировки выполнения данного вида чтения  -  множественный выбор  состоящий из трех этапов.</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7" name=""/>
          <p:cNvSpPr txBox="1"/>
          <p:nvPr/>
        </p:nvSpPr>
        <p:spPr>
          <a:xfrm>
            <a:off x="503280" y="529920"/>
            <a:ext cx="8183520" cy="4187880"/>
          </a:xfrm>
          <a:prstGeom prst="rect">
            <a:avLst/>
          </a:prstGeom>
          <a:noFill/>
          <a:ln w="0">
            <a:noFill/>
          </a:ln>
        </p:spPr>
        <p:txBody>
          <a:bodyPr lIns="182880" tIns="91440" anchor="t">
            <a:normAutofit fontScale="90000"/>
          </a:bodyPr>
          <a:p>
            <a:pPr marL="238320" indent="-238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Этап 1.</a:t>
            </a:r>
            <a:endParaRPr b="0" lang="en-US" sz="2800" spc="-1" strike="noStrike">
              <a:solidFill>
                <a:srgbClr val="000000"/>
              </a:solidFill>
              <a:latin typeface="Verdana"/>
            </a:endParaRPr>
          </a:p>
          <a:p>
            <a:pPr marL="238320" indent="-2383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Учащиеся просматривают все тестовые вопросы (т.е. начала предложений, концовки которых им надо выбрать) к данному тексту. При этом они не читают варианты ответов, закрывая их листочком или рукой. Просмотрев таким образом все тестовые вопросы и составив представление о  теме текста, они начинают работать с ними по порядку.</a:t>
            </a:r>
            <a:endParaRPr b="0" lang="en-US" sz="1800" spc="-1" strike="noStrike">
              <a:solidFill>
                <a:srgbClr val="000000"/>
              </a:solidFill>
              <a:latin typeface="Verdana"/>
            </a:endParaRPr>
          </a:p>
          <a:p>
            <a:pPr marL="238320" indent="-2383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Прочитав, первый тестовый вопрос (т.е. начало первого предложения) предложите учащимся закончить предложение исходя из прочитанного текста. Откройте и прочитайте первый предложенный вариант ответа.</a:t>
            </a:r>
            <a:endParaRPr b="0" lang="en-US" sz="1800" spc="-1" strike="noStrike">
              <a:solidFill>
                <a:srgbClr val="000000"/>
              </a:solidFill>
              <a:latin typeface="Verdana"/>
            </a:endParaRPr>
          </a:p>
          <a:p>
            <a:pPr marL="238320" indent="-2383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Перечитайте начало предложения, откройте и прочитайте второй вариант ответа,  затем – третий и четвертый. Если учащиеся явно отдают предпочтение одному из вариантов, они определяют к какой части теста относится тестовый вопрос и находят там подтверждение своему выбору. Если учащиеся не могут сделать выбор они переходят ко второму этапу.</a:t>
            </a:r>
            <a:endParaRPr b="0" lang="en-US" sz="1800" spc="-1" strike="noStrike">
              <a:solidFill>
                <a:srgbClr val="000000"/>
              </a:solidFill>
              <a:latin typeface="Verdana"/>
            </a:endParaRPr>
          </a:p>
          <a:p>
            <a:pPr marL="238320" indent="-238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8" name=""/>
          <p:cNvSpPr txBox="1"/>
          <p:nvPr/>
        </p:nvSpPr>
        <p:spPr>
          <a:xfrm>
            <a:off x="503280" y="529920"/>
            <a:ext cx="8183520" cy="57070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Этап 2.</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Необходимо сосредоточиться на вариантах ответов(т.е. концовках предложений) и определить что роднит и различает четыре варианта ответа: они могут быть очень похожи с одним различием. Эту деталь и надо найти в тексте, что поможет уверенно  выбрать правильный вариант ответа.</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Напомните учащимся, что если два варианта ответа совпадают по смыслу (синонимичны), ни один из них не может быть правильным.</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Обращаясь к тексту для проверки своего ответа, учащиеся читают только тот отрезок текста, который им для этого необходим.</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9" name=""/>
          <p:cNvSpPr txBox="1"/>
          <p:nvPr/>
        </p:nvSpPr>
        <p:spPr>
          <a:xfrm>
            <a:off x="395280" y="188640"/>
            <a:ext cx="8183520" cy="63277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Этап 3.</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Учащиеся читают выбранные ими ответы – все подряд. Проверяют, складываются ли они в логическую картинку и не противоречат ли содержанию текста.</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братите внимание учащихся на то, что сформулировано четко и на то, что только подразумевается. Некоторые ответы в тесте на множественный выбор основаны на намерениях и мнениях авторов.</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ГИА и ЕГЭ требуют дополнительное знакомство с форматом теста, овладения технологией выполнения тестовых заданий различных типов и умения работать в ограниченных временных рамках и условиях, характерных для экзамена. Поэтому учитель работающий в старших классах, должен использовать технологии, позволяющие гармонично сочетать интенсивную учебную деятельность по совершенствованию коммуникативных умений с формированием навыков работы в новом экзаменационном формате.</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0" name=""/>
          <p:cNvSpPr txBox="1"/>
          <p:nvPr/>
        </p:nvSpPr>
        <p:spPr>
          <a:xfrm>
            <a:off x="503280" y="530280"/>
            <a:ext cx="8183520" cy="611352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Человек читающий - это другой человек, отличающийся в интеллектуальном развитии от нечитающего. Проведенные исследования в ряде стран показали, что читатели способны мыслить проблемно, схватывать целое и выявлять противоречивые взаимосвязи явлений, наиболее адекватно оценивать ситуацию и быстрее находить новые верные реш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3" name=""/>
          <p:cNvSpPr txBox="1"/>
          <p:nvPr/>
        </p:nvSpPr>
        <p:spPr>
          <a:xfrm>
            <a:off x="503280" y="529920"/>
            <a:ext cx="8183520" cy="53989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Мотив  чтения – </a:t>
            </a:r>
            <a:r>
              <a:rPr b="0" lang="en-US" sz="2800" spc="-1" strike="noStrike">
                <a:solidFill>
                  <a:srgbClr val="000000"/>
                </a:solidFill>
                <a:latin typeface="Verdana"/>
              </a:rPr>
              <a:t>мысли другого человека, облечённые в смысловую информацию текста</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Цель чтения </a:t>
            </a:r>
            <a:r>
              <a:rPr b="0" lang="en-US" sz="2800" spc="-1" strike="noStrike">
                <a:solidFill>
                  <a:srgbClr val="000000"/>
                </a:solidFill>
                <a:latin typeface="Verdana"/>
              </a:rPr>
              <a:t>– осмысление информации, поступающей через письменный текст</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4" name=""/>
          <p:cNvSpPr txBox="1"/>
          <p:nvPr/>
        </p:nvSpPr>
        <p:spPr>
          <a:xfrm>
            <a:off x="503280" y="530280"/>
            <a:ext cx="8183520" cy="5256000"/>
          </a:xfrm>
          <a:prstGeom prst="rect">
            <a:avLst/>
          </a:prstGeom>
          <a:noFill/>
          <a:ln w="0">
            <a:noFill/>
          </a:ln>
        </p:spPr>
        <p:txBody>
          <a:bodyPr lIns="182880" tIns="91440" anchor="t">
            <a:normAutofit/>
          </a:bodyPr>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Задачей обучения чтению </a:t>
            </a:r>
            <a:r>
              <a:rPr b="0" lang="en-US" sz="2800" spc="-1" strike="noStrike">
                <a:solidFill>
                  <a:srgbClr val="000000"/>
                </a:solidFill>
                <a:latin typeface="Verdana"/>
              </a:rPr>
              <a:t>как самостоятельному виду речевой деятельности является: научить учащихся извлекать информацию из текста в том объеме, который необходим для решения конкретной речевой задачи, используя определенные технологии чт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5" name=""/>
          <p:cNvSpPr txBox="1"/>
          <p:nvPr/>
        </p:nvSpPr>
        <p:spPr>
          <a:xfrm>
            <a:off x="503280" y="530280"/>
            <a:ext cx="8183520" cy="547056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a:solidFill>
                  <a:srgbClr val="000000"/>
                </a:solidFill>
                <a:latin typeface="Verdana"/>
              </a:rPr>
              <a:t>Чтение может выступать и как </a:t>
            </a:r>
            <a:r>
              <a:rPr b="1" lang="ru-RU" sz="2200" spc="-1" strike="noStrike">
                <a:solidFill>
                  <a:srgbClr val="000000"/>
                </a:solidFill>
                <a:latin typeface="Verdana"/>
              </a:rPr>
              <a:t>средство </a:t>
            </a:r>
            <a:r>
              <a:rPr b="0" lang="ru-RU" sz="2200" spc="-1" strike="noStrike">
                <a:solidFill>
                  <a:srgbClr val="000000"/>
                </a:solidFill>
                <a:latin typeface="Verdana"/>
              </a:rPr>
              <a:t>формирования и контроля смежных речевых умений и языковых навыков, поскольку:</a:t>
            </a: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использование чтения позволяет учащимся оптимизировать процесс усвоения языкового и речевого материала;</a:t>
            </a: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коммуникативно-ориентированные задания на контроль лексики и грамматики, аудирования, письма и устной речи предполагают умение читать и строятся на основе письменных текстов и инструкций;</a:t>
            </a: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упражнения на формирование и отработку всех языковых и речевых навыков и умений также строятся с опорой на текст и письменные установки к упражнениям и заданиям.</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6" name=""/>
          <p:cNvSpPr txBox="1"/>
          <p:nvPr/>
        </p:nvSpPr>
        <p:spPr>
          <a:xfrm>
            <a:off x="503280" y="529920"/>
            <a:ext cx="8183520" cy="6041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ункции чтения:</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знавательная функция </a:t>
            </a:r>
            <a:r>
              <a:rPr b="0" lang="ru-RU" sz="2800" spc="-1" strike="noStrike">
                <a:solidFill>
                  <a:srgbClr val="000000"/>
                </a:solidFill>
                <a:latin typeface="Verdana"/>
              </a:rPr>
              <a:t>– чтение только для того, чтобы извлечь информацию, осмыслить, отреагировать</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Ценностно- информативное </a:t>
            </a:r>
            <a:r>
              <a:rPr b="0" lang="ru-RU" sz="2800" spc="-1" strike="noStrike">
                <a:solidFill>
                  <a:srgbClr val="000000"/>
                </a:solidFill>
                <a:latin typeface="Verdana"/>
              </a:rPr>
              <a:t>чтение для того, чтобы потом обсудить, оценить пересказать содержание прочитанного, т.е. использовать результаты чтения в других видах РД.</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Регулятивное чтение </a:t>
            </a:r>
            <a:r>
              <a:rPr b="0" lang="ru-RU" sz="2800" spc="-1" strike="noStrike">
                <a:solidFill>
                  <a:srgbClr val="000000"/>
                </a:solidFill>
                <a:latin typeface="Verdana"/>
              </a:rPr>
              <a:t>с последующими предметными действиями, соотносящимися или не соотносящимися с описанным в тексте.</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7" name=""/>
          <p:cNvSpPr txBox="1"/>
          <p:nvPr/>
        </p:nvSpPr>
        <p:spPr>
          <a:xfrm>
            <a:off x="428760" y="856800"/>
            <a:ext cx="8183520" cy="5327640"/>
          </a:xfrm>
          <a:prstGeom prst="rect">
            <a:avLst/>
          </a:prstGeom>
          <a:noFill/>
          <a:ln w="0">
            <a:noFill/>
          </a:ln>
        </p:spPr>
        <p:txBody>
          <a:bodyPr lIns="182880" tIns="91440" anchor="t">
            <a:normAutofit/>
          </a:bodyPr>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Продукт чтения </a:t>
            </a:r>
            <a:r>
              <a:rPr b="0" lang="en-US" sz="2800" spc="-1" strike="noStrike">
                <a:solidFill>
                  <a:srgbClr val="000000"/>
                </a:solidFill>
                <a:latin typeface="Verdana"/>
              </a:rPr>
              <a:t>– умозаключение, к которому приходит человек в результате чтения</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Результат чтения – </a:t>
            </a:r>
            <a:r>
              <a:rPr b="0" lang="en-US" sz="2800" spc="-1" strike="noStrike">
                <a:solidFill>
                  <a:srgbClr val="000000"/>
                </a:solidFill>
                <a:latin typeface="Verdana"/>
              </a:rPr>
              <a:t>понимание или непонимание письменного сообщ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8" name=""/>
          <p:cNvSpPr txBox="1"/>
          <p:nvPr/>
        </p:nvSpPr>
        <p:spPr>
          <a:xfrm>
            <a:off x="499680" y="928440"/>
            <a:ext cx="8186760" cy="450036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Содержание обучения чтению</a:t>
            </a:r>
            <a:endParaRPr b="0" lang="en-US" sz="2800" spc="-1" strike="noStrike">
              <a:solidFill>
                <a:srgbClr val="000000"/>
              </a:solidFill>
              <a:latin typeface="Verdana"/>
            </a:endParaRPr>
          </a:p>
        </p:txBody>
      </p:sp>
      <p:sp>
        <p:nvSpPr>
          <p:cNvPr id="229" name="Прямоугольник 3"/>
          <p:cNvSpPr/>
          <p:nvPr/>
        </p:nvSpPr>
        <p:spPr>
          <a:xfrm>
            <a:off x="928800" y="2643120"/>
            <a:ext cx="1785960" cy="16430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Лингвистический компонент</a:t>
            </a:r>
            <a:endParaRPr b="0" lang="en-US" sz="1800" spc="-1" strike="noStrike">
              <a:solidFill>
                <a:srgbClr val="000000"/>
              </a:solidFill>
              <a:latin typeface="Arial"/>
            </a:endParaRPr>
          </a:p>
        </p:txBody>
      </p:sp>
      <p:sp>
        <p:nvSpPr>
          <p:cNvPr id="230" name="Прямоугольник 4"/>
          <p:cNvSpPr/>
          <p:nvPr/>
        </p:nvSpPr>
        <p:spPr>
          <a:xfrm>
            <a:off x="3857760" y="2643120"/>
            <a:ext cx="1714320" cy="16430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Психологический компонент</a:t>
            </a:r>
            <a:endParaRPr b="0" lang="en-US" sz="1800" spc="-1" strike="noStrike">
              <a:solidFill>
                <a:srgbClr val="000000"/>
              </a:solidFill>
              <a:latin typeface="Arial"/>
            </a:endParaRPr>
          </a:p>
        </p:txBody>
      </p:sp>
      <p:sp>
        <p:nvSpPr>
          <p:cNvPr id="231" name="Прямоугольник 5"/>
          <p:cNvSpPr/>
          <p:nvPr/>
        </p:nvSpPr>
        <p:spPr>
          <a:xfrm>
            <a:off x="6429240" y="2714760"/>
            <a:ext cx="1643040" cy="15714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Методологический компонент</a:t>
            </a:r>
            <a:endParaRPr b="0" lang="en-US" sz="1800" spc="-1" strike="noStrike">
              <a:solidFill>
                <a:srgbClr val="000000"/>
              </a:solidFill>
              <a:latin typeface="Arial"/>
            </a:endParaRPr>
          </a:p>
        </p:txBody>
      </p:sp>
      <p:cxnSp>
        <p:nvCxnSpPr>
          <p:cNvPr id="232" name="Прямая со стрелкой 7"/>
          <p:cNvCxnSpPr/>
          <p:nvPr/>
        </p:nvCxnSpPr>
        <p:spPr>
          <a:xfrm flipH="1">
            <a:off x="1714320" y="1642680"/>
            <a:ext cx="714960" cy="857880"/>
          </a:xfrm>
          <a:prstGeom prst="straightConnector1">
            <a:avLst/>
          </a:prstGeom>
          <a:ln w="9360">
            <a:solidFill>
              <a:srgbClr val="ff8000"/>
            </a:solidFill>
            <a:miter/>
            <a:tailEnd len="med" type="arrow" w="med"/>
          </a:ln>
        </p:spPr>
      </p:cxnSp>
      <p:cxnSp>
        <p:nvCxnSpPr>
          <p:cNvPr id="233" name="Прямая со стрелкой 13"/>
          <p:cNvCxnSpPr/>
          <p:nvPr/>
        </p:nvCxnSpPr>
        <p:spPr>
          <a:xfrm flipH="1">
            <a:off x="4714560" y="1571400"/>
            <a:ext cx="2160" cy="929160"/>
          </a:xfrm>
          <a:prstGeom prst="straightConnector1">
            <a:avLst/>
          </a:prstGeom>
          <a:ln w="9360">
            <a:solidFill>
              <a:srgbClr val="ff8000"/>
            </a:solidFill>
            <a:miter/>
            <a:tailEnd len="med" type="arrow" w="med"/>
          </a:ln>
        </p:spPr>
      </p:cxnSp>
      <p:cxnSp>
        <p:nvCxnSpPr>
          <p:cNvPr id="234" name="Прямая со стрелкой 16"/>
          <p:cNvCxnSpPr/>
          <p:nvPr/>
        </p:nvCxnSpPr>
        <p:spPr>
          <a:xfrm>
            <a:off x="6786720" y="1571760"/>
            <a:ext cx="643320" cy="786240"/>
          </a:xfrm>
          <a:prstGeom prst="straightConnector1">
            <a:avLst/>
          </a:prstGeom>
          <a:ln w="9360">
            <a:solidFill>
              <a:srgbClr val="ff8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5" name=""/>
          <p:cNvSpPr txBox="1"/>
          <p:nvPr/>
        </p:nvSpPr>
        <p:spPr>
          <a:xfrm>
            <a:off x="503280" y="1071720"/>
            <a:ext cx="8183520" cy="457200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Лингвистический компонент:</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Буквы</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Буквосочетания</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Слова</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Словосочетания</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Предложения</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04:50:55Z</dcterms:created>
  <dc:creator>User</dc:creator>
  <dc:description/>
  <dc:language>en-US</dc:language>
  <cp:lastModifiedBy>Анна</cp:lastModifiedBy>
  <dcterms:modified xsi:type="dcterms:W3CDTF">2015-09-11T22:31:12Z</dcterms:modified>
  <cp:revision>54</cp:revision>
  <dc:subject/>
  <dc:title>Технология обучения чтению</dc:title>
</cp:coreProperties>
</file>