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1.png" ContentType="image/png"/>
  <Override PartName="/ppt/media/image4.jpeg" ContentType="image/jpeg"/>
  <Override PartName="/ppt/media/image5.jpeg" ContentType="image/jpeg"/>
  <Override PartName="/ppt/media/image62.jpeg" ContentType="image/jpeg"/>
  <Override PartName="/ppt/media/image50.png" ContentType="image/png"/>
  <Override PartName="/ppt/media/image26.jpeg" ContentType="image/jpeg"/>
  <Override PartName="/ppt/media/image25.jpeg" ContentType="image/jpe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15.jpeg" ContentType="image/jpeg"/>
  <Override PartName="/ppt/media/image67.jpeg" ContentType="image/jpeg"/>
  <Override PartName="/ppt/media/image66.jpeg" ContentType="image/jpeg"/>
  <Override PartName="/ppt/media/image9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8.jpeg" ContentType="image/jpeg"/>
  <Override PartName="/ppt/media/image17.jpeg" ContentType="image/jpeg"/>
  <Override PartName="/ppt/media/image61.jpeg" ContentType="image/jpeg"/>
  <Override PartName="/ppt/media/image16.jpeg" ContentType="image/jpeg"/>
  <Override PartName="/ppt/media/image63.jpeg" ContentType="image/jpeg"/>
  <Override PartName="/ppt/media/image6.jpeg" ContentType="image/jpeg"/>
  <Override PartName="/ppt/media/image19.jpeg" ContentType="image/jpeg"/>
  <Override PartName="/ppt/media/image52.png" ContentType="image/pn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55.png" ContentType="image/png"/>
  <Override PartName="/ppt/media/image20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E00-CD39-43D9-9D1C-2D828D27B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DBE2-22F7-4220-A317-4EEDD8DB1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25D8-783B-435F-9C3C-8112C9C5E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87B0-E2ED-4FC3-847D-A5A12DFA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B8193-8D44-4F51-8454-618F1FFF2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3ED3-DA6D-4E72-AC22-C79FF5E8D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ECF4-DBAF-4C95-920A-F6DD72BC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628CB-20D4-4ED0-B337-C9E57EE5E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EA35-3AB0-40D4-A707-62B1CB86F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7C125-C254-48C6-A859-FE107FC9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DD6B-F8B6-4E6A-BCF0-8F9D56BCB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CF8D-894E-4639-A06C-9CE6BF2C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4355-F370-4446-AC22-FD1BA43F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394E-C39F-4F2D-908C-E4D0A1A4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C6266-2EED-46C8-8BEC-BF62D897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91217-C49F-4ADA-A2A8-B9A60861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3A443-A2E6-4BA7-B425-9914E989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812786-7F5A-447F-BD9E-483B6D90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1A51F-C2B4-4CB8-AB2A-E0F8BE51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23AEBD-6205-4487-94B0-D7967A08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EEA11-0D2B-4422-A63C-B44A8762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04E4A4-875E-4CF4-BA63-5ED7FB99F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63AA-421D-408C-89DC-3CFF1EB3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F7F8F3-6FFC-4F7B-B32C-AFE0D0B2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8E40B4-084E-4B16-ACFD-215FE284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1BDE5B-BFDC-40CE-8141-6FA060A2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34FEE1-8CEB-4200-A960-CEC1262F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0D6C94-A608-4CAF-94B2-872CB6373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9099D-6FF4-42BB-ACA5-704899C9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448D0-E3DA-4874-B691-206713478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84A97-9D6A-4360-BBBB-C94D9B5CA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10AC-16A2-4E1C-8137-71C40080C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995658-4CE1-4252-B363-DCF45B00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A2EE-A0CD-4F9E-A280-074BFCF5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CC38D-1C1C-426D-BA9B-4ECC0D23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81D96-67E1-481A-A406-9CD078300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462BC-1023-48A8-A10F-F459B0F4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D6110-4403-4242-9003-0CBBD46A4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9BE0-ED50-4F3E-B449-2BFA7927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20664-0358-4DFA-B188-2C76CE09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CDE8DC-C2D9-4CC5-8FBD-6030FD76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055D0-1766-4FDE-8358-E009E4AB0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B1214-73FA-4547-9A47-92ECD6DE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60743A-DF3B-4ABC-B261-9A5C9EFA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DA9-5492-4BBF-97B1-34BB3D9D8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B7F97-D599-4472-A163-FAC9C0E3F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34015-FD20-438B-8826-513686DC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2AA1C3-8B1C-4CF6-957C-69CF113B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F86133-8B8A-4476-96F1-89DA2A09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71D8C1-99D2-423B-BBD6-D2C82A18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7E9285-64FF-4053-AB3E-DFABD1B8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82A86A-FDB7-4129-A1B7-5DC7F7D4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66F4B7-88FE-4A54-A9BB-B9D78BFA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AA35E4-ED21-4195-AC78-EA906AE8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AEB31F-B2D8-4861-BA53-FD913D95F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13C-C79E-4C9F-9207-4BED08BE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574C5-7A95-4F26-AE69-3EBA1D3E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7172E0-00CE-4FF9-91FF-AEBD39E3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02ED56-7A9C-4E3B-9C8E-0552D35B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084D461-5D3F-4105-A9E8-45B883B1B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9E2BF1-26C9-4C40-BCA2-B7821617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A685E8-A66E-4A3A-A088-C9073F6CB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2E795-B762-4654-AA95-AD96CB78F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FBCE47-C946-4219-810F-5CAA5F1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955E0-98A9-4E91-86BB-632C9837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FB408-36FE-455E-BCB5-AA2BA62D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30A-2761-4465-B77D-B62CD81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D8E678-93A8-4930-8764-11E2BE3AC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8DE396-99EC-426D-9264-273D62851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14C87D-4A88-4072-B111-DBC64F2C2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1E89ED-BFB2-40D1-90E1-EAD852B1B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272434-E223-41DF-A994-6EC4EC35E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2BC329-7B61-4889-A677-29B18F2E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0034F5-EFA0-4DA4-8289-43ED2D7AD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8614376-AE48-4761-9F29-ACA6A422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7B0965-1497-42BD-8EDD-C523DCF1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78CF74-7153-4470-9DCA-C901F50B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04EE-7277-41F2-9056-BB50A286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E4CB5-B096-4B1B-933A-198A3DB2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8D9101-AE0E-420A-9AFA-41C8C4A9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2972A8-4CF6-4A30-A463-C7F6E60C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A54265-7531-4CE6-AEE8-46178D7D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4D349-A3EC-4766-8150-62C397C22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A361-39B4-4409-A57D-FCE8F5A7F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9E94-6C8D-4E5E-9C8D-43F06F0D03B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EE35A-B059-4D25-B9D4-9515D1067FB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33E04-0FAE-4FCE-9573-FAF28BA93D4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E4B5-8FC1-4069-A1A8-ACF3444A3F3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A7940-2962-4615-95B8-D2C4ED01D14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6DA8-06D6-4335-9C24-8114BED5DCB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A47E-1173-45A7-A969-1DA0E5B628F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53.png"/><Relationship Id="rId6" Type="http://schemas.openxmlformats.org/officeDocument/2006/relationships/image" Target="../media/image54.png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9.jpeg"/><Relationship Id="rId3" Type="http://schemas.openxmlformats.org/officeDocument/2006/relationships/image" Target="../media/image60.jpeg"/><Relationship Id="rId4" Type="http://schemas.openxmlformats.org/officeDocument/2006/relationships/image" Target="../media/image61.jpeg"/><Relationship Id="rId5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5" descr="C:\Users\Анна\Desktop\5737708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500120" y="928800"/>
            <a:ext cx="6888240" cy="13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УТЕШЕСТВИЕ </a:t>
            </a:r>
            <a:br>
              <a:rPr sz="5400"/>
            </a:br>
            <a:r>
              <a:rPr b="1" lang="ru-RU" sz="5400" spc="-1" strike="noStrike">
                <a:solidFill>
                  <a:srgbClr val="ffff00"/>
                </a:solidFill>
                <a:latin typeface="Monotype Corsiva"/>
              </a:rPr>
              <a:t>ПО СКАЗКАМ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971280" y="256536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Презентацию подготовили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учащиеся 2Б класс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МБОУ лицея №6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г. Ессентуки Ставропольского кра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Маршакова Софь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Кузьминова Дари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Башорова Камилл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entury Schoolbook"/>
              </a:rPr>
              <a:t>Гончаренко Поли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ПРИНЦЕССА НА ГОРОШИНЕ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9" name="Picture 2" descr="C:\Users\user\Desktop\квн\принцесса на гор.jpg"/>
          <p:cNvPicPr/>
          <p:nvPr/>
        </p:nvPicPr>
        <p:blipFill>
          <a:blip r:embed="rId1"/>
          <a:stretch/>
        </p:blipFill>
        <p:spPr>
          <a:xfrm>
            <a:off x="250920" y="1785960"/>
            <a:ext cx="2333520" cy="3105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Users\user\Desktop\квн\принцесса на гор2.jpg"/>
          <p:cNvPicPr/>
          <p:nvPr/>
        </p:nvPicPr>
        <p:blipFill>
          <a:blip r:embed="rId2"/>
          <a:stretch/>
        </p:blipFill>
        <p:spPr>
          <a:xfrm>
            <a:off x="1979640" y="3645000"/>
            <a:ext cx="3809880" cy="28382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4" descr="C:\Users\user\Desktop\квн\принцесса на гор3.jpg"/>
          <p:cNvPicPr/>
          <p:nvPr/>
        </p:nvPicPr>
        <p:blipFill>
          <a:blip r:embed="rId3"/>
          <a:stretch/>
        </p:blipFill>
        <p:spPr>
          <a:xfrm>
            <a:off x="5305320" y="2000160"/>
            <a:ext cx="3838680" cy="4857840"/>
          </a:xfrm>
          <a:prstGeom prst="rect">
            <a:avLst/>
          </a:prstGeom>
          <a:ln w="0">
            <a:noFill/>
          </a:ln>
        </p:spPr>
      </p:pic>
      <p:sp>
        <p:nvSpPr>
          <p:cNvPr id="392" name="TextBox 6"/>
          <p:cNvSpPr/>
          <p:nvPr/>
        </p:nvSpPr>
        <p:spPr>
          <a:xfrm>
            <a:off x="2843280" y="1844640"/>
            <a:ext cx="244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Г.Х. Андерс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КОНЁК-ГОРБУНОК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2" descr="C:\Users\user\Desktop\квн\конёк-горбунок.jpg"/>
          <p:cNvPicPr/>
          <p:nvPr/>
        </p:nvPicPr>
        <p:blipFill>
          <a:blip r:embed="rId1"/>
          <a:stretch/>
        </p:blipFill>
        <p:spPr>
          <a:xfrm>
            <a:off x="0" y="1268280"/>
            <a:ext cx="4500720" cy="33530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C:\Users\user\Desktop\квн\конёк - горбкнок.jpg"/>
          <p:cNvPicPr/>
          <p:nvPr/>
        </p:nvPicPr>
        <p:blipFill>
          <a:blip r:embed="rId2"/>
          <a:stretch/>
        </p:blipFill>
        <p:spPr>
          <a:xfrm>
            <a:off x="2556000" y="3905280"/>
            <a:ext cx="4476600" cy="295272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C:\Users\user\Desktop\квн\конёк -горбунок.jpg"/>
          <p:cNvPicPr/>
          <p:nvPr/>
        </p:nvPicPr>
        <p:blipFill>
          <a:blip r:embed="rId3"/>
          <a:stretch/>
        </p:blipFill>
        <p:spPr>
          <a:xfrm>
            <a:off x="5724360" y="1341360"/>
            <a:ext cx="3181680" cy="4276800"/>
          </a:xfrm>
          <a:prstGeom prst="rect">
            <a:avLst/>
          </a:prstGeom>
          <a:ln w="0">
            <a:noFill/>
          </a:ln>
        </p:spPr>
      </p:pic>
      <p:sp>
        <p:nvSpPr>
          <p:cNvPr id="397" name="TextBox 7"/>
          <p:cNvSpPr/>
          <p:nvPr/>
        </p:nvSpPr>
        <p:spPr>
          <a:xfrm>
            <a:off x="324000" y="5229360"/>
            <a:ext cx="201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Пётр Ерш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ЗНАЕШЬ ЛИ ТЫ СКАЗКИ?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9" name="Picture 2" descr="C:\Users\user\Desktop\квн\о рыбаке и рыбке.gif"/>
          <p:cNvPicPr/>
          <p:nvPr/>
        </p:nvPicPr>
        <p:blipFill>
          <a:blip r:embed="rId1"/>
          <a:stretch/>
        </p:blipFill>
        <p:spPr>
          <a:xfrm>
            <a:off x="0" y="1785960"/>
            <a:ext cx="3664080" cy="236376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3" descr="C:\Users\user\Desktop\квн\золотая рыбка.jpg"/>
          <p:cNvPicPr/>
          <p:nvPr/>
        </p:nvPicPr>
        <p:blipFill>
          <a:blip r:embed="rId2"/>
          <a:srcRect l="9910" t="0" r="0" b="0"/>
          <a:stretch/>
        </p:blipFill>
        <p:spPr>
          <a:xfrm>
            <a:off x="1692360" y="3041640"/>
            <a:ext cx="4583160" cy="381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4" descr="C:\Users\user\Desktop\квн\у корыта.jpg"/>
          <p:cNvPicPr/>
          <p:nvPr/>
        </p:nvPicPr>
        <p:blipFill>
          <a:blip r:embed="rId3"/>
          <a:stretch/>
        </p:blipFill>
        <p:spPr>
          <a:xfrm>
            <a:off x="4572000" y="29242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402" name="TextBox 6"/>
          <p:cNvSpPr/>
          <p:nvPr/>
        </p:nvSpPr>
        <p:spPr>
          <a:xfrm>
            <a:off x="3851280" y="162864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Сказка о рыбаке и рыбк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7"/>
          <p:cNvSpPr/>
          <p:nvPr/>
        </p:nvSpPr>
        <p:spPr>
          <a:xfrm>
            <a:off x="179280" y="4653000"/>
            <a:ext cx="2305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А.С. Пушки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68000" y="170028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1.  «Бременские музыканты»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осёл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етух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Schoolbook"/>
              </a:rPr>
              <a:t>поросёнок 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2  «Снежная королева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Герда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збойница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3. «Волшебник изумрудного города»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Элли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трашила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Гингем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4.  «Вини -  Пух и все, все, все»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Иа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Пятачок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Филин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8" descr="C:\Users\1\Desktop\занятия из интернета для гпд - копия\i (4).jpg"/>
          <p:cNvPicPr/>
          <p:nvPr/>
        </p:nvPicPr>
        <p:blipFill>
          <a:blip r:embed="rId2"/>
          <a:stretch/>
        </p:blipFill>
        <p:spPr>
          <a:xfrm>
            <a:off x="4284720" y="1424160"/>
            <a:ext cx="45352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3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3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1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/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4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4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4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40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40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40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0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40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3" dur="500"/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/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5" descr="C:\Users\Анна\Desktop\99901159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5f6d"/>
                </a:solidFill>
                <a:latin typeface="Century Schoolbook"/>
              </a:rPr>
              <a:t>ИЗ ОДНОЙ ЛИ МЫ СКАЗКИ?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5.  «Маугл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Шерхан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Багира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Тотошка  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6.  «Теремок»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ягушка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лк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егемот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7.  «Три медведя»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аша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ишутка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Железный  дровосек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8 «Доктор Айболит»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и – чи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армалей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арабас - Барабас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11" name="Picture 5" descr="C:\Users\1\Desktop\занятия из интернета для гпд - копия\i (6).jpg"/>
          <p:cNvPicPr/>
          <p:nvPr/>
        </p:nvPicPr>
        <p:blipFill>
          <a:blip r:embed="rId2"/>
          <a:stretch/>
        </p:blipFill>
        <p:spPr>
          <a:xfrm>
            <a:off x="3203640" y="1484280"/>
            <a:ext cx="5256000" cy="4537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0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4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/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4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4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9" dur="5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/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4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4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7" dur="500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/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41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0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41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4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4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41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0" dur="500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/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6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ВОЛШЕБНЫЕ СЛОВА</a:t>
            </a:r>
            <a:br>
              <a:rPr sz="2400"/>
            </a:br>
            <a:r>
              <a:rPr b="1" lang="ru-RU" sz="2400" spc="-1" strike="noStrike">
                <a:solidFill>
                  <a:srgbClr val="e75c01"/>
                </a:solidFill>
                <a:latin typeface="Century Schoolbook"/>
              </a:rPr>
              <a:t>КАКОМУ ГЕРОЮ ПРИНАДЛЕЖАТ СЛЕДУЮЩИЕ СЛОВА? КАК НАЗЫВАЕТСЯ СКАЗКА?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99680" y="14288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Сивка-бурка ,вещий каурка!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стань передо мной, как лист перед травой! 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Иванушка-дурачок, сказка «Сивка-бурка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Раз, два, три горшочек, вари!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Девочка, братья Гримм «Горшок каши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ети- лети , лепе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запад на восток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Через север, через юг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звращайся, сделав круг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Лишь коснёшься ты земли,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Быть по-моему вели 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Женя, В. Катаев «Цветик-семицветик»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Мутабор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Калиф,  В. Гауф «Калиф-аист»)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Вот теперь тебя люблю я, вот теперь тебя хвалю я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А немытым трубочистам стыд и срам.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Мойдодыр, К. Чуйковский «Мойдодыр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Крекс Фекс Пекс!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(Буратино, А. Толстой « Золотой ключик, или приключения Буратино»)</a:t>
            </a:r>
            <a:r>
              <a:rPr b="1" lang="ru-RU" sz="1600" spc="-1" strike="noStrike">
                <a:solidFill>
                  <a:srgbClr val="000000"/>
                </a:solidFill>
                <a:latin typeface="Century Schoolbook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amond/>
  </p:transition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0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4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4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00"/>
                                        <p:tgtEl>
                                          <p:spTgt spid="4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6" dur="500"/>
                                        <p:tgtEl>
                                          <p:spTgt spid="4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9" dur="500"/>
                                        <p:tgtEl>
                                          <p:spTgt spid="4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4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5" dur="500"/>
                                        <p:tgtEl>
                                          <p:spTgt spid="4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1000"/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4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4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1000"/>
                                        <p:tgtEl>
                                          <p:spTgt spid="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4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4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1000"/>
                                        <p:tgtEl>
                                          <p:spTgt spid="4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4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4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4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4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4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41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4" dur="1000"/>
                                        <p:tgtEl>
                                          <p:spTgt spid="4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4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41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ТЕЛЕГРАММЫ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95280" y="6021000"/>
            <a:ext cx="61920" cy="1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7" name="Rectangle 1"/>
          <p:cNvSpPr/>
          <p:nvPr/>
        </p:nvSpPr>
        <p:spPr>
          <a:xfrm>
            <a:off x="0" y="1435680"/>
            <a:ext cx="40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«От дедушки у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От бабушки ушёл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коро буду у вас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2"/>
          <p:cNvSpPr/>
          <p:nvPr/>
        </p:nvSpPr>
        <p:spPr>
          <a:xfrm>
            <a:off x="4356000" y="1155240"/>
            <a:ext cx="288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50796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«Спасите, нас съел серый волк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395280" y="4432320"/>
            <a:ext cx="37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50796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«Простое яичко уже снесла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4"/>
          <p:cNvSpPr/>
          <p:nvPr/>
        </p:nvSpPr>
        <p:spPr>
          <a:xfrm>
            <a:off x="4284720" y="3316680"/>
            <a:ext cx="4174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ff"/>
              </a:buClr>
              <a:buFont typeface="Arial"/>
              <a:buChar char="•"/>
              <a:tabLst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«Живу без всякой сл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Средь зелёныя дубравы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Times New Roman"/>
              </a:rPr>
              <a:t>У семи богатыре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952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5" descr="C:\Users\user\Desktop\квн\колобок.jpg"/>
          <p:cNvPicPr/>
          <p:nvPr/>
        </p:nvPicPr>
        <p:blipFill>
          <a:blip r:embed="rId1"/>
          <a:stretch/>
        </p:blipFill>
        <p:spPr>
          <a:xfrm>
            <a:off x="1332000" y="2708280"/>
            <a:ext cx="1815840" cy="182880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C:\Users\user\Desktop\квн\7 козлят.jpg"/>
          <p:cNvPicPr/>
          <p:nvPr/>
        </p:nvPicPr>
        <p:blipFill>
          <a:blip r:embed="rId2"/>
          <a:stretch/>
        </p:blipFill>
        <p:spPr>
          <a:xfrm>
            <a:off x="6372360" y="981000"/>
            <a:ext cx="2195280" cy="2457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C:\Users\user\Desktop\квн\кура.jpg"/>
          <p:cNvPicPr/>
          <p:nvPr/>
        </p:nvPicPr>
        <p:blipFill>
          <a:blip r:embed="rId3"/>
          <a:stretch/>
        </p:blipFill>
        <p:spPr>
          <a:xfrm>
            <a:off x="2268360" y="4941720"/>
            <a:ext cx="1776600" cy="1916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8" descr="C:\Users\user\Desktop\квн\царевна.jpg"/>
          <p:cNvPicPr/>
          <p:nvPr/>
        </p:nvPicPr>
        <p:blipFill>
          <a:blip r:embed="rId4"/>
          <a:stretch/>
        </p:blipFill>
        <p:spPr>
          <a:xfrm>
            <a:off x="5867280" y="4278240"/>
            <a:ext cx="2835360" cy="25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3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entury Schoolbook"/>
              </a:rPr>
              <a:t>КОНКУРС КАПИТАНОВ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1. Какую песню пел Колобок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entury Schoolbook"/>
              </a:rPr>
              <a:t>2. Что пела Коза своим козлятам?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27" name="Picture 5" descr="C:\Users\user\Desktop\квн\колобок.jpg"/>
          <p:cNvPicPr/>
          <p:nvPr/>
        </p:nvPicPr>
        <p:blipFill>
          <a:blip r:embed="rId1"/>
          <a:stretch/>
        </p:blipFill>
        <p:spPr>
          <a:xfrm>
            <a:off x="3276720" y="2276640"/>
            <a:ext cx="1815840" cy="1828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C:\Users\user\Desktop\квн\коза.jpg"/>
          <p:cNvPicPr/>
          <p:nvPr/>
        </p:nvPicPr>
        <p:blipFill>
          <a:blip r:embed="rId2"/>
          <a:stretch/>
        </p:blipFill>
        <p:spPr>
          <a:xfrm>
            <a:off x="5575320" y="4653000"/>
            <a:ext cx="26892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9" dur="5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4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59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9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          </a:t>
            </a:r>
            <a:r>
              <a:rPr b="0" lang="ru-RU" sz="40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1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714240" y="2286000"/>
            <a:ext cx="2405160" cy="1857240"/>
          </a:xfrm>
          <a:prstGeom prst="rect">
            <a:avLst/>
          </a:prstGeom>
          <a:ln w="0">
            <a:noFill/>
          </a:ln>
        </p:spPr>
      </p:pic>
      <p:pic>
        <p:nvPicPr>
          <p:cNvPr id="432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214800" y="4357800"/>
            <a:ext cx="2571480" cy="1923840"/>
          </a:xfrm>
          <a:prstGeom prst="rect">
            <a:avLst/>
          </a:prstGeom>
          <a:ln w="0">
            <a:noFill/>
          </a:ln>
        </p:spPr>
      </p:pic>
      <p:pic>
        <p:nvPicPr>
          <p:cNvPr id="433" name="Рисунок 5" descr="C:\Users\1\Desktop\занятия из интернета для гпд\0419a61abde816db5df239b9d0ed2abe.jpg"/>
          <p:cNvPicPr/>
          <p:nvPr/>
        </p:nvPicPr>
        <p:blipFill>
          <a:blip r:embed="rId4"/>
          <a:stretch/>
        </p:blipFill>
        <p:spPr>
          <a:xfrm>
            <a:off x="5643720" y="1857240"/>
            <a:ext cx="2495520" cy="2495520"/>
          </a:xfrm>
          <a:prstGeom prst="rect">
            <a:avLst/>
          </a:prstGeom>
          <a:ln w="0">
            <a:noFill/>
          </a:ln>
        </p:spPr>
      </p:pic>
      <p:sp>
        <p:nvSpPr>
          <p:cNvPr id="434" name="TextBox 6"/>
          <p:cNvSpPr/>
          <p:nvPr/>
        </p:nvSpPr>
        <p:spPr>
          <a:xfrm>
            <a:off x="785880" y="428616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Царевна-ляг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7"/>
          <p:cNvSpPr/>
          <p:nvPr/>
        </p:nvSpPr>
        <p:spPr>
          <a:xfrm>
            <a:off x="3357720" y="378612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Курочка Ряб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Box 8"/>
          <p:cNvSpPr/>
          <p:nvPr/>
        </p:nvSpPr>
        <p:spPr>
          <a:xfrm>
            <a:off x="5857920" y="47149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Муха-Цокотух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u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0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8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nodeType="clickEffect" fill="hold">
                      <p:stCondLst>
                        <p:cond delay="indefinite"/>
                      </p:stCondLst>
                      <p:childTnLst>
                        <p:par>
                          <p:cTn id="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             </a:t>
            </a:r>
            <a:r>
              <a:rPr b="1" lang="ru-RU" sz="3600" spc="-1" strike="noStrike">
                <a:solidFill>
                  <a:srgbClr val="575f6d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39" name="Содержимое 3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1000080" y="164304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440" name="Рисунок 4" descr="C:\Users\1\Desktop\занятия из интернета для гпд\i (1).jpg"/>
          <p:cNvPicPr/>
          <p:nvPr/>
        </p:nvPicPr>
        <p:blipFill>
          <a:blip r:embed="rId3"/>
          <a:stretch/>
        </p:blipFill>
        <p:spPr>
          <a:xfrm>
            <a:off x="5786280" y="1785960"/>
            <a:ext cx="2514600" cy="2152800"/>
          </a:xfrm>
          <a:prstGeom prst="rect">
            <a:avLst/>
          </a:prstGeom>
          <a:ln w="0">
            <a:noFill/>
          </a:ln>
        </p:spPr>
      </p:pic>
      <p:pic>
        <p:nvPicPr>
          <p:cNvPr id="441" name="Рисунок 5" descr="C:\Users\1\Desktop\занятия из интернета для гпд\i (2).jpg"/>
          <p:cNvPicPr/>
          <p:nvPr/>
        </p:nvPicPr>
        <p:blipFill>
          <a:blip r:embed="rId4"/>
          <a:stretch/>
        </p:blipFill>
        <p:spPr>
          <a:xfrm>
            <a:off x="2500200" y="4286160"/>
            <a:ext cx="3514680" cy="2257560"/>
          </a:xfrm>
          <a:prstGeom prst="rect">
            <a:avLst/>
          </a:prstGeom>
          <a:ln w="0">
            <a:noFill/>
          </a:ln>
        </p:spPr>
      </p:pic>
      <p:sp>
        <p:nvSpPr>
          <p:cNvPr id="442" name="TextBox 6"/>
          <p:cNvSpPr/>
          <p:nvPr/>
        </p:nvSpPr>
        <p:spPr>
          <a:xfrm>
            <a:off x="1071720" y="342900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юймовоч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Box 7"/>
          <p:cNvSpPr/>
          <p:nvPr/>
        </p:nvSpPr>
        <p:spPr>
          <a:xfrm>
            <a:off x="6143760" y="42148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Золуш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8"/>
          <p:cNvSpPr/>
          <p:nvPr/>
        </p:nvSpPr>
        <p:spPr>
          <a:xfrm>
            <a:off x="2857680" y="38577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Аленький цветоче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8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8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4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1. КАК АУКНЕТСЯ,ТАК И ОТКЛИКНЕТСЯ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56840" y="2571480"/>
            <a:ext cx="7467480" cy="39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Топор лучше шубы греет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Битый небитого везёт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У страха глаза велики.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entury Schoolbook"/>
              </a:rPr>
              <a:t>Как аукнется, так и откликнется</a:t>
            </a:r>
            <a:endParaRPr b="0" lang="en-US" sz="4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Picture 6" descr="C:\Users\Анна\Desktop\9922606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575f6d"/>
                </a:solidFill>
                <a:latin typeface="Century Schoolbook"/>
              </a:rPr>
              <a:t>              </a:t>
            </a:r>
            <a:r>
              <a:rPr b="1" lang="ru-RU" sz="3600" spc="-1" strike="noStrike">
                <a:solidFill>
                  <a:srgbClr val="7030a0"/>
                </a:solidFill>
                <a:latin typeface="Century Schoolbook"/>
              </a:rPr>
              <a:t>ВЕРНИТЕ НАС В СКАЗКУ!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47" name="Содержимое 3" descr="C:\Users\1\Desktop\занятия из интернета для гпд\i (3).jpg"/>
          <p:cNvPicPr/>
          <p:nvPr/>
        </p:nvPicPr>
        <p:blipFill>
          <a:blip r:embed="rId2"/>
          <a:stretch/>
        </p:blipFill>
        <p:spPr>
          <a:xfrm>
            <a:off x="357120" y="1785960"/>
            <a:ext cx="3071880" cy="257184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5357880" y="1428840"/>
            <a:ext cx="3429000" cy="235728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5" descr="C:\Users\1\Desktop\занятия из интернета для гпд\i.jpg"/>
          <p:cNvPicPr/>
          <p:nvPr/>
        </p:nvPicPr>
        <p:blipFill>
          <a:blip r:embed="rId4"/>
          <a:stretch/>
        </p:blipFill>
        <p:spPr>
          <a:xfrm>
            <a:off x="3571920" y="4538520"/>
            <a:ext cx="2928960" cy="2319480"/>
          </a:xfrm>
          <a:prstGeom prst="rect">
            <a:avLst/>
          </a:prstGeom>
          <a:ln w="0">
            <a:noFill/>
          </a:ln>
        </p:spPr>
      </p:pic>
      <p:sp>
        <p:nvSpPr>
          <p:cNvPr id="450" name="TextBox 6"/>
          <p:cNvSpPr/>
          <p:nvPr/>
        </p:nvSpPr>
        <p:spPr>
          <a:xfrm>
            <a:off x="285840" y="4643280"/>
            <a:ext cx="32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Кот в сапог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7"/>
          <p:cNvSpPr/>
          <p:nvPr/>
        </p:nvSpPr>
        <p:spPr>
          <a:xfrm>
            <a:off x="5572080" y="392904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удочка и кувшинч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8"/>
          <p:cNvSpPr/>
          <p:nvPr/>
        </p:nvSpPr>
        <p:spPr>
          <a:xfrm>
            <a:off x="6500880" y="4929120"/>
            <a:ext cx="26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«Двенадцать месяце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0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8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8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8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9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4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5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7" dur="8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8" dur="8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104,117)"/>
                                          </p:val>
                                        </p:tav>
                                        <p:tav tm="50000">
                                          <p:val>
                                            <p:strVal val="rgb(28,97,-4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9" dur="8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28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ИНСЦЕНИРОВКА ОТРЫВКА ИЗ СКАЗКИ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54" name="Picture 2" descr="C:\Users\user\Desktop\квн\сказка 2.jpg"/>
          <p:cNvPicPr/>
          <p:nvPr/>
        </p:nvPicPr>
        <p:blipFill>
          <a:blip r:embed="rId1"/>
          <a:stretch/>
        </p:blipFill>
        <p:spPr>
          <a:xfrm>
            <a:off x="4643280" y="2071800"/>
            <a:ext cx="3571920" cy="46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0" dur="indefinite" restart="never" nodeType="tmRoot">
          <p:childTnLst>
            <p:seq>
              <p:cTn id="941" dur="indefinite" nodeType="mainSeq">
                <p:childTnLst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6" dur="8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8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6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7" descr="C:\Users\Анна\Desktop\9477482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entury Schoolbook"/>
              </a:rPr>
              <a:t>СКАЗОЧНЫЙ ПЕРЕПОЛОХ</a:t>
            </a:r>
            <a:br>
              <a:rPr sz="2400"/>
            </a:br>
            <a:r>
              <a:rPr b="1" lang="ru-RU" sz="1600" spc="-1" strike="noStrike">
                <a:solidFill>
                  <a:srgbClr val="ff0000"/>
                </a:solidFill>
                <a:latin typeface="Century Schoolbook"/>
              </a:rPr>
              <a:t>ПЕРЕПУТАЛИСЬ НАЗВАНИЯ СКАЗОК. СОЕДИНИТЕ НАЧАЛО И КОНЕЦ СКАЗОК, ЧТОБЫ ИСПРАВИТЬ ОШИБКИ. </a:t>
            </a:r>
            <a:br>
              <a:rPr sz="1800"/>
            </a:br>
            <a:endParaRPr b="0" lang="en-US" sz="1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 Царевна                                            Ховрошеч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Иван-царевич и                                 семь гномов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рошечка –                                              лягушка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Финист                                              Бессмертный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Белоснежка и                                      серый волк»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«Кощей –                                              Ясный сокол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8" name="Прямая со стрелкой 4" descr=""/>
          <p:cNvPicPr/>
          <p:nvPr/>
        </p:nvPicPr>
        <p:blipFill>
          <a:blip r:embed="rId2"/>
          <a:stretch/>
        </p:blipFill>
        <p:spPr>
          <a:xfrm>
            <a:off x="2273400" y="1700280"/>
            <a:ext cx="4097160" cy="1317600"/>
          </a:xfrm>
          <a:prstGeom prst="rect">
            <a:avLst/>
          </a:prstGeom>
          <a:ln w="0">
            <a:noFill/>
          </a:ln>
        </p:spPr>
      </p:pic>
      <p:pic>
        <p:nvPicPr>
          <p:cNvPr id="459" name="Прямая со стрелкой 6" descr=""/>
          <p:cNvPicPr/>
          <p:nvPr/>
        </p:nvPicPr>
        <p:blipFill>
          <a:blip r:embed="rId3"/>
          <a:stretch/>
        </p:blipFill>
        <p:spPr>
          <a:xfrm>
            <a:off x="2992320" y="2200320"/>
            <a:ext cx="3170520" cy="1676520"/>
          </a:xfrm>
          <a:prstGeom prst="rect">
            <a:avLst/>
          </a:prstGeom>
          <a:ln w="0">
            <a:noFill/>
          </a:ln>
        </p:spPr>
      </p:pic>
      <p:pic>
        <p:nvPicPr>
          <p:cNvPr id="460" name="Прямая со стрелкой 8" descr=""/>
          <p:cNvPicPr/>
          <p:nvPr/>
        </p:nvPicPr>
        <p:blipFill>
          <a:blip r:embed="rId4"/>
          <a:stretch/>
        </p:blipFill>
        <p:spPr>
          <a:xfrm>
            <a:off x="2346480" y="1695600"/>
            <a:ext cx="3524040" cy="1176120"/>
          </a:xfrm>
          <a:prstGeom prst="rect">
            <a:avLst/>
          </a:prstGeom>
          <a:ln w="0">
            <a:noFill/>
          </a:ln>
        </p:spPr>
      </p:pic>
      <p:pic>
        <p:nvPicPr>
          <p:cNvPr id="461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1706400" y="3054240"/>
            <a:ext cx="4310280" cy="1176480"/>
          </a:xfrm>
          <a:prstGeom prst="rect">
            <a:avLst/>
          </a:prstGeom>
          <a:ln w="0">
            <a:noFill/>
          </a:ln>
        </p:spPr>
      </p:pic>
      <p:pic>
        <p:nvPicPr>
          <p:cNvPr id="462" name="Прямая со стрелкой 12" descr=""/>
          <p:cNvPicPr/>
          <p:nvPr/>
        </p:nvPicPr>
        <p:blipFill>
          <a:blip r:embed="rId6"/>
          <a:stretch/>
        </p:blipFill>
        <p:spPr>
          <a:xfrm>
            <a:off x="2743200" y="2163600"/>
            <a:ext cx="3164040" cy="1676520"/>
          </a:xfrm>
          <a:prstGeom prst="rect">
            <a:avLst/>
          </a:prstGeom>
          <a:ln w="0">
            <a:noFill/>
          </a:ln>
        </p:spPr>
      </p:pic>
      <p:pic>
        <p:nvPicPr>
          <p:cNvPr id="463" name="Прямая со стрелкой 14" descr=""/>
          <p:cNvPicPr/>
          <p:nvPr/>
        </p:nvPicPr>
        <p:blipFill>
          <a:blip r:embed="rId7"/>
          <a:stretch/>
        </p:blipFill>
        <p:spPr>
          <a:xfrm>
            <a:off x="1994040" y="2981160"/>
            <a:ext cx="3809880" cy="12495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nodeType="clickEffect" fill="hold">
                      <p:stCondLst>
                        <p:cond delay="0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nodeType="clickEffect" fill="hold">
                      <p:stCondLst>
                        <p:cond delay="indefinite"/>
                      </p:stCondLst>
                      <p:childTnLst>
                        <p:par>
                          <p:cTn id="9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1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6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1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8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96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Picture 4" descr="C:\Users\Анна\Desktop\95478168.jpg"/>
          <p:cNvPicPr/>
          <p:nvPr/>
        </p:nvPicPr>
        <p:blipFill>
          <a:blip r:embed="rId1"/>
          <a:stretch/>
        </p:blipFill>
        <p:spPr>
          <a:xfrm>
            <a:off x="-15840" y="12600"/>
            <a:ext cx="9159840" cy="6845400"/>
          </a:xfrm>
          <a:prstGeom prst="rect">
            <a:avLst/>
          </a:prstGeom>
          <a:ln w="0">
            <a:noFill/>
          </a:ln>
        </p:spPr>
      </p:pic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entury Schoolbook"/>
              </a:rPr>
              <a:t>КОШЕЧКИ И СОБАЧКИ</a:t>
            </a:r>
            <a:br>
              <a:rPr sz="2800"/>
            </a:br>
            <a:r>
              <a:rPr b="1" lang="ru-RU" sz="2400" spc="-1" strike="noStrike">
                <a:solidFill>
                  <a:srgbClr val="0070c0"/>
                </a:solidFill>
                <a:latin typeface="Century Schoolbook"/>
              </a:rPr>
              <a:t>НАЗВАТЬ КЛИЧКУ КОШКИ ИЛИ СОБАКИ ИЗ: </a:t>
            </a:r>
            <a:br>
              <a:rPr sz="2700"/>
            </a:b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928520" y="164304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1. «Малыш и Карлсон, который живёт на крыше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Бимбо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2. «Крокодил Гена и его друзья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Тобик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3. Золотой ключик, или приключения Буратино»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Кот Базилио и  пудель Артемон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4. «Реп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 и кошка Мурка) 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5. «Доктор Айболит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Авв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6. «Снегурочка»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200" spc="-1" strike="noStrike">
                <a:solidFill>
                  <a:srgbClr val="7030a0"/>
                </a:solidFill>
                <a:latin typeface="Century Schoolbook"/>
              </a:rPr>
              <a:t>(Собака Жучка)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dissolve/>
  </p:transition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3" dur="500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7" dur="500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500"/>
                                        <p:tgtEl>
                                          <p:spTgt spid="4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4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8" dur="1000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4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1" dur="800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8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8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8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nodeType="clickEffect" fill="hold">
                      <p:stCondLst>
                        <p:cond delay="indefinite"/>
                      </p:stCondLst>
                      <p:childTnLst>
                        <p:par>
                          <p:cTn id="1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10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1000" fill="hold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1000"/>
                                        <p:tgtEl>
                                          <p:spTgt spid="4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46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800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8" dur="8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8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800" fill="hold"/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7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5" descr="C:\Users\Анна\Desktop\95608765.jpg"/>
          <p:cNvPicPr/>
          <p:nvPr/>
        </p:nvPicPr>
        <p:blipFill>
          <a:blip r:embed="rId1"/>
          <a:stretch/>
        </p:blipFill>
        <p:spPr>
          <a:xfrm>
            <a:off x="0" y="-34920"/>
            <a:ext cx="9144000" cy="6927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99680" y="9997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d0d0d"/>
                </a:solidFill>
                <a:latin typeface="Century Schoolbook"/>
              </a:rPr>
              <a:t>ВОЛШЕБНЫЙ СУНДУЧОК</a:t>
            </a:r>
            <a:endParaRPr b="0" lang="en-US" sz="4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 </a:t>
            </a:r>
            <a:r>
              <a:rPr b="1" lang="ru-RU" sz="2400" spc="-1" strike="noStrike">
                <a:solidFill>
                  <a:srgbClr val="c00000"/>
                </a:solidFill>
                <a:latin typeface="Century Schoolbook"/>
              </a:rPr>
              <a:t>В сундучке  находятся предметы, которые в тридевятом царстве выполняли роль……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0" name="Рисунок 7" descr="C:\Users\1\Desktop\занятия из интернета для гпд\i.jpg"/>
          <p:cNvPicPr/>
          <p:nvPr/>
        </p:nvPicPr>
        <p:blipFill>
          <a:blip r:embed="rId2"/>
          <a:stretch/>
        </p:blipFill>
        <p:spPr>
          <a:xfrm>
            <a:off x="2500200" y="2143080"/>
            <a:ext cx="3929040" cy="26589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4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8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самолёт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entury Schoolbook"/>
              </a:rPr>
              <a:t>- телевизора</a:t>
            </a:r>
            <a:endParaRPr b="0" lang="en-US" sz="37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74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928800" y="2428920"/>
            <a:ext cx="2857320" cy="1643040"/>
          </a:xfrm>
          <a:prstGeom prst="rect">
            <a:avLst/>
          </a:prstGeom>
          <a:ln w="0">
            <a:noFill/>
          </a:ln>
        </p:spPr>
      </p:pic>
      <p:pic>
        <p:nvPicPr>
          <p:cNvPr id="475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6072120" y="2143080"/>
            <a:ext cx="1209600" cy="1428840"/>
          </a:xfrm>
          <a:prstGeom prst="rect">
            <a:avLst/>
          </a:prstGeom>
          <a:ln w="0">
            <a:noFill/>
          </a:ln>
        </p:spPr>
      </p:pic>
      <p:pic>
        <p:nvPicPr>
          <p:cNvPr id="476" name="Рисунок 5" descr="C:\Users\1\Desktop\занятия из интернета для гпд\i (4).jpg"/>
          <p:cNvPicPr/>
          <p:nvPr/>
        </p:nvPicPr>
        <p:blipFill>
          <a:blip r:embed="rId4"/>
          <a:stretch/>
        </p:blipFill>
        <p:spPr>
          <a:xfrm>
            <a:off x="3357720" y="5337000"/>
            <a:ext cx="2143080" cy="15210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nodeType="clickEffect" fill="hold">
                      <p:stCondLst>
                        <p:cond delay="0"/>
                      </p:stCondLst>
                      <p:childTnLst>
                        <p:par>
                          <p:cTn id="1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1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1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2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2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7" dur="80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8" dur="8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8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800" fill="hold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nodeType="clickEffect" fill="hold">
                      <p:stCondLst>
                        <p:cond delay="indefinite"/>
                      </p:stCondLst>
                      <p:childTnLst>
                        <p:par>
                          <p:cTn id="1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47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nodeType="clickEffect" fill="hold">
                      <p:stCondLst>
                        <p:cond delay="indefinite"/>
                      </p:stCondLst>
                      <p:childTnLst>
                        <p:par>
                          <p:cTn id="1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стиральной машины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компаса, навигатор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0" name="Рисунок 3" descr="C:\Users\1\Desktop\занятия из интернета для гпд\i (5).jpg"/>
          <p:cNvPicPr/>
          <p:nvPr/>
        </p:nvPicPr>
        <p:blipFill>
          <a:blip r:embed="rId2"/>
          <a:stretch/>
        </p:blipFill>
        <p:spPr>
          <a:xfrm>
            <a:off x="3143160" y="2071800"/>
            <a:ext cx="2319480" cy="1739880"/>
          </a:xfrm>
          <a:prstGeom prst="rect">
            <a:avLst/>
          </a:prstGeom>
          <a:ln w="0">
            <a:noFill/>
          </a:ln>
        </p:spPr>
      </p:pic>
      <p:pic>
        <p:nvPicPr>
          <p:cNvPr id="481" name="Рисунок 4" descr="C:\Users\1\Desktop\занятия из интернета для гпд\i.jpg"/>
          <p:cNvPicPr/>
          <p:nvPr/>
        </p:nvPicPr>
        <p:blipFill>
          <a:blip r:embed="rId3"/>
          <a:stretch/>
        </p:blipFill>
        <p:spPr>
          <a:xfrm>
            <a:off x="3429000" y="4929120"/>
            <a:ext cx="1952640" cy="1305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0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1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1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1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1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7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nodeType="clickEffect" fill="hold">
                      <p:stCondLst>
                        <p:cond delay="indefinite"/>
                      </p:stCondLst>
                      <p:childTnLst>
                        <p:par>
                          <p:cTn id="1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nodeType="clickEffect" fill="hold">
                      <p:stCondLst>
                        <p:cond delay="indefinite"/>
                      </p:stCondLst>
                      <p:childTnLst>
                        <p:par>
                          <p:cTn id="1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4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0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Picture 6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b0f0"/>
                </a:solidFill>
                <a:latin typeface="Century Schoolbook"/>
              </a:rPr>
              <a:t>ВОЛШЕБНЫЙ СУНДУЧОК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автомобил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ресторана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85" name="Рисунок 3" descr="C:\Users\1\Desktop\занятия из интернета для гпд\i (1).jpg"/>
          <p:cNvPicPr/>
          <p:nvPr/>
        </p:nvPicPr>
        <p:blipFill>
          <a:blip r:embed="rId2"/>
          <a:stretch/>
        </p:blipFill>
        <p:spPr>
          <a:xfrm>
            <a:off x="3429000" y="1857240"/>
            <a:ext cx="3538440" cy="1710000"/>
          </a:xfrm>
          <a:prstGeom prst="rect">
            <a:avLst/>
          </a:prstGeom>
          <a:ln w="0">
            <a:noFill/>
          </a:ln>
        </p:spPr>
      </p:pic>
      <p:pic>
        <p:nvPicPr>
          <p:cNvPr id="486" name="Рисунок 4" descr="C:\Users\1\Desktop\занятия из интернета для гпд\i (2).jpg"/>
          <p:cNvPicPr/>
          <p:nvPr/>
        </p:nvPicPr>
        <p:blipFill>
          <a:blip r:embed="rId3"/>
          <a:stretch/>
        </p:blipFill>
        <p:spPr>
          <a:xfrm>
            <a:off x="3286080" y="4572000"/>
            <a:ext cx="3071880" cy="2000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nodeType="clickEffect" fill="hold">
                      <p:stCondLst>
                        <p:cond delay="0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1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1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1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1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4" dur="500"/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500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nodeType="clickEffect" fill="hold">
                      <p:stCondLst>
                        <p:cond delay="indefinite"/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7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" descr="C:\Users\Анна\Desktop\47533973.jpg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608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ТЕЛЕГРАММ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Спасите! Нас съел серый волк!»   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Семеро козлят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быть на ваш праздник не могу, так как от меня сбежали брюки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ойдодыр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От дедушки ушел, от бабушки ушел. Скоро у вас буду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олобок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А дорога далека, и корзина нелегка.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Сесть бы на пенек, съесть бы пирожо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Машень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Пришлите, пожалуйста, капли, мы лягушками нынче объелись  и у нас животы разболелись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Цапли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       </a:t>
            </a: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«Все осталось без изменений, вот только бабушку съел волк» 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                                             </a:t>
            </a:r>
            <a:r>
              <a:rPr b="1" lang="ru-RU" sz="1400" spc="-1" strike="noStrike">
                <a:solidFill>
                  <a:srgbClr val="c00000"/>
                </a:solidFill>
                <a:latin typeface="Century Schoolbook"/>
              </a:rPr>
              <a:t>(Красная шапочка)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«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entury Schoolbook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 marL="259200" indent="-2592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transition>
    <p:split dir="out" orient="horz"/>
  </p:transition>
  <p:timing>
    <p:tnLst>
      <p:par>
        <p:cTn id="1248" dur="indefinite" restart="never" nodeType="tmRoot">
          <p:childTnLst>
            <p:seq>
              <p:cTn id="1249" dur="indefinite" nodeType="mainSeq">
                <p:childTnLst>
                  <p:par>
                    <p:cTn id="1250" nodeType="clickEffect" fill="hold">
                      <p:stCondLst>
                        <p:cond delay="indefinite"/>
                      </p:stCondLst>
                      <p:childTnLst>
                        <p:par>
                          <p:cTn id="1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2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25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25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25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nodeType="clickEffect" fill="hold">
                      <p:stCondLst>
                        <p:cond delay="indefinite"/>
                      </p:stCondLst>
                      <p:childTnLst>
                        <p:par>
                          <p:cTn id="1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2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2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4" dur="2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5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2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5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2" dur="500"/>
                                        <p:tgtEl>
                                          <p:spTgt spid="4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nodeType="clickEffect" fill="hold">
                      <p:stCondLst>
                        <p:cond delay="indefinite"/>
                      </p:stCondLst>
                      <p:childTnLst>
                        <p:par>
                          <p:cTn id="1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39" dur="1000"/>
                                        <p:tgtEl>
                                          <p:spTgt spid="48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4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4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4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48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4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1000" fill="hold"/>
                                        <p:tgtEl>
                                          <p:spTgt spid="48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4" descr="C:\Users\Анна\Desktop\091777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b0f0"/>
                </a:solidFill>
                <a:latin typeface="Century Schoolbook"/>
              </a:rPr>
              <a:t>БЛИЦ - ОПРОС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нес решающий вклад в процесс вытаскивания реп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не влез в терем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гуси-лебеди унесли братц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Почему выгнала лисичка зайчика из дом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Сколько понадобилось муки, чтобы испечь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медведи узнали, что к ним зашёл гость нежданный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медведей из сказки «Три медведя»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Что отвечала лиса, когда её пытались выгнать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Из чего была речка, берега которой укрыли сестрицу Аленушку, и братца Иванушку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звали волка, который поселился в теремк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Где взяла бабка муки для выпечки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й беспорядок устроила Машенька в чужом доме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ого сначала, а кого потом встретил колобок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ого цвета была чашка у Мишутки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то вспомнит песенку Колобка?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entury Schoolbook"/>
              </a:rPr>
              <a:t>Как обманула лиса колобка?   </a:t>
            </a: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nodeType="clickEffect" fill="hold">
                      <p:stCondLst>
                        <p:cond delay="indefinite"/>
                      </p:stCondLst>
                      <p:childTnLst>
                        <p:par>
                          <p:cTn id="1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3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3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3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3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nodeType="clickEffect" fill="hold">
                      <p:stCondLst>
                        <p:cond delay="indefinite"/>
                      </p:stCondLst>
                      <p:childTnLst>
                        <p:par>
                          <p:cTn id="1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0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nodeType="clickEffect" fill="hold">
                      <p:stCondLst>
                        <p:cond delay="indefinite"/>
                      </p:stCondLst>
                      <p:childTnLst>
                        <p:par>
                          <p:cTn id="1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8" nodeType="clickEffect" fill="hold">
                      <p:stCondLst>
                        <p:cond delay="indefinite"/>
                      </p:stCondLst>
                      <p:childTnLst>
                        <p:par>
                          <p:cTn id="1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2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nodeType="clickEffect" fill="hold">
                      <p:stCondLst>
                        <p:cond delay="indefinite"/>
                      </p:stCondLst>
                      <p:childTnLst>
                        <p:par>
                          <p:cTn id="1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nodeType="clickEffect" fill="hold">
                      <p:stCondLst>
                        <p:cond delay="indefinite"/>
                      </p:stCondLst>
                      <p:childTnLst>
                        <p:par>
                          <p:cTn id="1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nodeType="clickEffect" fill="hold">
                      <p:stCondLst>
                        <p:cond delay="indefinite"/>
                      </p:stCondLst>
                      <p:childTnLst>
                        <p:par>
                          <p:cTn id="1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4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nodeType="clickEffect" fill="hold">
                      <p:stCondLst>
                        <p:cond delay="indefinite"/>
                      </p:stCondLst>
                      <p:childTnLst>
                        <p:par>
                          <p:cTn id="1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4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nodeType="clickEffect" fill="hold">
                      <p:stCondLst>
                        <p:cond delay="indefinite"/>
                      </p:stCondLst>
                      <p:childTnLst>
                        <p:par>
                          <p:cTn id="1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4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4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nodeType="clickEffect" fill="hold">
                      <p:stCondLst>
                        <p:cond delay="indefinite"/>
                      </p:stCondLst>
                      <p:childTnLst>
                        <p:par>
                          <p:cTn id="1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4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4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4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4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4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4" nodeType="clickEffect" fill="hold">
                      <p:stCondLst>
                        <p:cond delay="indefinite"/>
                      </p:stCondLst>
                      <p:childTnLst>
                        <p:par>
                          <p:cTn id="1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4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4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0" nodeType="clickEffect" fill="hold">
                      <p:stCondLst>
                        <p:cond delay="indefinite"/>
                      </p:stCondLst>
                      <p:childTnLst>
                        <p:par>
                          <p:cTn id="1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4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4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6" nodeType="clickEffect" fill="hold">
                      <p:stCondLst>
                        <p:cond delay="indefinite"/>
                      </p:stCondLst>
                      <p:childTnLst>
                        <p:par>
                          <p:cTn id="1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4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49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Arial Black"/>
              </a:rPr>
              <a:t>КОНКУРС 1. «УЗНАЙ СКАЗКУ»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58" name="Содержимое 3" descr="http://antalpiti.ru/files/99604/tri_medveda.jpg"/>
          <p:cNvPicPr/>
          <p:nvPr/>
        </p:nvPicPr>
        <p:blipFill>
          <a:blip r:embed="rId2"/>
          <a:stretch/>
        </p:blipFill>
        <p:spPr>
          <a:xfrm>
            <a:off x="642960" y="2571840"/>
            <a:ext cx="3429000" cy="3643200"/>
          </a:xfrm>
          <a:prstGeom prst="rect">
            <a:avLst/>
          </a:prstGeom>
          <a:ln w="0">
            <a:noFill/>
          </a:ln>
        </p:spPr>
      </p:pic>
      <p:pic>
        <p:nvPicPr>
          <p:cNvPr id="359" name="Рисунок 4" descr="http://antalpiti.ru/files/99604/lisa_i_zhuravl.2.jpg"/>
          <p:cNvPicPr/>
          <p:nvPr/>
        </p:nvPicPr>
        <p:blipFill>
          <a:blip r:embed="rId3"/>
          <a:stretch/>
        </p:blipFill>
        <p:spPr>
          <a:xfrm>
            <a:off x="4857840" y="1571760"/>
            <a:ext cx="3457440" cy="3214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withEffect" fill="hold">
                            <p:stCondLst>
                              <p:cond delay="1550"/>
                            </p:stCondLst>
                            <p:childTnLst>
                              <p:par>
                                <p:cTn id="4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5" descr="C:\Users\Анна\Desktop\09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0600"/>
          </a:xfrm>
          <a:prstGeom prst="rect">
            <a:avLst/>
          </a:prstGeom>
          <a:ln w="0">
            <a:noFill/>
          </a:ln>
        </p:spPr>
      </p:pic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Всякой сказке бывает кон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Каждый, кто с нами играл –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entury Schoolbook"/>
              </a:rPr>
              <a:t>молодец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indefinite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8" dur="2000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9" dur="2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2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2000" fill="hold"/>
                                        <p:tgtEl>
                                          <p:spTgt spid="4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4" dur="2000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5" dur="2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6" dur="2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7" dur="2000" fill="hold"/>
                                        <p:tgtEl>
                                          <p:spTgt spid="4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2000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2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2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2000" fill="hold"/>
                                        <p:tgtEl>
                                          <p:spTgt spid="4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2" name="Содержимое 3" descr="http://antalpiti.ru/files/99604/kolobok.jpg"/>
          <p:cNvPicPr/>
          <p:nvPr/>
        </p:nvPicPr>
        <p:blipFill>
          <a:blip r:embed="rId2"/>
          <a:stretch/>
        </p:blipFill>
        <p:spPr>
          <a:xfrm>
            <a:off x="1000080" y="3000240"/>
            <a:ext cx="3571920" cy="3500640"/>
          </a:xfrm>
          <a:prstGeom prst="rect">
            <a:avLst/>
          </a:prstGeom>
          <a:ln w="0">
            <a:noFill/>
          </a:ln>
        </p:spPr>
      </p:pic>
      <p:pic>
        <p:nvPicPr>
          <p:cNvPr id="363" name="Рисунок 4" descr="http://antalpiti.ru/files/99604/kot_v_sapogah2.jpg"/>
          <p:cNvPicPr/>
          <p:nvPr/>
        </p:nvPicPr>
        <p:blipFill>
          <a:blip r:embed="rId3"/>
          <a:stretch/>
        </p:blipFill>
        <p:spPr>
          <a:xfrm>
            <a:off x="4714920" y="1571760"/>
            <a:ext cx="3724200" cy="3724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5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Содержимое 3" descr="http://antalpiti.ru/files/99604/lisa_i_zajac.jpg"/>
          <p:cNvPicPr/>
          <p:nvPr/>
        </p:nvPicPr>
        <p:blipFill>
          <a:blip r:embed="rId2"/>
          <a:stretch/>
        </p:blipFill>
        <p:spPr>
          <a:xfrm>
            <a:off x="500040" y="2500200"/>
            <a:ext cx="3905280" cy="404352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4" descr="http://antalpiti.ru/files/99604/belosnezhka.jpg"/>
          <p:cNvPicPr/>
          <p:nvPr/>
        </p:nvPicPr>
        <p:blipFill>
          <a:blip r:embed="rId3"/>
          <a:stretch/>
        </p:blipFill>
        <p:spPr>
          <a:xfrm>
            <a:off x="4786200" y="1714680"/>
            <a:ext cx="3643560" cy="3714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8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8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5" descr="C:\Users\Анна\Desktop\947154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f0"/>
                </a:solidFill>
                <a:latin typeface="Century Schoolbook"/>
              </a:rPr>
              <a:t>УЗНАЙ СКАЗКУ</a:t>
            </a:r>
            <a:endParaRPr b="0" lang="en-US" sz="4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Содержимое 3" descr="http://antalpiti.ru/files/99604/zolushka2.jpg"/>
          <p:cNvPicPr/>
          <p:nvPr/>
        </p:nvPicPr>
        <p:blipFill>
          <a:blip r:embed="rId2"/>
          <a:stretch/>
        </p:blipFill>
        <p:spPr>
          <a:xfrm>
            <a:off x="357120" y="2571840"/>
            <a:ext cx="3786120" cy="4043160"/>
          </a:xfrm>
          <a:prstGeom prst="rect">
            <a:avLst/>
          </a:prstGeom>
          <a:ln w="0">
            <a:noFill/>
          </a:ln>
        </p:spPr>
      </p:pic>
      <p:pic>
        <p:nvPicPr>
          <p:cNvPr id="371" name="Рисунок 4" descr="http://antalpiti.ru/files/99604/gusi-lebedi.jpg"/>
          <p:cNvPicPr/>
          <p:nvPr/>
        </p:nvPicPr>
        <p:blipFill>
          <a:blip r:embed="rId3"/>
          <a:stretch/>
        </p:blipFill>
        <p:spPr>
          <a:xfrm>
            <a:off x="4500720" y="1428840"/>
            <a:ext cx="3476520" cy="347652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0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0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2. УГАДАЙ-КА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3" name="Picture 2" descr="C:\Users\user\Desktop\квн\гуси-лебеди.jpg"/>
          <p:cNvPicPr/>
          <p:nvPr/>
        </p:nvPicPr>
        <p:blipFill>
          <a:blip r:embed="rId1"/>
          <a:stretch/>
        </p:blipFill>
        <p:spPr>
          <a:xfrm>
            <a:off x="179280" y="1341360"/>
            <a:ext cx="3071880" cy="230364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C:\Users\user\Desktop\квн\гусм-лебеди 2.jpg"/>
          <p:cNvPicPr/>
          <p:nvPr/>
        </p:nvPicPr>
        <p:blipFill>
          <a:blip r:embed="rId2"/>
          <a:stretch/>
        </p:blipFill>
        <p:spPr>
          <a:xfrm>
            <a:off x="1692360" y="350028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C:\Users\user\Desktop\квн\г-л 3.jpg"/>
          <p:cNvPicPr/>
          <p:nvPr/>
        </p:nvPicPr>
        <p:blipFill>
          <a:blip r:embed="rId3"/>
          <a:stretch/>
        </p:blipFill>
        <p:spPr>
          <a:xfrm>
            <a:off x="5364000" y="1989000"/>
            <a:ext cx="3745080" cy="2808360"/>
          </a:xfrm>
          <a:prstGeom prst="rect">
            <a:avLst/>
          </a:prstGeom>
          <a:ln w="0">
            <a:noFill/>
          </a:ln>
        </p:spPr>
      </p:pic>
      <p:sp>
        <p:nvSpPr>
          <p:cNvPr id="376" name="TextBox 6"/>
          <p:cNvSpPr/>
          <p:nvPr/>
        </p:nvSpPr>
        <p:spPr>
          <a:xfrm>
            <a:off x="5651640" y="5300640"/>
            <a:ext cx="324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Гуси-лебе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8"/>
          <p:cNvSpPr/>
          <p:nvPr/>
        </p:nvSpPr>
        <p:spPr>
          <a:xfrm>
            <a:off x="3238560" y="1484280"/>
            <a:ext cx="2666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</a:rPr>
              <a:t>Русская народная сказ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ЗОЛОТОЙ КЛЮЧИК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Picture 2" descr="C:\Users\user\Desktop\квн\з к.jpg"/>
          <p:cNvPicPr/>
          <p:nvPr/>
        </p:nvPicPr>
        <p:blipFill>
          <a:blip r:embed="rId1"/>
          <a:stretch/>
        </p:blipFill>
        <p:spPr>
          <a:xfrm>
            <a:off x="0" y="1341360"/>
            <a:ext cx="3448080" cy="2362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C:\Users\user\Desktop\квн\з-к 2.jpg"/>
          <p:cNvPicPr/>
          <p:nvPr/>
        </p:nvPicPr>
        <p:blipFill>
          <a:blip r:embed="rId2"/>
          <a:stretch/>
        </p:blipFill>
        <p:spPr>
          <a:xfrm>
            <a:off x="2195640" y="2924280"/>
            <a:ext cx="4176720" cy="3240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4" descr="C:\Users\user\Desktop\квн\мальвина.jpg"/>
          <p:cNvPicPr/>
          <p:nvPr/>
        </p:nvPicPr>
        <p:blipFill>
          <a:blip r:embed="rId3"/>
          <a:stretch/>
        </p:blipFill>
        <p:spPr>
          <a:xfrm>
            <a:off x="5651640" y="270828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382" name="TextBox 6"/>
          <p:cNvSpPr/>
          <p:nvPr/>
        </p:nvSpPr>
        <p:spPr>
          <a:xfrm>
            <a:off x="3995640" y="162864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</a:rPr>
              <a:t>Алексей Толсто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entury Schoolbook"/>
              </a:rPr>
              <a:t>ИВАН-ЦАРЕВИЧ И СЕРЫЙ ВОЛК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4" name="Picture 2" descr="C:\Users\user\Desktop\квн\ицисв 3.jpg"/>
          <p:cNvPicPr/>
          <p:nvPr/>
        </p:nvPicPr>
        <p:blipFill>
          <a:blip r:embed="rId1"/>
          <a:srcRect l="15102" t="4653" r="15135" b="4653"/>
          <a:stretch/>
        </p:blipFill>
        <p:spPr>
          <a:xfrm>
            <a:off x="0" y="1785960"/>
            <a:ext cx="3378240" cy="40194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C:\Users\user\Desktop\квн\и ц и с в2.jpg"/>
          <p:cNvPicPr/>
          <p:nvPr/>
        </p:nvPicPr>
        <p:blipFill>
          <a:blip r:embed="rId2"/>
          <a:stretch/>
        </p:blipFill>
        <p:spPr>
          <a:xfrm>
            <a:off x="1619280" y="4095720"/>
            <a:ext cx="4124160" cy="2762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C:\Users\user\Desktop\квн\иц и с в 4.jpg"/>
          <p:cNvPicPr/>
          <p:nvPr/>
        </p:nvPicPr>
        <p:blipFill>
          <a:blip r:embed="rId3"/>
          <a:srcRect l="17220" t="5080" r="17220" b="5080"/>
          <a:stretch/>
        </p:blipFill>
        <p:spPr>
          <a:xfrm>
            <a:off x="5570640" y="2000160"/>
            <a:ext cx="3573360" cy="45975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3492360" y="191628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</a:rPr>
              <a:t>Русская народная ска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4T13:44:57Z</dcterms:created>
  <dc:creator>Анна</dc:creator>
  <dc:description/>
  <dc:language>en-US</dc:language>
  <cp:lastModifiedBy>888</cp:lastModifiedBy>
  <dcterms:modified xsi:type="dcterms:W3CDTF">2018-06-26T17:02:36Z</dcterms:modified>
  <cp:revision>68</cp:revision>
  <dc:subject/>
  <dc:title>Слайд 1</dc:title>
</cp:coreProperties>
</file>