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1.png" ContentType="image/png"/>
  <Override PartName="/ppt/media/image4.jpeg" ContentType="image/jpeg"/>
  <Override PartName="/ppt/media/image5.jpeg" ContentType="image/jpeg"/>
  <Override PartName="/ppt/media/image62.jpeg" ContentType="image/jpeg"/>
  <Override PartName="/ppt/media/image50.png" ContentType="image/png"/>
  <Override PartName="/ppt/media/image26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2.png" ContentType="image/pn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157-FB22-4D1F-9B3A-41D05335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14DC-B50A-4565-BA93-8FA5DE48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4881-1087-4EDD-BBDD-F33991604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A528-DC3A-431B-8272-4B8BA7A34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F69F-F3E6-4D22-9835-8F3A07F5C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AB9C-669C-43B1-815E-C1C8243F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EAC3-6479-4F95-A0C4-55577776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D452-36E0-4C1A-B589-E729AE3D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FA6B-012C-479C-9895-FA71D4DF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1D25-E792-41C6-B4A9-B7A5C333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970A-CB8A-49DD-A24F-4C974051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13A-755B-45BC-94EF-4E1878734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8204-02A8-4055-A6A9-0642EB11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5BAD-B9C6-4739-9B5B-18E77652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C9BF0-5069-4923-93EC-DF003BF1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DCFC-E1B5-491F-BE98-4886414A2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B396D-D79E-4473-9E96-6831C90C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61854-7446-4F46-BE19-6C093326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7160F-6003-4AC7-97CF-9C425F03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694AE-9064-44D3-BE86-8775F2A6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FDC7C4-B607-4D0F-A9B9-CDBFEEFF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49FD4-32A8-4706-849E-A5A3A9029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9A05-7702-4C00-BA9D-AA3C3F0C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EDFC0C-A6A4-4EFA-9AE6-0C5F862D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E7AE8B-ECB5-41E1-A6CC-8A8A6BB8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904D82-F42B-413D-9806-73DA62C9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040671-029A-46FA-B2D3-8BF09A79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D23C1-A4A6-40D7-89AF-4430BADE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BBF3C6-BE7A-4775-9C37-95B7025CF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32B9B8-C93A-4EC4-B89E-D2C028E89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E0A5-8102-42F9-AF02-7CD6F171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1551F-A4CE-454C-8F37-621F50BA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7570B-55A9-48A7-9E27-58C06A18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B6E-7620-4BED-B925-51F233BCB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AA111-0A57-4967-A2CF-A272BA57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75B1B7-BE81-41CA-AA3F-46D87C3A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5EE33-1806-40E5-803E-F37F8005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7AFC8-157E-4DE2-92E0-22A058C9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BE9A-A041-4B7C-9C0A-3C893E74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1AD6B-392E-4217-AE04-DA5B600B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5B1CC-A72B-416F-9E46-7A06426F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E18C-4601-4369-AAFD-016A97A7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A84A6-0D56-4902-A884-6FC5A423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7397FF-EC73-4074-91C9-E383727C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6BE6-72EA-4C30-B347-BF85A712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426062-097A-4573-A8DC-E1F042193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8D89F7-6EB0-486A-AB2A-F60BA6F5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575F75-A5F5-44B1-8DFB-0B42FCB2F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C347B7-FE02-4D06-ACB8-591364E9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53D08E-DEAA-4378-A72F-4B552EBC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A44A0-8F48-43AA-9D36-9CEF27B4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2FF7E-C2F3-412D-A29B-1B3BAA84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E2DEF-9EBA-443A-8F9B-14A31EB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A3E28-F783-441F-9EA1-5ADF10CE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E08B4-19A8-4DD7-B13F-9E95E6CA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8F47-5491-483C-B349-DF6B2BD1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8D9518-E337-4866-8091-DFC011E4F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5D26D8-ABEB-4022-A144-2D6EE2D70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6E2E4E-028C-45A8-9645-75344BB9E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6A64C2-D4ED-4FB3-B5DB-E3A7536EF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E516B-3BF1-4B6B-80D1-FC368984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3698E-1B55-48C2-B742-26650B16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CE82E-53EB-4EDF-BE7F-68BE3FDC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E67FF5-B7D3-46F7-8AE4-3AFD1D3B5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2AB31D-C2E8-4B39-84AF-042A9F1E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4DA92D-2E37-4D45-B908-2D3B5B30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CD19-1000-4DA0-AADB-873D868F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49D937-0FBB-438D-91E6-BBE408AB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5746E7-E15B-4954-9F1F-5346A3DB1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019300-BF15-4BD5-A9E6-E5DC25CE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79F6A-44D2-42DD-B2EF-6358BD58F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A6BAC-41EA-4A78-AA36-A0F09F96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373744-4EF6-45ED-B45E-ADBF7678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6EF975-3876-4E84-934E-C15BFB475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7F6812-E92A-4AE1-B303-9C63F10C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45D27-95D6-4835-B7FC-9987554C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6220D0-9B28-4063-B668-3060BB58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218B-1C63-4104-8AAD-63DDC602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976780-88A9-4BFB-9013-4BEC03C2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1BECC6-A183-493D-905F-99FA6AA8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D232C9-6FA0-439D-8B4F-32E8CC0B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FD51C0-77E6-45B0-AD4F-8B719A10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E62308-6B63-47D7-814D-AE11E191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559D-95B1-42AB-96BF-5E4F123A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68F-AA82-49CD-9E7F-B1B4F9EA682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24917-B597-4A4A-A73C-637871182A5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5F80C-9325-4855-984C-A96A2489488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2F01-CA9B-44B0-9384-D1986C0803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C40D-B315-4C42-A2AB-5E9AADA19F6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9540-F41C-471D-8467-E6AA1926D3B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B0BB-DB0C-4292-8AE9-A8A74C5BAC3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C:\Users\Анна\Desktop\57377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00120" y="928800"/>
            <a:ext cx="688824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УТЕШЕСТВИЕ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О СКАЗКАМ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971280" y="25653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Презентацию подготовил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учащиеся 2Б кла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МБОУ лицея №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г. Ессентуки Ставропольского кр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Маршакова Софь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Кузьминова Дари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Башорова Камил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Гончаренко Поли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ПРИНЦЕССА НА ГОРОШИНЕ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Picture 2" descr="C:\Users\user\Desktop\квн\принцесса на гор.jpg"/>
          <p:cNvPicPr/>
          <p:nvPr/>
        </p:nvPicPr>
        <p:blipFill>
          <a:blip r:embed="rId1"/>
          <a:stretch/>
        </p:blipFill>
        <p:spPr>
          <a:xfrm>
            <a:off x="250920" y="1785960"/>
            <a:ext cx="2333520" cy="3105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Users\user\Desktop\квн\принцесса на гор2.jpg"/>
          <p:cNvPicPr/>
          <p:nvPr/>
        </p:nvPicPr>
        <p:blipFill>
          <a:blip r:embed="rId2"/>
          <a:stretch/>
        </p:blipFill>
        <p:spPr>
          <a:xfrm>
            <a:off x="1979640" y="3645000"/>
            <a:ext cx="3809880" cy="28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C:\Users\user\Desktop\квн\принцесса на гор3.jpg"/>
          <p:cNvPicPr/>
          <p:nvPr/>
        </p:nvPicPr>
        <p:blipFill>
          <a:blip r:embed="rId3"/>
          <a:stretch/>
        </p:blipFill>
        <p:spPr>
          <a:xfrm>
            <a:off x="5305320" y="2000160"/>
            <a:ext cx="3838680" cy="48578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2843280" y="1844640"/>
            <a:ext cx="244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.Х. Андерс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КОНЁК-ГОРБУНОК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C:\Users\user\Desktop\квн\конёк-горбунок.jpg"/>
          <p:cNvPicPr/>
          <p:nvPr/>
        </p:nvPicPr>
        <p:blipFill>
          <a:blip r:embed="rId1"/>
          <a:stretch/>
        </p:blipFill>
        <p:spPr>
          <a:xfrm>
            <a:off x="0" y="1268280"/>
            <a:ext cx="4500720" cy="3353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Users\user\Desktop\квн\конёк - горбкнок.jpg"/>
          <p:cNvPicPr/>
          <p:nvPr/>
        </p:nvPicPr>
        <p:blipFill>
          <a:blip r:embed="rId2"/>
          <a:stretch/>
        </p:blipFill>
        <p:spPr>
          <a:xfrm>
            <a:off x="2556000" y="3905280"/>
            <a:ext cx="4476600" cy="2952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user\Desktop\квн\конёк -горбунок.jpg"/>
          <p:cNvPicPr/>
          <p:nvPr/>
        </p:nvPicPr>
        <p:blipFill>
          <a:blip r:embed="rId3"/>
          <a:stretch/>
        </p:blipFill>
        <p:spPr>
          <a:xfrm>
            <a:off x="5724360" y="1341360"/>
            <a:ext cx="3181680" cy="42768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7"/>
          <p:cNvSpPr/>
          <p:nvPr/>
        </p:nvSpPr>
        <p:spPr>
          <a:xfrm>
            <a:off x="324000" y="522936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Пётр Ерш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4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ЗНАЕШЬ ЛИ ТЫ СКАЗКИ?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2" descr="C:\Users\user\Desktop\квн\о рыбаке и рыбке.gif"/>
          <p:cNvPicPr/>
          <p:nvPr/>
        </p:nvPicPr>
        <p:blipFill>
          <a:blip r:embed="rId1"/>
          <a:stretch/>
        </p:blipFill>
        <p:spPr>
          <a:xfrm>
            <a:off x="0" y="1785960"/>
            <a:ext cx="3664080" cy="2363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user\Desktop\квн\золотая рыбка.jpg"/>
          <p:cNvPicPr/>
          <p:nvPr/>
        </p:nvPicPr>
        <p:blipFill>
          <a:blip r:embed="rId2"/>
          <a:srcRect l="9910" t="0" r="0" b="0"/>
          <a:stretch/>
        </p:blipFill>
        <p:spPr>
          <a:xfrm>
            <a:off x="1692360" y="3041640"/>
            <a:ext cx="4583160" cy="381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C:\Users\user\Desktop\квн\у корыта.jpg"/>
          <p:cNvPicPr/>
          <p:nvPr/>
        </p:nvPicPr>
        <p:blipFill>
          <a:blip r:embed="rId3"/>
          <a:stretch/>
        </p:blipFill>
        <p:spPr>
          <a:xfrm>
            <a:off x="4572000" y="2924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6"/>
          <p:cNvSpPr/>
          <p:nvPr/>
        </p:nvSpPr>
        <p:spPr>
          <a:xfrm>
            <a:off x="3851280" y="162864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Сказка о рыбаке и рыб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7"/>
          <p:cNvSpPr/>
          <p:nvPr/>
        </p:nvSpPr>
        <p:spPr>
          <a:xfrm>
            <a:off x="179280" y="4653000"/>
            <a:ext cx="230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.С.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1.  «Бременские музыканты»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сё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етух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росёнок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  «Снежная королев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Герд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бойница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3. «Волшебник изумрудного города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Элл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трашил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Гингем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.  «Вини -  Пух и все, все, все»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Иа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ятачок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Филин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8" descr="C:\Users\1\Desktop\занятия из интернета для гпд - копия\i (4).jpg"/>
          <p:cNvPicPr/>
          <p:nvPr/>
        </p:nvPicPr>
        <p:blipFill>
          <a:blip r:embed="rId2"/>
          <a:stretch/>
        </p:blipFill>
        <p:spPr>
          <a:xfrm>
            <a:off x="4284720" y="1424160"/>
            <a:ext cx="45352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9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1" dur="500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5.  «Маугл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Шерха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Багир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отошка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.  «Теремок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ягушк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лк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егемот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7.  «Три медведя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аша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ишутк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Железный  дровосек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8 «Доктор Айболит»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и – ч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армалей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рабас - Барабас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5" descr="C:\Users\1\Desktop\занятия из интернета для гпд - копия\i (6).jpg"/>
          <p:cNvPicPr/>
          <p:nvPr/>
        </p:nvPicPr>
        <p:blipFill>
          <a:blip r:embed="rId2"/>
          <a:stretch/>
        </p:blipFill>
        <p:spPr>
          <a:xfrm>
            <a:off x="3203640" y="1484280"/>
            <a:ext cx="525600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7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5" dur="5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8" dur="500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ВОЛШЕБНЫЕ СЛОВА</a:t>
            </a:r>
            <a:br>
              <a:rPr sz="2400"/>
            </a:b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КАКОМУ ГЕРОЮ ПРИНАДЛЕЖАТ СЛЕДУЮЩИЕ СЛОВА? КАК НАЗЫВАЕТСЯ СКАЗКА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9968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ивка-бурка ,вещий каурка!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стань передо мной, как лист перед травой!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Иванушка-дурачок, сказка «Сивка-бурка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, два, три горшочек, вари!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Девочка, братья Гримм «Горшок каши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ети- лети , лепе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запад на во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север, через юг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звращайся, сделав круг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ишь коснёшься ты земли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ыть по-моему вели 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Женя, В. Катаев «Цветик-семицветик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утабор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Калиф,  В. Гауф «Калиф-аист»)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т теперь тебя люблю я, вот теперь тебя хвалю я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А немытым трубочистам стыд и сра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Мойдодыр, К. Чуйковский «Мойдодыр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рекс Фекс Пекс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Буратино, А. Толстой « Золотой ключик, или приключения Буратино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0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4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7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9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7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0" dur="5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4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4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4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4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ТЕЛЕГРАММЫ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95280" y="6021000"/>
            <a:ext cx="6192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0" y="1435680"/>
            <a:ext cx="40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«От дедушки у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бабушки у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коро буду у ва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4356000" y="1155240"/>
            <a:ext cx="28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50796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«Спасите, нас съел серый волк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395280" y="443232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50796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«Простое яичко уже снес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4284720" y="3316680"/>
            <a:ext cx="417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«Живу без всяко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редь зелёныя дубра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У семи богатыр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C:\Users\user\Desktop\квн\колобок.jpg"/>
          <p:cNvPicPr/>
          <p:nvPr/>
        </p:nvPicPr>
        <p:blipFill>
          <a:blip r:embed="rId1"/>
          <a:stretch/>
        </p:blipFill>
        <p:spPr>
          <a:xfrm>
            <a:off x="1332000" y="270828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Users\user\Desktop\квн\7 козлят.jpg"/>
          <p:cNvPicPr/>
          <p:nvPr/>
        </p:nvPicPr>
        <p:blipFill>
          <a:blip r:embed="rId2"/>
          <a:stretch/>
        </p:blipFill>
        <p:spPr>
          <a:xfrm>
            <a:off x="6372360" y="981000"/>
            <a:ext cx="2195280" cy="2457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C:\Users\user\Desktop\квн\кура.jpg"/>
          <p:cNvPicPr/>
          <p:nvPr/>
        </p:nvPicPr>
        <p:blipFill>
          <a:blip r:embed="rId3"/>
          <a:stretch/>
        </p:blipFill>
        <p:spPr>
          <a:xfrm>
            <a:off x="2268360" y="4941720"/>
            <a:ext cx="1776600" cy="1916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C:\Users\user\Desktop\квн\царевна.jpg"/>
          <p:cNvPicPr/>
          <p:nvPr/>
        </p:nvPicPr>
        <p:blipFill>
          <a:blip r:embed="rId4"/>
          <a:stretch/>
        </p:blipFill>
        <p:spPr>
          <a:xfrm>
            <a:off x="5867280" y="4278240"/>
            <a:ext cx="2835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КОНКУРС КАПИТАНОВ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1. Какую песню пел Колобок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2. Что пела Коза своим козлятам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5" descr="C:\Users\user\Desktop\квн\колобок.jpg"/>
          <p:cNvPicPr/>
          <p:nvPr/>
        </p:nvPicPr>
        <p:blipFill>
          <a:blip r:embed="rId1"/>
          <a:stretch/>
        </p:blipFill>
        <p:spPr>
          <a:xfrm>
            <a:off x="3276720" y="227664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Users\user\Desktop\квн\коза.jpg"/>
          <p:cNvPicPr/>
          <p:nvPr/>
        </p:nvPicPr>
        <p:blipFill>
          <a:blip r:embed="rId2"/>
          <a:stretch/>
        </p:blipFill>
        <p:spPr>
          <a:xfrm>
            <a:off x="5575320" y="4653000"/>
            <a:ext cx="2689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46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5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9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         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714240" y="2286000"/>
            <a:ext cx="2405160" cy="18572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214800" y="4357800"/>
            <a:ext cx="2571480" cy="1923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5" descr="C:\Users\1\Desktop\занятия из интернета для гпд\0419a61abde816db5df239b9d0ed2abe.jpg"/>
          <p:cNvPicPr/>
          <p:nvPr/>
        </p:nvPicPr>
        <p:blipFill>
          <a:blip r:embed="rId4"/>
          <a:stretch/>
        </p:blipFill>
        <p:spPr>
          <a:xfrm>
            <a:off x="5643720" y="185724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6"/>
          <p:cNvSpPr/>
          <p:nvPr/>
        </p:nvSpPr>
        <p:spPr>
          <a:xfrm>
            <a:off x="785880" y="42861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Царевна-ляг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335772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Курочка Ря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5857920" y="4714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8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7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9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1000080" y="164304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4" descr="C:\Users\1\Desktop\занятия из интернета для гпд\i (1).jpg"/>
          <p:cNvPicPr/>
          <p:nvPr/>
        </p:nvPicPr>
        <p:blipFill>
          <a:blip r:embed="rId3"/>
          <a:stretch/>
        </p:blipFill>
        <p:spPr>
          <a:xfrm>
            <a:off x="5786280" y="1785960"/>
            <a:ext cx="2514600" cy="215280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5" descr="C:\Users\1\Desktop\занятия из интернета для гпд\i (2).jpg"/>
          <p:cNvPicPr/>
          <p:nvPr/>
        </p:nvPicPr>
        <p:blipFill>
          <a:blip r:embed="rId4"/>
          <a:stretch/>
        </p:blipFill>
        <p:spPr>
          <a:xfrm>
            <a:off x="2500200" y="4286160"/>
            <a:ext cx="3514680" cy="22575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6"/>
          <p:cNvSpPr/>
          <p:nvPr/>
        </p:nvSpPr>
        <p:spPr>
          <a:xfrm>
            <a:off x="1071720" y="3429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7"/>
          <p:cNvSpPr/>
          <p:nvPr/>
        </p:nvSpPr>
        <p:spPr>
          <a:xfrm>
            <a:off x="6143760" y="42148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Зол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8"/>
          <p:cNvSpPr/>
          <p:nvPr/>
        </p:nvSpPr>
        <p:spPr>
          <a:xfrm>
            <a:off x="2857680" y="3857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Аленький цветоч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1. КАК АУКНЕТСЯ,ТАК И ОТКЛИКНЕТСЯ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2571480"/>
            <a:ext cx="7467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Топор лучше шубы греет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Битый небитого везёт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У страха глаза велик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Как аукнется, так и откликнетс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Содержимое 3" descr="C:\Users\1\Desktop\занятия из интернета для гпд\i (3).jpg"/>
          <p:cNvPicPr/>
          <p:nvPr/>
        </p:nvPicPr>
        <p:blipFill>
          <a:blip r:embed="rId2"/>
          <a:stretch/>
        </p:blipFill>
        <p:spPr>
          <a:xfrm>
            <a:off x="357120" y="178596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5357880" y="14288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5" descr="C:\Users\1\Desktop\занятия из интернета для гпд\i.jpg"/>
          <p:cNvPicPr/>
          <p:nvPr/>
        </p:nvPicPr>
        <p:blipFill>
          <a:blip r:embed="rId4"/>
          <a:stretch/>
        </p:blipFill>
        <p:spPr>
          <a:xfrm>
            <a:off x="3571920" y="4538520"/>
            <a:ext cx="2928960" cy="23194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6"/>
          <p:cNvSpPr/>
          <p:nvPr/>
        </p:nvSpPr>
        <p:spPr>
          <a:xfrm>
            <a:off x="285840" y="46432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Кот в сап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7"/>
          <p:cNvSpPr/>
          <p:nvPr/>
        </p:nvSpPr>
        <p:spPr>
          <a:xfrm>
            <a:off x="5572080" y="39290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удочка и кувши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8"/>
          <p:cNvSpPr/>
          <p:nvPr/>
        </p:nvSpPr>
        <p:spPr>
          <a:xfrm>
            <a:off x="6500880" y="4929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венадцать месяц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0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9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6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9" dur="8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0" dur="8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8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ИНСЦЕНИРОВКА ОТРЫВКА ИЗ СКАЗКИ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2" descr="C:\Users\user\Desktop\квн\сказка 2.jpg"/>
          <p:cNvPicPr/>
          <p:nvPr/>
        </p:nvPicPr>
        <p:blipFill>
          <a:blip r:embed="rId1"/>
          <a:stretch/>
        </p:blipFill>
        <p:spPr>
          <a:xfrm>
            <a:off x="4643280" y="2071800"/>
            <a:ext cx="35719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7" descr="C:\Users\Анна\Desktop\947748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КАЗОЧНЫЙ ПЕРЕПОЛОХ</a:t>
            </a:r>
            <a:br>
              <a:rPr sz="2400"/>
            </a:b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ПЕРЕПУТАЛИСЬ НАЗВАНИЯ СКАЗОК. СОЕДИНИТЕ НАЧАЛО И КОНЕЦ СКАЗОК, ЧТОБЫ ИСПРАВИТЬ ОШИБКИ. </a:t>
            </a:r>
            <a:br>
              <a:rPr sz="18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 Царевна                                            Ховрошеч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ван-царевич и                                 семь гномов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рошечка –                                              лягуш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Финист                                              Бессмертный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Белоснежка и                                      серый вол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ощей –                                              Ясный сокол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8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2273400" y="1700280"/>
            <a:ext cx="4097160" cy="131760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992320" y="2200320"/>
            <a:ext cx="3170520" cy="16765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2346480" y="1695600"/>
            <a:ext cx="3524040" cy="11761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1706400" y="3054240"/>
            <a:ext cx="4310280" cy="117648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ая со стрелкой 12" descr=""/>
          <p:cNvPicPr/>
          <p:nvPr/>
        </p:nvPicPr>
        <p:blipFill>
          <a:blip r:embed="rId6"/>
          <a:stretch/>
        </p:blipFill>
        <p:spPr>
          <a:xfrm>
            <a:off x="2743200" y="2163600"/>
            <a:ext cx="3164040" cy="167652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ая со стрелкой 14" descr=""/>
          <p:cNvPicPr/>
          <p:nvPr/>
        </p:nvPicPr>
        <p:blipFill>
          <a:blip r:embed="rId7"/>
          <a:stretch/>
        </p:blipFill>
        <p:spPr>
          <a:xfrm>
            <a:off x="1994040" y="2981160"/>
            <a:ext cx="3809880" cy="1249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nodeType="clickEffect" fill="hold">
                      <p:stCondLst>
                        <p:cond delay="0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4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9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4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" descr="C:\Users\Анна\Desktop\95478168.jpg"/>
          <p:cNvPicPr/>
          <p:nvPr/>
        </p:nvPicPr>
        <p:blipFill>
          <a:blip r:embed="rId1"/>
          <a:stretch/>
        </p:blipFill>
        <p:spPr>
          <a:xfrm>
            <a:off x="-15840" y="1260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КОШЕЧКИ И СОБАЧКИ</a:t>
            </a: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НАЗВАТЬ КЛИЧКУ КОШКИ ИЛИ СОБАКИ ИЗ: 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928520" y="16430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«Малыш и Карлсон, который живёт на крыше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Бимбо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«Крокодил Гена и его друзь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Тобик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 Золотой ключик, или приключения Буратино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Кот Базилио и  пудель Артемон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4. «Реп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 и кошка Мурка)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5. «Доктор Айболит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Авв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6. «Снегуроч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1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5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1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9" dur="8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0" dur="8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8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800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6" dur="8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8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C:\Users\Анна\Desktop\95608765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Schoolbook"/>
              </a:rPr>
              <a:t>ВОЛШЕБНЫЙ СУНДУЧОК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 сундучке  находятся предметы, которые в тридевятом царстве выполняли роль……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0" name="Рисунок 7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2500200" y="2143080"/>
            <a:ext cx="3929040" cy="265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96" dur="indefinite" restart="never" nodeType="tmRoot">
          <p:childTnLst>
            <p:seq>
              <p:cTn id="1097" dur="indefinite" nodeType="mainSeq">
                <p:childTnLst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0" dur="10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8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самолёт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телевизор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4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928800" y="2428920"/>
            <a:ext cx="2857320" cy="1643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6072120" y="214308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5" descr="C:\Users\1\Desktop\занятия из интернета для гпд\i (4).jpg"/>
          <p:cNvPicPr/>
          <p:nvPr/>
        </p:nvPicPr>
        <p:blipFill>
          <a:blip r:embed="rId4"/>
          <a:stretch/>
        </p:blipFill>
        <p:spPr>
          <a:xfrm>
            <a:off x="3357720" y="5337000"/>
            <a:ext cx="2143080" cy="1521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nodeType="clickEffect" fill="hold">
                      <p:stCondLst>
                        <p:cond delay="0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8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8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8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1000" fill="hold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1000" fill="hold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1000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тиральной маши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компаса, навигато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0" name="Рисунок 3" descr="C:\Users\1\Desktop\занятия из интернета для гпд\i (5).jpg"/>
          <p:cNvPicPr/>
          <p:nvPr/>
        </p:nvPicPr>
        <p:blipFill>
          <a:blip r:embed="rId2"/>
          <a:stretch/>
        </p:blipFill>
        <p:spPr>
          <a:xfrm>
            <a:off x="3143160" y="207180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429000" y="4929120"/>
            <a:ext cx="1952640" cy="130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6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6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7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втомобил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естора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5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3429000" y="1857240"/>
            <a:ext cx="3538440" cy="171000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3286080" y="4572000"/>
            <a:ext cx="307188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0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0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1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1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2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C:\Users\Анна\Desktop\47533973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ТЕЛЕГРАМ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Спасите! Нас съел серый волк!»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Семеро козлят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быть на ваш праздник не могу, так как от меня сбежали брюк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ойдодыр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От дедушки ушел, от бабушки ушел. Скоро у вас буду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олобок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А дорога далека, и корзина нелег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есть бы на пенек, съесть бы пирожо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ашень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шлите, пожалуйста, капли, мы лягушками нынче объелись  и у нас животы разболелись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Цапли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Все осталось без изменений, вот только бабушку съел вол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расная шапоч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6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8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0" dur="5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7" dur="5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nodeType="clickEffect" fill="hold">
                      <p:stCondLst>
                        <p:cond delay="indefinite"/>
                      </p:stCondLst>
                      <p:childTnLst>
                        <p:par>
                          <p:cTn id="1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0" dur="500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7" dur="1000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1000" fill="hold"/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1000" fill="hold"/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БЛИЦ - ОПРО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нес решающий вклад в процесс вытаскивания реп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не влез в терем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гуси-лебеди унесли братц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выгнала лисичка зайчика из дом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Сколько понадобилось муки, чтобы испечь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медведи узнали, что к ним зашёл гость нежданный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медведей из сказки «Три медведя»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Что отвечала лиса, когда её пытались выгнать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Из чего была речка, берега которой укрыли сестрицу Аленушку, и братца Иванушку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волка, который поселился в теремк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Где взяла бабка муки для выпечки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й беспорядок устроила Машенька в чужом дом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го сначала, а кого потом встретил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го цвета была чашка у Мишут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спомнит песенку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обманула лиса колобка?  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nodeType="clickEffect" fill="hold">
                      <p:stCondLst>
                        <p:cond delay="indefinite"/>
                      </p:stCondLst>
                      <p:childTnLst>
                        <p:par>
                          <p:cTn id="1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9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nodeType="clickEffect" fill="hold">
                      <p:stCondLst>
                        <p:cond delay="indefinite"/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nodeType="clickEffect" fill="hold">
                      <p:stCondLst>
                        <p:cond delay="indefinite"/>
                      </p:stCondLst>
                      <p:childTnLst>
                        <p:par>
                          <p:cTn id="1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4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4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4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4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 Black"/>
              </a:rPr>
              <a:t>КОНКУРС 1. «УЗНАЙ СКАЗКУ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Содержимое 3" descr="http://antalpiti.ru/files/99604/tri_medveda.jpg"/>
          <p:cNvPicPr/>
          <p:nvPr/>
        </p:nvPicPr>
        <p:blipFill>
          <a:blip r:embed="rId2"/>
          <a:stretch/>
        </p:blipFill>
        <p:spPr>
          <a:xfrm>
            <a:off x="642960" y="2571840"/>
            <a:ext cx="3429000" cy="364320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" descr="http://antalpiti.ru/files/99604/lisa_i_zhuravl.2.jpg"/>
          <p:cNvPicPr/>
          <p:nvPr/>
        </p:nvPicPr>
        <p:blipFill>
          <a:blip r:embed="rId3"/>
          <a:stretch/>
        </p:blipFill>
        <p:spPr>
          <a:xfrm>
            <a:off x="4857840" y="1571760"/>
            <a:ext cx="345744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with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C:\Users\Анна\Desktop\09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Всякой сказке бывает кон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Каждый, кто с нами играл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6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7" dur="2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2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2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2" dur="2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3" dur="2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2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2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2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2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2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3" descr="http://antalpiti.ru/files/99604/kolobok.jpg"/>
          <p:cNvPicPr/>
          <p:nvPr/>
        </p:nvPicPr>
        <p:blipFill>
          <a:blip r:embed="rId2"/>
          <a:stretch/>
        </p:blipFill>
        <p:spPr>
          <a:xfrm>
            <a:off x="1000080" y="3000240"/>
            <a:ext cx="3571920" cy="35006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4" descr="http://antalpiti.ru/files/99604/kot_v_sapogah2.jpg"/>
          <p:cNvPicPr/>
          <p:nvPr/>
        </p:nvPicPr>
        <p:blipFill>
          <a:blip r:embed="rId3"/>
          <a:stretch/>
        </p:blipFill>
        <p:spPr>
          <a:xfrm>
            <a:off x="4714920" y="157176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3" descr="http://antalpiti.ru/files/99604/lisa_i_zajac.jpg"/>
          <p:cNvPicPr/>
          <p:nvPr/>
        </p:nvPicPr>
        <p:blipFill>
          <a:blip r:embed="rId2"/>
          <a:stretch/>
        </p:blipFill>
        <p:spPr>
          <a:xfrm>
            <a:off x="500040" y="2500200"/>
            <a:ext cx="3905280" cy="40435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http://antalpiti.ru/files/99604/belosnezhka.jpg"/>
          <p:cNvPicPr/>
          <p:nvPr/>
        </p:nvPicPr>
        <p:blipFill>
          <a:blip r:embed="rId3"/>
          <a:stretch/>
        </p:blipFill>
        <p:spPr>
          <a:xfrm>
            <a:off x="4786200" y="1714680"/>
            <a:ext cx="3643560" cy="37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Содержимое 3" descr="http://antalpiti.ru/files/99604/zolushka2.jpg"/>
          <p:cNvPicPr/>
          <p:nvPr/>
        </p:nvPicPr>
        <p:blipFill>
          <a:blip r:embed="rId2"/>
          <a:stretch/>
        </p:blipFill>
        <p:spPr>
          <a:xfrm>
            <a:off x="357120" y="2571840"/>
            <a:ext cx="3786120" cy="40431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4" descr="http://antalpiti.ru/files/99604/gusi-lebedi.jpg"/>
          <p:cNvPicPr/>
          <p:nvPr/>
        </p:nvPicPr>
        <p:blipFill>
          <a:blip r:embed="rId3"/>
          <a:stretch/>
        </p:blipFill>
        <p:spPr>
          <a:xfrm>
            <a:off x="4500720" y="1428840"/>
            <a:ext cx="3476520" cy="347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2. УГАДАЙ-КА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2" descr="C:\Users\user\Desktop\квн\гуси-лебеди.jpg"/>
          <p:cNvPicPr/>
          <p:nvPr/>
        </p:nvPicPr>
        <p:blipFill>
          <a:blip r:embed="rId1"/>
          <a:stretch/>
        </p:blipFill>
        <p:spPr>
          <a:xfrm>
            <a:off x="179280" y="134136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user\Desktop\квн\гусм-лебеди 2.jpg"/>
          <p:cNvPicPr/>
          <p:nvPr/>
        </p:nvPicPr>
        <p:blipFill>
          <a:blip r:embed="rId2"/>
          <a:stretch/>
        </p:blipFill>
        <p:spPr>
          <a:xfrm>
            <a:off x="1692360" y="350028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Users\user\Desktop\квн\г-л 3.jpg"/>
          <p:cNvPicPr/>
          <p:nvPr/>
        </p:nvPicPr>
        <p:blipFill>
          <a:blip r:embed="rId3"/>
          <a:stretch/>
        </p:blipFill>
        <p:spPr>
          <a:xfrm>
            <a:off x="5364000" y="198900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5651640" y="5300640"/>
            <a:ext cx="32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Гуси-леб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3238560" y="1484280"/>
            <a:ext cx="266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Русская народная ска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2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ЗОЛОТОЙ КЛЮЧИК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C:\Users\user\Desktop\квн\з к.jpg"/>
          <p:cNvPicPr/>
          <p:nvPr/>
        </p:nvPicPr>
        <p:blipFill>
          <a:blip r:embed="rId1"/>
          <a:stretch/>
        </p:blipFill>
        <p:spPr>
          <a:xfrm>
            <a:off x="0" y="1341360"/>
            <a:ext cx="3448080" cy="2362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user\Desktop\квн\з-к 2.jpg"/>
          <p:cNvPicPr/>
          <p:nvPr/>
        </p:nvPicPr>
        <p:blipFill>
          <a:blip r:embed="rId2"/>
          <a:stretch/>
        </p:blipFill>
        <p:spPr>
          <a:xfrm>
            <a:off x="2195640" y="292428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Users\user\Desktop\квн\мальвина.jpg"/>
          <p:cNvPicPr/>
          <p:nvPr/>
        </p:nvPicPr>
        <p:blipFill>
          <a:blip r:embed="rId3"/>
          <a:stretch/>
        </p:blipFill>
        <p:spPr>
          <a:xfrm>
            <a:off x="5651640" y="270828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3995640" y="162864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лексей 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1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ИВАН-ЦАРЕВИЧ И СЕРЫЙ ВОЛК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Users\user\Desktop\квн\ицисв 3.jpg"/>
          <p:cNvPicPr/>
          <p:nvPr/>
        </p:nvPicPr>
        <p:blipFill>
          <a:blip r:embed="rId1"/>
          <a:srcRect l="15102" t="4653" r="15135" b="4653"/>
          <a:stretch/>
        </p:blipFill>
        <p:spPr>
          <a:xfrm>
            <a:off x="0" y="1785960"/>
            <a:ext cx="3378240" cy="401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user\Desktop\квн\и ц и с в2.jpg"/>
          <p:cNvPicPr/>
          <p:nvPr/>
        </p:nvPicPr>
        <p:blipFill>
          <a:blip r:embed="rId2"/>
          <a:stretch/>
        </p:blipFill>
        <p:spPr>
          <a:xfrm>
            <a:off x="1619280" y="4095720"/>
            <a:ext cx="4124160" cy="2762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:\Users\user\Desktop\квн\иц и с в 4.jpg"/>
          <p:cNvPicPr/>
          <p:nvPr/>
        </p:nvPicPr>
        <p:blipFill>
          <a:blip r:embed="rId3"/>
          <a:srcRect l="17220" t="5080" r="17220" b="5080"/>
          <a:stretch/>
        </p:blipFill>
        <p:spPr>
          <a:xfrm>
            <a:off x="5570640" y="2000160"/>
            <a:ext cx="3573360" cy="45975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3492360" y="191628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усская народная 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44:57Z</dcterms:created>
  <dc:creator>Анна</dc:creator>
  <dc:description/>
  <dc:language>en-US</dc:language>
  <cp:lastModifiedBy>888</cp:lastModifiedBy>
  <dcterms:modified xsi:type="dcterms:W3CDTF">2018-06-26T17:02:36Z</dcterms:modified>
  <cp:revision>68</cp:revision>
  <dc:subject/>
  <dc:title>Слайд 1</dc:title>
</cp:coreProperties>
</file>