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982-C012-4A86-B175-9AD3129E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58F-143F-4526-BEBF-50AD60CC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937-8DF1-4D2E-9FE9-3EC224D5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36A-C789-48C4-AD4E-728F4DD6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433B-49EF-4C1D-A5C7-22E2610E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B8D2-F4BD-4903-95DD-CD295170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CFA4-6C25-48DF-8E3F-4B2E22A2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F7BD-B436-4A5B-A170-10DE92A4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05E0-92BB-4B57-99F8-8957C81D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3110-E007-42C6-BA59-6565D871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57BD-0EF5-448B-BD30-FC3976A9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DC8-4AB0-4644-BE79-34983997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F834-7472-4DB3-A7A2-5EB188AC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624C-A78A-4905-B0A3-A3C4C582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0C18-5B33-4638-B052-FF138483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3B2D-74BA-4248-8A4D-9744995E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3D24-E5EA-45ED-BD2D-CBAE697F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6AE-B52A-47EF-AE41-F345848F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B3A-7F17-41AA-AF12-416BFA37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E6B-77AA-4A4A-9DA8-B1DBCD05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F6D-A5EE-4937-A7A7-0D85C6F8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FB9-99D5-4E14-855F-0F5ECFC3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806-B11A-49ED-B774-14FB3FB7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09D5-51D8-44FF-8109-76A5B621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E5EF-F026-4BF7-B243-9E61C81E0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DA8F-1D57-473B-BE24-C48E29AFA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71280"/>
            <a:ext cx="77724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Calibri"/>
              </a:rPr>
              <a:t>Вялый паралич как основной патогенетический механизм бульбарной дизар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51040" y="4929120"/>
            <a:ext cx="35607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 студентка 2 курса ZSВП-Лог-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ань С.В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РФ ФГБОУ 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рмавирский государственный педагогический университ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психологический факультет кафедра социаль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й педагогики и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368080" y="345960"/>
            <a:ext cx="45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ССИВНАЯ ГИМН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Картинки по запросу картинки детей Пассивной гимнастикой"/>
          <p:cNvPicPr/>
          <p:nvPr/>
        </p:nvPicPr>
        <p:blipFill>
          <a:blip r:embed="rId1"/>
          <a:stretch/>
        </p:blipFill>
        <p:spPr>
          <a:xfrm>
            <a:off x="797040" y="1285920"/>
            <a:ext cx="7613640" cy="4282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6160" y="274680"/>
            <a:ext cx="638028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КТИВНАЯ ГИМН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Картинки по запросу картинки детей АКТИВНАЯ гимнастикой ЛОГОПЕДА"/>
          <p:cNvPicPr/>
          <p:nvPr/>
        </p:nvPicPr>
        <p:blipFill>
          <a:blip r:embed="rId1"/>
          <a:stretch/>
        </p:blipFill>
        <p:spPr>
          <a:xfrm>
            <a:off x="757080" y="1460520"/>
            <a:ext cx="7545600" cy="4245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009800"/>
            <a:ext cx="8715240" cy="26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Картинки по запросу картнки красивые на прозрачном фоне детей"/>
          <p:cNvPicPr/>
          <p:nvPr/>
        </p:nvPicPr>
        <p:blipFill>
          <a:blip r:embed="rId1"/>
          <a:stretch/>
        </p:blipFill>
        <p:spPr>
          <a:xfrm>
            <a:off x="1862280" y="2741760"/>
            <a:ext cx="4933800" cy="376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Картинки по запросу РОДИТЕЛИ И РЕБЕНОК ДИЗАРТРИКИ"/>
          <p:cNvPicPr/>
          <p:nvPr/>
        </p:nvPicPr>
        <p:blipFill>
          <a:blip r:embed="rId1"/>
          <a:stretch/>
        </p:blipFill>
        <p:spPr>
          <a:xfrm>
            <a:off x="334800" y="1065240"/>
            <a:ext cx="8399520" cy="5081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0" y="122400"/>
            <a:ext cx="6168960" cy="70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Языкоглоточный (IX) нерв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увствительная порция заканчивается рецепторами в задней трети языка, мягком небе, зеве, глотке, слуховой трубе, барабанной полости, передней поверхности надгортан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рвый двигательный нейрон располаг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нижней части прецентральной извили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конечном итоге иннервируются волок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шилоглоточной мышцы, поднимающей глотку и горта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расимпатические волокна иннервируют нижнее слюноотделительное ядро, околоушную слюнную желе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луждающий (X) нерв: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вигательную иннервация мышц мягкого неба, глотки, гортани, а такж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перечно-полосатых мышц пищев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расимпатическую иннервацию глад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ышц легких, пищевода, желудка и кишечника (до селезёночного изгиба ободочной кишки), а также мышцы сердца. Также влияет на секрецию жел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елудка и поджелудочной железы. Чувствительн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нервацию слизистой оболочки нижней части глот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горт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ъязычный (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II)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рв: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нервация мышц самого языка и мышц, двигающих язык вперед и вниз, вверх и наз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C:\Documents and Settings\гость1\Рабочий стол\424px-Brain_human_normal_inferior_view_with_labels_ru.svg.png"/>
          <p:cNvPicPr/>
          <p:nvPr/>
        </p:nvPicPr>
        <p:blipFill>
          <a:blip r:embed="rId1"/>
          <a:stretch/>
        </p:blipFill>
        <p:spPr>
          <a:xfrm>
            <a:off x="5303880" y="1241280"/>
            <a:ext cx="3689280" cy="43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463680" y="255600"/>
            <a:ext cx="8229600" cy="73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чины бульбарного паралича: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пухоли нижних отделов ствола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суль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вриты вирусной эт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ложнения после воспаления среднего 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оковой амиотрофический склер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лиомие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лещевой энцефа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оррели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ифтерийная, поствакцинальная и паранеопластическая полинейропа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ипертире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оту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стные аномалии, аномалия Арнольда-Киа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енинг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НМК в ВББ (продолговатый мозг) сосудистые поражения ствола, при которых дисфагия представлена в картине альтернирующих синдромов Валенберга-Захарченко, Сестана-Шене, Авеллиса, Шмидта, Тепиа, Берне, Джекс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http://dr-kruglov.ru/wp-content/uploads/2016/09/Narushenie-obonyaniya-i-paralichi-pri-opuholyah-mozga.jpg"/>
          <p:cNvPicPr/>
          <p:nvPr/>
        </p:nvPicPr>
        <p:blipFill>
          <a:blip r:embed="rId1"/>
          <a:stretch/>
        </p:blipFill>
        <p:spPr>
          <a:xfrm>
            <a:off x="782640" y="4135320"/>
            <a:ext cx="7432560" cy="2527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polio2"/>
          <p:cNvPicPr/>
          <p:nvPr/>
        </p:nvPicPr>
        <p:blipFill>
          <a:blip r:embed="rId2"/>
          <a:srcRect l="6096" t="0" r="44518" b="61222"/>
          <a:stretch/>
        </p:blipFill>
        <p:spPr>
          <a:xfrm>
            <a:off x="1119240" y="1055520"/>
            <a:ext cx="2211480" cy="25578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546120" y="-138240"/>
            <a:ext cx="7669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Полиомиелит»                                               «Дифтер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http://promed.bg/wp-content/uploads/2011/03/dif1.jpg"/>
          <p:cNvPicPr/>
          <p:nvPr/>
        </p:nvPicPr>
        <p:blipFill>
          <a:blip r:embed="rId3"/>
          <a:srcRect l="2974" t="-628" r="32462" b="59119"/>
          <a:stretch/>
        </p:blipFill>
        <p:spPr>
          <a:xfrm>
            <a:off x="5424480" y="1038240"/>
            <a:ext cx="2719440" cy="25588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"/>
          <p:cNvSpPr/>
          <p:nvPr/>
        </p:nvSpPr>
        <p:spPr>
          <a:xfrm>
            <a:off x="3048120" y="3613320"/>
            <a:ext cx="32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ледствие  «Инсульт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38040" y="530280"/>
            <a:ext cx="2344680" cy="30812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4189320" y="-290520"/>
            <a:ext cx="4435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Неврит лицевого нер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Картинки по запросу картинки детей с невритом"/>
          <p:cNvPicPr/>
          <p:nvPr/>
        </p:nvPicPr>
        <p:blipFill>
          <a:blip r:embed="rId2"/>
          <a:stretch/>
        </p:blipFill>
        <p:spPr>
          <a:xfrm>
            <a:off x="5234040" y="655560"/>
            <a:ext cx="2584440" cy="27748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1324080" y="469728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576360" y="125280"/>
            <a:ext cx="85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Энцефали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Похожее изображение"/>
          <p:cNvPicPr/>
          <p:nvPr/>
        </p:nvPicPr>
        <p:blipFill>
          <a:blip r:embed="rId3"/>
          <a:stretch/>
        </p:blipFill>
        <p:spPr>
          <a:xfrm>
            <a:off x="3224160" y="3941640"/>
            <a:ext cx="2265480" cy="27813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1622520" y="2916360"/>
            <a:ext cx="7002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Осложнения после воспаления среднего у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8800" y="1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Calibri"/>
              </a:rPr>
              <a:t>Признаки бульбарного паралич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5164" t="0" r="0" b="3035"/>
          <a:stretch/>
        </p:blipFill>
        <p:spPr>
          <a:xfrm>
            <a:off x="5896080" y="504720"/>
            <a:ext cx="2565360" cy="3479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ttp://www.medcourse.ru/wordpress/wp-content/uploads/2012/07/child_illness_diagnosis_161.jpg"/>
          <p:cNvPicPr/>
          <p:nvPr/>
        </p:nvPicPr>
        <p:blipFill>
          <a:blip r:embed="rId2"/>
          <a:stretch/>
        </p:blipFill>
        <p:spPr>
          <a:xfrm>
            <a:off x="223920" y="723960"/>
            <a:ext cx="2905200" cy="3370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://aura-dione.ru/gallery/images/672199_miasteniya-glaznaya-forma.jpg"/>
          <p:cNvPicPr/>
          <p:nvPr/>
        </p:nvPicPr>
        <p:blipFill>
          <a:blip r:embed="rId3"/>
          <a:stretch/>
        </p:blipFill>
        <p:spPr>
          <a:xfrm>
            <a:off x="3567240" y="3432240"/>
            <a:ext cx="218916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1009800" y="185760"/>
            <a:ext cx="69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БОТА НА РЕЧЕВОЙ МОТОР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Картинки по запросу РАБОТА ЛОГОПЕДА И РЕБЕНКА"/>
          <p:cNvPicPr/>
          <p:nvPr/>
        </p:nvPicPr>
        <p:blipFill>
          <a:blip r:embed="rId1"/>
          <a:stretch/>
        </p:blipFill>
        <p:spPr>
          <a:xfrm>
            <a:off x="1009800" y="792000"/>
            <a:ext cx="7472160" cy="5434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776320" y="495360"/>
            <a:ext cx="4825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МАСС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Картинки по запросу картинки детей Массаж служит для возбуждения иннервации речевой и лицевой мускулатуры"/>
          <p:cNvPicPr/>
          <p:nvPr/>
        </p:nvPicPr>
        <p:blipFill>
          <a:blip r:embed="rId1"/>
          <a:stretch/>
        </p:blipFill>
        <p:spPr>
          <a:xfrm>
            <a:off x="344520" y="1392120"/>
            <a:ext cx="793260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41:29Z</dcterms:created>
  <dc:creator>ppsworld.ru</dc:creator>
  <dc:description/>
  <cp:keywords>фон для power point</cp:keywords>
  <dc:language>en-US</dc:language>
  <cp:lastModifiedBy>xsystem</cp:lastModifiedBy>
  <dcterms:modified xsi:type="dcterms:W3CDTF">2018-04-11T18:17:28Z</dcterms:modified>
  <cp:revision>31</cp:revision>
  <dc:subject/>
  <dc:title>Слайд 1</dc:title>
</cp:coreProperties>
</file>