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C1A-40E7-4018-B355-D7DD7AA8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918-7EC4-43E2-8405-EF14B33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681-39C0-4889-8113-6DD1921A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62C-8DAC-4A64-8D7A-E70BA10D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6AE-A155-45A2-9F49-4F6F125D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9F1F-C9C5-4AB5-8CCB-77A2040E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1A2-E17B-4B9F-921F-B1A22F9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0D9-39E6-47FB-AEE4-5A536E7E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4577-E6F0-4249-A013-595039B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07FF-F192-435B-968F-9233996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A19F-A49E-4A6C-A87E-76F16E5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C8D-AA9D-4440-B269-8D9F2F90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E129-1B03-4BC0-A5E0-5E78D20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182-0082-4F1A-8A25-EB26D8F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090-E817-40EF-B141-B9FE490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4853-0ADB-4FEB-8CCA-9EDA61FA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CB6-6DD7-4C9A-90BB-F3605CEF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3CB-6BD8-4C25-9AD9-1611FF7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B1-7B9D-4632-9312-F14AE09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954-D76D-4787-9220-6663D776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35F-7056-4EF8-92C5-17E6FAFC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A00-B35A-4DE2-9678-C2FB08CD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B7E-6BE2-48C4-B22D-918589B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1F8-92B6-4F67-99D8-36E8FDBD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0528-4806-45CF-BA26-E0A2D87FA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ED2-E765-4229-AE29-71AB13615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Calibri"/>
              </a:rPr>
              <a:t>Вялый паралич как основной патогенетический механизм бульбарной дизар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51040" y="4929120"/>
            <a:ext cx="356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 студентка 2 курса ZSВП-Лог-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ань С.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 ФГБОУ 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рмавирский государственный педагогический университ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ий факультет кафедра социаль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368080" y="34596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СС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Картинки по запросу картинки детей Пассивной гимнастикой"/>
          <p:cNvPicPr/>
          <p:nvPr/>
        </p:nvPicPr>
        <p:blipFill>
          <a:blip r:embed="rId1"/>
          <a:stretch/>
        </p:blipFill>
        <p:spPr>
          <a:xfrm>
            <a:off x="797040" y="1285920"/>
            <a:ext cx="7613640" cy="428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6160" y="274680"/>
            <a:ext cx="638028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Т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Картинки по запросу картинки детей АКТИВНАЯ гимнастикой ЛОГОПЕДА"/>
          <p:cNvPicPr/>
          <p:nvPr/>
        </p:nvPicPr>
        <p:blipFill>
          <a:blip r:embed="rId1"/>
          <a:stretch/>
        </p:blipFill>
        <p:spPr>
          <a:xfrm>
            <a:off x="757080" y="1460520"/>
            <a:ext cx="7545600" cy="424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009800"/>
            <a:ext cx="8715240" cy="26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Картинки по запросу картнки красивые на прозрачном фоне детей"/>
          <p:cNvPicPr/>
          <p:nvPr/>
        </p:nvPicPr>
        <p:blipFill>
          <a:blip r:embed="rId1"/>
          <a:stretch/>
        </p:blipFill>
        <p:spPr>
          <a:xfrm>
            <a:off x="1862280" y="2741760"/>
            <a:ext cx="4933800" cy="376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Картинки по запросу РОДИТЕЛИ И РЕБЕНОК ДИЗАРТРИКИ"/>
          <p:cNvPicPr/>
          <p:nvPr/>
        </p:nvPicPr>
        <p:blipFill>
          <a:blip r:embed="rId1"/>
          <a:stretch/>
        </p:blipFill>
        <p:spPr>
          <a:xfrm>
            <a:off x="334800" y="1065240"/>
            <a:ext cx="8399520" cy="5081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122400"/>
            <a:ext cx="616896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зыкоглоточный (IX) нерв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увствительная порция заканчивается рецепторами в задней трети языка, мягком небе, зеве, глотке, слуховой трубе, барабанной полости, передней поверхности надгортан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вый двигательный нейрон располаг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нижней части прецентральной извил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конечном итоге иннервируются волок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илоглоточной мышцы, поднимающей глотку и горта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асимпатические волокна иннервируют нижнее слюноотделительное ядро, околоушную слюнную желе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луждающий (X) нерв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вигательную иннервация мышц мягкого неба, глотки, гортани, а так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перечно-полосатых мышц пище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расимпатическую иннервацию глад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ышц легких, пищевода, желудка и кишечника (до селезёночного изгиба ободочной кишки), а также мышцы сердца. Также влияет на секрецию жел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елудка и поджелудочной железы. Чувствитель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нервацию слизистой оболочки нижней части гло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горт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ъязычный (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II)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рв: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нервация мышц самого языка и мышц, двигающих язык вперед и вниз, вверх 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Documents and Settings\гость1\Рабочий стол\424px-Brain_human_normal_inferior_view_with_labels_ru.svg.png"/>
          <p:cNvPicPr/>
          <p:nvPr/>
        </p:nvPicPr>
        <p:blipFill>
          <a:blip r:embed="rId1"/>
          <a:stretch/>
        </p:blipFill>
        <p:spPr>
          <a:xfrm>
            <a:off x="5303880" y="1241280"/>
            <a:ext cx="3689280" cy="43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63680" y="255600"/>
            <a:ext cx="8229600" cy="73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чины бульбарного паралича: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ухоли нижних отделов ствол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с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вриты вирусной эт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ложнения после воспаления среднего 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ковой амиотрофический скле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иомие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ещевой энцефа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ррели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ифтерийная, поствакцинальная и паранеопластическая полинейр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ипертире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ту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стные аномалии, аномалия Арнольда-Киа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нинг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МК в ВББ (продолговатый мозг) сосудистые поражения ствола, при которых дисфагия представлена в картине альтернирующих синдромов Валенберга-Захарченко, Сестана-Шене, Авеллиса, Шмидта, Тепиа, Берне, Джекс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ttp://dr-kruglov.ru/wp-content/uploads/2016/09/Narushenie-obonyaniya-i-paralichi-pri-opuholyah-mozga.jpg"/>
          <p:cNvPicPr/>
          <p:nvPr/>
        </p:nvPicPr>
        <p:blipFill>
          <a:blip r:embed="rId1"/>
          <a:stretch/>
        </p:blipFill>
        <p:spPr>
          <a:xfrm>
            <a:off x="782640" y="4135320"/>
            <a:ext cx="7432560" cy="2527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polio2"/>
          <p:cNvPicPr/>
          <p:nvPr/>
        </p:nvPicPr>
        <p:blipFill>
          <a:blip r:embed="rId2"/>
          <a:srcRect l="6096" t="0" r="44518" b="61222"/>
          <a:stretch/>
        </p:blipFill>
        <p:spPr>
          <a:xfrm>
            <a:off x="1119240" y="1055520"/>
            <a:ext cx="2211480" cy="2557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546120" y="-138240"/>
            <a:ext cx="76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Полиомиелит»                                               «Дифтер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promed.bg/wp-content/uploads/2011/03/dif1.jpg"/>
          <p:cNvPicPr/>
          <p:nvPr/>
        </p:nvPicPr>
        <p:blipFill>
          <a:blip r:embed="rId3"/>
          <a:srcRect l="2974" t="-628" r="32462" b="59119"/>
          <a:stretch/>
        </p:blipFill>
        <p:spPr>
          <a:xfrm>
            <a:off x="5424480" y="1038240"/>
            <a:ext cx="2719440" cy="2558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048120" y="3613320"/>
            <a:ext cx="32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дствие  «Инсульт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38040" y="530280"/>
            <a:ext cx="2344680" cy="3081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4189320" y="-290520"/>
            <a:ext cx="4435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Неврит лицевого нер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Картинки по запросу картинки детей с невритом"/>
          <p:cNvPicPr/>
          <p:nvPr/>
        </p:nvPicPr>
        <p:blipFill>
          <a:blip r:embed="rId2"/>
          <a:stretch/>
        </p:blipFill>
        <p:spPr>
          <a:xfrm>
            <a:off x="5234040" y="655560"/>
            <a:ext cx="2584440" cy="2774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1324080" y="46972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6360" y="125280"/>
            <a:ext cx="85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Энцефали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Похожее изображение"/>
          <p:cNvPicPr/>
          <p:nvPr/>
        </p:nvPicPr>
        <p:blipFill>
          <a:blip r:embed="rId3"/>
          <a:stretch/>
        </p:blipFill>
        <p:spPr>
          <a:xfrm>
            <a:off x="3224160" y="3941640"/>
            <a:ext cx="2265480" cy="2781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622520" y="2916360"/>
            <a:ext cx="7002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Осложнения после воспаления среднего 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800" y="1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Признаки бульбарного парали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5164" t="0" r="0" b="3035"/>
          <a:stretch/>
        </p:blipFill>
        <p:spPr>
          <a:xfrm>
            <a:off x="5896080" y="504720"/>
            <a:ext cx="2565360" cy="3479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://www.medcourse.ru/wordpress/wp-content/uploads/2012/07/child_illness_diagnosis_161.jpg"/>
          <p:cNvPicPr/>
          <p:nvPr/>
        </p:nvPicPr>
        <p:blipFill>
          <a:blip r:embed="rId2"/>
          <a:stretch/>
        </p:blipFill>
        <p:spPr>
          <a:xfrm>
            <a:off x="223920" y="723960"/>
            <a:ext cx="2905200" cy="337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aura-dione.ru/gallery/images/672199_miasteniya-glaznaya-forma.jpg"/>
          <p:cNvPicPr/>
          <p:nvPr/>
        </p:nvPicPr>
        <p:blipFill>
          <a:blip r:embed="rId3"/>
          <a:stretch/>
        </p:blipFill>
        <p:spPr>
          <a:xfrm>
            <a:off x="3567240" y="3432240"/>
            <a:ext cx="218916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"/>
          <p:cNvSpPr/>
          <p:nvPr/>
        </p:nvSpPr>
        <p:spPr>
          <a:xfrm>
            <a:off x="1009800" y="18576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А НА РЕЧЕВОЙ МОТОР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Картинки по запросу РАБОТА ЛОГОПЕДА И РЕБЕНКА"/>
          <p:cNvPicPr/>
          <p:nvPr/>
        </p:nvPicPr>
        <p:blipFill>
          <a:blip r:embed="rId1"/>
          <a:stretch/>
        </p:blipFill>
        <p:spPr>
          <a:xfrm>
            <a:off x="1009800" y="792000"/>
            <a:ext cx="7472160" cy="543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776320" y="495360"/>
            <a:ext cx="4825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Calibri"/>
              </a:rPr>
              <a:t>МАСС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артинки по запросу картинки детей Массаж служит для возбуждения иннервации речевой и лицевой мускулатуры"/>
          <p:cNvPicPr/>
          <p:nvPr/>
        </p:nvPicPr>
        <p:blipFill>
          <a:blip r:embed="rId1"/>
          <a:stretch/>
        </p:blipFill>
        <p:spPr>
          <a:xfrm>
            <a:off x="344520" y="1392120"/>
            <a:ext cx="79326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xsystem</cp:lastModifiedBy>
  <dcterms:modified xsi:type="dcterms:W3CDTF">2018-04-11T18:17:28Z</dcterms:modified>
  <cp:revision>31</cp:revision>
  <dc:subject/>
  <dc:title>Слайд 1</dc:title>
</cp:coreProperties>
</file>