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37C-C7D0-4F5A-8F4E-A312D64C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5DD-A2DF-49E6-8AF3-D424C15A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D27-7A68-4F09-AA0E-84DDD97E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BB5-1FC7-4F13-94B6-44D46292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882-A8F2-4308-B6B1-ECCC5E82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7B8-B5BB-4861-A18E-FA596184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E27-A38B-4F3E-B476-FD91D51E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B9A-54A5-41AC-AC50-186D321F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A0B-0B16-4ADA-9B27-72851BC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DA5-F04A-482A-AEBF-6B577275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F15-3B3B-4393-AEBE-9FE32F04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522-6878-434B-9090-8DBDB2CF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A20-F38F-48B0-8328-4D9FB3C27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7_british_568"/>
          <p:cNvPicPr/>
          <p:nvPr/>
        </p:nvPicPr>
        <p:blipFill>
          <a:blip r:embed="rId1"/>
          <a:srcRect l="7382" t="0" r="7382" b="19685"/>
          <a:stretch/>
        </p:blipFill>
        <p:spPr>
          <a:xfrm>
            <a:off x="-1692360" y="0"/>
            <a:ext cx="12601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5494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oadway"/>
              </a:rPr>
              <a:t>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7640" y="2205000"/>
            <a:ext cx="66884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United King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619280" y="4437000"/>
            <a:ext cx="6767640" cy="71928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oanna Taigacheva, Valeria Stromtsova, Dina Kaple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500720" y="10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767480" y="162864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148360" y="1195200"/>
            <a:ext cx="367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Education in the United Kingdom is a devolved matter with each of the countries of the United Kingdom having separate systems under separate governments: the UK Government is responsible for England; the Scottish Government, the Welsh Government and the Northern Ireland Executive are responsible for Scotland, Wales and Northern Ireland, respectiv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UK Political Map"/>
          <p:cNvPicPr/>
          <p:nvPr/>
        </p:nvPicPr>
        <p:blipFill>
          <a:blip r:embed="rId1"/>
          <a:stretch/>
        </p:blipFill>
        <p:spPr>
          <a:xfrm>
            <a:off x="-252360" y="0"/>
            <a:ext cx="444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450072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36068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17435577"/>
          <p:cNvPicPr/>
          <p:nvPr/>
        </p:nvPicPr>
        <p:blipFill>
          <a:blip r:embed="rId1"/>
          <a:stretch/>
        </p:blipFill>
        <p:spPr>
          <a:xfrm>
            <a:off x="0" y="0"/>
            <a:ext cx="9685440" cy="72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di8xeMb5T"/>
          <p:cNvPicPr/>
          <p:nvPr/>
        </p:nvPicPr>
        <p:blipFill>
          <a:blip r:embed="rId1"/>
          <a:stretch/>
        </p:blipFill>
        <p:spPr>
          <a:xfrm>
            <a:off x="0" y="1844640"/>
            <a:ext cx="3454560" cy="382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black_and_white_smiling_girl_in_a_graduation_cap_with_a_stack_of_books_0521-1005-0821-5006_SMU"/>
          <p:cNvPicPr/>
          <p:nvPr/>
        </p:nvPicPr>
        <p:blipFill>
          <a:blip r:embed="rId2"/>
          <a:stretch/>
        </p:blipFill>
        <p:spPr>
          <a:xfrm>
            <a:off x="5651640" y="1773360"/>
            <a:ext cx="3220920" cy="386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059280" y="125856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In each country there are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stages of education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e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arly year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, p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rimar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 school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, secondary, Further Education (FE) and Higher Education (HE)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The law states that full time education is compulsory for all children between the ages of 5 (4 in Northern Ireland) and 16, the Compulsory School Age (CS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68360" y="227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Stages of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4"/>
          <p:cNvSpPr/>
          <p:nvPr/>
        </p:nvSpPr>
        <p:spPr>
          <a:xfrm>
            <a:off x="3924360" y="4076640"/>
            <a:ext cx="5219640" cy="576360"/>
          </a:xfrm>
          <a:prstGeom prst="borderCallout1">
            <a:avLst>
              <a:gd name="adj1" fmla="val 18750"/>
              <a:gd name="adj2" fmla="val -8333"/>
              <a:gd name="adj3" fmla="val -61981"/>
              <a:gd name="adj4" fmla="val -76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ANd9GcRCu07C_bC1tyn5qHDhO3fajC8Gte0vZVQaauWA2VbrJeHqb16F"/>
          <p:cNvPicPr/>
          <p:nvPr/>
        </p:nvPicPr>
        <p:blipFill>
          <a:blip r:embed="rId1"/>
          <a:stretch/>
        </p:blipFill>
        <p:spPr>
          <a:xfrm rot="21182400">
            <a:off x="179280" y="33573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395280" y="98100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Junior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rom 7 to 13 years – th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itial main trai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nds with Common Entrance Examination.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uccessful pass of the exam is impor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enroll in a high school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Primary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rom 4 to 11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igh scho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enior Scho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econdary Scho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Grammar Schoo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11 years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-depth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ixth For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16 to 18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032360" y="40053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mmon type of school in the UK is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Boardi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students learn and liv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0920" y="4869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Classification of school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according to the age of students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institution of preschool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 children 2-7 years 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schools of full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 children      3-18 years 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institution for younger student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roadway"/>
              </a:rPr>
              <a:t>General classification of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AutoShape 15"/>
          <p:cNvCxnSpPr/>
          <p:nvPr/>
        </p:nvCxnSpPr>
        <p:spPr>
          <a:xfrm flipV="1">
            <a:off x="6516720" y="2204280"/>
            <a:ext cx="279144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AutoShape 16"/>
          <p:cNvCxnSpPr>
            <a:stCxn id="57" idx="0"/>
          </p:cNvCxnSpPr>
          <p:nvPr/>
        </p:nvCxnSpPr>
        <p:spPr>
          <a:xfrm>
            <a:off x="6534000" y="4653000"/>
            <a:ext cx="261072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65" name="Picture 17" descr="ANd9GcTyqNzdUXU3yyVm0y9iiKSsBYkjN0D7QXm61S-A0iY3rwLaMJwKig"/>
          <p:cNvPicPr/>
          <p:nvPr/>
        </p:nvPicPr>
        <p:blipFill>
          <a:blip r:embed="rId2"/>
          <a:stretch/>
        </p:blipFill>
        <p:spPr>
          <a:xfrm rot="429000">
            <a:off x="7019640" y="1267920"/>
            <a:ext cx="137304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a_happy_pencil_with_a_graduation_cap_and_bell_0521-1004-3015-3209_SMU"/>
          <p:cNvPicPr/>
          <p:nvPr/>
        </p:nvPicPr>
        <p:blipFill>
          <a:blip r:embed="rId3"/>
          <a:stretch/>
        </p:blipFill>
        <p:spPr>
          <a:xfrm rot="403800">
            <a:off x="7380000" y="4797360"/>
            <a:ext cx="1542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lide_2"/>
          <p:cNvPicPr/>
          <p:nvPr/>
        </p:nvPicPr>
        <p:blipFill>
          <a:blip r:embed="rId1"/>
          <a:srcRect l="0" t="0" r="0" b="10499"/>
          <a:stretch/>
        </p:blipFill>
        <p:spPr>
          <a:xfrm>
            <a:off x="-468360" y="0"/>
            <a:ext cx="979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8" descr="definition-of-higher-education1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5"/>
          <p:cNvSpPr/>
          <p:nvPr/>
        </p:nvSpPr>
        <p:spPr>
          <a:xfrm>
            <a:off x="611280" y="1125360"/>
            <a:ext cx="63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1"/>
          <p:cNvSpPr/>
          <p:nvPr/>
        </p:nvSpPr>
        <p:spPr>
          <a:xfrm>
            <a:off x="468360" y="2060640"/>
            <a:ext cx="820728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0"/>
          <p:cNvSpPr/>
          <p:nvPr/>
        </p:nvSpPr>
        <p:spPr>
          <a:xfrm>
            <a:off x="539640" y="2060640"/>
            <a:ext cx="81378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pose of educational system of the United Kingdom is formation of a creative, self-confident and independent person. At the age of 16, having finished the Compulsory, a student can choose whether to begin working or to proceed studying in a university. The higher education is paid both for foreigners as for 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rding to the international educational quality research, the quality of education in the UK becomes worse (the data taken from the 2000-2009 statistic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Эдинбургский университет - Эдинбург Edinburgh - World Imperial Sim"/>
          <p:cNvPicPr/>
          <p:nvPr/>
        </p:nvPicPr>
        <p:blipFill>
          <a:blip r:embed="rId1">
            <a:alphaModFix amt="56000"/>
          </a:blip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3708360" y="333360"/>
            <a:ext cx="298296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op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627280" y="1628640"/>
            <a:ext cx="53294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he best univers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3564000" y="2276640"/>
            <a:ext cx="27637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of the U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0" y="3213000"/>
            <a:ext cx="4932360" cy="12240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411280" y="4437000"/>
            <a:ext cx="4753080" cy="1222560"/>
          </a:xfrm>
          <a:custGeom>
            <a:avLst/>
            <a:gdLst>
              <a:gd name="textAreaLeft" fmla="*/ 0 w 4753080"/>
              <a:gd name="textAreaRight" fmla="*/ 4753440 w 4753080"/>
              <a:gd name="textAreaTop" fmla="*/ 0 h 1222560"/>
              <a:gd name="textAreaBottom" fmla="*/ 122292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Ox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4462560" y="5661000"/>
            <a:ext cx="4862520" cy="1197000"/>
          </a:xfrm>
          <a:custGeom>
            <a:avLst/>
            <a:gdLst>
              <a:gd name="textAreaLeft" fmla="*/ 0 w 4862520"/>
              <a:gd name="textAreaRight" fmla="*/ 4862880 w 4862520"/>
              <a:gd name="textAreaTop" fmla="*/ 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Кембриджский университет - Кембридж, Великобритания. Обзор, фотографии, история достопримечательности"/>
          <p:cNvPicPr/>
          <p:nvPr/>
        </p:nvPicPr>
        <p:blipFill>
          <a:blip r:embed="rId2"/>
          <a:stretch/>
        </p:blipFill>
        <p:spPr>
          <a:xfrm>
            <a:off x="0" y="0"/>
            <a:ext cx="9325080" cy="6848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2"/>
          <p:cNvSpPr/>
          <p:nvPr/>
        </p:nvSpPr>
        <p:spPr>
          <a:xfrm>
            <a:off x="179280" y="6165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Download A history of the University of Oxford - quefifthnenite72 - Blogcu.com"/>
          <p:cNvPicPr/>
          <p:nvPr/>
        </p:nvPicPr>
        <p:blipFill>
          <a:blip r:embed="rId3"/>
          <a:stretch/>
        </p:blipFill>
        <p:spPr>
          <a:xfrm>
            <a:off x="0" y="189000"/>
            <a:ext cx="9901080" cy="6460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5"/>
          <p:cNvSpPr/>
          <p:nvPr/>
        </p:nvSpPr>
        <p:spPr>
          <a:xfrm>
            <a:off x="5867280" y="6093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Pin University That Says Falling In Love Isn T Something Hap…"/>
          <p:cNvPicPr/>
          <p:nvPr/>
        </p:nvPicPr>
        <p:blipFill>
          <a:blip r:embed="rId4"/>
          <a:stretch/>
        </p:blipFill>
        <p:spPr>
          <a:xfrm>
            <a:off x="0" y="0"/>
            <a:ext cx="10764720" cy="6770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324000" y="6308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692360" y="134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royalty-free-students-clipart-illustration-215482"/>
          <p:cNvPicPr/>
          <p:nvPr/>
        </p:nvPicPr>
        <p:blipFill>
          <a:blip r:embed="rId1"/>
          <a:srcRect l="0" t="0" r="0" b="6749"/>
          <a:stretch/>
        </p:blipFill>
        <p:spPr>
          <a:xfrm>
            <a:off x="2843280" y="2637000"/>
            <a:ext cx="36100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8:26:07Z</dcterms:created>
  <dc:creator>VAIO</dc:creator>
  <dc:description/>
  <dc:language>en-US</dc:language>
  <cp:lastModifiedBy>Lucky</cp:lastModifiedBy>
  <dcterms:modified xsi:type="dcterms:W3CDTF">2018-06-27T10:17:01Z</dcterms:modified>
  <cp:revision>5</cp:revision>
  <dc:subject/>
  <dc:title>Educational system</dc:title>
</cp:coreProperties>
</file>