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BE13-B547-48F7-AD18-9B85A61DF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9CCE-3EEA-4BAF-9FCD-236DC6BE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7521-702E-4A45-9ADC-F3404C742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3D97-AE4B-44D4-BDE0-EB95122B1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CD62-C35C-4ED0-B74E-77E3E5A3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44E7-A0C4-4ADE-9D79-9CADA2AA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F8E1-C61C-4F74-8FAD-9E31FEA9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D4A4-CDF1-4D40-A8F3-260EFC2C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4DED-3446-489A-9C31-76611436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19E6-E7C5-4FA9-A226-87EE219F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C104-6FFB-4AF0-863F-0306212F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DCB2-11E3-4DCF-8313-82184296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1EEB-CB78-42AB-AEE2-9B291A8FB0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07_british_568"/>
          <p:cNvPicPr/>
          <p:nvPr/>
        </p:nvPicPr>
        <p:blipFill>
          <a:blip r:embed="rId1"/>
          <a:srcRect l="7382" t="0" r="7382" b="19685"/>
          <a:stretch/>
        </p:blipFill>
        <p:spPr>
          <a:xfrm>
            <a:off x="-1692360" y="0"/>
            <a:ext cx="126018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54943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roadway"/>
              </a:rPr>
              <a:t>Edu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907640" y="2205000"/>
            <a:ext cx="668844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oadway"/>
              </a:rPr>
              <a:t>United Kingd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1619280" y="4437000"/>
            <a:ext cx="6767640" cy="719280"/>
          </a:xfrm>
          <a:prstGeom prst="rect">
            <a:avLst/>
          </a:prstGeom>
          <a:solidFill>
            <a:srgbClr val="ffffff">
              <a:alpha val="63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Ioanna Taigacheva, Valeria Stromtsova, Dina Kaplen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4500720" y="105264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4767480" y="1628640"/>
            <a:ext cx="80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5148360" y="1195200"/>
            <a:ext cx="367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Education in the United Kingdom is a devolved matter with each of the countries of the United Kingdom having separate systems under separate governments: the UK Government is responsible for England; the Scottish Government, the Welsh Government and the Northern Ireland Executive are responsible for Scotland, Wales and Northern Ireland, respectivel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UK Political Map"/>
          <p:cNvPicPr/>
          <p:nvPr/>
        </p:nvPicPr>
        <p:blipFill>
          <a:blip r:embed="rId1"/>
          <a:stretch/>
        </p:blipFill>
        <p:spPr>
          <a:xfrm>
            <a:off x="-252360" y="0"/>
            <a:ext cx="44496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1"/>
          <p:cNvSpPr/>
          <p:nvPr/>
        </p:nvSpPr>
        <p:spPr>
          <a:xfrm>
            <a:off x="4500720" y="40464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0" y="36068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17435577"/>
          <p:cNvPicPr/>
          <p:nvPr/>
        </p:nvPicPr>
        <p:blipFill>
          <a:blip r:embed="rId1"/>
          <a:stretch/>
        </p:blipFill>
        <p:spPr>
          <a:xfrm>
            <a:off x="0" y="0"/>
            <a:ext cx="9685440" cy="72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di8xeMb5T"/>
          <p:cNvPicPr/>
          <p:nvPr/>
        </p:nvPicPr>
        <p:blipFill>
          <a:blip r:embed="rId1"/>
          <a:stretch/>
        </p:blipFill>
        <p:spPr>
          <a:xfrm>
            <a:off x="0" y="1844640"/>
            <a:ext cx="3454560" cy="3821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4" descr="black_and_white_smiling_girl_in_a_graduation_cap_with_a_stack_of_books_0521-1005-0821-5006_SMU"/>
          <p:cNvPicPr/>
          <p:nvPr/>
        </p:nvPicPr>
        <p:blipFill>
          <a:blip r:embed="rId2"/>
          <a:stretch/>
        </p:blipFill>
        <p:spPr>
          <a:xfrm>
            <a:off x="5651640" y="1773360"/>
            <a:ext cx="3220920" cy="38653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3059280" y="1258560"/>
            <a:ext cx="2952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In each country there are 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5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stages of education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e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arly year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, p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rimary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 school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, secondary, Further Education (FE) and Higher Education (HE).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The law states that full time education is compulsory for all children between the ages of 5 (4 in Northern Ireland) and 16, the Compulsory School Age (CSA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468360" y="227664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Stages of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14"/>
          <p:cNvSpPr/>
          <p:nvPr/>
        </p:nvSpPr>
        <p:spPr>
          <a:xfrm>
            <a:off x="3924360" y="4076640"/>
            <a:ext cx="5219640" cy="576360"/>
          </a:xfrm>
          <a:prstGeom prst="borderCallout1">
            <a:avLst>
              <a:gd name="adj1" fmla="val 18750"/>
              <a:gd name="adj2" fmla="val -8333"/>
              <a:gd name="adj3" fmla="val -61981"/>
              <a:gd name="adj4" fmla="val -76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8" descr="ANd9GcRCu07C_bC1tyn5qHDhO3fajC8Gte0vZVQaauWA2VbrJeHqb16F"/>
          <p:cNvPicPr/>
          <p:nvPr/>
        </p:nvPicPr>
        <p:blipFill>
          <a:blip r:embed="rId1"/>
          <a:stretch/>
        </p:blipFill>
        <p:spPr>
          <a:xfrm rot="21182400">
            <a:off x="179280" y="3357360"/>
            <a:ext cx="1440000" cy="14396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395280" y="981000"/>
            <a:ext cx="676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Junior Scho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from 7 to 13 years – the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nitial main train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ends with Common Entrance Examination.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successful pass of the exam is importa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enroll in a high school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Primary scho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from 4 to 11 ye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High schoo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Senior Schoo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Secondary Schoo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Grammar Schoo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rom 11 years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n-depth pro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Sixth For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rom 16 to 18 ye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4032360" y="4005360"/>
            <a:ext cx="51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ommon type of school in the UK is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Boardi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Scho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ere students learn and live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250920" y="4869000"/>
            <a:ext cx="75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Classification of school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according to the age of students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The institution of preschool edu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for children 2-7 years ol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The schools of full 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for children      3-18 years ol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The institution for younger student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0" y="189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roadway"/>
              </a:rPr>
              <a:t>General classification of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AutoShape 15"/>
          <p:cNvCxnSpPr/>
          <p:nvPr/>
        </p:nvCxnSpPr>
        <p:spPr>
          <a:xfrm flipV="1">
            <a:off x="6516720" y="2204280"/>
            <a:ext cx="2791440" cy="187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" name="AutoShape 16"/>
          <p:cNvCxnSpPr>
            <a:stCxn id="57" idx="0"/>
          </p:cNvCxnSpPr>
          <p:nvPr/>
        </p:nvCxnSpPr>
        <p:spPr>
          <a:xfrm>
            <a:off x="6534000" y="4653000"/>
            <a:ext cx="261072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65" name="Picture 17" descr="ANd9GcTyqNzdUXU3yyVm0y9iiKSsBYkjN0D7QXm61S-A0iY3rwLaMJwKig"/>
          <p:cNvPicPr/>
          <p:nvPr/>
        </p:nvPicPr>
        <p:blipFill>
          <a:blip r:embed="rId2"/>
          <a:stretch/>
        </p:blipFill>
        <p:spPr>
          <a:xfrm rot="429000">
            <a:off x="7019640" y="1267920"/>
            <a:ext cx="1373040" cy="1800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0" descr="a_happy_pencil_with_a_graduation_cap_and_bell_0521-1004-3015-3209_SMU"/>
          <p:cNvPicPr/>
          <p:nvPr/>
        </p:nvPicPr>
        <p:blipFill>
          <a:blip r:embed="rId3"/>
          <a:stretch/>
        </p:blipFill>
        <p:spPr>
          <a:xfrm rot="403800">
            <a:off x="7380000" y="4797360"/>
            <a:ext cx="15429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slide_2"/>
          <p:cNvPicPr/>
          <p:nvPr/>
        </p:nvPicPr>
        <p:blipFill>
          <a:blip r:embed="rId1"/>
          <a:srcRect l="0" t="0" r="0" b="10499"/>
          <a:stretch/>
        </p:blipFill>
        <p:spPr>
          <a:xfrm>
            <a:off x="-468360" y="0"/>
            <a:ext cx="979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48" descr="definition-of-higher-education1"/>
          <p:cNvPicPr/>
          <p:nvPr/>
        </p:nvPicPr>
        <p:blipFill>
          <a:blip r:embed="rId1"/>
          <a:stretch/>
        </p:blipFill>
        <p:spPr>
          <a:xfrm>
            <a:off x="0" y="0"/>
            <a:ext cx="9144000" cy="71438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45"/>
          <p:cNvSpPr/>
          <p:nvPr/>
        </p:nvSpPr>
        <p:spPr>
          <a:xfrm>
            <a:off x="611280" y="1125360"/>
            <a:ext cx="63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51"/>
          <p:cNvSpPr/>
          <p:nvPr/>
        </p:nvSpPr>
        <p:spPr>
          <a:xfrm>
            <a:off x="468360" y="2060640"/>
            <a:ext cx="8207280" cy="24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50"/>
          <p:cNvSpPr/>
          <p:nvPr/>
        </p:nvSpPr>
        <p:spPr>
          <a:xfrm>
            <a:off x="539640" y="2060640"/>
            <a:ext cx="81378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urpose of educational system of the United Kingdom is formation of a creative, self-confident and independent person. At the age of 16, having finished the Compulsory, a student can choose whether to begin working or to proceed studying in a university. The higher education is paid both for foreigners as for nativ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rding to the international educational quality research, the quality of education in the UK becomes worse (the data taken from the 2000-2009 statistic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5" descr="Эдинбургский университет - Эдинбург Edinburgh - World Imperial Sim"/>
          <p:cNvPicPr/>
          <p:nvPr/>
        </p:nvPicPr>
        <p:blipFill>
          <a:blip r:embed="rId1">
            <a:alphaModFix amt="56000"/>
          </a:blip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WordArt 6"/>
          <p:cNvSpPr txBox="1"/>
          <p:nvPr/>
        </p:nvSpPr>
        <p:spPr>
          <a:xfrm>
            <a:off x="3708360" y="333360"/>
            <a:ext cx="2982960" cy="16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Top-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74" name="WordArt 7"/>
          <p:cNvSpPr txBox="1"/>
          <p:nvPr/>
        </p:nvSpPr>
        <p:spPr>
          <a:xfrm>
            <a:off x="2627280" y="1628640"/>
            <a:ext cx="532944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the best universit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75" name="WordArt 8"/>
          <p:cNvSpPr txBox="1"/>
          <p:nvPr/>
        </p:nvSpPr>
        <p:spPr>
          <a:xfrm>
            <a:off x="3564000" y="2276640"/>
            <a:ext cx="276372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of the U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76" name="AutoShape 11"/>
          <p:cNvSpPr/>
          <p:nvPr/>
        </p:nvSpPr>
        <p:spPr>
          <a:xfrm>
            <a:off x="0" y="3213000"/>
            <a:ext cx="4932360" cy="1224000"/>
          </a:xfrm>
          <a:custGeom>
            <a:avLst/>
            <a:gdLst>
              <a:gd name="textAreaLeft" fmla="*/ 0 w 4932360"/>
              <a:gd name="textAreaRight" fmla="*/ 4932720 w 493236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of Cam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2"/>
          <p:cNvSpPr/>
          <p:nvPr/>
        </p:nvSpPr>
        <p:spPr>
          <a:xfrm>
            <a:off x="2411280" y="4437000"/>
            <a:ext cx="4753080" cy="1222560"/>
          </a:xfrm>
          <a:custGeom>
            <a:avLst/>
            <a:gdLst>
              <a:gd name="textAreaLeft" fmla="*/ 0 w 4753080"/>
              <a:gd name="textAreaRight" fmla="*/ 4753440 w 4753080"/>
              <a:gd name="textAreaTop" fmla="*/ 0 h 1222560"/>
              <a:gd name="textAreaBottom" fmla="*/ 1222920 h 122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of Oxf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3"/>
          <p:cNvSpPr/>
          <p:nvPr/>
        </p:nvSpPr>
        <p:spPr>
          <a:xfrm>
            <a:off x="4462560" y="5661000"/>
            <a:ext cx="4862520" cy="1197000"/>
          </a:xfrm>
          <a:custGeom>
            <a:avLst/>
            <a:gdLst>
              <a:gd name="textAreaLeft" fmla="*/ 0 w 4862520"/>
              <a:gd name="textAreaRight" fmla="*/ 4862880 w 4862520"/>
              <a:gd name="textAreaTop" fmla="*/ 0 h 1197000"/>
              <a:gd name="textAreaBottom" fmla="*/ 1197000 h 119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of Edinbur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1" descr="Кембриджский университет - Кембридж, Великобритания. Обзор, фотографии, история достопримечательности"/>
          <p:cNvPicPr/>
          <p:nvPr/>
        </p:nvPicPr>
        <p:blipFill>
          <a:blip r:embed="rId2"/>
          <a:stretch/>
        </p:blipFill>
        <p:spPr>
          <a:xfrm>
            <a:off x="0" y="0"/>
            <a:ext cx="9325080" cy="68486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22"/>
          <p:cNvSpPr/>
          <p:nvPr/>
        </p:nvSpPr>
        <p:spPr>
          <a:xfrm>
            <a:off x="179280" y="616572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mb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4" descr="Download A history of the University of Oxford - quefifthnenite72 - Blogcu.com"/>
          <p:cNvPicPr/>
          <p:nvPr/>
        </p:nvPicPr>
        <p:blipFill>
          <a:blip r:embed="rId3"/>
          <a:stretch/>
        </p:blipFill>
        <p:spPr>
          <a:xfrm>
            <a:off x="0" y="189000"/>
            <a:ext cx="9901080" cy="64609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25"/>
          <p:cNvSpPr/>
          <p:nvPr/>
        </p:nvSpPr>
        <p:spPr>
          <a:xfrm>
            <a:off x="5867280" y="609300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f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7" descr="Pin University That Says Falling In Love Isn T Something Hap…"/>
          <p:cNvPicPr/>
          <p:nvPr/>
        </p:nvPicPr>
        <p:blipFill>
          <a:blip r:embed="rId4"/>
          <a:stretch/>
        </p:blipFill>
        <p:spPr>
          <a:xfrm>
            <a:off x="0" y="0"/>
            <a:ext cx="10764720" cy="67705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8"/>
          <p:cNvSpPr/>
          <p:nvPr/>
        </p:nvSpPr>
        <p:spPr>
          <a:xfrm>
            <a:off x="324000" y="630864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nbur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1692360" y="1341360"/>
            <a:ext cx="568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Thank you for your atten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royalty-free-students-clipart-illustration-215482"/>
          <p:cNvPicPr/>
          <p:nvPr/>
        </p:nvPicPr>
        <p:blipFill>
          <a:blip r:embed="rId1"/>
          <a:srcRect l="0" t="0" r="0" b="6749"/>
          <a:stretch/>
        </p:blipFill>
        <p:spPr>
          <a:xfrm>
            <a:off x="2843280" y="2637000"/>
            <a:ext cx="361008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1T18:26:07Z</dcterms:created>
  <dc:creator>VAIO</dc:creator>
  <dc:description/>
  <dc:language>en-US</dc:language>
  <cp:lastModifiedBy>Lucky</cp:lastModifiedBy>
  <dcterms:modified xsi:type="dcterms:W3CDTF">2018-06-27T10:17:01Z</dcterms:modified>
  <cp:revision>5</cp:revision>
  <dc:subject/>
  <dc:title>Educational system</dc:title>
</cp:coreProperties>
</file>