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872D-EC49-43BD-A0A4-27A3247CE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DB22-67B0-42D4-8BE8-F159AACD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D3C5-6D95-4012-A6EB-FCEE1DFF7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A10B-90C1-44A9-A9DA-706C6841F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3C32-0ECB-473A-ADC5-F7AEF4613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D81C2-E0B2-465F-99C3-948BC4F9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0B7B6-F338-4A28-9D1F-15F0A41B1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1737-D79C-4DC6-891E-78447F9B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4D77-19A1-47E7-81D2-5F073F06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4BEF-66C0-46B0-ADAC-292C9151C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91E6-1F5C-4DC3-A483-D057C680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3143-EFB6-4607-AEF4-3361E36E5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CA93-B5B8-4B35-B07C-4C1CC5DA4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F50A-8B4D-4D4F-9DD3-5A83997E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40FC-D726-41CA-B24F-E104B2940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6758-32F0-4CCD-A93D-7F78B1C4A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2EC9-FD4D-4384-9CB3-6A6A3DE1D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C673-E5A2-43EC-8924-9FB6FB74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8134-44CE-493F-9DAE-61A27646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CF41-DEEF-4194-BC9D-F19AE7AD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C164-793F-4B03-83C9-8BE2EF8E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BC5E-F2BD-4980-8F4D-A3292BAA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0A4B-996B-4588-A492-3909AC61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5C78-D80F-44F8-BC38-194F001A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6B0C-D9FE-49A6-ACA4-ACDCD1A0E7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B230-689F-4FA1-A1EE-F4BD2E2998D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b7e7ff"/>
                </a:solidFill>
                <a:latin typeface="Baskerville Old Face"/>
              </a:rPr>
              <a:t>ПРОГРАММЫ И ДАННЫЕ. ФАЙЛЫ И ФАЙЛОВАЯ СИСТЕМА</a:t>
            </a:r>
            <a:endParaRPr b="0" lang="en-US" sz="37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5640" y="3200400"/>
            <a:ext cx="6248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полнила  преподавател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цея  №  3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блоцкая  Инна Александр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b7e7ff"/>
                </a:solidFill>
                <a:latin typeface="Arial"/>
              </a:rPr>
              <a:t>Письмо1 . </a:t>
            </a:r>
            <a:r>
              <a:rPr b="1" i="1" lang="en-US" sz="4400" spc="-1" strike="noStrike">
                <a:solidFill>
                  <a:srgbClr val="b7e7ff"/>
                </a:solidFill>
                <a:latin typeface="Arial"/>
              </a:rPr>
              <a:t>Doc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1828440" y="2818800"/>
            <a:ext cx="6553080" cy="2895480"/>
          </a:xfrm>
          <a:prstGeom prst="wedgeRectCallout">
            <a:avLst>
              <a:gd name="adj1" fmla="val -6106"/>
              <a:gd name="adj2" fmla="val 113870"/>
            </a:avLst>
          </a:prstGeom>
          <a:solidFill>
            <a:srgbClr val="ff6600">
              <a:alpha val="4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3429000"/>
            <a:ext cx="6096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Тип файла (расширение) указывает на то,  какая информация хранится в фай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Примеры расширений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2819520"/>
            <a:ext cx="10134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xe –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отовая к исполнению програм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oc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– текст (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xt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– текст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Блокнот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mp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– рисуно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Характеристики файла: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м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азм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Дата созд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ремя созд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Все файлы  хранятся в </a:t>
            </a:r>
            <a:r>
              <a:rPr b="1" i="1" lang="en-US" sz="4400" spc="-1" strike="noStrike" u="sng">
                <a:solidFill>
                  <a:srgbClr val="b7e7ff"/>
                </a:solidFill>
                <a:uFillTx/>
                <a:latin typeface="Arial"/>
              </a:rPr>
              <a:t>каталогах (папках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Каталоги не имеют расшир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Главный каталог называется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корневы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b7e7ff"/>
                </a:solidFill>
                <a:uFillTx/>
                <a:latin typeface="Arial"/>
              </a:rPr>
              <a:t>Файловая система</a:t>
            </a: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 – это  система</a:t>
            </a:r>
            <a:br>
              <a:rPr sz="3600"/>
            </a:b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 расположения информации </a:t>
            </a:r>
            <a:br>
              <a:rPr sz="3600"/>
            </a:b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на диске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752480" y="1752480"/>
          <a:ext cx="5481720" cy="365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752480"/>
                    <a:ext cx="54817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" name=""/>
          <p:cNvGrpSpPr/>
          <p:nvPr/>
        </p:nvGrpSpPr>
        <p:grpSpPr>
          <a:xfrm>
            <a:off x="0" y="1981080"/>
            <a:ext cx="9144000" cy="4323960"/>
            <a:chOff x="0" y="1981080"/>
            <a:chExt cx="9144000" cy="4323960"/>
          </a:xfrm>
        </p:grpSpPr>
        <p:sp>
          <p:nvSpPr>
            <p:cNvPr id="122" name=""/>
            <p:cNvSpPr/>
            <p:nvPr/>
          </p:nvSpPr>
          <p:spPr>
            <a:xfrm>
              <a:off x="2700360" y="1981080"/>
              <a:ext cx="2735280" cy="6591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дис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00360" y="3081240"/>
              <a:ext cx="2735280" cy="6591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Корневая папк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1280" y="4473000"/>
              <a:ext cx="2735280" cy="6591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Папка 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5645880"/>
              <a:ext cx="2735280" cy="6591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Папка</a:t>
              </a: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1-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08720" y="4473000"/>
              <a:ext cx="2735280" cy="6591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Папка 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19640" y="4473000"/>
              <a:ext cx="2734920" cy="6591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Папка 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48000" y="5645880"/>
              <a:ext cx="2735280" cy="6591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Папка 1-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40360" y="2640240"/>
              <a:ext cx="0" cy="366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411280" y="3740760"/>
              <a:ext cx="1440000" cy="731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40360" y="3666240"/>
              <a:ext cx="144360" cy="806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03640" y="3740760"/>
              <a:ext cx="2016360" cy="731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332000" y="5133600"/>
              <a:ext cx="576000" cy="58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56000" y="5059080"/>
              <a:ext cx="1295280" cy="514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b7e7ff"/>
                </a:solidFill>
                <a:uFillTx/>
                <a:latin typeface="Arial"/>
              </a:rPr>
              <a:t>Иерархия папок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00360" y="2362320"/>
            <a:ext cx="2735280" cy="64764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бочий ст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3728880"/>
            <a:ext cx="2735280" cy="64800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Мой компью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653000"/>
            <a:ext cx="2735280" cy="64764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08720" y="3728880"/>
            <a:ext cx="2735280" cy="64800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Корз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19640" y="3728880"/>
            <a:ext cx="2734920" cy="64800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Мои докуме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48000" y="4881600"/>
            <a:ext cx="2735280" cy="64764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411280" y="3009960"/>
            <a:ext cx="144000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40360" y="2936880"/>
            <a:ext cx="14436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3009960"/>
            <a:ext cx="201636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332000" y="4378320"/>
            <a:ext cx="576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56000" y="4305240"/>
            <a:ext cx="129528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663300"/>
                </a:solidFill>
                <a:uFillTx/>
                <a:latin typeface="Arial"/>
              </a:rPr>
              <a:t>Операции с объектами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82880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озд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оп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ерено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ереимен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да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663300"/>
                </a:solidFill>
                <a:uFillTx/>
                <a:latin typeface="Arial"/>
              </a:rPr>
              <a:t>Создани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22096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ткрыть прилож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охранить как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663300"/>
                </a:solidFill>
                <a:uFillTx/>
                <a:latin typeface="Arial"/>
              </a:rPr>
              <a:t>Копирование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ыделить объек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ыбрать в контекстном меню (меню правой кнопки) пункт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копирова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Встави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663300"/>
                </a:solidFill>
                <a:uFillTx/>
                <a:latin typeface="Arial"/>
              </a:rPr>
              <a:t>Перенос: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ыделить объек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 контекстном меню  выбрать пункт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Выреза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Встави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b7e7ff"/>
                </a:solidFill>
                <a:uFillTx/>
                <a:latin typeface="Blackadder ITC"/>
              </a:rPr>
              <a:t>Программа</a:t>
            </a:r>
            <a:r>
              <a:rPr b="0" lang="en-US" sz="3600" spc="-1" strike="noStrike">
                <a:solidFill>
                  <a:srgbClr val="b7e7ff"/>
                </a:solidFill>
                <a:latin typeface="Blackadder ITC"/>
              </a:rPr>
              <a:t> – </a:t>
            </a:r>
            <a:r>
              <a:rPr b="0" lang="en-US" sz="2800" spc="-1" strike="noStrike">
                <a:solidFill>
                  <a:srgbClr val="b7e7ff"/>
                </a:solidFill>
                <a:latin typeface="Blackadder ITC"/>
              </a:rPr>
              <a:t>это последовательность команд, которую выполняет компьютер в процессе обработки данных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Batavia"/>
              </a:rPr>
              <a:t>Программное обеспечение</a:t>
            </a:r>
            <a:r>
              <a:rPr b="1" i="1" lang="ru-RU" sz="2800" spc="-1" strike="noStrike">
                <a:solidFill>
                  <a:srgbClr val="ffffff"/>
                </a:solidFill>
                <a:latin typeface="Batavia"/>
              </a:rPr>
              <a:t> - </a:t>
            </a:r>
            <a:r>
              <a:rPr b="0" lang="ru-RU" sz="2800" spc="-1" strike="noStrike">
                <a:solidFill>
                  <a:srgbClr val="ffffff"/>
                </a:solidFill>
                <a:latin typeface="Batavia"/>
              </a:rPr>
              <a:t>совокупность всех програм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Batavia"/>
              </a:rPr>
              <a:t>Операционная система</a:t>
            </a:r>
            <a:r>
              <a:rPr b="1" i="1" lang="ru-RU" sz="2800" spc="-1" strike="noStrike">
                <a:solidFill>
                  <a:srgbClr val="ffffff"/>
                </a:solidFill>
                <a:latin typeface="Batavia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Batavia"/>
              </a:rPr>
              <a:t>это обязательная часть программного обеспечения. Особый пакет программ, управляющих работой компьютера и обеспечивающих взаимодействие между человеком и компьютером. (</a:t>
            </a:r>
            <a:r>
              <a:rPr b="0" lang="en-US" sz="2800" spc="-1" strike="noStrike">
                <a:solidFill>
                  <a:srgbClr val="ffffff"/>
                </a:solidFill>
                <a:latin typeface="Batavia"/>
              </a:rPr>
              <a:t>Windows</a:t>
            </a:r>
            <a:r>
              <a:rPr b="0" lang="ru-RU" sz="2800" spc="-1" strike="noStrike">
                <a:solidFill>
                  <a:srgbClr val="ffffff"/>
                </a:solidFill>
                <a:latin typeface="Batavi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663300"/>
                </a:solidFill>
                <a:uFillTx/>
                <a:latin typeface="Arial"/>
              </a:rPr>
              <a:t>Переименовать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ыбрать в контекстном меню пункт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переименова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663300"/>
                </a:solidFill>
                <a:uFillTx/>
                <a:latin typeface="Arial"/>
              </a:rPr>
              <a:t>Удаление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ыбрать в контекстном меню пункт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дали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663300"/>
                </a:solidFill>
                <a:uFillTx/>
                <a:latin typeface="Arial"/>
              </a:rPr>
              <a:t>Удаление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– перемещение в корзину для жестких дисков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28195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663300"/>
                </a:solidFill>
                <a:uFillTx/>
                <a:latin typeface="Arial"/>
              </a:rPr>
              <a:t>Удаление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– стирание для диск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онкретные задания выполняются на компьютере с помощью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прикладных программ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приложен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Данные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– это информация, представленная в цифровой форме и обрабатываемая на компьюте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1218960"/>
            <a:ext cx="72392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Программы и данные   хранятся на диске в виде </a:t>
            </a:r>
            <a:r>
              <a:rPr b="1" i="1" lang="ru-RU" sz="4400" spc="-1" strike="noStrike" u="sng">
                <a:solidFill>
                  <a:srgbClr val="b7e7ff"/>
                </a:solidFill>
                <a:uFillTx/>
                <a:latin typeface="Arial"/>
              </a:rPr>
              <a:t>файлов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(от англ.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ile – 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папка для бумаг, досье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099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7e7ff"/>
                </a:solidFill>
                <a:latin typeface="Arial"/>
              </a:rPr>
              <a:t>Файл – это поименованная область на диск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3200400"/>
            <a:ext cx="76197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исьмо1 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o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4381200" y="1866600"/>
            <a:ext cx="685800" cy="3048120"/>
          </a:xfrm>
          <a:custGeom>
            <a:avLst/>
            <a:gdLst>
              <a:gd name="textAreaLeft" fmla="*/ 438120 w 685800"/>
              <a:gd name="textAreaRight" fmla="*/ 686160 w 68580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40"/>
                </a:lnTo>
                <a:cubicBezTo>
                  <a:pt x="10800" y="10140"/>
                  <a:pt x="5400" y="11040"/>
                  <a:pt x="0" y="11040"/>
                </a:cubicBezTo>
                <a:cubicBezTo>
                  <a:pt x="5400" y="11040"/>
                  <a:pt x="10800" y="11940"/>
                  <a:pt x="10800" y="1284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236232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Имя фай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3962160" y="350460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6075800">
            <a:off x="5562360" y="388872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46483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Собственное имя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30640" y="46432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расшир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Собственное имя</a:t>
            </a: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 файла может содержать от 1 до 255 символов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Расширение файла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может содержать от 1 до 3 символ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Расширение отделяется от собственного имени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точко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Имя файл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7188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chitely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CHITELY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1905120"/>
            <a:ext cx="228600" cy="99036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86200" y="22096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411480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4267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Имена файлов не могут содержать следующие символы: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361960" y="3124080"/>
            <a:ext cx="4724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/ \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: * ? &lt; &gt; 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чителя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чителя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5943600"/>
            <a:ext cx="2438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51055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ver</cp:lastModifiedBy>
  <dcterms:modified xsi:type="dcterms:W3CDTF">2008-09-25T14:03:52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