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59CB-27C3-49D0-A847-AED1383E0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E671-0F4C-4B4C-BBE5-62ACD1135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39AE-9351-4EA1-A0F1-EF07BD26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97F-03F8-4BBD-BDED-228CEE77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C386F-A7A3-4B82-8108-D3C2FBCB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7B21-7837-4A5A-B4F7-C033C480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0F2E-911A-499B-B21B-9C532B4E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70AF-AF87-4F32-B495-0954DA2F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E9655-4C75-4926-A074-02127FD1D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4482-19EE-41C1-9100-2CF12FE6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3804-36FB-4D2D-AA36-7D13C44F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AC4F-1AD6-4AE0-91EF-B366B6EE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B6CC-90D3-42FC-B1D5-2CF4FEA74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4900B-322C-4DA6-A1EF-D787F5F7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DD38-849E-48C4-84F6-C6FEEAC2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213C-CF96-47F3-AD70-21E4DD31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3FDE-C0EC-410B-9447-EA8DA52C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EF6D-DE91-4236-BB7E-5E6CE3AD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7DC3-BCEA-4425-B0EB-7B04D7E7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5CAB-3A9D-4988-9010-923AACF7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37D-FC5D-411F-81F8-654040DB6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6CE0-3FA6-4BD1-96AD-7744F881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82CE-A4F3-42FF-960C-2BA5A379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46E-26F2-4981-9F57-7A8B8775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2729-5EEF-40FA-9597-36786EB7E1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1B81-1202-4ED1-A9A0-B84BA4A314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700" spc="-1" strike="noStrike">
                <a:solidFill>
                  <a:srgbClr val="b7e7ff"/>
                </a:solidFill>
                <a:latin typeface="Baskerville Old Face"/>
              </a:rPr>
              <a:t>ПРОГРАММЫ И ДАННЫЕ. ФАЙЛЫ И ФАЙЛОВАЯ СИСТЕМА</a:t>
            </a:r>
            <a:endParaRPr b="0" lang="en-US" sz="37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5640" y="3200400"/>
            <a:ext cx="62485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ила  преподавате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цея  №  3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аблоцкая  Инна Александ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b7e7ff"/>
                </a:solidFill>
                <a:latin typeface="Arial"/>
              </a:rPr>
              <a:t>Письмо1 . </a:t>
            </a:r>
            <a:r>
              <a:rPr b="1" i="1" lang="en-US" sz="4400" spc="-1" strike="noStrike">
                <a:solidFill>
                  <a:srgbClr val="b7e7ff"/>
                </a:solidFill>
                <a:latin typeface="Arial"/>
              </a:rPr>
              <a:t>Doc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1828440" y="2818800"/>
            <a:ext cx="6553080" cy="2895480"/>
          </a:xfrm>
          <a:prstGeom prst="wedgeRectCallout">
            <a:avLst>
              <a:gd name="adj1" fmla="val -6106"/>
              <a:gd name="adj2" fmla="val 113870"/>
            </a:avLst>
          </a:prstGeom>
          <a:solidFill>
            <a:srgbClr val="ff6600">
              <a:alpha val="4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3429000"/>
            <a:ext cx="6096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Тип файла (расширение) указывает на то,  какая информация хранится в фай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Примеры расширений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2819520"/>
            <a:ext cx="10134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Exe –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товая к исполнению програм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oc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– текст (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Txt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– текст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Блокнот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Bmp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– рисуно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Характеристики файла: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Им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Разм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ата созд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ремя созда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Все файлы  хранятся в </a:t>
            </a:r>
            <a:r>
              <a:rPr b="1" i="1" lang="en-US" sz="4400" spc="-1" strike="noStrike" u="sng">
                <a:solidFill>
                  <a:srgbClr val="b7e7ff"/>
                </a:solidFill>
                <a:uFillTx/>
                <a:latin typeface="Arial"/>
              </a:rPr>
              <a:t>каталогах (папках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Каталоги не имеют расширен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Главный каталог называется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корнев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b7e7ff"/>
                </a:solidFill>
                <a:uFillTx/>
                <a:latin typeface="Arial"/>
              </a:rPr>
              <a:t>Файловая система</a:t>
            </a: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 – это  система</a:t>
            </a: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 расположения информации </a:t>
            </a: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на диске.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752480" y="1752480"/>
          <a:ext cx="5481720" cy="365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752480"/>
                    <a:ext cx="54817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0" y="1981080"/>
            <a:ext cx="9144000" cy="4323960"/>
            <a:chOff x="0" y="1981080"/>
            <a:chExt cx="9144000" cy="4323960"/>
          </a:xfrm>
        </p:grpSpPr>
        <p:sp>
          <p:nvSpPr>
            <p:cNvPr id="122" name=""/>
            <p:cNvSpPr/>
            <p:nvPr/>
          </p:nvSpPr>
          <p:spPr>
            <a:xfrm>
              <a:off x="2700360" y="1981080"/>
              <a:ext cx="2735280" cy="6591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диск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700360" y="3081240"/>
              <a:ext cx="2735280" cy="6591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Корневая папк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11280" y="4473000"/>
              <a:ext cx="2735280" cy="6591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Папка 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5645880"/>
              <a:ext cx="2735280" cy="6591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Папка</a:t>
              </a: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1-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08720" y="4473000"/>
              <a:ext cx="2735280" cy="6591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Папка 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19640" y="4473000"/>
              <a:ext cx="2734920" cy="6591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Папка 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348000" y="5645880"/>
              <a:ext cx="2735280" cy="6591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Verdana"/>
                </a:rPr>
                <a:t>Папка 1-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140360" y="2640240"/>
              <a:ext cx="0" cy="36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411280" y="3740760"/>
              <a:ext cx="1440000" cy="731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140360" y="3666240"/>
              <a:ext cx="144360" cy="806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03640" y="3740760"/>
              <a:ext cx="2016360" cy="731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1332000" y="5133600"/>
              <a:ext cx="576000" cy="586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56000" y="5059080"/>
              <a:ext cx="1295280" cy="514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b7e7ff"/>
                </a:solidFill>
                <a:uFillTx/>
                <a:latin typeface="Arial"/>
              </a:rPr>
              <a:t>Иерархия папок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00360" y="2362320"/>
            <a:ext cx="2735280" cy="64764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Рабочий сто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3728880"/>
            <a:ext cx="2735280" cy="64800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ой компьюте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4653000"/>
            <a:ext cx="2735280" cy="64764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408720" y="3728880"/>
            <a:ext cx="2735280" cy="64800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Корз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419640" y="3728880"/>
            <a:ext cx="2734920" cy="64800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Мои докуме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4881600"/>
            <a:ext cx="2735280" cy="647640"/>
          </a:xfrm>
          <a:prstGeom prst="rect">
            <a:avLst/>
          </a:prstGeom>
          <a:solidFill>
            <a:srgbClr val="ff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С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2411280" y="3009960"/>
            <a:ext cx="144000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2936880"/>
            <a:ext cx="14436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3009960"/>
            <a:ext cx="201636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332000" y="4378320"/>
            <a:ext cx="576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56000" y="4305240"/>
            <a:ext cx="129528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3300"/>
                </a:solidFill>
                <a:uFillTx/>
                <a:latin typeface="Arial"/>
              </a:rPr>
              <a:t>Операции с объектами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828800"/>
            <a:ext cx="80010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зд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Коп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ерено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Переимен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Уда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3300"/>
                </a:solidFill>
                <a:uFillTx/>
                <a:latin typeface="Arial"/>
              </a:rPr>
              <a:t>Соз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22096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71680" indent="-5716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Открыть прилож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9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хранить как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3300"/>
                </a:solidFill>
                <a:uFillTx/>
                <a:latin typeface="Arial"/>
              </a:rPr>
              <a:t>Копирование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делить объек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ыбрать в контекстном меню (меню правой кнопки) пункт </a:t>
            </a: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копиров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Встав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3300"/>
                </a:solidFill>
                <a:uFillTx/>
                <a:latin typeface="Arial"/>
              </a:rPr>
              <a:t>Перенос:</a:t>
            </a:r>
            <a:br>
              <a:rPr sz="4400"/>
            </a:b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ыделить объек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 контекстном меню  выбрать пункт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Вырез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Встав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b7e7ff"/>
                </a:solidFill>
                <a:uFillTx/>
                <a:latin typeface="Blackadder ITC"/>
              </a:rPr>
              <a:t>Программа</a:t>
            </a:r>
            <a:r>
              <a:rPr b="0" lang="en-US" sz="3600" spc="-1" strike="noStrike">
                <a:solidFill>
                  <a:srgbClr val="b7e7ff"/>
                </a:solidFill>
                <a:latin typeface="Blackadder ITC"/>
              </a:rPr>
              <a:t> – </a:t>
            </a:r>
            <a:r>
              <a:rPr b="0" lang="en-US" sz="2800" spc="-1" strike="noStrike">
                <a:solidFill>
                  <a:srgbClr val="b7e7ff"/>
                </a:solidFill>
                <a:latin typeface="Blackadder ITC"/>
              </a:rPr>
              <a:t>это последовательность команд, которую выполняет компьютер в процессе обработки данных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Batavia"/>
              </a:rPr>
              <a:t>Программное обеспечение</a:t>
            </a:r>
            <a:r>
              <a:rPr b="1" i="1" lang="ru-RU" sz="2800" spc="-1" strike="noStrike">
                <a:solidFill>
                  <a:srgbClr val="ffffff"/>
                </a:solidFill>
                <a:latin typeface="Batavia"/>
              </a:rPr>
              <a:t> - </a:t>
            </a:r>
            <a:r>
              <a:rPr b="0" lang="ru-RU" sz="2800" spc="-1" strike="noStrike">
                <a:solidFill>
                  <a:srgbClr val="ffffff"/>
                </a:solidFill>
                <a:latin typeface="Batavia"/>
              </a:rPr>
              <a:t>совокупность всех програм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Batavia"/>
              </a:rPr>
              <a:t>Операционная система</a:t>
            </a:r>
            <a:r>
              <a:rPr b="1" i="1" lang="ru-RU" sz="2800" spc="-1" strike="noStrike">
                <a:solidFill>
                  <a:srgbClr val="ffffff"/>
                </a:solidFill>
                <a:latin typeface="Batavia"/>
              </a:rPr>
              <a:t> – </a:t>
            </a:r>
            <a:r>
              <a:rPr b="0" lang="ru-RU" sz="2800" spc="-1" strike="noStrike">
                <a:solidFill>
                  <a:srgbClr val="ffffff"/>
                </a:solidFill>
                <a:latin typeface="Batavia"/>
              </a:rPr>
              <a:t>это обязательная часть программного обеспечения. Особый пакет программ, управляющих работой компьютера и обеспечивающих взаимодействие между человеком и компьютером. (</a:t>
            </a:r>
            <a:r>
              <a:rPr b="0" lang="en-US" sz="2800" spc="-1" strike="noStrike">
                <a:solidFill>
                  <a:srgbClr val="ffffff"/>
                </a:solidFill>
                <a:latin typeface="Batavia"/>
              </a:rPr>
              <a:t>Windows</a:t>
            </a:r>
            <a:r>
              <a:rPr b="0" lang="ru-RU" sz="2800" spc="-1" strike="noStrike">
                <a:solidFill>
                  <a:srgbClr val="ffffff"/>
                </a:solidFill>
                <a:latin typeface="Batavi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3300"/>
                </a:solidFill>
                <a:uFillTx/>
                <a:latin typeface="Arial"/>
              </a:rPr>
              <a:t>Переименовать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ыбрать в контекстном меню пункт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переименова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663300"/>
                </a:solidFill>
                <a:uFillTx/>
                <a:latin typeface="Arial"/>
              </a:rPr>
              <a:t>Удаление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Выбрать в контекстном меню пункт 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удали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1760" y="8377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3300"/>
                </a:solidFill>
                <a:uFillTx/>
                <a:latin typeface="Arial"/>
              </a:rPr>
              <a:t>Удаление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– перемещение в корзину для жестких дисков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28195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663300"/>
                </a:solidFill>
                <a:uFillTx/>
                <a:latin typeface="Arial"/>
              </a:rPr>
              <a:t>Удалени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стирание для диск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Конкретные задания выполняются на компьютере с помощью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рикладных программ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или </a:t>
            </a: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приложени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Данны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– это информация, представленная в цифровой форме и обрабатываемая на компьютер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7720" y="1218960"/>
            <a:ext cx="72392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рограммы и данные   хранятся на диске в виде </a:t>
            </a:r>
            <a:r>
              <a:rPr b="1" i="1" lang="ru-RU" sz="4400" spc="-1" strike="noStrike" u="sng">
                <a:solidFill>
                  <a:srgbClr val="b7e7ff"/>
                </a:solidFill>
                <a:uFillTx/>
                <a:latin typeface="Arial"/>
              </a:rPr>
              <a:t>файлов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 (от англ. 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ile – </a:t>
            </a: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папка для бумаг, досье)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099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7e7ff"/>
                </a:solidFill>
                <a:latin typeface="Arial"/>
              </a:rPr>
              <a:t>Файл – это поименованная область на диск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3200400"/>
            <a:ext cx="76197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Письмо1 . 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Do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rot="5400000">
            <a:off x="4381200" y="1866600"/>
            <a:ext cx="685800" cy="3048120"/>
          </a:xfrm>
          <a:custGeom>
            <a:avLst/>
            <a:gdLst>
              <a:gd name="textAreaLeft" fmla="*/ 438120 w 685800"/>
              <a:gd name="textAreaRight" fmla="*/ 686160 w 68580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40"/>
                </a:lnTo>
                <a:cubicBezTo>
                  <a:pt x="10800" y="10140"/>
                  <a:pt x="5400" y="11040"/>
                  <a:pt x="0" y="11040"/>
                </a:cubicBezTo>
                <a:cubicBezTo>
                  <a:pt x="5400" y="11040"/>
                  <a:pt x="10800" y="11940"/>
                  <a:pt x="10800" y="1284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236232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мя файл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962160" y="3504600"/>
            <a:ext cx="304920" cy="1828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16075800">
            <a:off x="5562360" y="388872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46483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Собственное имя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30640" y="4643280"/>
            <a:ext cx="15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расшир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Собственное имя</a:t>
            </a: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 файла может содержать от 1 до 255 символов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590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3300"/>
                </a:solidFill>
                <a:latin typeface="Arial"/>
              </a:rPr>
              <a:t>Расширение файла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 может содержать от 1 до 3 символ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Расширение отделяется от собственного имени </a:t>
            </a:r>
            <a:r>
              <a:rPr b="1" i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точко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Имя файл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320" y="1676160"/>
            <a:ext cx="71881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ИТЕ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chitel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CHITELY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1280" y="1905120"/>
            <a:ext cx="228600" cy="99036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86200" y="22096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411480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42670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=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Имена файлов не могут содержать следующие символы:</a:t>
            </a:r>
            <a:br>
              <a:rPr sz="4000"/>
            </a:b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361960" y="3124080"/>
            <a:ext cx="47242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/ \</a:t>
            </a: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: * ? &lt; &gt; 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чителя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чителя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5943600"/>
            <a:ext cx="2438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5105520"/>
            <a:ext cx="2514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ver</cp:lastModifiedBy>
  <dcterms:modified xsi:type="dcterms:W3CDTF">2008-09-25T14:03:52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