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7964-D612-42C6-8604-D061211DA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CC6C-F1A4-47D9-AB65-110F4EBF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3856-E62D-41AB-84BF-FC80CE0E1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DA21-9FD9-44F9-B0D9-83A0995C5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6895-AD36-421C-90E7-CF5DA348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00FB-112F-4B0B-99FF-D1C601E3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02A9-21B7-4F6F-8212-F27EE41F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457A-E9CD-48C0-AE39-C1C929A1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BB58-C09C-42DE-9FE4-D3ADA9B7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454F-3429-449D-8E8B-93D59594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EEBE-FBF5-4F34-B68A-0F690E4C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75B6-745A-4667-A9CC-0D3FDD63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DD18-7B25-43D6-8C85-03D9ECE5A0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7T18:46:25Z</dcterms:created>
  <dc:creator>user</dc:creator>
  <dc:description/>
  <dc:language>en-US</dc:language>
  <cp:lastModifiedBy>user</cp:lastModifiedBy>
  <dcterms:modified xsi:type="dcterms:W3CDTF">2018-06-27T18:47:24Z</dcterms:modified>
  <cp:revision>1</cp:revision>
  <dc:subject/>
  <dc:title>Слайд 1</dc:title>
</cp:coreProperties>
</file>