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FDB6-867B-495D-8349-D155C548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46DE-FE0A-4521-8011-AD3120DB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EFC-5645-49D5-9FB5-DF62B7413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4A8F-2CE2-4906-BB30-CF5A85E4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308-7707-41DE-8814-4B42D26E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FB6-567D-4D00-8F6E-66F994457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EEE-3962-4E64-BA7C-7B194CC1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1AD6-1DC1-4ACB-AC66-52EBA758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375-6185-4BCE-A4D8-438A8D74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DB53-8A3F-4542-9B0D-0EF9A2CD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472-6898-4E82-A282-A741057A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FC1B-7E63-4E61-BB46-54772D27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CC802-109C-4A31-8071-6E29794959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7T18:46:25Z</dcterms:created>
  <dc:creator>user</dc:creator>
  <dc:description/>
  <dc:language>en-US</dc:language>
  <cp:lastModifiedBy>user</cp:lastModifiedBy>
  <dcterms:modified xsi:type="dcterms:W3CDTF">2018-06-27T18:47:24Z</dcterms:modified>
  <cp:revision>1</cp:revision>
  <dc:subject/>
  <dc:title>Слайд 1</dc:title>
</cp:coreProperties>
</file>