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D6E-8E38-4BD0-846D-BD3AD7E6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C2B6-1E35-4FA7-AB66-9ED21A93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C109-CB33-4C10-818F-21A7BA92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CD2F-6FA9-439D-A430-19A1A6C94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7159F-F353-4F31-9E23-BF80F48F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7628-F297-425A-A89B-905196A7B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62630-CFB0-4A23-BCE2-D6F6B417A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61C6-33EA-495A-A90B-2D6E7FB5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308-0147-4D03-BA17-D47C46A0A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51B83-B8E3-46D5-9C14-097369C66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ED07-D37E-4623-B7F5-4536CAFA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582-2093-4F8E-B7BE-BB4B75DC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B1DC2-C43E-45DB-937A-E75E330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4ADD-1B2A-437A-9DFA-659A6802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8AAF2-C93F-4085-A892-6151F6E6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78DED-753F-47FC-8157-71958F1AB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5927-FF22-4603-909F-5AFD49948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97FC-667F-4645-87BF-187D3FF9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9482-B79B-45E5-832A-DB59ADF6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BAEB-CF61-44B4-860F-A7A923CC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5BD1-0628-4C9F-8B20-3D661730F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1F8-194A-43CD-845C-7432705A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AEE1-62B4-4BE0-94DA-CBB3402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56F1-3A7C-49E0-B7B5-68E6BB162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765E5-1408-4C47-B645-69012E402497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8f8f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0033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336699"/>
                </a:gs>
                <a:gs pos="100000">
                  <a:srgbClr val="2e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8f8f8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d1ddd4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d1ddd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8f8f8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02453-2221-43ED-9026-4D27EB70F2A1}" type="slidenum">
              <a:rPr b="0" lang="en-US" sz="1200" spc="-1" strike="noStrike">
                <a:solidFill>
                  <a:srgbClr val="f8f8f8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f8f8f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d1ddd4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8f8f8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8080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-612720" y="188640"/>
            <a:ext cx="8137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100" spc="-1" strike="noStrike">
                <a:solidFill>
                  <a:srgbClr val="d1ddd4"/>
                </a:solidFill>
                <a:latin typeface="Gulim"/>
                <a:ea typeface="Gulim"/>
              </a:rPr>
              <a:t>Hong Kong tramways</a:t>
            </a:r>
            <a:br>
              <a:rPr sz="5100"/>
            </a:br>
            <a:r>
              <a:rPr b="1" lang="en-US" sz="5100" spc="-1" strike="noStrike">
                <a:solidFill>
                  <a:srgbClr val="d1ddd4"/>
                </a:solidFill>
                <a:latin typeface="Gulim"/>
                <a:ea typeface="Gulim"/>
              </a:rPr>
              <a:t>Double decker</a:t>
            </a:r>
            <a:endParaRPr b="0" lang="en-US" sz="51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6247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311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1ddd4"/>
                </a:solidFill>
                <a:latin typeface="Arial"/>
              </a:rPr>
              <a:t>In Hong Kong, the first streetcars appeared in 1904, and unusual, double-decker - in the 1912 First double-decker trams were open-topped, who served as transportation or decoration (there were many flowers)</a:t>
            </a:r>
            <a:endParaRPr b="0" lang="en-US" sz="24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2349360"/>
            <a:ext cx="5715000" cy="3171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859280" y="2205000"/>
            <a:ext cx="288288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76360" y="260280"/>
            <a:ext cx="5616360" cy="39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A </a:t>
            </a:r>
            <a:r>
              <a:rPr b="1" lang="ru-RU" sz="2400" spc="-1" strike="noStrike">
                <a:solidFill>
                  <a:srgbClr val="f8f8f8"/>
                </a:solidFill>
                <a:latin typeface="Verdana"/>
              </a:rPr>
              <a:t>double-decker tram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 is a tram that has two levels. Double-deck trams were once popular in some European cities, like Berli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n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 and London, throughout the British Empire countries in the early half of the 20th century including Auckland, Christchurch and Well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ngton in New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Zealand; Hobart,</a:t>
            </a: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8f8f8"/>
                </a:solidFill>
                <a:latin typeface="Verdana"/>
              </a:rPr>
              <a:t>Tasmania in Australia and in parts of Asia. 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30589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-360" y="4005000"/>
            <a:ext cx="860436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Hong Kong Tramways is a tram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system in Hong Kong and one of the earliest forms of public 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transport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 in Hong Kong. Owned and operated by </a:t>
            </a:r>
            <a:r>
              <a:rPr b="0" lang="en-US" sz="2000" spc="-1" strike="noStrike">
                <a:solidFill>
                  <a:srgbClr val="f8f8f8"/>
                </a:solidFill>
                <a:latin typeface="Verdana"/>
              </a:rPr>
              <a:t>Veolia Transport</a:t>
            </a:r>
            <a:r>
              <a:rPr b="0" lang="ru-RU" sz="2000" spc="-1" strike="noStrike">
                <a:solidFill>
                  <a:srgbClr val="f8f8f8"/>
                </a:solidFill>
                <a:latin typeface="Verdana"/>
              </a:rPr>
              <a:t>, the tramway runs on Hong Kong Island between Shau Kei Wan and Kennedy Town, in Hong Kong have not only been a form of transport for over 100 years, but also a major tourist attraction and one of the most environmentally friendly ways of travelling in Hong Kong. It is the only exclusively double-decker operated tram system in the world, and one of only three non-heritage tram systems in the world that use double-deck cars. </a:t>
            </a:r>
            <a:endParaRPr b="0" lang="en-US" sz="20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8360" y="404640"/>
            <a:ext cx="4851360" cy="30322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56000" y="620640"/>
            <a:ext cx="43084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7632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86c0c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Verdana"/>
              </a:rPr>
              <a:t>When Hong Kong Tramways was founded, the 26 tramcars of the first fleet were all single-deck. After more than 100 years, we now own and operate a fleet of 163 tramcars which includes 2 antique tramcars. It is the world's largest fleet of double-deck tramcars still in operation, carrying an average of 230,000 passengers every day.</a:t>
            </a:r>
            <a:endParaRPr b="0" lang="en-US" sz="2400" spc="-1" strike="noStrike">
              <a:solidFill>
                <a:srgbClr val="f8f8f8"/>
              </a:solidFill>
              <a:latin typeface="Verdan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84360" y="2997360"/>
            <a:ext cx="6192720" cy="36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4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4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5c7c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1044720" y="-360"/>
            <a:ext cx="113061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d1ddd4"/>
                </a:solidFill>
                <a:latin typeface="Arial"/>
              </a:rPr>
              <a:t>The End</a:t>
            </a:r>
            <a:endParaRPr b="0" lang="en-US" sz="9600" spc="-1" strike="noStrike">
              <a:solidFill>
                <a:srgbClr val="d1ddd4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916360" y="2852640"/>
            <a:ext cx="3593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6T13:49:52Z</dcterms:created>
  <dc:creator>Лена</dc:creator>
  <dc:description/>
  <dc:language>en-US</dc:language>
  <cp:lastModifiedBy>Лена</cp:lastModifiedBy>
  <dcterms:modified xsi:type="dcterms:W3CDTF">2013-10-17T03:14:14Z</dcterms:modified>
  <cp:revision>3</cp:revision>
  <dc:subject/>
  <dc:title>Hong Kong tramways Double decker</dc:title>
</cp:coreProperties>
</file>