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448F-0C2C-4175-A50F-C1D987D4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D507-2665-4D7F-AF55-90D4188B5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A800-500E-43E5-A652-C875C75F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D4B-EB1C-469A-8703-B87BB358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A457-0348-4575-912A-A50BF995A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4040-878D-4154-9D9E-CE09DF4CC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A01E-3949-46F5-9209-323EA52FB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910B-77A6-47FC-916F-F4E485DF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5B15-3FDF-4053-8C6A-831333BD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8501-C62F-4E7C-A921-F97EAAAE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514A7-3F3B-4B18-A0ED-FE518434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0B3F-382B-4504-AA58-159BEA87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BD53-FEEE-406F-96AD-FBA13417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A492-A494-4DE4-A1D8-83FCEF44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EFA7-B93B-42A7-AFB0-6803DBBF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B839-38F4-4FDF-99DA-F54A92FA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C171-886B-497A-B54C-CEB45859A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0D0B-7403-4D74-A035-1E93C2DF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53B-1506-4669-9C6B-35EDB224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8BB-4F81-443B-9EF7-E9D75BDB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438F-9C12-4881-B816-7BB78163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073-A317-4F7B-AAB0-80746900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09D-35D5-4F2F-8D6C-BE2248E6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5245-7176-4469-8AC7-922A7F0B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2179-67CC-4DCA-8A82-33D719DCAF76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FBD6-6155-4C00-9941-2A22515D4D55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612720" y="188640"/>
            <a:ext cx="8137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d1ddd4"/>
                </a:solidFill>
                <a:latin typeface="Gulim"/>
                <a:ea typeface="Gulim"/>
              </a:rPr>
              <a:t>Hong Kong tramways</a:t>
            </a:r>
            <a:br>
              <a:rPr sz="5100"/>
            </a:br>
            <a:r>
              <a:rPr b="1" lang="en-US" sz="5100" spc="-1" strike="noStrike">
                <a:solidFill>
                  <a:srgbClr val="d1ddd4"/>
                </a:solidFill>
                <a:latin typeface="Gulim"/>
                <a:ea typeface="Gulim"/>
              </a:rPr>
              <a:t>Double decker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6247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931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ddd4"/>
                </a:solidFill>
                <a:latin typeface="Arial"/>
              </a:rPr>
              <a:t>In Hong Kong, the first streetcars appeared in 1904, and unusual, double-decker - in the 1912 First double-decker trams were open-topped, who served as transportation or decoration (there were many flowers)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5715000" cy="3171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28828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76360" y="260280"/>
            <a:ext cx="561636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A </a:t>
            </a:r>
            <a:r>
              <a:rPr b="1" lang="ru-RU" sz="2400" spc="-1" strike="noStrike">
                <a:solidFill>
                  <a:srgbClr val="f8f8f8"/>
                </a:solidFill>
                <a:latin typeface="Verdana"/>
              </a:rPr>
              <a:t>double-decker tram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 is a tram that has two levels. Double-deck trams were once popular in some European cities, like Berli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 and London, throughout the British Empire countries in the early half of the 20th century including Auckland, Christchurch and Well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ngton in New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Zealand; Hobart,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Tasmania in Australia and in parts of Asia.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589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4005000"/>
            <a:ext cx="8604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Hong Kong Tramways is a tram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system in Hong Kong and one of the earliest forms of public 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transport</a:t>
            </a: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 in Hong Kong. Owned and operated by 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Veolia Transport</a:t>
            </a: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, the tramway runs on Hong Kong Island between Shau Kei Wan and Kennedy Town, in Hong Kong have not only been a form of transport for over 100 years, but also a major tourist attraction and one of the most environmentally friendly ways of travelling in Hong Kong. It is the only exclusively double-decker operated tram system in the world, and one of only three non-heritage tram systems in the world that use double-deck cars.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851360" cy="303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43084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When Hong Kong Tramways was founded, the 26 tramcars of the first fleet were all single-deck. After more than 100 years, we now own and operate a fleet of 163 tramcars which includes 2 antique tramcars. It is the world's largest fleet of double-deck tramcars still in operation, carrying an average of 230,000 passengers every day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619272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044720" y="-360"/>
            <a:ext cx="113061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d1ddd4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593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3:49:52Z</dcterms:created>
  <dc:creator>Лена</dc:creator>
  <dc:description/>
  <dc:language>en-US</dc:language>
  <cp:lastModifiedBy>Лена</cp:lastModifiedBy>
  <dcterms:modified xsi:type="dcterms:W3CDTF">2013-10-17T03:14:14Z</dcterms:modified>
  <cp:revision>3</cp:revision>
  <dc:subject/>
  <dc:title>Hong Kong tramways Double decker</dc:title>
</cp:coreProperties>
</file>