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B5A5-E142-49B1-88B0-9380815FF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1065-387C-42B9-8C5D-1358BD61C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8944-34E8-4751-A24F-C92217D7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BC1A-D679-4EDF-817C-43619E5FE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EE22-6609-4906-BB87-D4067089F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C2AB-9CD2-4952-943D-D81000D44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E01B0-7DD0-4207-922D-0176518B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B380-1DA7-426B-B418-4568F7B8F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7B26A-78D8-4F69-B136-7F1C7A1C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CBB9-3E93-4FC9-983D-7D11EC92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9917F-BC75-4805-BB56-EEE90C53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A2E4-D3FD-4F5B-B8EC-026AAFA1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57B8-5CB9-4425-89EA-026829E6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FE9F-8BA9-437F-A6DA-F5A84BCB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99598-995F-42EA-89C7-FE4FCE29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E9BB-D2CB-408F-9CF2-56BE66BE0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C74F-831C-4E44-922B-CBC819837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1716-04D5-4A52-A119-3C4544D4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6842-F532-499E-B732-3D2C60F4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9E46-9576-455C-9E36-ECAF7D24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F222-4DF1-4EB7-AF79-5AC3505A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0775-3AC7-4DD3-878D-FEE843304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F534-1946-4C70-ACB7-0DDE194A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F6A3-64D0-444C-BFA1-9F49A139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D306-AAAB-49CE-9C62-80D62C0145D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31A3-5BD5-4BC0-827D-3F572184081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252360" y="260280"/>
            <a:ext cx="86407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Тема проекта: </a:t>
            </a:r>
            <a:br>
              <a:rPr sz="4000"/>
            </a:br>
            <a:br>
              <a:rPr sz="4000"/>
            </a:br>
            <a:r>
              <a:rPr b="1" i="1" lang="en-US" sz="4800" spc="-1" strike="noStrike">
                <a:solidFill>
                  <a:srgbClr val="ff3300"/>
                </a:solidFill>
                <a:latin typeface="Arial"/>
              </a:rPr>
              <a:t>«История олимпийских игр»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50920" y="2852640"/>
            <a:ext cx="763416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ff"/>
                </a:solidFill>
                <a:latin typeface="Verdana"/>
              </a:rPr>
              <a:t>Выполнили: Игнатов М.  Дениченко А. Брызгалина Н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ff"/>
                </a:solidFill>
                <a:latin typeface="Verdana"/>
              </a:rPr>
              <a:t>Торопова Т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ff"/>
                </a:solidFill>
                <a:latin typeface="Verdana"/>
              </a:rPr>
              <a:t>Руководитель: Бойченко Т.С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В ПОИСКАХ ГАРМОНИ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Другим сильным городом-государством Древней Греции были Афины в пору своего расцвета (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V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. до н. э.) — главный центр культуры, науки, ремёсел, торговли. Здесь юноши получали не только военно-физическую подготовку (как в Спарте), но и разностороннее образование. В физическом воспитании большое внимание уделялось играм, готовившим ребёнка к школе. С семи лет, продолжая жить в семье, мальчики посещали школы трёх типов: грамматическую, музыкальную, гимнастическую (палестра). Они обучались чтению, письму и музыке, а в палестре (от </a:t>
            </a:r>
            <a:r>
              <a:rPr b="0" i="1" lang="ru-RU" sz="1200" spc="-1" strike="noStrike">
                <a:solidFill>
                  <a:srgbClr val="ffffff"/>
                </a:solidFill>
                <a:latin typeface="Verdana"/>
              </a:rPr>
              <a:t>греч.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«пале» — «борьба») — борьбе и играм. Платон писал, что учителя старались «приспособить их тела к мужественной жизни, чтобы не проявлялось в них малодушия во время войн и сражений». По достижении 14— 16-летнего возраста сыновья обеспеченных родителей поступали в гимнасии. В Афинах существовали три государственные гимнасии: Академия, Ликей и Киносарг. Физическая подготовка дополнялась изучением политики, философии и литературы. В 18 лет юношей зачисляли в эфебию, где они получали экипировку, овладевали основами военного искусства. По окончании обучения молодых воинов направляли в отдалённые гарнизоны для несения службы на границах государства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567400" y="2093760"/>
            <a:ext cx="2201760" cy="3543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768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2" dur="768" fill="hold"/>
                                        <p:tgtEl>
                                          <p:spTgt spid="1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4" dur="768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6" dur="768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В ДРЕВНЕМ РИМЕ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Verdana"/>
              </a:rPr>
              <a:t>В </a:t>
            </a:r>
            <a:r>
              <a:rPr b="0" lang="en-US" sz="1600" spc="-1" strike="noStrike">
                <a:solidFill>
                  <a:srgbClr val="ffff66"/>
                </a:solidFill>
                <a:latin typeface="Verdana"/>
              </a:rPr>
              <a:t>IV </a:t>
            </a:r>
            <a:r>
              <a:rPr b="0" lang="ru-RU" sz="1600" spc="-1" strike="noStrike">
                <a:solidFill>
                  <a:srgbClr val="ffff66"/>
                </a:solidFill>
                <a:latin typeface="Verdana"/>
              </a:rPr>
              <a:t>в. до н. э. Грецию завоевала Македония, а позже Рим, ставший центром цивилизации Европы и Передней Азии. Но физическая культура, достигшая здесь наивысшего развития, носила крайне противоречивый характер. Античность не знала более могучего и боеспособного войска, чем римские легионы. Для подготовки воинов использовались способы тренировки и закалки, которые римляне переняли у греков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Verdana"/>
              </a:rPr>
              <a:t>Однако в общественной жизни городов физическая культура широкого признания не получила. То, что считалось почётным для эллина, римлянину казалось постыдным. В школах (элементарной, грамматической, риторической) уроков физической подготовки не было. Как полагал Сенека (государственный деятель, философ и воспитатель императора Нерона), для образованного человека тренировать мышцы рук и шеи, укреплять грудную клетку — глупость, и даже если тело увеличится в объёме, ни вес, ни сила его не достигнут силы раскормленного быка. Свободные римские граждане предпочитали роль зрителей на популярных в ту эпоху состязаниях — конных ристалищах и боях гладиаторов. Их устраивали на огромных аренах. Знаменитый Колизей (75— 80 гг. н. э.) — и по сей день символ Рима — вмещал около 50 тыс. зрителей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98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98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98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ФИЗИЧЕСКАЯ КУЛЬТУРА И СПОРТ В СРЕДНЕВЕКОВЬ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4472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 Средние века (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V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—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XVII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в.) в области воспитания и образования главенствовала христианская религия. Проповедовался аскетизм, забота о теле считались греховными. В школах и университетах занимались только духовным воспитанием молодёжи. И всё же полностью физическая культура не исчезла, поскольку была необходима для подготовки воинов-рыцарей. От них требовались сила и мощь, ловкость и мастерство для достижения главной цели — победить и унич­тожить врага. Считая достойным занятием лишь военное дело, рыцари значительную часть жизни проводили в походах и сражениях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Будущих воинов обучали верховой езде, фехтованию, охоте, плаванию, стрельбе из лука, игре в шашки, стихосложению. Отводилось время на подвижные и военные игры — французский же де пом (прообраз тенниса), английский суль (прототип футбола), датский гольф, осаду замка и штурм городских стен. Рыцари увле­кались также борьбой, метанием молота и копья, прыжками в длину, соколиной, псовой и конной охотой. Для проверки их боевых качеств устраивались турниры. Эти своеобразные спортивные состязания появились в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VI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. во Франции. Проводились они чаще всего по случаю дня рождения феодала, женитьбы рыцаря, победы в битве и т. д. Перед началом поединка воин давал клятву, что готов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826920" y="1917720"/>
            <a:ext cx="3465720" cy="3882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768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768" fill="hold"/>
                                        <p:tgtEl>
                                          <p:spTgt spid="1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0" dur="768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2" dur="768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ФИЗИЧЕСКАЯ КУЛЬТУРА И СПОРТ В СРЕДНЕВЕКОВЬ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076720" y="1773360"/>
            <a:ext cx="3862440" cy="4464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отдать «жизнь — королю, сердце — даме, а честь — себе»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о то были господские забавы. Простой же народ, крестьяне и ремес­ленники, состязались в метании камней на дальность и из пращи в цель, в борьбе, кулачном бое, беге, плавании, фехтовании на палках и копьях. В среде крестьян пользовались популярностью травяной хоккей, бег на коньках и ходьба на лыжах. Во время праздников на городских площадях выступали акробаты, борцы, кулачные бойцы. Проходили командные игры в суль. Зажиточные горожане даже строили «спортивные базы» — специальные помещения и площадки для занятий наиболее популярными играми: теннисом, гольфом, крикетом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 позднее Средневековье 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X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XVI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толетия) ремесленники в Италии, Германии, Франции, Бельгии и Швеции в целях обороны своих городов стали создавать стрелковые и фехтовальные братств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768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5" dur="768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7" dur="768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9" dur="768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В ЭПОХУ ВОЗРОЖДЕНИЯ И В НОВОЕ ВРЕМЯ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44720" y="1846080"/>
            <a:ext cx="4041720" cy="42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Бурное развитие производства и торговли, рост городов, Великие географические открытия в эпоху Ренессанса стремительно изменили не только облик мира, но и взгляд на человека. Общество вновь обратилось к эллинским идеалам гармонии, красоты духа, дополненной телесным совершенством. А вслед за тем возникло новое мировоззрение — гуманизм (от </a:t>
            </a:r>
            <a:r>
              <a:rPr b="0" i="1" lang="ru-RU" sz="1200" spc="-1" strike="noStrike">
                <a:solidFill>
                  <a:srgbClr val="ffffff"/>
                </a:solidFill>
                <a:latin typeface="Verdana"/>
              </a:rPr>
              <a:t>лат.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umanus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— «человечный»). Его идеологи одну из главных задач общества видели в воспитании здоровых, сильных, жизнерадостных и счастливых людей, всесторонне приспособленных к жизни. В разработанных тогда педагогических системах важное место отводилось физической подготовке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Например, социалисты-утописты Томас Мор (1478—1535) и Томмазо Кампанелла (1568—1639), крупнейший славянский мыслитель, педагог-гуманист и писатель Ян Амос Комен-ский (1592—1670) утверждали, что физическая культура является необходимым элементом гармоничного развития личности, и поэтому занятия гимнастикой и военные упражнения должны быть поставлены на государственную основу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81120" y="1846440"/>
            <a:ext cx="3316320" cy="4173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77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В ЭПОХУ ВОЗРОЖДЕНИЯ И В НОВОЕ ВРЕМ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4172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По мнению английского философа Джона Локка (1632—1704), для «воспитания здорового духа в здоровом теле» необходимы жёсткий режим закаливания, простая пища, пребывание на воздухе и солнце. А французский философ и педагог-просветитель Жан Жак Руссо (1712—1778) в трактате «Эмиль, или О воспитании» (1762 г.) советовал развивать у детей двигательные навыки и умения, используя полную свободу движений, игры, купание в холодной воде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Швейцарский педагог Иоганн Генрих Песталоцци (1746—1827) в своей системе развивающего обучения объединял физическое воспитание (упражнения с тяжестями, борьба) с трудовой и бытовой деятельностью. В книге «Элементарная гимнастика» (1807 г.) он подразделил все движения на элементарные (в суставах плеча, бёдер и т. п.) и сложные (бег, прыжки, танцы и др.). Благодаря такой классификации его система получила название «суставная гимнастика»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Под влиянием идей Локка, Руссо и Песталоцци физическое воспитание утвердилось и заняло важное место в школьных программах и системах образования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4788000" y="2206800"/>
            <a:ext cx="3895560" cy="3547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ФИЗИЧЕСКАЯ КУЛЬТУРА И СПОРТ В РОССИ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0" y="1989000"/>
            <a:ext cx="403848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У народов, проживающих на территории современной России, физическая культура зародилась (как и во всём мире) в первобытном обществе. На Севере и Дальнем Востоке люди уже в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V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—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II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тысячелетиях до н. э. передвигались на лыжах. Нанайцы, манси, ненцы состязались в метании копья, дротиков, топора, устраивали гонки на нартах, игры в медведя и оленя. Прибрежные народы (коряки, нивхи, алеуты и др.) из китовых костей и тюленьих шкур строили быстроходные маневренные каяки (прообраз современной байдарки)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901800" y="1992240"/>
            <a:ext cx="2879640" cy="38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Физическая культура и спорт в Росси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Verdana"/>
              </a:rPr>
              <a:t>В конце 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XVII </a:t>
            </a:r>
            <a:r>
              <a:rPr b="0" lang="ru-RU" sz="1300" spc="-1" strike="noStrike">
                <a:solidFill>
                  <a:srgbClr val="ffffff"/>
                </a:solidFill>
                <a:latin typeface="Verdana"/>
              </a:rPr>
              <a:t>— первой четверти 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XVIII </a:t>
            </a:r>
            <a:r>
              <a:rPr b="0" lang="ru-RU" sz="1300" spc="-1" strike="noStrike">
                <a:solidFill>
                  <a:srgbClr val="ffffff"/>
                </a:solidFill>
                <a:latin typeface="Verdana"/>
              </a:rPr>
              <a:t>в. решающее влияние на со­здание системы военно-физической подготовки в России оказала военная реформа Петра 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ru-RU" sz="1300" spc="-1" strike="noStrike">
                <a:solidFill>
                  <a:srgbClr val="ffffff"/>
                </a:solidFill>
                <a:latin typeface="Verdana"/>
              </a:rPr>
              <a:t>. В организованных молодым царём Семёновском и Преображенском полках вначале главное внимание уделялось «потехам» — военным играм. Это были марш-броски, рукопашные схватки, штыковой бой, преодоление преград, форсирование рек, штурм искусно построенных крепостей. В таких сражениях принимало участие до 40 тыс. солдат. Особенно масштабные «боевые» действия происходили под селом Кожуховом в 1694 г. «Потехи» стали хорошей школой для солдат и позволили повысить боеспособность русской армии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Verdana"/>
              </a:rPr>
              <a:t>В 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XVIII </a:t>
            </a:r>
            <a:r>
              <a:rPr b="0" lang="ru-RU" sz="1300" spc="-1" strike="noStrike">
                <a:solidFill>
                  <a:srgbClr val="ffffff"/>
                </a:solidFill>
                <a:latin typeface="Verdana"/>
              </a:rPr>
              <a:t>в. дворянская молодёжь первоначальное образование получала в школах, гимназиях и кадетских корпусах, где основными средствами физического воспитания являлись «ра-пирная наука», верховая езда, стрельба из пистолета, танцы, игры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4503600" y="1630440"/>
            <a:ext cx="4172040" cy="4389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898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898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898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Физическая культура и спорт в Росси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рисущий эпохе дух состязательности и конкуренции немало способствовал тому, что спорт к середине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IX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. из средства укрепить здоровье либо заполнить досуг превратился в особый, самостоятельный вид деятельности. Главными в ней стали победы и рекорды, способность доказать своё превосходство над противником. К концу столетия это был уже современный олимпийский спорт высших достижений Тренировки атлетов сегодня представляют собой сложный процесс, в котором используются новейшие достижения науки и техники. Спорт продолжает развиваться. Возникают новые дисциплины, завоевывая целые армии поклонников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2930400" y="3946680"/>
            <a:ext cx="3446640" cy="218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Arial"/>
              </a:rPr>
              <a:t>СПАСИБО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Verdana"/>
              </a:rPr>
              <a:t>          </a:t>
            </a:r>
            <a:r>
              <a:rPr b="1" i="1" lang="en-US" sz="4800" spc="-1" strike="noStrike">
                <a:solidFill>
                  <a:srgbClr val="ff3300"/>
                </a:solidFill>
                <a:latin typeface="Verdana"/>
              </a:rPr>
              <a:t>ЗА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00"/>
                </a:solidFill>
                <a:latin typeface="Verdana"/>
              </a:rPr>
              <a:t>ВНИМАНИЕ !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5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5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5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5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31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Творческое название: </a:t>
            </a:r>
            <a:br>
              <a:rPr sz="4000"/>
            </a:b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«Из древней Эллады в </a:t>
            </a: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XXI 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век»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Культ, игра, навы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В первобытном обществе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В государствах древнего мир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В поисках гармон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В древнем Рим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Физическая культура и спорт в средневековь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В эпоху возрождения и в новое врем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Физическая культура и спорт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98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98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98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98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Тип проекта: 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исследовательский, творческий.</a:t>
            </a: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Этапы проведения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1. Продумывание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- опрос учащихся и выявление среди них желающих принять участие в создании данного проекта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- определение темы, целей, задач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2. Планирование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- проведение и исследование по теме «развитие олимпийского движения…»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3. Выполнение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уточнение плана деятельности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поиск информации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обсуждение полученных результатов исследований группы с учителем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подготовка к творческому отчету – презентация проекта (создание слайдов с кратким содержанием и иллюстрациями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4. Оценивание работ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за инициативность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за исследование информации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работа по созданию рефератов и их оформление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работа по созданию слайдов и их оформлени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обобщить и проконтролировать общие знания по теме «история олимпийских игр»; способствовать развитию творческих способностей учащихся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3300"/>
                </a:solidFill>
                <a:uFillTx/>
                <a:latin typeface="Verdana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Verdana"/>
              </a:rPr>
              <a:t>- познакомить учащихся с историей возникновения и развитие олимпийских игр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Verdana"/>
              </a:rPr>
              <a:t>- расширить кругозор учащихс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Verdana"/>
              </a:rPr>
              <a:t>- развивать умение делать обобщение и анализ полученной информации, представлять ее кратко и лаконично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Verdana"/>
              </a:rPr>
              <a:t>- учить детей согласовывать свои действия с действиями товарищей на основе дружеских взаимоотношений и чувства товарищества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ff00"/>
                </a:solidFill>
                <a:latin typeface="Verdana"/>
              </a:rPr>
              <a:t>развивать и формировать умение и навыки работы с компьютером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Verdana"/>
              </a:rPr>
              <a:t>- привлечь внимание учащихся к спорту, привить любовь к физическим упражнениям и здоровому образу жизн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Предислов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916280"/>
            <a:ext cx="7386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</a:rPr>
              <a:t>…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</a:rPr>
              <a:t>Пытливой человеческой натуре свойственно обращаться к корням своим. Люди постоянно задаются вопросами: «А что было прежде? Почему вдруг завоевал всемирное признание спорт высших достижений? Ради чего люди остановили свое внимание на деятельности, при которой не производится никаких материальных благ?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</a:rPr>
              <a:t>Несмотря на это, физическую культуру и спорт человек бережно хранил и пронес через века и страны вместе с изобретением колеса и топора, вместе с достижениями культуры, образованием и науко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</a:rPr>
              <a:t>Чтобы ответить на эти вопросы, придется пройти по всем этапам истории развития общества.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КУЛЬТ, ИГРА, НАВЫ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оникая в глубь времён, пытаясь понять, как зародилось, из чего возникло то или иное общественное явление, учёные как к первоисточникам прежде всего обращаются к археологическим раскопкам, древним текстам, фольклору. Наскальные рисунки, найденные в Африке — в Атласских горах (Танзания) — и относящиеся к эпохе неолита, поражают художественностью изображения древних бегунов, пловцов, прыгунов, танцоров и даже боксёров. А на одной из скал в Ливийской пустыне представлены гимнасты, выполняющие сальто. Причём первобытный художник обозначил пунктиром даже траекторию их полёта. Возможно, это самые первые наглядные пособия в истории спорта. Из многочисленных теорий возникновения физической культуры и спорта чаще всего упоминаются три: культовая, игровая и трудовая. По мнению исследователей Древнего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551560" y="2031840"/>
            <a:ext cx="2233440" cy="366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КУЛЬТ, ИГРА, НАВЫ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2920" y="1341360"/>
            <a:ext cx="403884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мира Ф. Рейнака, К. Дима, В. Кербса, физические упражнения в те далёкие времена служили своеобразным «аккомпанементом» широко распространённым тогда магическим действиям. В раннем неолите 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VII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—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II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тысячелетия до н. э.) люди, беззащитные перед грозными силами природы, пытались как-то умилостивить их с помощью различных обрядов (например, жертвоприношения, магические действия). Ритуальные процедуры должны были обеспечить победу в предстоящей битве, успех в охоте, хороший урожай. Использовались они и при инициациях — посвящении юношей и девушек во взрослых мужчин и женщин. Ритмичные танцы под барабан вокруг костров и игрища отдалённо напоминают современные фитнес и аэробику. Среди ритуальных движений встречались и необходимые в практической жизни. Метание копья либо стрельба из лука в нарисованное на скале или земле животное развивали глазомер, вырабатывали точность движений руки, меткость и вооружали человека навыками, нужными для успешной охоты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60320" y="1630440"/>
            <a:ext cx="3598920" cy="4464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13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В ПЕРВОБЫТНОМ ОБЩЕСТВ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На самых ранних этапах развития человечества борьба за существование диктовала свои законы. Физическая сила и ловкость на охоте или на войне да и при распределении добычи играли главную роль. Успех охоты прежде всего зависел от уны в Австралии и по сей день сохра­нили как метод охоты преследование антилопы или кенгуру бегом — пока животное не устанет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Физическая форма поддерживалась, кроме того, и тренировками. Австралийские аборигены постоянно упражнялись в стрельбе из лука и метании бумеранга, соревновались в беге и прыжках, играли в некое подобие мяча. У индейских племён Америки пользовались популярностью бросание мяча в цель, бег на дальние расстояния, поднятие тяжестей — камней различного веса. Среди ацтеков, майя, инков получила распространение групповая игра с каучуковым мячом, в которой каждая команда стремилась забросить мяч в кольцо, прикреплённое к столбу или стене. Чем не прародитель современного баскетбола! Первобытные племена Африки в физическом воспитании детей применяли фехтование на палках, борьбу, бег с грузом, раскачивание на лианах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4645080" y="2835360"/>
            <a:ext cx="4041720" cy="20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В ГОСУДАРСТВАХ ДРЕВНЕГО МИР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0" y="1412640"/>
            <a:ext cx="403848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Следы физической культуры и спорта были обнаружены в ранних государствах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(IV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—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III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тысячелетия до н. э.). Ритуальные соревнования в честь бога Мардука, покровителя Вавилона, более чем на тысячу лет предварили древнегреческие Олимпиады. В эти соревнования входили стрельба из лука, борьба на поясах, фехтование на мечах, кулачный бой, скачки в седле, гонки на колесницах, метание копья и охота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 Индии и Персии в древности были широко распространены охота, верховая езда, фехтование на мечах, гонки на колесницах, стрельба из лука, игры с мячом и палкой. В Индии возникли конное поло, шахматы, хоккей на траве и другие игры. В Персии появились школы, где детей обучали верховой езде, метанию дротиков, стрельбе из лука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На клинописных табличках, на стенах древнеегипетских пирамид учёные обнаружили изображения более 400 видов физических упражнений и игр. Среди них борьба, соревнования лучников, плавание, гребля, гонки на колесницах и др. В Древнем Египте в специальных помещениях устраивались соревнования по бегу, прыжкам и метаниям, поднятию тяжестей, борьбе и кулачному бою, фехтованию, а также различные спортивные игры. В погребальных надписях фараоны прославляли свою физическую подготовку и спортивные достижения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826920" y="1846440"/>
            <a:ext cx="3240360" cy="4030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7T07:04:06Z</dcterms:created>
  <dc:creator>User</dc:creator>
  <dc:description/>
  <dc:language>en-US</dc:language>
  <cp:lastModifiedBy>user</cp:lastModifiedBy>
  <dcterms:modified xsi:type="dcterms:W3CDTF">2008-04-11T07:55:31Z</dcterms:modified>
  <cp:revision>8</cp:revision>
  <dc:subject/>
  <dc:title>Олимпийские игры</dc:title>
</cp:coreProperties>
</file>