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E878-9D29-41D0-90A8-D1B25E18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DD1A-5249-40C9-B6A9-FD1BC919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000E-6BEF-43A6-9684-5E9A1C9F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D69-9876-4098-8BE0-542438D7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2C6-5D9A-4F3F-BAAC-5B62B569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625-5D7B-41F0-89D7-9EE7A6E9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DFD-8870-44C3-8EDB-E82196D3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2EC5-3DDC-4409-9DDA-AB56E993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848-034A-4264-AA92-844D3ADF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742-4170-4015-B8B6-A7502123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2AC7-A384-499B-A1C4-B23C79D5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8BAC-AE0D-4499-A938-17F25F46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4940-DF66-49F0-90DE-E6114AF677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твенные формы. Рецеп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.07. Фармаколог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34.02.01 Сестринское дел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: А.А. Кобз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ОП.07. Фармаколог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Борисоглеб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здравоохранения Воронежской области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ПОУ ВО «Борисоглебскмедколледж»</a:t>
            </a:r>
            <a:br>
              <a:rPr sz="1800"/>
            </a:br>
            <a:br>
              <a:rPr sz="36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7T18:43:43Z</dcterms:created>
  <dc:creator>user</dc:creator>
  <dc:description/>
  <dc:language>en-US</dc:language>
  <cp:lastModifiedBy>user</cp:lastModifiedBy>
  <dcterms:modified xsi:type="dcterms:W3CDTF">2018-06-27T18:44:24Z</dcterms:modified>
  <cp:revision>1</cp:revision>
  <dc:subject/>
  <dc:title>    Департамент здравоохранения Воронежской области  БПОУ ВО «Борисоглебскмедколледж»  </dc:title>
</cp:coreProperties>
</file>