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DE1-5488-45B2-A5D3-8DA2B5B7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FFD-711E-4AA0-ADEC-4F74A0C7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573-CD03-431F-8533-ECD0EBAB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A1A-ED1E-4E98-B6E6-31D4B426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1DC-BFBF-4E3C-B4B5-BC9DA191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FFA-42C7-4C9B-9F4A-041AEC38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CCF-785D-460F-B499-9AF4B039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F3B-3F1F-4C88-89A7-D7636FD2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D2B-8071-40B9-88A7-217CB1A6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230-C539-49A4-872B-FA4F75D2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1CD-4C98-4BEB-82CA-2FAC8E65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E12-335C-4EFE-802A-900D1031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A4CB-FA86-4BE1-B0AA-97A2B94EF1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ые формы. Рецеп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.07. Фармаколог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34.02.01 Сестринское дел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 А.А. Кобз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ОП.07. Фармаколо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Борисоглеб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здравоохранения Воронежской области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ПОУ ВО «Борисоглебскмедколледж»</a:t>
            </a:r>
            <a:br>
              <a:rPr sz="1800"/>
            </a:b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7T18:43:43Z</dcterms:created>
  <dc:creator>user</dc:creator>
  <dc:description/>
  <dc:language>en-US</dc:language>
  <cp:lastModifiedBy>user</cp:lastModifiedBy>
  <dcterms:modified xsi:type="dcterms:W3CDTF">2018-06-27T18:44:24Z</dcterms:modified>
  <cp:revision>1</cp:revision>
  <dc:subject/>
  <dc:title>    Департамент здравоохранения Воронежской области  БПОУ ВО «Борисоглебскмедколледж»  </dc:title>
</cp:coreProperties>
</file>