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F6F-2486-4C88-B84F-96D2F032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7E6-F77C-455E-8C2C-171D30D1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917-1956-43AA-8E88-C930A1AA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777-CF05-47C4-B399-3FF4F486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2A4-C853-44CA-B26B-DCDF1F35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ADC-C5E2-470D-8C8A-FAE0B064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D91-190C-42EE-AE4C-A0D5F556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A05-6AD0-4549-8065-D33D46F8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DAD-EACB-4A20-B776-4396D217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E33-A03C-47CB-82EA-8216E92F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A8D-BE85-4E1F-9DB2-61057A3A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0D6-A201-4E55-BE58-C82AD0DF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BEBB-D1B6-4707-8A9D-6F10744E0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«Детский сад общеразвивающего вида№54 г. Киров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755640" y="1268280"/>
            <a:ext cx="7416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latin typeface="Tahoma"/>
              </a:rPr>
              <a:t>ИГРОВОЕ РАЗВИВАЮЩЕЕ ПРОСТРАНСТВО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latin typeface="Tahoma"/>
              </a:rPr>
              <a:t>КАК СРЕДСТВО  ФОРМИРОВАНИЯ 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latin typeface="Tahoma"/>
              </a:rPr>
              <a:t>ДОБРОЖЕЛАТЕЛЬНЫХ ОТНОШЕНИЙ  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latin typeface="Tahoma"/>
              </a:rPr>
              <a:t>ДРУГ К ДРУГУ У ДЕТЕЙ 3-4 ЛЕТ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latin typeface="Tahoma"/>
              <a:ea typeface="Tahom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24000" y="4724280"/>
            <a:ext cx="8642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Творческая группа «Звёздочк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аничева Ирина Алексеевна,  зав. МБДОУ «Детский сад №54», 1 кв. кат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ролёва Анжелика Валерьевна, ст. воспитатель, 1 кв. кат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нова Надежда Анатольевна, восп. 2 мл. гр., 1 кв. 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rnd" w="9360">
            <a:solidFill>
              <a:srgbClr val="66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slgg2006"/>
          <p:cNvPicPr/>
          <p:nvPr/>
        </p:nvPicPr>
        <p:blipFill>
          <a:blip r:embed="rId1"/>
          <a:stretch/>
        </p:blipFill>
        <p:spPr>
          <a:xfrm>
            <a:off x="324000" y="243000"/>
            <a:ext cx="8820000" cy="6615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468360" y="333360"/>
            <a:ext cx="801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Игровая развивающая среда нашего МБ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расширяет кругозор малыш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удовлетворяет  их потре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формирует необходимые компетенции и качества лич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учит выстраивать дружеские отношения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4800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900000" y="404640"/>
            <a:ext cx="374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Актуальность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50920" y="972000"/>
            <a:ext cx="84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Развитие ребенка во многом зависит от того, как устроена предметно - пространственная организация его жизни, из каких игрушек и дидактических пособий она состоит; каков их развивающий потенциал и даже от того, как они располож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9280" y="5661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се,   что   окружает ребенка, формирует его психику,  является источником его знаний и социаль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18"/>
          <p:cNvPicPr/>
          <p:nvPr/>
        </p:nvPicPr>
        <p:blipFill>
          <a:blip r:embed="rId2"/>
          <a:stretch/>
        </p:blipFill>
        <p:spPr>
          <a:xfrm>
            <a:off x="395280" y="2637000"/>
            <a:ext cx="4175280" cy="28875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50" name="Picture 11" descr="5"/>
          <p:cNvPicPr/>
          <p:nvPr/>
        </p:nvPicPr>
        <p:blipFill>
          <a:blip r:embed="rId3"/>
          <a:stretch/>
        </p:blipFill>
        <p:spPr>
          <a:xfrm>
            <a:off x="4643280" y="2637000"/>
            <a:ext cx="3961080" cy="2916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24000" y="12682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Должно    включать в себя  материалы, оборудование и иг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пособные не только поддерживать оптимально насыщенну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целостную, многофункциональную  среду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и форм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этой среде предпосылки  для зарождения уважитель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ружеских   отношений   к    взрослым   и    сверстникам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611280" y="476280"/>
            <a:ext cx="803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гровое  развивающее пространство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978360" cy="29829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55" name="Picture 11" descr="P1010726"/>
          <p:cNvPicPr/>
          <p:nvPr/>
        </p:nvPicPr>
        <p:blipFill>
          <a:blip r:embed="rId3"/>
          <a:stretch/>
        </p:blipFill>
        <p:spPr>
          <a:xfrm>
            <a:off x="4643280" y="3068640"/>
            <a:ext cx="3980160" cy="29844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Информативности, предусматривающей разнообразие тематики материалов и оборудования,  активности детей во взаимодействии с предметным окружени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Вариативности, определяющейся содержанием воспитания, культурными и художественными традициями, климатогеографическими особенностя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Гибкого зонирования, который предполагает лёгкость трансформирования оборудования, полифункциональность его использ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Половых и индивидуальных различий, который помогает обеспечить в равной степени игровые интересы каждого ребё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Индивидуальной   комфортности   и эмоционального благополучия,   которые   обеспечивают создание пространства   для  самостоятельных и совместных игр, зарождения дружеских взаимо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250920" y="333360"/>
            <a:ext cx="849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ринципы создания игровой развивающей среды: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8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5545080" cy="4778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611280" y="549360"/>
            <a:ext cx="608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Тематические игровые зоны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2781360" cy="48247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395280" y="1197000"/>
            <a:ext cx="5402160" cy="475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rcRect l="0" t="-1963" r="-63" b="0"/>
          <a:stretch/>
        </p:blipFill>
        <p:spPr>
          <a:xfrm>
            <a:off x="324000" y="1197000"/>
            <a:ext cx="5688000" cy="4789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65" name="Picture 6" descr=""/>
          <p:cNvPicPr/>
          <p:nvPr/>
        </p:nvPicPr>
        <p:blipFill>
          <a:blip r:embed="rId6"/>
          <a:stretch/>
        </p:blipFill>
        <p:spPr>
          <a:xfrm>
            <a:off x="324000" y="1197000"/>
            <a:ext cx="5760720" cy="4896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Изображение 009"/>
          <p:cNvPicPr/>
          <p:nvPr/>
        </p:nvPicPr>
        <p:blipFill>
          <a:blip r:embed="rId2"/>
          <a:stretch/>
        </p:blipFill>
        <p:spPr>
          <a:xfrm>
            <a:off x="468360" y="1268280"/>
            <a:ext cx="7704000" cy="45259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68" name="Picture 8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68360" y="1197000"/>
            <a:ext cx="7778880" cy="51116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7777080" cy="511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7991280" cy="51325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71" name="WordArt 11"/>
          <p:cNvSpPr txBox="1"/>
          <p:nvPr/>
        </p:nvSpPr>
        <p:spPr>
          <a:xfrm>
            <a:off x="611280" y="333360"/>
            <a:ext cx="61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Развивающие игры: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5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P1010733"/>
          <p:cNvPicPr/>
          <p:nvPr/>
        </p:nvPicPr>
        <p:blipFill>
          <a:blip r:embed="rId2"/>
          <a:stretch/>
        </p:blipFill>
        <p:spPr>
          <a:xfrm>
            <a:off x="1042920" y="1197000"/>
            <a:ext cx="6697800" cy="50245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74" name="WordArt 9"/>
          <p:cNvSpPr txBox="1"/>
          <p:nvPr/>
        </p:nvSpPr>
        <p:spPr>
          <a:xfrm>
            <a:off x="755640" y="333360"/>
            <a:ext cx="490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грая, я учусь дружить..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75" name="Picture 13" descr="P1010738"/>
          <p:cNvPicPr/>
          <p:nvPr/>
        </p:nvPicPr>
        <p:blipFill>
          <a:blip r:embed="rId3"/>
          <a:stretch/>
        </p:blipFill>
        <p:spPr>
          <a:xfrm>
            <a:off x="1042920" y="1197000"/>
            <a:ext cx="7058160" cy="50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P1010741"/>
          <p:cNvPicPr/>
          <p:nvPr/>
        </p:nvPicPr>
        <p:blipFill>
          <a:blip r:embed="rId4"/>
          <a:stretch/>
        </p:blipFill>
        <p:spPr>
          <a:xfrm>
            <a:off x="1042920" y="1197000"/>
            <a:ext cx="7058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1010726"/>
          <p:cNvPicPr/>
          <p:nvPr/>
        </p:nvPicPr>
        <p:blipFill>
          <a:blip r:embed="rId2"/>
          <a:stretch/>
        </p:blipFill>
        <p:spPr>
          <a:xfrm>
            <a:off x="539640" y="1125360"/>
            <a:ext cx="7077240" cy="530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1010725"/>
          <p:cNvPicPr/>
          <p:nvPr/>
        </p:nvPicPr>
        <p:blipFill>
          <a:blip r:embed="rId3"/>
          <a:stretch/>
        </p:blipFill>
        <p:spPr>
          <a:xfrm>
            <a:off x="539640" y="1052640"/>
            <a:ext cx="7128000" cy="5344920"/>
          </a:xfrm>
          <a:prstGeom prst="rect">
            <a:avLst/>
          </a:prstGeom>
          <a:ln w="0">
            <a:noFill/>
          </a:ln>
        </p:spPr>
      </p:pic>
      <p:sp>
        <p:nvSpPr>
          <p:cNvPr id="80" name="WordArt 7"/>
          <p:cNvSpPr txBox="1"/>
          <p:nvPr/>
        </p:nvSpPr>
        <p:spPr>
          <a:xfrm>
            <a:off x="539640" y="404640"/>
            <a:ext cx="55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Вместе весело играть..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81" name="Picture 8" descr="P1010731"/>
          <p:cNvPicPr/>
          <p:nvPr/>
        </p:nvPicPr>
        <p:blipFill>
          <a:blip r:embed="rId4"/>
          <a:stretch/>
        </p:blipFill>
        <p:spPr>
          <a:xfrm>
            <a:off x="539640" y="105264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9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3384360" cy="27370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4" name="Picture 17" descr="P1010725"/>
          <p:cNvPicPr/>
          <p:nvPr/>
        </p:nvPicPr>
        <p:blipFill>
          <a:blip r:embed="rId3"/>
          <a:stretch/>
        </p:blipFill>
        <p:spPr>
          <a:xfrm>
            <a:off x="5148360" y="3645000"/>
            <a:ext cx="3671640" cy="29653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5" name="Picture 11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24000" y="907920"/>
            <a:ext cx="3456000" cy="2735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6" name="Picture 12" descr=""/>
          <p:cNvPicPr/>
          <p:nvPr/>
        </p:nvPicPr>
        <p:blipFill>
          <a:blip r:embed="rId5"/>
          <a:stretch/>
        </p:blipFill>
        <p:spPr>
          <a:xfrm>
            <a:off x="5148360" y="981000"/>
            <a:ext cx="3673440" cy="2654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7" name="Picture 13" descr=""/>
          <p:cNvPicPr/>
          <p:nvPr/>
        </p:nvPicPr>
        <p:blipFill>
          <a:blip r:embed="rId6"/>
          <a:stretch/>
        </p:blipFill>
        <p:spPr>
          <a:xfrm>
            <a:off x="324000" y="836640"/>
            <a:ext cx="8569080" cy="5688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8" name="Picture 14" descr=""/>
          <p:cNvPicPr/>
          <p:nvPr/>
        </p:nvPicPr>
        <p:blipFill>
          <a:blip r:embed="rId7"/>
          <a:stretch/>
        </p:blipFill>
        <p:spPr>
          <a:xfrm>
            <a:off x="324000" y="836640"/>
            <a:ext cx="8496000" cy="576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8"/>
          <a:stretch/>
        </p:blipFill>
        <p:spPr>
          <a:xfrm>
            <a:off x="324000" y="836640"/>
            <a:ext cx="8569080" cy="57610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90" name="WordArt 18"/>
          <p:cNvSpPr txBox="1"/>
          <p:nvPr/>
        </p:nvSpPr>
        <p:spPr>
          <a:xfrm>
            <a:off x="2268360" y="333360"/>
            <a:ext cx="406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гра по интересам: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5:38:41Z</dcterms:created>
  <dc:creator>МДОУ54</dc:creator>
  <dc:description/>
  <dc:language>en-US</dc:language>
  <cp:lastModifiedBy>МБДОУ №54</cp:lastModifiedBy>
  <dcterms:modified xsi:type="dcterms:W3CDTF">2018-06-27T09:47:22Z</dcterms:modified>
  <cp:revision>16</cp:revision>
  <dc:subject/>
  <dc:title>Слайд 1</dc:title>
</cp:coreProperties>
</file>