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6F1B-572A-4775-B154-9A49C1C36B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63BD-83CD-4D42-918F-6CCCF9A9B7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D7E8-E767-4620-B4AF-D2E4A0C6DF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CD0C-6A84-42E9-BAE1-38FD2CD9E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77E0-9F95-4988-B53A-4B67D5FFF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AC38-6458-4816-8C4D-F53D33EA7E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8D96-F96E-46A4-94E2-FE3846A12B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34D9-609D-4302-BAD4-2BA7FD05FE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CCEF-D45F-4171-A072-1175326932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4D4D-6D35-4D63-9390-624EA2808B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C85D-64B1-4802-B2EE-EBDDC4D6D5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8A5A-7693-47B1-8CA0-B5321A033F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35A7-BD27-49DD-8213-87011C279C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34D4-5809-40A3-B736-B87F757717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5D82-8DE6-4C19-93AD-91EC7375A8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4743-1790-461F-9242-D4007B5656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DEEF-3069-4213-85D6-2D129A0CC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031A-F7BB-4100-BE81-A6B6F4512C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EDA9-E064-4388-A91E-BF3B2A105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9557-11AB-4C53-BEDF-885A903DEC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9FD5-3161-4DBC-AD4E-BC45C10B00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E410-D8D4-477B-A1FD-CE415B019B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EBBE-46CB-4C7A-9863-756D227F1E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7934-A580-4456-938B-4075755283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4805-944A-4D13-A1D3-0C0F574E28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4AF7-B107-499F-BD22-08EA097589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0AA2-C52B-466F-A4BB-6AD14A441F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A6D-7452-4024-8AD4-0F43DB30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6F9-8484-40AD-9EB2-ACAE8DA0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0973-8BD0-4400-88D2-3C5D5197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AAE-90A9-4C8A-AF47-0F37AF4E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ECD5-CD41-45B5-B697-69A3CF57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DC87-BA1F-4FB3-86EE-1398C063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1D8D-ABF3-4960-A398-8B602214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3028-7630-49DB-9968-310DE06B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CE50-0F18-4C68-AAEC-9A5DD418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A4E0-FAD6-4C28-947B-8575FF3D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3FD3-87AE-45CD-AB18-97F08453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A84-BB20-4455-9A08-03DF180F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B669-DC79-463B-8C0C-8A2725E5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BD73-0271-46C5-B419-4A14D163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BF07-273D-4FFC-BCCE-42CE9E49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06C9-5816-447D-A9D2-A84CF5B1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CEB3-E0A7-4BF9-8BA4-97BD2C47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71E4-2A60-4829-B3AB-FD3F5F2C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B70-8ABF-4C4A-ACAE-A2C38F1D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57B-6A04-4308-98D2-E4D292D1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960-89BC-4314-BD4A-DC56A3C8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3D1D-2878-4A6F-BECC-20395EB7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F5E-FD5B-44B2-9FC6-3E5C984D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176-CE40-4B09-8E7E-68AB64A9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E9BB-419E-4F60-B649-3B35145565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BBFB-9126-4EA1-A8F7-5699A10F27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-396720" y="3429000"/>
            <a:ext cx="820872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Cкор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в школу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61" name="Picture 5" descr="доска"/>
          <p:cNvPicPr/>
          <p:nvPr/>
        </p:nvPicPr>
        <p:blipFill>
          <a:blip r:embed="rId1"/>
          <a:stretch/>
        </p:blipFill>
        <p:spPr>
          <a:xfrm flipH="1">
            <a:off x="5867280" y="260280"/>
            <a:ext cx="3083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Какой должна быть подготовка к школ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1342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Современные</a:t>
            </a: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 требования совершенно другие, чем несколько лет назад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То, что раньше изучали в 1 классе,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сегодня надо уметь еще до школы</a:t>
            </a: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 – читать, писать, считать, отвечать на умные вопро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640" y="33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Подготовка должна быть рассчитана именно на вашего ребенка, учитывать индивидуальные особенности его развит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-541440" y="2924280"/>
            <a:ext cx="3959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Желательна консультация специалис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11600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1403280" y="98100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5985000" y="2852640"/>
            <a:ext cx="315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ри любых занятиях избегайте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перегруз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2843280" y="2852640"/>
            <a:ext cx="3375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анятия дома должны быть систематическим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(не более 30 минут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9"/>
          <p:cNvSpPr/>
          <p:nvPr/>
        </p:nvSpPr>
        <p:spPr>
          <a:xfrm flipH="1">
            <a:off x="1763280" y="2349360"/>
            <a:ext cx="863640" cy="64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4284720" y="2349360"/>
            <a:ext cx="0" cy="57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11"/>
          <p:cNvSpPr/>
          <p:nvPr/>
        </p:nvSpPr>
        <p:spPr>
          <a:xfrm>
            <a:off x="6227640" y="2349360"/>
            <a:ext cx="1152720" cy="57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9640" y="333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оветы родителям от психолога Джеральдина Чейпи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сердечко"/>
          <p:cNvPicPr/>
          <p:nvPr/>
        </p:nvPicPr>
        <p:blipFill>
          <a:blip r:embed="rId1"/>
          <a:stretch/>
        </p:blipFill>
        <p:spPr>
          <a:xfrm>
            <a:off x="324000" y="1125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сердечко"/>
          <p:cNvPicPr/>
          <p:nvPr/>
        </p:nvPicPr>
        <p:blipFill>
          <a:blip r:embed="rId2"/>
          <a:stretch/>
        </p:blipFill>
        <p:spPr>
          <a:xfrm>
            <a:off x="7740720" y="22050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сердечко"/>
          <p:cNvPicPr/>
          <p:nvPr/>
        </p:nvPicPr>
        <p:blipFill>
          <a:blip r:embed="rId3"/>
          <a:stretch/>
        </p:blipFill>
        <p:spPr>
          <a:xfrm>
            <a:off x="1979640" y="57340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сердечко"/>
          <p:cNvPicPr/>
          <p:nvPr/>
        </p:nvPicPr>
        <p:blipFill>
          <a:blip r:embed="rId4"/>
          <a:stretch/>
        </p:blipFill>
        <p:spPr>
          <a:xfrm>
            <a:off x="7667640" y="5589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1"/>
          <p:cNvPicPr/>
          <p:nvPr/>
        </p:nvPicPr>
        <p:blipFill>
          <a:blip r:embed="rId5"/>
          <a:stretch/>
        </p:blipFill>
        <p:spPr>
          <a:xfrm>
            <a:off x="0" y="2060640"/>
            <a:ext cx="1263600" cy="1341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10"/>
          <p:cNvSpPr/>
          <p:nvPr/>
        </p:nvSpPr>
        <p:spPr>
          <a:xfrm>
            <a:off x="1835280" y="1916280"/>
            <a:ext cx="6265800" cy="4681440"/>
          </a:xfrm>
          <a:prstGeom prst="cloudCallout">
            <a:avLst>
              <a:gd name="adj1" fmla="val -58055"/>
              <a:gd name="adj2" fmla="val -2300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ни помогут наладить и сохранить добрые отношения с вашим ребенком, быть с ним настоящими друзь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28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Делать или не делать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елайт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адуйтесь своему малыш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азговаривайте с ребенком заботливым, успокаивающим, ободряющим тон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Когда ребенок с вами разговаривает, слушайте его сочувственно и вниматель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696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Установите четкие и жесткие требования к ребен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Будьте терпелив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йте в ребенке стремление задавать вопро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скупитесь на награду: похвалу или поцелу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йте любопытство и воображение вашего ребе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йте игры с другими деть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918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йтесь, чтобы малыш принимал участие в ваших делах: готовил обед, пересаживал цветы и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могите ребенку выучить его полное имя, фамилию, адре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егулярно водите ребенка в библиоте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Будьте примером для малыша: пусть он видит, какое удовольствие вы получаете от чтения газет, журналов, книг. Играйте с ребенком в разны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Не делайт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перебивайте ребенка, не говорите, что вы все поняли, не отворачивайтесь, пока ребенок не закончит свой расска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принуждайте ребенка делать то, к чему он не го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заставляйте ребенка делать что-нибудь, если он вертится, устал; займитесь чем – то други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696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требуйте сразу слишком много: пройдет немало времени, прежде чем малыш приучится самостоятельно убирать свои игрушки или приводить в порядок комнат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икогда не критикуйте ребенка в присутствии посторонни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надо устанавливать для ребенка слишком много правил: он перестанет обращать на вас вним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перестарайтесь, доставляя ребенку слишком много стимулов или впечатл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сравнивайте вашего ребенка ни с какими другими деть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696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 теперь проверьте себ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ест  для родит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Выберите один из трех ответов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чти всегд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ногд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иког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4"/>
          <p:cNvSpPr/>
          <p:nvPr/>
        </p:nvSpPr>
        <p:spPr>
          <a:xfrm rot="19929000">
            <a:off x="477720" y="-1146240"/>
            <a:ext cx="7962840" cy="8958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798984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венит звонок нам десять лет подря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го услышав, люди улыбаются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 расцветают лица у ребя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ришла пора - уроки начинаю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4897440" cy="2001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будильник"/>
          <p:cNvPicPr/>
          <p:nvPr/>
        </p:nvPicPr>
        <p:blipFill>
          <a:blip r:embed="rId2"/>
          <a:stretch/>
        </p:blipFill>
        <p:spPr>
          <a:xfrm>
            <a:off x="2195640" y="189000"/>
            <a:ext cx="1593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9898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равится ли вам ваш малыш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лушаете ли вы, что ребенок говори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создать у ребенка ощущение значимости того, что он говори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правляете ли вы речь ребен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зволяете ли вы ребенку совершать ошибк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691920"/>
            <a:ext cx="81342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Хвалите ли вы малыша, обнимаете ли ег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меетесь ли вместе с малыш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Отводите ли вы каждый время для чтения ребенку и для бесед с ни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граете ли вы с малышом в какие – либо игр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ете ли вы ребенка в его интересах и увлечениях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9185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сть ли у ребенка дома месть, которое отведено только 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подать ребенку пример, читая газеты, журналы и книг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Обсуждаете ли вы что-нибудь интересное из прочитанного вами с семьей и с ребенк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сказать все за малыша, прежде чем он успеет раскрыть рот: у зубного врача или в магазин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475920"/>
            <a:ext cx="80629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мотрите ли вы телевизор вместе с ребенк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адаете ли вы малышу вопросы о просмотренном по телевизор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Ограничиваете ли вы возможность ребенка смотреть телевизор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сть ли у ребенка возможность проявлять свои эмоции в рамках общепринятого поведения («возиться» в играх, обнимать, тискать мягкие игрушки и т.п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выезжать с ребенком на прогулки в лес, на озеро и т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Ходите ли вы вместе с ребенком в музей, театр и т.д.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сть ли у ребенка собственные книг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620640"/>
            <a:ext cx="7696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Подсчет балло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а каждый отв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«почти всегда» 4 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балл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«иногда» - 2 балл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«никогда»  - 0 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Полученные балы сложи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9898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люч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88 баллов – здорово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44 балла – неплохо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Меньше 22 баллов – стоит задумать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ff0000"/>
                </a:solidFill>
                <a:uFillTx/>
                <a:latin typeface="Comic Sans MS"/>
              </a:rPr>
              <a:t>Проблема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Comic Sans MS"/>
              </a:rPr>
              <a:t>Готов ли ребенок к новому этапу своей жизни: к обучению в школе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4"/>
          <p:cNvSpPr/>
          <p:nvPr/>
        </p:nvSpPr>
        <p:spPr>
          <a:xfrm rot="10800000">
            <a:off x="394920" y="1483560"/>
            <a:ext cx="8280360" cy="3529080"/>
          </a:xfrm>
          <a:prstGeom prst="upArrowCallout">
            <a:avLst>
              <a:gd name="adj1" fmla="val -50878"/>
              <a:gd name="adj2" fmla="val 58658"/>
              <a:gd name="adj3" fmla="val 1666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072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ожно ли быть уверенным, чт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Читающ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нающий названия всех контин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нающий марки всех машин и т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5" descr="ученик"/>
          <p:cNvPicPr/>
          <p:nvPr/>
        </p:nvPicPr>
        <p:blipFill>
          <a:blip r:embed="rId1"/>
          <a:stretch/>
        </p:blipFill>
        <p:spPr>
          <a:xfrm flipH="1">
            <a:off x="6948000" y="3933720"/>
            <a:ext cx="1003320" cy="1728720"/>
          </a:xfrm>
          <a:prstGeom prst="rect">
            <a:avLst/>
          </a:prstGeom>
          <a:ln w="0">
            <a:noFill/>
          </a:ln>
        </p:spPr>
      </p:pic>
      <p:sp>
        <p:nvSpPr>
          <p:cNvPr id="173" name="WordArt 6"/>
          <p:cNvSpPr txBox="1"/>
          <p:nvPr/>
        </p:nvSpPr>
        <p:spPr>
          <a:xfrm>
            <a:off x="1908000" y="537372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Успешный уче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74" name="WordArt 7"/>
          <p:cNvSpPr txBox="1"/>
          <p:nvPr/>
        </p:nvSpPr>
        <p:spPr>
          <a:xfrm>
            <a:off x="2411280" y="2708280"/>
            <a:ext cx="4897440" cy="26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ЕТ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918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спехи в учебе завися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От желания и умения учить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Умения видеть связь явлений, закономерн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От желания разобраться, понять, почему, как, отчего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А также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Ребенок должен понимать роль учен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Подчиняться общим школьным требованиям и требованиям учител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549360"/>
            <a:ext cx="78422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ебенок должен уметь сосредотачиваться на достаточно продолжительное врем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Удерживать внимание, не отвлекать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лушать учителя, уметь высидеть целый ур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аходить общий язык с одноклассник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ef66"/>
                </a:solidFill>
                <a:latin typeface="Comic Sans MS"/>
              </a:rPr>
              <a:t>Только в этом случае можно говорить о готовности будущего ребенка к школ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«Адаптация» -термин ввел А.Уберт (немецкий психолог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«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da</a:t>
            </a: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р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tatio</a:t>
            </a: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» - прилаживание, приспособление, приноров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2:19:56Z</dcterms:created>
  <dc:creator>OEM</dc:creator>
  <dc:description/>
  <dc:language>en-US</dc:language>
  <cp:lastModifiedBy>Ольга Борисовна</cp:lastModifiedBy>
  <dcterms:modified xsi:type="dcterms:W3CDTF">2015-05-25T10:35:46Z</dcterms:modified>
  <cp:revision>37</cp:revision>
  <dc:subject/>
  <dc:title>Слайд 1</dc:title>
</cp:coreProperties>
</file>