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9B9-5F0A-4D3F-8EFE-935F8EE41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0468-2DC4-4931-A140-B26F70FB9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F0D1-2453-403B-8E00-1F163DF58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0514-23A6-46D2-8BF2-2FCD3211C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9249-0F67-4F7E-B4AA-85548BFAE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E472-C7FE-445D-ACE6-13BA2CB3C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130C-A6A2-407A-AC49-2EA1E93FD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E2F-B923-4E18-89D2-1395C8B50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8CE-A719-48DF-96D0-B6FACA95E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0CB-AA80-49D5-85F1-04A783B74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725D-35C9-4899-AD3B-789B2EB67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97F-0416-4D33-8B88-816C29EA5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65FD-D8AB-4FF0-83BD-DBB9FE1B3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506-A34C-4214-946F-A63FA41FC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B434-4FA1-45E5-8EC4-B9AD9E107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E29C-AC76-4F4D-AC5F-1AEE8306A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90E7-5596-4639-956E-7492A6CE9C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AEA9-482A-4CCA-BBB2-16A53DC1E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F287-ADC0-47E6-9E37-50900B42F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10A4-1E56-42A1-9F4A-5887A56152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21CE-A02E-4A70-9B24-1C57027B5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77E3-971A-4D3F-BF1D-BFA5648DB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DC4C-55E1-47E7-9F22-510745FDA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B4BA-03DF-4195-B915-C837161A7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3AC-0C74-4ED1-844A-7938EEDE7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03C-0A6C-4011-968C-C61E5138E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5C0C-CEAE-4C34-B3F1-8A43F0C5A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41A-022C-40E1-AC73-FA41AFE5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384-B5F4-4807-A304-7AC6148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5F6-6205-4005-B5DE-C3F182FB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EF3-A772-4F7B-B8EA-60325CFF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E025-D0E8-4AF3-9855-51AC9144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AA94-FE1A-49DB-B090-2F388FA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413-3C68-4F59-8B56-0D17095F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7FB7-89AD-483B-9F5A-82EAF5D1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ED8A-211B-48B9-866F-F15943EA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AEDB-3D12-4EA8-B641-11F1408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E4F-3690-4576-8219-16D9C22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92C-6979-454F-B588-7C012E19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8D3-1DAC-46F2-9667-730EBF8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1327-A24F-4093-9E75-D03C1F5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911D-14F1-40E3-92FA-D4176697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453A-EDF9-4394-80A1-2681D009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EE3F-1DFF-4263-9284-53E5FB48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C6A-972B-4D93-8FED-DFBCB6E7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171-B496-4D2F-8103-4480BE1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1C2-1F0F-4FDE-9B17-8DC1F88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850-132E-454A-AAB5-5C8C0D3F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039-5908-44C4-90BC-3E79624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54A-27F4-48BD-86B6-8DCF0801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7E9-D3B3-457F-8C97-D6FC10F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FE9-B4C1-4BAC-A0A8-E8D4282AA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230-CEAC-4707-866E-82669A1F7D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-396720" y="3429000"/>
            <a:ext cx="820872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Cко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школу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61" name="Picture 5" descr="доска"/>
          <p:cNvPicPr/>
          <p:nvPr/>
        </p:nvPicPr>
        <p:blipFill>
          <a:blip r:embed="rId1"/>
          <a:stretch/>
        </p:blipFill>
        <p:spPr>
          <a:xfrm flipH="1">
            <a:off x="5867280" y="260280"/>
            <a:ext cx="308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Какой должна быть подготовка к школ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Современные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требования совершенно другие, чем несколько лет назад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То, что раньше изучали в 1 классе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сегодня надо уметь еще до школы</a:t>
            </a: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– читать, писать, считать, отвечать на умны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Подготовка должна быть рассчитана именно на вашего ребенка, учитывать индивидуальные особенности его разви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541440" y="2924280"/>
            <a:ext cx="395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Желательна консультация специалис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11600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403280" y="9810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5985000" y="2852640"/>
            <a:ext cx="31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 любых занятиях избегайте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ерегруз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2843280" y="2852640"/>
            <a:ext cx="3375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нятия дома должны быть систематическим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(не более 30 мину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9"/>
          <p:cNvSpPr/>
          <p:nvPr/>
        </p:nvSpPr>
        <p:spPr>
          <a:xfrm flipH="1">
            <a:off x="1763280" y="2349360"/>
            <a:ext cx="863640" cy="64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4284720" y="2349360"/>
            <a:ext cx="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6227640" y="2349360"/>
            <a:ext cx="1152720" cy="5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333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веты родителям от психолога Джеральдина Чейп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сердечко"/>
          <p:cNvPicPr/>
          <p:nvPr/>
        </p:nvPicPr>
        <p:blipFill>
          <a:blip r:embed="rId1"/>
          <a:stretch/>
        </p:blipFill>
        <p:spPr>
          <a:xfrm>
            <a:off x="324000" y="112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сердечко"/>
          <p:cNvPicPr/>
          <p:nvPr/>
        </p:nvPicPr>
        <p:blipFill>
          <a:blip r:embed="rId2"/>
          <a:stretch/>
        </p:blipFill>
        <p:spPr>
          <a:xfrm>
            <a:off x="7740720" y="220500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сердечко"/>
          <p:cNvPicPr/>
          <p:nvPr/>
        </p:nvPicPr>
        <p:blipFill>
          <a:blip r:embed="rId3"/>
          <a:stretch/>
        </p:blipFill>
        <p:spPr>
          <a:xfrm>
            <a:off x="1979640" y="57340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сердечко"/>
          <p:cNvPicPr/>
          <p:nvPr/>
        </p:nvPicPr>
        <p:blipFill>
          <a:blip r:embed="rId4"/>
          <a:stretch/>
        </p:blipFill>
        <p:spPr>
          <a:xfrm>
            <a:off x="7667640" y="558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1"/>
          <p:cNvPicPr/>
          <p:nvPr/>
        </p:nvPicPr>
        <p:blipFill>
          <a:blip r:embed="rId5"/>
          <a:stretch/>
        </p:blipFill>
        <p:spPr>
          <a:xfrm>
            <a:off x="0" y="2060640"/>
            <a:ext cx="1263600" cy="1341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0"/>
          <p:cNvSpPr/>
          <p:nvPr/>
        </p:nvSpPr>
        <p:spPr>
          <a:xfrm>
            <a:off x="1835280" y="1916280"/>
            <a:ext cx="6265800" cy="4681440"/>
          </a:xfrm>
          <a:prstGeom prst="cloudCallout">
            <a:avLst>
              <a:gd name="adj1" fmla="val -58055"/>
              <a:gd name="adj2" fmla="val -2300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ни помогут наладить и сохранить добрые отношения с вашим ребенком, быть с ним настоящими друзь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Делать или не дел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ел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дуйтесь своему малыш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азговаривайте с ребенком заботливым, успокаивающим, ободряющим тон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Когда ребенок с вами разговаривает, слушайте его сочувственно и вниматель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696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становите четкие и жесткие требования к ребен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терпелив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в ребенке стремление задавать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купитесь на награду: похвалу или поцелу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любопытство и воображение вашего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йте игры с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918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йтесь, чтобы малыш принимал участие в ваших делах: готовил обед, пересаживал цветы и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могите ребенку выучить его полное имя, фамилию, адр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гулярно водите ребенка в библиоте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Будьте примером для малыша: пусть он видит, какое удовольствие вы получаете от чтения газет, журналов, книг. Играйте с ребенком в разн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Не делайт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бивайте ребенка, не говорите, что вы все поняли, не отворачивайтесь, пока ребенок не закончит свой расск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ринуждайте ребенка делать то, к чему он не го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заставляйте ребенка делать что-нибудь, если он вертится, устал; займитесь чем – то друг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требуйте сразу слишком много: пройдет немало времени, прежде чем малыш приучится самостоятельно убирать свои игрушки или приводить в порядок комна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 не критикуйте ребенка в присутствии посторонни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надо устанавливать для ребенка слишком много правил: он перестанет обращать на вас вним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перестарайтесь, доставляя ребенку слишком много стимулов или впечатл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е сравнивайте вашего ребенка ни с какими другими деть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696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А теперь проверьте себ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ст  для родит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Выберите один из трех ответов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чти все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ногд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4"/>
          <p:cNvSpPr/>
          <p:nvPr/>
        </p:nvSpPr>
        <p:spPr>
          <a:xfrm rot="19929000">
            <a:off x="477720" y="-1146240"/>
            <a:ext cx="7962840" cy="895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798984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венит звонок нам десять лет под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го услышав, люди улыбаютс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 расцветают лица у ребя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ришла пора - уроки начинаю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4897440" cy="200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будильник"/>
          <p:cNvPicPr/>
          <p:nvPr/>
        </p:nvPicPr>
        <p:blipFill>
          <a:blip r:embed="rId2"/>
          <a:stretch/>
        </p:blipFill>
        <p:spPr>
          <a:xfrm>
            <a:off x="2195640" y="189000"/>
            <a:ext cx="159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476280"/>
            <a:ext cx="79898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равится ли вам ваш малыш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ете ли вы, что ребенок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оздать у ребенка ощущение значимости того, что он говори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правляете ли вы речь ребен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зволяете ли вы ребенку совершать ошибк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691920"/>
            <a:ext cx="8134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валите ли вы малыша, обнимаете ли ег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еетесь ли вместе с малыш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тводите ли вы каждый время для чтения ребенку и для бесед с ни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граете ли вы с малышом в какие – либо игр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Поощряете ли вы ребенка в его интересах и увлечения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9185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дома месть, которое отведено только 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подать ребенку пример, читая газеты, журналы и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бсуждаете ли вы что-нибудь интересное из прочитанного вами с семьей и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сказать все за малыша, прежде чем он успеет раскрыть рот: у зубного врача или в мага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4759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мотрите ли вы телевизор вместе с ребен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даете ли вы малышу вопросы о просмотренном по телевизор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Ограничиваете ли вы возможность ребенка смотреть телевизор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возможность проявлять свои эмоции в рамках общепринятого поведения («возиться» в играх, обнимать, тискать мягкие игрушки и т.п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тараетесь ли вы выезжать с ребенком на прогулки в лес, на озеро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Ходите ли вы вместе с ребенком в музей, театр и т.д.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Есть ли у ребенка собственные книг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696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одсчет балл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а каждый отв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«почти всегда» 4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иногда» - 2 бал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«никогда»  - 0 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лученные балы сложи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9898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люч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88 баллов – здорово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44 балла – неплохо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Меньше 22 баллов – стоит задума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ff0000"/>
                </a:solidFill>
                <a:uFillTx/>
                <a:latin typeface="Comic Sans MS"/>
              </a:rPr>
              <a:t>Проблем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Готов ли ребенок к новому этапу своей жизни: к обучению в школе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/>
          <p:cNvSpPr/>
          <p:nvPr/>
        </p:nvSpPr>
        <p:spPr>
          <a:xfrm rot="10800000">
            <a:off x="394920" y="1483560"/>
            <a:ext cx="8280360" cy="3529080"/>
          </a:xfrm>
          <a:prstGeom prst="upArrowCallout">
            <a:avLst>
              <a:gd name="adj1" fmla="val -50878"/>
              <a:gd name="adj2" fmla="val 58658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072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жно ли быть уверенным, чт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Читающ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названия всех контин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Знающий марки всех машин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ученик"/>
          <p:cNvPicPr/>
          <p:nvPr/>
        </p:nvPicPr>
        <p:blipFill>
          <a:blip r:embed="rId1"/>
          <a:stretch/>
        </p:blipFill>
        <p:spPr>
          <a:xfrm flipH="1">
            <a:off x="6948000" y="393372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1908000" y="5373720"/>
            <a:ext cx="583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спешный 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2411280" y="2708280"/>
            <a:ext cx="4897440" cy="26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18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спехи в учебе завися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и умения учить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Умения видеть связь явлений, закономерно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От желания разобраться, понять, почему, как, отчего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 также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бенок должен понимать роль учен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Подчиняться общим школьным требованиям и требованиям учител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7842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Ребенок должен уметь сосредотачиваться на достаточно продолжительное врем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Удерживать внимание, не отвлек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Слушать учителя, уметь высидеть целый ур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Находить общий язык с одноклассни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f66"/>
                </a:solidFill>
                <a:latin typeface="Comic Sans MS"/>
              </a:rPr>
              <a:t>Только в этом случае можно говорить о готовности будущего ребенка к школ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Адаптация» -термин ввел А.Уберт (немецкий психолог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da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р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tatio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» - прилаживание, приспособление, приноров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2:19:56Z</dcterms:created>
  <dc:creator>OEM</dc:creator>
  <dc:description/>
  <dc:language>en-US</dc:language>
  <cp:lastModifiedBy>Ольга Борисовна</cp:lastModifiedBy>
  <dcterms:modified xsi:type="dcterms:W3CDTF">2015-05-25T10:35:46Z</dcterms:modified>
  <cp:revision>37</cp:revision>
  <dc:subject/>
  <dc:title>Слайд 1</dc:title>
</cp:coreProperties>
</file>