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C24-FB31-4CC2-8BCD-4FC8EA78A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14E8-BF45-48F3-AA92-8BF27426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865-3F87-458F-90B1-3F056B50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B887-FF9E-4C39-866B-E69941CE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578D-2B58-438F-8758-9127899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8C28-BFBA-431D-B188-604193D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CFBE4-892C-4A4C-9E76-37A49FA7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E416-ED84-4F21-AC12-8A9EDFE7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2BD9E-69A9-4750-8EF8-9895098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E2DE9-7173-42CA-8E53-A970BCC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C9E-3CB8-44E2-86C7-8FF14457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C4D2-54E1-4505-A396-A5C28C2F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B5707-9A51-4BAB-9485-FC883D0D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C2E-D26C-4AFB-8F54-D369C37E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2265-32FE-40E4-8A5B-FBD19CC2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CF69-813F-4A9B-9EC1-83D14FE4C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790D-2EB1-450E-BC16-194F50B1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4C54-8AFD-42F4-B68E-73C50CB60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C15-B100-4815-89BE-D5594331C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E53C-FA08-4D40-9C6E-2691C61A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F663-648B-4BE3-BBF0-A4B914B5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1AE-EE2D-4343-8024-A9E519949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72BB-D44C-43CF-B7A5-1435AAF3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567F-3AF3-41DA-8AA3-C0AB1454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3C3-0635-49B4-94A9-0AE7E1ECC1E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3239-8ECF-4FEF-9C0E-D00F0E3A4A2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57240" y="3276720"/>
            <a:ext cx="51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Подготовила студентк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1 курса 2 групп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Медведева Наталь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762120"/>
            <a:ext cx="4010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пые и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7920" y="1828800"/>
            <a:ext cx="59817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абовидящие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895480"/>
            <a:ext cx="7943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99"/>
                </a:solidFill>
                <a:latin typeface="Garamond"/>
              </a:rPr>
              <a:t>Слепые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Verdana"/>
              </a:rPr>
              <a:t>Слепорож-денны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 сохраняются зрительные образ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876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Ослепш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спользуются уже сформированные зрительные образ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Garamond"/>
              </a:rPr>
              <a:t>Влияние слепоты на развитие ребенк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00240" y="1447560"/>
            <a:ext cx="4343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Verdana"/>
              </a:rPr>
              <a:t>Слепой имеет нарушения в движениях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Garamond"/>
              </a:rPr>
              <a:t>Восприятие мира слепым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Психологические особенности слепых подростков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сутствие знаний о своей внешности влияет на само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нижение уровня притяз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уверенность в себ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Игнорирование» своего деф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ые страх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лонность к суицид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3048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99"/>
                </a:solidFill>
                <a:latin typeface="Verdana"/>
              </a:rPr>
              <a:t>Шриф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99"/>
                </a:solidFill>
                <a:latin typeface="Verdana"/>
              </a:rPr>
              <a:t>Брайл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480960"/>
            <a:ext cx="8229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4-05-28T21:55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