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E0AB-37EE-4713-A0C3-DE5748B8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8D50-7C2C-4601-8F6D-D417D9CB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4C0F-E6A0-4A99-ADD9-02DA0518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5CB-28A9-4C1E-9DF2-25A6BED5B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B785-6C0E-4EC2-8D0A-B10F9434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5283-AE9B-4E25-B537-6C23F681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079D1-D7B4-40F6-93F2-C9ED74AB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6420-80E0-4EC5-8D3B-A3E52AB28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FE675-B35E-48F2-960E-C2E7F83D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B648-76FA-42C6-B3DB-163DCB53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7FD4-83EF-4E4A-AE4F-9BA99954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735-0C75-4B81-81BB-D33E4CD0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7258-54F4-4FBC-9346-259CBBB0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A59E-5F15-4A0C-8164-3703BC01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87554-D51B-41D1-BF4C-4500D4F01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BA619-7EE9-446E-9E94-6B7BEC70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6695-FD0D-4270-9505-75D85E1A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5B30-76A8-4EB6-98AA-F5F90BB5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0160-2D75-43F1-8DA1-8CF3A75B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3445-FEEF-4699-AE4B-51B404DC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DD96-0C03-4E4B-A705-08068CC0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B512-8272-4057-A70A-D168DA49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3F1C-C31E-4FC4-B2E1-5AED1966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CA7-ABBD-4FE0-A9EA-93A06E30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7CC4-FB9D-42E5-B897-5CA056EF7C2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21DC-F075-4670-91D7-66F5F38C5BF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657240" y="3276720"/>
            <a:ext cx="518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Подготовила студентка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1 курса 2 групп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6699"/>
                </a:solidFill>
                <a:latin typeface="Times New Roman"/>
              </a:rPr>
              <a:t>Медведева Наталь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14600" y="762120"/>
            <a:ext cx="401004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епые и 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47920" y="1828800"/>
            <a:ext cx="598176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лабовидящие</a:t>
            </a:r>
            <a:endParaRPr b="1" lang="en-US" sz="66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2895480"/>
            <a:ext cx="79437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внимание!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458200" cy="621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666699"/>
                </a:solidFill>
                <a:latin typeface="Garamond"/>
              </a:rPr>
              <a:t>Слепые</a:t>
            </a:r>
            <a:endParaRPr b="0" lang="en-US" sz="66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9900"/>
                </a:solidFill>
                <a:latin typeface="Verdana"/>
              </a:rPr>
              <a:t>Слепорож-денны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е сохраняются зрительные образ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8765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5400" spc="-1" strike="noStrike">
                <a:solidFill>
                  <a:srgbClr val="ff9900"/>
                </a:solidFill>
                <a:latin typeface="Verdana"/>
              </a:rPr>
              <a:t>Ослепшие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Используются уже сформированные зрительные образ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6699"/>
                </a:solidFill>
                <a:latin typeface="Garamond"/>
              </a:rPr>
              <a:t>Влияние слепоты на развитие ребенка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800240" y="1447560"/>
            <a:ext cx="4343400" cy="59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99"/>
                </a:solidFill>
                <a:latin typeface="Verdana"/>
              </a:rPr>
              <a:t>Слепой имеет нарушения в движениях</a:t>
            </a: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6699"/>
                </a:solidFill>
                <a:latin typeface="Garamond"/>
              </a:rPr>
              <a:t>Восприятие мира слепым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8915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6699"/>
                </a:solidFill>
                <a:latin typeface="Garamond"/>
              </a:rPr>
              <a:t>Психологические особенности слепых подростков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тсутствие знаний о своей внешности влияет на самооценк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Занижение уровня притяза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Неуверенность в себ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«Игнорирование» своего дефек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оциальные страх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клонность к суицид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51920" y="1752480"/>
            <a:ext cx="30481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99"/>
                </a:solidFill>
                <a:latin typeface="Verdana"/>
              </a:rPr>
              <a:t>Шрифт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99"/>
                </a:solidFill>
                <a:latin typeface="Verdana"/>
              </a:rPr>
              <a:t>Брайля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57200" y="480960"/>
            <a:ext cx="8229600" cy="58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Наташа</cp:lastModifiedBy>
  <dcterms:modified xsi:type="dcterms:W3CDTF">2014-05-28T21:55:57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