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9B47-0BB7-4AF9-ACB0-2DE49D499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EDCA-D2B6-42D2-9F8E-85EC2F28A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A9CF-8AF2-4EA5-8E75-809BA6DA4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87AA-8845-485C-A2C9-A22D55729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C338-E698-404B-95BA-4702A4314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628C-6995-4343-A39C-555B253BB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5A2E-2166-4FF3-A5DE-A48F40673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EF2F-BAC0-453F-BE41-95B1EB71A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71CE-280F-4E2D-B9AF-E8BE52E99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2B14-77AD-4F8A-BC19-E06EB65B6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EC35-A15E-4178-ACAD-5AC002347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C787-57C3-4D4D-A51D-4862EF7DD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82517-5967-40C6-8CED-908ADED073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4">
            <a:hlinkClick r:id="" action="ppaction://hlinkshowjump?jump=nextslide"/>
          </p:cNvPr>
          <p:cNvSpPr/>
          <p:nvPr/>
        </p:nvSpPr>
        <p:spPr>
          <a:xfrm>
            <a:off x="5435640" y="6165720"/>
            <a:ext cx="1800360" cy="432000"/>
          </a:xfrm>
          <a:custGeom>
            <a:avLst/>
            <a:gdLst>
              <a:gd name="textAreaLeft" fmla="*/ 27720 w 1800360"/>
              <a:gd name="textAreaRight" fmla="*/ 1772640 w 180036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89961" h="21600">
                <a:moveTo>
                  <a:pt x="0" y="0"/>
                </a:moveTo>
                <a:lnTo>
                  <a:pt x="89961" y="0"/>
                </a:lnTo>
                <a:lnTo>
                  <a:pt x="89961" y="21600"/>
                </a:lnTo>
                <a:lnTo>
                  <a:pt x="0" y="21600"/>
                </a:lnTo>
                <a:close/>
              </a:path>
              <a:path fill="lightenLess" w="89961" h="21600">
                <a:moveTo>
                  <a:pt x="0" y="0"/>
                </a:moveTo>
                <a:lnTo>
                  <a:pt x="89961" y="0"/>
                </a:lnTo>
                <a:lnTo>
                  <a:pt x="88561" y="1400"/>
                </a:lnTo>
                <a:lnTo>
                  <a:pt x="1400" y="1400"/>
                </a:lnTo>
                <a:close/>
              </a:path>
              <a:path fill="darken" w="89961" h="21600">
                <a:moveTo>
                  <a:pt x="89961" y="0"/>
                </a:moveTo>
                <a:lnTo>
                  <a:pt x="89961" y="21600"/>
                </a:lnTo>
                <a:lnTo>
                  <a:pt x="88561" y="20200"/>
                </a:lnTo>
                <a:lnTo>
                  <a:pt x="88561" y="1400"/>
                </a:lnTo>
                <a:close/>
              </a:path>
              <a:path fill="darkenLess" w="89961" h="21600">
                <a:moveTo>
                  <a:pt x="899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561" y="20200"/>
                </a:lnTo>
                <a:close/>
              </a:path>
              <a:path fill="lighten" w="899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89961" h="21600">
                <a:moveTo>
                  <a:pt x="37974" y="3794"/>
                </a:moveTo>
                <a:lnTo>
                  <a:pt x="51987" y="10800"/>
                </a:lnTo>
                <a:lnTo>
                  <a:pt x="37974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5"/>
          <p:cNvSpPr txBox="1"/>
          <p:nvPr/>
        </p:nvSpPr>
        <p:spPr>
          <a:xfrm>
            <a:off x="2771640" y="404640"/>
            <a:ext cx="360072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ловарные</a:t>
            </a:r>
            <a:endParaRPr b="1" i="1" lang="en-US" sz="4400" spc="1" strike="noStrike">
              <a:ln w="9360">
                <a:solidFill>
                  <a:srgbClr val="800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лова</a:t>
            </a:r>
            <a:endParaRPr b="1" i="1" lang="en-US" sz="4400" spc="1" strike="noStrike">
              <a:ln w="9360">
                <a:solidFill>
                  <a:srgbClr val="8000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WordArt 6"/>
          <p:cNvSpPr txBox="1"/>
          <p:nvPr/>
        </p:nvSpPr>
        <p:spPr>
          <a:xfrm>
            <a:off x="3786120" y="2906640"/>
            <a:ext cx="15717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6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2 класс</a:t>
            </a:r>
            <a:endParaRPr b="1" i="1" lang="en-US" sz="16600" spc="1" strike="noStrike">
              <a:ln w="9360">
                <a:solidFill>
                  <a:srgbClr val="8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4" name="WordArt 7"/>
          <p:cNvSpPr txBox="1"/>
          <p:nvPr/>
        </p:nvSpPr>
        <p:spPr>
          <a:xfrm>
            <a:off x="5724360" y="2997360"/>
            <a:ext cx="139068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i="1" lang="en-US" sz="3200" spc="1" strike="noStrike">
              <a:ln w="9360">
                <a:solidFill>
                  <a:srgbClr val="8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AutoShape 2">
            <a:hlinkClick r:id="" action="ppaction://hlinkshowjump?jump=nextslide"/>
          </p:cNvPr>
          <p:cNvSpPr/>
          <p:nvPr/>
        </p:nvSpPr>
        <p:spPr>
          <a:xfrm>
            <a:off x="5435640" y="6093000"/>
            <a:ext cx="1800360" cy="431640"/>
          </a:xfrm>
          <a:custGeom>
            <a:avLst/>
            <a:gdLst>
              <a:gd name="textAreaLeft" fmla="*/ 27720 w 1800360"/>
              <a:gd name="textAreaRight" fmla="*/ 1772640 w 1800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90036" h="21600">
                <a:moveTo>
                  <a:pt x="0" y="0"/>
                </a:moveTo>
                <a:lnTo>
                  <a:pt x="90036" y="0"/>
                </a:lnTo>
                <a:lnTo>
                  <a:pt x="90036" y="21600"/>
                </a:lnTo>
                <a:lnTo>
                  <a:pt x="0" y="21600"/>
                </a:lnTo>
                <a:close/>
              </a:path>
              <a:path fill="lightenLess" w="90036" h="21600">
                <a:moveTo>
                  <a:pt x="0" y="0"/>
                </a:moveTo>
                <a:lnTo>
                  <a:pt x="90036" y="0"/>
                </a:lnTo>
                <a:lnTo>
                  <a:pt x="88636" y="1400"/>
                </a:lnTo>
                <a:lnTo>
                  <a:pt x="1400" y="1400"/>
                </a:lnTo>
                <a:close/>
              </a:path>
              <a:path fill="darken" w="90036" h="21600">
                <a:moveTo>
                  <a:pt x="90036" y="0"/>
                </a:moveTo>
                <a:lnTo>
                  <a:pt x="90036" y="21600"/>
                </a:lnTo>
                <a:lnTo>
                  <a:pt x="88636" y="20200"/>
                </a:lnTo>
                <a:lnTo>
                  <a:pt x="88636" y="1400"/>
                </a:lnTo>
                <a:close/>
              </a:path>
              <a:path fill="darkenLess" w="90036" h="21600">
                <a:moveTo>
                  <a:pt x="90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636" y="20200"/>
                </a:lnTo>
                <a:close/>
              </a:path>
              <a:path fill="lighten" w="90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0036" h="21600">
                <a:moveTo>
                  <a:pt x="38012" y="3794"/>
                </a:moveTo>
                <a:lnTo>
                  <a:pt x="52024" y="10800"/>
                </a:lnTo>
                <a:lnTo>
                  <a:pt x="38012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WordArt 3"/>
          <p:cNvSpPr txBox="1"/>
          <p:nvPr/>
        </p:nvSpPr>
        <p:spPr>
          <a:xfrm>
            <a:off x="826920" y="1700280"/>
            <a:ext cx="7439040" cy="23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апиши слова,</a:t>
            </a:r>
            <a:endParaRPr b="0" i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ставь пропущенные буквы.</a:t>
            </a:r>
            <a:endParaRPr b="0" i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Нажми кнопку "проверка"</a:t>
            </a:r>
            <a:endParaRPr b="0" i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 узнай, верно ли записаны слова.</a:t>
            </a:r>
            <a:endParaRPr b="0" i="1" lang="en-US" sz="4000" spc="1" strike="noStrike">
              <a:ln w="9360">
                <a:solidFill>
                  <a:srgbClr val="800000"/>
                </a:solidFill>
                <a:miter/>
              </a:ln>
              <a:solidFill>
                <a:srgbClr val="ff66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AutoShape 2"/>
          <p:cNvSpPr/>
          <p:nvPr/>
        </p:nvSpPr>
        <p:spPr>
          <a:xfrm>
            <a:off x="468360" y="1700280"/>
            <a:ext cx="8207280" cy="4033800"/>
          </a:xfrm>
          <a:prstGeom prst="roundRect">
            <a:avLst>
              <a:gd name="adj" fmla="val 16667"/>
            </a:avLst>
          </a:prstGeom>
          <a:solidFill>
            <a:srgbClr val="ff9900">
              <a:alpha val="59000"/>
            </a:srgbClr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1187280" y="5950080"/>
            <a:ext cx="2735280" cy="504720"/>
          </a:xfrm>
          <a:prstGeom prst="bevel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ПРОВЕ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4">
            <a:hlinkClick r:id="" action="ppaction://hlinkshowjump?jump=nextslide"/>
          </p:cNvPr>
          <p:cNvSpPr/>
          <p:nvPr/>
        </p:nvSpPr>
        <p:spPr>
          <a:xfrm>
            <a:off x="5435640" y="6093000"/>
            <a:ext cx="1800360" cy="431640"/>
          </a:xfrm>
          <a:custGeom>
            <a:avLst/>
            <a:gdLst>
              <a:gd name="textAreaLeft" fmla="*/ 27720 w 1800360"/>
              <a:gd name="textAreaRight" fmla="*/ 1772640 w 1800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90036" h="21600">
                <a:moveTo>
                  <a:pt x="0" y="0"/>
                </a:moveTo>
                <a:lnTo>
                  <a:pt x="90036" y="0"/>
                </a:lnTo>
                <a:lnTo>
                  <a:pt x="90036" y="21600"/>
                </a:lnTo>
                <a:lnTo>
                  <a:pt x="0" y="21600"/>
                </a:lnTo>
                <a:close/>
              </a:path>
              <a:path fill="lightenLess" w="90036" h="21600">
                <a:moveTo>
                  <a:pt x="0" y="0"/>
                </a:moveTo>
                <a:lnTo>
                  <a:pt x="90036" y="0"/>
                </a:lnTo>
                <a:lnTo>
                  <a:pt x="88636" y="1400"/>
                </a:lnTo>
                <a:lnTo>
                  <a:pt x="1400" y="1400"/>
                </a:lnTo>
                <a:close/>
              </a:path>
              <a:path fill="darken" w="90036" h="21600">
                <a:moveTo>
                  <a:pt x="90036" y="0"/>
                </a:moveTo>
                <a:lnTo>
                  <a:pt x="90036" y="21600"/>
                </a:lnTo>
                <a:lnTo>
                  <a:pt x="88636" y="20200"/>
                </a:lnTo>
                <a:lnTo>
                  <a:pt x="88636" y="1400"/>
                </a:lnTo>
                <a:close/>
              </a:path>
              <a:path fill="darkenLess" w="90036" h="21600">
                <a:moveTo>
                  <a:pt x="90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636" y="20200"/>
                </a:lnTo>
                <a:close/>
              </a:path>
              <a:path fill="lighten" w="90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0036" h="21600">
                <a:moveTo>
                  <a:pt x="38012" y="3794"/>
                </a:moveTo>
                <a:lnTo>
                  <a:pt x="52024" y="10800"/>
                </a:lnTo>
                <a:lnTo>
                  <a:pt x="38012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5"/>
          <p:cNvSpPr/>
          <p:nvPr/>
        </p:nvSpPr>
        <p:spPr>
          <a:xfrm>
            <a:off x="900000" y="333360"/>
            <a:ext cx="7272360" cy="934920"/>
          </a:xfrm>
          <a:prstGeom prst="roundRect">
            <a:avLst>
              <a:gd name="adj" fmla="val 16667"/>
            </a:avLst>
          </a:prstGeom>
          <a:solidFill>
            <a:srgbClr val="ff9900">
              <a:alpha val="45000"/>
            </a:srgbClr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Проверь запись словарных с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826920" y="2276640"/>
            <a:ext cx="741708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ЁЗА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ЕР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ЕЙ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17" nodeType="clickEffect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AutoShape 2"/>
          <p:cNvSpPr/>
          <p:nvPr/>
        </p:nvSpPr>
        <p:spPr>
          <a:xfrm>
            <a:off x="468360" y="1700280"/>
            <a:ext cx="8207280" cy="4033800"/>
          </a:xfrm>
          <a:prstGeom prst="roundRect">
            <a:avLst>
              <a:gd name="adj" fmla="val 16667"/>
            </a:avLst>
          </a:prstGeom>
          <a:solidFill>
            <a:srgbClr val="ff9900">
              <a:alpha val="59000"/>
            </a:srgbClr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3"/>
          <p:cNvSpPr/>
          <p:nvPr/>
        </p:nvSpPr>
        <p:spPr>
          <a:xfrm>
            <a:off x="1187280" y="5950080"/>
            <a:ext cx="2735280" cy="504720"/>
          </a:xfrm>
          <a:prstGeom prst="bevel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ПРОВЕ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5"/>
          <p:cNvSpPr/>
          <p:nvPr/>
        </p:nvSpPr>
        <p:spPr>
          <a:xfrm>
            <a:off x="900000" y="333360"/>
            <a:ext cx="7272360" cy="934920"/>
          </a:xfrm>
          <a:prstGeom prst="roundRect">
            <a:avLst>
              <a:gd name="adj" fmla="val 16667"/>
            </a:avLst>
          </a:prstGeom>
          <a:solidFill>
            <a:srgbClr val="ff9900">
              <a:alpha val="45000"/>
            </a:srgbClr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Проверь запись словарных с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826920" y="2276640"/>
            <a:ext cx="741708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Я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Ц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УСТА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8">
            <a:hlinkClick r:id="" action="ppaction://hlinkshowjump?jump=nextslide"/>
          </p:cNvPr>
          <p:cNvSpPr/>
          <p:nvPr/>
        </p:nvSpPr>
        <p:spPr>
          <a:xfrm>
            <a:off x="5435640" y="6093000"/>
            <a:ext cx="1800360" cy="431640"/>
          </a:xfrm>
          <a:custGeom>
            <a:avLst/>
            <a:gdLst>
              <a:gd name="textAreaLeft" fmla="*/ 27720 w 1800360"/>
              <a:gd name="textAreaRight" fmla="*/ 1772640 w 1800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90036" h="21600">
                <a:moveTo>
                  <a:pt x="0" y="0"/>
                </a:moveTo>
                <a:lnTo>
                  <a:pt x="90036" y="0"/>
                </a:lnTo>
                <a:lnTo>
                  <a:pt x="90036" y="21600"/>
                </a:lnTo>
                <a:lnTo>
                  <a:pt x="0" y="21600"/>
                </a:lnTo>
                <a:close/>
              </a:path>
              <a:path fill="lightenLess" w="90036" h="21600">
                <a:moveTo>
                  <a:pt x="0" y="0"/>
                </a:moveTo>
                <a:lnTo>
                  <a:pt x="90036" y="0"/>
                </a:lnTo>
                <a:lnTo>
                  <a:pt x="88636" y="1400"/>
                </a:lnTo>
                <a:lnTo>
                  <a:pt x="1400" y="1400"/>
                </a:lnTo>
                <a:close/>
              </a:path>
              <a:path fill="darken" w="90036" h="21600">
                <a:moveTo>
                  <a:pt x="90036" y="0"/>
                </a:moveTo>
                <a:lnTo>
                  <a:pt x="90036" y="21600"/>
                </a:lnTo>
                <a:lnTo>
                  <a:pt x="88636" y="20200"/>
                </a:lnTo>
                <a:lnTo>
                  <a:pt x="88636" y="1400"/>
                </a:lnTo>
                <a:close/>
              </a:path>
              <a:path fill="darkenLess" w="90036" h="21600">
                <a:moveTo>
                  <a:pt x="90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636" y="20200"/>
                </a:lnTo>
                <a:close/>
              </a:path>
              <a:path fill="lighten" w="90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0036" h="21600">
                <a:moveTo>
                  <a:pt x="38012" y="3794"/>
                </a:moveTo>
                <a:lnTo>
                  <a:pt x="52024" y="10800"/>
                </a:lnTo>
                <a:lnTo>
                  <a:pt x="38012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29" nodeType="clickEffect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AutoShape 2"/>
          <p:cNvSpPr/>
          <p:nvPr/>
        </p:nvSpPr>
        <p:spPr>
          <a:xfrm>
            <a:off x="468360" y="1700280"/>
            <a:ext cx="8207280" cy="4033800"/>
          </a:xfrm>
          <a:prstGeom prst="roundRect">
            <a:avLst>
              <a:gd name="adj" fmla="val 16667"/>
            </a:avLst>
          </a:prstGeom>
          <a:solidFill>
            <a:srgbClr val="ff9900">
              <a:alpha val="59000"/>
            </a:srgbClr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3"/>
          <p:cNvSpPr/>
          <p:nvPr/>
        </p:nvSpPr>
        <p:spPr>
          <a:xfrm>
            <a:off x="1187280" y="5950080"/>
            <a:ext cx="2735280" cy="504720"/>
          </a:xfrm>
          <a:prstGeom prst="bevel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ПРОВЕ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4"/>
          <p:cNvSpPr/>
          <p:nvPr/>
        </p:nvSpPr>
        <p:spPr>
          <a:xfrm>
            <a:off x="900000" y="333360"/>
            <a:ext cx="7272360" cy="934920"/>
          </a:xfrm>
          <a:prstGeom prst="roundRect">
            <a:avLst>
              <a:gd name="adj" fmla="val 16667"/>
            </a:avLst>
          </a:prstGeom>
          <a:solidFill>
            <a:srgbClr val="ff9900">
              <a:alpha val="45000"/>
            </a:srgbClr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Проверь запись словарных с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826920" y="2276640"/>
            <a:ext cx="741708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ДАШ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ЬКИ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А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6">
            <a:hlinkClick r:id="" action="ppaction://hlinkshowjump?jump=nextslide"/>
          </p:cNvPr>
          <p:cNvSpPr/>
          <p:nvPr/>
        </p:nvSpPr>
        <p:spPr>
          <a:xfrm>
            <a:off x="5435640" y="6093000"/>
            <a:ext cx="1800360" cy="431640"/>
          </a:xfrm>
          <a:custGeom>
            <a:avLst/>
            <a:gdLst>
              <a:gd name="textAreaLeft" fmla="*/ 27720 w 1800360"/>
              <a:gd name="textAreaRight" fmla="*/ 1772640 w 1800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90036" h="21600">
                <a:moveTo>
                  <a:pt x="0" y="0"/>
                </a:moveTo>
                <a:lnTo>
                  <a:pt x="90036" y="0"/>
                </a:lnTo>
                <a:lnTo>
                  <a:pt x="90036" y="21600"/>
                </a:lnTo>
                <a:lnTo>
                  <a:pt x="0" y="21600"/>
                </a:lnTo>
                <a:close/>
              </a:path>
              <a:path fill="lightenLess" w="90036" h="21600">
                <a:moveTo>
                  <a:pt x="0" y="0"/>
                </a:moveTo>
                <a:lnTo>
                  <a:pt x="90036" y="0"/>
                </a:lnTo>
                <a:lnTo>
                  <a:pt x="88636" y="1400"/>
                </a:lnTo>
                <a:lnTo>
                  <a:pt x="1400" y="1400"/>
                </a:lnTo>
                <a:close/>
              </a:path>
              <a:path fill="darken" w="90036" h="21600">
                <a:moveTo>
                  <a:pt x="90036" y="0"/>
                </a:moveTo>
                <a:lnTo>
                  <a:pt x="90036" y="21600"/>
                </a:lnTo>
                <a:lnTo>
                  <a:pt x="88636" y="20200"/>
                </a:lnTo>
                <a:lnTo>
                  <a:pt x="88636" y="1400"/>
                </a:lnTo>
                <a:close/>
              </a:path>
              <a:path fill="darkenLess" w="90036" h="21600">
                <a:moveTo>
                  <a:pt x="90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636" y="20200"/>
                </a:lnTo>
                <a:close/>
              </a:path>
              <a:path fill="lighten" w="90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0036" h="21600">
                <a:moveTo>
                  <a:pt x="38012" y="3794"/>
                </a:moveTo>
                <a:lnTo>
                  <a:pt x="52024" y="10800"/>
                </a:lnTo>
                <a:lnTo>
                  <a:pt x="38012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41" nodeType="clickEffect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AutoShape 2"/>
          <p:cNvSpPr/>
          <p:nvPr/>
        </p:nvSpPr>
        <p:spPr>
          <a:xfrm>
            <a:off x="468360" y="1700280"/>
            <a:ext cx="8207280" cy="4033800"/>
          </a:xfrm>
          <a:prstGeom prst="roundRect">
            <a:avLst>
              <a:gd name="adj" fmla="val 16667"/>
            </a:avLst>
          </a:prstGeom>
          <a:solidFill>
            <a:srgbClr val="ff9900">
              <a:alpha val="59000"/>
            </a:srgbClr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3"/>
          <p:cNvSpPr/>
          <p:nvPr/>
        </p:nvSpPr>
        <p:spPr>
          <a:xfrm>
            <a:off x="1187280" y="5950080"/>
            <a:ext cx="2735280" cy="504720"/>
          </a:xfrm>
          <a:prstGeom prst="bevel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ПРОВЕ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4"/>
          <p:cNvSpPr/>
          <p:nvPr/>
        </p:nvSpPr>
        <p:spPr>
          <a:xfrm>
            <a:off x="900000" y="333360"/>
            <a:ext cx="7272360" cy="934920"/>
          </a:xfrm>
          <a:prstGeom prst="roundRect">
            <a:avLst>
              <a:gd name="adj" fmla="val 16667"/>
            </a:avLst>
          </a:prstGeom>
          <a:solidFill>
            <a:srgbClr val="ff9900">
              <a:alpha val="45000"/>
            </a:srgbClr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Проверь запись словарных с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826920" y="2276640"/>
            <a:ext cx="741708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О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КОВЬ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6">
            <a:hlinkClick r:id="" action="ppaction://hlinkshowjump?jump=nextslide"/>
          </p:cNvPr>
          <p:cNvSpPr/>
          <p:nvPr/>
        </p:nvSpPr>
        <p:spPr>
          <a:xfrm>
            <a:off x="5435640" y="6093000"/>
            <a:ext cx="1800360" cy="431640"/>
          </a:xfrm>
          <a:custGeom>
            <a:avLst/>
            <a:gdLst>
              <a:gd name="textAreaLeft" fmla="*/ 27720 w 1800360"/>
              <a:gd name="textAreaRight" fmla="*/ 1772640 w 1800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90036" h="21600">
                <a:moveTo>
                  <a:pt x="0" y="0"/>
                </a:moveTo>
                <a:lnTo>
                  <a:pt x="90036" y="0"/>
                </a:lnTo>
                <a:lnTo>
                  <a:pt x="90036" y="21600"/>
                </a:lnTo>
                <a:lnTo>
                  <a:pt x="0" y="21600"/>
                </a:lnTo>
                <a:close/>
              </a:path>
              <a:path fill="lightenLess" w="90036" h="21600">
                <a:moveTo>
                  <a:pt x="0" y="0"/>
                </a:moveTo>
                <a:lnTo>
                  <a:pt x="90036" y="0"/>
                </a:lnTo>
                <a:lnTo>
                  <a:pt x="88636" y="1400"/>
                </a:lnTo>
                <a:lnTo>
                  <a:pt x="1400" y="1400"/>
                </a:lnTo>
                <a:close/>
              </a:path>
              <a:path fill="darken" w="90036" h="21600">
                <a:moveTo>
                  <a:pt x="90036" y="0"/>
                </a:moveTo>
                <a:lnTo>
                  <a:pt x="90036" y="21600"/>
                </a:lnTo>
                <a:lnTo>
                  <a:pt x="88636" y="20200"/>
                </a:lnTo>
                <a:lnTo>
                  <a:pt x="88636" y="1400"/>
                </a:lnTo>
                <a:close/>
              </a:path>
              <a:path fill="darkenLess" w="90036" h="21600">
                <a:moveTo>
                  <a:pt x="90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636" y="20200"/>
                </a:lnTo>
                <a:close/>
              </a:path>
              <a:path fill="lighten" w="90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0036" h="21600">
                <a:moveTo>
                  <a:pt x="38012" y="3794"/>
                </a:moveTo>
                <a:lnTo>
                  <a:pt x="52024" y="10800"/>
                </a:lnTo>
                <a:lnTo>
                  <a:pt x="38012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53" nodeType="clickEffect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AutoShape 2"/>
          <p:cNvSpPr/>
          <p:nvPr/>
        </p:nvSpPr>
        <p:spPr>
          <a:xfrm>
            <a:off x="468360" y="1700280"/>
            <a:ext cx="8207280" cy="4033800"/>
          </a:xfrm>
          <a:prstGeom prst="roundRect">
            <a:avLst>
              <a:gd name="adj" fmla="val 16667"/>
            </a:avLst>
          </a:prstGeom>
          <a:solidFill>
            <a:srgbClr val="ff9900">
              <a:alpha val="59000"/>
            </a:srgbClr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3"/>
          <p:cNvSpPr/>
          <p:nvPr/>
        </p:nvSpPr>
        <p:spPr>
          <a:xfrm>
            <a:off x="1187280" y="5950080"/>
            <a:ext cx="2735280" cy="504720"/>
          </a:xfrm>
          <a:prstGeom prst="bevel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ПРОВЕ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4"/>
          <p:cNvSpPr/>
          <p:nvPr/>
        </p:nvSpPr>
        <p:spPr>
          <a:xfrm>
            <a:off x="900000" y="333360"/>
            <a:ext cx="7272360" cy="934920"/>
          </a:xfrm>
          <a:prstGeom prst="roundRect">
            <a:avLst>
              <a:gd name="adj" fmla="val 16667"/>
            </a:avLst>
          </a:prstGeom>
          <a:solidFill>
            <a:srgbClr val="ff9900">
              <a:alpha val="45000"/>
            </a:srgbClr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Проверь запись словарных с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826920" y="2276640"/>
            <a:ext cx="741708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ОЗ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М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КВА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ГУРЕЦ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6">
            <a:hlinkClick r:id="" action="ppaction://hlinkshowjump?jump=nextslide"/>
          </p:cNvPr>
          <p:cNvSpPr/>
          <p:nvPr/>
        </p:nvSpPr>
        <p:spPr>
          <a:xfrm>
            <a:off x="5435640" y="6093000"/>
            <a:ext cx="1800360" cy="431640"/>
          </a:xfrm>
          <a:custGeom>
            <a:avLst/>
            <a:gdLst>
              <a:gd name="textAreaLeft" fmla="*/ 27720 w 1800360"/>
              <a:gd name="textAreaRight" fmla="*/ 1772640 w 1800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90036" h="21600">
                <a:moveTo>
                  <a:pt x="0" y="0"/>
                </a:moveTo>
                <a:lnTo>
                  <a:pt x="90036" y="0"/>
                </a:lnTo>
                <a:lnTo>
                  <a:pt x="90036" y="21600"/>
                </a:lnTo>
                <a:lnTo>
                  <a:pt x="0" y="21600"/>
                </a:lnTo>
                <a:close/>
              </a:path>
              <a:path fill="lightenLess" w="90036" h="21600">
                <a:moveTo>
                  <a:pt x="0" y="0"/>
                </a:moveTo>
                <a:lnTo>
                  <a:pt x="90036" y="0"/>
                </a:lnTo>
                <a:lnTo>
                  <a:pt x="88636" y="1400"/>
                </a:lnTo>
                <a:lnTo>
                  <a:pt x="1400" y="1400"/>
                </a:lnTo>
                <a:close/>
              </a:path>
              <a:path fill="darken" w="90036" h="21600">
                <a:moveTo>
                  <a:pt x="90036" y="0"/>
                </a:moveTo>
                <a:lnTo>
                  <a:pt x="90036" y="21600"/>
                </a:lnTo>
                <a:lnTo>
                  <a:pt x="88636" y="20200"/>
                </a:lnTo>
                <a:lnTo>
                  <a:pt x="88636" y="1400"/>
                </a:lnTo>
                <a:close/>
              </a:path>
              <a:path fill="darkenLess" w="90036" h="21600">
                <a:moveTo>
                  <a:pt x="90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636" y="20200"/>
                </a:lnTo>
                <a:close/>
              </a:path>
              <a:path fill="lighten" w="90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0036" h="21600">
                <a:moveTo>
                  <a:pt x="38012" y="3794"/>
                </a:moveTo>
                <a:lnTo>
                  <a:pt x="52024" y="10800"/>
                </a:lnTo>
                <a:lnTo>
                  <a:pt x="38012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65" nodeType="clickEffect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2"/>
          <p:cNvSpPr/>
          <p:nvPr/>
        </p:nvSpPr>
        <p:spPr>
          <a:xfrm>
            <a:off x="468360" y="1700280"/>
            <a:ext cx="8207280" cy="4033800"/>
          </a:xfrm>
          <a:prstGeom prst="roundRect">
            <a:avLst>
              <a:gd name="adj" fmla="val 16667"/>
            </a:avLst>
          </a:prstGeom>
          <a:solidFill>
            <a:srgbClr val="ff9900">
              <a:alpha val="59000"/>
            </a:srgbClr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3"/>
          <p:cNvSpPr/>
          <p:nvPr/>
        </p:nvSpPr>
        <p:spPr>
          <a:xfrm>
            <a:off x="1187280" y="5950080"/>
            <a:ext cx="2735280" cy="504720"/>
          </a:xfrm>
          <a:prstGeom prst="bevel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ПРОВЕ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4"/>
          <p:cNvSpPr/>
          <p:nvPr/>
        </p:nvSpPr>
        <p:spPr>
          <a:xfrm>
            <a:off x="900000" y="333360"/>
            <a:ext cx="7272360" cy="934920"/>
          </a:xfrm>
          <a:prstGeom prst="roundRect">
            <a:avLst>
              <a:gd name="adj" fmla="val 16667"/>
            </a:avLst>
          </a:prstGeom>
          <a:solidFill>
            <a:srgbClr val="ff9900">
              <a:alpha val="45000"/>
            </a:srgbClr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Проверь запись словарных с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826920" y="2276640"/>
            <a:ext cx="741708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А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ЛЬТО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ОР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Е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ЯТА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6">
            <a:hlinkClick r:id="" action="ppaction://hlinkshowjump?jump=nextslide"/>
          </p:cNvPr>
          <p:cNvSpPr/>
          <p:nvPr/>
        </p:nvSpPr>
        <p:spPr>
          <a:xfrm>
            <a:off x="5435640" y="6093000"/>
            <a:ext cx="1800360" cy="431640"/>
          </a:xfrm>
          <a:custGeom>
            <a:avLst/>
            <a:gdLst>
              <a:gd name="textAreaLeft" fmla="*/ 27720 w 1800360"/>
              <a:gd name="textAreaRight" fmla="*/ 1772640 w 180036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90036" h="21600">
                <a:moveTo>
                  <a:pt x="0" y="0"/>
                </a:moveTo>
                <a:lnTo>
                  <a:pt x="90036" y="0"/>
                </a:lnTo>
                <a:lnTo>
                  <a:pt x="90036" y="21600"/>
                </a:lnTo>
                <a:lnTo>
                  <a:pt x="0" y="21600"/>
                </a:lnTo>
                <a:close/>
              </a:path>
              <a:path fill="lightenLess" w="90036" h="21600">
                <a:moveTo>
                  <a:pt x="0" y="0"/>
                </a:moveTo>
                <a:lnTo>
                  <a:pt x="90036" y="0"/>
                </a:lnTo>
                <a:lnTo>
                  <a:pt x="88636" y="1400"/>
                </a:lnTo>
                <a:lnTo>
                  <a:pt x="1400" y="1400"/>
                </a:lnTo>
                <a:close/>
              </a:path>
              <a:path fill="darken" w="90036" h="21600">
                <a:moveTo>
                  <a:pt x="90036" y="0"/>
                </a:moveTo>
                <a:lnTo>
                  <a:pt x="90036" y="21600"/>
                </a:lnTo>
                <a:lnTo>
                  <a:pt x="88636" y="20200"/>
                </a:lnTo>
                <a:lnTo>
                  <a:pt x="88636" y="1400"/>
                </a:lnTo>
                <a:close/>
              </a:path>
              <a:path fill="darkenLess" w="90036" h="21600">
                <a:moveTo>
                  <a:pt x="90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636" y="20200"/>
                </a:lnTo>
                <a:close/>
              </a:path>
              <a:path fill="lighten" w="90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90036" h="21600">
                <a:moveTo>
                  <a:pt x="38012" y="3794"/>
                </a:moveTo>
                <a:lnTo>
                  <a:pt x="52024" y="10800"/>
                </a:lnTo>
                <a:lnTo>
                  <a:pt x="38012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77" nodeType="clickEffect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AutoShape 2"/>
          <p:cNvSpPr/>
          <p:nvPr/>
        </p:nvSpPr>
        <p:spPr>
          <a:xfrm>
            <a:off x="468360" y="1700280"/>
            <a:ext cx="8207280" cy="4033800"/>
          </a:xfrm>
          <a:prstGeom prst="roundRect">
            <a:avLst>
              <a:gd name="adj" fmla="val 16667"/>
            </a:avLst>
          </a:prstGeom>
          <a:solidFill>
            <a:srgbClr val="ff9900">
              <a:alpha val="59000"/>
            </a:srgbClr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3"/>
          <p:cNvSpPr/>
          <p:nvPr/>
        </p:nvSpPr>
        <p:spPr>
          <a:xfrm>
            <a:off x="1187280" y="5950080"/>
            <a:ext cx="2735280" cy="504720"/>
          </a:xfrm>
          <a:prstGeom prst="bevel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ПРОВЕ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4"/>
          <p:cNvSpPr/>
          <p:nvPr/>
        </p:nvSpPr>
        <p:spPr>
          <a:xfrm>
            <a:off x="900000" y="333360"/>
            <a:ext cx="7272360" cy="934920"/>
          </a:xfrm>
          <a:prstGeom prst="roundRect">
            <a:avLst>
              <a:gd name="adj" fmla="val 16667"/>
            </a:avLst>
          </a:prstGeom>
          <a:solidFill>
            <a:srgbClr val="ff9900">
              <a:alpha val="45000"/>
            </a:srgbClr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Проверь запись словарных с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826920" y="2276640"/>
            <a:ext cx="74170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БАКА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УЛ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Ц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6">
            <a:hlinkClick r:id="" action="ppaction://hlinkshowjump?jump=endshow"/>
          </p:cNvPr>
          <p:cNvSpPr/>
          <p:nvPr/>
        </p:nvSpPr>
        <p:spPr>
          <a:xfrm>
            <a:off x="6659640" y="5950080"/>
            <a:ext cx="649080" cy="71892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718920"/>
              <a:gd name="textAreaBottom" fmla="*/ 677160 h 718920"/>
            </a:gdLst>
            <a:ahLst/>
            <a:rect l="textAreaLeft" t="textAreaTop" r="textAreaRight" b="textAreaBottom"/>
            <a:pathLst>
              <a:path w="21600" h="23923">
                <a:moveTo>
                  <a:pt x="0" y="0"/>
                </a:moveTo>
                <a:lnTo>
                  <a:pt x="21600" y="0"/>
                </a:lnTo>
                <a:lnTo>
                  <a:pt x="21600" y="23923"/>
                </a:lnTo>
                <a:lnTo>
                  <a:pt x="0" y="23923"/>
                </a:lnTo>
                <a:close/>
              </a:path>
              <a:path fill="lightenLess" w="21600" h="2392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923">
                <a:moveTo>
                  <a:pt x="21600" y="0"/>
                </a:moveTo>
                <a:lnTo>
                  <a:pt x="21600" y="23923"/>
                </a:lnTo>
                <a:lnTo>
                  <a:pt x="20200" y="22523"/>
                </a:lnTo>
                <a:lnTo>
                  <a:pt x="20200" y="1400"/>
                </a:lnTo>
                <a:close/>
              </a:path>
              <a:path fill="darkenLess" w="21600" h="23923">
                <a:moveTo>
                  <a:pt x="21600" y="23923"/>
                </a:moveTo>
                <a:lnTo>
                  <a:pt x="0" y="23923"/>
                </a:lnTo>
                <a:lnTo>
                  <a:pt x="1400" y="22523"/>
                </a:lnTo>
                <a:lnTo>
                  <a:pt x="20200" y="22523"/>
                </a:lnTo>
                <a:close/>
              </a:path>
              <a:path fill="lighten" w="21600" h="23923">
                <a:moveTo>
                  <a:pt x="0" y="2392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523"/>
                </a:lnTo>
                <a:close/>
              </a:path>
              <a:path fill="darken" w="21600" h="23923">
                <a:moveTo>
                  <a:pt x="10800" y="4998"/>
                </a:moveTo>
                <a:lnTo>
                  <a:pt x="13376" y="7610"/>
                </a:lnTo>
                <a:lnTo>
                  <a:pt x="13376" y="5869"/>
                </a:lnTo>
                <a:lnTo>
                  <a:pt x="15152" y="5869"/>
                </a:lnTo>
                <a:lnTo>
                  <a:pt x="15152" y="9385"/>
                </a:lnTo>
                <a:lnTo>
                  <a:pt x="17763" y="11961"/>
                </a:lnTo>
                <a:lnTo>
                  <a:pt x="16109" y="11961"/>
                </a:lnTo>
                <a:lnTo>
                  <a:pt x="16109" y="19151"/>
                </a:lnTo>
                <a:lnTo>
                  <a:pt x="5491" y="19151"/>
                </a:lnTo>
                <a:lnTo>
                  <a:pt x="5491" y="11961"/>
                </a:lnTo>
                <a:lnTo>
                  <a:pt x="3837" y="11961"/>
                </a:lnTo>
                <a:close/>
              </a:path>
              <a:path fill="darkenLess" w="21600" h="23923">
                <a:moveTo>
                  <a:pt x="13376" y="7610"/>
                </a:moveTo>
                <a:lnTo>
                  <a:pt x="13376" y="5869"/>
                </a:lnTo>
                <a:lnTo>
                  <a:pt x="15152" y="5869"/>
                </a:lnTo>
                <a:lnTo>
                  <a:pt x="15152" y="9385"/>
                </a:lnTo>
                <a:close/>
              </a:path>
              <a:path fill="darkenLess" w="21600" h="23923">
                <a:moveTo>
                  <a:pt x="9877" y="15460"/>
                </a:moveTo>
                <a:lnTo>
                  <a:pt x="11723" y="15460"/>
                </a:lnTo>
                <a:lnTo>
                  <a:pt x="11723" y="19151"/>
                </a:lnTo>
                <a:lnTo>
                  <a:pt x="16109" y="19151"/>
                </a:lnTo>
                <a:lnTo>
                  <a:pt x="16109" y="11961"/>
                </a:lnTo>
                <a:lnTo>
                  <a:pt x="5491" y="11961"/>
                </a:lnTo>
                <a:lnTo>
                  <a:pt x="5491" y="19151"/>
                </a:lnTo>
                <a:lnTo>
                  <a:pt x="9877" y="19151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89" nodeType="clickEffect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9T13:06:19Z</dcterms:created>
  <dc:creator>Марина Беляева</dc:creator>
  <dc:description/>
  <dc:language>en-US</dc:language>
  <cp:lastModifiedBy>Asus</cp:lastModifiedBy>
  <dcterms:modified xsi:type="dcterms:W3CDTF">2018-06-27T11:10:13Z</dcterms:modified>
  <cp:revision>16</cp:revision>
  <dc:subject/>
  <dc:title>Слайд 1</dc:title>
</cp:coreProperties>
</file>