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5.png" ContentType="image/png"/>
  <Override PartName="/ppt/media/image18.jpeg" ContentType="image/jpeg"/>
  <Override PartName="/ppt/media/image17.gif" ContentType="image/gif"/>
  <Override PartName="/ppt/media/image16.gif" ContentType="image/gif"/>
  <Override PartName="/ppt/media/image2.png" ContentType="image/png"/>
  <Override PartName="/ppt/media/image9.jpeg" ContentType="image/jpeg"/>
  <Override PartName="/ppt/media/image14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8.png" ContentType="image/png"/>
  <Override PartName="/ppt/media/image13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8CAB-A392-4936-AC16-C88B187B7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9CA-3087-4DD9-91BC-B7426438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FA75-D292-48A6-996A-F9F08DFA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3B6B-F149-4E62-9583-FA3AF0BA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D1FE-0637-41FC-9746-3D0E0A7F5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908A-D19B-4E06-AA89-AEE53FFD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2FBB-FA3B-4D35-AD64-F5584C3E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F3ED-5E53-48E2-B11B-08996458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9A38A-376B-4927-87E9-F3E86B7D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3C44-9E5F-492F-9AB5-67D86840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A28F3-244A-4BDA-BBB4-A70995E79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51C-CC3E-4B28-8DA2-E2FC1FFB0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4E90-5663-4AA4-91BC-B1255679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00CB8-D701-493D-812E-D3959F9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9F82-E62A-4BEC-9295-BC8FA63C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B7F5-79E4-48E7-824E-79BDC8D9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5FDF-EB6A-409A-8A07-237DEAF1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A681C-AC76-4743-960B-F82F3E8EA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5F6AC4-03F3-4C3C-8BBF-CF6188B3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DEF8A9-8DA2-428F-B680-F7F3C91D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7926A-CE4E-4436-B56D-48D186CD5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20763E-8122-4824-BD5F-821F926C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FE98-07C4-40F5-8F3D-CFBBE66E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7D7BAA-65EB-4FCC-9B5B-436CF919E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6FFA55-4766-40CB-9BE3-4925D6FB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15C396-26E6-465D-BF94-C7E431CD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DE98B-8C70-44B4-B65B-EBC6C432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B37B9-8A4A-41B7-B888-F5A09145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0431F0-FD73-46F8-B548-139A7B2F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66BFE1-9A4D-4A69-A87A-45C2F841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5E4BC-1D3C-43DE-9DF0-978835A8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E518-A03A-4674-BE81-2A526B69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3B7F0-0ED1-4AED-B0D5-91B861E56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4F8-60AB-4CC0-9822-B838DD01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13ACB-6D25-422D-9B9C-EE7CB16E6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4E950-81F7-446D-BA4C-CA77D3ED3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FC3BC-91BD-4CEB-B5D1-6BED3AD3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79F3F-5E80-474B-8953-29524CCC8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5DCB6-FECC-4C74-B935-E55B0065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46B7E-FBAF-4BC6-AE09-F390C7C3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AD55C-17AB-4A89-B5C3-2E34EE7A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FA6C4-A264-4E73-9A7A-8FD22F311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ECCFC-5B2D-4472-A595-C4AD748D1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F1A-50BC-40FF-8EC4-D019A5E2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D63-D007-4911-916F-294B3B11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50BD-68E5-4BF1-9604-11ABB5024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382A-1EFB-4254-8C6C-0FC5D93C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A9EE-AC4E-4BE6-B2AB-E7031D9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3C94-F547-4851-8B90-5B3C8C1A4AC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BBE91-96BB-4A4B-B4DC-EC18DC6E5D03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70FC-C9C5-442E-A561-F587112456EA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C1BC9-C949-463D-870E-F9445AAC04B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image" Target="../media/image18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4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788000" y="4724280"/>
            <a:ext cx="405288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дготовила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Тарасова Елена Юрьевна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БОУ Школа 1560 «Лидер»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WordArt 4"/>
          <p:cNvSpPr txBox="1"/>
          <p:nvPr/>
        </p:nvSpPr>
        <p:spPr>
          <a:xfrm>
            <a:off x="826920" y="2060640"/>
            <a:ext cx="756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ряжение глаголов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185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1. Запиши глагол </a:t>
            </a: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II</a:t>
            </a: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 спряжения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971640" y="3573000"/>
            <a:ext cx="6400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играть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петь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ловить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9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0" descr="h77"/>
          <p:cNvPicPr/>
          <p:nvPr/>
        </p:nvPicPr>
        <p:blipFill>
          <a:blip r:embed="rId2"/>
          <a:stretch/>
        </p:blipFill>
        <p:spPr>
          <a:xfrm>
            <a:off x="6732720" y="4797360"/>
            <a:ext cx="1871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2. Выпиши глагол  в начальной форме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971640" y="3573360"/>
            <a:ext cx="640872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424456"/>
                </a:solidFill>
                <a:latin typeface="Georgia"/>
              </a:rPr>
              <a:t>а) кормить</a:t>
            </a:r>
            <a:br>
              <a:rPr sz="5000"/>
            </a:br>
            <a:r>
              <a:rPr b="0" lang="ru-RU" sz="5000" spc="-1" strike="noStrike">
                <a:solidFill>
                  <a:srgbClr val="424456"/>
                </a:solidFill>
                <a:latin typeface="Georgia"/>
              </a:rPr>
              <a:t>б) держу</a:t>
            </a:r>
            <a:br>
              <a:rPr sz="5000"/>
            </a:br>
            <a:r>
              <a:rPr b="0" lang="ru-RU" sz="5000" spc="-1" strike="noStrike">
                <a:solidFill>
                  <a:srgbClr val="424456"/>
                </a:solidFill>
                <a:latin typeface="Georgia"/>
              </a:rPr>
              <a:t>в) прыгают</a:t>
            </a:r>
            <a:br>
              <a:rPr sz="4100"/>
            </a:br>
            <a:endParaRPr b="0" lang="en-US" sz="5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6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5" descr="h77"/>
          <p:cNvPicPr/>
          <p:nvPr/>
        </p:nvPicPr>
        <p:blipFill>
          <a:blip r:embed="rId2"/>
          <a:stretch/>
        </p:blipFill>
        <p:spPr>
          <a:xfrm>
            <a:off x="6516720" y="4724280"/>
            <a:ext cx="180036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89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3. Выпиши глагол единственного числа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899640" y="3644640"/>
            <a:ext cx="6513480" cy="24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летают 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растут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пищит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h77"/>
          <p:cNvPicPr/>
          <p:nvPr/>
        </p:nvPicPr>
        <p:blipFill>
          <a:blip r:embed="rId2"/>
          <a:stretch/>
        </p:blipFill>
        <p:spPr>
          <a:xfrm>
            <a:off x="6516720" y="4797360"/>
            <a:ext cx="2087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8469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Trebuchet MS"/>
              </a:rPr>
              <a:t>4. Запиши слово, на конце которого нужно писать Ь</a:t>
            </a: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899640" y="3573000"/>
            <a:ext cx="6480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кулич__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береч__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свеж__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5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h77"/>
          <p:cNvPicPr/>
          <p:nvPr/>
        </p:nvPicPr>
        <p:blipFill>
          <a:blip r:embed="rId2"/>
          <a:stretch/>
        </p:blipFill>
        <p:spPr>
          <a:xfrm>
            <a:off x="6659640" y="4653000"/>
            <a:ext cx="20160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5. Выпиши слово, где –ТСЯ без Ь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900000" y="3573000"/>
            <a:ext cx="6400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любует_ся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улыбат_ся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мирит_ся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8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h77"/>
          <p:cNvPicPr/>
          <p:nvPr/>
        </p:nvPicPr>
        <p:blipFill>
          <a:blip r:embed="rId2"/>
          <a:stretch/>
        </p:blipFill>
        <p:spPr>
          <a:xfrm>
            <a:off x="6732720" y="4653000"/>
            <a:ext cx="2016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3"/>
          <p:cNvSpPr txBox="1"/>
          <p:nvPr/>
        </p:nvSpPr>
        <p:spPr>
          <a:xfrm>
            <a:off x="826920" y="2060640"/>
            <a:ext cx="75614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ТВЕТЫ</a:t>
            </a:r>
            <a:endParaRPr b="1" lang="en-US" sz="1800" spc="1" strike="noStrike">
              <a:ln w="9360">
                <a:solidFill>
                  <a:srgbClr val="80008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71" name="Picture 7" descr="fleurs"/>
          <p:cNvPicPr/>
          <p:nvPr/>
        </p:nvPicPr>
        <p:blipFill>
          <a:blip r:embed="rId1"/>
          <a:stretch/>
        </p:blipFill>
        <p:spPr>
          <a:xfrm>
            <a:off x="1835280" y="5373720"/>
            <a:ext cx="5715000" cy="799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8" descr="disney117"/>
          <p:cNvPicPr/>
          <p:nvPr/>
        </p:nvPicPr>
        <p:blipFill>
          <a:blip r:embed="rId2"/>
          <a:stretch/>
        </p:blipFill>
        <p:spPr>
          <a:xfrm>
            <a:off x="4067280" y="3573360"/>
            <a:ext cx="1368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791856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1. Запиши глагол </a:t>
            </a:r>
            <a:r>
              <a:rPr b="1" lang="en-US" sz="5400" spc="-1" strike="noStrike">
                <a:solidFill>
                  <a:srgbClr val="ffffff"/>
                </a:solidFill>
                <a:latin typeface="Trebuchet MS"/>
              </a:rPr>
              <a:t>II</a:t>
            </a: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 спряжения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476360" y="3645000"/>
            <a:ext cx="64008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играть</a:t>
            </a:r>
            <a:br>
              <a:rPr sz="5400"/>
            </a:b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б). петь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5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5"/>
          <p:cNvSpPr/>
          <p:nvPr/>
        </p:nvSpPr>
        <p:spPr>
          <a:xfrm>
            <a:off x="1403280" y="5229360"/>
            <a:ext cx="3959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. лови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6" descr="disney161"/>
          <p:cNvPicPr/>
          <p:nvPr/>
        </p:nvPicPr>
        <p:blipFill>
          <a:blip r:embed="rId2"/>
          <a:stretch/>
        </p:blipFill>
        <p:spPr>
          <a:xfrm>
            <a:off x="6948360" y="3429000"/>
            <a:ext cx="17686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1.11111E-006 L 0.12222 -0.2257 E">
                                      <p:cBhvr>
                                        <p:cTn id="105" dur="2000" fill="hold"/>
                                        <p:tgtEl>
                                          <p:spTgt spid="2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0256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2. Выпиши глагол  в начальной форме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971640" y="3573000"/>
            <a:ext cx="64087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кормить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0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5"/>
          <p:cNvSpPr/>
          <p:nvPr/>
        </p:nvSpPr>
        <p:spPr>
          <a:xfrm>
            <a:off x="971640" y="4437000"/>
            <a:ext cx="6408720" cy="16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. держу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. прыгаю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7" descr="disney161"/>
          <p:cNvPicPr/>
          <p:nvPr/>
        </p:nvPicPr>
        <p:blipFill>
          <a:blip r:embed="rId2"/>
          <a:stretch/>
        </p:blipFill>
        <p:spPr>
          <a:xfrm>
            <a:off x="6948360" y="3429000"/>
            <a:ext cx="17686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2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798984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rebuchet MS"/>
              </a:rPr>
              <a:t>3. Выпиши глагол единственного числа: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899640" y="5013360"/>
            <a:ext cx="65134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в). пищит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85" name="Picture 5" descr="BD21338_"/>
          <p:cNvPicPr/>
          <p:nvPr/>
        </p:nvPicPr>
        <p:blipFill>
          <a:blip r:embed="rId1"/>
          <a:stretch/>
        </p:blipFill>
        <p:spPr>
          <a:xfrm>
            <a:off x="1476360" y="3068640"/>
            <a:ext cx="6553080" cy="2714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6"/>
          <p:cNvSpPr/>
          <p:nvPr/>
        </p:nvSpPr>
        <p:spPr>
          <a:xfrm>
            <a:off x="900000" y="3573360"/>
            <a:ext cx="65134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а). летают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. расту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7" descr="disney161"/>
          <p:cNvPicPr/>
          <p:nvPr/>
        </p:nvPicPr>
        <p:blipFill>
          <a:blip r:embed="rId2"/>
          <a:stretch/>
        </p:blipFill>
        <p:spPr>
          <a:xfrm>
            <a:off x="6948360" y="3429000"/>
            <a:ext cx="17686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3.33333E-006 L 0.15712 -0.18658 E">
                                      <p:cBhvr>
                                        <p:cTn id="125" dur="20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000" y="836640"/>
            <a:ext cx="78469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Trebuchet MS"/>
              </a:rPr>
              <a:t>4. Запиши слово, на конце которого нужно писать </a:t>
            </a: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899640" y="3573360"/>
            <a:ext cx="648036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кулич__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90" name="Picture 4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sp>
        <p:nvSpPr>
          <p:cNvPr id="291" name="Rectangle 5"/>
          <p:cNvSpPr/>
          <p:nvPr/>
        </p:nvSpPr>
        <p:spPr>
          <a:xfrm>
            <a:off x="900000" y="4437000"/>
            <a:ext cx="648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. береч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6"/>
          <p:cNvSpPr/>
          <p:nvPr/>
        </p:nvSpPr>
        <p:spPr>
          <a:xfrm>
            <a:off x="971640" y="5445000"/>
            <a:ext cx="6480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. свеж_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8"/>
          <p:cNvSpPr/>
          <p:nvPr/>
        </p:nvSpPr>
        <p:spPr>
          <a:xfrm>
            <a:off x="6012000" y="2349360"/>
            <a:ext cx="7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24456"/>
                </a:solidFill>
                <a:latin typeface="Arial"/>
              </a:rPr>
              <a:t>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9" descr="disney161"/>
          <p:cNvPicPr/>
          <p:nvPr/>
        </p:nvPicPr>
        <p:blipFill>
          <a:blip r:embed="rId2"/>
          <a:stretch/>
        </p:blipFill>
        <p:spPr>
          <a:xfrm>
            <a:off x="7093080" y="3429000"/>
            <a:ext cx="1768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59259E-006 L 0.2151 -0.06667 E">
                                      <p:cBhvr>
                                        <p:cTn id="139" dur="2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" nodeType="afterEffect" fill="hold" presetClass="path" presetID="5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41 7.40741E-007 L 0.05105 0.06366 C 0.05296 0.07685 0.054 0.09676 0.054 0.11759 C 0.054 0.14143 0.05296 0.16042 0.05105 0.17361 L 0.04341 0.23773 E">
                                      <p:cBhvr>
                                        <p:cTn id="142" dur="2000" fill="hold"/>
                                        <p:tgtEl>
                                          <p:spTgt spid="2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Цель урока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создать условия для осознанного понимания спряжений глаголов-исключений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вести наблюдения над глаголами-исключениями; отработать алгоритм определения спряжения глаголов-исключений; проверить правописание –ться и –тся в глаголах, умения различать спряжения глаголов, знания начальной формы глаголов, умения определять число глагола и знания правописания мягкого знака после шипящих в глаголах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звивать орфографическую зоркость, мышление и речь учащихся, умение делать выводы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1557360"/>
            <a:ext cx="79185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ffffff"/>
                </a:solidFill>
                <a:latin typeface="Trebuchet MS"/>
              </a:rPr>
              <a:t>5. Выпиши слово, где –ТСЯ без Ь</a:t>
            </a:r>
            <a:br>
              <a:rPr sz="4900"/>
            </a:br>
            <a:endParaRPr b="0" lang="en-US" sz="4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900000" y="3573360"/>
            <a:ext cx="3672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4456"/>
                </a:solidFill>
                <a:latin typeface="Georgia"/>
              </a:rPr>
              <a:t>а). любует</a:t>
            </a:r>
            <a:endParaRPr b="0" lang="en-US" sz="5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900000" y="4365720"/>
            <a:ext cx="64008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б). улыбат_ся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). мирит_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BD21338_"/>
          <p:cNvPicPr/>
          <p:nvPr/>
        </p:nvPicPr>
        <p:blipFill>
          <a:blip r:embed="rId1"/>
          <a:stretch/>
        </p:blipFill>
        <p:spPr>
          <a:xfrm>
            <a:off x="1403280" y="3068640"/>
            <a:ext cx="6553440" cy="27144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7"/>
          <p:cNvSpPr/>
          <p:nvPr/>
        </p:nvSpPr>
        <p:spPr>
          <a:xfrm>
            <a:off x="4284720" y="3573360"/>
            <a:ext cx="647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8"/>
          <p:cNvSpPr/>
          <p:nvPr/>
        </p:nvSpPr>
        <p:spPr>
          <a:xfrm>
            <a:off x="4788000" y="3645000"/>
            <a:ext cx="1008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с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disney161"/>
          <p:cNvPicPr/>
          <p:nvPr/>
        </p:nvPicPr>
        <p:blipFill>
          <a:blip r:embed="rId2"/>
          <a:stretch/>
        </p:blipFill>
        <p:spPr>
          <a:xfrm>
            <a:off x="7093080" y="3500280"/>
            <a:ext cx="17683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48148E-006 L 0.09392 -0.01412 E">
                                      <p:cBhvr>
                                        <p:cTn id="156" dur="20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1.85185E-006 L 0.13993 -0.02454 E">
                                      <p:cBhvr>
                                        <p:cTn id="160" dur="2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WordArt 7"/>
          <p:cNvSpPr txBox="1"/>
          <p:nvPr/>
        </p:nvSpPr>
        <p:spPr>
          <a:xfrm>
            <a:off x="900000" y="1413000"/>
            <a:ext cx="7561440" cy="36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ОЙДЕН!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250560" y="549000"/>
            <a:ext cx="88930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 Unicode MS"/>
              </a:rPr>
              <a:t>СЛЫШАТЬ, ВИДЕТЬ И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 Unicode MS"/>
              </a:rPr>
              <a:t>ОБИДЕТЬ, ГНАТЬ, ДЕРЖАТЬ И НЕНАВИДЕТЬ И ДЫШАТЬ, ТЕРПЕТЬ, ВЕРТЕТЬ, И ЗАВИСЕТЬ И 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 Unicode MS"/>
              </a:rPr>
              <a:t>СМОТРЕТЬ</a:t>
            </a:r>
            <a:endParaRPr b="0" lang="en-US" sz="4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90000"/>
                </a:solidFill>
                <a:latin typeface="Arial Unicode MS"/>
              </a:rPr>
              <a:t>II</a:t>
            </a:r>
            <a:r>
              <a:rPr b="1" lang="ru-RU" sz="6600" spc="-1" strike="noStrike">
                <a:solidFill>
                  <a:srgbClr val="990000"/>
                </a:solidFill>
                <a:latin typeface="Arial Unicode MS"/>
              </a:rPr>
              <a:t>-спряжение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4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9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16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WordArt 4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ряжение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лаголов-исключений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990000"/>
                </a:solidFill>
                <a:latin typeface="Trebuchet MS"/>
              </a:rPr>
              <a:t>I-</a:t>
            </a:r>
            <a:r>
              <a:rPr b="0" lang="ru-RU" sz="5900" spc="-1" strike="noStrike">
                <a:solidFill>
                  <a:srgbClr val="990000"/>
                </a:solidFill>
                <a:latin typeface="Trebuchet MS"/>
              </a:rPr>
              <a:t>спряжение</a:t>
            </a:r>
            <a:endParaRPr b="0" lang="en-US" sz="5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3500280"/>
            <a:ext cx="447192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брить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Georgia"/>
              </a:rPr>
              <a:t>стелить</a:t>
            </a:r>
            <a:endParaRPr b="0" lang="en-US" sz="6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WordArt 2"/>
          <p:cNvSpPr txBox="1"/>
          <p:nvPr/>
        </p:nvSpPr>
        <p:spPr>
          <a:xfrm>
            <a:off x="611280" y="2205000"/>
            <a:ext cx="187308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Я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308" name="WordArt 3"/>
          <p:cNvSpPr txBox="1"/>
          <p:nvPr/>
        </p:nvSpPr>
        <p:spPr>
          <a:xfrm>
            <a:off x="3780000" y="1413000"/>
            <a:ext cx="5113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повторил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09" name="WordArt 4"/>
          <p:cNvSpPr txBox="1"/>
          <p:nvPr/>
        </p:nvSpPr>
        <p:spPr>
          <a:xfrm>
            <a:off x="3780000" y="2924280"/>
            <a:ext cx="50418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запомнил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10" name="WordArt 5"/>
          <p:cNvSpPr txBox="1"/>
          <p:nvPr/>
        </p:nvSpPr>
        <p:spPr>
          <a:xfrm>
            <a:off x="4643280" y="4292640"/>
            <a:ext cx="338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ff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узнал</a:t>
            </a:r>
            <a:endParaRPr b="1" lang="en-US" sz="1800" spc="1" strike="noStrike">
              <a:ln w="22320">
                <a:solidFill>
                  <a:srgbClr val="ff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311" name="Line 6"/>
          <p:cNvSpPr/>
          <p:nvPr/>
        </p:nvSpPr>
        <p:spPr>
          <a:xfrm flipV="1">
            <a:off x="2627280" y="2060640"/>
            <a:ext cx="865080" cy="7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7"/>
          <p:cNvSpPr/>
          <p:nvPr/>
        </p:nvSpPr>
        <p:spPr>
          <a:xfrm>
            <a:off x="2700360" y="3357720"/>
            <a:ext cx="863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8"/>
          <p:cNvSpPr/>
          <p:nvPr/>
        </p:nvSpPr>
        <p:spPr>
          <a:xfrm>
            <a:off x="2700360" y="4076640"/>
            <a:ext cx="1008000" cy="43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2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cc"/>
                </a:solidFill>
                <a:latin typeface="Monotype Corsiva"/>
              </a:rPr>
              <a:t>Домашнее задание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Rectangle 9"/>
          <p:cNvSpPr/>
          <p:nvPr/>
        </p:nvSpPr>
        <p:spPr>
          <a:xfrm>
            <a:off x="468360" y="1268280"/>
            <a:ext cx="68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Упражнение 10,  с. 9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WordArt 10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ловарная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абота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424456"/>
                </a:solidFill>
                <a:latin typeface="Trebuchet MS"/>
              </a:rPr>
              <a:t>земляника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19" name="Picture 11" descr="FOOD1"/>
          <p:cNvPicPr/>
          <p:nvPr/>
        </p:nvPicPr>
        <p:blipFill>
          <a:blip r:embed="rId1"/>
          <a:stretch/>
        </p:blipFill>
        <p:spPr>
          <a:xfrm>
            <a:off x="2700360" y="1628640"/>
            <a:ext cx="3959280" cy="45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rebuchet MS"/>
              </a:rPr>
              <a:t>Транскрипция?</a:t>
            </a:r>
            <a:endParaRPr b="0" lang="en-US" sz="6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4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з</a:t>
            </a: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имл</a:t>
            </a: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ан</a:t>
            </a: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ика</a:t>
            </a:r>
            <a:r>
              <a:rPr b="1" lang="en-US" sz="8000" spc="-1" strike="noStrike">
                <a:solidFill>
                  <a:srgbClr val="000000"/>
                </a:solidFill>
                <a:latin typeface="Georgia"/>
              </a:rPr>
              <a:t>]</a:t>
            </a:r>
            <a:endParaRPr b="0" lang="en-US" sz="8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Ягодка"/>
          <p:cNvPicPr/>
          <p:nvPr/>
        </p:nvPicPr>
        <p:blipFill>
          <a:blip r:embed="rId1"/>
          <a:stretch/>
        </p:blipFill>
        <p:spPr>
          <a:xfrm rot="1663800">
            <a:off x="2268000" y="4797360"/>
            <a:ext cx="1008360" cy="7556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Ягодка"/>
          <p:cNvPicPr/>
          <p:nvPr/>
        </p:nvPicPr>
        <p:blipFill>
          <a:blip r:embed="rId2"/>
          <a:stretch/>
        </p:blipFill>
        <p:spPr>
          <a:xfrm rot="1663800">
            <a:off x="5724000" y="4869000"/>
            <a:ext cx="1008360" cy="7556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Ягодка"/>
          <p:cNvPicPr/>
          <p:nvPr/>
        </p:nvPicPr>
        <p:blipFill>
          <a:blip r:embed="rId3"/>
          <a:stretch/>
        </p:blipFill>
        <p:spPr>
          <a:xfrm rot="1663800">
            <a:off x="394920" y="558936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Ягодка"/>
          <p:cNvPicPr/>
          <p:nvPr/>
        </p:nvPicPr>
        <p:blipFill>
          <a:blip r:embed="rId4"/>
          <a:stretch/>
        </p:blipFill>
        <p:spPr>
          <a:xfrm rot="1663800">
            <a:off x="3924000" y="349992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Ягодка"/>
          <p:cNvPicPr/>
          <p:nvPr/>
        </p:nvPicPr>
        <p:blipFill>
          <a:blip r:embed="rId5"/>
          <a:stretch/>
        </p:blipFill>
        <p:spPr>
          <a:xfrm rot="1663800">
            <a:off x="468000" y="342864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Ягодка"/>
          <p:cNvPicPr/>
          <p:nvPr/>
        </p:nvPicPr>
        <p:blipFill>
          <a:blip r:embed="rId6"/>
          <a:stretch/>
        </p:blipFill>
        <p:spPr>
          <a:xfrm rot="1663800">
            <a:off x="7451280" y="349992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Ягодка"/>
          <p:cNvPicPr/>
          <p:nvPr/>
        </p:nvPicPr>
        <p:blipFill>
          <a:blip r:embed="rId7"/>
          <a:stretch/>
        </p:blipFill>
        <p:spPr>
          <a:xfrm rot="1663800">
            <a:off x="7524360" y="566064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2" descr="Ягодка"/>
          <p:cNvPicPr/>
          <p:nvPr/>
        </p:nvPicPr>
        <p:blipFill>
          <a:blip r:embed="rId8"/>
          <a:stretch/>
        </p:blipFill>
        <p:spPr>
          <a:xfrm rot="1663800">
            <a:off x="4066920" y="5373360"/>
            <a:ext cx="100800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9" descr="шшшшшшш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500" spc="-1" strike="noStrike">
                <a:solidFill>
                  <a:srgbClr val="424456"/>
                </a:solidFill>
                <a:latin typeface="Trebuchet MS"/>
              </a:rPr>
              <a:t>деревня</a:t>
            </a:r>
            <a:endParaRPr b="0" lang="en-US" sz="65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Picture 3" descr="tree23"/>
          <p:cNvPicPr/>
          <p:nvPr/>
        </p:nvPicPr>
        <p:blipFill>
          <a:blip r:embed="rId2"/>
          <a:stretch/>
        </p:blipFill>
        <p:spPr>
          <a:xfrm flipH="1">
            <a:off x="6962400" y="4076640"/>
            <a:ext cx="2181240" cy="23004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tree23"/>
          <p:cNvPicPr/>
          <p:nvPr/>
        </p:nvPicPr>
        <p:blipFill>
          <a:blip r:embed="rId3"/>
          <a:stretch/>
        </p:blipFill>
        <p:spPr>
          <a:xfrm>
            <a:off x="0" y="3068640"/>
            <a:ext cx="3321000" cy="37893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08"/>
          <p:cNvPicPr/>
          <p:nvPr/>
        </p:nvPicPr>
        <p:blipFill>
          <a:blip r:embed="rId4"/>
          <a:stretch/>
        </p:blipFill>
        <p:spPr>
          <a:xfrm>
            <a:off x="0" y="4876920"/>
            <a:ext cx="1370160" cy="19810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c073891д49cf72"/>
          <p:cNvPicPr/>
          <p:nvPr/>
        </p:nvPicPr>
        <p:blipFill>
          <a:blip r:embed="rId5"/>
          <a:stretch/>
        </p:blipFill>
        <p:spPr>
          <a:xfrm>
            <a:off x="8183520" y="5084640"/>
            <a:ext cx="960480" cy="1548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" descr="tree23"/>
          <p:cNvPicPr/>
          <p:nvPr/>
        </p:nvPicPr>
        <p:blipFill>
          <a:blip r:embed="rId6"/>
          <a:stretch/>
        </p:blipFill>
        <p:spPr>
          <a:xfrm flipH="1">
            <a:off x="6011640" y="2970360"/>
            <a:ext cx="3398760" cy="38876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8" descr="377f0857764b"/>
          <p:cNvPicPr/>
          <p:nvPr/>
        </p:nvPicPr>
        <p:blipFill>
          <a:blip r:embed="rId7"/>
          <a:stretch/>
        </p:blipFill>
        <p:spPr>
          <a:xfrm>
            <a:off x="7020000" y="189000"/>
            <a:ext cx="193968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ff0000"/>
                </a:solidFill>
                <a:latin typeface="Trebuchet MS"/>
              </a:rPr>
              <a:t>Транскрипция?</a:t>
            </a:r>
            <a:endParaRPr b="0" lang="en-US" sz="5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[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д</a:t>
            </a: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ир</a:t>
            </a: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эвн</a:t>
            </a: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’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а</a:t>
            </a:r>
            <a:r>
              <a:rPr b="1" lang="en-US" sz="9600" spc="-1" strike="noStrike">
                <a:solidFill>
                  <a:srgbClr val="000000"/>
                </a:solidFill>
                <a:latin typeface="Georgia"/>
              </a:rPr>
              <a:t>]</a:t>
            </a: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оо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08"/>
          <p:cNvPicPr/>
          <p:nvPr/>
        </p:nvPicPr>
        <p:blipFill>
          <a:blip r:embed="rId3"/>
          <a:stretch/>
        </p:blipFill>
        <p:spPr>
          <a:xfrm>
            <a:off x="2556000" y="4869000"/>
            <a:ext cx="1008000" cy="1457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073891д49cf72"/>
          <p:cNvPicPr/>
          <p:nvPr/>
        </p:nvPicPr>
        <p:blipFill>
          <a:blip r:embed="rId4"/>
          <a:stretch/>
        </p:blipFill>
        <p:spPr>
          <a:xfrm>
            <a:off x="4427640" y="5373720"/>
            <a:ext cx="8334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3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6" name="Picture 8" descr="disney078"/>
          <p:cNvPicPr/>
          <p:nvPr/>
        </p:nvPicPr>
        <p:blipFill>
          <a:blip r:embed="rId1"/>
          <a:stretch/>
        </p:blipFill>
        <p:spPr>
          <a:xfrm>
            <a:off x="468360" y="4724280"/>
            <a:ext cx="1582560" cy="1873440"/>
          </a:xfrm>
          <a:prstGeom prst="rect">
            <a:avLst/>
          </a:prstGeom>
          <a:ln w="0">
            <a:noFill/>
          </a:ln>
        </p:spPr>
      </p:pic>
      <p:sp>
        <p:nvSpPr>
          <p:cNvPr id="247" name="WordArt 9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WordArt 10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9" name="WordArt 11"/>
          <p:cNvSpPr txBox="1"/>
          <p:nvPr/>
        </p:nvSpPr>
        <p:spPr>
          <a:xfrm>
            <a:off x="826920" y="1413000"/>
            <a:ext cx="756144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ЧАТЬ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СТ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8T10:31:19Z</dcterms:created>
  <dc:creator>директор</dc:creator>
  <dc:description/>
  <dc:language>en-US</dc:language>
  <cp:lastModifiedBy>user</cp:lastModifiedBy>
  <dcterms:modified xsi:type="dcterms:W3CDTF">2018-06-27T10:57:35Z</dcterms:modified>
  <cp:revision>13</cp:revision>
  <dc:subject/>
  <dc:title>Слайд 1</dc:title>
</cp:coreProperties>
</file>