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18.jpeg" ContentType="image/jpeg"/>
  <Override PartName="/ppt/media/image17.gif" ContentType="image/gif"/>
  <Override PartName="/ppt/media/image16.gif" ContentType="image/gif"/>
  <Override PartName="/ppt/media/image2.png" ContentType="image/png"/>
  <Override PartName="/ppt/media/image9.jpeg" ContentType="image/jpeg"/>
  <Override PartName="/ppt/media/image14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86D6-6CCD-42A0-932C-4758AD6CA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3416-EC83-4CAA-A4E0-140AAFEDB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278-4343-42DA-AF69-00C2F7139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9235-7A5E-42EC-B247-70FC92FA4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3D69-9DC8-4685-9ABB-DBD4C53B7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A14F-47B9-4469-8BEC-F0FD8397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B05A-FB81-42ED-ADF9-BD39FA03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89E16-2BD8-4A91-8C45-D1F26F5C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F625-3803-470E-B86A-43C25655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DF78-D276-4F4D-9655-DEC2E73A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08AD-E0BD-4323-A001-9FA0C1B7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BC40-BA67-4E1C-AA48-BD9AE3EE4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8E82-8139-4085-98F4-2A10A5D3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90DB3-A8FC-4AC1-A893-731359CD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DC6CC-37B8-4C65-AF6D-39C1CC03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EF253-7240-41A8-B8DE-498923234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6D4E-3ABD-49CB-B5FA-0BE0913D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04CE89-DFA9-44F4-BBB3-91316541D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2AE74-D8B2-419C-8F81-AC7E3EA8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2057B-1E43-4577-8E2F-B165369A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7FE1F-6060-41F4-956A-CD9B3171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93E4A-3A11-4442-97AB-BAF3D1D4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B13C-CB04-4B9B-BD9E-6816C5C4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15B93-880E-4984-9423-06905416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7EF3F-ED3C-4138-9461-01CA3ADF7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D440BC-71A6-407C-BAFA-B57E9F9A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813E0-F685-4AAE-934A-AE40B1A1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8DCD0-FCDC-40F6-9961-D202FE0ED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5F0C4-F7E0-48D1-BEB7-DC58455C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F4F799-9C6E-4666-B971-57027B24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78A6F-4F87-4D4D-9DE1-55162FF60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1ACBC-37A3-46AB-873A-FF17E0157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A8D98-7EA6-4F98-A2F9-BABBC2E6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4F71-561C-4FD4-B25F-63BDA8FF0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4EB76-CBD8-4EF7-B644-F8B15890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18055-24FB-4690-87A9-1E84CC5D4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9A73AD-F1C2-48E5-9EE4-697FC54E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26008-1B71-42C4-ABC1-D96A30C9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608C4-2E2F-4D8C-9923-D0CA6BF8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E33A4-4979-412D-BABF-6B6791742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2E805-E59A-454C-87C3-9158059F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80193-79F4-4164-96E7-612DE9D2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31F091-3957-4A90-80AA-2EB30129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A234-A272-4659-BBB1-9F6ADE34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FE1-3705-4B8D-B56F-30D78D54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7FF5-68D1-4B06-A23C-7231EA6C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7100-32A6-4134-98E3-B576A6DC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A161-4D70-4C30-B603-0CF9F644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1330-6F1B-430D-A022-C680614FA181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25E8B-32A3-4152-A50B-AF8E8E32E3C2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0873A-410B-4385-AA9E-9349B34FC698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67B5-3693-4A7F-AE0E-B673CBD21D0C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788000" y="4724280"/>
            <a:ext cx="40528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арасова Елена Юрьев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БОУ Школа 1560 «Лидер»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826920" y="2060640"/>
            <a:ext cx="7561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ряжение глаголов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9185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1. Запиши глагол </a:t>
            </a:r>
            <a:r>
              <a:rPr b="1" lang="en-US" sz="5400" spc="-1" strike="noStrike">
                <a:solidFill>
                  <a:srgbClr val="ffffff"/>
                </a:solidFill>
                <a:latin typeface="Trebuchet MS"/>
              </a:rPr>
              <a:t>II</a:t>
            </a: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 спряжения: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71640" y="357300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а). играть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б). петь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в). ловить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9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h77"/>
          <p:cNvPicPr/>
          <p:nvPr/>
        </p:nvPicPr>
        <p:blipFill>
          <a:blip r:embed="rId2"/>
          <a:stretch/>
        </p:blipFill>
        <p:spPr>
          <a:xfrm>
            <a:off x="6732720" y="4797360"/>
            <a:ext cx="1871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0256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2. Выпиши глагол  в начальной форме: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71640" y="3573360"/>
            <a:ext cx="64087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Georgia"/>
              </a:rPr>
              <a:t>а) кормить</a:t>
            </a:r>
            <a:br>
              <a:rPr sz="5000"/>
            </a:br>
            <a:r>
              <a:rPr b="0" lang="ru-RU" sz="5000" spc="-1" strike="noStrike">
                <a:solidFill>
                  <a:srgbClr val="424456"/>
                </a:solidFill>
                <a:latin typeface="Georgia"/>
              </a:rPr>
              <a:t>б) держу</a:t>
            </a:r>
            <a:br>
              <a:rPr sz="5000"/>
            </a:br>
            <a:r>
              <a:rPr b="0" lang="ru-RU" sz="5000" spc="-1" strike="noStrike">
                <a:solidFill>
                  <a:srgbClr val="424456"/>
                </a:solidFill>
                <a:latin typeface="Georgia"/>
              </a:rPr>
              <a:t>в) прыгают</a:t>
            </a:r>
            <a:br>
              <a:rPr sz="4100"/>
            </a:b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6" name="Picture 4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h77"/>
          <p:cNvPicPr/>
          <p:nvPr/>
        </p:nvPicPr>
        <p:blipFill>
          <a:blip r:embed="rId2"/>
          <a:stretch/>
        </p:blipFill>
        <p:spPr>
          <a:xfrm>
            <a:off x="6516720" y="4724280"/>
            <a:ext cx="18003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9898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3. Выпиши глагол единственного числа: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899640" y="3644640"/>
            <a:ext cx="65134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а). летают 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б). растут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в). пищит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0" name="Picture 4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h77"/>
          <p:cNvPicPr/>
          <p:nvPr/>
        </p:nvPicPr>
        <p:blipFill>
          <a:blip r:embed="rId2"/>
          <a:stretch/>
        </p:blipFill>
        <p:spPr>
          <a:xfrm>
            <a:off x="6516720" y="4797360"/>
            <a:ext cx="208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78469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Trebuchet MS"/>
              </a:rPr>
              <a:t>4. Запиши слово, на конце которого нужно писать Ь</a:t>
            </a:r>
            <a:endParaRPr b="0" lang="en-US" sz="4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99640" y="3573000"/>
            <a:ext cx="64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а). кулич__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б). береч__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в). свеж__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5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h77"/>
          <p:cNvPicPr/>
          <p:nvPr/>
        </p:nvPicPr>
        <p:blipFill>
          <a:blip r:embed="rId2"/>
          <a:stretch/>
        </p:blipFill>
        <p:spPr>
          <a:xfrm>
            <a:off x="6659640" y="4653000"/>
            <a:ext cx="2016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5. Выпиши слово, где –ТСЯ без Ь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900000" y="357300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а). любует_ся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б). улыбат_ся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в). мирит_ся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8" name="Picture 4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h77"/>
          <p:cNvPicPr/>
          <p:nvPr/>
        </p:nvPicPr>
        <p:blipFill>
          <a:blip r:embed="rId2"/>
          <a:stretch/>
        </p:blipFill>
        <p:spPr>
          <a:xfrm>
            <a:off x="6732720" y="4653000"/>
            <a:ext cx="2016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3"/>
          <p:cNvSpPr txBox="1"/>
          <p:nvPr/>
        </p:nvSpPr>
        <p:spPr>
          <a:xfrm>
            <a:off x="826920" y="2060640"/>
            <a:ext cx="7561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Ы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1" name="Picture 7" descr="fleurs"/>
          <p:cNvPicPr/>
          <p:nvPr/>
        </p:nvPicPr>
        <p:blipFill>
          <a:blip r:embed="rId1"/>
          <a:stretch/>
        </p:blipFill>
        <p:spPr>
          <a:xfrm>
            <a:off x="1835280" y="5373720"/>
            <a:ext cx="5715000" cy="799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disney117"/>
          <p:cNvPicPr/>
          <p:nvPr/>
        </p:nvPicPr>
        <p:blipFill>
          <a:blip r:embed="rId2"/>
          <a:stretch/>
        </p:blipFill>
        <p:spPr>
          <a:xfrm>
            <a:off x="4067280" y="3573360"/>
            <a:ext cx="1368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9185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1. Запиши глагол </a:t>
            </a:r>
            <a:r>
              <a:rPr b="1" lang="en-US" sz="5400" spc="-1" strike="noStrike">
                <a:solidFill>
                  <a:srgbClr val="ffffff"/>
                </a:solidFill>
                <a:latin typeface="Trebuchet MS"/>
              </a:rPr>
              <a:t>II</a:t>
            </a: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 спряжения: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476360" y="364500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а). играть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б). петь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5" name="Picture 4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1403280" y="5229360"/>
            <a:ext cx="3959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). лов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disney161"/>
          <p:cNvPicPr/>
          <p:nvPr/>
        </p:nvPicPr>
        <p:blipFill>
          <a:blip r:embed="rId2"/>
          <a:stretch/>
        </p:blipFill>
        <p:spPr>
          <a:xfrm>
            <a:off x="6948360" y="3429000"/>
            <a:ext cx="17686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2000" fill="hold"/>
                                        <p:tgtEl>
                                          <p:spTgt spid="2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11111E-006 L 0.12222 -0.2257 E">
                                      <p:cBhvr>
                                        <p:cTn id="103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0256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2. Выпиши глагол  в начальной форме: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71640" y="357300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а). кормить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0" name="Picture 4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5"/>
          <p:cNvSpPr/>
          <p:nvPr/>
        </p:nvSpPr>
        <p:spPr>
          <a:xfrm>
            <a:off x="971640" y="4437000"/>
            <a:ext cx="640872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). держу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). прыгаю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disney161"/>
          <p:cNvPicPr/>
          <p:nvPr/>
        </p:nvPicPr>
        <p:blipFill>
          <a:blip r:embed="rId2"/>
          <a:stretch/>
        </p:blipFill>
        <p:spPr>
          <a:xfrm>
            <a:off x="6948360" y="3429000"/>
            <a:ext cx="17686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9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9898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3. Выпиши глагол единственного числа: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99640" y="5013360"/>
            <a:ext cx="6513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в). пищит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5" name="Picture 5" descr="BD21338_"/>
          <p:cNvPicPr/>
          <p:nvPr/>
        </p:nvPicPr>
        <p:blipFill>
          <a:blip r:embed="rId1"/>
          <a:stretch/>
        </p:blipFill>
        <p:spPr>
          <a:xfrm>
            <a:off x="1476360" y="3068640"/>
            <a:ext cx="6553080" cy="2714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6"/>
          <p:cNvSpPr/>
          <p:nvPr/>
        </p:nvSpPr>
        <p:spPr>
          <a:xfrm>
            <a:off x="900000" y="3573360"/>
            <a:ext cx="6513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). летают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). расту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7" descr="disney161"/>
          <p:cNvPicPr/>
          <p:nvPr/>
        </p:nvPicPr>
        <p:blipFill>
          <a:blip r:embed="rId2"/>
          <a:stretch/>
        </p:blipFill>
        <p:spPr>
          <a:xfrm>
            <a:off x="6948360" y="3429000"/>
            <a:ext cx="17686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33333E-006 L 0.15712 -0.18658 E">
                                      <p:cBhvr>
                                        <p:cTn id="123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78469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Trebuchet MS"/>
              </a:rPr>
              <a:t>4. Запиши слово, на конце которого нужно писать </a:t>
            </a:r>
            <a:endParaRPr b="0" lang="en-US" sz="4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99640" y="3573360"/>
            <a:ext cx="64803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а). кулич__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0" name="Picture 4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5"/>
          <p:cNvSpPr/>
          <p:nvPr/>
        </p:nvSpPr>
        <p:spPr>
          <a:xfrm>
            <a:off x="900000" y="4437000"/>
            <a:ext cx="648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). береч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971640" y="5445000"/>
            <a:ext cx="648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). свеж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6012000" y="2349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24456"/>
                </a:solidFill>
                <a:latin typeface="Arial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9" descr="disney161"/>
          <p:cNvPicPr/>
          <p:nvPr/>
        </p:nvPicPr>
        <p:blipFill>
          <a:blip r:embed="rId2"/>
          <a:stretch/>
        </p:blipFill>
        <p:spPr>
          <a:xfrm>
            <a:off x="7093080" y="3429000"/>
            <a:ext cx="1768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59259E-006 L 0.2151 -0.06667 E">
                                      <p:cBhvr>
                                        <p:cTn id="137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1 7.40741E-007 L 0.05105 0.06366 C 0.05296 0.07685 0.054 0.09676 0.054 0.11759 C 0.054 0.14143 0.05296 0.16042 0.05105 0.17361 L 0.04341 0.23773 E">
                                      <p:cBhvr>
                                        <p:cTn id="140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Цель урока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создать условия для осознанного понимания спряжений глаголов-исключен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дачи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сти наблюдения над глаголами-исключениями; отработать алгоритм определения спряжения глаголов-исключений; проверить правописание –ться и –тся в глаголах, умения различать спряжения глаголов, знания начальной формы глаголов, умения определять число глагола и знания правописания мягкого знака после шипящих в глаголах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вивать орфографическую зоркость, мышление и речь учащихся, умение делать выводы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7918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Trebuchet MS"/>
              </a:rPr>
              <a:t>5. Выпиши слово, где –ТСЯ без Ь</a:t>
            </a:r>
            <a:br>
              <a:rPr sz="4900"/>
            </a:br>
            <a:endParaRPr b="0" lang="en-US" sz="4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900000" y="3573360"/>
            <a:ext cx="3672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а). любует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900000" y="4365720"/>
            <a:ext cx="6400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). улыбат_ся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). мирит_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7"/>
          <p:cNvSpPr/>
          <p:nvPr/>
        </p:nvSpPr>
        <p:spPr>
          <a:xfrm>
            <a:off x="4284720" y="3573360"/>
            <a:ext cx="64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4788000" y="3645000"/>
            <a:ext cx="100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disney161"/>
          <p:cNvPicPr/>
          <p:nvPr/>
        </p:nvPicPr>
        <p:blipFill>
          <a:blip r:embed="rId2"/>
          <a:stretch/>
        </p:blipFill>
        <p:spPr>
          <a:xfrm>
            <a:off x="7093080" y="3500280"/>
            <a:ext cx="1768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6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2" dur="2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L 0.09392 -0.01412 E">
                                      <p:cBhvr>
                                        <p:cTn id="154" dur="2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6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0.13993 -0.02454 E">
                                      <p:cBhvr>
                                        <p:cTn id="158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7"/>
          <p:cNvSpPr txBox="1"/>
          <p:nvPr/>
        </p:nvSpPr>
        <p:spPr>
          <a:xfrm>
            <a:off x="900000" y="1413000"/>
            <a:ext cx="756144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ЙДЕН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 Unicode MS"/>
              </a:rPr>
              <a:t>СЛЫШАТЬ, ВИДЕТЬ И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 Unicode MS"/>
              </a:rPr>
              <a:t>ОБИДЕТЬ, ГНАТЬ, ДЕРЖАТЬ И НЕНАВИДЕТЬ И ДЫШАТЬ, ТЕРПЕТЬ, ВЕРТЕТЬ, И ЗАВИСЕТЬ И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 Unicode MS"/>
              </a:rPr>
              <a:t>СМОТРЕТЬ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00"/>
                </a:solidFill>
                <a:latin typeface="Arial Unicode MS"/>
              </a:rPr>
              <a:t>II</a:t>
            </a:r>
            <a:r>
              <a:rPr b="1" lang="ru-RU" sz="6600" spc="-1" strike="noStrike">
                <a:solidFill>
                  <a:srgbClr val="990000"/>
                </a:solidFill>
                <a:latin typeface="Arial Unicode MS"/>
              </a:rPr>
              <a:t>-спряжение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4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99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16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826920" y="1413000"/>
            <a:ext cx="7561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ряжени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голов-исключени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990000"/>
                </a:solidFill>
                <a:latin typeface="Trebuchet MS"/>
              </a:rPr>
              <a:t>I-</a:t>
            </a:r>
            <a:r>
              <a:rPr b="0" lang="ru-RU" sz="5900" spc="-1" strike="noStrike">
                <a:solidFill>
                  <a:srgbClr val="990000"/>
                </a:solidFill>
                <a:latin typeface="Trebuchet MS"/>
              </a:rPr>
              <a:t>спряжение</a:t>
            </a:r>
            <a:endParaRPr b="0" lang="en-US" sz="5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3500280"/>
            <a:ext cx="447192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брить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стелить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2"/>
          <p:cNvSpPr txBox="1"/>
          <p:nvPr/>
        </p:nvSpPr>
        <p:spPr>
          <a:xfrm>
            <a:off x="611280" y="2205000"/>
            <a:ext cx="1873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08" name="WordArt 3"/>
          <p:cNvSpPr txBox="1"/>
          <p:nvPr/>
        </p:nvSpPr>
        <p:spPr>
          <a:xfrm>
            <a:off x="3780000" y="1413000"/>
            <a:ext cx="511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вторил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09" name="WordArt 4"/>
          <p:cNvSpPr txBox="1"/>
          <p:nvPr/>
        </p:nvSpPr>
        <p:spPr>
          <a:xfrm>
            <a:off x="3780000" y="2924280"/>
            <a:ext cx="504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апомнил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10" name="WordArt 5"/>
          <p:cNvSpPr txBox="1"/>
          <p:nvPr/>
        </p:nvSpPr>
        <p:spPr>
          <a:xfrm>
            <a:off x="4643280" y="4292640"/>
            <a:ext cx="33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узнал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11" name="Line 6"/>
          <p:cNvSpPr/>
          <p:nvPr/>
        </p:nvSpPr>
        <p:spPr>
          <a:xfrm flipV="1">
            <a:off x="2627280" y="2060640"/>
            <a:ext cx="865080" cy="72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"/>
          <p:cNvSpPr/>
          <p:nvPr/>
        </p:nvSpPr>
        <p:spPr>
          <a:xfrm>
            <a:off x="2700360" y="3357720"/>
            <a:ext cx="863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2700360" y="4076640"/>
            <a:ext cx="1008000" cy="43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Monotype Corsiva"/>
              </a:rPr>
              <a:t>Домашнее задание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468360" y="126828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пражнение 10,  с. 9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10"/>
          <p:cNvSpPr txBox="1"/>
          <p:nvPr/>
        </p:nvSpPr>
        <p:spPr>
          <a:xfrm>
            <a:off x="826920" y="1413000"/>
            <a:ext cx="7561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рная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424456"/>
                </a:solidFill>
                <a:latin typeface="Trebuchet MS"/>
              </a:rPr>
              <a:t>земляника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Picture 11" descr="FOOD1"/>
          <p:cNvPicPr/>
          <p:nvPr/>
        </p:nvPicPr>
        <p:blipFill>
          <a:blip r:embed="rId1"/>
          <a:stretch/>
        </p:blipFill>
        <p:spPr>
          <a:xfrm>
            <a:off x="2700360" y="1628640"/>
            <a:ext cx="39592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rebuchet MS"/>
              </a:rPr>
              <a:t>Транскрипция?</a:t>
            </a:r>
            <a:endParaRPr b="0" lang="en-US" sz="6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з</a:t>
            </a:r>
            <a:r>
              <a:rPr b="1" lang="en-US" sz="80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имл</a:t>
            </a:r>
            <a:r>
              <a:rPr b="1" lang="en-US" sz="80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ан</a:t>
            </a:r>
            <a:r>
              <a:rPr b="1" lang="en-US" sz="80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ика</a:t>
            </a:r>
            <a:r>
              <a:rPr b="1" lang="en-US" sz="8000" spc="-1" strike="noStrike">
                <a:solidFill>
                  <a:srgbClr val="000000"/>
                </a:solidFill>
                <a:latin typeface="Georgia"/>
              </a:rPr>
              <a:t>]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5" descr="Ягодка"/>
          <p:cNvPicPr/>
          <p:nvPr/>
        </p:nvPicPr>
        <p:blipFill>
          <a:blip r:embed="rId1"/>
          <a:stretch/>
        </p:blipFill>
        <p:spPr>
          <a:xfrm rot="1663800">
            <a:off x="2268000" y="4797360"/>
            <a:ext cx="1008360" cy="755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Ягодка"/>
          <p:cNvPicPr/>
          <p:nvPr/>
        </p:nvPicPr>
        <p:blipFill>
          <a:blip r:embed="rId2"/>
          <a:stretch/>
        </p:blipFill>
        <p:spPr>
          <a:xfrm rot="1663800">
            <a:off x="5724000" y="4869000"/>
            <a:ext cx="1008360" cy="755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Ягодка"/>
          <p:cNvPicPr/>
          <p:nvPr/>
        </p:nvPicPr>
        <p:blipFill>
          <a:blip r:embed="rId3"/>
          <a:stretch/>
        </p:blipFill>
        <p:spPr>
          <a:xfrm rot="1663800">
            <a:off x="394920" y="558936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Ягодка"/>
          <p:cNvPicPr/>
          <p:nvPr/>
        </p:nvPicPr>
        <p:blipFill>
          <a:blip r:embed="rId4"/>
          <a:stretch/>
        </p:blipFill>
        <p:spPr>
          <a:xfrm rot="1663800">
            <a:off x="3924000" y="349992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Ягодка"/>
          <p:cNvPicPr/>
          <p:nvPr/>
        </p:nvPicPr>
        <p:blipFill>
          <a:blip r:embed="rId5"/>
          <a:stretch/>
        </p:blipFill>
        <p:spPr>
          <a:xfrm rot="1663800">
            <a:off x="468000" y="342864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Ягодка"/>
          <p:cNvPicPr/>
          <p:nvPr/>
        </p:nvPicPr>
        <p:blipFill>
          <a:blip r:embed="rId6"/>
          <a:stretch/>
        </p:blipFill>
        <p:spPr>
          <a:xfrm rot="1663800">
            <a:off x="7451280" y="349992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Ягодка"/>
          <p:cNvPicPr/>
          <p:nvPr/>
        </p:nvPicPr>
        <p:blipFill>
          <a:blip r:embed="rId7"/>
          <a:stretch/>
        </p:blipFill>
        <p:spPr>
          <a:xfrm rot="1663800">
            <a:off x="7524360" y="566064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Ягодка"/>
          <p:cNvPicPr/>
          <p:nvPr/>
        </p:nvPicPr>
        <p:blipFill>
          <a:blip r:embed="rId8"/>
          <a:stretch/>
        </p:blipFill>
        <p:spPr>
          <a:xfrm rot="1663800">
            <a:off x="4066920" y="5373360"/>
            <a:ext cx="100800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6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42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6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9" descr="шшшшшшшш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424456"/>
                </a:solidFill>
                <a:latin typeface="Trebuchet MS"/>
              </a:rPr>
              <a:t>деревня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Picture 3" descr="tree23"/>
          <p:cNvPicPr/>
          <p:nvPr/>
        </p:nvPicPr>
        <p:blipFill>
          <a:blip r:embed="rId2"/>
          <a:stretch/>
        </p:blipFill>
        <p:spPr>
          <a:xfrm flipH="1">
            <a:off x="6962400" y="4076640"/>
            <a:ext cx="2181240" cy="2300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tree23"/>
          <p:cNvPicPr/>
          <p:nvPr/>
        </p:nvPicPr>
        <p:blipFill>
          <a:blip r:embed="rId3"/>
          <a:stretch/>
        </p:blipFill>
        <p:spPr>
          <a:xfrm>
            <a:off x="0" y="3068640"/>
            <a:ext cx="3321000" cy="378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08"/>
          <p:cNvPicPr/>
          <p:nvPr/>
        </p:nvPicPr>
        <p:blipFill>
          <a:blip r:embed="rId4"/>
          <a:stretch/>
        </p:blipFill>
        <p:spPr>
          <a:xfrm>
            <a:off x="0" y="4876920"/>
            <a:ext cx="1370160" cy="1981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c073891д49cf72"/>
          <p:cNvPicPr/>
          <p:nvPr/>
        </p:nvPicPr>
        <p:blipFill>
          <a:blip r:embed="rId5"/>
          <a:stretch/>
        </p:blipFill>
        <p:spPr>
          <a:xfrm>
            <a:off x="8183520" y="5084640"/>
            <a:ext cx="960480" cy="154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tree23"/>
          <p:cNvPicPr/>
          <p:nvPr/>
        </p:nvPicPr>
        <p:blipFill>
          <a:blip r:embed="rId6"/>
          <a:stretch/>
        </p:blipFill>
        <p:spPr>
          <a:xfrm flipH="1">
            <a:off x="6011640" y="2970360"/>
            <a:ext cx="3398760" cy="3887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377f0857764b"/>
          <p:cNvPicPr/>
          <p:nvPr/>
        </p:nvPicPr>
        <p:blipFill>
          <a:blip r:embed="rId7"/>
          <a:stretch/>
        </p:blipFill>
        <p:spPr>
          <a:xfrm>
            <a:off x="7020000" y="189000"/>
            <a:ext cx="19396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0000"/>
                </a:solidFill>
                <a:latin typeface="Trebuchet MS"/>
              </a:rPr>
              <a:t>Транскрипция?</a:t>
            </a:r>
            <a:endParaRPr b="0" lang="en-US" sz="5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д</a:t>
            </a: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ир</a:t>
            </a: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эвн</a:t>
            </a: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]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оо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08"/>
          <p:cNvPicPr/>
          <p:nvPr/>
        </p:nvPicPr>
        <p:blipFill>
          <a:blip r:embed="rId3"/>
          <a:stretch/>
        </p:blipFill>
        <p:spPr>
          <a:xfrm>
            <a:off x="2556000" y="4869000"/>
            <a:ext cx="1008000" cy="145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073891д49cf72"/>
          <p:cNvPicPr/>
          <p:nvPr/>
        </p:nvPicPr>
        <p:blipFill>
          <a:blip r:embed="rId4"/>
          <a:stretch/>
        </p:blipFill>
        <p:spPr>
          <a:xfrm>
            <a:off x="4427640" y="5373720"/>
            <a:ext cx="8334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3"/>
          <p:cNvSpPr txBox="1"/>
          <p:nvPr/>
        </p:nvSpPr>
        <p:spPr>
          <a:xfrm>
            <a:off x="826920" y="1413000"/>
            <a:ext cx="7561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ЧА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6" name="Picture 8" descr="disney078"/>
          <p:cNvPicPr/>
          <p:nvPr/>
        </p:nvPicPr>
        <p:blipFill>
          <a:blip r:embed="rId1"/>
          <a:stretch/>
        </p:blipFill>
        <p:spPr>
          <a:xfrm>
            <a:off x="468360" y="4724280"/>
            <a:ext cx="1582560" cy="1873440"/>
          </a:xfrm>
          <a:prstGeom prst="rect">
            <a:avLst/>
          </a:prstGeom>
          <a:ln w="0">
            <a:noFill/>
          </a:ln>
        </p:spPr>
      </p:pic>
      <p:sp>
        <p:nvSpPr>
          <p:cNvPr id="247" name="WordArt 9"/>
          <p:cNvSpPr txBox="1"/>
          <p:nvPr/>
        </p:nvSpPr>
        <p:spPr>
          <a:xfrm>
            <a:off x="826920" y="1413000"/>
            <a:ext cx="7561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ЧА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WordArt 10"/>
          <p:cNvSpPr txBox="1"/>
          <p:nvPr/>
        </p:nvSpPr>
        <p:spPr>
          <a:xfrm>
            <a:off x="826920" y="1413000"/>
            <a:ext cx="7561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ЧА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9" name="WordArt 11"/>
          <p:cNvSpPr txBox="1"/>
          <p:nvPr/>
        </p:nvSpPr>
        <p:spPr>
          <a:xfrm>
            <a:off x="826920" y="1413000"/>
            <a:ext cx="7561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ЧА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0:31:19Z</dcterms:created>
  <dc:creator>директор</dc:creator>
  <dc:description/>
  <dc:language>en-US</dc:language>
  <cp:lastModifiedBy>user</cp:lastModifiedBy>
  <dcterms:modified xsi:type="dcterms:W3CDTF">2018-06-27T10:57:35Z</dcterms:modified>
  <cp:revision>13</cp:revision>
  <dc:subject/>
  <dc:title>Слайд 1</dc:title>
</cp:coreProperties>
</file>