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86D3-0E7F-4CB0-B6C6-46B9BA2C5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1F2B-2ED8-4558-922E-CE5ECB8F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0E39-44BF-4405-AF16-50EC0CAA0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5F88-F1DF-47B6-A74B-7CB4029C0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D499-8403-4402-BFFC-033F3E9F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A52D-7396-454B-9CD5-3990DBDC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CD10-BC15-40CA-80D5-6213E12E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C06F-570B-4A2C-A128-8B5FE70A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C910-E425-4D21-A78B-BADCA941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CE87-0B8E-4662-811E-5B1AB733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8474-82DD-44DD-9897-677CE487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55B2-E273-4F71-9AB7-B86D45DE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E909-57D8-4CC6-8C32-22A62707134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hdw.eweb4.com/wallpapers/5678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ÐÐ°ÑÑÐ¸Ð½ÐºÐ¸ Ð¿Ð¾ Ð·Ð°Ð¿ÑÐ¾ÑÑ ÑÐ»ÐµÐºÑÑÐ¾Ð½Ð½Ð¾Ðµ Ð¿Ð¸ÑÑÐ¼Ð¾"/>
          <p:cNvPicPr/>
          <p:nvPr/>
        </p:nvPicPr>
        <p:blipFill>
          <a:blip r:embed="rId1"/>
          <a:stretch/>
        </p:blipFill>
        <p:spPr>
          <a:xfrm>
            <a:off x="179280" y="115920"/>
            <a:ext cx="878544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5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" name="Picture 7" descr="ÐÐ°Ð¹Ð´Ð¸ ÑÐ»Ð°Ð³ Ð Ð¾ÑÑÐ¸Ð¸ 1 2 3 4 "/>
          <p:cNvPicPr/>
          <p:nvPr/>
        </p:nvPicPr>
        <p:blipFill>
          <a:blip r:embed="rId1"/>
          <a:stretch/>
        </p:blipFill>
        <p:spPr>
          <a:xfrm>
            <a:off x="316080" y="404640"/>
            <a:ext cx="8503920" cy="612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ÐÐ°Ð¹Ð´Ð¸ ÑÐ»Ð°Ð³ Ð Ð¾ÑÑÐ¸Ð¸ 1 2 3 4 "/>
          <p:cNvPicPr/>
          <p:nvPr/>
        </p:nvPicPr>
        <p:blipFill>
          <a:blip r:embed="rId2"/>
          <a:stretch/>
        </p:blipFill>
        <p:spPr>
          <a:xfrm>
            <a:off x="163440" y="160200"/>
            <a:ext cx="8801280" cy="65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флаг"/>
          <p:cNvPicPr/>
          <p:nvPr/>
        </p:nvPicPr>
        <p:blipFill>
          <a:blip r:embed="rId1"/>
          <a:stretch/>
        </p:blipFill>
        <p:spPr>
          <a:xfrm>
            <a:off x="1692360" y="1417680"/>
            <a:ext cx="576108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ÐÐ°Ð¹Ð´Ð¸ Ð³ÐµÑÐ± Ð Ð¾ÑÑÐ¸Ð¸ 1 2 3 4 "/>
          <p:cNvPicPr/>
          <p:nvPr/>
        </p:nvPicPr>
        <p:blipFill>
          <a:blip r:embed="rId1"/>
          <a:stretch/>
        </p:blipFill>
        <p:spPr>
          <a:xfrm>
            <a:off x="138240" y="123840"/>
            <a:ext cx="885636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1" descr="http://www.wecowi.de/images/thumb/a/a8/Russland-Wappen.svg/480px-Russland-Wappen.svg.png"/>
          <p:cNvPicPr/>
          <p:nvPr/>
        </p:nvPicPr>
        <p:blipFill>
          <a:blip r:embed="rId1"/>
          <a:stretch/>
        </p:blipFill>
        <p:spPr>
          <a:xfrm>
            <a:off x="2340000" y="1173240"/>
            <a:ext cx="409572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Пользователь\Desktop\9.jpg"/>
          <p:cNvPicPr/>
          <p:nvPr/>
        </p:nvPicPr>
        <p:blipFill>
          <a:blip r:embed="rId1"/>
          <a:stretch/>
        </p:blipFill>
        <p:spPr>
          <a:xfrm>
            <a:off x="2160720" y="476280"/>
            <a:ext cx="4897440" cy="5905440"/>
          </a:xfrm>
          <a:prstGeom prst="rect">
            <a:avLst/>
          </a:prstGeom>
          <a:ln w="0">
            <a:noFill/>
          </a:ln>
        </p:spPr>
      </p:pic>
      <p:pic>
        <p:nvPicPr>
          <p:cNvPr id="62" name="Gimn-ROSSII_1_kuplet_ (1).mp3" descr=""/>
          <p:cNvPicPr/>
          <p:nvPr/>
        </p:nvPicPr>
        <p:blipFill>
          <a:blip r:embed="rId2"/>
          <a:stretch/>
        </p:blipFill>
        <p:spPr>
          <a:xfrm>
            <a:off x="28440" y="279864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179280" y="981000"/>
            <a:ext cx="8810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8" descr="ÐÐ°ÑÑÐ¸Ð½ÐºÐ¸ Ð¿Ð¾ Ð·Ð°Ð¿ÑÐ¾ÑÑ Ð¤Ð¾ÑÐ¾ ÐºÑÐ°ÑÐ¸Ð²Ð¾Ð¹ ÐÐµÑÐµÐ·Ñ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971640" y="765000"/>
            <a:ext cx="7178760" cy="56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50560" y="2491920"/>
            <a:ext cx="85690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5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1106640" y="260280"/>
            <a:ext cx="6921360" cy="410364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1"/>
          <p:cNvSpPr/>
          <p:nvPr/>
        </p:nvSpPr>
        <p:spPr>
          <a:xfrm>
            <a:off x="684360" y="4581360"/>
            <a:ext cx="792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дравствуйте ребята из группы «Радуга»! Мы такие же дети как и вы из детского сада который находится в далекой стране Австралия, мы любим нашу страну, много знаем о ней, но очень - очень мало знаем о России. Мы бы хотели намного больше узнать о вашей стране, помогите нам ребя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ÐÐ°ÑÑÐ¸Ð½ÐºÐ¸ Ð¿Ð¾ Ð·Ð°Ð¿ÑÐ¾ÑÑ Ð Ð¾ÑÑÐ¸Ñ ÐºÐ°ÑÑÐ° Ð´Ð»Ñ Ð´Ð¾ÑÐºÐ¾Ð»ÑÐ½Ð¸ÐºÐ¾Ð²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ÐÐ°ÑÑÐ¸Ð½ÐºÐ¸ Ð¿Ð¾ Ð·Ð°Ð¿ÑÐ¾ÑÑ Ð¤Ð¾ÑÐ¾ Ð±Ð¾Ð³Ð°ÑÑÑÐ²Ð° Ð Ð¾ÑÑÐ¸Ð¸"/>
          <p:cNvPicPr/>
          <p:nvPr/>
        </p:nvPicPr>
        <p:blipFill>
          <a:blip r:embed="rId1"/>
          <a:stretch/>
        </p:blipFill>
        <p:spPr>
          <a:xfrm>
            <a:off x="171360" y="189000"/>
            <a:ext cx="8785440" cy="64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ÐÐ°ÑÑÐ¸Ð½ÐºÐ¸ Ð¿Ð¾ Ð·Ð°Ð¿ÑÐ¾ÑÑ ÐÐ¸Ð²Ð¾ÑÐ½ÑÐµ  Ð Ð¾ÑÑÐ¸Ð¸"/>
          <p:cNvPicPr/>
          <p:nvPr/>
        </p:nvPicPr>
        <p:blipFill>
          <a:blip r:embed="rId1"/>
          <a:stretch/>
        </p:blipFill>
        <p:spPr>
          <a:xfrm>
            <a:off x="174600" y="133200"/>
            <a:ext cx="885672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ÐÐ°ÑÑÐ¸Ð½ÐºÐ¸ Ð¿Ð¾ Ð·Ð°Ð¿ÑÐ¾ÑÑ ÐÐ½Ð¾Ð³Ð¾Ð½Ð°ÑÐ¸Ð¾Ð½Ð°Ð»ÑÐ½Ð°Ñ Ð Ð¾ÑÑÐ¸Ñ"/>
          <p:cNvPicPr/>
          <p:nvPr/>
        </p:nvPicPr>
        <p:blipFill>
          <a:blip r:embed="rId1"/>
          <a:stretch/>
        </p:blipFill>
        <p:spPr>
          <a:xfrm>
            <a:off x="108000" y="260280"/>
            <a:ext cx="89280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Red Square, Moscow Wallpap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8856720" cy="6480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2"/>
          <p:cNvSpPr/>
          <p:nvPr/>
        </p:nvSpPr>
        <p:spPr>
          <a:xfrm>
            <a:off x="611280" y="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сква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www.neonett.ru/wp-content/uploads/2008/04/45007.jpg"/>
          <p:cNvPicPr/>
          <p:nvPr/>
        </p:nvPicPr>
        <p:blipFill>
          <a:blip r:embed="rId1"/>
          <a:stretch/>
        </p:blipFill>
        <p:spPr>
          <a:xfrm>
            <a:off x="-23760" y="0"/>
            <a:ext cx="9156600" cy="68673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"/>
          <p:cNvSpPr/>
          <p:nvPr/>
        </p:nvSpPr>
        <p:spPr>
          <a:xfrm>
            <a:off x="3006720" y="333360"/>
            <a:ext cx="471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сная площад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http://www.offshore-technology.com/uploads/newsarticle/740518/images/150382/large/putin%20l.jpg"/>
          <p:cNvPicPr/>
          <p:nvPr/>
        </p:nvPicPr>
        <p:blipFill>
          <a:blip r:embed="rId1"/>
          <a:stretch/>
        </p:blipFill>
        <p:spPr>
          <a:xfrm>
            <a:off x="179280" y="189000"/>
            <a:ext cx="4426200" cy="63594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1"/>
          <p:cNvSpPr/>
          <p:nvPr/>
        </p:nvSpPr>
        <p:spPr>
          <a:xfrm>
            <a:off x="5076720" y="1473120"/>
            <a:ext cx="3816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зидент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утин В.В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09:02:50Z</dcterms:created>
  <dc:creator>уч</dc:creator>
  <dc:description/>
  <dc:language>en-US</dc:language>
  <cp:lastModifiedBy>HP</cp:lastModifiedBy>
  <dcterms:modified xsi:type="dcterms:W3CDTF">2018-06-28T17:02:39Z</dcterms:modified>
  <cp:revision>116</cp:revision>
  <dc:subject/>
  <dc:title>Русская гостиная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2210000000000010250600207f5000400038000</vt:lpwstr>
  </property>
</Properties>
</file>