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D03-22C2-4C90-8D93-EE85AE9F1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D4FE-907A-4051-815E-21A4403D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830-7017-4FBC-AFB8-77545D8DB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5780-FE56-419D-85FA-A63A88DD9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83B3-B5E3-4B14-A090-44FA27EE6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4B61-EB4C-4E5D-B004-091A6DE02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3352-0EB1-4223-86D6-9F77343E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13F-E28D-4C92-B3D9-B83DFAC05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7035-4CE2-4AA3-AEFB-02D4EDEFF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0B24-5A29-4680-BE31-DA7DA4973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FA72-E799-47EB-B19C-12BAD40F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89D8-0C88-4991-90A1-3469604A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3327-A5B4-46FD-A689-955637768A2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hdw.eweb4.com/wallpapers/5678/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ÐÐ°ÑÑÐ¸Ð½ÐºÐ¸ Ð¿Ð¾ Ð·Ð°Ð¿ÑÐ¾ÑÑ ÑÐ»ÐµÐºÑÑÐ¾Ð½Ð½Ð¾Ðµ Ð¿Ð¸ÑÑÐ¼Ð¾"/>
          <p:cNvPicPr/>
          <p:nvPr/>
        </p:nvPicPr>
        <p:blipFill>
          <a:blip r:embed="rId1"/>
          <a:stretch/>
        </p:blipFill>
        <p:spPr>
          <a:xfrm>
            <a:off x="179280" y="115920"/>
            <a:ext cx="878544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5"/>
          <p:cNvSpPr/>
          <p:nvPr/>
        </p:nvSpPr>
        <p:spPr>
          <a:xfrm>
            <a:off x="16344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7" descr="ÐÐ°Ð¹Ð´Ð¸ ÑÐ»Ð°Ð³ Ð Ð¾ÑÑÐ¸Ð¸ 1 2 3 4 "/>
          <p:cNvPicPr/>
          <p:nvPr/>
        </p:nvPicPr>
        <p:blipFill>
          <a:blip r:embed="rId1"/>
          <a:stretch/>
        </p:blipFill>
        <p:spPr>
          <a:xfrm>
            <a:off x="316080" y="404640"/>
            <a:ext cx="8503920" cy="6120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ÐÐ°Ð¹Ð´Ð¸ ÑÐ»Ð°Ð³ Ð Ð¾ÑÑÐ¸Ð¸ 1 2 3 4 "/>
          <p:cNvPicPr/>
          <p:nvPr/>
        </p:nvPicPr>
        <p:blipFill>
          <a:blip r:embed="rId2"/>
          <a:stretch/>
        </p:blipFill>
        <p:spPr>
          <a:xfrm>
            <a:off x="163440" y="160200"/>
            <a:ext cx="880128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6" descr="флаг"/>
          <p:cNvPicPr/>
          <p:nvPr/>
        </p:nvPicPr>
        <p:blipFill>
          <a:blip r:embed="rId1"/>
          <a:stretch/>
        </p:blipFill>
        <p:spPr>
          <a:xfrm>
            <a:off x="1692360" y="1417680"/>
            <a:ext cx="57610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ÐÐ°Ð¹Ð´Ð¸ Ð³ÐµÑÐ± Ð Ð¾ÑÑÐ¸Ð¸ 1 2 3 4 "/>
          <p:cNvPicPr/>
          <p:nvPr/>
        </p:nvPicPr>
        <p:blipFill>
          <a:blip r:embed="rId1"/>
          <a:stretch/>
        </p:blipFill>
        <p:spPr>
          <a:xfrm>
            <a:off x="138240" y="123840"/>
            <a:ext cx="885636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1" descr="http://www.wecowi.de/images/thumb/a/a8/Russland-Wappen.svg/480px-Russland-Wappen.svg.png"/>
          <p:cNvPicPr/>
          <p:nvPr/>
        </p:nvPicPr>
        <p:blipFill>
          <a:blip r:embed="rId1"/>
          <a:stretch/>
        </p:blipFill>
        <p:spPr>
          <a:xfrm>
            <a:off x="2340000" y="1173240"/>
            <a:ext cx="409572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:\Users\Пользователь\Desktop\9.jpg"/>
          <p:cNvPicPr/>
          <p:nvPr/>
        </p:nvPicPr>
        <p:blipFill>
          <a:blip r:embed="rId1"/>
          <a:stretch/>
        </p:blipFill>
        <p:spPr>
          <a:xfrm>
            <a:off x="2160720" y="476280"/>
            <a:ext cx="4897440" cy="5905440"/>
          </a:xfrm>
          <a:prstGeom prst="rect">
            <a:avLst/>
          </a:prstGeom>
          <a:ln w="0">
            <a:noFill/>
          </a:ln>
        </p:spPr>
      </p:pic>
      <p:pic>
        <p:nvPicPr>
          <p:cNvPr id="62" name="Gimn-ROSSII_1_kuplet_ (1).mp3" descr=""/>
          <p:cNvPicPr/>
          <p:nvPr/>
        </p:nvPicPr>
        <p:blipFill>
          <a:blip r:embed="rId2"/>
          <a:stretch/>
        </p:blipFill>
        <p:spPr>
          <a:xfrm>
            <a:off x="28440" y="279864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79280" y="981000"/>
            <a:ext cx="88106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ÐÐ°ÑÑÐ¸Ð½ÐºÐ¸ Ð¿Ð¾ Ð·Ð°Ð¿ÑÐ¾ÑÑ Ð¤Ð¾ÑÐ¾ ÐºÑÐ°ÑÐ¸Ð²Ð¾Ð¹ ÐÐµÑÐµÐ·Ñ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971640" y="765000"/>
            <a:ext cx="7178760" cy="56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50560" y="2491920"/>
            <a:ext cx="856908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Picture 5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106640" y="260280"/>
            <a:ext cx="6921360" cy="4103640"/>
          </a:xfrm>
          <a:prstGeom prst="rect">
            <a:avLst/>
          </a:prstGeom>
          <a:ln w="0">
            <a:noFill/>
          </a:ln>
        </p:spPr>
      </p:pic>
      <p:sp>
        <p:nvSpPr>
          <p:cNvPr id="44" name="Прямоугольник 1"/>
          <p:cNvSpPr/>
          <p:nvPr/>
        </p:nvSpPr>
        <p:spPr>
          <a:xfrm>
            <a:off x="684360" y="458136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равствуйте ребята из группы «Радуга»! Мы такие же дети как и вы из детского сада который находится в далекой стране Австралия, мы любим нашу страну, много знаем о ней, но очень - очень мало знаем о России. Мы бы хотели намного больше узнать о вашей стране, помогите нам ребя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ÐÐ°ÑÑÐ¸Ð½ÐºÐ¸ Ð¿Ð¾ Ð·Ð°Ð¿ÑÐ¾ÑÑ Ð Ð¾ÑÑÐ¸Ñ ÐºÐ°ÑÑÐ° Ð´Ð»Ñ Ð´Ð¾ÑÐºÐ¾Ð»ÑÐ½Ð¸ÐºÐ¾Ð²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ÐÐ°ÑÑÐ¸Ð½ÐºÐ¸ Ð¿Ð¾ Ð·Ð°Ð¿ÑÐ¾ÑÑ Ð¤Ð¾ÑÐ¾ Ð±Ð¾Ð³Ð°ÑÑÑÐ²Ð° Ð Ð¾ÑÑÐ¸Ð¸"/>
          <p:cNvPicPr/>
          <p:nvPr/>
        </p:nvPicPr>
        <p:blipFill>
          <a:blip r:embed="rId1"/>
          <a:stretch/>
        </p:blipFill>
        <p:spPr>
          <a:xfrm>
            <a:off x="171360" y="189000"/>
            <a:ext cx="8785440" cy="64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ÐÐ°ÑÑÐ¸Ð½ÐºÐ¸ Ð¿Ð¾ Ð·Ð°Ð¿ÑÐ¾ÑÑ ÐÐ¸Ð²Ð¾ÑÐ½ÑÐµ  Ð Ð¾ÑÑÐ¸Ð¸"/>
          <p:cNvPicPr/>
          <p:nvPr/>
        </p:nvPicPr>
        <p:blipFill>
          <a:blip r:embed="rId1"/>
          <a:stretch/>
        </p:blipFill>
        <p:spPr>
          <a:xfrm>
            <a:off x="174600" y="133200"/>
            <a:ext cx="8856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ÐÐ°ÑÑÐ¸Ð½ÐºÐ¸ Ð¿Ð¾ Ð·Ð°Ð¿ÑÐ¾ÑÑ ÐÐ½Ð¾Ð³Ð¾Ð½Ð°ÑÐ¸Ð¾Ð½Ð°Ð»ÑÐ½Ð°Ñ Ð Ð¾ÑÑÐ¸Ñ"/>
          <p:cNvPicPr/>
          <p:nvPr/>
        </p:nvPicPr>
        <p:blipFill>
          <a:blip r:embed="rId1"/>
          <a:stretch/>
        </p:blipFill>
        <p:spPr>
          <a:xfrm>
            <a:off x="108000" y="260280"/>
            <a:ext cx="892800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Red Square, Moscow 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8856720" cy="648000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2"/>
          <p:cNvSpPr/>
          <p:nvPr/>
        </p:nvSpPr>
        <p:spPr>
          <a:xfrm>
            <a:off x="611280" y="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сква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www.neonett.ru/wp-content/uploads/2008/04/45007.jpg"/>
          <p:cNvPicPr/>
          <p:nvPr/>
        </p:nvPicPr>
        <p:blipFill>
          <a:blip r:embed="rId1"/>
          <a:stretch/>
        </p:blipFill>
        <p:spPr>
          <a:xfrm>
            <a:off x="-23760" y="0"/>
            <a:ext cx="9156600" cy="686736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3006720" y="333360"/>
            <a:ext cx="471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 площад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http://www.offshore-technology.com/uploads/newsarticle/740518/images/150382/large/putin%20l.jpg"/>
          <p:cNvPicPr/>
          <p:nvPr/>
        </p:nvPicPr>
        <p:blipFill>
          <a:blip r:embed="rId1"/>
          <a:stretch/>
        </p:blipFill>
        <p:spPr>
          <a:xfrm>
            <a:off x="179280" y="189000"/>
            <a:ext cx="4426200" cy="635940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1"/>
          <p:cNvSpPr/>
          <p:nvPr/>
        </p:nvSpPr>
        <p:spPr>
          <a:xfrm>
            <a:off x="5076720" y="1473120"/>
            <a:ext cx="3816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зидент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утин В.В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09:02:50Z</dcterms:created>
  <dc:creator>уч</dc:creator>
  <dc:description/>
  <dc:language>en-US</dc:language>
  <cp:lastModifiedBy>HP</cp:lastModifiedBy>
  <dcterms:modified xsi:type="dcterms:W3CDTF">2018-06-28T17:02:39Z</dcterms:modified>
  <cp:revision>116</cp:revision>
  <dc:subject/>
  <dc:title>Русская гостиная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2210000000000010250600207f5000400038000</vt:lpwstr>
  </property>
</Properties>
</file>