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9599A-EA1E-477E-980A-15C52D06DED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8BACC4-9BDA-460D-9FF9-8B8087FA1A3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DC91BB-1E40-4044-9996-CE82AE78355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A134A-4FB5-467D-AECC-1C9B0DDC47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29704-E2C2-473A-9626-D921049E4C6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E4803E-1C37-4A14-A7F9-DC414B0087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51FB1C-8909-4357-8B05-FCD48574FBC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32EF6-EBFA-409C-9D62-7672080BB25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6AA852-CC8C-4A94-9697-8BAEE280637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D5307A-14A5-4D9B-A19F-28453945C8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07990-3D6F-4528-8BBB-8860AA2D951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D431-3D6A-4CD8-B778-16EF85F1F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C7A-F2CF-4CB7-87EF-0ECD60D22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3AD-2D3D-49FD-B7BB-C5F6BD7F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D552-8C05-4F94-94E3-6F3766FD6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1BA6-B012-4BB8-A279-BB02F3D1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8B98-DD6E-445A-B32E-4D09090E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8C82-7B70-4C4B-8A50-D8986F0A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FFFE-1C3A-46A0-AEA3-A638940D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-360"/>
            <a:ext cx="8227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CCB7-BD5F-404C-B501-24126751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6512-EAE6-4367-B803-E130D070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682A-FFF1-4E50-8C3B-B701B02C0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FFA2-AEC7-474F-AF15-C18EF8ADC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D268A4-BCD6-449D-A37E-C35BD7D5AD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720720" y="158760"/>
            <a:ext cx="760104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Христианские мотивы в творчеств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alibri"/>
              </a:rPr>
              <a:t>А.С.Пушк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1339920" y="3600360"/>
            <a:ext cx="64008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071680" y="2357280"/>
            <a:ext cx="361332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втор: Алфёрова Ольга Юрьевна, ученица 9А класса МБОУ «СОШ №8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учный руководитель: Телегина                                                              Лариса Леонид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ushkin_tropinin"/>
          <p:cNvPicPr/>
          <p:nvPr/>
        </p:nvPicPr>
        <p:blipFill>
          <a:blip r:embed="rId1"/>
          <a:stretch/>
        </p:blipFill>
        <p:spPr>
          <a:xfrm>
            <a:off x="1143000" y="2286000"/>
            <a:ext cx="2967120" cy="4183200"/>
          </a:xfrm>
          <a:prstGeom prst="rect">
            <a:avLst/>
          </a:prstGeom>
          <a:ln w="0">
            <a:noFill/>
          </a:ln>
        </p:spPr>
      </p:pic>
    </p:spTree>
  </p:cSld>
  <p:transition spd="med"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82962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«Пророке» Пушкин часто использует эпитеты: «духовной», «мрачной», «трепетное»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о сочетание эпитета с существительным становится метафорой: «духовная жажда», «мрачная пустыня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332640" indent="-332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4000" spc="-1" strike="noStrike">
                <a:solidFill>
                  <a:srgbClr val="22228b"/>
                </a:solidFill>
                <a:latin typeface="Times New Roman"/>
                <a:ea typeface="Times New Roman"/>
              </a:rPr>
              <a:t>В стихотворении звучит тема важности утверждения себя в мире через очищение и муки. Бог не жесток, он показывает человеку единственный путь в жизни через переделку себя, навстречу людя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488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раз библейского пророка, поучающего и спасающего свой народ, служит примером для А. Пушк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Documents and Settings\Admin\Рабочий стол\пушкин1\pushkin1.jpg"/>
          <p:cNvPicPr/>
          <p:nvPr/>
        </p:nvPicPr>
        <p:blipFill>
          <a:blip r:embed="rId1"/>
          <a:stretch/>
        </p:blipFill>
        <p:spPr>
          <a:xfrm>
            <a:off x="5357880" y="1974960"/>
            <a:ext cx="321480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"/>
          <p:cNvSpPr/>
          <p:nvPr/>
        </p:nvSpPr>
        <p:spPr>
          <a:xfrm>
            <a:off x="525600" y="0"/>
            <a:ext cx="8115120" cy="2039760"/>
          </a:xfrm>
          <a:prstGeom prst="rect">
            <a:avLst/>
          </a:prstGeom>
          <a:solidFill>
            <a:srgbClr val="c2f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.3.Переписка Пушкина с митрополитом Филарет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720720" y="2133720"/>
            <a:ext cx="7920000" cy="66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ой 1829/1830 годов состоялась знаменитая поэтическая переписка поэта со святителем Филаретом Московским. Отцу Филарету было адресовано следующее стихотвор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р напрасный, дар случайный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изнь, зачем ты мне да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ь зачем судьбою тай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ы на казнь осужд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то меня враждебной власт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ничтожества воззва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ушу мне наполнил страсть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м сомненьем взволновал?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и нет передо мно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дце пусто, празден у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томит меня тоск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озвучный жизни шу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85840" y="142920"/>
            <a:ext cx="8956440" cy="69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Святитель Филарет, используя поэтическую фор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пушкинского стихотворения, дал пастырский отв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на все поставленные в нём вопросы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о смысле жизни и смер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о действующих в душе страстях и о пути избавления от ни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напрасно, не случай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Жизнь от Бога мне да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Не без Бога воли тай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на казнь осужд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ам я своенравной власть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ло из тёмных бездн воззва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ам наполнил душу страстью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Ум сомненьем взволнов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Вспомнись мне, забвенный мною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Просияй сквозь сумрак дум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И созиждится Тобо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Сердце чисто, светел у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600"/>
            </a:b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Пушкин в свою очередь ответил на это следующим стихотворением: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856880"/>
            <a:ext cx="399420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8585e0"/>
                </a:solidFill>
                <a:latin typeface="Arial"/>
              </a:rPr>
              <a:t>В часы забав иль праздной ску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Вверял изнеженные зву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Бывало, лире я мо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Безумства, лени и стра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Но и тогда струны лука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Невольно звон я прерыв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Когда твой голос велича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Меня внезапно пораж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Я лил потоки слёз нежданны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И ранам совести мо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785840" y="1856880"/>
            <a:ext cx="3899160" cy="4272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Твоих речей благоух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Отраден чистый был 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И ныне с высоты дух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Мне руку простираешь 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И силой кроткой и люб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Смиряешь бурные меч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Твоим огнём душа пал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Отвергла мрак земных су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И внемлет арфе Сераф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800" spc="-1" strike="noStrike">
                <a:solidFill>
                  <a:srgbClr val="8585e0"/>
                </a:solidFill>
                <a:latin typeface="Arial"/>
              </a:rPr>
              <a:t>В священном ужасе поэ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Отзыв на стихи святителя был крайне важен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4880"/>
            <a:ext cx="40370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тому что должен был указать всю его дальнейшую судьбу, более того - предопределить в смысле добровольного выбора пути духовной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:\Documents and Settings\Admin\Рабочий стол\пушкин1\image001.jpg"/>
          <p:cNvPicPr/>
          <p:nvPr/>
        </p:nvPicPr>
        <p:blipFill>
          <a:blip r:embed="rId1"/>
          <a:stretch/>
        </p:blipFill>
        <p:spPr>
          <a:xfrm>
            <a:off x="5143680" y="2014560"/>
            <a:ext cx="3520800" cy="39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457200" y="274680"/>
            <a:ext cx="82296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3.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457200" y="1600200"/>
            <a:ext cx="403704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Умнейшим и глубочайшим русским человеком своего времени» называл Пушкина Ф.М. Достоевски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464832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4500720" y="1260360"/>
            <a:ext cx="3992400" cy="535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425520" y="0"/>
            <a:ext cx="822960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alibri"/>
              </a:rPr>
              <a:t>О великом поэте писал  И.С. Тургене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549360" y="1619280"/>
            <a:ext cx="3589200" cy="46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«Пушкин был не только самым талантливым, но и самым русским человеком того времен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464832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040360" y="1460520"/>
            <a:ext cx="3668760" cy="519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646160" y="160488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ушкин был одним из первых, крупнейших политических мыслителей и поборников национального возрождения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" descr="E:\новое\новое\pushkin_10.jpg"/>
          <p:cNvPicPr/>
          <p:nvPr/>
        </p:nvPicPr>
        <p:blipFill>
          <a:blip r:embed="rId1"/>
          <a:stretch/>
        </p:blipFill>
        <p:spPr>
          <a:xfrm>
            <a:off x="571680" y="2071800"/>
            <a:ext cx="374796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абота состоит из следу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част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357120" y="2143080"/>
            <a:ext cx="9183600" cy="81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1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держа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Вступление. Пушкин как нравственная личность и православный христиан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ктуальность выбранной т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«Духовной жаждою томи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1.«Отцы пустынники...» - поэтическое перерождение молитвы  святого Ефрема Сир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. «Пророк» - Роль поэта и поэзии в жизни общ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3.Переписка Пушкина с митрополитом  Филаре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.Заклю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643280" y="1142640"/>
            <a:ext cx="4042080" cy="5429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«Надо учить молодёжь, что непонимание Пушкина есть величайшая неблагодарность, что, не понимая Пушкина, нельзя назваться русским человеком», - пис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Ф. Достоевский в 1877 году в подготовительных материалах к «Дневнику писател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C:\Documents and Settings\Admin\Рабочий стол\Пушкин\pushkin_26.jpg"/>
          <p:cNvPicPr/>
          <p:nvPr/>
        </p:nvPicPr>
        <p:blipFill>
          <a:blip r:embed="rId1"/>
          <a:stretch/>
        </p:blipFill>
        <p:spPr>
          <a:xfrm>
            <a:off x="125280" y="2403360"/>
            <a:ext cx="43689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46160" y="160488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Практическая значимость моего исследования заключается в том, что я сделал попытку осмыслить творчество Пушкина с точки зрения православного мировосприя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9" descr="C:\Documents and Settings\Admin\Рабочий стол\Пушкин\131px-PushkinCoin.jpg"/>
          <p:cNvPicPr/>
          <p:nvPr/>
        </p:nvPicPr>
        <p:blipFill>
          <a:blip r:embed="rId1"/>
          <a:stretch/>
        </p:blipFill>
        <p:spPr>
          <a:xfrm>
            <a:off x="712800" y="1928880"/>
            <a:ext cx="411156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20484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4. Список используемой литературы</a:t>
            </a:r>
            <a:r>
              <a:rPr b="1" lang="en-US" sz="3200" spc="-1" strike="noStrike">
                <a:solidFill>
                  <a:srgbClr val="ff3366"/>
                </a:solidFill>
                <a:latin typeface="Times New Roman"/>
              </a:rPr>
              <a:t>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57120" y="1642680"/>
            <a:ext cx="822960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93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1.Н. Антуфьева. Духовный свет Пушкинской поэзии.- В журнале «Православный просветитель», № 26, 2004 г., с. 11 - 1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2.Иеромонах Мелетий (Соколов). Духовной жаждою томим. - В журнале «Православная беседа», № 1, 2003 г., с. 48 - 52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.А. Кондратьев. Иная, лучшая потребна мне свобода.-«Православная Москва», № 17, 2005 г., с. 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4.Митрополит Антоний. «О Пушкине».- Москва, 1991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424242"/>
                </a:solidFill>
                <a:latin typeface="Times New Roman"/>
              </a:rPr>
              <a:t>5.М.Г. Бройде. Читая Пушкина (к двухсотлетию со дня рождения).-Москва, Русский вестник, 1999 г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Arial"/>
              </a:rPr>
              <a:t>   </a:t>
            </a:r>
            <a:r>
              <a:rPr b="1" i="1" lang="ru-RU" sz="4800" spc="-1" strike="noStrike">
                <a:solidFill>
                  <a:srgbClr val="00b050"/>
                </a:solidFill>
                <a:latin typeface="Arial"/>
              </a:rPr>
              <a:t>Благодарю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425520" y="0"/>
            <a:ext cx="82296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1.Вступл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1619280" y="1079640"/>
            <a:ext cx="7523280" cy="46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60360" y="1619280"/>
            <a:ext cx="8459640" cy="46180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0280" bIns="45000" anchor="t">
            <a:noAutofit/>
          </a:bodyPr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6160" y="1604880"/>
            <a:ext cx="4038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ушкин как нравственная личность и православный христианин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Актуальность выбранной 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C:\Documents and Settings\Admin\Рабочий стол\Пушкин\220px-____.jpg"/>
          <p:cNvPicPr/>
          <p:nvPr/>
        </p:nvPicPr>
        <p:blipFill>
          <a:blip r:embed="rId1"/>
          <a:stretch/>
        </p:blipFill>
        <p:spPr>
          <a:xfrm>
            <a:off x="1106640" y="1857240"/>
            <a:ext cx="2894040" cy="42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5160" y="-360"/>
            <a:ext cx="82278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ушкин обладал мощным аналитическим умом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его поэзии проглядывает особый христианский, православный дух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120" y="2142720"/>
            <a:ext cx="8328240" cy="435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данной темы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лючается в том, что творчество Пушкина в свете христианского мировоззрения недостаточно изучено, а проблемы духовности   особенно важны в сегодняшнем мир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ушкин по своему происхождению, мировоззрению и образу жизни был православным христиани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642920" y="1604520"/>
            <a:ext cx="4286520" cy="51102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335880" indent="-3358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овы же истоки формирования духовного облика Пушкина и каково влияние его поэзии на духовное развитие современного челове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Этому посвящено моё исследова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C:\Documents and Settings\Admin\Рабочий стол\Пушкин\pushkin_11.jpg"/>
          <p:cNvPicPr/>
          <p:nvPr/>
        </p:nvPicPr>
        <p:blipFill>
          <a:blip r:embed="rId1"/>
          <a:stretch/>
        </p:blipFill>
        <p:spPr>
          <a:xfrm>
            <a:off x="800280" y="1785960"/>
            <a:ext cx="3068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1"/>
          <p:cNvSpPr/>
          <p:nvPr/>
        </p:nvSpPr>
        <p:spPr>
          <a:xfrm>
            <a:off x="457200" y="274680"/>
            <a:ext cx="82296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85ffe0"/>
                </a:solidFill>
                <a:latin typeface="Times New Roman"/>
                <a:ea typeface="Times New Roman"/>
              </a:rPr>
              <a:t>2. «Духовной жаждою томим»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411120" y="1619280"/>
            <a:ext cx="8229600" cy="480204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Религиозное чувство Пушкина, отражающее чистоту и силу его натуры, проявляется в порывах и движениях его духа и ума, исторгает из его личности неугасимый св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ловам князя Вяземского, Пушкин, особенно «в последние годы жизни своей, имел сильное религиозное чувство: читал и любил читать Евангелие, был проникнут красотою многих молитв, знал их наизусть и часто твердил их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 более всего он любил молитву святого Ефрема Сирина, которую столь гениально опоэтизировал в стихотворных  строка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цы пустынники и жёны непорочны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всякая творческая личность, как всякий живой и чуткий человек, Пушкин воспринимал ёмкую по содержанию молитву как здравый совет о том, как следует жи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30040" y="0"/>
            <a:ext cx="82296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47ffd1"/>
                </a:solidFill>
                <a:latin typeface="Times New Roman"/>
                <a:ea typeface="Times New Roman"/>
              </a:rPr>
              <a:t>2.2.«Пророк»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444600" y="1612800"/>
            <a:ext cx="8229600" cy="470376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996633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шкин часто обращался к Библии, черпая из неё вдохновение и сюжеты для своих сочинений. Стихотворение «Пророк» Пушкин пишет в 1826 годе, находясь в ссылке в Михайловск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тихотворении «Пророк» Пушкин наиболее полно и ярко выразил свои представления о роли поэзии в жизни общества, о высокой, мучительно трудной, самоотверженной и благородной миссии поэта. Автор использует сюжет Библейской леген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б43</cp:lastModifiedBy>
  <dcterms:modified xsi:type="dcterms:W3CDTF">2014-04-24T06:45:44Z</dcterms:modified>
  <cp:revision>32</cp:revision>
  <dc:subject/>
  <dc:title>Слайд 1</dc:title>
</cp:coreProperties>
</file>