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9E93A-4EB5-4F8C-A2DA-C291950C53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7491BE-ACB9-4831-8853-AD58ADE062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DCA8F-B147-4642-92CC-854B55F2ED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88DC9F-6F77-4616-B31B-E77C3621CA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26BA6D-BE67-4FA2-BDAB-FB19101818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877CF-8F22-44C6-87E3-7DFEB3EB8C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354AE-444A-4CD8-8044-1B8835DCE5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4BDAA-B9C4-475D-A349-147ED94B08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46D47-A064-4E41-B871-4A1B874044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8DAEC-B7B4-47E3-8F3F-92697C468FE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678F1F-32A0-453C-97B1-7D38AFA6DE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8DF9-B9F9-4C19-8BDC-814CA53C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B018-9E49-4CFA-8EE4-08E2A796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BDA8-914F-4897-98DB-5E7A8671C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F65A-2B03-4A4A-80E6-5FBD321CC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EDCB-48EE-408A-A293-E48EF22A0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6C57-76D8-4AA8-8DF0-2DC74557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9276-1331-472C-928A-17492E01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0DA-A25B-46CA-AD65-D9BB7F417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-360"/>
            <a:ext cx="822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0557-F3F8-4896-919F-922BCC641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85D3-C400-45C2-87A2-ECFD4950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C699-804F-464B-A5E9-321375ADC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C784-F0E3-4EEC-88CE-3D34BF7A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095B2F3-9E88-4FEB-8F68-3C0F697791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720720" y="158760"/>
            <a:ext cx="760104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Христианские мотивы в творче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А.С.Пушк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339920" y="3600360"/>
            <a:ext cx="64008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71680" y="2357280"/>
            <a:ext cx="361332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втор: Алфёрова Ольга Юрьевна, ученица 9А класса МБОУ «СОШ №8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учный руководитель: Телегина                                                              Лариса Леонид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pushkin_tropinin"/>
          <p:cNvPicPr/>
          <p:nvPr/>
        </p:nvPicPr>
        <p:blipFill>
          <a:blip r:embed="rId1"/>
          <a:stretch/>
        </p:blipFill>
        <p:spPr>
          <a:xfrm>
            <a:off x="1143000" y="2286000"/>
            <a:ext cx="2967120" cy="41832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2962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«Пророке» Пушкин часто использует эпитеты: «духовной», «мрачной», «трепетное»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сочетание эпитета с существительным становится метафорой: «духовная жажда», «мрачная пустыня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4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В стихотворении звучит тема важности утверждения себя в мире через очищение и муки. Бог не жесток, он показывает человеку единственный путь в жизни через переделку себя, навстречу людя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488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раз библейского пророка, поучающего и спасающего свой народ, служит примером для А. Пушк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Documents and Settings\Admin\Рабочий стол\пушкин1\pushkin1.jpg"/>
          <p:cNvPicPr/>
          <p:nvPr/>
        </p:nvPicPr>
        <p:blipFill>
          <a:blip r:embed="rId1"/>
          <a:stretch/>
        </p:blipFill>
        <p:spPr>
          <a:xfrm>
            <a:off x="5357880" y="1974960"/>
            <a:ext cx="321480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525600" y="0"/>
            <a:ext cx="8115120" cy="203976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3.Переписка Пушкина с митрополитом Филаре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20720" y="2133720"/>
            <a:ext cx="7920000" cy="66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ой 1829/1830 годов состоялась знаменитая поэтическая переписка поэта со святителем Филаретом Московским. Отцу Филарету было адресовано следующее стихотвор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р напрасный, дар случай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ь, зачем ты мне да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ь зачем судьбою тай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ы на казнь осужд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меня враждебной вла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ничтожества воззв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шу мне наполнил страсть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 сомненьем взволновал?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 нет передо мно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дце пусто, празден у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омит меня тоск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звучный жизни шу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285840" y="142920"/>
            <a:ext cx="8956440" cy="69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7ffd1"/>
                </a:solidFill>
                <a:latin typeface="Times New Roman"/>
                <a:ea typeface="Times New Roman"/>
              </a:rPr>
              <a:t>Святитель Филарет, используя поэтическую фор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7ffd1"/>
                </a:solidFill>
                <a:latin typeface="Times New Roman"/>
                <a:ea typeface="Times New Roman"/>
              </a:rPr>
              <a:t>пушкинского стихотворения, дал пастырский отв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7ffd1"/>
                </a:solidFill>
                <a:latin typeface="Times New Roman"/>
                <a:ea typeface="Times New Roman"/>
              </a:rPr>
              <a:t>на все поставленные в нём вопросы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7ffd1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47ffd1"/>
                </a:solidFill>
                <a:latin typeface="Times New Roman"/>
                <a:ea typeface="Times New Roman"/>
              </a:rPr>
              <a:t>о смысле жизни и смер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7ffd1"/>
                </a:solidFill>
                <a:latin typeface="Times New Roman"/>
                <a:ea typeface="Times New Roman"/>
              </a:rPr>
              <a:t>о действующих в душе страстях и о пути избавления от ни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 напрасно, не случай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Жизнь от Бога мне да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 без Бога воли тай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 на казнь осужд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ам я своенравной вла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ло из тёмных бездн воззв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ам наполнил душу страсть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Ум сомненьем взволнов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спомнись мне, забвенный мно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осияй сквозь сумрак дум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 созиждится Тоб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ердце чисто, светел 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ушкин в свою очередь ответил на это следующим стихотворением: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856880"/>
            <a:ext cx="39942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8585e0"/>
                </a:solidFill>
                <a:latin typeface="Arial"/>
              </a:rPr>
              <a:t>В часы забав иль праздной ску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Вверял изнеженн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Бывало, лире я мо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Безумства, лени и стра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Но и тогда струны лука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Невольно звон я прерыв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Когда твой голос велича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Меня внезапно пораж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Я лил потоки слёз нежданны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И ранам совести мо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785840" y="1856880"/>
            <a:ext cx="389916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Твоих речей благоух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Отраден чистый был 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И ныне с высоты духо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Мне руку простираешь 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И силой кроткой и любо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Смиряешь бурные меч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Твоим огнём душа па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Отвергла мрак земных су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И внемлет арфе Сераф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В священном ужасе поэ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тзыв на стихи святителя был крайне важе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488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тому что должен был указать всю его дальнейшую судьбу, более того - предопределить в смысле добровольного выбора пути духовн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Documents and Settings\Admin\Рабочий стол\пушкин1\image001.jpg"/>
          <p:cNvPicPr/>
          <p:nvPr/>
        </p:nvPicPr>
        <p:blipFill>
          <a:blip r:embed="rId1"/>
          <a:stretch/>
        </p:blipFill>
        <p:spPr>
          <a:xfrm>
            <a:off x="5143680" y="2014560"/>
            <a:ext cx="35208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457200" y="274680"/>
            <a:ext cx="82296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.Заключ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457200" y="1600200"/>
            <a:ext cx="403704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Умнейшим и глубочайшим русским человеком своего времени» называл Пушкина Ф.М. Достоевск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64832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4500720" y="1260360"/>
            <a:ext cx="3992400" cy="535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425520" y="0"/>
            <a:ext cx="82296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О великом поэте писал  И.С. Тургене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549360" y="1619280"/>
            <a:ext cx="358920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Пушкин был не только самым талантливым, но и самым русским человеком того времен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64832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5040360" y="1460520"/>
            <a:ext cx="36687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6160" y="1604880"/>
            <a:ext cx="4038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шкин был одним из первых, крупнейших политических мыслителей и поборников национального возрождения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E:\новое\новое\pushkin_10.jpg"/>
          <p:cNvPicPr/>
          <p:nvPr/>
        </p:nvPicPr>
        <p:blipFill>
          <a:blip r:embed="rId1"/>
          <a:stretch/>
        </p:blipFill>
        <p:spPr>
          <a:xfrm>
            <a:off x="571680" y="2071800"/>
            <a:ext cx="374796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абота состоит из следующ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ас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357120" y="2143080"/>
            <a:ext cx="9183600" cy="81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Вступление. Пушкин как нравственная личность и православный христиан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уальность выбранной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«Духовной жаждою томи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1.«Отцы пустынники...» - поэтическое перерождение молитвы  святого Ефрема Сир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2. «Пророк» - Роль поэта и поэзии в жизн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3.Переписка Пушкина с митрополитом  Филар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.Заклю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643280" y="1142640"/>
            <a:ext cx="404208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«Надо учить молодёжь, что непонимание Пушкина есть величайшая неблагодарность, что, не понимая Пушкина, нельзя назваться русским человеком», - пис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. Достоевский в 1877 году в подготовительных материалах к «Дневнику писател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Documents and Settings\Admin\Рабочий стол\Пушкин\pushkin_26.jpg"/>
          <p:cNvPicPr/>
          <p:nvPr/>
        </p:nvPicPr>
        <p:blipFill>
          <a:blip r:embed="rId1"/>
          <a:stretch/>
        </p:blipFill>
        <p:spPr>
          <a:xfrm>
            <a:off x="125280" y="2403360"/>
            <a:ext cx="43689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46160" y="1604880"/>
            <a:ext cx="4038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-3358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актическая значимость моего исследования заключается в том, что я сделал попытку осмыслить творчество Пушкина с точки зрения православного мировоспри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C:\Documents and Settings\Admin\Рабочий стол\Пушкин\131px-PushkinCoin.jpg"/>
          <p:cNvPicPr/>
          <p:nvPr/>
        </p:nvPicPr>
        <p:blipFill>
          <a:blip r:embed="rId1"/>
          <a:stretch/>
        </p:blipFill>
        <p:spPr>
          <a:xfrm>
            <a:off x="712800" y="1928880"/>
            <a:ext cx="41115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360" y="20484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4. Список используемой литературы</a:t>
            </a:r>
            <a:r>
              <a:rPr b="1" lang="en-US" sz="3200" spc="-1" strike="noStrike">
                <a:solidFill>
                  <a:srgbClr val="ff3366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57120" y="164268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93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424242"/>
                </a:solidFill>
                <a:latin typeface="Times New Roman"/>
              </a:rPr>
              <a:t>1.Н. Антуфьева. Духовный свет Пушкинской поэзии.- В журнале «Православный просветитель», № 26, 2004 г., с. 11 - 13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424242"/>
                </a:solidFill>
                <a:latin typeface="Times New Roman"/>
              </a:rPr>
              <a:t>2.Иеромонах Мелетий (Соколов). Духовной жаждою томим. - В журнале «Православная беседа», № 1, 2003 г., с. 48 - 52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.А. Кондратьев. Иная, лучшая потребна мне свобода.-«Православная Москва», № 17, 2005 г., с.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424242"/>
                </a:solidFill>
                <a:latin typeface="Times New Roman"/>
              </a:rPr>
              <a:t>4.Митрополит Антоний. «О Пушкине».- Москва, 1991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424242"/>
                </a:solidFill>
                <a:latin typeface="Times New Roman"/>
              </a:rPr>
              <a:t>5.М.Г. Бройде. Читая Пушкина (к двухсотлетию со дня рождения).-Москва, Русский вестник, 1999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8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1" i="1" lang="ru-RU" sz="4800" spc="-1" strike="noStrike">
                <a:solidFill>
                  <a:srgbClr val="00b050"/>
                </a:solidFill>
                <a:latin typeface="Arial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425520" y="0"/>
            <a:ext cx="82296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5ffe0"/>
                </a:solidFill>
                <a:latin typeface="Times New Roman"/>
                <a:ea typeface="Times New Roman"/>
              </a:rPr>
              <a:t>1.Вступл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619280" y="1079640"/>
            <a:ext cx="752328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60360" y="1619280"/>
            <a:ext cx="8459640" cy="46180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9663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6160" y="1604880"/>
            <a:ext cx="4038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ушкин как нравственная личность и православный христиани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ктуальность выбранной 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:\Documents and Settings\Admin\Рабочий стол\Пушкин\220px-____.jpg"/>
          <p:cNvPicPr/>
          <p:nvPr/>
        </p:nvPicPr>
        <p:blipFill>
          <a:blip r:embed="rId1"/>
          <a:stretch/>
        </p:blipFill>
        <p:spPr>
          <a:xfrm>
            <a:off x="1106640" y="1857240"/>
            <a:ext cx="289404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ушкин обладал мощным аналитическим умом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его поэзии проглядывает особый христианский, православный дух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7120" y="2142720"/>
            <a:ext cx="832824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ктуальность данной тем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ается в том, что творчество Пушкина в свете христианского мировоззрения недостаточно изучено, а проблемы духовности   особенно важны в сегодняшнем мир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ушкин по своему происхождению, мировоззрению и образу жизни был православным христиани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642920" y="1604520"/>
            <a:ext cx="428652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-3358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овы же истоки формирования духовного облика Пушкина и каково влияние его поэзии на духовное развитие современного челове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Этому посвящено моё исслед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:\Documents and Settings\Admin\Рабочий стол\Пушкин\pushkin_11.jpg"/>
          <p:cNvPicPr/>
          <p:nvPr/>
        </p:nvPicPr>
        <p:blipFill>
          <a:blip r:embed="rId1"/>
          <a:stretch/>
        </p:blipFill>
        <p:spPr>
          <a:xfrm>
            <a:off x="800280" y="1785960"/>
            <a:ext cx="3068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457200" y="274680"/>
            <a:ext cx="822960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85ffe0"/>
                </a:solidFill>
                <a:latin typeface="Times New Roman"/>
                <a:ea typeface="Times New Roman"/>
              </a:rPr>
              <a:t>2. «Духовной жаждою томим»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11120" y="1619280"/>
            <a:ext cx="8229600" cy="48020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9663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елигиозное чувство Пушкина, отражающее чистоту и силу его натуры, проявляется в порывах и движениях его духа и ума, исторгает из его личности неугасимый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ловам князя Вяземского, Пушкин, особенно «в последние годы жизни своей, имел сильное религиозное чувство: читал и любил читать Евангелие, был проникнут красотою многих молитв, знал их наизусть и часто твердил их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более всего он любил молитву святого Ефрема Сирина, которую столь гениально опоэтизировал в стихотворных  строк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цы пустынники и жёны непорочны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сякая творческая личность, как всякий живой и чуткий человек, Пушкин воспринимал ёмкую по содержанию молитву как здравый совет о том, как следует ж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230040" y="0"/>
            <a:ext cx="82296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7ffd1"/>
                </a:solidFill>
                <a:latin typeface="Times New Roman"/>
                <a:ea typeface="Times New Roman"/>
              </a:rPr>
              <a:t>2.2.«Пророк»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44600" y="1612800"/>
            <a:ext cx="8229600" cy="47037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9663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ин часто обращался к Библии, черпая из неё вдохновение и сюжеты для своих сочинений. Стихотворение «Пророк» Пушкин пишет в 1826 годе, находясь в ссылке в Михайловск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ихотворении «Пророк» Пушкин наиболее полно и ярко выразил свои представления о роли поэзии в жизни общества, о высокой, мучительно трудной, самоотверженной и благородной миссии поэта. Автор использует сюжет Библейской леген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б43</cp:lastModifiedBy>
  <dcterms:modified xsi:type="dcterms:W3CDTF">2014-04-24T06:45:44Z</dcterms:modified>
  <cp:revision>32</cp:revision>
  <dc:subject/>
  <dc:title>Слайд 1</dc:title>
</cp:coreProperties>
</file>