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66D-83B3-45E3-BF44-B58D4028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6D0-3AA0-485C-96BA-6024978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C83-365E-4C17-B77D-B8E4623B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298-1797-4ED2-B044-B52EDAA3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56B-2D6E-438C-AD50-CA242BDE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5CF-8871-40DA-AC35-761460D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849-43FA-4B73-8D67-95F7DE9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70E-A97B-402E-8944-ED8B599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B6E-1203-4954-9F5A-F26CFC9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1A4-64F5-4F77-B23D-2E0EFDA4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729-E6F9-487B-AB0C-0E02BC2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C2A-AC96-43FD-ACC0-536E391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47ED-FB36-455E-A223-8D6836795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проект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живот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600" y="199980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презентац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горова Т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6" descr="3d4e63fa_1.png"/>
          <p:cNvPicPr/>
          <p:nvPr/>
        </p:nvPicPr>
        <p:blipFill>
          <a:blip r:embed="rId1"/>
          <a:stretch/>
        </p:blipFill>
        <p:spPr>
          <a:xfrm>
            <a:off x="608040" y="3857760"/>
            <a:ext cx="2185920" cy="2571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laycast.ru/uploads/2015/10/05/15330310.png"/>
          <p:cNvPicPr/>
          <p:nvPr/>
        </p:nvPicPr>
        <p:blipFill>
          <a:blip r:embed="rId2"/>
          <a:stretch/>
        </p:blipFill>
        <p:spPr>
          <a:xfrm>
            <a:off x="1714680" y="2357280"/>
            <a:ext cx="2417760" cy="217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0.liveinternet.ru/images/attach/c/11/116/436/116436368_large_Volk_by_MerlinWebDesgner__131_.png"/>
          <p:cNvPicPr/>
          <p:nvPr/>
        </p:nvPicPr>
        <p:blipFill>
          <a:blip r:embed="rId3"/>
          <a:stretch/>
        </p:blipFill>
        <p:spPr>
          <a:xfrm>
            <a:off x="4786200" y="3714840"/>
            <a:ext cx="4838760" cy="293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s://img-fotki.yandex.ru/get/43800/47407354.2169/0_26482c_1c1ff480_L.png"/>
          <p:cNvPicPr/>
          <p:nvPr/>
        </p:nvPicPr>
        <p:blipFill>
          <a:blip r:embed="rId4"/>
          <a:stretch/>
        </p:blipFill>
        <p:spPr>
          <a:xfrm>
            <a:off x="3000240" y="3643200"/>
            <a:ext cx="3310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85880" y="357120"/>
            <a:ext cx="757224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 слайдов «Животные нашего лес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- по показу движения «Угадай животно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ословиц, поговорок, чистоговорок по теме «Дикие животн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: «Угадай животное», «Кто как разговаривает?», «Чей хвост?», «Чья тень?», «Чей малыш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ой труд: аппликация «Медведь», рисоввние «Спрячем зайчика за кустик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ов на тему «Дикие животны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е игры по теме: «Наш лужок», «Зайчи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рода наделила человека высоким и прекрасным даром с острадания, которое простирается на бессловесных животных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Френсис Бэ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837252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 - это удивительный, сложный, многогранный мир. От людей во многом зависит многообразие и численность животного мира. Чтобы успешно решать эту проблему, человек должен иметь определённый запас естественно научных знаний. Первые элементарные представления об окружающем мире, в том числе и о животных организмах, человек получает уже в детств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развития познавательных и творческих способностей дошкольников с целью пополнения представлений о диких живот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213840"/>
            <a:ext cx="840096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элементарные навыки познавательно – исследовательского поведения в родной природе (обобщать, систематизировать, делать вывод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ознавательную инициативу дошкольников (любознательность), навыки наблюдения и экспериментирования в процессе деятельности, навыки работы в коман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понимать жизнь диких животных, её взаимосвязь с жизнью всего человече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отношение к природе; формировать навыки безопасного поведения в природе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удивляться и восхищаться мудростью природ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развивающую среду в группе с помощью родителей, вовлекая их в реализацию совместного проек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полученные знания в различных видах деятельности: игровой, коммуникативной, познавательно – исследовательской, трудовой, двигательной, изобразительной, музыкаль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68672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для де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икие животные в жизни людей: польза или вред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ориенти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ебёнок проявляет любознательность, склонен наблюдать, экспериментировать, интересуется причинно – следственными связями, открыт внешнему миру, положительно относится к себе и людям, обладает развитым воображением, творческими способностя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56800" y="571320"/>
            <a:ext cx="76438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произведений художественной литературы о животных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ллюстраций на тему «Дикие животные 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 развивающей среды для организации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одительского уголка: размещение статей, консультации, рекомендации по теме про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мплексно-тематического плана на недел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и изготовление дидактических иг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84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785880" y="428760"/>
            <a:ext cx="7143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основ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видеофильма на тему: « Как животные готовятся к зиме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усских народных сказок «Лисичка-сестричка и серый волк», «Хвосты», «Заяц-хваста», «У страха глаза велики», « Заюшкина избушка», « Лисичка со скалочкой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по картинкам «Какие звери в лесу?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южетных картин по теме: « Дикие животные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ые игры: «Зоомагазин». «Доктор Айболит», Кукольный театр «Заюшкина избу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 «Что делать, если ты заблудился в лесу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слайдов «Животные нашего лес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гадывание загадок- по показу движения «Угадай животное». Использование пословиц, поговорок, чистоговорок по теме «Дикие животные» Дидактические игры: «Угадай животное», «Кто как разговаривает» Ручной труд: аппликация «Мордочка лисы», лепка из пластилина «Мишка косолапый», Составление рассказов на тему «Дикие животные» Пальчиковые игры по теме: «Наш лужок», «Зайчик» Режиссерская игра с маленькими животными с использованием модели макета 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6:35:06Z</dcterms:created>
  <dc:creator>Tony Stark</dc:creator>
  <dc:description/>
  <dc:language>en-US</dc:language>
  <cp:lastModifiedBy>Tony Stark</cp:lastModifiedBy>
  <dcterms:modified xsi:type="dcterms:W3CDTF">2017-12-08T08:07:20Z</dcterms:modified>
  <cp:revision>10</cp:revision>
  <dc:subject/>
  <dc:title>Экологический проект «Дикие животны</dc:title>
</cp:coreProperties>
</file>