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FDB-29F8-4E27-9D6B-D479CF88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CA3-DD3A-473F-A566-EB069A4D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22F-287B-4C66-AAF7-36E14FA7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8EE-BB6F-4D27-8BD6-7C1EA061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2A2-F8E4-411C-B235-8B1EE820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D52-002A-462A-B50E-F61453C6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740-7EB0-45CD-9E2D-C32AFB35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69B-5C20-4028-A011-33ACB396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8A8-A88C-4803-976D-2131794D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732-3C85-4B13-87BF-681440C1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F8D-C803-439E-80D4-7495FCDD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719-6970-4F80-8DDC-92EA767A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B4F6-4DBF-449C-9AAE-F74067895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й проект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кие животны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5600" y="199980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 презентаци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горова Т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6" descr="3d4e63fa_1.png"/>
          <p:cNvPicPr/>
          <p:nvPr/>
        </p:nvPicPr>
        <p:blipFill>
          <a:blip r:embed="rId1"/>
          <a:stretch/>
        </p:blipFill>
        <p:spPr>
          <a:xfrm>
            <a:off x="608040" y="3857760"/>
            <a:ext cx="2185920" cy="2571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playcast.ru/uploads/2015/10/05/15330310.png"/>
          <p:cNvPicPr/>
          <p:nvPr/>
        </p:nvPicPr>
        <p:blipFill>
          <a:blip r:embed="rId2"/>
          <a:stretch/>
        </p:blipFill>
        <p:spPr>
          <a:xfrm>
            <a:off x="1714680" y="2357280"/>
            <a:ext cx="2417760" cy="217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img0.liveinternet.ru/images/attach/c/11/116/436/116436368_large_Volk_by_MerlinWebDesgner__131_.png"/>
          <p:cNvPicPr/>
          <p:nvPr/>
        </p:nvPicPr>
        <p:blipFill>
          <a:blip r:embed="rId3"/>
          <a:stretch/>
        </p:blipFill>
        <p:spPr>
          <a:xfrm>
            <a:off x="4786200" y="3714840"/>
            <a:ext cx="4838760" cy="293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s://img-fotki.yandex.ru/get/43800/47407354.2169/0_26482c_1c1ff480_L.png"/>
          <p:cNvPicPr/>
          <p:nvPr/>
        </p:nvPicPr>
        <p:blipFill>
          <a:blip r:embed="rId4"/>
          <a:stretch/>
        </p:blipFill>
        <p:spPr>
          <a:xfrm>
            <a:off x="3000240" y="3643200"/>
            <a:ext cx="3310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85880" y="357120"/>
            <a:ext cx="757224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 слайдов «Животные нашего леса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ывание загадок- по показу движения «Угадай животно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пословиц, поговорок, чистоговорок по теме «Дикие животны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 «Угадай животное», «Кто как разговаривает?», «Чей хвост?», «Чья тень?», «Чей малыш?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ой труд: аппликация «Медведь», рисоввние «Спрячем зайчика за кустик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рассказов на тему «Дикие животны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е игры по теме: «Наш лужок», «Зайчи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9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рода наделила человека высоким и прекрасным даром с острадания, которое простирается на бессловесных животных»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Френсис Бэк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642600"/>
            <a:ext cx="837252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я природа - это удивительный, сложный, многогранный мир. От людей во многом зависит многообразие и численность животного мира. Чтобы успешно решать эту проблему, человек должен иметь определённый запас естественно научных знаний. Первые элементарные представления об окружающем мире, в том числе и о животных организмах, человек получает уже в детств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познавательных и творческих способностей дошкольников с целью пополнения представлений о диких живот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840" y="213840"/>
            <a:ext cx="84009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элементарные навыки познавательно – исследовательского поведения в родной природе (обобщать, систематизировать, делать выводы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ознавательную инициативу дошкольников (любознательность), навыки наблюдения и экспериментирования в процессе деятельности, навыки работы в команд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понимать жизнь диких животных, её взаимосвязь с жизнью всего человечеств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бережное отношение к природе; формировать навыки безопасного поведения в природ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етей удивляться и восхищаться мудростью природ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развивающую среду в группе с помощью родителей, вовлекая их в реализацию совместного проект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ть полученные знания в различных видах деятельности: игровой, коммуникативной, познавательно – исследовательской, трудовой, двигательной, изобразительной, музыкальн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686720" cy="37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для де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икие животные в жизни людей: польза или вред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 ориенти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бёнок проявляет любознательность, склонен наблюдать, экспериментировать, интересуется причинно – следственными связями, открыт внешнему миру, положительно относится к себе и людям, обладает развитым воображением, творческими способностя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56800" y="571320"/>
            <a:ext cx="76438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– подготовитель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произведений художественной литературы о животных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ллюстраций на тему «Дикие животные 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- развивающей среды для организации сюжетно-ролевых иг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родительского уголка: размещение статей, консультации, рекомендации по теме про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комплексно-тематического плана на недел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и изготовление дидактических иг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8584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785880" y="428760"/>
            <a:ext cx="7143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– основ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видеофильма на тему: « Как животные готовятся к зиме?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русских народных сказок «Лисичка-сестричка и серый волк», «Хвосты», «Заяц-хваста», «У страха глаза велики», « Заюшкина избушка», « Лисичка со скалочкой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 по картинкам «Какие звери в лесу?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сюжетных картин по теме: « Дикие животные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-ролевые игры: «Зоомагазин». «Доктор Айболит», Кукольный театр «Заюшкина избуш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итуация «Что делать, если ты заблудился в лесу?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286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 слайдов «Животные нашего леса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гадывание загадок- по показу движения «Угадай животное». Использование пословиц, поговорок, чистоговорок по теме «Дикие животные» Дидактические игры: «Угадай животное», «Кто как разговаривает» Ручной труд: аппликация «Мордочка лисы», лепка из пластилина «Мишка косолапый», Составление рассказов на тему «Дикие животные» Пальчиковые игры по теме: «Наш лужок», «Зайчик» Режиссерская игра с маленькими животными с использованием модели макета ле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8T06:35:06Z</dcterms:created>
  <dc:creator>Tony Stark</dc:creator>
  <dc:description/>
  <dc:language>en-US</dc:language>
  <cp:lastModifiedBy>Tony Stark</cp:lastModifiedBy>
  <dcterms:modified xsi:type="dcterms:W3CDTF">2017-12-08T08:07:20Z</dcterms:modified>
  <cp:revision>10</cp:revision>
  <dc:subject/>
  <dc:title>Экологический проект «Дикие животны</dc:title>
</cp:coreProperties>
</file>